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57F-D027-4513-91CF-C1439C4E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595-55EC-40A3-BD13-974C8E3B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8B7-C4F7-4E4E-9F92-DCD314C2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DB0-67F0-498D-959E-2E2BA3E3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F71F-8EAE-4FB7-9834-49741371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D657-3ACB-4EA0-9972-5C125C7D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F3BC-FDC1-4447-AB8F-2A2A1AB1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B3D5-AB91-46FD-9DFB-C9E38BFD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FE46-3F9B-4232-904E-47B54AC6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CEB2-C4C2-4263-8120-C46D64D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E63C-189B-46CD-A12B-60895D3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9BD-544C-4768-B18F-552D64D4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A084-212B-499B-BC59-FD7ACF5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B152-EA07-4EA1-899C-5443DE2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DEDF-F8D2-43A3-8007-C70F277F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12C-9A3B-48AB-8B75-1797E6C3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FE7-891A-45A1-A955-D28FE2EE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FF1-21A9-4AF0-AD6F-47069CA4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47F-93B2-412D-8F20-15FEE4B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D66-9F1E-40A1-B79C-80ECFFB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CC8-DE16-4998-82F5-00D28310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076-B830-43D2-92B6-BBB7CAAB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473-0C25-460E-A3AF-0E27285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87C-EA50-4868-B4E2-E2532F4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30F2-C3BE-4914-9FDB-CE5AE0D3CA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14E-EB26-4582-8CDD-F944DFF756E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6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5640" y="2707920"/>
            <a:ext cx="6697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简洁风格工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2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3" name="圆角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5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98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99" name="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1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4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5" name="圆角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0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1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7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18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"/>
          <p:cNvSpPr/>
          <p:nvPr/>
        </p:nvSpPr>
        <p:spPr>
          <a:xfrm flipH="1">
            <a:off x="5632560" y="3944880"/>
            <a:ext cx="876240" cy="236520"/>
          </a:xfrm>
          <a:custGeom>
            <a:avLst/>
            <a:gdLst>
              <a:gd name="textAreaLeft" fmla="*/ 360 w 876240"/>
              <a:gd name="textAreaRight" fmla="*/ 876960 w 8762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-177840" y="4006800"/>
            <a:ext cx="981000" cy="363600"/>
          </a:xfrm>
          <a:custGeom>
            <a:avLst/>
            <a:gdLst/>
            <a:ahLst/>
            <a:rect l="l" t="t" r="r" b="b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"/>
          <p:cNvSpPr/>
          <p:nvPr/>
        </p:nvSpPr>
        <p:spPr>
          <a:xfrm flipH="1">
            <a:off x="6920640" y="3862440"/>
            <a:ext cx="863640" cy="3888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5"/>
          <p:cNvSpPr/>
          <p:nvPr/>
        </p:nvSpPr>
        <p:spPr>
          <a:xfrm flipH="1">
            <a:off x="8337600" y="3998880"/>
            <a:ext cx="838080" cy="3636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6"/>
          <p:cNvSpPr/>
          <p:nvPr/>
        </p:nvSpPr>
        <p:spPr>
          <a:xfrm>
            <a:off x="1343160" y="3865680"/>
            <a:ext cx="838080" cy="363600"/>
          </a:xfrm>
          <a:custGeom>
            <a:avLst/>
            <a:gdLst>
              <a:gd name="textAreaLeft" fmla="*/ 0 w 838080"/>
              <a:gd name="textAreaRight" fmla="*/ 838440 w 8380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2638440" y="3944880"/>
            <a:ext cx="885960" cy="236520"/>
          </a:xfrm>
          <a:custGeom>
            <a:avLst/>
            <a:gdLst>
              <a:gd name="textAreaLeft" fmla="*/ 0 w 885960"/>
              <a:gd name="textAreaRight" fmla="*/ 886320 w 885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0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3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Freeform 10"/>
          <p:cNvSpPr/>
          <p:nvPr/>
        </p:nvSpPr>
        <p:spPr>
          <a:xfrm>
            <a:off x="2195640" y="3070080"/>
            <a:ext cx="1082520" cy="1189080"/>
          </a:xfrm>
          <a:custGeom>
            <a:avLst/>
            <a:gdLst>
              <a:gd name="textAreaLeft" fmla="*/ 0 w 1082520"/>
              <a:gd name="textAreaRight" fmla="*/ 1082880 w 1082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1986120" y="3056040"/>
            <a:ext cx="218880" cy="118908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0920" y="3110040"/>
            <a:ext cx="1015920" cy="108108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3414600" y="3110040"/>
            <a:ext cx="76320" cy="1081080"/>
          </a:xfrm>
          <a:custGeom>
            <a:avLst/>
            <a:gdLst>
              <a:gd name="textAreaLeft" fmla="*/ 0 w 76320"/>
              <a:gd name="textAreaRight" fmla="*/ 76680 w 763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 flipH="1">
            <a:off x="7212960" y="2973240"/>
            <a:ext cx="1119240" cy="1392480"/>
          </a:xfrm>
          <a:custGeom>
            <a:avLst/>
            <a:gdLst>
              <a:gd name="textAreaLeft" fmla="*/ -360 w 1119240"/>
              <a:gd name="textAreaRight" fmla="*/ 1119240 w 11192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 flipH="1">
            <a:off x="8332200" y="2973240"/>
            <a:ext cx="377640" cy="139248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6"/>
          <p:cNvSpPr/>
          <p:nvPr/>
        </p:nvSpPr>
        <p:spPr>
          <a:xfrm flipH="1">
            <a:off x="5851440" y="3056040"/>
            <a:ext cx="1082880" cy="1189080"/>
          </a:xfrm>
          <a:custGeom>
            <a:avLst/>
            <a:gdLst>
              <a:gd name="textAreaLeft" fmla="*/ 360 w 1082880"/>
              <a:gd name="textAreaRight" fmla="*/ 1083600 w 1082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7"/>
          <p:cNvSpPr/>
          <p:nvPr/>
        </p:nvSpPr>
        <p:spPr>
          <a:xfrm flipH="1">
            <a:off x="6934320" y="3056040"/>
            <a:ext cx="218880" cy="118908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8"/>
          <p:cNvSpPr/>
          <p:nvPr/>
        </p:nvSpPr>
        <p:spPr>
          <a:xfrm flipH="1">
            <a:off x="4632480" y="3110040"/>
            <a:ext cx="1015920" cy="108108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9"/>
          <p:cNvSpPr/>
          <p:nvPr/>
        </p:nvSpPr>
        <p:spPr>
          <a:xfrm flipH="1">
            <a:off x="5647680" y="3110040"/>
            <a:ext cx="75960" cy="108108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2124000" y="430704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59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Freeform 39"/>
          <p:cNvSpPr/>
          <p:nvPr/>
        </p:nvSpPr>
        <p:spPr>
          <a:xfrm>
            <a:off x="1781280" y="4795920"/>
            <a:ext cx="23760" cy="1440"/>
          </a:xfrm>
          <a:custGeom>
            <a:avLst/>
            <a:gdLst>
              <a:gd name="textAreaLeft" fmla="*/ 0 w 23760"/>
              <a:gd name="textAreaRight" fmla="*/ 24120 w 237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68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0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4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78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1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3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6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87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9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0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5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197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1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06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10"/>
              <p:cNvSpPr/>
              <p:nvPr/>
            </p:nvSpPr>
            <p:spPr>
              <a:xfrm rot="13500000">
                <a:off x="87264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8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09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custGeom>
              <a:avLst/>
              <a:gdLst/>
              <a:ahLst/>
              <a:rect l="l" t="t" r="r" b="b"/>
              <a:pathLst>
                <a:path w="547411" h="342900">
                  <a:moveTo>
                    <a:pt x="85334" y="0"/>
                  </a:moveTo>
                  <a:lnTo>
                    <a:pt x="462077" y="0"/>
                  </a:lnTo>
                  <a:cubicBezTo>
                    <a:pt x="509206" y="0"/>
                    <a:pt x="547411" y="38205"/>
                    <a:pt x="547411" y="85334"/>
                  </a:cubicBezTo>
                  <a:lnTo>
                    <a:pt x="547411" y="342900"/>
                  </a:lnTo>
                  <a:lnTo>
                    <a:pt x="0" y="342900"/>
                  </a:lnTo>
                  <a:lnTo>
                    <a:pt x="0" y="85334"/>
                  </a:lnTo>
                  <a:cubicBezTo>
                    <a:pt x="0" y="38205"/>
                    <a:pt x="38205" y="0"/>
                    <a:pt x="85334" y="0"/>
                  </a:cubicBez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3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4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Text Box 18"/>
              <p:cNvSpPr/>
              <p:nvPr/>
            </p:nvSpPr>
            <p:spPr>
              <a:xfrm rot="13500000">
                <a:off x="520920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6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17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0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3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26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29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2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35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38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1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4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47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0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3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56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59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2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66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69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2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75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78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1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84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87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0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295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298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3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2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4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06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0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13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16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19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26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27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28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0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35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38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41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44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47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0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53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56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59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62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2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2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2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2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4:1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