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jpeg" ContentType="image/jpeg"/>
  <Override PartName="/ppt/media/image9.png" ContentType="image/png"/>
  <Override PartName="/ppt/media/image10.gif" ContentType="image/gif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018-6D91-48CA-AD26-005FCEAF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00C-EB4A-4776-BC9B-7F2D6ED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F5C-6899-427D-93AC-485CB501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9FD-2E63-4736-AD43-BC9AEAA0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94D-0D12-42E8-848D-5B1C3EE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56F-C4AC-48D3-8D25-5AF7BEE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907-5BDE-4D10-A14C-1D7C915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48D-DE38-4613-B7AF-61016D6E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E44-D636-4F88-AEB0-4625CD0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400-8E2A-40D4-A9F0-E15BEC8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B43-545C-403E-817F-45123EC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3FD-1E31-4D14-A21C-FB5F1D4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1CA2-7FB3-4080-A455-2D1B92661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200912604334787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003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181680" y="614520"/>
            <a:ext cx="22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、检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1258920" y="74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2009422016599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743200" y="1890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134136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朗读课文一遍，读准字音，弄清课文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思考：文中写了关于检阅的哪几件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20097302014693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130"/>
          <p:cNvPicPr/>
          <p:nvPr/>
        </p:nvPicPr>
        <p:blipFill>
          <a:blip r:embed="rId3"/>
          <a:stretch/>
        </p:blipFill>
        <p:spPr>
          <a:xfrm>
            <a:off x="0" y="0"/>
            <a:ext cx="62856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002041"/>
          <p:cNvPicPr/>
          <p:nvPr/>
        </p:nvPicPr>
        <p:blipFill>
          <a:blip r:embed="rId4"/>
          <a:stretch/>
        </p:blipFill>
        <p:spPr>
          <a:xfrm>
            <a:off x="4800600" y="304920"/>
            <a:ext cx="3848040" cy="723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838080" y="685800"/>
            <a:ext cx="79250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检阅  俱乐部   挑选   商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截肢  队伍   沉默    局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方便   羡慕   盛大    隆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街道   观众   纠正    淹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山人海   鸦雀无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20098162192673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68360" y="981000"/>
            <a:ext cx="8445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选择本组喜欢的自然段进行学习。要求用自己的语言介绍本段所讲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小组内解决课后第二题并提出课文中自己弄不懂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971800" y="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合作学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20098722272333032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539640" y="3068640"/>
            <a:ext cx="60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这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伙子真棒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这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伙子真棒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9640" y="765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考：观众们为什么有不同的说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391520" y="6019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8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5:5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