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941B-5673-467B-AE2C-D9A742C6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B76-4C32-4B72-995E-F1E71755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F8D6-9FE7-4BBB-AB2C-2E153FCE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E28-E253-4D6B-971F-AB40EAD3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518D-2935-48C2-9184-B0956E80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0EB-E9C2-49CF-8C06-2223629A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368-6C6E-4C53-88BE-A66AC8CC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1DFD-E7E6-4B09-9EDA-84955DC0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B16-D096-4146-88CC-6B9BC301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DB2-F13B-4A69-90AD-74C0EDEF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A017-89D7-4164-B7B8-2FB16916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379-8445-4BED-A832-51C3769E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D568-561C-4AC8-BCBE-5C7C8060DCC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CB91-A6AD-428B-B00B-BE349BB4E2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6c29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3"/>
          <p:cNvSpPr/>
          <p:nvPr/>
        </p:nvSpPr>
        <p:spPr>
          <a:xfrm>
            <a:off x="0" y="4680"/>
            <a:ext cx="5148360" cy="6858000"/>
          </a:xfrm>
          <a:prstGeom prst="rect">
            <a:avLst/>
          </a:prstGeom>
          <a:solidFill>
            <a:srgbClr val="b6c2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Tex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5148360" y="0"/>
            <a:ext cx="1295280" cy="6858000"/>
          </a:xfrm>
          <a:prstGeom prst="rect">
            <a:avLst/>
          </a:prstGeom>
          <a:solidFill>
            <a:srgbClr val="8a97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6443640" y="0"/>
            <a:ext cx="1297080" cy="685800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7740720" y="0"/>
            <a:ext cx="792000" cy="6858000"/>
          </a:xfrm>
          <a:prstGeom prst="rect">
            <a:avLst/>
          </a:prstGeom>
          <a:solidFill>
            <a:srgbClr val="e58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8532720" y="0"/>
            <a:ext cx="611280" cy="6858000"/>
          </a:xfrm>
          <a:prstGeom prst="rect">
            <a:avLst/>
          </a:prstGeom>
          <a:solidFill>
            <a:srgbClr val="dc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8532720" y="0"/>
            <a:ext cx="611280" cy="6858000"/>
          </a:xfrm>
          <a:prstGeom prst="rect">
            <a:avLst/>
          </a:prstGeom>
          <a:solidFill>
            <a:srgbClr val="dc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7740720" y="0"/>
            <a:ext cx="792000" cy="6858000"/>
          </a:xfrm>
          <a:prstGeom prst="rect">
            <a:avLst/>
          </a:prstGeom>
          <a:solidFill>
            <a:srgbClr val="e58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0"/>
          <p:cNvSpPr/>
          <p:nvPr/>
        </p:nvSpPr>
        <p:spPr>
          <a:xfrm>
            <a:off x="6443640" y="4680"/>
            <a:ext cx="1297080" cy="685800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1"/>
          <p:cNvSpPr/>
          <p:nvPr/>
        </p:nvSpPr>
        <p:spPr>
          <a:xfrm>
            <a:off x="5148360" y="0"/>
            <a:ext cx="1295280" cy="6858000"/>
          </a:xfrm>
          <a:prstGeom prst="rect">
            <a:avLst/>
          </a:prstGeom>
          <a:solidFill>
            <a:srgbClr val="8a97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"/>
          <p:cNvSpPr/>
          <p:nvPr/>
        </p:nvSpPr>
        <p:spPr>
          <a:xfrm>
            <a:off x="0" y="4680"/>
            <a:ext cx="9144000" cy="6858000"/>
          </a:xfrm>
          <a:prstGeom prst="rect">
            <a:avLst/>
          </a:prstGeom>
          <a:solidFill>
            <a:srgbClr val="b6c2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"/>
          <p:cNvSpPr/>
          <p:nvPr/>
        </p:nvSpPr>
        <p:spPr>
          <a:xfrm rot="16200000">
            <a:off x="3793320" y="1507320"/>
            <a:ext cx="1557360" cy="914400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"/>
          <p:cNvSpPr/>
          <p:nvPr/>
        </p:nvSpPr>
        <p:spPr>
          <a:xfrm>
            <a:off x="6516720" y="0"/>
            <a:ext cx="2627280" cy="5300640"/>
          </a:xfrm>
          <a:prstGeom prst="rect">
            <a:avLst/>
          </a:prstGeom>
          <a:solidFill>
            <a:srgbClr val="8a97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101! Arctic Blast"/>
              </a:rPr>
              <a:t>Picture 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0" y="0"/>
            <a:ext cx="6516720" cy="5300640"/>
          </a:xfrm>
          <a:prstGeom prst="rect">
            <a:avLst/>
          </a:prstGeom>
          <a:solidFill>
            <a:srgbClr val="dc5712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Tex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hee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6372360" y="3139920"/>
            <a:ext cx="2771640" cy="3718080"/>
          </a:xfrm>
          <a:prstGeom prst="rect">
            <a:avLst/>
          </a:prstGeom>
          <a:solidFill>
            <a:srgbClr val="dc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101! Arctic Blast"/>
              </a:rPr>
              <a:t>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"/>
          <p:cNvSpPr/>
          <p:nvPr/>
        </p:nvSpPr>
        <p:spPr>
          <a:xfrm>
            <a:off x="-12600" y="0"/>
            <a:ext cx="6372000" cy="2160720"/>
          </a:xfrm>
          <a:prstGeom prst="rect">
            <a:avLst/>
          </a:prstGeom>
          <a:solidFill>
            <a:srgbClr val="8a97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Tit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6372360" y="4680"/>
            <a:ext cx="2771640" cy="313524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101! Arctic Blast"/>
              </a:rPr>
              <a:t>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-12600" y="2160720"/>
            <a:ext cx="6372000" cy="4697280"/>
          </a:xfrm>
          <a:prstGeom prst="rect">
            <a:avLst/>
          </a:prstGeom>
          <a:solidFill>
            <a:srgbClr val="8a977b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Tex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Administrator\Desktop\自制ppt\1.png"/>
          <p:cNvPicPr/>
          <p:nvPr/>
        </p:nvPicPr>
        <p:blipFill>
          <a:blip r:embed="rId1"/>
          <a:stretch/>
        </p:blipFill>
        <p:spPr>
          <a:xfrm>
            <a:off x="-20520" y="3240"/>
            <a:ext cx="1671480" cy="5025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Administrator\Desktop\自制ppt\2.png"/>
          <p:cNvPicPr/>
          <p:nvPr/>
        </p:nvPicPr>
        <p:blipFill>
          <a:blip r:embed="rId2"/>
          <a:stretch/>
        </p:blipFill>
        <p:spPr>
          <a:xfrm>
            <a:off x="6948360" y="2651040"/>
            <a:ext cx="2382840" cy="4206960"/>
          </a:xfrm>
          <a:prstGeom prst="rect">
            <a:avLst/>
          </a:prstGeom>
          <a:ln w="0">
            <a:noFill/>
          </a:ln>
        </p:spPr>
      </p:pic>
      <p:sp>
        <p:nvSpPr>
          <p:cNvPr id="61" name="矩形 3"/>
          <p:cNvSpPr/>
          <p:nvPr/>
        </p:nvSpPr>
        <p:spPr>
          <a:xfrm>
            <a:off x="2039760" y="765000"/>
            <a:ext cx="14472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2529000" y="765000"/>
            <a:ext cx="429084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101! Arctic Blast"/>
              </a:rPr>
              <a:t>Tittle  he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7164360" y="765000"/>
            <a:ext cx="14436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"/>
          <p:cNvSpPr/>
          <p:nvPr/>
        </p:nvSpPr>
        <p:spPr>
          <a:xfrm>
            <a:off x="2529000" y="1557360"/>
            <a:ext cx="4290840" cy="424800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7164360" y="1557360"/>
            <a:ext cx="144360" cy="42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2039760" y="7112160"/>
            <a:ext cx="14472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529000" y="5805360"/>
            <a:ext cx="429084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"/>
          <p:cNvSpPr/>
          <p:nvPr/>
        </p:nvSpPr>
        <p:spPr>
          <a:xfrm>
            <a:off x="2529000" y="1557360"/>
            <a:ext cx="4290840" cy="42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101! Arctic Blast"/>
              </a:rPr>
              <a:t>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51181 -2.22222E-006 L 5.55556E-007 -2.22222E-006 E">
                                      <p:cBhvr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0"/>
                            </p:stCondLst>
                            <p:childTnLst>
                              <p:par>
                                <p:cTn id="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50"/>
                            </p:stCondLst>
                            <p:childTnLst>
                              <p:par>
                                <p:cTn id="105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00"/>
                            </p:stCondLst>
                            <p:childTnLst>
                              <p:par>
                                <p:cTn id="10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879 -0.19351 L 0.00139 -0.1905 E">
                                      <p:cBhvr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Administrator\Desktop\自制ppt\未标题-13.png"/>
          <p:cNvPicPr/>
          <p:nvPr/>
        </p:nvPicPr>
        <p:blipFill>
          <a:blip r:embed="rId1"/>
          <a:stretch/>
        </p:blipFill>
        <p:spPr>
          <a:xfrm>
            <a:off x="0" y="4149720"/>
            <a:ext cx="3794040" cy="333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Administrator\Desktop\自制ppt\未标题-10.png"/>
          <p:cNvPicPr/>
          <p:nvPr/>
        </p:nvPicPr>
        <p:blipFill>
          <a:blip r:embed="rId2"/>
          <a:stretch/>
        </p:blipFill>
        <p:spPr>
          <a:xfrm>
            <a:off x="2444760" y="-279360"/>
            <a:ext cx="3063960" cy="1923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Users\Administrator\Desktop\自制ppt\未标题11.png"/>
          <p:cNvPicPr/>
          <p:nvPr/>
        </p:nvPicPr>
        <p:blipFill>
          <a:blip r:embed="rId3"/>
          <a:stretch/>
        </p:blipFill>
        <p:spPr>
          <a:xfrm>
            <a:off x="-1085760" y="682560"/>
            <a:ext cx="2171520" cy="1381320"/>
          </a:xfrm>
          <a:prstGeom prst="rect">
            <a:avLst/>
          </a:prstGeom>
          <a:ln w="0">
            <a:noFill/>
          </a:ln>
        </p:spPr>
      </p:pic>
      <p:sp>
        <p:nvSpPr>
          <p:cNvPr id="72" name="矩形 8"/>
          <p:cNvSpPr/>
          <p:nvPr/>
        </p:nvSpPr>
        <p:spPr>
          <a:xfrm>
            <a:off x="3598920" y="1539720"/>
            <a:ext cx="5545080" cy="532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101! Arctic Blast"/>
              </a:rPr>
              <a:t>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384120" y="1965240"/>
            <a:ext cx="2808360" cy="209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101! Arctic Blast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50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3" presetSubtype="3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400"/>
                            </p:stCondLst>
                            <p:childTnLst>
                              <p:par>
                                <p:cTn id="136" dur="indefinite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50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9"/>
          <p:cNvSpPr/>
          <p:nvPr/>
        </p:nvSpPr>
        <p:spPr>
          <a:xfrm>
            <a:off x="1739880" y="1949400"/>
            <a:ext cx="14436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0"/>
          <p:cNvSpPr/>
          <p:nvPr/>
        </p:nvSpPr>
        <p:spPr>
          <a:xfrm>
            <a:off x="1739880" y="3929040"/>
            <a:ext cx="14436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1"/>
          <p:cNvSpPr/>
          <p:nvPr/>
        </p:nvSpPr>
        <p:spPr>
          <a:xfrm>
            <a:off x="1739880" y="2941560"/>
            <a:ext cx="14436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2359080" y="1949400"/>
            <a:ext cx="4967280" cy="61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2357280" y="2941560"/>
            <a:ext cx="4967280" cy="61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2357280" y="3929040"/>
            <a:ext cx="4967280" cy="61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9325080" y="1949400"/>
            <a:ext cx="14292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6"/>
          <p:cNvSpPr/>
          <p:nvPr/>
        </p:nvSpPr>
        <p:spPr>
          <a:xfrm>
            <a:off x="9337680" y="2941560"/>
            <a:ext cx="14436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7"/>
          <p:cNvSpPr/>
          <p:nvPr/>
        </p:nvSpPr>
        <p:spPr>
          <a:xfrm>
            <a:off x="9325080" y="3929040"/>
            <a:ext cx="14292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17 0.00277 L -0.16527 0.00277 E">
                                      <p:cBhvr>
                                        <p:cTn id="156" dur="25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77309 0.00278 L -0.16666 0.00278 E">
                                      <p:cBhvr>
                                        <p:cTn id="163" dur="25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7717 0.00278 L -0.16527 0.00278 E">
                                      <p:cBhvr>
                                        <p:cTn id="167" dur="25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5:08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20:41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