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F74-CE11-4E4B-8F5E-0B5A1044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F14-A48F-4947-AE8E-F107C562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12A-9AD1-4EA7-A471-10062903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BA8-6B9F-4F5D-B38D-835FB95D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A69B-BC43-49F0-A2ED-05265899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13E-F1AD-4F93-B672-AB9B039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24A4-D13A-4175-86EA-738E38DF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47DC-585C-4983-9B73-F9C4EFF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2904-6D47-4272-8051-D08A41C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A2B0-3A2A-4253-A5DA-FBEEEA87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49C1-76FE-444D-85C9-C0F808E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EAE-D262-4B3F-8FAE-1FA7819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EA48-9E1F-4C66-A27E-393D89C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0141-494D-4041-AA3E-E27E829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AD89-7230-4132-B9B1-5BD4387A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D89E-69D6-4F6E-92FC-60380D4F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2957-EBBD-4777-B3DE-E7D5B66F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DA2-9DD9-4408-9C5E-0F3F7442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C37-23D9-47FD-8E26-4CD03A3F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289-E70C-4533-A81A-E15D7425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458-98EC-4A10-88AE-6DA270D5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9A2-0F4B-4B4A-BB17-8260D68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091-EF67-4099-995C-87CEA8E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0F2-C1ED-4FF1-8E4B-EAE1E66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DA82-2AD9-44D8-AACF-68CAA6852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A265-70CA-49C9-B39C-DF4EF2EE5B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F93-F8C2-4EB8-8C75-EF94543F36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23640" y="981000"/>
            <a:ext cx="5327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为学，不日进则日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2060280"/>
            <a:ext cx="81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之为学，不日进则日退，独学无友，则孤陋而难成；久处一方，则习染而不自觉。不幸而在穷僻之域，无车马之资，犹当博学审问，古人与稽，以求其是非之所在。庶几可得十之五六。若既不出户，又不读书，则是面墙之士，虽子羔、原宪之贤，终无济于天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4000" y="333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舒体"/>
              </a:rPr>
              <a:t>每日一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028880" y="114156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一点韧性，同院子里的那些花比起来，不是显得非常可贵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39625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陈述句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一点韧性，同院子里那些花比起来，显得非常可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57600" y="3808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迎春花"/>
          <p:cNvPicPr/>
          <p:nvPr/>
        </p:nvPicPr>
        <p:blipFill>
          <a:blip r:embed="rId2"/>
          <a:stretch/>
        </p:blipFill>
        <p:spPr>
          <a:xfrm>
            <a:off x="380880" y="1523880"/>
            <a:ext cx="2133720" cy="1543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桃花"/>
          <p:cNvPicPr/>
          <p:nvPr/>
        </p:nvPicPr>
        <p:blipFill>
          <a:blip r:embed="rId3"/>
          <a:stretch/>
        </p:blipFill>
        <p:spPr>
          <a:xfrm>
            <a:off x="3454560" y="1600200"/>
            <a:ext cx="1955520" cy="13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杏花"/>
          <p:cNvPicPr/>
          <p:nvPr/>
        </p:nvPicPr>
        <p:blipFill>
          <a:blip r:embed="rId4"/>
          <a:stretch/>
        </p:blipFill>
        <p:spPr>
          <a:xfrm>
            <a:off x="6400800" y="1752480"/>
            <a:ext cx="1981080" cy="133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海棠"/>
          <p:cNvPicPr/>
          <p:nvPr/>
        </p:nvPicPr>
        <p:blipFill>
          <a:blip r:embed="rId5"/>
          <a:stretch/>
        </p:blipFill>
        <p:spPr>
          <a:xfrm>
            <a:off x="6324480" y="4495680"/>
            <a:ext cx="210816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榆叶梅"/>
          <p:cNvPicPr/>
          <p:nvPr/>
        </p:nvPicPr>
        <p:blipFill>
          <a:blip r:embed="rId6"/>
          <a:stretch/>
        </p:blipFill>
        <p:spPr>
          <a:xfrm>
            <a:off x="3200400" y="46530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丁香"/>
          <p:cNvPicPr/>
          <p:nvPr/>
        </p:nvPicPr>
        <p:blipFill>
          <a:blip r:embed="rId7"/>
          <a:stretch/>
        </p:blipFill>
        <p:spPr>
          <a:xfrm>
            <a:off x="380880" y="4648320"/>
            <a:ext cx="200664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Line 9"/>
          <p:cNvSpPr/>
          <p:nvPr/>
        </p:nvSpPr>
        <p:spPr>
          <a:xfrm>
            <a:off x="2666880" y="220968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5562720" y="2209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7315200" y="3429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5486040" y="525780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14600" y="53341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590920" y="327672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团锦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733920" y="304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夏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凤仙花"/>
          <p:cNvPicPr/>
          <p:nvPr/>
        </p:nvPicPr>
        <p:blipFill>
          <a:blip r:embed="rId2"/>
          <a:stretch/>
        </p:blipFill>
        <p:spPr>
          <a:xfrm>
            <a:off x="6094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石竹花"/>
          <p:cNvPicPr/>
          <p:nvPr/>
        </p:nvPicPr>
        <p:blipFill>
          <a:blip r:embed="rId3"/>
          <a:stretch/>
        </p:blipFill>
        <p:spPr>
          <a:xfrm>
            <a:off x="3467160" y="1450800"/>
            <a:ext cx="2209680" cy="197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鸡冠花"/>
          <p:cNvPicPr/>
          <p:nvPr/>
        </p:nvPicPr>
        <p:blipFill>
          <a:blip r:embed="rId4"/>
          <a:stretch/>
        </p:blipFill>
        <p:spPr>
          <a:xfrm>
            <a:off x="6705720" y="1523880"/>
            <a:ext cx="201924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江西腊"/>
          <p:cNvPicPr/>
          <p:nvPr/>
        </p:nvPicPr>
        <p:blipFill>
          <a:blip r:embed="rId5"/>
          <a:stretch/>
        </p:blipFill>
        <p:spPr>
          <a:xfrm>
            <a:off x="6248520" y="4800600"/>
            <a:ext cx="222876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夜来香"/>
          <p:cNvPicPr/>
          <p:nvPr/>
        </p:nvPicPr>
        <p:blipFill>
          <a:blip r:embed="rId6"/>
          <a:stretch/>
        </p:blipFill>
        <p:spPr>
          <a:xfrm>
            <a:off x="380880" y="4724280"/>
            <a:ext cx="2616480" cy="1752840"/>
          </a:xfrm>
          <a:prstGeom prst="rect">
            <a:avLst/>
          </a:prstGeom>
          <a:ln w="0">
            <a:noFill/>
          </a:ln>
        </p:spPr>
      </p:pic>
      <p:sp>
        <p:nvSpPr>
          <p:cNvPr id="132" name="Line 8"/>
          <p:cNvSpPr/>
          <p:nvPr/>
        </p:nvSpPr>
        <p:spPr>
          <a:xfrm>
            <a:off x="2743200" y="22860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5715000" y="2209680"/>
            <a:ext cx="7621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7315200" y="36576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3962520" y="5486400"/>
            <a:ext cx="17524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447920" y="3657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彩缤纷美不胜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657600" y="14479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秋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玉簪花"/>
          <p:cNvPicPr/>
          <p:nvPr/>
        </p:nvPicPr>
        <p:blipFill>
          <a:blip r:embed="rId2"/>
          <a:stretch/>
        </p:blipFill>
        <p:spPr>
          <a:xfrm>
            <a:off x="990720" y="26668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SC00850-2"/>
          <p:cNvPicPr/>
          <p:nvPr/>
        </p:nvPicPr>
        <p:blipFill>
          <a:blip r:embed="rId3"/>
          <a:stretch/>
        </p:blipFill>
        <p:spPr>
          <a:xfrm>
            <a:off x="5105520" y="27432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104840" y="8208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你站在它下面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但是香气却毫不含糊，浓浓烈烈地从花枝上袭了下来。它把影子投到墙上，叶影参差，花影迷离，可以引起我许多幻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04840" y="8208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你站在它下面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但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香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却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不含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浓浓烈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从花枝上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袭了下来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把影子投到墙上，叶影参差，花影迷离，可以引起我许多幻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04840" y="8208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你站在它下面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朵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但是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香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却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不含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浓浓烈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从花枝上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袭了下来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把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影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投到墙上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叶影参差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影迷离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可以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引起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许多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幻想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d5c35"/>
                </a:solidFill>
                <a:latin typeface="Times New Roman"/>
                <a:ea typeface="华文彩云"/>
              </a:rPr>
              <a:t>请在括号中填入恰当的鸟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362320" cy="1557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143000" y="2133720"/>
            <a:ext cx="73915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（        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故人西辞（        ）楼，烟花三月下扬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千里（    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两个（    ）鸣翠柳，一行（    ）上青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旧时王谢堂前（    ），飞入寻常百姓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枯藤老树昏（     ），小桥流水人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无可奈何花落去，似曾相识（       ）归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几处（       ）争暖树，谁家（        ）啄春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09SILEN&amp;.MID" descr=""/>
          <p:cNvPicPr/>
          <p:nvPr/>
        </p:nvPicPr>
        <p:blipFill>
          <a:blip r:embed="rId2"/>
          <a:stretch/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61960" cy="1557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00419"/>
                </a:solidFill>
                <a:latin typeface="Times New Roman"/>
                <a:ea typeface="华文彩云"/>
              </a:rPr>
              <a:t>请在括号中填入恰当的鸟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55640" y="1844640"/>
            <a:ext cx="782964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黄鹤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一去不复返，白云千载空悠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故人西辞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黄鹤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楼，烟花三月下扬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千里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莺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啼绿映红，水村山郭酒旗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两个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黄鹂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鸣翠柳，一行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白鹭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上青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旧时王谢堂前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燕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，飞入寻常百姓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枯藤老树昏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鸦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，小桥流水人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无可奈何花落去，似曾相识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燕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归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几处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早莺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争暖树，谁家（</a:t>
            </a:r>
            <a:r>
              <a:rPr b="0" lang="zh-CN" sz="2800" spc="-1" strike="noStrike">
                <a:solidFill>
                  <a:srgbClr val="ab1395"/>
                </a:solidFill>
                <a:latin typeface="Times New Roman"/>
                <a:ea typeface="隶书"/>
              </a:rPr>
              <a:t>新燕</a:t>
            </a:r>
            <a:r>
              <a:rPr b="0" lang="zh-CN" sz="2800" spc="-1" strike="noStrike">
                <a:solidFill>
                  <a:srgbClr val="8b2919"/>
                </a:solidFill>
                <a:latin typeface="Times New Roman"/>
                <a:ea typeface="隶书"/>
              </a:rPr>
              <a:t>）啄春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337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夹 竹 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5443560"/>
            <a:ext cx="4208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清之风工作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-1085760" y="1973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200481204250718"/>
          <p:cNvPicPr/>
          <p:nvPr/>
        </p:nvPicPr>
        <p:blipFill>
          <a:blip r:embed="rId1"/>
          <a:stretch/>
        </p:blipFill>
        <p:spPr>
          <a:xfrm>
            <a:off x="609480" y="304920"/>
            <a:ext cx="3733920" cy="5410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1905120" y="58672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丽的夹竹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-1795320" y="549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200481204143615"/>
          <p:cNvPicPr/>
          <p:nvPr/>
        </p:nvPicPr>
        <p:blipFill>
          <a:blip r:embed="rId2"/>
          <a:stretch/>
        </p:blipFill>
        <p:spPr>
          <a:xfrm>
            <a:off x="4876920" y="304920"/>
            <a:ext cx="3657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XCA14008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71640" y="333360"/>
            <a:ext cx="7272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048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簪花  荇藻   参差不齐   鸡冠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奉陪  榆叶梅  江西腊  海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团锦簇 菊花   飞蛾   乍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71640" y="1557360"/>
            <a:ext cx="554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ān    xìng     cēn c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332000" y="4508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ǐn                       é      zh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187280" y="31417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èng     yú                     là        t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8360" y="228708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总写夹竹桃是作者最值得留恋和回忆的花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写作者家中的夹竹桃开花时红白相映，景象奇妙有趣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写夹竹桃的可贵以及引起作者的幻想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段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写作者爱上了夹竹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88748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9280" y="620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但是夹竹桃的妙处还不止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我特别喜欢                             。你站在它下面，花朵是               ；但是香气却                 ，浓浓烈烈地                               。它把影子投到墙上，              ，               ，可以引起我许多幻想。我想它是地图，它居然就是地图了。这一堆影子是亚洲，那一堆影子是非洲，中间空白的地方是大海。碰巧有几只小虫子爬过，这就是远渡重洋的海轮。我幻想它是水中的荇藻，我眼前就真地展现出一个小池塘。夜蛾飞过，映在墙上的影子就是游鱼。我幻想它是一幅墨竹，我就真看到一幅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900000" y="1125360"/>
            <a:ext cx="23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光下的夹竹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093080" y="105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团模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124000" y="1484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毫不含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356520" y="1484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花枝上袭了下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522240" y="19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叶影参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24916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影迷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按课文内容填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划出文章中的一个过渡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文中的“此”是指什么？从文章找出句子写在下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月光下的夹竹桃把影子投在墙上，还能引起我的什么想象，仿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0:27:3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5:55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