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2D2-A6E5-4E4E-8EB8-CC1DF9BA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27B-55A8-43FF-9382-F4911946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ED5-88FA-439F-8289-E1E38E97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E7C-10C7-4E0A-B60E-CCAB829E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BB31-338B-41EC-8765-95E34C29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025B-3A05-49C0-A174-A47F026D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8701-6249-4977-A8D6-9969172C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2D8F-3656-4E23-A350-8F1ACF50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A645-17D9-4805-8E22-14AD6EEB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ACB0-081D-4FC2-B8D6-CEABC63F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17F6-2CA0-4A2C-9370-01A21FE4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AC4-250D-4D5E-9247-11E524BB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D431-8574-4F24-A619-29BCA937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B518-0E09-4142-A637-E4BC1EF7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F1C7-0BE0-4354-8431-47247F99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9A25-CB36-41EA-B2F9-68268BFD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0271-765E-4E07-84A6-37AB4339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EB5E-2339-441F-A86D-98BE554D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59DA-0B9F-4512-98CD-B1383ACD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59B4-8DCF-45B5-8717-A6076CE7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5D136-217B-4B69-8115-3015D6CB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AB0F-0D78-4085-AB03-AE8BEFFE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5E1-ED3B-4653-9518-574E51C5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8EA70-3166-45D0-82E4-F6E29235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98C68-7A97-462D-B9CE-43B20442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EC38-2572-4EC1-96F8-058F2999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71CDF-A420-41B1-BF2A-8BD966AD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F274-AC31-483E-85DE-9210FC9C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DBB5-DCB6-4326-AE26-513E6045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61D5-1FAA-4511-908E-56A17313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150-AB99-494B-B661-A4566B76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7BD-4510-4300-B9B2-888B0DB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AE9-DE9C-47FD-92D2-7EB8201B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9CD-8AEA-41C8-937D-2EEF3EFB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1DC-93B5-43CA-AFD2-22944BD4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CC1-D60A-4FFC-8B94-D75CEB2D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25E8-CCDF-4D15-A80A-14DBDF897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9AA4-B965-4CBA-A1FB-03D94617A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E9B7-0B92-48B1-87C7-9024CB77D2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C811-48C2-4CC7-AA3F-C35435BC8F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2"/>
          <a:srcRect l="0" t="3849" r="0" b="7080"/>
          <a:stretch/>
        </p:blipFill>
        <p:spPr>
          <a:xfrm>
            <a:off x="-14400" y="-27000"/>
            <a:ext cx="9158400" cy="6899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5640" y="1628640"/>
            <a:ext cx="7427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看 云 识 天 气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Times New Roman"/>
                <a:ea typeface="黑体"/>
              </a:rPr>
              <a:t>阅读第四、五节，完成表格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1523880"/>
          <a:ext cx="8458200" cy="4903920"/>
        </p:xfrm>
        <a:graphic>
          <a:graphicData uri="http://schemas.openxmlformats.org/drawingml/2006/table">
            <a:tbl>
              <a:tblPr/>
              <a:tblGrid>
                <a:gridCol w="1754280"/>
                <a:gridCol w="4660920"/>
                <a:gridCol w="2043000"/>
              </a:tblGrid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形       状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卷层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高层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雨层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积雨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卷层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275760" y="260280"/>
            <a:ext cx="9115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华文彩云"/>
              </a:rPr>
              <a:t>         </a:t>
            </a:r>
            <a:r>
              <a:rPr b="1" lang="zh-CN" sz="4800" spc="-1" strike="noStrike">
                <a:solidFill>
                  <a:srgbClr val="ffcccc"/>
                </a:solidFill>
                <a:latin typeface="Arial"/>
                <a:ea typeface="华文彩云"/>
              </a:rPr>
              <a:t>卷  层  云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高层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-677160" y="1052640"/>
            <a:ext cx="2009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f47e7"/>
                </a:solidFill>
                <a:latin typeface="Arial"/>
                <a:ea typeface="华文彩云"/>
              </a:rPr>
              <a:t>  </a:t>
            </a:r>
            <a:r>
              <a:rPr b="1" lang="zh-CN" sz="6000" spc="-1" strike="noStrike">
                <a:solidFill>
                  <a:srgbClr val="ffcccc"/>
                </a:solidFill>
                <a:latin typeface="Arial"/>
                <a:ea typeface="华文彩云"/>
              </a:rPr>
              <a:t>高  层  云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2" descr="雨层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3424680" y="1133640"/>
            <a:ext cx="256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cc"/>
                </a:solidFill>
                <a:latin typeface="Arial"/>
                <a:ea typeface="华文彩云"/>
              </a:rPr>
              <a:t>雨  层  云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积雨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257800" y="457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cc"/>
                </a:solidFill>
                <a:latin typeface="Times New Roman"/>
                <a:ea typeface="华文彩云"/>
              </a:rPr>
              <a:t>积  雨  云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Times New Roman"/>
                <a:ea typeface="黑体"/>
              </a:rPr>
              <a:t>阅读第六节，完成表格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714680"/>
                <a:gridCol w="4008240"/>
                <a:gridCol w="20494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云 彩 情 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晕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楷体_GB2312"/>
                          <a:ea typeface="楷体_GB2312"/>
                        </a:rPr>
                        <a:t>华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虹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霞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39"/>
          <p:cNvSpPr/>
          <p:nvPr/>
        </p:nvSpPr>
        <p:spPr>
          <a:xfrm>
            <a:off x="7467480" y="6172200"/>
            <a:ext cx="1067040" cy="45720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日晕"/>
          <p:cNvPicPr/>
          <p:nvPr/>
        </p:nvPicPr>
        <p:blipFill>
          <a:blip r:embed="rId2"/>
          <a:stretch/>
        </p:blipFill>
        <p:spPr>
          <a:xfrm>
            <a:off x="0" y="0"/>
            <a:ext cx="5364000" cy="4440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月晕"/>
          <p:cNvPicPr/>
          <p:nvPr/>
        </p:nvPicPr>
        <p:blipFill>
          <a:blip r:embed="rId3"/>
          <a:stretch/>
        </p:blipFill>
        <p:spPr>
          <a:xfrm>
            <a:off x="4500720" y="2565360"/>
            <a:ext cx="4643280" cy="42926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3"/>
          <p:cNvSpPr/>
          <p:nvPr/>
        </p:nvSpPr>
        <p:spPr>
          <a:xfrm>
            <a:off x="7093080" y="184464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1979640" y="4724280"/>
            <a:ext cx="360360" cy="505080"/>
          </a:xfrm>
          <a:prstGeom prst="upArrow">
            <a:avLst>
              <a:gd name="adj1" fmla="val 50000"/>
              <a:gd name="adj2" fmla="val 35040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6156360" y="620640"/>
            <a:ext cx="23032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日  晕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971640" y="5516640"/>
            <a:ext cx="216036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月 晕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1240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彩虹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6372360" y="105264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彩云"/>
              </a:rPr>
              <a:t>虹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5943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4" descr="霞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1692360" y="907920"/>
            <a:ext cx="18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Arial"/>
                <a:ea typeface="华文彩云"/>
              </a:rPr>
              <a:t>霞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739152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品位语言，学习写法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文中运用了哪些修辞方法？你能举出具体的例子吗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文中哪些词语能够体现说明文语言的准确性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你认为要写好一篇说明文应该注意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黑体"/>
                <a:ea typeface="黑体"/>
              </a:rPr>
              <a:t>谚  语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8050320" cy="30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早上乌云盖，无雨也风来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天上鲤鱼斑，明天晒谷不用翻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天上灰布悬，雨丝定连绵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朝霞不出门，晚霞行千里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57200" y="304920"/>
            <a:ext cx="352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仿写练习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931320" y="1266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示例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69960" y="1820880"/>
            <a:ext cx="84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上的云真是姿态万千，变化无常。它们有的像羽毛，有的像鱼鳞，有的像羊群；还有的像峰峦，像河流，像雄师，像奔马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778480" y="365760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、夜幕四合，四周的群山，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473920" y="449568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、远处的霓虹灯亮了，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951480" y="5335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作业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2327760" y="20988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巩固课后的生字词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558680" y="3013200"/>
            <a:ext cx="8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从今天开始，每天练习看云识天气，判断当天或第二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天气情况，轮流发布天气预报，看谁预报得准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258800" y="4572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继续搜集民间关于天气的谚语，整理在集锦本上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7"/>
          <p:cNvSpPr/>
          <p:nvPr/>
        </p:nvSpPr>
        <p:spPr>
          <a:xfrm>
            <a:off x="2305800" y="198288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eb00b"/>
                </a:solidFill>
                <a:latin typeface="Times New Roman"/>
                <a:ea typeface="隶书"/>
              </a:rPr>
              <a:t>本节课到此结束，谢谢大家！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快速阅读课文，完成下列练习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18960" y="198072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找出看云识天气的基本经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623840" y="3124080"/>
            <a:ext cx="8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划出课本上介绍的各种云的名称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396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黑体"/>
                <a:ea typeface="黑体"/>
              </a:rPr>
              <a:t>看 云 识 天 气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1905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华文新魏"/>
                <a:ea typeface="华文新魏"/>
              </a:rPr>
              <a:t>形状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55640" y="2349360"/>
            <a:ext cx="144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卷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卷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高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348000" y="2421000"/>
            <a:ext cx="144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卷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高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雨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积雨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6629400" y="2514600"/>
            <a:ext cx="79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1280" y="5373720"/>
            <a:ext cx="1584360" cy="703440"/>
          </a:xfrm>
          <a:prstGeom prst="rect">
            <a:avLst/>
          </a:prstGeom>
          <a:noFill/>
          <a:ln w="93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Arial"/>
                <a:ea typeface="华文新魏"/>
              </a:rPr>
              <a:t>薄  云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3348000" y="5373720"/>
            <a:ext cx="1655640" cy="703440"/>
          </a:xfrm>
          <a:prstGeom prst="rect">
            <a:avLst/>
          </a:prstGeom>
          <a:noFill/>
          <a:ln w="93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Arial"/>
                <a:ea typeface="华文新魏"/>
              </a:rPr>
              <a:t>厚  云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6432840" y="1371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华文新魏"/>
                <a:ea typeface="华文新魏"/>
              </a:rPr>
              <a:t>光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95280" y="1557360"/>
          <a:ext cx="8367840" cy="4614840"/>
        </p:xfrm>
        <a:graphic>
          <a:graphicData uri="http://schemas.openxmlformats.org/drawingml/2006/table">
            <a:tbl>
              <a:tblPr/>
              <a:tblGrid>
                <a:gridCol w="1844640"/>
                <a:gridCol w="4467240"/>
                <a:gridCol w="2055960"/>
              </a:tblGrid>
              <a:tr h="122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名  称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形      状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卷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卷积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积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</a:rPr>
                        <a:t>高积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43"/>
          <p:cNvSpPr/>
          <p:nvPr/>
        </p:nvSpPr>
        <p:spPr>
          <a:xfrm>
            <a:off x="0" y="404640"/>
            <a:ext cx="32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68"/>
          <p:cNvSpPr/>
          <p:nvPr/>
        </p:nvSpPr>
        <p:spPr>
          <a:xfrm>
            <a:off x="457200" y="38088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Arial"/>
                <a:ea typeface="黑体"/>
              </a:rPr>
              <a:t>阅读第三节，完成表格</a:t>
            </a:r>
            <a:r>
              <a:rPr b="0" lang="zh-CN" sz="4000" spc="-1" strike="noStrike">
                <a:solidFill>
                  <a:srgbClr val="eeb00b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73"/>
          <p:cNvSpPr/>
          <p:nvPr/>
        </p:nvSpPr>
        <p:spPr>
          <a:xfrm>
            <a:off x="3759120" y="4083120"/>
            <a:ext cx="22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77"/>
          <p:cNvSpPr/>
          <p:nvPr/>
        </p:nvSpPr>
        <p:spPr>
          <a:xfrm>
            <a:off x="684360" y="2637000"/>
            <a:ext cx="143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Picture 11" descr="卷云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609480" y="609480"/>
            <a:ext cx="36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彩云"/>
              </a:rPr>
              <a:t>卷   云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3" descr="卷积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3276720" y="68580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卷积云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7" descr="积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4"/>
          <p:cNvSpPr/>
          <p:nvPr/>
        </p:nvSpPr>
        <p:spPr>
          <a:xfrm>
            <a:off x="2556000" y="76500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Arial"/>
                <a:ea typeface="华文彩云"/>
              </a:rPr>
              <a:t>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彩云"/>
              </a:rPr>
              <a:t>积      云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高积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-466920" y="1484280"/>
            <a:ext cx="23749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彩云"/>
              </a:rPr>
              <a:t>高 积 云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05:23:2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55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