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706-7796-4607-9FD5-2C3F9D4F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9DB-E717-499E-858E-AB081420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085-085E-460B-8A14-8F78F6EB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7A3-54D3-457E-9F89-E830411C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A511-ED4E-445A-B7AC-4344D0D4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23BE-EB95-4A59-A23C-D13A6FDB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44F3-CFB2-4BF6-9DD9-68BFDD50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9CE6-F5A6-4EA0-9E8B-357F6DD6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6D4E-932A-4E43-9B08-68A165DD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5241-A974-4B94-9946-CECD3CC8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9A6A-2842-4AC9-8189-47FA7886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5AEE-F648-4D95-A8E9-1D3B306F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BD2B-14A0-4993-A5E1-8BD2554E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0C67-6FB8-4556-A218-7958C685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8519-E5E8-4003-A416-E5655FE1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9154-2D54-45E6-B262-2298C4B9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E4B7-681B-4985-8C1C-7B697D6F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A36C7-4090-490B-BFF2-84438C2D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F986B-6DD9-456A-91DE-D3AA507A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8F68F-4D1D-4391-8C33-004CF046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A1A70-2130-4C94-B5D5-07599303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C9D9C-F238-477B-9FAA-2C86AD43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5390-DBE4-47C2-AE08-8B1E4279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BE4E6-DBF0-41AF-A29D-97010985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AFBC0-3374-48BD-A13E-0D45B1C4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47EDB-D832-4699-81B5-9A7AD977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41C5A-3038-4E65-A56F-63145051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34A7E-DA97-4AB8-B0A2-CCD14263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94C32-2302-442B-93D8-F9AB6DC9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000CA-BB39-4102-AE4C-D879B331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AF067-7ADA-47B4-8021-0D047553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51577-57D7-478F-A413-C82CAB65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C7C5A-F91C-49F8-94F4-3A946C79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98D-D6FE-407B-BF12-BA0D4F29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B85C8-46B9-4F74-B86B-1F7ACF23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EB77D-854B-4E79-A794-BB49A2CF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512EF-AC2C-4DF5-810A-BF07139A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F0D0B-3212-4174-8834-EC65C5DE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4C0CB-8CFF-46CE-A21C-F98107AA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4907F-3555-4950-B3BC-ED3DB8E7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99538-C99F-4143-B4F3-04A2525D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D249E-F0EB-4B2E-9CD4-AB888562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ED9A0-514E-4A56-B49E-6FD98F2E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B3776-CB37-498A-AF16-B7EAC06F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78E-D1F9-445E-BE8B-EB89E723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767FA-9BB0-4AD6-9C53-A2262CFE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C4D1A-A14C-44B1-8AB3-976B2535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29242-70B7-4E36-8322-11299CCC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12A0D-4D88-4A76-BCD6-C8A5D5DD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AB74E-F238-4446-AEDC-7BA1FE3E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3E899-39AC-4FF4-B14C-B1B46BEA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5B8BE-05CF-4AC4-946F-E63DFC30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E76A7-2528-4A24-A4A0-2C76DD96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2B0D1-497C-47AC-B08F-896B46F3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2D4AF-845C-4F40-B57C-D2FF6C93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2C6D-487A-4B43-BD14-0DD21BA7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66094-A6A7-4634-862B-99324C91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04F56-0E08-474F-8269-9CE23676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9EC54-1E6F-4C7A-9B19-CE1AC808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8D713-246A-4704-AC09-9F29AB6F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91B0C-1CD8-447A-956D-21BF4880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C81CE-7897-42AE-85DC-4601343A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FA614-B78A-4F19-B694-D8319B73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7D2F1-9426-4608-9A85-325AAC2E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6E1AA-4C6A-4901-9950-29FDB88B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123C8-78C2-452C-AC2F-F1CDBB91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7140-B8DD-47BE-8CA5-18F7ED83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61B49-DE73-4D2A-8F41-3AF8C2EF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0E540-306A-4CD9-BA1E-EBDAEFB3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82393-89AA-4B80-A502-B8937DB5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11F8-8894-4CBE-9F10-64ACFBF2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7CB-322E-4F10-8A74-1BAE88E5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E2F6-0572-4F43-B5A5-2CFFE6FA2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092C-6C46-432F-8B16-AE5D441D03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EB82-822F-40C7-B92D-2AAD5BC83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127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93C7-713D-4EBE-8071-5B23A39400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93DC-8FEA-48CA-AECB-2712A293F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150E-C08E-4552-9073-D95BD48A98B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4727-146E-4FE8-ACE0-1FE8EAE941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1" descr=""/>
          <p:cNvPicPr/>
          <p:nvPr/>
        </p:nvPicPr>
        <p:blipFill>
          <a:blip r:embed="rId1"/>
          <a:stretch/>
        </p:blipFill>
        <p:spPr>
          <a:xfrm>
            <a:off x="14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WordArt 6"/>
          <p:cNvSpPr txBox="1"/>
          <p:nvPr/>
        </p:nvSpPr>
        <p:spPr>
          <a:xfrm>
            <a:off x="1619280" y="907920"/>
            <a:ext cx="6143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宋体"/>
              </a:rPr>
              <a:t>拉萨的天空</a:t>
            </a:r>
            <a:endParaRPr b="1" lang="en-US" sz="9600" spc="1" strike="noStrike">
              <a:ln w="176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cl14"/>
          <p:cNvPicPr/>
          <p:nvPr/>
        </p:nvPicPr>
        <p:blipFill>
          <a:blip r:embed="rId1"/>
          <a:stretch/>
        </p:blipFill>
        <p:spPr>
          <a:xfrm>
            <a:off x="0" y="0"/>
            <a:ext cx="9144000" cy="717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4" descr="bj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1979640" y="1341360"/>
            <a:ext cx="648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作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、 摘抄课文中你认为写得最美的句子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、写几个打比方的句子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4" descr="20051230101624905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755640" y="836640"/>
            <a:ext cx="7704000" cy="53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再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拉萨的天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设计者</a:t>
            </a:r>
            <a:r>
              <a:rPr b="1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连云港师专三附小 周影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bj07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5"/>
          <p:cNvSpPr/>
          <p:nvPr/>
        </p:nvSpPr>
        <p:spPr>
          <a:xfrm>
            <a:off x="250920" y="170028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湛蓝 映衬 纯净 雄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透亮 对照 明洁 壮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250920" y="18900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8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拉萨的天空总是那么湛蓝、透亮</a:t>
            </a:r>
            <a:r>
              <a:rPr b="1" lang="en-US" sz="8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8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好像用清水洗过的蓝宝石一样。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2124000" y="476280"/>
            <a:ext cx="6840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有贴着山顶的白云映衬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湛蓝的天空显得越发纯净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有拉萨河畔草地的对照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湛蓝的天空显得更加明洁</a:t>
            </a:r>
            <a:r>
              <a:rPr b="1" lang="zh-CN" sz="6000" spc="-1" strike="noStrike">
                <a:solidFill>
                  <a:srgbClr val="ffffff"/>
                </a:solidFill>
                <a:latin typeface="Comic Sans MS"/>
              </a:rPr>
              <a:t>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059280" y="47628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布达拉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" descr="89140270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3635280" y="549360"/>
            <a:ext cx="256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布达拉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2" descr="布达拉宫显得更加雄伟、壮丽3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"/>
          <p:cNvSpPr/>
          <p:nvPr/>
        </p:nvSpPr>
        <p:spPr>
          <a:xfrm>
            <a:off x="2987640" y="62064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679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布达拉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39640" y="1844640"/>
            <a:ext cx="820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一年四季中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不管是隆冬还是盛夏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布达拉宫的上空总是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蓝晶晶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的。有了这蓝天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依山而建的布达拉宫显得更加雄伟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壮丽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8000" spc="-1" strike="noStrike">
                <a:solidFill>
                  <a:srgbClr val="0033cc"/>
                </a:solidFill>
                <a:latin typeface="Arial"/>
              </a:rPr>
              <a:t>在藏语中，拉萨是圣地的意思，那么，这湛蓝的天就是圣地的窗帘了。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02:58:1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7:32Z</dcterms:modified>
  <cp:revision>6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