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B13D-A97B-4A80-8953-C3E6450F2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2817-9A16-469D-89FC-FF04036B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A004-3038-45EB-AC31-9862261C0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2FB5-8B4E-40AF-B65E-AC2191644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0DA5-FF0F-4754-A417-182C1C2D5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84BE-DD5C-4F36-914F-4E8A7C25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581-3FC9-4833-AAC2-BBC8C26C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D681-1745-4178-87B6-4F09C61C2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674F-CD60-49A9-B108-BECDD9FCC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716B-CC31-4A39-9B30-C68BA90E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68BC-5514-4CFC-B8DF-E0DE5EA01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CB8-2D90-4C7A-B5E8-2AC90A85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545472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B453-FE0D-460F-BBBB-D6997F010E60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ext Box 5" descr=""/>
          <p:cNvPicPr/>
          <p:nvPr/>
        </p:nvPicPr>
        <p:blipFill>
          <a:blip r:embed="rId2"/>
          <a:stretch/>
        </p:blipFill>
        <p:spPr>
          <a:xfrm>
            <a:off x="1511280" y="1127160"/>
            <a:ext cx="54752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457200" y="38862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相接的两句话，字数相同，意思相对，这样的句子叫骈句，也就是修辞中的              。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1295280" y="4572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</a:rPr>
              <a:t>苔痕</a:t>
            </a:r>
            <a:r>
              <a:rPr b="1" lang="zh-CN" sz="5400" spc="-1" strike="noStrike">
                <a:solidFill>
                  <a:srgbClr val="545472"/>
                </a:solidFill>
                <a:latin typeface="Times New Roman"/>
              </a:rPr>
              <a:t>上</a:t>
            </a:r>
            <a:r>
              <a:rPr b="1" lang="zh-CN" sz="5400" spc="-1" strike="noStrike" u="sng">
                <a:solidFill>
                  <a:srgbClr val="6600ff"/>
                </a:solidFill>
                <a:uFillTx/>
                <a:latin typeface="Times New Roman"/>
              </a:rPr>
              <a:t>阶绿 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371600" y="26668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 u="sng">
                <a:solidFill>
                  <a:srgbClr val="ff0000"/>
                </a:solidFill>
                <a:uFillTx/>
                <a:latin typeface="Times New Roman"/>
              </a:rPr>
              <a:t>草色</a:t>
            </a:r>
            <a:r>
              <a:rPr b="1" lang="zh-CN" sz="5400" spc="-1" strike="noStrike">
                <a:solidFill>
                  <a:srgbClr val="545472"/>
                </a:solidFill>
                <a:latin typeface="Times New Roman"/>
              </a:rPr>
              <a:t>入</a:t>
            </a:r>
            <a:r>
              <a:rPr b="1" lang="zh-CN" sz="5400" spc="-1" strike="noStrike" u="sng">
                <a:solidFill>
                  <a:srgbClr val="6600ff"/>
                </a:solidFill>
                <a:uFillTx/>
                <a:latin typeface="Times New Roman"/>
              </a:rPr>
              <a:t>帘青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Line 12"/>
          <p:cNvSpPr/>
          <p:nvPr/>
        </p:nvSpPr>
        <p:spPr>
          <a:xfrm>
            <a:off x="2133720" y="1447920"/>
            <a:ext cx="0" cy="1218960"/>
          </a:xfrm>
          <a:prstGeom prst="line">
            <a:avLst/>
          </a:prstGeom>
          <a:ln w="9360">
            <a:solidFill>
              <a:srgbClr val="54547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0" name="Line 13"/>
          <p:cNvSpPr/>
          <p:nvPr/>
        </p:nvSpPr>
        <p:spPr>
          <a:xfrm>
            <a:off x="3124080" y="1600200"/>
            <a:ext cx="0" cy="990720"/>
          </a:xfrm>
          <a:prstGeom prst="line">
            <a:avLst/>
          </a:prstGeom>
          <a:ln w="9360">
            <a:solidFill>
              <a:srgbClr val="54547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4191120" y="1523880"/>
            <a:ext cx="0" cy="1143000"/>
          </a:xfrm>
          <a:prstGeom prst="line">
            <a:avLst/>
          </a:prstGeom>
          <a:ln w="9360">
            <a:solidFill>
              <a:srgbClr val="54547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5355720" y="533412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对偶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2362320" y="3049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Times New Roman"/>
                <a:ea typeface="黑体"/>
              </a:rPr>
              <a:t>练一练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0" y="1523880"/>
            <a:ext cx="876312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1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划线词的意思相同的一项是（      ）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A  a 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有仙则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</a:rPr>
              <a:t>名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    </a:t>
            </a: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b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不能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</a:rPr>
              <a:t>名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其一处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B  a 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惟吾德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</a:rPr>
              <a:t>馨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b 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如兰之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</a:rPr>
              <a:t>馨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C  a 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拍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</a:rPr>
              <a:t>案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而起     </a:t>
            </a: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b 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无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</a:rPr>
              <a:t>案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牍之劳形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D  a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无案牍之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</a:rPr>
              <a:t>劳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形   </a:t>
            </a:r>
            <a:r>
              <a:rPr b="1" lang="en-US" sz="4000" spc="-1" strike="noStrike">
                <a:solidFill>
                  <a:srgbClr val="545472"/>
                </a:solidFill>
                <a:latin typeface="Times New Roman"/>
              </a:rPr>
              <a:t>b  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我们在</a:t>
            </a:r>
            <a:r>
              <a:rPr b="1" lang="zh-CN" sz="4000" spc="-1" strike="noStrike" u="sng">
                <a:solidFill>
                  <a:srgbClr val="545472"/>
                </a:solidFill>
                <a:uFillTx/>
                <a:latin typeface="Times New Roman"/>
              </a:rPr>
              <a:t>劳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</a:rPr>
              <a:t>动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7012080" y="137160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0" y="4267080"/>
            <a:ext cx="8915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4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在物质生活日益丰富的今天，你如何看待本文作者所表达的“惟吾德馨”的道德情操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0" y="25909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3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完成下面的对偶创作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上句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 ：品千古美文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下句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：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0" y="22860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2 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用文中的语句填空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“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陋室不陋”的原因是                  ，与“陋室”主人交往的人都是</a:t>
            </a:r>
            <a:r>
              <a:rPr b="0" lang="zh-CN" sz="4000" spc="-1" strike="noStrike">
                <a:solidFill>
                  <a:srgbClr val="545472"/>
                </a:solidFill>
                <a:latin typeface="Times New Roman"/>
              </a:rPr>
              <a:t>            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5125320" y="1143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惟吾德馨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5238720" y="17524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鸿儒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66"/>
                </a:solidFill>
                <a:latin typeface="Tahoma"/>
              </a:rPr>
              <a:t>使用规范说明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595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45472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5"/>
          <p:cNvSpPr/>
          <p:nvPr/>
        </p:nvSpPr>
        <p:spPr>
          <a:xfrm>
            <a:off x="457200" y="9144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133720" y="1981080"/>
            <a:ext cx="472428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明月松间照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清泉石上流</a:t>
            </a:r>
            <a:endParaRPr b="0" lang="en-US" sz="6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380880" y="53352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根据诗句，想象一种情境。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0" y="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en-US" sz="6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  </a:t>
            </a:r>
            <a:r>
              <a:rPr b="1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铭</a:t>
            </a:r>
            <a:r>
              <a:rPr b="0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古代刻在器物上用来警戒自己或者称述功德的文字，叫做“铭”，后来就成为一种文体。这种文体一般都是用韵的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143000" y="320040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座右铭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3886200" y="3352680"/>
            <a:ext cx="5029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写出来放在座位旁边的格言。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2590920" y="304920"/>
            <a:ext cx="35208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ff"/>
                </a:solidFill>
                <a:latin typeface="Times New Roman"/>
                <a:ea typeface="隶书"/>
              </a:rPr>
              <a:t>作者简介</a:t>
            </a:r>
            <a:r>
              <a:rPr b="1" lang="zh-CN" sz="2400" spc="-1" strike="noStrike">
                <a:solidFill>
                  <a:srgbClr val="6600ff"/>
                </a:solidFill>
                <a:latin typeface="Times New Roman"/>
                <a:ea typeface="隶书"/>
              </a:rPr>
              <a:t>：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609480" y="1523880"/>
            <a:ext cx="8001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刘禹锡（</a:t>
            </a:r>
            <a:r>
              <a:rPr b="1" lang="en-US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772—842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），字梦得，唐代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洛阳（现在属河南省）人，著名诗人。唐顺宗时，曾参加王叔文集团的政治革新运动，不久失败，被贬为朗州司马。后又连任连州、夔州、和州等地刺史。晚年回洛阳任太子宾客，世称刘宾客。作品有</a:t>
            </a:r>
            <a:r>
              <a:rPr b="1" lang="en-US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《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刘宾客集</a:t>
            </a:r>
            <a:r>
              <a:rPr b="1" lang="en-US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》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zoom dir="in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8467560" y="182520"/>
            <a:ext cx="549360" cy="66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7784280" y="678240"/>
            <a:ext cx="1399320" cy="42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陋室铭</a:t>
            </a:r>
            <a:endParaRPr b="0" lang="en-US" sz="8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157680" y="685800"/>
            <a:ext cx="688464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山不在高，有仙则名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水不在深，有龙则灵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斯是陋室，惟吾德馨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苔痕上阶绿，草色入帘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青。谈笑有鸿儒，往来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无白丁。可以调素琴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阅金经。无丝竹之乱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耳，无案牍之劳形。南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阳诸葛庐，西蜀子云亭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孔子云：何陋之有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7089840" y="3291120"/>
            <a:ext cx="1003320" cy="28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Times New Roman"/>
                <a:ea typeface="隶书"/>
              </a:rPr>
              <a:t>刘禹锡</a:t>
            </a:r>
            <a:endParaRPr b="0" lang="en-US" sz="5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4" name="AutoShape 15"/>
          <p:cNvSpPr/>
          <p:nvPr/>
        </p:nvSpPr>
        <p:spPr>
          <a:xfrm>
            <a:off x="7696080" y="6095880"/>
            <a:ext cx="1067040" cy="762120"/>
          </a:xfrm>
          <a:custGeom>
            <a:avLst/>
            <a:gdLst>
              <a:gd name="textAreaLeft" fmla="*/ 47520 w 1067040"/>
              <a:gd name="textAreaRight" fmla="*/ 1019520 w 106704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88" y="1350"/>
                </a:lnTo>
                <a:lnTo>
                  <a:pt x="1350" y="135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88" y="20250"/>
                </a:lnTo>
                <a:lnTo>
                  <a:pt x="28888" y="135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8888" y="2025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0238" h="21600">
                <a:moveTo>
                  <a:pt x="8075" y="8394"/>
                </a:moveTo>
                <a:lnTo>
                  <a:pt x="12529" y="8394"/>
                </a:lnTo>
                <a:lnTo>
                  <a:pt x="16974" y="3756"/>
                </a:lnTo>
                <a:lnTo>
                  <a:pt x="16974" y="17844"/>
                </a:lnTo>
                <a:lnTo>
                  <a:pt x="12529" y="13206"/>
                </a:lnTo>
                <a:lnTo>
                  <a:pt x="8075" y="13206"/>
                </a:lnTo>
                <a:close/>
              </a:path>
              <a:path fill="darken" w="30238" h="21600">
                <a:moveTo>
                  <a:pt x="18636" y="10800"/>
                </a:moveTo>
                <a:lnTo>
                  <a:pt x="22163" y="10800"/>
                </a:lnTo>
              </a:path>
              <a:path fill="darken" w="30238" h="21600">
                <a:moveTo>
                  <a:pt x="18636" y="8394"/>
                </a:moveTo>
                <a:lnTo>
                  <a:pt x="22163" y="5611"/>
                </a:lnTo>
              </a:path>
              <a:path fill="darken" w="30238" h="21600">
                <a:moveTo>
                  <a:pt x="18636" y="13206"/>
                </a:moveTo>
                <a:lnTo>
                  <a:pt x="22163" y="15989"/>
                </a:lnTo>
              </a:path>
            </a:pathLst>
          </a:custGeom>
          <a:solidFill>
            <a:srgbClr val="ffff66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228600" y="76212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一  解释下列词语</a:t>
            </a:r>
            <a:r>
              <a:rPr b="0" lang="zh-CN" sz="4800" spc="-1" strike="noStrike">
                <a:solidFill>
                  <a:srgbClr val="545472"/>
                </a:solidFill>
                <a:latin typeface="Times New Roman"/>
              </a:rPr>
              <a:t>：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533520" y="1676520"/>
            <a:ext cx="518148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名：              馨 ：  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鸿儒：                   案牍 ：   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劳形：  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1447920" y="16765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著名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4114800" y="167652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香气，这里指品德高尚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1752480" y="2514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博学的人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5410080" y="25146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官府的公文</a:t>
            </a:r>
            <a:r>
              <a:rPr b="1" lang="zh-CN" sz="2400" spc="-1" strike="noStrike">
                <a:solidFill>
                  <a:srgbClr val="545472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322360" y="3276720"/>
            <a:ext cx="15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使身体劳累</a:t>
            </a:r>
            <a:r>
              <a:rPr b="0" lang="zh-CN" sz="2400" spc="-1" strike="noStrike">
                <a:solidFill>
                  <a:srgbClr val="545472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1253520" y="3962520"/>
            <a:ext cx="319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</a:rPr>
              <a:t>二 翻译下面句子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914400" y="4800600"/>
            <a:ext cx="44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1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斯是陋室，惟吾德馨</a:t>
            </a:r>
            <a:r>
              <a:rPr b="0" lang="zh-CN" sz="3200" spc="-1" strike="noStrike">
                <a:solidFill>
                  <a:srgbClr val="545472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914400" y="579132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45472"/>
                </a:solidFill>
                <a:latin typeface="Times New Roman"/>
              </a:rPr>
              <a:t>2 </a:t>
            </a:r>
            <a:r>
              <a:rPr b="1" lang="zh-CN" sz="3200" spc="-1" strike="noStrike">
                <a:solidFill>
                  <a:srgbClr val="545472"/>
                </a:solidFill>
                <a:latin typeface="Times New Roman"/>
              </a:rPr>
              <a:t>何陋之有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228600" y="68580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山（仙</a:t>
            </a:r>
            <a:r>
              <a:rPr b="1" lang="en-US" sz="4400" spc="-1" strike="noStrike">
                <a:solidFill>
                  <a:srgbClr val="545472"/>
                </a:solidFill>
                <a:latin typeface="Times New Roman"/>
              </a:rPr>
              <a:t>)  </a:t>
            </a: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名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228600" y="16002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水（龙）灵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7" name="Text Box 6"/>
          <p:cNvSpPr/>
          <p:nvPr/>
        </p:nvSpPr>
        <p:spPr>
          <a:xfrm>
            <a:off x="3962520" y="1219320"/>
            <a:ext cx="3809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陋室（          ）</a:t>
            </a:r>
            <a:r>
              <a:rPr b="0" lang="en-US" sz="4400" spc="-1" strike="noStrike">
                <a:solidFill>
                  <a:srgbClr val="545472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28600" y="3124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景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1066680" y="3124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人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1828800" y="3124080"/>
            <a:ext cx="914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事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1" name="Text Box 15"/>
          <p:cNvSpPr/>
          <p:nvPr/>
        </p:nvSpPr>
        <p:spPr>
          <a:xfrm>
            <a:off x="228600" y="4267080"/>
            <a:ext cx="27432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诸葛庐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子云亭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2" name="AutoShape 16"/>
          <p:cNvSpPr/>
          <p:nvPr/>
        </p:nvSpPr>
        <p:spPr>
          <a:xfrm>
            <a:off x="1981080" y="4724280"/>
            <a:ext cx="76320" cy="990720"/>
          </a:xfrm>
          <a:custGeom>
            <a:avLst/>
            <a:gdLst>
              <a:gd name="textAreaLeft" fmla="*/ 0 w 76320"/>
              <a:gd name="textAreaRight" fmla="*/ 2736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3124080" y="487692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以古人自比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4" name="Line 20"/>
          <p:cNvSpPr/>
          <p:nvPr/>
        </p:nvSpPr>
        <p:spPr>
          <a:xfrm>
            <a:off x="3352680" y="1523880"/>
            <a:ext cx="76212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5" name="AutoShape 21"/>
          <p:cNvSpPr/>
          <p:nvPr/>
        </p:nvSpPr>
        <p:spPr>
          <a:xfrm>
            <a:off x="3200400" y="99072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4724280" y="1905120"/>
            <a:ext cx="0" cy="12189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7" name="Line 23"/>
          <p:cNvSpPr/>
          <p:nvPr/>
        </p:nvSpPr>
        <p:spPr>
          <a:xfrm>
            <a:off x="2133720" y="5257800"/>
            <a:ext cx="114300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8" name="Line 24"/>
          <p:cNvSpPr/>
          <p:nvPr/>
        </p:nvSpPr>
        <p:spPr>
          <a:xfrm flipV="1">
            <a:off x="4648320" y="3809880"/>
            <a:ext cx="0" cy="106704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79" name="Rectangle 27"/>
          <p:cNvSpPr/>
          <p:nvPr/>
        </p:nvSpPr>
        <p:spPr>
          <a:xfrm>
            <a:off x="4339080" y="32004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不陋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0" name="Line 28"/>
          <p:cNvSpPr/>
          <p:nvPr/>
        </p:nvSpPr>
        <p:spPr>
          <a:xfrm>
            <a:off x="2590920" y="3505320"/>
            <a:ext cx="1447560" cy="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5875560" y="10666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德馨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2" name="Text Box 31"/>
          <p:cNvSpPr/>
          <p:nvPr/>
        </p:nvSpPr>
        <p:spPr>
          <a:xfrm>
            <a:off x="6557040" y="1447920"/>
            <a:ext cx="2009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Times New Roman"/>
                <a:ea typeface="黑体"/>
              </a:rPr>
              <a:t>托 物 言 志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6453360"/>
            <a:ext cx="61833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595ff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2000" spc="-1" strike="noStrike">
                <a:solidFill>
                  <a:srgbClr val="545472"/>
                </a:solidFill>
                <a:latin typeface="Times New Roman"/>
              </a:rPr>
              <a:t>http://www.eeppt.com/moban/kejian/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85" name="Picture 9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"/>
          <p:cNvSpPr/>
          <p:nvPr/>
        </p:nvSpPr>
        <p:spPr>
          <a:xfrm>
            <a:off x="5410080" y="0"/>
            <a:ext cx="251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方正姚体"/>
              </a:rPr>
              <a:t>想一想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3962520" y="1066680"/>
            <a:ext cx="5181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作者写陋室不陋，表达了怎样的思想感情</a:t>
            </a:r>
            <a:r>
              <a:rPr b="0" lang="zh-CN" sz="4000" spc="-1" strike="noStrike">
                <a:solidFill>
                  <a:srgbClr val="545472"/>
                </a:solidFill>
                <a:latin typeface="Times New Roman"/>
                <a:ea typeface="楷体_GB2312"/>
              </a:rPr>
              <a:t>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3962520" y="342900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通过对居室的描绘，极力形容陋室不陋，表达了一种</a:t>
            </a:r>
            <a:r>
              <a:rPr b="1" lang="zh-CN" sz="4000" spc="-1" strike="noStrike">
                <a:solidFill>
                  <a:srgbClr val="ff3399"/>
                </a:solidFill>
                <a:latin typeface="Times New Roman"/>
                <a:ea typeface="黑体"/>
              </a:rPr>
              <a:t>高洁傲岸的节操和安贫乐道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的情趣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1584360" y="360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80880" y="60948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铭</a:t>
            </a:r>
            <a:r>
              <a:rPr b="1" lang="zh-CN" sz="4800" spc="-1" strike="noStrike">
                <a:solidFill>
                  <a:srgbClr val="545472"/>
                </a:solidFill>
                <a:latin typeface="Times New Roman"/>
                <a:ea typeface="隶书"/>
              </a:rPr>
              <a:t>”是古代的一种文体，这种文体一般都是             的。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495680" y="1600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4267080" y="129528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黑体"/>
              </a:rPr>
              <a:t>用韵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57200" y="228600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请在课文中划出押韵的字，想一想，这些字的韵母都是</a:t>
            </a:r>
            <a:r>
              <a:rPr b="1" lang="en-US" sz="4400" spc="-1" strike="noStrike">
                <a:solidFill>
                  <a:srgbClr val="545472"/>
                </a:solidFill>
                <a:latin typeface="Times New Roman"/>
              </a:rPr>
              <a:t>------</a:t>
            </a:r>
            <a:r>
              <a:rPr b="1" lang="zh-CN" sz="4400" spc="-1" strike="noStrike">
                <a:solidFill>
                  <a:srgbClr val="545472"/>
                </a:solidFill>
                <a:latin typeface="Times New Roman"/>
              </a:rPr>
              <a:t>。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80880" y="41148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Times New Roman"/>
              </a:rPr>
              <a:t>名  灵   馨  青  丁  经   形  亭</a:t>
            </a:r>
            <a:r>
              <a:rPr b="1" lang="en-US" sz="4400" spc="-1" strike="noStrike">
                <a:solidFill>
                  <a:srgbClr val="545472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685800" y="5257800"/>
            <a:ext cx="2133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Verdana"/>
              </a:rPr>
              <a:t>ing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4T01:43:18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24:49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