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2.png" ContentType="image/png"/>
  <Override PartName="/ppt/media/image6.png" ContentType="image/png"/>
  <Override PartName="/ppt/media/image3.gif" ContentType="image/gif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B41-5FAA-407E-B3A8-0B114954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85D-4751-4B1E-96D8-6F2ECFE8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A92-BD5B-4D20-A0B7-FA768EE4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97E-21B8-4DC3-A172-A800989C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8FEA-10DA-477B-9702-42849FC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1EE5-EAC1-4D32-AAAF-1D0E2FE1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FBFB-AD5F-40B3-87E7-F2425C3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CB61-92B7-49F3-9B41-04DA428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136-F522-4866-87DC-7555AFD8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4D9B-0DAD-4E8E-B80A-246D9F86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D58D-120C-424F-BDE6-6AD319B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F41-9710-4D6D-A55B-AE82E6B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D593-28EA-44E3-8071-4E5BB1E7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1CDE-7103-40CB-AEAF-257901A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9C6C-49F4-4A60-8CDD-9712A81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A9D7-5E28-48D9-9E88-8DCF30E0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954-1B63-41F3-89F4-9FD0FDE7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524-D8E3-4011-9CD7-EB4887D2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2C0-58CB-4D5C-A466-AEF5775D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C1E-55EA-4441-BECE-3539CC68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EA5-BC10-4FFB-B620-F2884CE9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BCA-1381-42CA-9A8E-71FEE47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D84-7278-4A86-8E17-05CA326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869-4D3F-48CB-9209-C7586EC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FF5-8F4D-4026-B115-1E3FF4D6B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8142-1EE1-4A38-9569-F906709F34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A15-0277-4141-99F8-0D0069AE83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"/>
          <p:cNvGrpSpPr/>
          <p:nvPr/>
        </p:nvGrpSpPr>
        <p:grpSpPr>
          <a:xfrm>
            <a:off x="838080" y="1447920"/>
            <a:ext cx="6553080" cy="2286000"/>
            <a:chOff x="838080" y="1447920"/>
            <a:chExt cx="6553080" cy="2286000"/>
          </a:xfrm>
        </p:grpSpPr>
        <p:sp>
          <p:nvSpPr>
            <p:cNvPr id="83" name="WordArt 3"/>
            <p:cNvSpPr txBox="1"/>
            <p:nvPr/>
          </p:nvSpPr>
          <p:spPr>
            <a:xfrm>
              <a:off x="2514600" y="1447920"/>
              <a:ext cx="487656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6480">
                    <a:solidFill>
                      <a:srgbClr val="ffff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蜜蜂引路</a:t>
              </a:r>
              <a:endParaRPr b="0" lang="en-US" sz="24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84" name="Picture 4" descr="G:\素材\课件素材\课件动画素材\动物类\昆虫类\A2_090.gif"/>
            <p:cNvPicPr/>
            <p:nvPr/>
          </p:nvPicPr>
          <p:blipFill>
            <a:blip r:embed="rId4"/>
            <a:stretch/>
          </p:blipFill>
          <p:spPr>
            <a:xfrm>
              <a:off x="1828800" y="2438640"/>
              <a:ext cx="1447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G:\素材\课件素材\课件动画素材\动物类\昆虫类\A2_090.gif"/>
            <p:cNvPicPr/>
            <p:nvPr/>
          </p:nvPicPr>
          <p:blipFill>
            <a:blip r:embed="rId5"/>
            <a:stretch/>
          </p:blipFill>
          <p:spPr>
            <a:xfrm>
              <a:off x="838080" y="1600200"/>
              <a:ext cx="6094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G:\素材\课件素材\课件动画素材\动物类\昆虫类\A2_090.gif"/>
            <p:cNvPicPr/>
            <p:nvPr/>
          </p:nvPicPr>
          <p:blipFill>
            <a:blip r:embed="rId6"/>
            <a:stretch/>
          </p:blipFill>
          <p:spPr>
            <a:xfrm>
              <a:off x="1066680" y="1905120"/>
              <a:ext cx="7621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G:\素材\课件素材\课件动画素材\动物类\昆虫类\A2_090.gif"/>
            <p:cNvPicPr/>
            <p:nvPr/>
          </p:nvPicPr>
          <p:blipFill>
            <a:blip r:embed="rId7"/>
            <a:stretch/>
          </p:blipFill>
          <p:spPr>
            <a:xfrm>
              <a:off x="1371600" y="2095560"/>
              <a:ext cx="106668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685800" y="914400"/>
            <a:ext cx="7543440" cy="4571640"/>
            <a:chOff x="685800" y="914400"/>
            <a:chExt cx="7543440" cy="4571640"/>
          </a:xfrm>
        </p:grpSpPr>
        <p:sp>
          <p:nvSpPr>
            <p:cNvPr id="146" name="Rectangle 4"/>
            <p:cNvSpPr/>
            <p:nvPr/>
          </p:nvSpPr>
          <p:spPr>
            <a:xfrm>
              <a:off x="685800" y="914400"/>
              <a:ext cx="7543440" cy="45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3311280" y="1154520"/>
              <a:ext cx="2232360" cy="393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列宁一边走一边看，发现路边的花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许多蜜蜂。他仔细观察，只见那些蜜蜂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蜜，飞进附近的一个园子里，园子旁边有一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小房子。列宁走到那所房子跟前，敲了敲门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门的果然是那个养蜂的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Picture 6" descr="G:\素材\课件素材\课件动画素材\动物类\昆虫类\A2_085.gif"/>
          <p:cNvPicPr/>
          <p:nvPr/>
        </p:nvPicPr>
        <p:blipFill>
          <a:blip r:embed="rId2"/>
          <a:stretch/>
        </p:blipFill>
        <p:spPr>
          <a:xfrm>
            <a:off x="5943600" y="4343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7083720" y="1119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236360" y="19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02236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99008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果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6858000" y="16765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4571640" y="1752480"/>
            <a:ext cx="2438280" cy="1219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1980720" y="3276720"/>
            <a:ext cx="205740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4114800" y="335268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914400" y="4267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G:\素材\JPG\PASTELS\ROSE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250720" y="157644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蜜蜂为什么会引路？这跟列宁有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:\素材\课件素材\课件动画素材\动物类\昆虫类\A2_090.gif"/>
          <p:cNvPicPr/>
          <p:nvPr/>
        </p:nvPicPr>
        <p:blipFill>
          <a:blip r:embed="rId2"/>
          <a:stretch/>
        </p:blipFill>
        <p:spPr>
          <a:xfrm>
            <a:off x="1143000" y="1600200"/>
            <a:ext cx="811080" cy="43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:\素材\课件素材\课件动画素材\动物类\昆虫类\A2_090.gif"/>
          <p:cNvPicPr/>
          <p:nvPr/>
        </p:nvPicPr>
        <p:blipFill>
          <a:blip r:embed="rId3"/>
          <a:stretch/>
        </p:blipFill>
        <p:spPr>
          <a:xfrm>
            <a:off x="1143000" y="3048120"/>
            <a:ext cx="811080" cy="434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2434320" y="304812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　　小朋友，以上这些问题解决了吗？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了课文，你的收获一定不少吧，说来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G:\素材\课件素材\课件动画素材\动物类\昆虫类\A2_090.gif"/>
          <p:cNvPicPr/>
          <p:nvPr/>
        </p:nvPicPr>
        <p:blipFill>
          <a:blip r:embed="rId4"/>
          <a:stretch/>
        </p:blipFill>
        <p:spPr>
          <a:xfrm>
            <a:off x="1170000" y="4648320"/>
            <a:ext cx="811080" cy="434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2493000" y="457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还有哪些疑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9"/>
          <p:cNvSpPr txBox="1"/>
          <p:nvPr/>
        </p:nvSpPr>
        <p:spPr>
          <a:xfrm rot="34800">
            <a:off x="3276720" y="53352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6480">
                  <a:solidFill>
                    <a:srgbClr val="ffff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蜜蜂引路</a:t>
            </a:r>
            <a:endParaRPr b="0" lang="en-US" sz="2400" spc="1" strike="noStrike">
              <a:ln w="6480">
                <a:solidFill>
                  <a:srgbClr val="ffff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蜜蜂引路朗读.asf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5486400" cy="43592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3200400" y="228600"/>
            <a:ext cx="2438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课文朗读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108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AutoShape 6">
            <a:hlinkClick r:id="" action="ppaction://hlinkshowjump?jump=endshow"/>
          </p:cNvPr>
          <p:cNvSpPr/>
          <p:nvPr/>
        </p:nvSpPr>
        <p:spPr>
          <a:xfrm>
            <a:off x="8305920" y="5943600"/>
            <a:ext cx="838080" cy="914400"/>
          </a:xfrm>
          <a:custGeom>
            <a:avLst/>
            <a:gdLst>
              <a:gd name="textAreaLeft" fmla="*/ 52200 w 838080"/>
              <a:gd name="textAreaRight" fmla="*/ 785880 w 838080"/>
              <a:gd name="textAreaTop" fmla="*/ 52200 h 914400"/>
              <a:gd name="textAreaBottom" fmla="*/ 8622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50" y="22216"/>
                </a:lnTo>
                <a:lnTo>
                  <a:pt x="20250" y="135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350" y="22216"/>
                </a:lnTo>
                <a:lnTo>
                  <a:pt x="20250" y="2221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350" y="1350"/>
                </a:lnTo>
                <a:lnTo>
                  <a:pt x="1350" y="22216"/>
                </a:lnTo>
                <a:close/>
              </a:path>
              <a:path fill="darken" w="21600" h="23566">
                <a:moveTo>
                  <a:pt x="10800" y="4783"/>
                </a:moveTo>
                <a:lnTo>
                  <a:pt x="13390" y="7408"/>
                </a:lnTo>
                <a:lnTo>
                  <a:pt x="13390" y="5658"/>
                </a:lnTo>
                <a:lnTo>
                  <a:pt x="15175" y="5658"/>
                </a:lnTo>
                <a:lnTo>
                  <a:pt x="15175" y="9193"/>
                </a:lnTo>
                <a:lnTo>
                  <a:pt x="17800" y="11783"/>
                </a:lnTo>
                <a:lnTo>
                  <a:pt x="16138" y="11783"/>
                </a:lnTo>
                <a:lnTo>
                  <a:pt x="16138" y="19011"/>
                </a:lnTo>
                <a:lnTo>
                  <a:pt x="5463" y="19011"/>
                </a:lnTo>
                <a:lnTo>
                  <a:pt x="5463" y="11783"/>
                </a:lnTo>
                <a:lnTo>
                  <a:pt x="3800" y="11783"/>
                </a:lnTo>
                <a:close/>
              </a:path>
              <a:path fill="darkenLess" w="21600" h="23566">
                <a:moveTo>
                  <a:pt x="13390" y="7408"/>
                </a:moveTo>
                <a:lnTo>
                  <a:pt x="13390" y="5658"/>
                </a:lnTo>
                <a:lnTo>
                  <a:pt x="15175" y="5658"/>
                </a:lnTo>
                <a:lnTo>
                  <a:pt x="15175" y="9193"/>
                </a:lnTo>
                <a:close/>
              </a:path>
              <a:path fill="darkenLess" w="21600" h="23566">
                <a:moveTo>
                  <a:pt x="9873" y="15301"/>
                </a:moveTo>
                <a:lnTo>
                  <a:pt x="11728" y="15301"/>
                </a:lnTo>
                <a:lnTo>
                  <a:pt x="11728" y="19011"/>
                </a:lnTo>
                <a:lnTo>
                  <a:pt x="16138" y="19011"/>
                </a:lnTo>
                <a:lnTo>
                  <a:pt x="16138" y="11783"/>
                </a:lnTo>
                <a:lnTo>
                  <a:pt x="5463" y="11783"/>
                </a:lnTo>
                <a:lnTo>
                  <a:pt x="5463" y="19011"/>
                </a:lnTo>
                <a:lnTo>
                  <a:pt x="9873" y="19011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49040" y="1600200"/>
            <a:ext cx="6252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列宁     谈天     亲自     利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蜜蜂　 采蜜     引路     附近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果然     惊讶     养蜂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3352680" y="533520"/>
            <a:ext cx="2133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读 一 读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74720" y="1447920"/>
            <a:ext cx="51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蜜蜂为什么会引路？这跟列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什么关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G:\素材\课件素材\课件动画素材\动物类\昆虫类\A2_090.gif"/>
          <p:cNvPicPr/>
          <p:nvPr/>
        </p:nvPicPr>
        <p:blipFill>
          <a:blip r:embed="rId2"/>
          <a:stretch/>
        </p:blipFill>
        <p:spPr>
          <a:xfrm>
            <a:off x="1474920" y="1600200"/>
            <a:ext cx="811080" cy="43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G:\素材\课件素材\课件动画素材\动物类\昆虫类\A2_090.gif"/>
          <p:cNvPicPr/>
          <p:nvPr/>
        </p:nvPicPr>
        <p:blipFill>
          <a:blip r:embed="rId3"/>
          <a:stretch/>
        </p:blipFill>
        <p:spPr>
          <a:xfrm>
            <a:off x="1795320" y="3276720"/>
            <a:ext cx="811440" cy="434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855520" y="327672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　　请你带着这些问题到课文第２～４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然段去找找答案，看看谁的收获最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838080" y="990720"/>
            <a:ext cx="7391520" cy="3809880"/>
            <a:chOff x="838080" y="990720"/>
            <a:chExt cx="7391520" cy="3809880"/>
          </a:xfrm>
        </p:grpSpPr>
        <p:sp>
          <p:nvSpPr>
            <p:cNvPr id="96" name="Rectangle 4"/>
            <p:cNvSpPr/>
            <p:nvPr/>
          </p:nvSpPr>
          <p:spPr>
            <a:xfrm>
              <a:off x="838080" y="990720"/>
              <a:ext cx="739152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ffcc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3772440" y="1143000"/>
              <a:ext cx="1501920" cy="350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一回，列宁想请那个人谈谈怎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养蜂。可是往常派去找他的人到莫斯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去了，别人都不知道他住在哪里。列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知道养蜂人住得不远，就亲自去找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6"/>
          <p:cNvSpPr/>
          <p:nvPr/>
        </p:nvSpPr>
        <p:spPr>
          <a:xfrm>
            <a:off x="5575680" y="4068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亲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35080" y="2087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G:\素材\课件素材\课件图片素材\卡通图案\N_179.bmp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1523880" y="5029200"/>
            <a:ext cx="5715000" cy="762120"/>
          </a:xfrm>
          <a:prstGeom prst="roundRect">
            <a:avLst>
              <a:gd name="adj" fmla="val 23440"/>
            </a:avLst>
          </a:prstGeom>
          <a:gradFill rotWithShape="0">
            <a:gsLst>
              <a:gs pos="0">
                <a:srgbClr val="3399ff"/>
              </a:gs>
              <a:gs pos="50000">
                <a:srgbClr val="ffffcc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…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G:\素材\JPG\PASTELS\ROSE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685800" y="914400"/>
            <a:ext cx="7543440" cy="4571640"/>
            <a:chOff x="685800" y="914400"/>
            <a:chExt cx="7543440" cy="4571640"/>
          </a:xfrm>
        </p:grpSpPr>
        <p:sp>
          <p:nvSpPr>
            <p:cNvPr id="104" name="Rectangle 4"/>
            <p:cNvSpPr/>
            <p:nvPr/>
          </p:nvSpPr>
          <p:spPr>
            <a:xfrm>
              <a:off x="685800" y="914400"/>
              <a:ext cx="7543440" cy="45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3311280" y="1154520"/>
              <a:ext cx="2232360" cy="393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列宁一边走一边看，发现路边的花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许多蜜蜂。他仔细观察，只见那些蜜蜂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蜜，飞进附近的一个园子里，园子旁边有一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小房子。列宁走到那所房子跟前，敲了敲门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门的果然是那个养蜂的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Picture 6" descr="G:\素材\课件素材\课件动画素材\动物类\昆虫类\A2_085.gif"/>
          <p:cNvPicPr/>
          <p:nvPr/>
        </p:nvPicPr>
        <p:blipFill>
          <a:blip r:embed="rId2"/>
          <a:stretch/>
        </p:blipFill>
        <p:spPr>
          <a:xfrm>
            <a:off x="5943600" y="4343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7083720" y="1119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236360" y="19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03820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发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99008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果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5257800" y="304920"/>
            <a:ext cx="1828800" cy="609480"/>
          </a:xfrm>
          <a:prstGeom prst="wedgeEllipseCallout">
            <a:avLst>
              <a:gd name="adj1" fmla="val -44532"/>
              <a:gd name="adj2" fmla="val 95050"/>
            </a:avLst>
          </a:prstGeom>
          <a:gradFill rotWithShape="0">
            <a:gsLst>
              <a:gs pos="0">
                <a:srgbClr val="66ccff"/>
              </a:gs>
              <a:gs pos="50000">
                <a:srgbClr val="effa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看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G:\素材\JPG\PASTELS\ROSE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1066680" y="1066680"/>
            <a:ext cx="7010640" cy="4114440"/>
            <a:chOff x="1066680" y="1066680"/>
            <a:chExt cx="7010640" cy="4114440"/>
          </a:xfrm>
        </p:grpSpPr>
        <p:sp>
          <p:nvSpPr>
            <p:cNvPr id="114" name="Rectangle 4"/>
            <p:cNvSpPr/>
            <p:nvPr/>
          </p:nvSpPr>
          <p:spPr>
            <a:xfrm>
              <a:off x="1066680" y="1066680"/>
              <a:ext cx="7010640" cy="411444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2290680" y="1230840"/>
              <a:ext cx="4509000" cy="350604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养蜂的人看见列宁，惊讶地说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您好，列宁同志。是谁把您领到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儿来的？”列宁笑着说：“我有向导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您的蜜蜂把我领到这儿来的。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Picture 6" descr="G:\素材\课件素材\课件图片素材\卡通图案\N_125.bmp"/>
          <p:cNvPicPr/>
          <p:nvPr/>
        </p:nvPicPr>
        <p:blipFill>
          <a:blip r:embed="rId2"/>
          <a:stretch/>
        </p:blipFill>
        <p:spPr>
          <a:xfrm>
            <a:off x="990720" y="838080"/>
            <a:ext cx="1050840" cy="1079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587124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惊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566400" y="3154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向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1295280" y="2819520"/>
            <a:ext cx="6248520" cy="914400"/>
            <a:chOff x="1295280" y="2819520"/>
            <a:chExt cx="6248520" cy="914400"/>
          </a:xfrm>
        </p:grpSpPr>
        <p:sp>
          <p:nvSpPr>
            <p:cNvPr id="120" name="Line 10"/>
            <p:cNvSpPr/>
            <p:nvPr/>
          </p:nvSpPr>
          <p:spPr>
            <a:xfrm>
              <a:off x="4724280" y="2819520"/>
              <a:ext cx="2819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1295280" y="3733920"/>
              <a:ext cx="1371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5562720" y="4038480"/>
            <a:ext cx="3581280" cy="2819520"/>
          </a:xfrm>
          <a:custGeom>
            <a:avLst/>
            <a:gdLst>
              <a:gd name="textAreaLeft" fmla="*/ 176040 w 3581280"/>
              <a:gd name="textAreaRight" fmla="*/ 3405240 w 3581280"/>
              <a:gd name="textAreaTop" fmla="*/ 176040 h 2819520"/>
              <a:gd name="textAreaBottom" fmla="*/ 2643480 h 2819520"/>
            </a:gdLst>
            <a:ahLst/>
            <a:rect l="textAreaLeft" t="textAreaTop" r="textAreaRight" b="textAreaBottom"/>
            <a:pathLst>
              <a:path w="27435" h="21600">
                <a:moveTo>
                  <a:pt x="0" y="0"/>
                </a:moveTo>
                <a:lnTo>
                  <a:pt x="27435" y="0"/>
                </a:lnTo>
                <a:lnTo>
                  <a:pt x="27435" y="21600"/>
                </a:lnTo>
                <a:lnTo>
                  <a:pt x="0" y="21600"/>
                </a:lnTo>
                <a:close/>
              </a:path>
              <a:path fill="lightenLess" w="27435" h="21600">
                <a:moveTo>
                  <a:pt x="0" y="0"/>
                </a:moveTo>
                <a:lnTo>
                  <a:pt x="27435" y="0"/>
                </a:lnTo>
                <a:lnTo>
                  <a:pt x="26085" y="1350"/>
                </a:lnTo>
                <a:lnTo>
                  <a:pt x="1350" y="1350"/>
                </a:lnTo>
                <a:close/>
              </a:path>
              <a:path fill="darken" w="27435" h="21600">
                <a:moveTo>
                  <a:pt x="27435" y="0"/>
                </a:moveTo>
                <a:lnTo>
                  <a:pt x="27435" y="21600"/>
                </a:lnTo>
                <a:lnTo>
                  <a:pt x="26085" y="20250"/>
                </a:lnTo>
                <a:lnTo>
                  <a:pt x="26085" y="1350"/>
                </a:lnTo>
                <a:close/>
              </a:path>
              <a:path fill="darkenLess" w="27435" h="21600">
                <a:moveTo>
                  <a:pt x="2743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085" y="20250"/>
                </a:lnTo>
                <a:close/>
              </a:path>
              <a:path fill="lighten" w="2743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438280" y="1828800"/>
            <a:ext cx="39625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438280" y="3733920"/>
            <a:ext cx="39625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V="1">
            <a:off x="4419720" y="1828800"/>
            <a:ext cx="0" cy="38116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326400" y="17524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派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44720" y="654120"/>
            <a:ext cx="130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G:\素材\课件素材\课件图片素材\卡通图案\N_178.bmp"/>
          <p:cNvPicPr/>
          <p:nvPr/>
        </p:nvPicPr>
        <p:blipFill>
          <a:blip r:embed="rId2"/>
          <a:stretch/>
        </p:blipFill>
        <p:spPr>
          <a:xfrm>
            <a:off x="6019920" y="685800"/>
            <a:ext cx="1323720" cy="1447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990720" y="1828800"/>
            <a:ext cx="396216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990720" y="3733920"/>
            <a:ext cx="396216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2971800" y="1828800"/>
            <a:ext cx="0" cy="38116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878480" y="17524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丛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023560" y="654120"/>
            <a:ext cx="192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G:\素材\课件素材\课件图片素材\卡通图案\N_178.bmp"/>
          <p:cNvPicPr/>
          <p:nvPr/>
        </p:nvPicPr>
        <p:blipFill>
          <a:blip r:embed="rId2"/>
          <a:stretch/>
        </p:blipFill>
        <p:spPr>
          <a:xfrm>
            <a:off x="4648320" y="762120"/>
            <a:ext cx="1323720" cy="1447560"/>
          </a:xfrm>
          <a:prstGeom prst="rect">
            <a:avLst/>
          </a:prstGeom>
          <a:ln w="0">
            <a:noFill/>
          </a:ln>
        </p:spPr>
      </p:pic>
      <p:sp>
        <p:nvSpPr>
          <p:cNvPr id="137" name="Oval 9"/>
          <p:cNvSpPr/>
          <p:nvPr/>
        </p:nvSpPr>
        <p:spPr>
          <a:xfrm>
            <a:off x="6019920" y="1676520"/>
            <a:ext cx="2286000" cy="13716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花　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G:\素材\Best Wallpapers\风景迷人\flowers(1).jpg"/>
          <p:cNvPicPr/>
          <p:nvPr/>
        </p:nvPicPr>
        <p:blipFill>
          <a:blip r:embed="rId3"/>
          <a:stretch/>
        </p:blipFill>
        <p:spPr>
          <a:xfrm>
            <a:off x="5715000" y="3276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G:\素材\JPG\PASTELS\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762120" y="914400"/>
            <a:ext cx="7619400" cy="4266720"/>
            <a:chOff x="762120" y="914400"/>
            <a:chExt cx="7619400" cy="4266720"/>
          </a:xfrm>
        </p:grpSpPr>
        <p:sp>
          <p:nvSpPr>
            <p:cNvPr id="141" name="Rectangle 4"/>
            <p:cNvSpPr/>
            <p:nvPr/>
          </p:nvSpPr>
          <p:spPr>
            <a:xfrm>
              <a:off x="762120" y="914400"/>
              <a:ext cx="7619400" cy="4266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840600" y="1114920"/>
              <a:ext cx="183240" cy="5191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6"/>
          <p:cNvSpPr/>
          <p:nvPr/>
        </p:nvSpPr>
        <p:spPr>
          <a:xfrm>
            <a:off x="1716120" y="1447920"/>
            <a:ext cx="592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列宁发现路边的花丛里有（　　），他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蜜蜂采了蜜要飞回（        ），而（          ）往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在蜂房附近，只要我（                                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能找到（　　　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5:16:1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