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6E4-0DD1-4FF0-B1C4-933B1324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01D-992B-414D-8A96-D1BF1F85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124-C065-4FDB-A422-9566B833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975-F944-4DB0-8E3D-39520665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D9CE-8CAF-4928-A8E0-ECBDF650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F98-A275-45DF-ACC1-E4ECFC91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90F-43C4-4BC7-8629-486A447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51C9-EA13-43CF-9DCD-14DA5D94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902-9383-4B22-A6F2-FB70041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65B7-CF39-4D69-B072-960BD5D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DF3-A944-4BAB-9AFA-57F3515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681-EC8C-4A8B-BF98-BE362CF0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D659-989C-4B86-B33C-0F431FB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7C81-1868-4EE5-B518-6AC6D0E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01B-2A76-4D35-B579-0B2E672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A4B-79B7-476D-BB6C-C0B6CD32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928-6199-40B5-9C9C-29C114D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C42-20CB-4705-A10F-632D9B3C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E39-ADAB-4168-9632-B79E02C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AC0-D00B-4256-9B50-5F7D56B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58E-9985-483A-80CA-F1301C6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FE5-0AD0-4174-BC79-66E91441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352-8E5D-4FA7-ADF8-DCC7E1D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EBD-1870-4F55-B4FF-EF50113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8BC-8C7B-4842-AB24-30E1DF50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62CB-9A35-4CD6-8A38-B178EF3E7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4" descr="W020080214611884685532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0" y="2588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有一片美丽的绿洲，绿洲里藏着一颗闪光的珍珠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4920" y="7779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颗珍珠就是敦煌莫高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009621939"/>
          <p:cNvPicPr/>
          <p:nvPr/>
        </p:nvPicPr>
        <p:blipFill>
          <a:blip r:embed="rId2"/>
          <a:stretch/>
        </p:blipFill>
        <p:spPr>
          <a:xfrm>
            <a:off x="0" y="109872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79280" y="3333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有的是描绘古代劳动人民打猎、捕鱼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0096219347"/>
          <p:cNvPicPr/>
          <p:nvPr/>
        </p:nvPicPr>
        <p:blipFill>
          <a:blip r:embed="rId2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有的是描绘人们奏乐、舞蹈、演杂技的场面，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81104033837544"/>
          <p:cNvPicPr/>
          <p:nvPr/>
        </p:nvPicPr>
        <p:blipFill>
          <a:blip r:embed="rId2"/>
          <a:stretch/>
        </p:blipFill>
        <p:spPr>
          <a:xfrm>
            <a:off x="197964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27600" y="333360"/>
            <a:ext cx="667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其中最引人注目的是飞天。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pt21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2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pt60"/>
          <p:cNvPicPr/>
          <p:nvPr/>
        </p:nvPicPr>
        <p:blipFill>
          <a:blip r:embed="rId3"/>
          <a:stretch/>
        </p:blipFill>
        <p:spPr>
          <a:xfrm>
            <a:off x="1332000" y="0"/>
            <a:ext cx="5472000" cy="178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读一读，我最棒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慈眉善目  威风凛凛  强壮勇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断崖绝壁  啧啧赞叹  宏伟瑰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人注目  神态各异  举世闻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7" descr="书"/>
          <p:cNvPicPr/>
          <p:nvPr/>
        </p:nvPicPr>
        <p:blipFill>
          <a:blip r:embed="rId4"/>
          <a:stretch/>
        </p:blipFill>
        <p:spPr>
          <a:xfrm>
            <a:off x="7380360" y="476280"/>
            <a:ext cx="1295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默读课文，思考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课文主要向我们介绍了莫高窟里的哪些景物呢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68360" y="3500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彩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140360" y="364500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68360" y="4365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壁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9" descr="你真棒"/>
          <p:cNvPicPr/>
          <p:nvPr/>
        </p:nvPicPr>
        <p:blipFill>
          <a:blip r:embed="rId2"/>
          <a:stretch/>
        </p:blipFill>
        <p:spPr>
          <a:xfrm>
            <a:off x="7020000" y="4869000"/>
            <a:ext cx="14605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描写彩塑时，写了那些艺术品？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76360" y="2708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慈眉善目的菩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476360" y="364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威风凛凛的天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76360" y="443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强壮勇猛的力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476360" y="5589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长达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米的卧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00000" y="4797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4716360" y="299736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076720" y="3645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略  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00364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详  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14" descr="风车"/>
          <p:cNvPicPr/>
          <p:nvPr/>
        </p:nvPicPr>
        <p:blipFill>
          <a:blip r:embed="rId2"/>
          <a:stretch/>
        </p:blipFill>
        <p:spPr>
          <a:xfrm>
            <a:off x="7164360" y="450864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用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还有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说一句话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在 多 媒 体 教 室 上 课 ，有 老 师 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引 导，有 优 美 的 音 乐 ，还 有 美 丽 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观 的 画 面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图片25"/>
          <p:cNvPicPr/>
          <p:nvPr/>
        </p:nvPicPr>
        <p:blipFill>
          <a:blip r:embed="rId2"/>
          <a:stretch/>
        </p:blipFill>
        <p:spPr>
          <a:xfrm>
            <a:off x="1619280" y="0"/>
            <a:ext cx="5716440" cy="1530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419640" y="47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仿写句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作者由写彩塑到写壁画用一句话，你能找出他吗？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栩栩如生的彩塑，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万五千多平方米宏伟瑰丽的壁画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692360" y="2997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还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692360" y="41497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不仅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而且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763640" y="522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不但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而且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描写壁画时，重点写了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47640" y="357336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飞天壁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360" y="2637000"/>
            <a:ext cx="216000" cy="24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24360" y="2349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924360" y="306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2436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92436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924360" y="4941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文中的一、四自然段又怎样写的莫高窟呢？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总的介绍了莫高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4000" y="31417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从这两个自然段了解到什么？能向大家介绍一下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W02009042950816519112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276720" y="476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坐落在我国甘肃省敦煌市三危山和鸣沙山的怀抱中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文章结构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385280" y="1557360"/>
            <a:ext cx="13993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总           分            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76720" y="1484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祖国西北的一颗明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987640" y="2421000"/>
            <a:ext cx="144360" cy="237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03640" y="2421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彩塑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个性鲜明   神态各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203640" y="393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壁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宏伟瑰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59280" y="5516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艺术宝库    智慧结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2340000" y="4076640"/>
            <a:ext cx="71280" cy="1152720"/>
          </a:xfrm>
          <a:prstGeom prst="downArrow">
            <a:avLst>
              <a:gd name="adj1" fmla="val 50000"/>
              <a:gd name="adj2" fmla="val 4042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2340000" y="2205000"/>
            <a:ext cx="71280" cy="1224000"/>
          </a:xfrm>
          <a:prstGeom prst="downArrow">
            <a:avLst>
              <a:gd name="adj1" fmla="val 50000"/>
              <a:gd name="adj2" fmla="val 4292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13" descr="安琪儿2"/>
          <p:cNvPicPr/>
          <p:nvPr/>
        </p:nvPicPr>
        <p:blipFill>
          <a:blip r:embed="rId2"/>
          <a:stretch/>
        </p:blipFill>
        <p:spPr>
          <a:xfrm>
            <a:off x="7270920" y="0"/>
            <a:ext cx="1873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作者描写景物的方法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71640" y="1700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356000" y="1700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68360" y="184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莫高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924360" y="1844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类描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95280" y="27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香港夜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348000" y="278136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观察地点观察角度不同描写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0" y="3933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美丽的小兴安岭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348000" y="3933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一年四季时间顺序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0" y="486900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江南水乡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周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492360" y="48690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4543560" cy="1517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279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课下作业：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按 照 不 同 的 写 景 的 方 法 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写 写 自 己 见 过 的 一 处 风 景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345440" cy="4945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543640" y="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千六百多米长的崖壁上，凿有大小洞窟七百余个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56532e9006f9377662b7e"/>
          <p:cNvPicPr/>
          <p:nvPr/>
        </p:nvPicPr>
        <p:blipFill>
          <a:blip r:embed="rId2"/>
          <a:stretch/>
        </p:blipFill>
        <p:spPr>
          <a:xfrm>
            <a:off x="684360" y="476280"/>
            <a:ext cx="7740360" cy="579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692360" y="404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其中四百九十二个洞窟中，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2708611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0" y="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有彩色塑像两千一百余尊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38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008060515231512209"/>
          <p:cNvPicPr/>
          <p:nvPr/>
        </p:nvPicPr>
        <p:blipFill>
          <a:blip r:embed="rId2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莫高窟的彩塑，每一尊都是一件精美的艺术品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8833015489176882"/>
          <p:cNvPicPr/>
          <p:nvPr/>
        </p:nvPicPr>
        <p:blipFill>
          <a:blip r:embed="rId2"/>
          <a:stretch/>
        </p:blipFill>
        <p:spPr>
          <a:xfrm>
            <a:off x="0" y="0"/>
            <a:ext cx="4822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-15480" y="189000"/>
            <a:ext cx="11552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4932360" y="0"/>
            <a:ext cx="2333520" cy="391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6810480" y="2943360"/>
            <a:ext cx="2333520" cy="391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7328520" y="0"/>
            <a:ext cx="11552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735800" y="3517920"/>
            <a:ext cx="11552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这些彩塑个性鲜明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da3c9caf62b47df53664fea"/>
          <p:cNvPicPr/>
          <p:nvPr/>
        </p:nvPicPr>
        <p:blipFill>
          <a:blip r:embed="rId2"/>
          <a:stretch/>
        </p:blipFill>
        <p:spPr>
          <a:xfrm>
            <a:off x="1979640" y="765000"/>
            <a:ext cx="5472000" cy="4980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54520" y="476280"/>
            <a:ext cx="667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神 态 各 异。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80404115651_847140332"/>
          <p:cNvPicPr/>
          <p:nvPr/>
        </p:nvPicPr>
        <p:blipFill>
          <a:blip r:embed="rId2"/>
          <a:stretch/>
        </p:blipFill>
        <p:spPr>
          <a:xfrm>
            <a:off x="755640" y="1700280"/>
            <a:ext cx="7093080" cy="4125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92360" y="9079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莫高窟壁画的内容丰富多彩，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26:3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49:32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