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D88E-7A96-4FB0-945B-1C327A78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9B89-4D73-46D2-A7FB-AF48BBC4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98CE-B96D-4B85-803E-075AF332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8501-7844-4CE3-9A4D-C86A4B8F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C818-BE57-4035-BCAD-BCC80BF8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6BD-152C-4915-98A2-2C18E5AB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C8A-31EB-4212-A9DD-583EAA75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5FD-6E3B-4FA2-B9F7-3DB3C94A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4AF-60D1-4162-9CA3-A4C6F473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3371-7E0D-4A22-80EE-94C629CF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69F-10CF-4B66-9BAC-992B9E61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800F-62B9-4F43-A850-766EC806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EDDB-FE49-438B-91E7-E6D2E8E37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图片在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WordArt 5" descr=""/>
          <p:cNvPicPr/>
          <p:nvPr/>
        </p:nvPicPr>
        <p:blipFill>
          <a:blip r:embed="rId2"/>
          <a:stretch/>
        </p:blipFill>
        <p:spPr>
          <a:xfrm>
            <a:off x="444600" y="762120"/>
            <a:ext cx="8132760" cy="3243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2484360" y="1052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图片这"/>
          <p:cNvPicPr/>
          <p:nvPr/>
        </p:nvPicPr>
        <p:blipFill>
          <a:blip r:embed="rId1"/>
          <a:stretch/>
        </p:blipFill>
        <p:spPr>
          <a:xfrm>
            <a:off x="0" y="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0" y="4343400"/>
            <a:ext cx="929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莫西奥图尼亚大瀑布位于南部非洲赞比西河中游，跨赞比亚、津巴布韦国界，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米，宽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 8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，比我国著名的黄果树瀑布，宽了几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倍，是世界三大瀑布之一。</a:t>
            </a:r>
            <a:r>
              <a:rPr b="1" lang="zh-CN" sz="3200" spc="-1" strike="noStrike">
                <a:solidFill>
                  <a:srgbClr val="000000"/>
                </a:solidFill>
                <a:latin typeface="_x000b__x000c_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莫西奥图尼亚</a:t>
            </a:r>
            <a:r>
              <a:rPr b="1" lang="zh-CN" sz="3200" spc="-1" strike="noStrike">
                <a:solidFill>
                  <a:srgbClr val="000000"/>
                </a:solidFill>
                <a:latin typeface="_x000b__x000c_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当地语中意为</a:t>
            </a:r>
            <a:r>
              <a:rPr b="1" lang="zh-CN" sz="3200" spc="-1" strike="noStrike">
                <a:solidFill>
                  <a:srgbClr val="000000"/>
                </a:solidFill>
                <a:latin typeface="_x000b__x000c_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雷霆翻滚的云雾</a:t>
            </a:r>
            <a:r>
              <a:rPr b="1" lang="zh-CN" sz="3200" spc="-1" strike="noStrike">
                <a:solidFill>
                  <a:srgbClr val="000000"/>
                </a:solidFill>
                <a:latin typeface="_x000b__x000c_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图片4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3352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图片3"/>
          <p:cNvPicPr/>
          <p:nvPr/>
        </p:nvPicPr>
        <p:blipFill>
          <a:blip r:embed="rId2"/>
          <a:stretch/>
        </p:blipFill>
        <p:spPr>
          <a:xfrm>
            <a:off x="0" y="0"/>
            <a:ext cx="4495680" cy="3352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0" y="3352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非洲木雕是非洲一种古老的艺术形式。传统非洲人认为人死以后灵魂离开躯体，但仍然在活着的人中间走动。所以非洲人就想出制作面具和木雕的方式，为祖先的灵魂找个去处，避免对活着的后人造成危害。这些作品大都出自于非洲中西部民间艺人之手，那娴熟的刀法，生动的表情刻画，神秘而怪异的造型，使之成为世界各地乐于收藏的艺术品。常见的非洲木雕有面具木雕和动物木雕。由于非洲大多数民族没有文字，所以面具和雕刻又成为传统文化的传播工具，许多非洲古老神话就是木雕一代一代流传下来的。所以这些面具和雕刻又被称之为“非洲式照片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0" y="3479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坦赞铁路是迄今中国最大的援外成套项目之一。该铁路东起坦桑尼亚首都达累斯萨拉姆，西至赞比亚的新卡比里姆博希，全长</a:t>
            </a: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1 8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公里，由中国专家和工程技术人员进行勘测、考察、设计并帮助坦、赞两国政府组织施工。为建设这条铁路，中国政府提供无息贷款</a:t>
            </a: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8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亿元人民币，共发运各种设备材料近</a:t>
            </a: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万吨，先后派遣工程技术人员近</a:t>
            </a: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万人次，高峰时期在现场施工的中国员工队伍多达</a:t>
            </a: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万人，在工程修建及后来技术合作过程中，中方有</a:t>
            </a: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6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为之献出了宝贵生命。坦赞铁路成为把坦赞两国连结在一起的一条主要交通干线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09480" y="685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38080" y="1600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ā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600200" y="762120"/>
            <a:ext cx="7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出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2666880" y="685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摊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3955320" y="685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5022360" y="762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822240" y="299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720" y="4190760"/>
            <a:ext cx="1676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栩栩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733920" y="220968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5410080" y="2286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983520" y="1928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标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010280" y="22096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762120" y="320040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762120" y="32004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970560" y="299556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模一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2727360" y="2992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2438280" y="30481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式各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4419720" y="2971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分壮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1"/>
          <p:cNvSpPr/>
          <p:nvPr/>
        </p:nvSpPr>
        <p:spPr>
          <a:xfrm>
            <a:off x="6537240" y="299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2"/>
          <p:cNvSpPr/>
          <p:nvPr/>
        </p:nvSpPr>
        <p:spPr>
          <a:xfrm>
            <a:off x="6842520" y="3071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不虚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762120" y="43434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4"/>
          <p:cNvSpPr/>
          <p:nvPr/>
        </p:nvSpPr>
        <p:spPr>
          <a:xfrm>
            <a:off x="974880" y="4214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人如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5"/>
          <p:cNvSpPr/>
          <p:nvPr/>
        </p:nvSpPr>
        <p:spPr>
          <a:xfrm>
            <a:off x="3032280" y="4214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晰可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6"/>
          <p:cNvSpPr/>
          <p:nvPr/>
        </p:nvSpPr>
        <p:spPr>
          <a:xfrm>
            <a:off x="4937400" y="4290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官端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9"/>
          <p:cNvSpPr/>
          <p:nvPr/>
        </p:nvSpPr>
        <p:spPr>
          <a:xfrm>
            <a:off x="822240" y="5202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0"/>
          <p:cNvSpPr/>
          <p:nvPr/>
        </p:nvSpPr>
        <p:spPr>
          <a:xfrm>
            <a:off x="1219320" y="594360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1"/>
          <p:cNvSpPr/>
          <p:nvPr/>
        </p:nvSpPr>
        <p:spPr>
          <a:xfrm>
            <a:off x="685800" y="5562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爱不释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2"/>
          <p:cNvSpPr/>
          <p:nvPr/>
        </p:nvSpPr>
        <p:spPr>
          <a:xfrm>
            <a:off x="2895480" y="571500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3"/>
          <p:cNvSpPr/>
          <p:nvPr/>
        </p:nvSpPr>
        <p:spPr>
          <a:xfrm>
            <a:off x="2286000" y="5562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莫西奥图尼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4"/>
          <p:cNvSpPr/>
          <p:nvPr/>
        </p:nvSpPr>
        <p:spPr>
          <a:xfrm>
            <a:off x="4800600" y="5562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琳 琅 满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5"/>
          <p:cNvSpPr/>
          <p:nvPr/>
        </p:nvSpPr>
        <p:spPr>
          <a:xfrm>
            <a:off x="69343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72"/>
          <p:cNvGrpSpPr/>
          <p:nvPr/>
        </p:nvGrpSpPr>
        <p:grpSpPr>
          <a:xfrm>
            <a:off x="6705720" y="1676520"/>
            <a:ext cx="1037880" cy="772920"/>
            <a:chOff x="6705720" y="1676520"/>
            <a:chExt cx="1037880" cy="772920"/>
          </a:xfrm>
        </p:grpSpPr>
        <p:sp>
          <p:nvSpPr>
            <p:cNvPr id="87" name="Rectangle 37"/>
            <p:cNvSpPr/>
            <p:nvPr/>
          </p:nvSpPr>
          <p:spPr>
            <a:xfrm>
              <a:off x="6922800" y="1928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驮树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49"/>
            <p:cNvSpPr/>
            <p:nvPr/>
          </p:nvSpPr>
          <p:spPr>
            <a:xfrm>
              <a:off x="6705720" y="1676520"/>
              <a:ext cx="9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u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Text Box 51"/>
          <p:cNvSpPr/>
          <p:nvPr/>
        </p:nvSpPr>
        <p:spPr>
          <a:xfrm>
            <a:off x="3886200" y="5181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2"/>
          <p:cNvSpPr/>
          <p:nvPr/>
        </p:nvSpPr>
        <p:spPr>
          <a:xfrm>
            <a:off x="6858000" y="5562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构思新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4"/>
          <p:cNvSpPr/>
          <p:nvPr/>
        </p:nvSpPr>
        <p:spPr>
          <a:xfrm>
            <a:off x="693432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ò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69"/>
          <p:cNvGrpSpPr/>
          <p:nvPr/>
        </p:nvGrpSpPr>
        <p:grpSpPr>
          <a:xfrm>
            <a:off x="2057400" y="1600200"/>
            <a:ext cx="1066680" cy="977760"/>
            <a:chOff x="2057400" y="1600200"/>
            <a:chExt cx="1066680" cy="977760"/>
          </a:xfrm>
        </p:grpSpPr>
        <p:sp>
          <p:nvSpPr>
            <p:cNvPr id="93" name="Text Box 16"/>
            <p:cNvSpPr/>
            <p:nvPr/>
          </p:nvSpPr>
          <p:spPr>
            <a:xfrm>
              <a:off x="2057400" y="20574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诚 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57"/>
            <p:cNvSpPr/>
            <p:nvPr/>
          </p:nvSpPr>
          <p:spPr>
            <a:xfrm>
              <a:off x="2438280" y="1600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ě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67"/>
          <p:cNvGrpSpPr/>
          <p:nvPr/>
        </p:nvGrpSpPr>
        <p:grpSpPr>
          <a:xfrm>
            <a:off x="6019920" y="304920"/>
            <a:ext cx="1675440" cy="1008360"/>
            <a:chOff x="6019920" y="304920"/>
            <a:chExt cx="1675440" cy="1008360"/>
          </a:xfrm>
        </p:grpSpPr>
        <p:sp>
          <p:nvSpPr>
            <p:cNvPr id="96" name="Text Box 58"/>
            <p:cNvSpPr/>
            <p:nvPr/>
          </p:nvSpPr>
          <p:spPr>
            <a:xfrm>
              <a:off x="6019920" y="792720"/>
              <a:ext cx="121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遗  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61"/>
            <p:cNvSpPr/>
            <p:nvPr/>
          </p:nvSpPr>
          <p:spPr>
            <a:xfrm>
              <a:off x="6578280" y="304920"/>
              <a:ext cx="111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à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68"/>
          <p:cNvGrpSpPr/>
          <p:nvPr/>
        </p:nvGrpSpPr>
        <p:grpSpPr>
          <a:xfrm>
            <a:off x="7460640" y="380880"/>
            <a:ext cx="997560" cy="849240"/>
            <a:chOff x="7460640" y="380880"/>
            <a:chExt cx="997560" cy="849240"/>
          </a:xfrm>
        </p:grpSpPr>
        <p:sp>
          <p:nvSpPr>
            <p:cNvPr id="99" name="Rectangle 25"/>
            <p:cNvSpPr/>
            <p:nvPr/>
          </p:nvSpPr>
          <p:spPr>
            <a:xfrm>
              <a:off x="7460640" y="709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犹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63"/>
            <p:cNvSpPr/>
            <p:nvPr/>
          </p:nvSpPr>
          <p:spPr>
            <a:xfrm>
              <a:off x="7696080" y="380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71"/>
          <p:cNvGrpSpPr/>
          <p:nvPr/>
        </p:nvGrpSpPr>
        <p:grpSpPr>
          <a:xfrm>
            <a:off x="4952880" y="1600200"/>
            <a:ext cx="1904760" cy="901440"/>
            <a:chOff x="4952880" y="1600200"/>
            <a:chExt cx="1904760" cy="901440"/>
          </a:xfrm>
        </p:grpSpPr>
        <p:sp>
          <p:nvSpPr>
            <p:cNvPr id="102" name="Text Box 23"/>
            <p:cNvSpPr/>
            <p:nvPr/>
          </p:nvSpPr>
          <p:spPr>
            <a:xfrm>
              <a:off x="5072040" y="1981080"/>
              <a:ext cx="178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掏东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65"/>
            <p:cNvSpPr/>
            <p:nvPr/>
          </p:nvSpPr>
          <p:spPr>
            <a:xfrm>
              <a:off x="4952880" y="1600200"/>
              <a:ext cx="142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ā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70"/>
          <p:cNvGrpSpPr/>
          <p:nvPr/>
        </p:nvGrpSpPr>
        <p:grpSpPr>
          <a:xfrm>
            <a:off x="3505320" y="1676520"/>
            <a:ext cx="1010880" cy="850680"/>
            <a:chOff x="3505320" y="1676520"/>
            <a:chExt cx="1010880" cy="850680"/>
          </a:xfrm>
        </p:grpSpPr>
        <p:sp>
          <p:nvSpPr>
            <p:cNvPr id="105" name="Rectangle 19"/>
            <p:cNvSpPr/>
            <p:nvPr/>
          </p:nvSpPr>
          <p:spPr>
            <a:xfrm>
              <a:off x="3722760" y="2006640"/>
              <a:ext cx="79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宾  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66"/>
            <p:cNvSpPr/>
            <p:nvPr/>
          </p:nvSpPr>
          <p:spPr>
            <a:xfrm>
              <a:off x="3505320" y="16765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ī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Text Box 73"/>
          <p:cNvSpPr/>
          <p:nvPr/>
        </p:nvSpPr>
        <p:spPr>
          <a:xfrm>
            <a:off x="5257800" y="5257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á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4"/>
          <p:cNvSpPr/>
          <p:nvPr/>
        </p:nvSpPr>
        <p:spPr>
          <a:xfrm>
            <a:off x="1371600" y="5257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背景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"/>
          <p:cNvSpPr/>
          <p:nvPr/>
        </p:nvSpPr>
        <p:spPr>
          <a:xfrm>
            <a:off x="0" y="685800"/>
            <a:ext cx="8915400" cy="50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填一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不虚传       游人如织      十分壮观    琳琅满目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式各样       构思新奇       栩栩如生    爱不释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大瀑布真是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  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这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  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景色十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 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摊点里陈列的木雕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 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  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其中象墩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   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大象雕得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  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我一看就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       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森林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4"/>
          <p:cNvSpPr txBox="1"/>
          <p:nvPr/>
        </p:nvSpPr>
        <p:spPr>
          <a:xfrm>
            <a:off x="609480" y="1371600"/>
            <a:ext cx="8001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ff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祝同学们学习愉快！</a:t>
            </a:r>
            <a:endParaRPr b="0" lang="en-US" sz="2400" spc="1" strike="noStrike">
              <a:ln w="19080">
                <a:solidFill>
                  <a:srgbClr val="ffff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01:37:48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28:30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