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804-FF3A-4E25-803A-703CA81C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A2C-1D6F-4AB6-B0B6-946986E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627-0F9E-4AE6-8BA3-E9BF19D7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C0A-EAD2-4B3B-B5A2-7659FD2C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B8E-EB44-43CE-A9B2-661CE89E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885A-2F64-4651-BC20-54EFBF0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B23E-F5CF-4F15-B63A-58E2E746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5563-19DB-4B02-9A57-C8C79187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4B13-F1D2-405F-B6E1-3CF424F5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2F33-C598-48BF-8DE6-ED3E7717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8EFC-34D5-41FC-AF26-5DD3673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49E-BD00-45BF-B260-2A4284B0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6D3-9AA2-4E47-AB25-5130827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EA96-3849-4D01-950D-8CCDE2F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6A06-9351-4D07-BE78-D9D81443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88B3-17D0-445C-AB06-2A871037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07EB-4F9E-4124-A1F3-760D34B8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B90F-2A1F-4A9D-91B3-9E97CC59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C0EE-296E-4B0A-B5A4-C9562307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3B69-9D2E-4257-849E-E89A966E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8B5D-07D8-4DBF-B12E-BF2889A1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41B4-E547-4D3E-8466-97D901F3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2ED-A0F6-46A5-A414-67A97CD8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2065-B61A-47FB-A2D2-2637AFC2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0E88-EC62-4BB1-A70F-DEDF31A6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482D4-15B2-4B3F-A26C-8A184C10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32CDE-F931-41BD-8E7A-1AD8DE8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F432-6CE1-4C44-B869-6A578DB9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DD792-88C6-4E2C-AC69-19FDA631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BFAF-E699-43B6-BEB9-835FEBB7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005-040A-429D-97FF-D8C248C8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A31-640F-4371-B3C9-22E37674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95C-DE0D-4080-A521-C6695468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F75-F7F2-413C-AABA-B2D447CC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894-5DAC-4DA3-A823-114B69D1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56F-7E92-4BD6-B123-3E15716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95AC-BF40-4F79-B72C-72B7AFFC4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B1E1-5350-48CA-9347-76267EBAD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B378-331E-4B1D-9E64-5C3260AFE0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0D9E-BA80-4CD0-A34A-7DE0F197A9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WordArt 10" descr=""/>
          <p:cNvPicPr/>
          <p:nvPr/>
        </p:nvPicPr>
        <p:blipFill>
          <a:blip r:embed="rId2"/>
          <a:stretch/>
        </p:blipFill>
        <p:spPr>
          <a:xfrm>
            <a:off x="676440" y="1573200"/>
            <a:ext cx="7900920" cy="2717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468360" y="620640"/>
            <a:ext cx="58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义务教育课程标准小学语文六年级语文上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5"/>
          <p:cNvSpPr/>
          <p:nvPr/>
        </p:nvSpPr>
        <p:spPr>
          <a:xfrm>
            <a:off x="5148360" y="836640"/>
            <a:ext cx="3600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世界上最杰出的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像画，世界上有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少人能亲睹她的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采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516720" y="184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· · ·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4967280" y="62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蒙娜丽莎”是全人类文化宝库中一颗璀璨的明珠，她的光辉照耀着每一个有幸看到她的人。我虽然在她面前只停留了短短的几分钟，她却在我的心底留下了永不磨灭的印象。她已经成了我灵魂的一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5076720" y="3573360"/>
            <a:ext cx="3527280" cy="576360"/>
            <a:chOff x="5076720" y="3573360"/>
            <a:chExt cx="3527280" cy="576360"/>
          </a:xfrm>
        </p:grpSpPr>
        <p:sp>
          <p:nvSpPr>
            <p:cNvPr id="165" name="Rectangle 5"/>
            <p:cNvSpPr/>
            <p:nvPr/>
          </p:nvSpPr>
          <p:spPr>
            <a:xfrm>
              <a:off x="8316720" y="3573360"/>
              <a:ext cx="287280" cy="71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5076720" y="4076640"/>
              <a:ext cx="201600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7" name="Group 7"/>
          <p:cNvGrpSpPr/>
          <p:nvPr/>
        </p:nvGrpSpPr>
        <p:grpSpPr>
          <a:xfrm>
            <a:off x="5076720" y="4581360"/>
            <a:ext cx="3598920" cy="503280"/>
            <a:chOff x="5076720" y="4581360"/>
            <a:chExt cx="3598920" cy="503280"/>
          </a:xfrm>
        </p:grpSpPr>
        <p:sp>
          <p:nvSpPr>
            <p:cNvPr id="168" name="Rectangle 8"/>
            <p:cNvSpPr/>
            <p:nvPr/>
          </p:nvSpPr>
          <p:spPr>
            <a:xfrm>
              <a:off x="7956360" y="4581360"/>
              <a:ext cx="71928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76720" y="5013000"/>
              <a:ext cx="2016000" cy="71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5076720" y="5084640"/>
            <a:ext cx="3527280" cy="1008000"/>
            <a:chOff x="5076720" y="5084640"/>
            <a:chExt cx="3527280" cy="1008000"/>
          </a:xfrm>
        </p:grpSpPr>
        <p:sp>
          <p:nvSpPr>
            <p:cNvPr id="171" name="Line 11"/>
            <p:cNvSpPr/>
            <p:nvPr/>
          </p:nvSpPr>
          <p:spPr>
            <a:xfrm>
              <a:off x="7524720" y="5084640"/>
              <a:ext cx="10792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Line 12"/>
            <p:cNvSpPr/>
            <p:nvPr/>
          </p:nvSpPr>
          <p:spPr>
            <a:xfrm>
              <a:off x="5076720" y="5589360"/>
              <a:ext cx="324000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5076720" y="6092640"/>
              <a:ext cx="7192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蒙娜丽莎的微笑"/>
          <p:cNvPicPr/>
          <p:nvPr/>
        </p:nvPicPr>
        <p:blipFill>
          <a:blip r:embed="rId2"/>
          <a:stretch/>
        </p:blipFill>
        <p:spPr>
          <a:xfrm>
            <a:off x="5148360" y="765000"/>
            <a:ext cx="3476520" cy="522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dafenqi"/>
          <p:cNvPicPr/>
          <p:nvPr/>
        </p:nvPicPr>
        <p:blipFill>
          <a:blip r:embed="rId3"/>
          <a:stretch/>
        </p:blipFill>
        <p:spPr>
          <a:xfrm>
            <a:off x="250920" y="765000"/>
            <a:ext cx="4562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达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芬奇是意大利文艺复兴时期最伟大最著名的巨匠，他不仅是一位天才的画家，并且是大数学家、科学家、力学家和工程师，是一位多才多艺、全面发展的人。他不仅会画画，雕塑，建筑房屋，还会发明武器，设计过世界上第一个飞行机。他又是一个医学家、音乐家和戏剧家，而且在物理学、地理学和植物学等其它科学的研究上也很有成就。他道德高尚，举止温雅，且体格健壮，力量过人，据说他一只手就能轻易地折断马蹄铁。他左右手都会写字。作画，他用左手写的字是反向的，人们只有在镜子里才能看懂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Picture 4" descr="zuihoudewancan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506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3492360" y="6021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最后的晚餐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卢浮宫目前已经成为世界三大博物馆之一，其艺术藏品种类之丰富，档次之高堪称世界一流。其中最重要的镇宫三宝是世人皆知的：米洛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，达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芬奇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和萨莫特拉斯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4" name="Picture 4" descr="卢浮宫三宝2"/>
          <p:cNvPicPr/>
          <p:nvPr/>
        </p:nvPicPr>
        <p:blipFill>
          <a:blip r:embed="rId2"/>
          <a:stretch/>
        </p:blipFill>
        <p:spPr>
          <a:xfrm>
            <a:off x="0" y="189000"/>
            <a:ext cx="4645080" cy="619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卢浮宫三宝4"/>
          <p:cNvPicPr/>
          <p:nvPr/>
        </p:nvPicPr>
        <p:blipFill>
          <a:blip r:embed="rId3"/>
          <a:stretch/>
        </p:blipFill>
        <p:spPr>
          <a:xfrm>
            <a:off x="4619520" y="189000"/>
            <a:ext cx="4524480" cy="6192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1774080" y="630864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米洛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5705280" y="6308640"/>
            <a:ext cx="18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萨莫特拉斯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AutoShape 8">
            <a:hlinkClick r:id="" action="ppaction://hlinkshowjump?jump=firstslide"/>
          </p:cNvPr>
          <p:cNvSpPr/>
          <p:nvPr/>
        </p:nvSpPr>
        <p:spPr>
          <a:xfrm>
            <a:off x="8604360" y="6453360"/>
            <a:ext cx="360360" cy="215640"/>
          </a:xfrm>
          <a:custGeom>
            <a:avLst/>
            <a:gdLst>
              <a:gd name="textAreaLeft" fmla="*/ 13320 w 360360"/>
              <a:gd name="textAreaRight" fmla="*/ 347040 w 360360"/>
              <a:gd name="textAreaTop" fmla="*/ 13320 h 215640"/>
              <a:gd name="textAreaBottom" fmla="*/ 20232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722" y="1350"/>
                </a:lnTo>
                <a:lnTo>
                  <a:pt x="1350" y="135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722" y="20250"/>
                </a:lnTo>
                <a:lnTo>
                  <a:pt x="34722" y="135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722" y="2025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072" h="21600">
                <a:moveTo>
                  <a:pt x="14519" y="10800"/>
                </a:moveTo>
                <a:lnTo>
                  <a:pt x="25080" y="3756"/>
                </a:lnTo>
                <a:lnTo>
                  <a:pt x="25080" y="17844"/>
                </a:lnTo>
                <a:close/>
              </a:path>
              <a:path fill="darken" w="36072" h="21600">
                <a:moveTo>
                  <a:pt x="10992" y="3756"/>
                </a:moveTo>
                <a:lnTo>
                  <a:pt x="12664" y="3756"/>
                </a:lnTo>
                <a:lnTo>
                  <a:pt x="12664" y="17844"/>
                </a:lnTo>
                <a:lnTo>
                  <a:pt x="10992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468360" y="907920"/>
            <a:ext cx="8424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纽约    探访    交涉    肖像   悄然赴约    陈列    脸颊    淡雅   捉摸   永恒    端庄    沐浴    细腻   衬托  幻觉    空旷    深远    风采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大摇大摆     无论如何    有朝一日  大洋彼岸     耐人寻味    转瞬即逝  永不磨灭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6" name="Group 15"/>
          <p:cNvGrpSpPr/>
          <p:nvPr/>
        </p:nvGrpSpPr>
        <p:grpSpPr>
          <a:xfrm>
            <a:off x="5580000" y="476280"/>
            <a:ext cx="2879640" cy="581400"/>
            <a:chOff x="5580000" y="476280"/>
            <a:chExt cx="2879640" cy="581400"/>
          </a:xfrm>
        </p:grpSpPr>
        <p:grpSp>
          <p:nvGrpSpPr>
            <p:cNvPr id="127" name="Group 10"/>
            <p:cNvGrpSpPr/>
            <p:nvPr/>
          </p:nvGrpSpPr>
          <p:grpSpPr>
            <a:xfrm>
              <a:off x="5580000" y="476280"/>
              <a:ext cx="1079640" cy="581400"/>
              <a:chOff x="5580000" y="476280"/>
              <a:chExt cx="1079640" cy="581400"/>
            </a:xfrm>
          </p:grpSpPr>
          <p:sp>
            <p:nvSpPr>
              <p:cNvPr id="128" name="Text Box 7"/>
              <p:cNvSpPr/>
              <p:nvPr/>
            </p:nvSpPr>
            <p:spPr>
              <a:xfrm>
                <a:off x="5580000" y="476280"/>
                <a:ext cx="107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x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9" name="Line 9"/>
              <p:cNvSpPr/>
              <p:nvPr/>
            </p:nvSpPr>
            <p:spPr>
              <a:xfrm>
                <a:off x="5940360" y="476280"/>
                <a:ext cx="144360" cy="14400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4"/>
            <p:cNvGrpSpPr/>
            <p:nvPr/>
          </p:nvGrpSpPr>
          <p:grpSpPr>
            <a:xfrm>
              <a:off x="7164360" y="476280"/>
              <a:ext cx="1295280" cy="581400"/>
              <a:chOff x="7164360" y="476280"/>
              <a:chExt cx="1295280" cy="581400"/>
            </a:xfrm>
          </p:grpSpPr>
          <p:sp>
            <p:nvSpPr>
              <p:cNvPr id="131" name="Text Box 11"/>
              <p:cNvSpPr/>
              <p:nvPr/>
            </p:nvSpPr>
            <p:spPr>
              <a:xfrm>
                <a:off x="7164360" y="476280"/>
                <a:ext cx="129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q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Line 12"/>
              <p:cNvSpPr/>
              <p:nvPr/>
            </p:nvSpPr>
            <p:spPr>
              <a:xfrm>
                <a:off x="7596000" y="476280"/>
                <a:ext cx="71640" cy="14256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3" name="Line 13"/>
              <p:cNvSpPr/>
              <p:nvPr/>
            </p:nvSpPr>
            <p:spPr>
              <a:xfrm flipV="1">
                <a:off x="7667640" y="476280"/>
                <a:ext cx="73080" cy="14256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7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5" name="Picture 4" descr="卢浮宫2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蒙娜丽莎的微笑"/>
          <p:cNvPicPr/>
          <p:nvPr/>
        </p:nvPicPr>
        <p:blipFill>
          <a:blip r:embed="rId3"/>
          <a:stretch/>
        </p:blipFill>
        <p:spPr>
          <a:xfrm>
            <a:off x="955800" y="0"/>
            <a:ext cx="4959360" cy="74613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0"/>
          <p:cNvGrpSpPr/>
          <p:nvPr/>
        </p:nvGrpSpPr>
        <p:grpSpPr>
          <a:xfrm>
            <a:off x="6372360" y="907920"/>
            <a:ext cx="2376360" cy="3097080"/>
            <a:chOff x="6372360" y="907920"/>
            <a:chExt cx="2376360" cy="3097080"/>
          </a:xfrm>
        </p:grpSpPr>
        <p:sp>
          <p:nvSpPr>
            <p:cNvPr id="138" name="AutoShape 8"/>
            <p:cNvSpPr/>
            <p:nvPr/>
          </p:nvSpPr>
          <p:spPr>
            <a:xfrm>
              <a:off x="6372360" y="907920"/>
              <a:ext cx="2376360" cy="3097080"/>
            </a:xfrm>
            <a:prstGeom prst="wedgeRoundRectCallout">
              <a:avLst>
                <a:gd name="adj1" fmla="val -47328"/>
                <a:gd name="adj2" fmla="val 88134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Text Box 9"/>
            <p:cNvSpPr/>
            <p:nvPr/>
          </p:nvSpPr>
          <p:spPr>
            <a:xfrm>
              <a:off x="6516720" y="1052280"/>
              <a:ext cx="2016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自由观赏，谈谈感受！（可以谈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画面内容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也可以谈你对这幅画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评价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还可以谈你知道的有关这幅画或作者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资料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471636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788000" y="1268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课文主要讲了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822920" y="242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哪些自然段具体介绍了这幅名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894200" y="414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你还从哪里看出了“蒙娜丽莎”的魅力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788000" y="404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快速阅读课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79930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首先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描述了大家在纽约大都会博物馆前排队等候欣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的心情和此画来纽约展出的原因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然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细腻、传神地介绍了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画像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最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指出“蒙娜丽莎”给人带来了心灵的震撼，留下了永不磨灭的印象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244000" y="6093000"/>
            <a:ext cx="431640" cy="360360"/>
          </a:xfrm>
          <a:custGeom>
            <a:avLst/>
            <a:gdLst>
              <a:gd name="textAreaLeft" fmla="*/ 22320 w 431640"/>
              <a:gd name="textAreaRight" fmla="*/ 409320 w 431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518" y="1350"/>
                </a:lnTo>
                <a:lnTo>
                  <a:pt x="1350" y="135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518" y="20250"/>
                </a:lnTo>
                <a:lnTo>
                  <a:pt x="24518" y="135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18" y="2025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68" h="21600">
                <a:moveTo>
                  <a:pt x="5890" y="10800"/>
                </a:moveTo>
                <a:lnTo>
                  <a:pt x="19978" y="3756"/>
                </a:lnTo>
                <a:lnTo>
                  <a:pt x="19978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 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5 — 7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1579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默读，用（   ）找出介绍画像内容的语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对照插图，读读语句，谈谈感受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716360" y="692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那幅画不大，大概三英尺长、两英尺宽吧，整幅画几乎只是一种棕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822920" y="2492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她的脸颊泛着红光，一头黑发轻松地垂落双肩。她的眼神是那样柔和与明亮，嘴唇看来不像是涂抹的色彩，而是真的血肉。仔细看她的颈项，你会怀疑血液真的在里面流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4716360" y="54936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那微抿的双唇，微挑的嘴角，好像有话要跟你说。在那极富个性的嘴角和眼神里，悄然流露出恬静、淡雅的微笑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643280" y="24922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那微笑，有时让人觉得舒畅温柔，有时让人觉得略含哀伤，有时让人觉得十分亲切，有时又让人觉得有几分矜持。蒙娜丽莎那“神秘的微笑”是那样耐人寻味，难以捉摸。达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芬奇凭着他的天才想象力和他那神奇的画笔，使蒙娜丽莎转瞬即逝的面部表情，成了永恒的美的象征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64328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的身姿和交搭的双臂使她显得大方、端庄。她的脸部、颈部和双手好像沐浴在阳光里，格外明亮动人；她的右手，刻画得极其清晰细腻，富有生命的活力；她的朴素的茶褐色衣服更加衬托出特有的生命力。她身后的背景充满着幻觉般的神秘感，山峦、石桥、流水、树丛、小径，在朦胧中向远方蜿蜒隐去。在这空旷而深远的背景里，蒙娜丽莎更加美丽动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8388360" y="6308640"/>
            <a:ext cx="431640" cy="360360"/>
          </a:xfrm>
          <a:custGeom>
            <a:avLst/>
            <a:gdLst>
              <a:gd name="textAreaLeft" fmla="*/ 22320 w 431640"/>
              <a:gd name="textAreaRight" fmla="*/ 409320 w 431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518" y="1350"/>
                </a:lnTo>
                <a:lnTo>
                  <a:pt x="1350" y="135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518" y="20250"/>
                </a:lnTo>
                <a:lnTo>
                  <a:pt x="24518" y="135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18" y="2025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68" h="21600">
                <a:moveTo>
                  <a:pt x="5890" y="10800"/>
                </a:moveTo>
                <a:lnTo>
                  <a:pt x="19978" y="3756"/>
                </a:lnTo>
                <a:lnTo>
                  <a:pt x="19978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2:38:5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41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