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F727-FDE0-4CE5-967D-7CD04C9E8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1EA2-E402-41A1-87F6-EEC4518E5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B77E-CAF4-4A61-9491-680C65373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513C-742D-4219-9C5C-080B0FFD0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444E-720B-4014-906A-A0CD3192E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1C08-0D34-4B09-8337-65A29AAF5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AAB0-2A21-4E9E-8A99-18A2AC40A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AE32-597C-4879-A39F-7963EB6AA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5E4E-B043-4E2C-9719-71C165B11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D0E9-9F3E-43DE-9004-FD0BA510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687C-3DCD-4A92-9497-D526F641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38E1-EAEC-49CA-B5A0-432D2684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28413-2081-46CD-AD69-04AA58DE972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11"/>
          <p:cNvPicPr/>
          <p:nvPr/>
        </p:nvPicPr>
        <p:blipFill>
          <a:blip r:embed="rId1"/>
          <a:stretch/>
        </p:blipFill>
        <p:spPr>
          <a:xfrm>
            <a:off x="12600" y="3240"/>
            <a:ext cx="12281040" cy="6889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746520" y="2028960"/>
            <a:ext cx="557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母亲节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模板下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12"/>
          <p:cNvPicPr/>
          <p:nvPr/>
        </p:nvPicPr>
        <p:blipFill>
          <a:blip r:embed="rId1"/>
          <a:stretch/>
        </p:blipFill>
        <p:spPr>
          <a:xfrm>
            <a:off x="-1440" y="-22320"/>
            <a:ext cx="1218384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13"/>
          <p:cNvPicPr/>
          <p:nvPr/>
        </p:nvPicPr>
        <p:blipFill>
          <a:blip r:embed="rId1"/>
          <a:stretch/>
        </p:blipFill>
        <p:spPr>
          <a:xfrm>
            <a:off x="0" y="9360"/>
            <a:ext cx="1217124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14"/>
          <p:cNvPicPr/>
          <p:nvPr/>
        </p:nvPicPr>
        <p:blipFill>
          <a:blip r:embed="rId1"/>
          <a:stretch/>
        </p:blipFill>
        <p:spPr>
          <a:xfrm>
            <a:off x="22320" y="-1440"/>
            <a:ext cx="12202920" cy="68832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780840" y="365040"/>
            <a:ext cx="14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1208160" y="2013120"/>
            <a:ext cx="995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请输入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6"/>
          <p:cNvSpPr/>
          <p:nvPr/>
        </p:nvSpPr>
        <p:spPr>
          <a:xfrm>
            <a:off x="281160" y="5284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15"/>
          <p:cNvPicPr/>
          <p:nvPr/>
        </p:nvPicPr>
        <p:blipFill>
          <a:blip r:embed="rId1"/>
          <a:stretch/>
        </p:blipFill>
        <p:spPr>
          <a:xfrm>
            <a:off x="0" y="1440"/>
            <a:ext cx="12185640" cy="6878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606920" y="2589120"/>
            <a:ext cx="30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6:30:41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