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176-5311-4576-9673-D30CE4F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084-E0F4-416D-BBFD-E7871C3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B4-C11D-42C3-8CD1-1A1339D2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8EB-1F73-4861-B08B-4823CE90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EFC7-5970-4E65-8A70-0BC6FC2B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549-F44C-4A78-9733-A80068A5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036-0784-4304-8AA9-D3717E1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5C5-A2F1-49B4-9795-EE7BBFDA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0105-5383-48CC-B0E7-90BD1C4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59C-3018-4E30-A6BA-66503E4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D6CF-C0B9-463A-A537-04E3C52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AB8-F71E-44B3-9276-11467968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3017-DA98-47B9-896E-08555E11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97F5-B038-48FF-8163-C0182F2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4910-F88C-45C2-9FBE-67C1422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28BB-55FD-46E6-858A-D945AE65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D8BA-3676-4758-83D6-55BBE500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5C6-2961-46B2-ADDF-C1EF5284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76F-673B-4DB1-B409-126542DB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FAE-1D75-4FE6-9453-03C4950E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57C-8407-43D1-A607-5B0D91E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644-CC21-4892-929E-7CB9032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03F-1E10-429F-AA1E-45A9CE0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AC4-4BA9-456E-A296-D19121A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Verdana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Verdan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Verdana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Verdana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DD6-B24D-4751-8BD8-248E371D317D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8CE-9520-4042-A64E-64F9DC41F4B5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999-045A-47BA-828C-DF8AC7B8362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676520" y="19051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明治维新</a:t>
            </a:r>
            <a:endParaRPr b="0" lang="en-US" sz="12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791320" y="55627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主讲：杨选洲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设计：王学明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457200"/>
            <a:ext cx="4191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高中世界历史上册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zh-CN" sz="1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第三章、第五节</a:t>
            </a:r>
            <a:endParaRPr b="0" lang="en-US" sz="16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914400" y="12952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599480" y="114300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446480" y="152388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66680" y="1905120"/>
            <a:ext cx="266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2819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西方的入侵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733920" y="12952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886200" y="1676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内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666880" y="2819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——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外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60440" y="19051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d"/>
          <p:cNvPicPr/>
          <p:nvPr/>
        </p:nvPicPr>
        <p:blipFill>
          <a:blip r:embed="rId1"/>
          <a:stretch/>
        </p:blipFill>
        <p:spPr>
          <a:xfrm>
            <a:off x="1295280" y="0"/>
            <a:ext cx="587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d3"/>
          <p:cNvPicPr/>
          <p:nvPr/>
        </p:nvPicPr>
        <p:blipFill>
          <a:blip r:embed="rId1"/>
          <a:stretch/>
        </p:blipFill>
        <p:spPr>
          <a:xfrm>
            <a:off x="1565280" y="789120"/>
            <a:ext cx="601200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90720" y="1066680"/>
            <a:ext cx="7391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、在以上背景中，</a:t>
            </a:r>
            <a:endParaRPr b="0" lang="en-US" sz="40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明治维新的根本原因是什么？</a:t>
            </a:r>
            <a:endParaRPr b="0" lang="en-US" sz="4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42900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ff"/>
                </a:solidFill>
                <a:latin typeface="Times New Roman"/>
              </a:rPr>
              <a:t>答：资本主义生产关系的形成及影响。</a:t>
            </a:r>
            <a:endParaRPr b="0" lang="en-US" sz="40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ff"/>
                </a:solidFill>
                <a:latin typeface="Times New Roman"/>
              </a:rPr>
              <a:t>（从生产力与生产关系的矛盾分析）</a:t>
            </a:r>
            <a:endParaRPr b="0" lang="en-US" sz="40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9"/>
          <p:cNvSpPr/>
          <p:nvPr/>
        </p:nvSpPr>
        <p:spPr>
          <a:xfrm>
            <a:off x="990720" y="1143000"/>
            <a:ext cx="304560" cy="2057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675800" y="99072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0" y="137160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143000" y="175248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143000" y="2666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西方的入侵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809880" y="11430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962520" y="15238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内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743200" y="2666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——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外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143000" y="3124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武装倒幕的胜利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前提条件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4495680" y="167652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36400" y="167652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d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d4"/>
          <p:cNvPicPr/>
          <p:nvPr/>
        </p:nvPicPr>
        <p:blipFill>
          <a:blip r:embed="rId1"/>
          <a:stretch/>
        </p:blipFill>
        <p:spPr>
          <a:xfrm>
            <a:off x="2200320" y="147600"/>
            <a:ext cx="47433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d2"/>
          <p:cNvPicPr/>
          <p:nvPr/>
        </p:nvPicPr>
        <p:blipFill>
          <a:blip r:embed="rId1"/>
          <a:stretch/>
        </p:blipFill>
        <p:spPr>
          <a:xfrm>
            <a:off x="1508040" y="439560"/>
            <a:ext cx="6126120" cy="59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90720" y="12193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、什么叫明治维新？</a:t>
            </a:r>
            <a:endParaRPr b="0" lang="en-US" sz="4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5146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答：推翻幕府统治后，明治政府一方面采取措施巩固天皇为首的新政权，另一方面，“求知识于世界”，向西方国家学习，积极发展资本主义经济，力争实现民族振兴，摆脱外来压迫，建立近代化的国家。历史上称为“明治维新”。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d7"/>
          <p:cNvPicPr/>
          <p:nvPr/>
        </p:nvPicPr>
        <p:blipFill>
          <a:blip r:embed="rId1"/>
          <a:stretch/>
        </p:blipFill>
        <p:spPr>
          <a:xfrm>
            <a:off x="1609560" y="914400"/>
            <a:ext cx="59230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7200" y="533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一、在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19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世纪末中国面临严重民族危机的情况下，出现了资产阶级领导的什么改革？结果如何？说明了什么？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答：戊戌变法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，失败了，说明了资产阶级改良道路在中国是行不通的。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1066680" y="11430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51760" y="99072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598760" y="137160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19320" y="175248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219320" y="2666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西方的入侵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886200" y="11430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038480" y="1523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内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819520" y="2666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——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外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19320" y="3124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武装倒幕的胜利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前提条件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4572000" y="167652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712040" y="2247840"/>
            <a:ext cx="393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措施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952880" y="19051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029200" y="1905120"/>
            <a:ext cx="1066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政治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经济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军事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文化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9040" y="1828800"/>
            <a:ext cx="546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2" descr=""/>
          <p:cNvPicPr/>
          <p:nvPr/>
        </p:nvPicPr>
        <p:blipFill>
          <a:blip r:embed="rId1"/>
          <a:stretch/>
        </p:blipFill>
        <p:spPr>
          <a:xfrm>
            <a:off x="1514520" y="1676520"/>
            <a:ext cx="6113520" cy="4078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905120" y="609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措施简表（一）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1397160"/>
          <a:ext cx="6095880" cy="268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目的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经济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军事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文化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d8"/>
          <p:cNvPicPr/>
          <p:nvPr/>
        </p:nvPicPr>
        <p:blipFill>
          <a:blip r:embed="rId1"/>
          <a:stretch/>
        </p:blipFill>
        <p:spPr>
          <a:xfrm>
            <a:off x="582480" y="839880"/>
            <a:ext cx="79790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d10"/>
          <p:cNvPicPr/>
          <p:nvPr/>
        </p:nvPicPr>
        <p:blipFill>
          <a:blip r:embed="rId1"/>
          <a:stretch/>
        </p:blipFill>
        <p:spPr>
          <a:xfrm>
            <a:off x="747720" y="1143000"/>
            <a:ext cx="7647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d9"/>
          <p:cNvPicPr/>
          <p:nvPr/>
        </p:nvPicPr>
        <p:blipFill>
          <a:blip r:embed="rId1"/>
          <a:stretch/>
        </p:blipFill>
        <p:spPr>
          <a:xfrm>
            <a:off x="674640" y="870120"/>
            <a:ext cx="779472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d5"/>
          <p:cNvPicPr/>
          <p:nvPr/>
        </p:nvPicPr>
        <p:blipFill>
          <a:blip r:embed="rId1"/>
          <a:stretch/>
        </p:blipFill>
        <p:spPr>
          <a:xfrm>
            <a:off x="1476360" y="399960"/>
            <a:ext cx="6191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d6"/>
          <p:cNvPicPr/>
          <p:nvPr/>
        </p:nvPicPr>
        <p:blipFill>
          <a:blip r:embed="rId1"/>
          <a:stretch/>
        </p:blipFill>
        <p:spPr>
          <a:xfrm>
            <a:off x="1000080" y="136440"/>
            <a:ext cx="71438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7"/>
          <p:cNvSpPr/>
          <p:nvPr/>
        </p:nvSpPr>
        <p:spPr>
          <a:xfrm>
            <a:off x="1905120" y="609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措施简表（二）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3880" y="1397160"/>
          <a:ext cx="6324480" cy="4241520"/>
        </p:xfrm>
        <a:graphic>
          <a:graphicData uri="http://schemas.openxmlformats.org/drawingml/2006/table">
            <a:tbl>
              <a:tblPr/>
              <a:tblGrid>
                <a:gridCol w="1066680"/>
                <a:gridCol w="2997360"/>
                <a:gridCol w="2260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目的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废藩置县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取消武士特权，取消对人民限制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加强中央集权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经济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承认土地私有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引进西方技术，发展工商业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发展资本主义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军事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实行征兵制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为对外扩张创造条件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文化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文明开化”政策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发展近代教育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8"/>
          <p:cNvSpPr/>
          <p:nvPr/>
        </p:nvSpPr>
        <p:spPr>
          <a:xfrm>
            <a:off x="762120" y="1295280"/>
            <a:ext cx="304560" cy="2057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4320" y="179064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1447200" y="114300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1294200" y="152388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914400" y="19051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914400" y="2819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西方的入侵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8" name="AutoShape 44"/>
          <p:cNvSpPr/>
          <p:nvPr/>
        </p:nvSpPr>
        <p:spPr>
          <a:xfrm>
            <a:off x="3581280" y="12952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79" name="Text Box 45"/>
          <p:cNvSpPr/>
          <p:nvPr/>
        </p:nvSpPr>
        <p:spPr>
          <a:xfrm>
            <a:off x="3733920" y="1676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内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0" name="Text Box 46"/>
          <p:cNvSpPr/>
          <p:nvPr/>
        </p:nvSpPr>
        <p:spPr>
          <a:xfrm>
            <a:off x="2514600" y="2819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——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外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914400" y="32767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武装倒幕的胜利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前提条件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2" name="AutoShape 48"/>
          <p:cNvSpPr/>
          <p:nvPr/>
        </p:nvSpPr>
        <p:spPr>
          <a:xfrm>
            <a:off x="4267080" y="182880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407120" y="2400480"/>
            <a:ext cx="393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措施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4" name="AutoShape 50"/>
          <p:cNvSpPr/>
          <p:nvPr/>
        </p:nvSpPr>
        <p:spPr>
          <a:xfrm>
            <a:off x="4648320" y="22478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4572000" y="2187720"/>
            <a:ext cx="1066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政治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经济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军事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文化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6" name="AutoShape 52"/>
          <p:cNvSpPr/>
          <p:nvPr/>
        </p:nvSpPr>
        <p:spPr>
          <a:xfrm>
            <a:off x="5715000" y="2286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7" name="Text Box 53"/>
          <p:cNvSpPr/>
          <p:nvPr/>
        </p:nvSpPr>
        <p:spPr>
          <a:xfrm>
            <a:off x="519840" y="19969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8" name="Text Box 54"/>
          <p:cNvSpPr/>
          <p:nvPr/>
        </p:nvSpPr>
        <p:spPr>
          <a:xfrm>
            <a:off x="5505120" y="2324160"/>
            <a:ext cx="60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成功原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9" name="AutoShape 55"/>
          <p:cNvSpPr/>
          <p:nvPr/>
        </p:nvSpPr>
        <p:spPr>
          <a:xfrm>
            <a:off x="6019920" y="22096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6019920" y="2187720"/>
            <a:ext cx="2035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社会背景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领导力量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具体措施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国际环境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1" name="AutoShape 57"/>
          <p:cNvSpPr/>
          <p:nvPr/>
        </p:nvSpPr>
        <p:spPr>
          <a:xfrm>
            <a:off x="7238880" y="2209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43000" y="18604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明治维新成功的原因有哪些？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戊戌变法失败的原因又有哪些？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提示从社会背景、领导力量、具体措施、国际环境四方面讨论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日本明治维新与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中国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戊戌变法对比表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838080"/>
          <a:ext cx="8076960" cy="5641920"/>
        </p:xfrm>
        <a:graphic>
          <a:graphicData uri="http://schemas.openxmlformats.org/drawingml/2006/table">
            <a:tbl>
              <a:tblPr/>
              <a:tblGrid>
                <a:gridCol w="914040"/>
                <a:gridCol w="3505320"/>
                <a:gridCol w="3657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明治维新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戊戌变法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社会背景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人民的反抗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新兴地主、商人不满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统治阶级内部（大名、中下武士）分化，幕府成为众矢之的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封建危机严重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封建统治者与帝国主义勾结，封建势力较强大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领导力量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中下级武士、新兴地主等联合力量强大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资产阶级力量较弱，仅把希望寄托在无实权的皇帝身上，顽固派力量强大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具体措施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推翻幕府后明治政府，发布的一系列除旧布新的改革措施，大力推行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光绪帝颁布了一系列变法诏书，但由于资产阶级无实权和顽固派强大，无法推行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国际环境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发生在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世纪中期自由资本主义时期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西方对中国的入侵和中国人民的反抗，客观上为日本提供了较为有利的国际环境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发生在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世纪末向帝国主义过渡阶段，成为列强瓜分对象（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帝国主义决不愿意中国成为独立强大的资本主义国家，国际环境对中国不利。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762120" y="1295280"/>
            <a:ext cx="304560" cy="2057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320" y="179064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47200" y="114300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294200" y="152388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914400" y="19051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914400" y="2819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西方的入侵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581280" y="12952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33920" y="1676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内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514600" y="2819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——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外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14400" y="32767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武装倒幕的胜利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————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前提条件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4267080" y="182880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407120" y="2400480"/>
            <a:ext cx="393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措施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4648320" y="22478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800600" y="2187720"/>
            <a:ext cx="1066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政治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经济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军事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文化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5715000" y="2286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19840" y="19969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5505120" y="2324160"/>
            <a:ext cx="60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成功原因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2" name="AutoShape 19"/>
          <p:cNvSpPr/>
          <p:nvPr/>
        </p:nvSpPr>
        <p:spPr>
          <a:xfrm>
            <a:off x="6019920" y="22096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6019920" y="2187720"/>
            <a:ext cx="2035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社会背景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领导力量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具体措施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国际环境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238880" y="2209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74674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意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9"/>
          <p:cNvSpPr/>
          <p:nvPr/>
        </p:nvSpPr>
        <p:spPr>
          <a:xfrm>
            <a:off x="762120" y="7621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明治维新有何历史意义？其进步性和局限性如何？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685800" y="20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答：（</a:t>
            </a:r>
            <a:r>
              <a:rPr b="0" lang="en-US" sz="2400" spc="-1" strike="noStrike">
                <a:solidFill>
                  <a:srgbClr val="cc66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）明治维新使日本改变了封建落后状况，走上了发展资本主义的道路。（</a:t>
            </a:r>
            <a:r>
              <a:rPr b="0" lang="en-US" sz="2400" spc="-1" strike="noStrike">
                <a:solidFill>
                  <a:srgbClr val="cc66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）是亚洲近代唯一走上独立发展的国家，很快成为亚洲强国。（</a:t>
            </a:r>
            <a:r>
              <a:rPr b="0" lang="en-US" sz="2400" spc="-1" strike="noStrike">
                <a:solidFill>
                  <a:srgbClr val="cc66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）明治维新为亚洲国家一些立志摆脱落后状况、实现民族振兴的人们提供了某些经验。（</a:t>
            </a:r>
            <a:r>
              <a:rPr b="0" lang="en-US" sz="2400" spc="-1" strike="noStrike">
                <a:solidFill>
                  <a:srgbClr val="cc66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）但是，日本封建残余势力仍然很大。（</a:t>
            </a:r>
            <a:r>
              <a:rPr b="0" lang="en-US" sz="2400" spc="-1" strike="noStrike">
                <a:solidFill>
                  <a:srgbClr val="cc66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）明治维新后，随着经济军事实力的增长，日本竭力推行军国主义，开始对亚洲邻国进行侵略扩张，成为新兴的帝国主义国家。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8288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课堂练习</a:t>
            </a:r>
            <a:endParaRPr b="0" lang="en-US" sz="3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一、单项选择题：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04920" y="1219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日本出现明治维新的根本原因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0" y="1600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人民的反抗                   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西方的入侵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资本主义生产关系的形成及影响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幕府的腐朽统治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334120" y="1219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0492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853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年，首先入侵日本的西方国家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43080" y="3200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英国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法国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俄国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美国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8672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886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在倒幕运动中，倒幕派的主力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5720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新兴地主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资本家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大名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中下级武士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0292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0492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日本明治维新中实行“废藩置县”，其中的“藩”指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43080" y="5562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幕府的领地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大名的领地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武士的领地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天皇的领地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238880" y="5029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明治维新中对封建土地所有制改造采取的中心措施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990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土地国家化统一征收地税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废除领主土地所有制拍卖土地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国家租土地给私人建立农场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承认土地私有允许土地拍卖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7620120" y="304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0" y="2514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与戊戌变法比较，明治维新能够成功的显著背景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0" y="304812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受西方资本主义的影响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自上而下实行经济改革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封建专制统治比较薄弱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农民阶级支持全面改革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723888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0" y="4419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二、课后作业：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同步练习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相关内容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三、课后思考题：日、俄走上资本主义道路有何异同点？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pic>
          <p:nvPicPr>
            <p:cNvPr id="2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066680" y="13716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51760" y="121932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12720" y="1981080"/>
            <a:ext cx="546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d12"/>
          <p:cNvPicPr/>
          <p:nvPr/>
        </p:nvPicPr>
        <p:blipFill>
          <a:blip r:embed="rId1"/>
          <a:stretch/>
        </p:blipFill>
        <p:spPr>
          <a:xfrm>
            <a:off x="4952880" y="266760"/>
            <a:ext cx="3438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914400" y="12841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599480" y="113184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446480" y="160020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6400" y="1866960"/>
            <a:ext cx="546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d13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914400" y="12193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8840" y="1371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明治维新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99480" y="1066680"/>
            <a:ext cx="18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闭关锁国的幕府统治（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  <a:ea typeface="黑体"/>
              </a:rPr>
              <a:t>政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46480" y="1447920"/>
            <a:ext cx="219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人民的反抗                （ 阶）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143000" y="19051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）资本主义生产关系的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zh-CN" sz="1400" spc="-1" strike="noStrike">
                <a:solidFill>
                  <a:srgbClr val="660066"/>
                </a:solidFill>
                <a:latin typeface="Times New Roman"/>
              </a:rPr>
              <a:t>形成及影响                （经） </a:t>
            </a:r>
            <a:endParaRPr b="0" lang="en-US" sz="14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0440" y="175248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d11"/>
          <p:cNvPicPr/>
          <p:nvPr/>
        </p:nvPicPr>
        <p:blipFill>
          <a:blip r:embed="rId1"/>
          <a:stretch/>
        </p:blipFill>
        <p:spPr>
          <a:xfrm>
            <a:off x="952560" y="239760"/>
            <a:ext cx="72388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4T03:11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50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