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wmf" ContentType="image/x-wmf"/>
  <Override PartName="/ppt/media/image27.jpeg" ContentType="image/jpeg"/>
  <Override PartName="/ppt/media/image26.jpeg" ContentType="image/jpeg"/>
  <Override PartName="/ppt/media/image23.gif" ContentType="image/gif"/>
  <Override PartName="/ppt/media/image15.gif" ContentType="image/gif"/>
  <Override PartName="/ppt/media/image28.jpeg" ContentType="image/jpeg"/>
  <Override PartName="/ppt/media/image22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9CA-BE37-476E-ADA5-337104B4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61F-C6ED-4CC8-9869-07994996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98454-A683-4B2E-B909-ABF209A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1C691-DC06-46EC-A04F-F1CB68AE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C39FC-5092-4907-91E3-C17154F3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1B8C-4FB1-4BD6-8433-898935D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A13DA-0BE0-4E4A-BB60-602EE26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54583-BFBF-46D8-8283-842E54A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1EC4D-3A88-49C7-A335-6B64BE4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A4D65-903E-4716-8FDB-0D313E69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FF3A-28FB-465E-886A-D7437380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7E0-A677-443B-A80C-AFE8929A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ADB-B491-4DFA-82E7-EA705CFD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CC0F-3DAD-4F2C-8B73-E519B510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3679-B7D5-4DF3-8ADD-382507E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164-48F4-4CC6-A672-B568A75B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8423-C3B8-48B7-A707-45FD7A34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A772-0F57-4209-B7A6-BC9CC74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2EF3-C079-4633-934B-20729CA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1AFD-6175-4257-93E2-B0F69FB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5A8-1F80-4539-A1CA-0336B67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F458-0873-436E-B9D0-811A565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A61B-AC5B-4081-A442-E964662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BC21-8D99-4427-9AF5-F93A632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8A57-4143-4C0B-B97F-468F4778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837E-996B-4420-AFCA-5AD2C50D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F9C8-4EA2-4621-8E1D-56628DF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08D4-F5BC-45AA-AE4C-E3804B5A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B901-C668-4439-93BC-D906B84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41B9-C5CD-48CD-99F8-DA00F6E6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9273-8997-432B-8787-0B6BE95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880-4426-4056-9F11-C609911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A35D-AA39-4F3E-8418-259C311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4749-58FA-46A1-9F96-108B4A91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F3E2-6AC4-4D67-987B-1049A4C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4361-B1DA-4526-AA71-70FF113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773A-271C-4B35-8D61-FFEC718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4031-9D61-4400-AD1D-8BB8D6E4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C40A-680C-40B6-9177-1465E955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D6D7-6A24-4FF8-95A7-E271FFDC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904F-E6F3-4951-9E2C-D7448E58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DAFC-9EF1-4EEB-8F24-376DD6A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7CA-1436-48F4-A37F-2F21923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ADC2-221F-4E0C-8C87-960B75CD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8EA0-3E5D-470A-A42C-40059CB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8DC4-C058-462D-9A20-EBC69D7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21DF-856D-4FA3-98FD-834C16B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4D61-C63C-4F77-A880-8B01C3F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ABD1-0CEE-4721-8EE4-E9A1FF2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9706-7F9B-4B9E-A70A-560402D9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F80E-A9E5-4D4E-9B8C-3DA9CC2E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0209-7EB5-457C-BE15-51B5784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F399-6A6F-4DB8-912B-7392F084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061-58D0-4D68-94C4-39E3C163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4A51-C596-4CDB-80F5-2526FE3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C27FF-74A5-41EF-BC45-F0E4B11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7761-A19F-4F46-97D0-747197E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86AE-CCD8-4454-AF75-17B03739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732E-2AC1-460E-8B0F-E5C6BE6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B47F-16BF-48E3-A0C1-60CC973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7CF0-E868-4D60-A52B-5E98050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AC94-82A2-4731-ABF6-CE4C8A3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E478-EAAB-4768-B485-DAAFD755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6307-2D8E-45D8-B56A-F5C8C2B3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86F-F766-422B-866A-944CE7E6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7A60-DA3C-4B88-A6F0-EA35407B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7251D-C591-4B1C-8E33-7B876A69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EE66-304C-433C-BD52-52B0D4E2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DB54-EF82-40A6-B87C-C7F803BC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A4549-B278-47C1-AB96-0721C51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F00A-88E7-4533-BF61-4EB6AEB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FC03-4B89-4DFA-8142-2F5EE6A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959F-EF65-4725-A33B-6E0626F0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FCF0-AAE8-4C28-B928-DC413BA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3FB9-6572-47DC-A7BE-BBF2323B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AC8-B9E3-4C38-86D4-0DD3D59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3560-F8F3-44AA-9624-EAC30E9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78C9-E283-4154-889A-60C564D9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A02C-C053-4D74-A0F0-F4630AE4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DB77-31F2-4BD9-B7CB-EC9F0A27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2C49-7128-4A86-AB81-03801D4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7416-DB1A-4B13-9908-607F2BE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D669-263D-44F9-B3B6-489847F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D516-E6B7-4B8B-95EF-489B7D45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2968-9D62-4D5D-91CF-8F425A9B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1158-3D34-48B5-BA1B-85DC21D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C1F-C733-4346-A979-6A8CDA9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F7A5-0B3E-467C-B59C-88E20CA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8557-72A0-4589-B544-9009C16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CB4C-97C4-4DC2-9F23-BE041F2C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28D5-718A-4198-9BC8-64E0CD9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BB87-D6C2-4200-A8F9-AD7F25FC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2505-F9A9-4A5B-AC9C-2B5A65FF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A691-DD04-4879-94B1-E225346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BA76-A14B-4972-96A0-41C2BA0E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8AAC-22DA-4060-9A47-A51D0385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6D45D-2E72-47AA-B8A6-6937D089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56B-7049-4AB3-B348-28BA63A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892F-E148-43A5-8EA1-8FE8C47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B1D2F-5D4F-4407-BABA-C4FA07F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80A6-82A7-4D89-8F68-0F6B08A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E205-D215-4358-BCD4-83FA47EC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228F-AEEE-415B-B527-3E3F016F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E28A-F136-40BD-9D3E-75F7D2C0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8C70-B080-4EB5-ADBF-BEA5618C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3EA43-D646-4997-BE90-3F2FFB2F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3424-9BB5-4A87-A7E7-62B2D317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74A1D-3D45-44F5-9A8C-FF950077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97A-E423-4B5A-81AB-18272C15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F1F-6863-4DF3-A39D-E308563D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A0B8-57CE-462B-8F28-B44A2E72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4A5-E13F-4B94-B9F2-BE782535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191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192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194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0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21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278-CDBE-44B8-8181-3389625D07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87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AA6A-4D2A-4476-946A-4A22C94B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94E-C28E-48F0-82AA-D35C2A70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618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0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F45B-3E8C-4C7D-9F24-5C2496D62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6801-427C-4E4D-AF04-8832E2C8F2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82C-D3F7-4259-ADCC-462CA55B1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pic136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7"/>
          <p:cNvSpPr/>
          <p:nvPr/>
        </p:nvSpPr>
        <p:spPr>
          <a:xfrm>
            <a:off x="8122320" y="252360"/>
            <a:ext cx="7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义务教育语文第十一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0"/>
          <p:cNvSpPr/>
          <p:nvPr/>
        </p:nvSpPr>
        <p:spPr>
          <a:xfrm>
            <a:off x="250920" y="6093000"/>
            <a:ext cx="936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UE</a:t>
            </a:r>
            <a:r>
              <a:rPr b="1" lang="en-US" sz="1800" spc="-1" strike="noStrike" baseline="30000">
                <a:solidFill>
                  <a:srgbClr val="ffff99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兴明了00"/>
          <p:cNvPicPr/>
          <p:nvPr/>
        </p:nvPicPr>
        <p:blipFill>
          <a:blip r:embed="rId3"/>
          <a:stretch/>
        </p:blipFill>
        <p:spPr>
          <a:xfrm>
            <a:off x="6286680" y="5859360"/>
            <a:ext cx="2857320" cy="657360"/>
          </a:xfrm>
          <a:prstGeom prst="rect">
            <a:avLst/>
          </a:prstGeom>
          <a:ln w="0">
            <a:noFill/>
          </a:ln>
        </p:spPr>
      </p:pic>
      <p:pic>
        <p:nvPicPr>
          <p:cNvPr id="474" name="WordArt 12" descr=""/>
          <p:cNvPicPr/>
          <p:nvPr/>
        </p:nvPicPr>
        <p:blipFill>
          <a:blip r:embed="rId4"/>
          <a:stretch/>
        </p:blipFill>
        <p:spPr>
          <a:xfrm>
            <a:off x="347760" y="1042920"/>
            <a:ext cx="732780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</a:rPr>
              <a:t>复述：善良的牛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哥嫂虐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孤苦无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老牛亲密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003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380360" y="90792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复述：美满的生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老牛指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牛郎追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织女爱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男耕女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活美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tov-10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46844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Arial Black"/>
              </a:rPr>
              <a:t>复述：勇敢的抗争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抓关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王母下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捉拿织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郎追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河阻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勇敢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鹊桥相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Q_03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48360" y="765000"/>
            <a:ext cx="1368720" cy="102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牛郎织女传说是中国过去封建社        会男耕女织小农经济生活的艺术反映。它以封建家庭生活为背景，通过牛郎与织女结合又离散，只能七夕在天上相会一次的幻想情节，反映了封建宗法制度下的家庭关系及其造成的婚姻悲剧。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   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158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小结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8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民间故事幻想奇丽、情节动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体现了我国古代劳动人民的聪明才智和丰富的想象力，从中寄托了爱憎褒贬之情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故事表达了我国古代劳动人民对自由幸福生活的向往和追求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兴明了00"/>
          <p:cNvPicPr/>
          <p:nvPr/>
        </p:nvPicPr>
        <p:blipFill>
          <a:blip r:embed="rId1"/>
          <a:stretch/>
        </p:blipFill>
        <p:spPr>
          <a:xfrm>
            <a:off x="6286680" y="5950080"/>
            <a:ext cx="2857320" cy="65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152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朗读与口述民间故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完成课后练习三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10" descr="WW_028"/>
          <p:cNvPicPr/>
          <p:nvPr/>
        </p:nvPicPr>
        <p:blipFill>
          <a:blip r:embed="rId2"/>
          <a:stretch/>
        </p:blipFill>
        <p:spPr>
          <a:xfrm>
            <a:off x="6804000" y="5229360"/>
            <a:ext cx="13683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c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WordArt 7"/>
          <p:cNvSpPr txBox="1"/>
          <p:nvPr/>
        </p:nvSpPr>
        <p:spPr>
          <a:xfrm>
            <a:off x="1835280" y="1846440"/>
            <a:ext cx="5113080" cy="31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宋体"/>
              </a:rPr>
              <a:t>再见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7"/>
          <p:cNvSpPr/>
          <p:nvPr/>
        </p:nvSpPr>
        <p:spPr>
          <a:xfrm>
            <a:off x="325440" y="62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织女星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268360" y="422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这是牛郎织女星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250920" y="1915920"/>
            <a:ext cx="558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遥望夜空，你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发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4" descr="A1_226"/>
          <p:cNvPicPr/>
          <p:nvPr/>
        </p:nvPicPr>
        <p:blipFill>
          <a:blip r:embed="rId2"/>
          <a:stretch/>
        </p:blipFill>
        <p:spPr>
          <a:xfrm>
            <a:off x="6732720" y="3141720"/>
            <a:ext cx="2089080" cy="1839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5" descr="A3_107"/>
          <p:cNvPicPr/>
          <p:nvPr/>
        </p:nvPicPr>
        <p:blipFill>
          <a:blip r:embed="rId3"/>
          <a:stretch/>
        </p:blipFill>
        <p:spPr>
          <a:xfrm>
            <a:off x="250920" y="378000"/>
            <a:ext cx="952560" cy="6480000"/>
          </a:xfrm>
          <a:prstGeom prst="rect">
            <a:avLst/>
          </a:prstGeom>
          <a:ln w="0">
            <a:noFill/>
          </a:ln>
        </p:spPr>
      </p:pic>
      <p:sp>
        <p:nvSpPr>
          <p:cNvPr id="481" name="WordArt 27"/>
          <p:cNvSpPr txBox="1"/>
          <p:nvPr/>
        </p:nvSpPr>
        <p:spPr>
          <a:xfrm>
            <a:off x="1258920" y="1341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教学目标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WordArt 29"/>
          <p:cNvSpPr txBox="1"/>
          <p:nvPr/>
        </p:nvSpPr>
        <p:spPr>
          <a:xfrm>
            <a:off x="1187280" y="2349360"/>
            <a:ext cx="208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教学过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3" name="WordArt 30"/>
          <p:cNvSpPr txBox="1"/>
          <p:nvPr/>
        </p:nvSpPr>
        <p:spPr>
          <a:xfrm>
            <a:off x="1258920" y="314172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作业布置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WordArt 31"/>
          <p:cNvSpPr txBox="1"/>
          <p:nvPr/>
        </p:nvSpPr>
        <p:spPr>
          <a:xfrm>
            <a:off x="1476360" y="4149720"/>
            <a:ext cx="129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结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词教学：掌握“舔、咧、偎、簪、拗、刷”等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教学：了解民间故事幻想奇丽、情节动人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力教学：赏析、复述民间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感教学：感受我国古代劳动人民对自由幸福生活的向往并为之斗争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ZW_072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659640" y="5157720"/>
            <a:ext cx="117144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文体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921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民间故事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是在人民群众中间产生、流传的口头创作。它是以广阔的社会生活为背景，通过人们丰富的想象，以鲜明的人物形象、完整曲折的情节反映现实生活和人民愿望的口头文学作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Musbv5el"/>
          <p:cNvPicPr/>
          <p:nvPr/>
        </p:nvPicPr>
        <p:blipFill>
          <a:blip r:embed="rId2"/>
          <a:stretch/>
        </p:blipFill>
        <p:spPr>
          <a:xfrm>
            <a:off x="7956720" y="5950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-4581360" y="3816360"/>
          <a:ext cx="2724120" cy="62532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国民间年画中表现牛郎织女七夕相会的情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AutoShape 6"/>
          <p:cNvSpPr/>
          <p:nvPr/>
        </p:nvSpPr>
        <p:spPr>
          <a:xfrm>
            <a:off x="-3510000" y="3862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324000" y="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牛郎织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民间传说中的人物。牛郎和织女是从牛郎星和织女星的星名衍化而来的。汉魏间，民间即有此故事。故事中牛郎是人间的看牛郎，织女则是天帝之女。织女与牛郎婚配 ，并生一男一女，最后王母将其捉回，在两人之间划成一道天河，二人只能靠鹊桥每年七夕相会。它与孟姜女传说、白蛇传说、梁祝传说被称为中国四大传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2624040" y="6165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民间年画中表现牛郎织女七夕相会的情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4" descr="牛郎织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852640"/>
            <a:ext cx="6769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80880" y="609480"/>
            <a:ext cx="303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Arial"/>
                <a:ea typeface="黑体"/>
              </a:rPr>
              <a:t>教学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39640" y="321300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听课文录音，欣赏民间故事：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   </a:t>
            </a:r>
            <a:r>
              <a:rPr b="1" lang="en-US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1</a:t>
            </a: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、抓关键词，注意生字词。</a:t>
            </a:r>
            <a:br>
              <a:rPr sz="4800"/>
            </a:b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   </a:t>
            </a:r>
            <a:r>
              <a:rPr b="1" lang="en-US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2</a:t>
            </a:r>
            <a:r>
              <a:rPr b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、按练习一提示口述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QT_065"/>
          <p:cNvPicPr/>
          <p:nvPr/>
        </p:nvPicPr>
        <p:blipFill>
          <a:blip r:embed="rId2"/>
          <a:stretch/>
        </p:blipFill>
        <p:spPr>
          <a:xfrm>
            <a:off x="1619280" y="5805360"/>
            <a:ext cx="80784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舔（              ）咧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偎（              ）簪（             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拗（              ）刷（             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4" descr="031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04000" y="5589720"/>
            <a:ext cx="1081080" cy="8762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2987640" y="2349360"/>
            <a:ext cx="54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ăn                    li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ēi                     zā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iù                 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244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理清结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结合文后练习一，同桌间讨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187280" y="2565360"/>
            <a:ext cx="86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2124000" y="2421000"/>
            <a:ext cx="432000" cy="38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2700360" y="2060640"/>
            <a:ext cx="381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善良的牛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美满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勇敢的抗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084720" y="206064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—— 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6084720" y="393372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——2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6046920" y="58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——2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2" descr="10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40720" y="333360"/>
            <a:ext cx="8650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11:26:0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28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