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F78-56C8-4F90-8E86-CF4F94F0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1DD-5AE6-461F-8D0A-CD381CD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C66-C50C-4173-8EBC-2D8A8B14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2AA-316B-4B27-A600-E9BCF296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323-D768-4DAD-8C70-15E89219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FE6-D4D9-4919-A71B-18348A6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8F9-6F18-4ADB-AEDC-3E48B434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DC7-6B4B-4693-85ED-AA2413B5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E90-6740-4BE8-9F48-FD3C959D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22E-D0DC-422A-9215-FB15A53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0CC-3494-4367-8D18-5D29507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91C-466F-4098-81FC-B658F24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9C89-8C1B-4F9A-9EFB-CF55A0B7F3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olorful_Pencils_by_colgatiN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1295280" y="22860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5238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0666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bstract_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bstract_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495680" y="5775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6765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abstract_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324480" y="6400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6338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24852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400800" y="5791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655308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bstract_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widewallpapers_eu_119746353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743200" y="5715000"/>
            <a:ext cx="64008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220968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36232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251460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66688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209680" y="646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bstract_010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624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35268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bstract_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58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228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60199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17220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632448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vague_by_djeric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304920" y="228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57200" y="3808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609480" y="5335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762120" y="685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20040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95880" y="747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5:22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9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