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20A7-F4CB-49F9-9A81-1CA55B85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B0D1-DDE6-4D18-803F-F85DF10B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F68C-5C27-43FF-8513-37BF296D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961-1DAE-49AC-BC88-9E81AB4B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99A2-E82C-44D4-8E24-E1AFBEC8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665-4AA9-445E-BCED-3D42F3D0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1913-BC1A-4A1B-9684-A75130E3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74D-5B46-4CA4-8088-7BF84A14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74A-59DD-4D18-834C-3612D097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383-D022-4B3A-9BD8-907A1E1A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9D8-D200-495C-9D42-80E84631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C42-8ED3-426B-831B-CA445586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71760" indent="-22392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19960" indent="-22392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568160" indent="-22392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16000" indent="-22392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16000" indent="-22392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16000" indent="-22392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681D-8C70-4EDF-B2EE-D3D6AD988B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5"/>
          <p:cNvSpPr/>
          <p:nvPr/>
        </p:nvSpPr>
        <p:spPr>
          <a:xfrm>
            <a:off x="0" y="0"/>
            <a:ext cx="12192120" cy="6865920"/>
          </a:xfrm>
          <a:prstGeom prst="rect">
            <a:avLst/>
          </a:prstGeom>
          <a:gradFill rotWithShape="0">
            <a:gsLst>
              <a:gs pos="0">
                <a:srgbClr val="e4ded0"/>
              </a:gs>
              <a:gs pos="100000">
                <a:srgbClr val="eeed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2"/>
          <p:cNvGrpSpPr/>
          <p:nvPr/>
        </p:nvGrpSpPr>
        <p:grpSpPr>
          <a:xfrm>
            <a:off x="-381240" y="-675000"/>
            <a:ext cx="4905720" cy="3324960"/>
            <a:chOff x="-381240" y="-675000"/>
            <a:chExt cx="4905720" cy="3324960"/>
          </a:xfrm>
        </p:grpSpPr>
        <p:sp>
          <p:nvSpPr>
            <p:cNvPr id="43" name="任意多边形 12"/>
            <p:cNvSpPr/>
            <p:nvPr/>
          </p:nvSpPr>
          <p:spPr>
            <a:xfrm>
              <a:off x="2940120" y="1146240"/>
              <a:ext cx="1584360" cy="1239840"/>
            </a:xfrm>
            <a:custGeom>
              <a:avLst/>
              <a:gdLst/>
              <a:ahLst/>
              <a:rect l="l" t="t" r="r" b="b"/>
              <a:pathLst>
                <a:path w="3708493" h="3338539">
                  <a:moveTo>
                    <a:pt x="1132135" y="8165"/>
                  </a:moveTo>
                  <a:lnTo>
                    <a:pt x="1183221" y="8546"/>
                  </a:lnTo>
                  <a:lnTo>
                    <a:pt x="1209872" y="66729"/>
                  </a:lnTo>
                  <a:lnTo>
                    <a:pt x="1233450" y="3590"/>
                  </a:lnTo>
                  <a:lnTo>
                    <a:pt x="1287214" y="0"/>
                  </a:lnTo>
                  <a:lnTo>
                    <a:pt x="1337872" y="6599"/>
                  </a:lnTo>
                  <a:lnTo>
                    <a:pt x="1341676" y="18581"/>
                  </a:lnTo>
                  <a:lnTo>
                    <a:pt x="1370133" y="21822"/>
                  </a:lnTo>
                  <a:lnTo>
                    <a:pt x="1390807" y="83460"/>
                  </a:lnTo>
                  <a:lnTo>
                    <a:pt x="1418258" y="28510"/>
                  </a:lnTo>
                  <a:lnTo>
                    <a:pt x="1472100" y="30621"/>
                  </a:lnTo>
                  <a:lnTo>
                    <a:pt x="1521777" y="42540"/>
                  </a:lnTo>
                  <a:lnTo>
                    <a:pt x="1523745" y="52172"/>
                  </a:lnTo>
                  <a:lnTo>
                    <a:pt x="1529696" y="43978"/>
                  </a:lnTo>
                  <a:lnTo>
                    <a:pt x="1584794" y="55149"/>
                  </a:lnTo>
                  <a:lnTo>
                    <a:pt x="1630403" y="73960"/>
                  </a:lnTo>
                  <a:lnTo>
                    <a:pt x="1632547" y="132156"/>
                  </a:lnTo>
                  <a:lnTo>
                    <a:pt x="1677454" y="83963"/>
                  </a:lnTo>
                  <a:lnTo>
                    <a:pt x="1709913" y="94796"/>
                  </a:lnTo>
                  <a:lnTo>
                    <a:pt x="1710923" y="93677"/>
                  </a:lnTo>
                  <a:lnTo>
                    <a:pt x="1764531" y="110609"/>
                  </a:lnTo>
                  <a:lnTo>
                    <a:pt x="1800132" y="129922"/>
                  </a:lnTo>
                  <a:lnTo>
                    <a:pt x="1829922" y="117700"/>
                  </a:lnTo>
                  <a:lnTo>
                    <a:pt x="1881133" y="165276"/>
                  </a:lnTo>
                  <a:lnTo>
                    <a:pt x="1878643" y="94725"/>
                  </a:lnTo>
                  <a:lnTo>
                    <a:pt x="1909369" y="79187"/>
                  </a:lnTo>
                  <a:lnTo>
                    <a:pt x="1974574" y="61335"/>
                  </a:lnTo>
                  <a:lnTo>
                    <a:pt x="1996340" y="87169"/>
                  </a:lnTo>
                  <a:lnTo>
                    <a:pt x="2007777" y="83840"/>
                  </a:lnTo>
                  <a:lnTo>
                    <a:pt x="2044290" y="125782"/>
                  </a:lnTo>
                  <a:lnTo>
                    <a:pt x="2055258" y="87274"/>
                  </a:lnTo>
                  <a:lnTo>
                    <a:pt x="2056307" y="72448"/>
                  </a:lnTo>
                  <a:lnTo>
                    <a:pt x="2059865" y="71099"/>
                  </a:lnTo>
                  <a:lnTo>
                    <a:pt x="2063258" y="59186"/>
                  </a:lnTo>
                  <a:lnTo>
                    <a:pt x="2070396" y="67109"/>
                  </a:lnTo>
                  <a:lnTo>
                    <a:pt x="2088504" y="60245"/>
                  </a:lnTo>
                  <a:lnTo>
                    <a:pt x="2155229" y="49385"/>
                  </a:lnTo>
                  <a:lnTo>
                    <a:pt x="2157767" y="53142"/>
                  </a:lnTo>
                  <a:lnTo>
                    <a:pt x="2166094" y="18415"/>
                  </a:lnTo>
                  <a:lnTo>
                    <a:pt x="2219019" y="8305"/>
                  </a:lnTo>
                  <a:lnTo>
                    <a:pt x="2270105" y="8685"/>
                  </a:lnTo>
                  <a:lnTo>
                    <a:pt x="2296756" y="66868"/>
                  </a:lnTo>
                  <a:lnTo>
                    <a:pt x="2320334" y="3729"/>
                  </a:lnTo>
                  <a:lnTo>
                    <a:pt x="2374098" y="139"/>
                  </a:lnTo>
                  <a:lnTo>
                    <a:pt x="2424757" y="6739"/>
                  </a:lnTo>
                  <a:lnTo>
                    <a:pt x="2428561" y="18721"/>
                  </a:lnTo>
                  <a:lnTo>
                    <a:pt x="2457017" y="21961"/>
                  </a:lnTo>
                  <a:lnTo>
                    <a:pt x="2477691" y="83599"/>
                  </a:lnTo>
                  <a:lnTo>
                    <a:pt x="2505142" y="28649"/>
                  </a:lnTo>
                  <a:lnTo>
                    <a:pt x="2558984" y="30760"/>
                  </a:lnTo>
                  <a:lnTo>
                    <a:pt x="2608662" y="42679"/>
                  </a:lnTo>
                  <a:lnTo>
                    <a:pt x="2610629" y="52311"/>
                  </a:lnTo>
                  <a:lnTo>
                    <a:pt x="2616581" y="44117"/>
                  </a:lnTo>
                  <a:lnTo>
                    <a:pt x="2671679" y="55288"/>
                  </a:lnTo>
                  <a:lnTo>
                    <a:pt x="2717288" y="74099"/>
                  </a:lnTo>
                  <a:lnTo>
                    <a:pt x="2719432" y="132295"/>
                  </a:lnTo>
                  <a:lnTo>
                    <a:pt x="2764338" y="84102"/>
                  </a:lnTo>
                  <a:lnTo>
                    <a:pt x="2796797" y="94935"/>
                  </a:lnTo>
                  <a:lnTo>
                    <a:pt x="2797807" y="93816"/>
                  </a:lnTo>
                  <a:lnTo>
                    <a:pt x="2851415" y="110748"/>
                  </a:lnTo>
                  <a:lnTo>
                    <a:pt x="2894781" y="134274"/>
                  </a:lnTo>
                  <a:lnTo>
                    <a:pt x="2890445" y="196914"/>
                  </a:lnTo>
                  <a:lnTo>
                    <a:pt x="2938163" y="155502"/>
                  </a:lnTo>
                  <a:lnTo>
                    <a:pt x="2989311" y="178836"/>
                  </a:lnTo>
                  <a:lnTo>
                    <a:pt x="3029488" y="207470"/>
                  </a:lnTo>
                  <a:lnTo>
                    <a:pt x="3023316" y="239359"/>
                  </a:lnTo>
                  <a:lnTo>
                    <a:pt x="3026495" y="237411"/>
                  </a:lnTo>
                  <a:lnTo>
                    <a:pt x="3073690" y="268583"/>
                  </a:lnTo>
                  <a:lnTo>
                    <a:pt x="3096184" y="290836"/>
                  </a:lnTo>
                  <a:lnTo>
                    <a:pt x="3102828" y="288009"/>
                  </a:lnTo>
                  <a:lnTo>
                    <a:pt x="3101537" y="296126"/>
                  </a:lnTo>
                  <a:lnTo>
                    <a:pt x="3106840" y="301373"/>
                  </a:lnTo>
                  <a:lnTo>
                    <a:pt x="3096103" y="330251"/>
                  </a:lnTo>
                  <a:lnTo>
                    <a:pt x="3093811" y="344646"/>
                  </a:lnTo>
                  <a:lnTo>
                    <a:pt x="3099045" y="348056"/>
                  </a:lnTo>
                  <a:lnTo>
                    <a:pt x="3147662" y="325879"/>
                  </a:lnTo>
                  <a:lnTo>
                    <a:pt x="3163654" y="339508"/>
                  </a:lnTo>
                  <a:lnTo>
                    <a:pt x="3184995" y="329353"/>
                  </a:lnTo>
                  <a:lnTo>
                    <a:pt x="3228630" y="365341"/>
                  </a:lnTo>
                  <a:lnTo>
                    <a:pt x="3258126" y="401450"/>
                  </a:lnTo>
                  <a:lnTo>
                    <a:pt x="3233758" y="450414"/>
                  </a:lnTo>
                  <a:lnTo>
                    <a:pt x="3237348" y="448678"/>
                  </a:lnTo>
                  <a:lnTo>
                    <a:pt x="3243094" y="453354"/>
                  </a:lnTo>
                  <a:lnTo>
                    <a:pt x="3293784" y="436440"/>
                  </a:lnTo>
                  <a:lnTo>
                    <a:pt x="3332712" y="477474"/>
                  </a:lnTo>
                  <a:lnTo>
                    <a:pt x="3357591" y="516907"/>
                  </a:lnTo>
                  <a:lnTo>
                    <a:pt x="3327668" y="562194"/>
                  </a:lnTo>
                  <a:lnTo>
                    <a:pt x="3368964" y="609389"/>
                  </a:lnTo>
                  <a:lnTo>
                    <a:pt x="3375765" y="621324"/>
                  </a:lnTo>
                  <a:lnTo>
                    <a:pt x="3381140" y="620578"/>
                  </a:lnTo>
                  <a:lnTo>
                    <a:pt x="3378585" y="626271"/>
                  </a:lnTo>
                  <a:lnTo>
                    <a:pt x="3381626" y="631610"/>
                  </a:lnTo>
                  <a:lnTo>
                    <a:pt x="3398697" y="631451"/>
                  </a:lnTo>
                  <a:lnTo>
                    <a:pt x="3383282" y="656561"/>
                  </a:lnTo>
                  <a:lnTo>
                    <a:pt x="3383968" y="658234"/>
                  </a:lnTo>
                  <a:lnTo>
                    <a:pt x="3378916" y="663673"/>
                  </a:lnTo>
                  <a:lnTo>
                    <a:pt x="3366301" y="684222"/>
                  </a:lnTo>
                  <a:lnTo>
                    <a:pt x="3402498" y="678238"/>
                  </a:lnTo>
                  <a:lnTo>
                    <a:pt x="3406808" y="684582"/>
                  </a:lnTo>
                  <a:lnTo>
                    <a:pt x="3445501" y="677541"/>
                  </a:lnTo>
                  <a:lnTo>
                    <a:pt x="3486229" y="735447"/>
                  </a:lnTo>
                  <a:lnTo>
                    <a:pt x="3497387" y="760988"/>
                  </a:lnTo>
                  <a:lnTo>
                    <a:pt x="3490934" y="768258"/>
                  </a:lnTo>
                  <a:lnTo>
                    <a:pt x="3495984" y="785604"/>
                  </a:lnTo>
                  <a:lnTo>
                    <a:pt x="3460336" y="816639"/>
                  </a:lnTo>
                  <a:lnTo>
                    <a:pt x="3509948" y="813762"/>
                  </a:lnTo>
                  <a:lnTo>
                    <a:pt x="3543318" y="876198"/>
                  </a:lnTo>
                  <a:lnTo>
                    <a:pt x="3551285" y="902907"/>
                  </a:lnTo>
                  <a:lnTo>
                    <a:pt x="3543995" y="909336"/>
                  </a:lnTo>
                  <a:lnTo>
                    <a:pt x="3546895" y="927170"/>
                  </a:lnTo>
                  <a:lnTo>
                    <a:pt x="3498919" y="959587"/>
                  </a:lnTo>
                  <a:lnTo>
                    <a:pt x="3535696" y="963529"/>
                  </a:lnTo>
                  <a:lnTo>
                    <a:pt x="3555467" y="1023714"/>
                  </a:lnTo>
                  <a:lnTo>
                    <a:pt x="3577085" y="1029345"/>
                  </a:lnTo>
                  <a:lnTo>
                    <a:pt x="3561324" y="1044208"/>
                  </a:lnTo>
                  <a:lnTo>
                    <a:pt x="3562157" y="1051050"/>
                  </a:lnTo>
                  <a:lnTo>
                    <a:pt x="3538226" y="1065988"/>
                  </a:lnTo>
                  <a:lnTo>
                    <a:pt x="3518600" y="1084499"/>
                  </a:lnTo>
                  <a:lnTo>
                    <a:pt x="3614594" y="1105228"/>
                  </a:lnTo>
                  <a:lnTo>
                    <a:pt x="3631486" y="1183913"/>
                  </a:lnTo>
                  <a:lnTo>
                    <a:pt x="3631654" y="1195056"/>
                  </a:lnTo>
                  <a:lnTo>
                    <a:pt x="3578027" y="1221105"/>
                  </a:lnTo>
                  <a:lnTo>
                    <a:pt x="3580101" y="1231255"/>
                  </a:lnTo>
                  <a:lnTo>
                    <a:pt x="3580167" y="1243022"/>
                  </a:lnTo>
                  <a:lnTo>
                    <a:pt x="3625694" y="1258858"/>
                  </a:lnTo>
                  <a:lnTo>
                    <a:pt x="3632878" y="1339016"/>
                  </a:lnTo>
                  <a:lnTo>
                    <a:pt x="3631689" y="1350095"/>
                  </a:lnTo>
                  <a:lnTo>
                    <a:pt x="3575287" y="1369420"/>
                  </a:lnTo>
                  <a:lnTo>
                    <a:pt x="3576111" y="1379748"/>
                  </a:lnTo>
                  <a:lnTo>
                    <a:pt x="3573331" y="1403469"/>
                  </a:lnTo>
                  <a:lnTo>
                    <a:pt x="3567447" y="1405337"/>
                  </a:lnTo>
                  <a:lnTo>
                    <a:pt x="3556647" y="1414739"/>
                  </a:lnTo>
                  <a:lnTo>
                    <a:pt x="3577188" y="1425947"/>
                  </a:lnTo>
                  <a:lnTo>
                    <a:pt x="3576871" y="1430384"/>
                  </a:lnTo>
                  <a:lnTo>
                    <a:pt x="3585562" y="1429880"/>
                  </a:lnTo>
                  <a:lnTo>
                    <a:pt x="3618933" y="1492316"/>
                  </a:lnTo>
                  <a:lnTo>
                    <a:pt x="3626900" y="1519025"/>
                  </a:lnTo>
                  <a:lnTo>
                    <a:pt x="3619609" y="1525454"/>
                  </a:lnTo>
                  <a:lnTo>
                    <a:pt x="3622509" y="1543288"/>
                  </a:lnTo>
                  <a:lnTo>
                    <a:pt x="3595529" y="1561518"/>
                  </a:lnTo>
                  <a:lnTo>
                    <a:pt x="3606975" y="1569440"/>
                  </a:lnTo>
                  <a:lnTo>
                    <a:pt x="3605262" y="1578998"/>
                  </a:lnTo>
                  <a:lnTo>
                    <a:pt x="3611311" y="1579647"/>
                  </a:lnTo>
                  <a:lnTo>
                    <a:pt x="3631082" y="1639832"/>
                  </a:lnTo>
                  <a:lnTo>
                    <a:pt x="3652700" y="1645463"/>
                  </a:lnTo>
                  <a:lnTo>
                    <a:pt x="3636939" y="1660326"/>
                  </a:lnTo>
                  <a:lnTo>
                    <a:pt x="3637772" y="1667168"/>
                  </a:lnTo>
                  <a:lnTo>
                    <a:pt x="3613840" y="1682106"/>
                  </a:lnTo>
                  <a:lnTo>
                    <a:pt x="3594215" y="1700617"/>
                  </a:lnTo>
                  <a:lnTo>
                    <a:pt x="3690209" y="1721346"/>
                  </a:lnTo>
                  <a:lnTo>
                    <a:pt x="3707101" y="1800031"/>
                  </a:lnTo>
                  <a:lnTo>
                    <a:pt x="3707269" y="1811174"/>
                  </a:lnTo>
                  <a:lnTo>
                    <a:pt x="3653642" y="1837223"/>
                  </a:lnTo>
                  <a:lnTo>
                    <a:pt x="3655716" y="1847373"/>
                  </a:lnTo>
                  <a:lnTo>
                    <a:pt x="3655782" y="1859140"/>
                  </a:lnTo>
                  <a:lnTo>
                    <a:pt x="3701309" y="1874976"/>
                  </a:lnTo>
                  <a:lnTo>
                    <a:pt x="3708493" y="1955134"/>
                  </a:lnTo>
                  <a:lnTo>
                    <a:pt x="3707304" y="1966213"/>
                  </a:lnTo>
                  <a:lnTo>
                    <a:pt x="3650902" y="1985538"/>
                  </a:lnTo>
                  <a:lnTo>
                    <a:pt x="3651726" y="1995866"/>
                  </a:lnTo>
                  <a:lnTo>
                    <a:pt x="3648946" y="2019587"/>
                  </a:lnTo>
                  <a:lnTo>
                    <a:pt x="3625341" y="2027081"/>
                  </a:lnTo>
                  <a:lnTo>
                    <a:pt x="3652803" y="2042065"/>
                  </a:lnTo>
                  <a:lnTo>
                    <a:pt x="3650256" y="2077644"/>
                  </a:lnTo>
                  <a:lnTo>
                    <a:pt x="3677302" y="2098099"/>
                  </a:lnTo>
                  <a:lnTo>
                    <a:pt x="3647992" y="2109244"/>
                  </a:lnTo>
                  <a:lnTo>
                    <a:pt x="3647862" y="2111055"/>
                  </a:lnTo>
                  <a:lnTo>
                    <a:pt x="3643843" y="2126003"/>
                  </a:lnTo>
                  <a:lnTo>
                    <a:pt x="3605726" y="2132365"/>
                  </a:lnTo>
                  <a:lnTo>
                    <a:pt x="3682590" y="2185558"/>
                  </a:lnTo>
                  <a:lnTo>
                    <a:pt x="3670385" y="2253640"/>
                  </a:lnTo>
                  <a:lnTo>
                    <a:pt x="3664809" y="2268079"/>
                  </a:lnTo>
                  <a:lnTo>
                    <a:pt x="3619401" y="2270784"/>
                  </a:lnTo>
                  <a:lnTo>
                    <a:pt x="3611304" y="2311738"/>
                  </a:lnTo>
                  <a:lnTo>
                    <a:pt x="3637213" y="2334806"/>
                  </a:lnTo>
                  <a:lnTo>
                    <a:pt x="3616808" y="2400894"/>
                  </a:lnTo>
                  <a:lnTo>
                    <a:pt x="3609515" y="2414547"/>
                  </a:lnTo>
                  <a:lnTo>
                    <a:pt x="3564114" y="2411700"/>
                  </a:lnTo>
                  <a:lnTo>
                    <a:pt x="3549549" y="2456061"/>
                  </a:lnTo>
                  <a:lnTo>
                    <a:pt x="3539835" y="2473098"/>
                  </a:lnTo>
                  <a:lnTo>
                    <a:pt x="3495886" y="2469340"/>
                  </a:lnTo>
                  <a:lnTo>
                    <a:pt x="3511533" y="2488746"/>
                  </a:lnTo>
                  <a:lnTo>
                    <a:pt x="3508621" y="2494693"/>
                  </a:lnTo>
                  <a:lnTo>
                    <a:pt x="3526817" y="2525702"/>
                  </a:lnTo>
                  <a:lnTo>
                    <a:pt x="3493916" y="2524739"/>
                  </a:lnTo>
                  <a:lnTo>
                    <a:pt x="3487869" y="2537094"/>
                  </a:lnTo>
                  <a:lnTo>
                    <a:pt x="3473389" y="2556087"/>
                  </a:lnTo>
                  <a:lnTo>
                    <a:pt x="3454171" y="2551644"/>
                  </a:lnTo>
                  <a:lnTo>
                    <a:pt x="3494898" y="2614804"/>
                  </a:lnTo>
                  <a:lnTo>
                    <a:pt x="3466255" y="2660382"/>
                  </a:lnTo>
                  <a:lnTo>
                    <a:pt x="3449848" y="2677738"/>
                  </a:lnTo>
                  <a:lnTo>
                    <a:pt x="3400500" y="2660657"/>
                  </a:lnTo>
                  <a:lnTo>
                    <a:pt x="3398091" y="2663123"/>
                  </a:lnTo>
                  <a:lnTo>
                    <a:pt x="3414599" y="2690046"/>
                  </a:lnTo>
                  <a:lnTo>
                    <a:pt x="3391732" y="2723716"/>
                  </a:lnTo>
                  <a:lnTo>
                    <a:pt x="3398643" y="2737998"/>
                  </a:lnTo>
                  <a:lnTo>
                    <a:pt x="3364663" y="2779749"/>
                  </a:lnTo>
                  <a:lnTo>
                    <a:pt x="3346264" y="2794977"/>
                  </a:lnTo>
                  <a:lnTo>
                    <a:pt x="3294632" y="2769697"/>
                  </a:lnTo>
                  <a:lnTo>
                    <a:pt x="3309778" y="2802902"/>
                  </a:lnTo>
                  <a:lnTo>
                    <a:pt x="3276830" y="2840566"/>
                  </a:lnTo>
                  <a:lnTo>
                    <a:pt x="3261984" y="2851991"/>
                  </a:lnTo>
                  <a:lnTo>
                    <a:pt x="3219542" y="2830003"/>
                  </a:lnTo>
                  <a:lnTo>
                    <a:pt x="3224144" y="2863161"/>
                  </a:lnTo>
                  <a:lnTo>
                    <a:pt x="3198793" y="2851780"/>
                  </a:lnTo>
                  <a:lnTo>
                    <a:pt x="3165428" y="2880973"/>
                  </a:lnTo>
                  <a:lnTo>
                    <a:pt x="3148390" y="2890682"/>
                  </a:lnTo>
                  <a:lnTo>
                    <a:pt x="3147417" y="2889988"/>
                  </a:lnTo>
                  <a:lnTo>
                    <a:pt x="3150410" y="2915835"/>
                  </a:lnTo>
                  <a:lnTo>
                    <a:pt x="3148252" y="2914807"/>
                  </a:lnTo>
                  <a:lnTo>
                    <a:pt x="3152452" y="2937887"/>
                  </a:lnTo>
                  <a:lnTo>
                    <a:pt x="3109275" y="2968252"/>
                  </a:lnTo>
                  <a:lnTo>
                    <a:pt x="3091303" y="2976104"/>
                  </a:lnTo>
                  <a:lnTo>
                    <a:pt x="3059757" y="2948102"/>
                  </a:lnTo>
                  <a:lnTo>
                    <a:pt x="3051327" y="2953829"/>
                  </a:lnTo>
                  <a:lnTo>
                    <a:pt x="3058855" y="3001281"/>
                  </a:lnTo>
                  <a:lnTo>
                    <a:pt x="3033182" y="3018300"/>
                  </a:lnTo>
                  <a:lnTo>
                    <a:pt x="2998389" y="3032774"/>
                  </a:lnTo>
                  <a:lnTo>
                    <a:pt x="2995264" y="3029870"/>
                  </a:lnTo>
                  <a:lnTo>
                    <a:pt x="2972844" y="3041851"/>
                  </a:lnTo>
                  <a:lnTo>
                    <a:pt x="2954051" y="3047457"/>
                  </a:lnTo>
                  <a:lnTo>
                    <a:pt x="2916536" y="3004924"/>
                  </a:lnTo>
                  <a:lnTo>
                    <a:pt x="2918778" y="3068495"/>
                  </a:lnTo>
                  <a:lnTo>
                    <a:pt x="2891224" y="3082261"/>
                  </a:lnTo>
                  <a:lnTo>
                    <a:pt x="2854926" y="3092389"/>
                  </a:lnTo>
                  <a:lnTo>
                    <a:pt x="2818096" y="3048674"/>
                  </a:lnTo>
                  <a:lnTo>
                    <a:pt x="2815379" y="3059108"/>
                  </a:lnTo>
                  <a:lnTo>
                    <a:pt x="2790411" y="3032634"/>
                  </a:lnTo>
                  <a:lnTo>
                    <a:pt x="2784705" y="3035437"/>
                  </a:lnTo>
                  <a:lnTo>
                    <a:pt x="2782373" y="3057201"/>
                  </a:lnTo>
                  <a:lnTo>
                    <a:pt x="2746877" y="3068859"/>
                  </a:lnTo>
                  <a:lnTo>
                    <a:pt x="2737303" y="3102479"/>
                  </a:lnTo>
                  <a:lnTo>
                    <a:pt x="2715157" y="3077901"/>
                  </a:lnTo>
                  <a:lnTo>
                    <a:pt x="2709736" y="3103004"/>
                  </a:lnTo>
                  <a:lnTo>
                    <a:pt x="2660808" y="3113507"/>
                  </a:lnTo>
                  <a:lnTo>
                    <a:pt x="2642078" y="3113791"/>
                  </a:lnTo>
                  <a:lnTo>
                    <a:pt x="2631280" y="3091565"/>
                  </a:lnTo>
                  <a:lnTo>
                    <a:pt x="2624565" y="3092894"/>
                  </a:lnTo>
                  <a:lnTo>
                    <a:pt x="2611091" y="3149087"/>
                  </a:lnTo>
                  <a:lnTo>
                    <a:pt x="2598097" y="3151743"/>
                  </a:lnTo>
                  <a:lnTo>
                    <a:pt x="2540801" y="3152051"/>
                  </a:lnTo>
                  <a:lnTo>
                    <a:pt x="2530506" y="3129574"/>
                  </a:lnTo>
                  <a:lnTo>
                    <a:pt x="2510028" y="3131409"/>
                  </a:lnTo>
                  <a:lnTo>
                    <a:pt x="2491401" y="3129411"/>
                  </a:lnTo>
                  <a:lnTo>
                    <a:pt x="2480214" y="3096761"/>
                  </a:lnTo>
                  <a:lnTo>
                    <a:pt x="2456347" y="3160669"/>
                  </a:lnTo>
                  <a:lnTo>
                    <a:pt x="2443125" y="3161723"/>
                  </a:lnTo>
                  <a:lnTo>
                    <a:pt x="2386218" y="3155051"/>
                  </a:lnTo>
                  <a:lnTo>
                    <a:pt x="2363324" y="3082940"/>
                  </a:lnTo>
                  <a:lnTo>
                    <a:pt x="2362743" y="3083709"/>
                  </a:lnTo>
                  <a:lnTo>
                    <a:pt x="2355647" y="3065054"/>
                  </a:lnTo>
                  <a:lnTo>
                    <a:pt x="2353758" y="3066130"/>
                  </a:lnTo>
                  <a:lnTo>
                    <a:pt x="2351113" y="3073077"/>
                  </a:lnTo>
                  <a:lnTo>
                    <a:pt x="2353379" y="3092650"/>
                  </a:lnTo>
                  <a:lnTo>
                    <a:pt x="2351221" y="3091622"/>
                  </a:lnTo>
                  <a:lnTo>
                    <a:pt x="2355421" y="3114703"/>
                  </a:lnTo>
                  <a:lnTo>
                    <a:pt x="2312244" y="3145067"/>
                  </a:lnTo>
                  <a:lnTo>
                    <a:pt x="2294272" y="3152920"/>
                  </a:lnTo>
                  <a:lnTo>
                    <a:pt x="2262726" y="3124918"/>
                  </a:lnTo>
                  <a:lnTo>
                    <a:pt x="2254296" y="3130645"/>
                  </a:lnTo>
                  <a:lnTo>
                    <a:pt x="2261824" y="3178097"/>
                  </a:lnTo>
                  <a:lnTo>
                    <a:pt x="2236151" y="3195116"/>
                  </a:lnTo>
                  <a:lnTo>
                    <a:pt x="2201358" y="3209589"/>
                  </a:lnTo>
                  <a:lnTo>
                    <a:pt x="2198233" y="3206685"/>
                  </a:lnTo>
                  <a:lnTo>
                    <a:pt x="2175813" y="3218667"/>
                  </a:lnTo>
                  <a:lnTo>
                    <a:pt x="2157020" y="3224273"/>
                  </a:lnTo>
                  <a:lnTo>
                    <a:pt x="2119505" y="3181739"/>
                  </a:lnTo>
                  <a:lnTo>
                    <a:pt x="2121747" y="3245311"/>
                  </a:lnTo>
                  <a:lnTo>
                    <a:pt x="2094192" y="3259076"/>
                  </a:lnTo>
                  <a:lnTo>
                    <a:pt x="2057895" y="3269204"/>
                  </a:lnTo>
                  <a:lnTo>
                    <a:pt x="2021065" y="3225489"/>
                  </a:lnTo>
                  <a:lnTo>
                    <a:pt x="2018348" y="3235923"/>
                  </a:lnTo>
                  <a:lnTo>
                    <a:pt x="1993380" y="3209449"/>
                  </a:lnTo>
                  <a:lnTo>
                    <a:pt x="1987674" y="3212252"/>
                  </a:lnTo>
                  <a:lnTo>
                    <a:pt x="1985342" y="3234017"/>
                  </a:lnTo>
                  <a:lnTo>
                    <a:pt x="1949846" y="3245675"/>
                  </a:lnTo>
                  <a:lnTo>
                    <a:pt x="1940272" y="3279294"/>
                  </a:lnTo>
                  <a:lnTo>
                    <a:pt x="1918126" y="3254717"/>
                  </a:lnTo>
                  <a:lnTo>
                    <a:pt x="1912705" y="3279820"/>
                  </a:lnTo>
                  <a:lnTo>
                    <a:pt x="1863777" y="3290322"/>
                  </a:lnTo>
                  <a:lnTo>
                    <a:pt x="1845047" y="3290607"/>
                  </a:lnTo>
                  <a:lnTo>
                    <a:pt x="1834249" y="3268381"/>
                  </a:lnTo>
                  <a:lnTo>
                    <a:pt x="1827534" y="3269709"/>
                  </a:lnTo>
                  <a:lnTo>
                    <a:pt x="1814060" y="3325903"/>
                  </a:lnTo>
                  <a:lnTo>
                    <a:pt x="1801066" y="3328559"/>
                  </a:lnTo>
                  <a:lnTo>
                    <a:pt x="1743770" y="3328867"/>
                  </a:lnTo>
                  <a:lnTo>
                    <a:pt x="1733475" y="3306389"/>
                  </a:lnTo>
                  <a:lnTo>
                    <a:pt x="1712997" y="3308225"/>
                  </a:lnTo>
                  <a:lnTo>
                    <a:pt x="1694369" y="3306226"/>
                  </a:lnTo>
                  <a:lnTo>
                    <a:pt x="1683183" y="3273577"/>
                  </a:lnTo>
                  <a:lnTo>
                    <a:pt x="1659316" y="3337485"/>
                  </a:lnTo>
                  <a:lnTo>
                    <a:pt x="1646094" y="3338539"/>
                  </a:lnTo>
                  <a:lnTo>
                    <a:pt x="1589187" y="3331867"/>
                  </a:lnTo>
                  <a:lnTo>
                    <a:pt x="1566293" y="3259755"/>
                  </a:lnTo>
                  <a:lnTo>
                    <a:pt x="1565712" y="3260525"/>
                  </a:lnTo>
                  <a:lnTo>
                    <a:pt x="1557877" y="3239926"/>
                  </a:lnTo>
                  <a:lnTo>
                    <a:pt x="1536709" y="3295509"/>
                  </a:lnTo>
                  <a:lnTo>
                    <a:pt x="1523479" y="3296478"/>
                  </a:lnTo>
                  <a:lnTo>
                    <a:pt x="1488373" y="3292131"/>
                  </a:lnTo>
                  <a:lnTo>
                    <a:pt x="1487187" y="3293625"/>
                  </a:lnTo>
                  <a:lnTo>
                    <a:pt x="1486579" y="3291908"/>
                  </a:lnTo>
                  <a:lnTo>
                    <a:pt x="1466617" y="3289439"/>
                  </a:lnTo>
                  <a:lnTo>
                    <a:pt x="1455533" y="3253724"/>
                  </a:lnTo>
                  <a:lnTo>
                    <a:pt x="1446459" y="3251285"/>
                  </a:lnTo>
                  <a:lnTo>
                    <a:pt x="1446341" y="3250585"/>
                  </a:lnTo>
                  <a:lnTo>
                    <a:pt x="1440488" y="3259042"/>
                  </a:lnTo>
                  <a:lnTo>
                    <a:pt x="1410169" y="3253608"/>
                  </a:lnTo>
                  <a:lnTo>
                    <a:pt x="1400276" y="3249788"/>
                  </a:lnTo>
                  <a:lnTo>
                    <a:pt x="1387729" y="3273541"/>
                  </a:lnTo>
                  <a:lnTo>
                    <a:pt x="1374482" y="3272890"/>
                  </a:lnTo>
                  <a:lnTo>
                    <a:pt x="1360320" y="3269345"/>
                  </a:lnTo>
                  <a:lnTo>
                    <a:pt x="1347959" y="3286370"/>
                  </a:lnTo>
                  <a:lnTo>
                    <a:pt x="1331851" y="3283185"/>
                  </a:lnTo>
                  <a:lnTo>
                    <a:pt x="1277101" y="3260291"/>
                  </a:lnTo>
                  <a:lnTo>
                    <a:pt x="1275585" y="3219120"/>
                  </a:lnTo>
                  <a:lnTo>
                    <a:pt x="1267235" y="3216542"/>
                  </a:lnTo>
                  <a:lnTo>
                    <a:pt x="1238862" y="3201385"/>
                  </a:lnTo>
                  <a:lnTo>
                    <a:pt x="1201498" y="3241481"/>
                  </a:lnTo>
                  <a:lnTo>
                    <a:pt x="1185899" y="3236359"/>
                  </a:lnTo>
                  <a:lnTo>
                    <a:pt x="1134344" y="3206967"/>
                  </a:lnTo>
                  <a:lnTo>
                    <a:pt x="1140782" y="3131649"/>
                  </a:lnTo>
                  <a:lnTo>
                    <a:pt x="1079523" y="3196544"/>
                  </a:lnTo>
                  <a:lnTo>
                    <a:pt x="1063956" y="3191321"/>
                  </a:lnTo>
                  <a:lnTo>
                    <a:pt x="1012593" y="3161596"/>
                  </a:lnTo>
                  <a:lnTo>
                    <a:pt x="1020695" y="3073539"/>
                  </a:lnTo>
                  <a:lnTo>
                    <a:pt x="1011249" y="3066336"/>
                  </a:lnTo>
                  <a:lnTo>
                    <a:pt x="1011476" y="3065360"/>
                  </a:lnTo>
                  <a:lnTo>
                    <a:pt x="946000" y="3119633"/>
                  </a:lnTo>
                  <a:lnTo>
                    <a:pt x="931184" y="3112554"/>
                  </a:lnTo>
                  <a:lnTo>
                    <a:pt x="883824" y="3076794"/>
                  </a:lnTo>
                  <a:lnTo>
                    <a:pt x="892924" y="3034893"/>
                  </a:lnTo>
                  <a:lnTo>
                    <a:pt x="875817" y="3017525"/>
                  </a:lnTo>
                  <a:lnTo>
                    <a:pt x="890092" y="2979114"/>
                  </a:lnTo>
                  <a:lnTo>
                    <a:pt x="816627" y="3008405"/>
                  </a:lnTo>
                  <a:lnTo>
                    <a:pt x="822246" y="2977617"/>
                  </a:lnTo>
                  <a:lnTo>
                    <a:pt x="819038" y="2979080"/>
                  </a:lnTo>
                  <a:lnTo>
                    <a:pt x="801391" y="2963643"/>
                  </a:lnTo>
                  <a:lnTo>
                    <a:pt x="765611" y="2917138"/>
                  </a:lnTo>
                  <a:lnTo>
                    <a:pt x="776025" y="2897034"/>
                  </a:lnTo>
                  <a:lnTo>
                    <a:pt x="698767" y="2931673"/>
                  </a:lnTo>
                  <a:lnTo>
                    <a:pt x="681222" y="2916124"/>
                  </a:lnTo>
                  <a:lnTo>
                    <a:pt x="645741" y="2869387"/>
                  </a:lnTo>
                  <a:lnTo>
                    <a:pt x="691638" y="2782179"/>
                  </a:lnTo>
                  <a:lnTo>
                    <a:pt x="600335" y="2810364"/>
                  </a:lnTo>
                  <a:lnTo>
                    <a:pt x="584815" y="2792793"/>
                  </a:lnTo>
                  <a:lnTo>
                    <a:pt x="555291" y="2742083"/>
                  </a:lnTo>
                  <a:lnTo>
                    <a:pt x="611459" y="2661124"/>
                  </a:lnTo>
                  <a:lnTo>
                    <a:pt x="610762" y="2659449"/>
                  </a:lnTo>
                  <a:lnTo>
                    <a:pt x="528616" y="2658357"/>
                  </a:lnTo>
                  <a:lnTo>
                    <a:pt x="570215" y="2593920"/>
                  </a:lnTo>
                  <a:lnTo>
                    <a:pt x="567679" y="2594009"/>
                  </a:lnTo>
                  <a:lnTo>
                    <a:pt x="559696" y="2578037"/>
                  </a:lnTo>
                  <a:lnTo>
                    <a:pt x="549673" y="2542110"/>
                  </a:lnTo>
                  <a:lnTo>
                    <a:pt x="449904" y="2544985"/>
                  </a:lnTo>
                  <a:lnTo>
                    <a:pt x="442028" y="2528959"/>
                  </a:lnTo>
                  <a:lnTo>
                    <a:pt x="423246" y="2459927"/>
                  </a:lnTo>
                  <a:lnTo>
                    <a:pt x="489779" y="2404606"/>
                  </a:lnTo>
                  <a:lnTo>
                    <a:pt x="400418" y="2396247"/>
                  </a:lnTo>
                  <a:lnTo>
                    <a:pt x="394552" y="2379380"/>
                  </a:lnTo>
                  <a:lnTo>
                    <a:pt x="384317" y="2308574"/>
                  </a:lnTo>
                  <a:lnTo>
                    <a:pt x="467326" y="2255187"/>
                  </a:lnTo>
                  <a:lnTo>
                    <a:pt x="396479" y="2224730"/>
                  </a:lnTo>
                  <a:lnTo>
                    <a:pt x="453096" y="2185592"/>
                  </a:lnTo>
                  <a:lnTo>
                    <a:pt x="435923" y="2170571"/>
                  </a:lnTo>
                  <a:lnTo>
                    <a:pt x="400143" y="2124065"/>
                  </a:lnTo>
                  <a:lnTo>
                    <a:pt x="406632" y="2111539"/>
                  </a:lnTo>
                  <a:lnTo>
                    <a:pt x="399616" y="2108867"/>
                  </a:lnTo>
                  <a:lnTo>
                    <a:pt x="333298" y="2138600"/>
                  </a:lnTo>
                  <a:lnTo>
                    <a:pt x="315754" y="2123051"/>
                  </a:lnTo>
                  <a:lnTo>
                    <a:pt x="280273" y="2076314"/>
                  </a:lnTo>
                  <a:lnTo>
                    <a:pt x="326170" y="1989107"/>
                  </a:lnTo>
                  <a:lnTo>
                    <a:pt x="234867" y="2017291"/>
                  </a:lnTo>
                  <a:lnTo>
                    <a:pt x="219347" y="1999720"/>
                  </a:lnTo>
                  <a:lnTo>
                    <a:pt x="189823" y="1949011"/>
                  </a:lnTo>
                  <a:lnTo>
                    <a:pt x="245991" y="1868051"/>
                  </a:lnTo>
                  <a:lnTo>
                    <a:pt x="245294" y="1866376"/>
                  </a:lnTo>
                  <a:lnTo>
                    <a:pt x="163148" y="1865285"/>
                  </a:lnTo>
                  <a:lnTo>
                    <a:pt x="204747" y="1800848"/>
                  </a:lnTo>
                  <a:lnTo>
                    <a:pt x="202211" y="1800937"/>
                  </a:lnTo>
                  <a:lnTo>
                    <a:pt x="194228" y="1784964"/>
                  </a:lnTo>
                  <a:lnTo>
                    <a:pt x="184205" y="1749038"/>
                  </a:lnTo>
                  <a:lnTo>
                    <a:pt x="84436" y="1751913"/>
                  </a:lnTo>
                  <a:lnTo>
                    <a:pt x="76560" y="1735886"/>
                  </a:lnTo>
                  <a:lnTo>
                    <a:pt x="57777" y="1666854"/>
                  </a:lnTo>
                  <a:lnTo>
                    <a:pt x="124311" y="1611533"/>
                  </a:lnTo>
                  <a:lnTo>
                    <a:pt x="34950" y="1603174"/>
                  </a:lnTo>
                  <a:lnTo>
                    <a:pt x="29084" y="1586307"/>
                  </a:lnTo>
                  <a:lnTo>
                    <a:pt x="18849" y="1515501"/>
                  </a:lnTo>
                  <a:lnTo>
                    <a:pt x="101858" y="1462114"/>
                  </a:lnTo>
                  <a:lnTo>
                    <a:pt x="31010" y="1431657"/>
                  </a:lnTo>
                  <a:lnTo>
                    <a:pt x="129644" y="1363475"/>
                  </a:lnTo>
                  <a:lnTo>
                    <a:pt x="129650" y="1357891"/>
                  </a:lnTo>
                  <a:lnTo>
                    <a:pt x="116038" y="1352807"/>
                  </a:lnTo>
                  <a:lnTo>
                    <a:pt x="115559" y="1346802"/>
                  </a:lnTo>
                  <a:lnTo>
                    <a:pt x="1167" y="1303233"/>
                  </a:lnTo>
                  <a:lnTo>
                    <a:pt x="0" y="1287282"/>
                  </a:lnTo>
                  <a:lnTo>
                    <a:pt x="9835" y="1207849"/>
                  </a:lnTo>
                  <a:lnTo>
                    <a:pt x="79746" y="1186150"/>
                  </a:lnTo>
                  <a:lnTo>
                    <a:pt x="6945" y="1147692"/>
                  </a:lnTo>
                  <a:lnTo>
                    <a:pt x="7727" y="1131718"/>
                  </a:lnTo>
                  <a:lnTo>
                    <a:pt x="27163" y="1054074"/>
                  </a:lnTo>
                  <a:lnTo>
                    <a:pt x="128679" y="1035720"/>
                  </a:lnTo>
                  <a:lnTo>
                    <a:pt x="98469" y="1004697"/>
                  </a:lnTo>
                  <a:lnTo>
                    <a:pt x="92891" y="1000277"/>
                  </a:lnTo>
                  <a:lnTo>
                    <a:pt x="93838" y="999941"/>
                  </a:lnTo>
                  <a:lnTo>
                    <a:pt x="74885" y="980475"/>
                  </a:lnTo>
                  <a:lnTo>
                    <a:pt x="175505" y="958803"/>
                  </a:lnTo>
                  <a:lnTo>
                    <a:pt x="181848" y="943141"/>
                  </a:lnTo>
                  <a:lnTo>
                    <a:pt x="94203" y="860403"/>
                  </a:lnTo>
                  <a:lnTo>
                    <a:pt x="105153" y="827759"/>
                  </a:lnTo>
                  <a:lnTo>
                    <a:pt x="123460" y="796131"/>
                  </a:lnTo>
                  <a:lnTo>
                    <a:pt x="130610" y="778795"/>
                  </a:lnTo>
                  <a:lnTo>
                    <a:pt x="133555" y="778687"/>
                  </a:lnTo>
                  <a:lnTo>
                    <a:pt x="139018" y="769248"/>
                  </a:lnTo>
                  <a:lnTo>
                    <a:pt x="199040" y="774772"/>
                  </a:lnTo>
                  <a:lnTo>
                    <a:pt x="153217" y="719490"/>
                  </a:lnTo>
                  <a:lnTo>
                    <a:pt x="168062" y="688423"/>
                  </a:lnTo>
                  <a:lnTo>
                    <a:pt x="190084" y="659259"/>
                  </a:lnTo>
                  <a:lnTo>
                    <a:pt x="199292" y="642922"/>
                  </a:lnTo>
                  <a:lnTo>
                    <a:pt x="202229" y="643174"/>
                  </a:lnTo>
                  <a:lnTo>
                    <a:pt x="208799" y="634471"/>
                  </a:lnTo>
                  <a:lnTo>
                    <a:pt x="279153" y="649750"/>
                  </a:lnTo>
                  <a:lnTo>
                    <a:pt x="291944" y="650843"/>
                  </a:lnTo>
                  <a:lnTo>
                    <a:pt x="273384" y="629457"/>
                  </a:lnTo>
                  <a:lnTo>
                    <a:pt x="277570" y="620280"/>
                  </a:lnTo>
                  <a:lnTo>
                    <a:pt x="253027" y="576192"/>
                  </a:lnTo>
                  <a:lnTo>
                    <a:pt x="305240" y="578909"/>
                  </a:lnTo>
                  <a:lnTo>
                    <a:pt x="322316" y="554951"/>
                  </a:lnTo>
                  <a:lnTo>
                    <a:pt x="374517" y="565053"/>
                  </a:lnTo>
                  <a:lnTo>
                    <a:pt x="307813" y="456266"/>
                  </a:lnTo>
                  <a:lnTo>
                    <a:pt x="316627" y="442919"/>
                  </a:lnTo>
                  <a:lnTo>
                    <a:pt x="372916" y="386019"/>
                  </a:lnTo>
                  <a:lnTo>
                    <a:pt x="445812" y="413116"/>
                  </a:lnTo>
                  <a:lnTo>
                    <a:pt x="414455" y="344375"/>
                  </a:lnTo>
                  <a:lnTo>
                    <a:pt x="424830" y="332201"/>
                  </a:lnTo>
                  <a:lnTo>
                    <a:pt x="487630" y="282580"/>
                  </a:lnTo>
                  <a:lnTo>
                    <a:pt x="572641" y="326621"/>
                  </a:lnTo>
                  <a:lnTo>
                    <a:pt x="563272" y="245678"/>
                  </a:lnTo>
                  <a:lnTo>
                    <a:pt x="594272" y="260450"/>
                  </a:lnTo>
                  <a:lnTo>
                    <a:pt x="647126" y="227105"/>
                  </a:lnTo>
                  <a:lnTo>
                    <a:pt x="663917" y="238199"/>
                  </a:lnTo>
                  <a:lnTo>
                    <a:pt x="651886" y="162386"/>
                  </a:lnTo>
                  <a:lnTo>
                    <a:pt x="680493" y="143222"/>
                  </a:lnTo>
                  <a:lnTo>
                    <a:pt x="743037" y="117561"/>
                  </a:lnTo>
                  <a:lnTo>
                    <a:pt x="794248" y="165136"/>
                  </a:lnTo>
                  <a:lnTo>
                    <a:pt x="791759" y="94586"/>
                  </a:lnTo>
                  <a:lnTo>
                    <a:pt x="822485" y="79048"/>
                  </a:lnTo>
                  <a:lnTo>
                    <a:pt x="887690" y="61196"/>
                  </a:lnTo>
                  <a:lnTo>
                    <a:pt x="909456" y="87030"/>
                  </a:lnTo>
                  <a:lnTo>
                    <a:pt x="920893" y="83701"/>
                  </a:lnTo>
                  <a:lnTo>
                    <a:pt x="957406" y="125643"/>
                  </a:lnTo>
                  <a:lnTo>
                    <a:pt x="968374" y="87135"/>
                  </a:lnTo>
                  <a:lnTo>
                    <a:pt x="969422" y="72309"/>
                  </a:lnTo>
                  <a:lnTo>
                    <a:pt x="972980" y="70960"/>
                  </a:lnTo>
                  <a:lnTo>
                    <a:pt x="976373" y="59047"/>
                  </a:lnTo>
                  <a:lnTo>
                    <a:pt x="983512" y="66970"/>
                  </a:lnTo>
                  <a:lnTo>
                    <a:pt x="1001619" y="60106"/>
                  </a:lnTo>
                  <a:lnTo>
                    <a:pt x="1068344" y="49246"/>
                  </a:lnTo>
                  <a:lnTo>
                    <a:pt x="1070883" y="53003"/>
                  </a:lnTo>
                  <a:lnTo>
                    <a:pt x="1079209" y="18275"/>
                  </a:lnTo>
                  <a:lnTo>
                    <a:pt x="1132135" y="8165"/>
                  </a:lnTo>
                  <a:close/>
                </a:path>
              </a:pathLst>
            </a:custGeom>
            <a:solidFill>
              <a:srgbClr val="e4d8a8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任意多边形 29"/>
            <p:cNvSpPr/>
            <p:nvPr/>
          </p:nvSpPr>
          <p:spPr>
            <a:xfrm>
              <a:off x="2081160" y="0"/>
              <a:ext cx="2094120" cy="1595520"/>
            </a:xfrm>
            <a:custGeom>
              <a:avLst/>
              <a:gdLst/>
              <a:ahLst/>
              <a:rect l="l" t="t" r="r" b="b"/>
              <a:pathLst>
                <a:path w="2093614" h="1594464">
                  <a:moveTo>
                    <a:pt x="193832" y="0"/>
                  </a:moveTo>
                  <a:lnTo>
                    <a:pt x="1894553" y="0"/>
                  </a:lnTo>
                  <a:lnTo>
                    <a:pt x="1895514" y="1524"/>
                  </a:lnTo>
                  <a:lnTo>
                    <a:pt x="1878621" y="27090"/>
                  </a:lnTo>
                  <a:lnTo>
                    <a:pt x="1901935" y="53734"/>
                  </a:lnTo>
                  <a:lnTo>
                    <a:pt x="1905774" y="60472"/>
                  </a:lnTo>
                  <a:lnTo>
                    <a:pt x="1908808" y="60051"/>
                  </a:lnTo>
                  <a:lnTo>
                    <a:pt x="1907366" y="63265"/>
                  </a:lnTo>
                  <a:lnTo>
                    <a:pt x="1909083" y="66279"/>
                  </a:lnTo>
                  <a:lnTo>
                    <a:pt x="1918720" y="66189"/>
                  </a:lnTo>
                  <a:lnTo>
                    <a:pt x="1910018" y="80365"/>
                  </a:lnTo>
                  <a:lnTo>
                    <a:pt x="1910405" y="81309"/>
                  </a:lnTo>
                  <a:lnTo>
                    <a:pt x="1907553" y="84380"/>
                  </a:lnTo>
                  <a:lnTo>
                    <a:pt x="1900431" y="95981"/>
                  </a:lnTo>
                  <a:lnTo>
                    <a:pt x="1920866" y="92602"/>
                  </a:lnTo>
                  <a:lnTo>
                    <a:pt x="1923299" y="96184"/>
                  </a:lnTo>
                  <a:lnTo>
                    <a:pt x="1945143" y="92209"/>
                  </a:lnTo>
                  <a:lnTo>
                    <a:pt x="1968136" y="124900"/>
                  </a:lnTo>
                  <a:lnTo>
                    <a:pt x="1974435" y="139319"/>
                  </a:lnTo>
                  <a:lnTo>
                    <a:pt x="1970792" y="143423"/>
                  </a:lnTo>
                  <a:lnTo>
                    <a:pt x="1973643" y="153215"/>
                  </a:lnTo>
                  <a:lnTo>
                    <a:pt x="1953518" y="170736"/>
                  </a:lnTo>
                  <a:lnTo>
                    <a:pt x="1981526" y="169112"/>
                  </a:lnTo>
                  <a:lnTo>
                    <a:pt x="2000365" y="204360"/>
                  </a:lnTo>
                  <a:lnTo>
                    <a:pt x="2004863" y="219438"/>
                  </a:lnTo>
                  <a:lnTo>
                    <a:pt x="2000748" y="223068"/>
                  </a:lnTo>
                  <a:lnTo>
                    <a:pt x="2002385" y="233136"/>
                  </a:lnTo>
                  <a:lnTo>
                    <a:pt x="1975300" y="251437"/>
                  </a:lnTo>
                  <a:lnTo>
                    <a:pt x="1996062" y="253662"/>
                  </a:lnTo>
                  <a:lnTo>
                    <a:pt x="2007224" y="287639"/>
                  </a:lnTo>
                  <a:lnTo>
                    <a:pt x="2019428" y="290818"/>
                  </a:lnTo>
                  <a:lnTo>
                    <a:pt x="2010531" y="299209"/>
                  </a:lnTo>
                  <a:lnTo>
                    <a:pt x="2011001" y="303072"/>
                  </a:lnTo>
                  <a:lnTo>
                    <a:pt x="1997491" y="311505"/>
                  </a:lnTo>
                  <a:lnTo>
                    <a:pt x="1986411" y="321955"/>
                  </a:lnTo>
                  <a:lnTo>
                    <a:pt x="2040604" y="333658"/>
                  </a:lnTo>
                  <a:lnTo>
                    <a:pt x="2050140" y="378079"/>
                  </a:lnTo>
                  <a:lnTo>
                    <a:pt x="2050235" y="384370"/>
                  </a:lnTo>
                  <a:lnTo>
                    <a:pt x="2019960" y="399076"/>
                  </a:lnTo>
                  <a:lnTo>
                    <a:pt x="2021131" y="404806"/>
                  </a:lnTo>
                  <a:lnTo>
                    <a:pt x="2021168" y="411449"/>
                  </a:lnTo>
                  <a:lnTo>
                    <a:pt x="2046870" y="420389"/>
                  </a:lnTo>
                  <a:lnTo>
                    <a:pt x="2050926" y="465642"/>
                  </a:lnTo>
                  <a:lnTo>
                    <a:pt x="2050255" y="471896"/>
                  </a:lnTo>
                  <a:lnTo>
                    <a:pt x="2018413" y="482806"/>
                  </a:lnTo>
                  <a:lnTo>
                    <a:pt x="2018878" y="488637"/>
                  </a:lnTo>
                  <a:lnTo>
                    <a:pt x="2017309" y="502029"/>
                  </a:lnTo>
                  <a:lnTo>
                    <a:pt x="2013987" y="503083"/>
                  </a:lnTo>
                  <a:lnTo>
                    <a:pt x="2007890" y="508391"/>
                  </a:lnTo>
                  <a:lnTo>
                    <a:pt x="2019487" y="514718"/>
                  </a:lnTo>
                  <a:lnTo>
                    <a:pt x="2019308" y="517223"/>
                  </a:lnTo>
                  <a:lnTo>
                    <a:pt x="2024214" y="516939"/>
                  </a:lnTo>
                  <a:lnTo>
                    <a:pt x="2043053" y="552187"/>
                  </a:lnTo>
                  <a:lnTo>
                    <a:pt x="2047551" y="567265"/>
                  </a:lnTo>
                  <a:lnTo>
                    <a:pt x="2043435" y="570895"/>
                  </a:lnTo>
                  <a:lnTo>
                    <a:pt x="2045072" y="580963"/>
                  </a:lnTo>
                  <a:lnTo>
                    <a:pt x="2029841" y="591254"/>
                  </a:lnTo>
                  <a:lnTo>
                    <a:pt x="2036303" y="595727"/>
                  </a:lnTo>
                  <a:lnTo>
                    <a:pt x="2035336" y="601123"/>
                  </a:lnTo>
                  <a:lnTo>
                    <a:pt x="2038751" y="601489"/>
                  </a:lnTo>
                  <a:lnTo>
                    <a:pt x="2049912" y="635466"/>
                  </a:lnTo>
                  <a:lnTo>
                    <a:pt x="2062116" y="638645"/>
                  </a:lnTo>
                  <a:lnTo>
                    <a:pt x="2053219" y="647036"/>
                  </a:lnTo>
                  <a:lnTo>
                    <a:pt x="2053689" y="650899"/>
                  </a:lnTo>
                  <a:lnTo>
                    <a:pt x="2040178" y="659332"/>
                  </a:lnTo>
                  <a:lnTo>
                    <a:pt x="2029099" y="669782"/>
                  </a:lnTo>
                  <a:lnTo>
                    <a:pt x="2083292" y="681485"/>
                  </a:lnTo>
                  <a:lnTo>
                    <a:pt x="2092828" y="725906"/>
                  </a:lnTo>
                  <a:lnTo>
                    <a:pt x="2092923" y="732197"/>
                  </a:lnTo>
                  <a:lnTo>
                    <a:pt x="2062648" y="746902"/>
                  </a:lnTo>
                  <a:lnTo>
                    <a:pt x="2063819" y="752633"/>
                  </a:lnTo>
                  <a:lnTo>
                    <a:pt x="2063856" y="759276"/>
                  </a:lnTo>
                  <a:lnTo>
                    <a:pt x="2089558" y="768216"/>
                  </a:lnTo>
                  <a:lnTo>
                    <a:pt x="2093614" y="813469"/>
                  </a:lnTo>
                  <a:lnTo>
                    <a:pt x="2092943" y="819723"/>
                  </a:lnTo>
                  <a:lnTo>
                    <a:pt x="2061101" y="830633"/>
                  </a:lnTo>
                  <a:lnTo>
                    <a:pt x="2061567" y="836464"/>
                  </a:lnTo>
                  <a:lnTo>
                    <a:pt x="2059997" y="849855"/>
                  </a:lnTo>
                  <a:lnTo>
                    <a:pt x="2046671" y="854086"/>
                  </a:lnTo>
                  <a:lnTo>
                    <a:pt x="2062175" y="862545"/>
                  </a:lnTo>
                  <a:lnTo>
                    <a:pt x="2060737" y="882631"/>
                  </a:lnTo>
                  <a:lnTo>
                    <a:pt x="2076005" y="894179"/>
                  </a:lnTo>
                  <a:lnTo>
                    <a:pt x="2059459" y="900471"/>
                  </a:lnTo>
                  <a:lnTo>
                    <a:pt x="2059385" y="901493"/>
                  </a:lnTo>
                  <a:lnTo>
                    <a:pt x="2057116" y="909932"/>
                  </a:lnTo>
                  <a:lnTo>
                    <a:pt x="2035598" y="913524"/>
                  </a:lnTo>
                  <a:lnTo>
                    <a:pt x="2078991" y="943554"/>
                  </a:lnTo>
                  <a:lnTo>
                    <a:pt x="2072100" y="981989"/>
                  </a:lnTo>
                  <a:lnTo>
                    <a:pt x="2068953" y="990140"/>
                  </a:lnTo>
                  <a:lnTo>
                    <a:pt x="2043318" y="991668"/>
                  </a:lnTo>
                  <a:lnTo>
                    <a:pt x="2038747" y="1014788"/>
                  </a:lnTo>
                  <a:lnTo>
                    <a:pt x="2053373" y="1027811"/>
                  </a:lnTo>
                  <a:lnTo>
                    <a:pt x="2041854" y="1065121"/>
                  </a:lnTo>
                  <a:lnTo>
                    <a:pt x="2037737" y="1072828"/>
                  </a:lnTo>
                  <a:lnTo>
                    <a:pt x="2012106" y="1071221"/>
                  </a:lnTo>
                  <a:lnTo>
                    <a:pt x="2003883" y="1096265"/>
                  </a:lnTo>
                  <a:lnTo>
                    <a:pt x="1998399" y="1105883"/>
                  </a:lnTo>
                  <a:lnTo>
                    <a:pt x="1973588" y="1103761"/>
                  </a:lnTo>
                  <a:lnTo>
                    <a:pt x="1982421" y="1114717"/>
                  </a:lnTo>
                  <a:lnTo>
                    <a:pt x="1980777" y="1118074"/>
                  </a:lnTo>
                  <a:lnTo>
                    <a:pt x="1991050" y="1135580"/>
                  </a:lnTo>
                  <a:lnTo>
                    <a:pt x="1972476" y="1135037"/>
                  </a:lnTo>
                  <a:lnTo>
                    <a:pt x="1969062" y="1142012"/>
                  </a:lnTo>
                  <a:lnTo>
                    <a:pt x="1960887" y="1152734"/>
                  </a:lnTo>
                  <a:lnTo>
                    <a:pt x="1950038" y="1150226"/>
                  </a:lnTo>
                  <a:lnTo>
                    <a:pt x="1973030" y="1185883"/>
                  </a:lnTo>
                  <a:lnTo>
                    <a:pt x="1956860" y="1211613"/>
                  </a:lnTo>
                  <a:lnTo>
                    <a:pt x="1947597" y="1221412"/>
                  </a:lnTo>
                  <a:lnTo>
                    <a:pt x="1919738" y="1211769"/>
                  </a:lnTo>
                  <a:lnTo>
                    <a:pt x="1918378" y="1213161"/>
                  </a:lnTo>
                  <a:lnTo>
                    <a:pt x="1927698" y="1228360"/>
                  </a:lnTo>
                  <a:lnTo>
                    <a:pt x="1914788" y="1247368"/>
                  </a:lnTo>
                  <a:lnTo>
                    <a:pt x="1918690" y="1255431"/>
                  </a:lnTo>
                  <a:lnTo>
                    <a:pt x="1899506" y="1279002"/>
                  </a:lnTo>
                  <a:lnTo>
                    <a:pt x="1889119" y="1287598"/>
                  </a:lnTo>
                  <a:lnTo>
                    <a:pt x="1859971" y="1273327"/>
                  </a:lnTo>
                  <a:lnTo>
                    <a:pt x="1868521" y="1292072"/>
                  </a:lnTo>
                  <a:lnTo>
                    <a:pt x="1849921" y="1313336"/>
                  </a:lnTo>
                  <a:lnTo>
                    <a:pt x="1841539" y="1319785"/>
                  </a:lnTo>
                  <a:lnTo>
                    <a:pt x="1817579" y="1307372"/>
                  </a:lnTo>
                  <a:lnTo>
                    <a:pt x="1820177" y="1326091"/>
                  </a:lnTo>
                  <a:lnTo>
                    <a:pt x="1805865" y="1319666"/>
                  </a:lnTo>
                  <a:lnTo>
                    <a:pt x="1787029" y="1336147"/>
                  </a:lnTo>
                  <a:lnTo>
                    <a:pt x="1777410" y="1341628"/>
                  </a:lnTo>
                  <a:lnTo>
                    <a:pt x="1776861" y="1341237"/>
                  </a:lnTo>
                  <a:lnTo>
                    <a:pt x="1778551" y="1355828"/>
                  </a:lnTo>
                  <a:lnTo>
                    <a:pt x="1777333" y="1355248"/>
                  </a:lnTo>
                  <a:lnTo>
                    <a:pt x="1779704" y="1368278"/>
                  </a:lnTo>
                  <a:lnTo>
                    <a:pt x="1755328" y="1385420"/>
                  </a:lnTo>
                  <a:lnTo>
                    <a:pt x="1745182" y="1389853"/>
                  </a:lnTo>
                  <a:lnTo>
                    <a:pt x="1727373" y="1374045"/>
                  </a:lnTo>
                  <a:lnTo>
                    <a:pt x="1722614" y="1377278"/>
                  </a:lnTo>
                  <a:lnTo>
                    <a:pt x="1726864" y="1404066"/>
                  </a:lnTo>
                  <a:lnTo>
                    <a:pt x="1712370" y="1413674"/>
                  </a:lnTo>
                  <a:lnTo>
                    <a:pt x="1692728" y="1421846"/>
                  </a:lnTo>
                  <a:lnTo>
                    <a:pt x="1690964" y="1420206"/>
                  </a:lnTo>
                  <a:lnTo>
                    <a:pt x="1678307" y="1426970"/>
                  </a:lnTo>
                  <a:lnTo>
                    <a:pt x="1667697" y="1430135"/>
                  </a:lnTo>
                  <a:lnTo>
                    <a:pt x="1646518" y="1406123"/>
                  </a:lnTo>
                  <a:lnTo>
                    <a:pt x="1647784" y="1442012"/>
                  </a:lnTo>
                  <a:lnTo>
                    <a:pt x="1632228" y="1449783"/>
                  </a:lnTo>
                  <a:lnTo>
                    <a:pt x="1611737" y="1455501"/>
                  </a:lnTo>
                  <a:lnTo>
                    <a:pt x="1590944" y="1430822"/>
                  </a:lnTo>
                  <a:lnTo>
                    <a:pt x="1589410" y="1436712"/>
                  </a:lnTo>
                  <a:lnTo>
                    <a:pt x="1575315" y="1421767"/>
                  </a:lnTo>
                  <a:lnTo>
                    <a:pt x="1572094" y="1423349"/>
                  </a:lnTo>
                  <a:lnTo>
                    <a:pt x="1570777" y="1435636"/>
                  </a:lnTo>
                  <a:lnTo>
                    <a:pt x="1550738" y="1442217"/>
                  </a:lnTo>
                  <a:lnTo>
                    <a:pt x="1545333" y="1461197"/>
                  </a:lnTo>
                  <a:lnTo>
                    <a:pt x="1532831" y="1447322"/>
                  </a:lnTo>
                  <a:lnTo>
                    <a:pt x="1529770" y="1461494"/>
                  </a:lnTo>
                  <a:lnTo>
                    <a:pt x="1502148" y="1467423"/>
                  </a:lnTo>
                  <a:lnTo>
                    <a:pt x="1491574" y="1467584"/>
                  </a:lnTo>
                  <a:lnTo>
                    <a:pt x="1485478" y="1455036"/>
                  </a:lnTo>
                  <a:lnTo>
                    <a:pt x="1481687" y="1455786"/>
                  </a:lnTo>
                  <a:lnTo>
                    <a:pt x="1474081" y="1487510"/>
                  </a:lnTo>
                  <a:lnTo>
                    <a:pt x="1466745" y="1489009"/>
                  </a:lnTo>
                  <a:lnTo>
                    <a:pt x="1434399" y="1489183"/>
                  </a:lnTo>
                  <a:lnTo>
                    <a:pt x="1428587" y="1476494"/>
                  </a:lnTo>
                  <a:lnTo>
                    <a:pt x="1417026" y="1477530"/>
                  </a:lnTo>
                  <a:lnTo>
                    <a:pt x="1406510" y="1476402"/>
                  </a:lnTo>
                  <a:lnTo>
                    <a:pt x="1400194" y="1457969"/>
                  </a:lnTo>
                  <a:lnTo>
                    <a:pt x="1386720" y="1494048"/>
                  </a:lnTo>
                  <a:lnTo>
                    <a:pt x="1379256" y="1494643"/>
                  </a:lnTo>
                  <a:lnTo>
                    <a:pt x="1347129" y="1490877"/>
                  </a:lnTo>
                  <a:lnTo>
                    <a:pt x="1334205" y="1450167"/>
                  </a:lnTo>
                  <a:lnTo>
                    <a:pt x="1333877" y="1450601"/>
                  </a:lnTo>
                  <a:lnTo>
                    <a:pt x="1329871" y="1440069"/>
                  </a:lnTo>
                  <a:lnTo>
                    <a:pt x="1328804" y="1440677"/>
                  </a:lnTo>
                  <a:lnTo>
                    <a:pt x="1327311" y="1444599"/>
                  </a:lnTo>
                  <a:lnTo>
                    <a:pt x="1328590" y="1455648"/>
                  </a:lnTo>
                  <a:lnTo>
                    <a:pt x="1327372" y="1455068"/>
                  </a:lnTo>
                  <a:lnTo>
                    <a:pt x="1329743" y="1468098"/>
                  </a:lnTo>
                  <a:lnTo>
                    <a:pt x="1305368" y="1485240"/>
                  </a:lnTo>
                  <a:lnTo>
                    <a:pt x="1295222" y="1489674"/>
                  </a:lnTo>
                  <a:lnTo>
                    <a:pt x="1277413" y="1473865"/>
                  </a:lnTo>
                  <a:lnTo>
                    <a:pt x="1272653" y="1477098"/>
                  </a:lnTo>
                  <a:lnTo>
                    <a:pt x="1276903" y="1503887"/>
                  </a:lnTo>
                  <a:lnTo>
                    <a:pt x="1262410" y="1513495"/>
                  </a:lnTo>
                  <a:lnTo>
                    <a:pt x="1242768" y="1521666"/>
                  </a:lnTo>
                  <a:lnTo>
                    <a:pt x="1241003" y="1520026"/>
                  </a:lnTo>
                  <a:lnTo>
                    <a:pt x="1228346" y="1526791"/>
                  </a:lnTo>
                  <a:lnTo>
                    <a:pt x="1217737" y="1529956"/>
                  </a:lnTo>
                  <a:lnTo>
                    <a:pt x="1196558" y="1505943"/>
                  </a:lnTo>
                  <a:lnTo>
                    <a:pt x="1197823" y="1541833"/>
                  </a:lnTo>
                  <a:lnTo>
                    <a:pt x="1182267" y="1549604"/>
                  </a:lnTo>
                  <a:lnTo>
                    <a:pt x="1161776" y="1555321"/>
                  </a:lnTo>
                  <a:lnTo>
                    <a:pt x="1140984" y="1530642"/>
                  </a:lnTo>
                  <a:lnTo>
                    <a:pt x="1139450" y="1536533"/>
                  </a:lnTo>
                  <a:lnTo>
                    <a:pt x="1125354" y="1521587"/>
                  </a:lnTo>
                  <a:lnTo>
                    <a:pt x="1122133" y="1523169"/>
                  </a:lnTo>
                  <a:lnTo>
                    <a:pt x="1120817" y="1535457"/>
                  </a:lnTo>
                  <a:lnTo>
                    <a:pt x="1100777" y="1542038"/>
                  </a:lnTo>
                  <a:lnTo>
                    <a:pt x="1095373" y="1561018"/>
                  </a:lnTo>
                  <a:lnTo>
                    <a:pt x="1082870" y="1547143"/>
                  </a:lnTo>
                  <a:lnTo>
                    <a:pt x="1079810" y="1561315"/>
                  </a:lnTo>
                  <a:lnTo>
                    <a:pt x="1052188" y="1567243"/>
                  </a:lnTo>
                  <a:lnTo>
                    <a:pt x="1041614" y="1567404"/>
                  </a:lnTo>
                  <a:lnTo>
                    <a:pt x="1035518" y="1554857"/>
                  </a:lnTo>
                  <a:lnTo>
                    <a:pt x="1031727" y="1555606"/>
                  </a:lnTo>
                  <a:lnTo>
                    <a:pt x="1024120" y="1587330"/>
                  </a:lnTo>
                  <a:lnTo>
                    <a:pt x="1016784" y="1588830"/>
                  </a:lnTo>
                  <a:lnTo>
                    <a:pt x="984438" y="1589004"/>
                  </a:lnTo>
                  <a:lnTo>
                    <a:pt x="978626" y="1576314"/>
                  </a:lnTo>
                  <a:lnTo>
                    <a:pt x="967065" y="1577350"/>
                  </a:lnTo>
                  <a:lnTo>
                    <a:pt x="956549" y="1576222"/>
                  </a:lnTo>
                  <a:lnTo>
                    <a:pt x="950234" y="1557790"/>
                  </a:lnTo>
                  <a:lnTo>
                    <a:pt x="936760" y="1593869"/>
                  </a:lnTo>
                  <a:lnTo>
                    <a:pt x="929296" y="1594464"/>
                  </a:lnTo>
                  <a:lnTo>
                    <a:pt x="897169" y="1590697"/>
                  </a:lnTo>
                  <a:lnTo>
                    <a:pt x="884244" y="1549987"/>
                  </a:lnTo>
                  <a:lnTo>
                    <a:pt x="883916" y="1550422"/>
                  </a:lnTo>
                  <a:lnTo>
                    <a:pt x="879493" y="1538793"/>
                  </a:lnTo>
                  <a:lnTo>
                    <a:pt x="867543" y="1570172"/>
                  </a:lnTo>
                  <a:lnTo>
                    <a:pt x="860074" y="1570719"/>
                  </a:lnTo>
                  <a:lnTo>
                    <a:pt x="840255" y="1568265"/>
                  </a:lnTo>
                  <a:lnTo>
                    <a:pt x="839585" y="1569108"/>
                  </a:lnTo>
                  <a:lnTo>
                    <a:pt x="839242" y="1568139"/>
                  </a:lnTo>
                  <a:lnTo>
                    <a:pt x="827973" y="1566745"/>
                  </a:lnTo>
                  <a:lnTo>
                    <a:pt x="821715" y="1546582"/>
                  </a:lnTo>
                  <a:lnTo>
                    <a:pt x="816592" y="1545205"/>
                  </a:lnTo>
                  <a:lnTo>
                    <a:pt x="816526" y="1544810"/>
                  </a:lnTo>
                  <a:lnTo>
                    <a:pt x="813222" y="1549584"/>
                  </a:lnTo>
                  <a:lnTo>
                    <a:pt x="796105" y="1546517"/>
                  </a:lnTo>
                  <a:lnTo>
                    <a:pt x="790520" y="1544360"/>
                  </a:lnTo>
                  <a:lnTo>
                    <a:pt x="783437" y="1557770"/>
                  </a:lnTo>
                  <a:lnTo>
                    <a:pt x="775958" y="1557402"/>
                  </a:lnTo>
                  <a:lnTo>
                    <a:pt x="767963" y="1555401"/>
                  </a:lnTo>
                  <a:lnTo>
                    <a:pt x="760985" y="1565012"/>
                  </a:lnTo>
                  <a:lnTo>
                    <a:pt x="751891" y="1563214"/>
                  </a:lnTo>
                  <a:lnTo>
                    <a:pt x="720982" y="1550289"/>
                  </a:lnTo>
                  <a:lnTo>
                    <a:pt x="720126" y="1527047"/>
                  </a:lnTo>
                  <a:lnTo>
                    <a:pt x="715412" y="1525591"/>
                  </a:lnTo>
                  <a:lnTo>
                    <a:pt x="699394" y="1517034"/>
                  </a:lnTo>
                  <a:lnTo>
                    <a:pt x="678301" y="1539670"/>
                  </a:lnTo>
                  <a:lnTo>
                    <a:pt x="669494" y="1536779"/>
                  </a:lnTo>
                  <a:lnTo>
                    <a:pt x="640389" y="1520186"/>
                  </a:lnTo>
                  <a:lnTo>
                    <a:pt x="644024" y="1477665"/>
                  </a:lnTo>
                  <a:lnTo>
                    <a:pt x="609440" y="1514301"/>
                  </a:lnTo>
                  <a:lnTo>
                    <a:pt x="600652" y="1511353"/>
                  </a:lnTo>
                  <a:lnTo>
                    <a:pt x="571655" y="1494572"/>
                  </a:lnTo>
                  <a:lnTo>
                    <a:pt x="576229" y="1444859"/>
                  </a:lnTo>
                  <a:lnTo>
                    <a:pt x="570896" y="1440793"/>
                  </a:lnTo>
                  <a:lnTo>
                    <a:pt x="571025" y="1440242"/>
                  </a:lnTo>
                  <a:lnTo>
                    <a:pt x="534060" y="1470882"/>
                  </a:lnTo>
                  <a:lnTo>
                    <a:pt x="525696" y="1466885"/>
                  </a:lnTo>
                  <a:lnTo>
                    <a:pt x="498959" y="1446697"/>
                  </a:lnTo>
                  <a:lnTo>
                    <a:pt x="504097" y="1423042"/>
                  </a:lnTo>
                  <a:lnTo>
                    <a:pt x="494439" y="1413237"/>
                  </a:lnTo>
                  <a:lnTo>
                    <a:pt x="502498" y="1391552"/>
                  </a:lnTo>
                  <a:lnTo>
                    <a:pt x="461023" y="1408088"/>
                  </a:lnTo>
                  <a:lnTo>
                    <a:pt x="464196" y="1390707"/>
                  </a:lnTo>
                  <a:lnTo>
                    <a:pt x="462385" y="1391533"/>
                  </a:lnTo>
                  <a:lnTo>
                    <a:pt x="452422" y="1382818"/>
                  </a:lnTo>
                  <a:lnTo>
                    <a:pt x="432223" y="1356564"/>
                  </a:lnTo>
                  <a:lnTo>
                    <a:pt x="438102" y="1345214"/>
                  </a:lnTo>
                  <a:lnTo>
                    <a:pt x="394486" y="1364770"/>
                  </a:lnTo>
                  <a:lnTo>
                    <a:pt x="384581" y="1355991"/>
                  </a:lnTo>
                  <a:lnTo>
                    <a:pt x="364550" y="1329606"/>
                  </a:lnTo>
                  <a:lnTo>
                    <a:pt x="390461" y="1280373"/>
                  </a:lnTo>
                  <a:lnTo>
                    <a:pt x="338917" y="1296285"/>
                  </a:lnTo>
                  <a:lnTo>
                    <a:pt x="330155" y="1286365"/>
                  </a:lnTo>
                  <a:lnTo>
                    <a:pt x="313487" y="1257737"/>
                  </a:lnTo>
                  <a:lnTo>
                    <a:pt x="345197" y="1212032"/>
                  </a:lnTo>
                  <a:lnTo>
                    <a:pt x="344803" y="1211087"/>
                  </a:lnTo>
                  <a:lnTo>
                    <a:pt x="298428" y="1210470"/>
                  </a:lnTo>
                  <a:lnTo>
                    <a:pt x="321913" y="1174093"/>
                  </a:lnTo>
                  <a:lnTo>
                    <a:pt x="320481" y="1174143"/>
                  </a:lnTo>
                  <a:lnTo>
                    <a:pt x="315974" y="1165126"/>
                  </a:lnTo>
                  <a:lnTo>
                    <a:pt x="310316" y="1144843"/>
                  </a:lnTo>
                  <a:lnTo>
                    <a:pt x="253992" y="1146467"/>
                  </a:lnTo>
                  <a:lnTo>
                    <a:pt x="249545" y="1137419"/>
                  </a:lnTo>
                  <a:lnTo>
                    <a:pt x="238942" y="1098447"/>
                  </a:lnTo>
                  <a:lnTo>
                    <a:pt x="276503" y="1067216"/>
                  </a:lnTo>
                  <a:lnTo>
                    <a:pt x="226054" y="1062497"/>
                  </a:lnTo>
                  <a:lnTo>
                    <a:pt x="222743" y="1052975"/>
                  </a:lnTo>
                  <a:lnTo>
                    <a:pt x="216965" y="1013002"/>
                  </a:lnTo>
                  <a:lnTo>
                    <a:pt x="263827" y="982862"/>
                  </a:lnTo>
                  <a:lnTo>
                    <a:pt x="223831" y="965668"/>
                  </a:lnTo>
                  <a:lnTo>
                    <a:pt x="255794" y="943573"/>
                  </a:lnTo>
                  <a:lnTo>
                    <a:pt x="246099" y="935093"/>
                  </a:lnTo>
                  <a:lnTo>
                    <a:pt x="225899" y="908838"/>
                  </a:lnTo>
                  <a:lnTo>
                    <a:pt x="229563" y="901766"/>
                  </a:lnTo>
                  <a:lnTo>
                    <a:pt x="225602" y="900258"/>
                  </a:lnTo>
                  <a:lnTo>
                    <a:pt x="188162" y="917044"/>
                  </a:lnTo>
                  <a:lnTo>
                    <a:pt x="178258" y="908265"/>
                  </a:lnTo>
                  <a:lnTo>
                    <a:pt x="158227" y="881880"/>
                  </a:lnTo>
                  <a:lnTo>
                    <a:pt x="184138" y="832648"/>
                  </a:lnTo>
                  <a:lnTo>
                    <a:pt x="132593" y="848559"/>
                  </a:lnTo>
                  <a:lnTo>
                    <a:pt x="123832" y="838639"/>
                  </a:lnTo>
                  <a:lnTo>
                    <a:pt x="107164" y="810012"/>
                  </a:lnTo>
                  <a:lnTo>
                    <a:pt x="138873" y="764306"/>
                  </a:lnTo>
                  <a:lnTo>
                    <a:pt x="138480" y="763361"/>
                  </a:lnTo>
                  <a:lnTo>
                    <a:pt x="92105" y="762745"/>
                  </a:lnTo>
                  <a:lnTo>
                    <a:pt x="115589" y="726367"/>
                  </a:lnTo>
                  <a:lnTo>
                    <a:pt x="114157" y="726417"/>
                  </a:lnTo>
                  <a:lnTo>
                    <a:pt x="109651" y="717400"/>
                  </a:lnTo>
                  <a:lnTo>
                    <a:pt x="103992" y="697118"/>
                  </a:lnTo>
                  <a:lnTo>
                    <a:pt x="47668" y="698741"/>
                  </a:lnTo>
                  <a:lnTo>
                    <a:pt x="43222" y="689693"/>
                  </a:lnTo>
                  <a:lnTo>
                    <a:pt x="32618" y="650721"/>
                  </a:lnTo>
                  <a:lnTo>
                    <a:pt x="70180" y="619490"/>
                  </a:lnTo>
                  <a:lnTo>
                    <a:pt x="19731" y="614771"/>
                  </a:lnTo>
                  <a:lnTo>
                    <a:pt x="16419" y="605249"/>
                  </a:lnTo>
                  <a:lnTo>
                    <a:pt x="10641" y="565276"/>
                  </a:lnTo>
                  <a:lnTo>
                    <a:pt x="57504" y="535136"/>
                  </a:lnTo>
                  <a:lnTo>
                    <a:pt x="17507" y="517942"/>
                  </a:lnTo>
                  <a:lnTo>
                    <a:pt x="73190" y="479450"/>
                  </a:lnTo>
                  <a:lnTo>
                    <a:pt x="73193" y="476298"/>
                  </a:lnTo>
                  <a:lnTo>
                    <a:pt x="65509" y="473427"/>
                  </a:lnTo>
                  <a:lnTo>
                    <a:pt x="65238" y="470037"/>
                  </a:lnTo>
                  <a:lnTo>
                    <a:pt x="659" y="445441"/>
                  </a:lnTo>
                  <a:lnTo>
                    <a:pt x="0" y="436436"/>
                  </a:lnTo>
                  <a:lnTo>
                    <a:pt x="5552" y="391592"/>
                  </a:lnTo>
                  <a:lnTo>
                    <a:pt x="45020" y="379342"/>
                  </a:lnTo>
                  <a:lnTo>
                    <a:pt x="3921" y="357631"/>
                  </a:lnTo>
                  <a:lnTo>
                    <a:pt x="4362" y="348613"/>
                  </a:lnTo>
                  <a:lnTo>
                    <a:pt x="15335" y="304779"/>
                  </a:lnTo>
                  <a:lnTo>
                    <a:pt x="72645" y="294417"/>
                  </a:lnTo>
                  <a:lnTo>
                    <a:pt x="55590" y="276904"/>
                  </a:lnTo>
                  <a:lnTo>
                    <a:pt x="52441" y="274408"/>
                  </a:lnTo>
                  <a:lnTo>
                    <a:pt x="52976" y="274219"/>
                  </a:lnTo>
                  <a:lnTo>
                    <a:pt x="42276" y="263229"/>
                  </a:lnTo>
                  <a:lnTo>
                    <a:pt x="99081" y="250994"/>
                  </a:lnTo>
                  <a:lnTo>
                    <a:pt x="102662" y="242152"/>
                  </a:lnTo>
                  <a:lnTo>
                    <a:pt x="53182" y="195443"/>
                  </a:lnTo>
                  <a:lnTo>
                    <a:pt x="59364" y="177014"/>
                  </a:lnTo>
                  <a:lnTo>
                    <a:pt x="69699" y="159158"/>
                  </a:lnTo>
                  <a:lnTo>
                    <a:pt x="73735" y="149371"/>
                  </a:lnTo>
                  <a:lnTo>
                    <a:pt x="75398" y="149310"/>
                  </a:lnTo>
                  <a:lnTo>
                    <a:pt x="78482" y="143982"/>
                  </a:lnTo>
                  <a:lnTo>
                    <a:pt x="112367" y="147100"/>
                  </a:lnTo>
                  <a:lnTo>
                    <a:pt x="86498" y="115891"/>
                  </a:lnTo>
                  <a:lnTo>
                    <a:pt x="94879" y="98352"/>
                  </a:lnTo>
                  <a:lnTo>
                    <a:pt x="107311" y="81888"/>
                  </a:lnTo>
                  <a:lnTo>
                    <a:pt x="112510" y="72665"/>
                  </a:lnTo>
                  <a:lnTo>
                    <a:pt x="114168" y="72807"/>
                  </a:lnTo>
                  <a:lnTo>
                    <a:pt x="117877" y="67894"/>
                  </a:lnTo>
                  <a:lnTo>
                    <a:pt x="157595" y="76520"/>
                  </a:lnTo>
                  <a:lnTo>
                    <a:pt x="164816" y="77137"/>
                  </a:lnTo>
                  <a:lnTo>
                    <a:pt x="154338" y="65063"/>
                  </a:lnTo>
                  <a:lnTo>
                    <a:pt x="156701" y="59883"/>
                  </a:lnTo>
                  <a:lnTo>
                    <a:pt x="142845" y="34993"/>
                  </a:lnTo>
                  <a:lnTo>
                    <a:pt x="172322" y="36527"/>
                  </a:lnTo>
                  <a:lnTo>
                    <a:pt x="181962" y="23001"/>
                  </a:lnTo>
                  <a:lnTo>
                    <a:pt x="211432" y="28704"/>
                  </a:lnTo>
                  <a:lnTo>
                    <a:pt x="193832" y="0"/>
                  </a:lnTo>
                  <a:close/>
                </a:path>
              </a:pathLst>
            </a:custGeom>
            <a:solidFill>
              <a:srgbClr val="ad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任意多边形 28"/>
            <p:cNvSpPr/>
            <p:nvPr/>
          </p:nvSpPr>
          <p:spPr>
            <a:xfrm>
              <a:off x="1481040" y="0"/>
              <a:ext cx="1336680" cy="1057320"/>
            </a:xfrm>
            <a:custGeom>
              <a:avLst/>
              <a:gdLst/>
              <a:ahLst/>
              <a:rect l="l" t="t" r="r" b="b"/>
              <a:pathLst>
                <a:path w="1336354" h="1057202">
                  <a:moveTo>
                    <a:pt x="127715" y="0"/>
                  </a:moveTo>
                  <a:lnTo>
                    <a:pt x="152505" y="0"/>
                  </a:lnTo>
                  <a:lnTo>
                    <a:pt x="160648" y="3027"/>
                  </a:lnTo>
                  <a:lnTo>
                    <a:pt x="159267" y="0"/>
                  </a:lnTo>
                  <a:lnTo>
                    <a:pt x="1173479" y="0"/>
                  </a:lnTo>
                  <a:lnTo>
                    <a:pt x="1165284" y="16468"/>
                  </a:lnTo>
                  <a:lnTo>
                    <a:pt x="1166577" y="15842"/>
                  </a:lnTo>
                  <a:lnTo>
                    <a:pt x="1168648" y="17527"/>
                  </a:lnTo>
                  <a:lnTo>
                    <a:pt x="1186914" y="11432"/>
                  </a:lnTo>
                  <a:lnTo>
                    <a:pt x="1200942" y="26219"/>
                  </a:lnTo>
                  <a:lnTo>
                    <a:pt x="1209907" y="40428"/>
                  </a:lnTo>
                  <a:lnTo>
                    <a:pt x="1199124" y="56747"/>
                  </a:lnTo>
                  <a:lnTo>
                    <a:pt x="1214005" y="73754"/>
                  </a:lnTo>
                  <a:lnTo>
                    <a:pt x="1216456" y="78055"/>
                  </a:lnTo>
                  <a:lnTo>
                    <a:pt x="1218393" y="77786"/>
                  </a:lnTo>
                  <a:lnTo>
                    <a:pt x="1217472" y="79837"/>
                  </a:lnTo>
                  <a:lnTo>
                    <a:pt x="1218568" y="81761"/>
                  </a:lnTo>
                  <a:lnTo>
                    <a:pt x="1224719" y="81704"/>
                  </a:lnTo>
                  <a:lnTo>
                    <a:pt x="1219165" y="90752"/>
                  </a:lnTo>
                  <a:lnTo>
                    <a:pt x="1219412" y="91355"/>
                  </a:lnTo>
                  <a:lnTo>
                    <a:pt x="1217591" y="93315"/>
                  </a:lnTo>
                  <a:lnTo>
                    <a:pt x="1213045" y="100720"/>
                  </a:lnTo>
                  <a:lnTo>
                    <a:pt x="1226089" y="98564"/>
                  </a:lnTo>
                  <a:lnTo>
                    <a:pt x="1227642" y="100850"/>
                  </a:lnTo>
                  <a:lnTo>
                    <a:pt x="1241585" y="98313"/>
                  </a:lnTo>
                  <a:lnTo>
                    <a:pt x="1256261" y="119179"/>
                  </a:lnTo>
                  <a:lnTo>
                    <a:pt x="1260282" y="128383"/>
                  </a:lnTo>
                  <a:lnTo>
                    <a:pt x="1257957" y="131002"/>
                  </a:lnTo>
                  <a:lnTo>
                    <a:pt x="1259777" y="137253"/>
                  </a:lnTo>
                  <a:lnTo>
                    <a:pt x="1246931" y="148437"/>
                  </a:lnTo>
                  <a:lnTo>
                    <a:pt x="1264809" y="147400"/>
                  </a:lnTo>
                  <a:lnTo>
                    <a:pt x="1276833" y="169899"/>
                  </a:lnTo>
                  <a:lnTo>
                    <a:pt x="1279704" y="179523"/>
                  </a:lnTo>
                  <a:lnTo>
                    <a:pt x="1277077" y="181840"/>
                  </a:lnTo>
                  <a:lnTo>
                    <a:pt x="1278122" y="188266"/>
                  </a:lnTo>
                  <a:lnTo>
                    <a:pt x="1260834" y="199948"/>
                  </a:lnTo>
                  <a:lnTo>
                    <a:pt x="1274087" y="201368"/>
                  </a:lnTo>
                  <a:lnTo>
                    <a:pt x="1281211" y="223056"/>
                  </a:lnTo>
                  <a:lnTo>
                    <a:pt x="1289001" y="225085"/>
                  </a:lnTo>
                  <a:lnTo>
                    <a:pt x="1283322" y="230441"/>
                  </a:lnTo>
                  <a:lnTo>
                    <a:pt x="1283622" y="232906"/>
                  </a:lnTo>
                  <a:lnTo>
                    <a:pt x="1274999" y="238289"/>
                  </a:lnTo>
                  <a:lnTo>
                    <a:pt x="1267926" y="244960"/>
                  </a:lnTo>
                  <a:lnTo>
                    <a:pt x="1302518" y="252429"/>
                  </a:lnTo>
                  <a:lnTo>
                    <a:pt x="1308605" y="280784"/>
                  </a:lnTo>
                  <a:lnTo>
                    <a:pt x="1308665" y="284799"/>
                  </a:lnTo>
                  <a:lnTo>
                    <a:pt x="1289341" y="294186"/>
                  </a:lnTo>
                  <a:lnTo>
                    <a:pt x="1290088" y="297843"/>
                  </a:lnTo>
                  <a:lnTo>
                    <a:pt x="1290112" y="302083"/>
                  </a:lnTo>
                  <a:lnTo>
                    <a:pt x="1306518" y="307790"/>
                  </a:lnTo>
                  <a:lnTo>
                    <a:pt x="1309106" y="336675"/>
                  </a:lnTo>
                  <a:lnTo>
                    <a:pt x="1308678" y="340667"/>
                  </a:lnTo>
                  <a:lnTo>
                    <a:pt x="1288353" y="347631"/>
                  </a:lnTo>
                  <a:lnTo>
                    <a:pt x="1288650" y="351353"/>
                  </a:lnTo>
                  <a:lnTo>
                    <a:pt x="1287649" y="359900"/>
                  </a:lnTo>
                  <a:lnTo>
                    <a:pt x="1285528" y="360574"/>
                  </a:lnTo>
                  <a:lnTo>
                    <a:pt x="1281637" y="363962"/>
                  </a:lnTo>
                  <a:lnTo>
                    <a:pt x="1289038" y="368000"/>
                  </a:lnTo>
                  <a:lnTo>
                    <a:pt x="1288924" y="369599"/>
                  </a:lnTo>
                  <a:lnTo>
                    <a:pt x="1292056" y="369418"/>
                  </a:lnTo>
                  <a:lnTo>
                    <a:pt x="1304081" y="391916"/>
                  </a:lnTo>
                  <a:lnTo>
                    <a:pt x="1306952" y="401541"/>
                  </a:lnTo>
                  <a:lnTo>
                    <a:pt x="1304325" y="403858"/>
                  </a:lnTo>
                  <a:lnTo>
                    <a:pt x="1305370" y="410284"/>
                  </a:lnTo>
                  <a:lnTo>
                    <a:pt x="1295648" y="416853"/>
                  </a:lnTo>
                  <a:lnTo>
                    <a:pt x="1299772" y="419708"/>
                  </a:lnTo>
                  <a:lnTo>
                    <a:pt x="1299155" y="423152"/>
                  </a:lnTo>
                  <a:lnTo>
                    <a:pt x="1301335" y="423386"/>
                  </a:lnTo>
                  <a:lnTo>
                    <a:pt x="1308459" y="445074"/>
                  </a:lnTo>
                  <a:lnTo>
                    <a:pt x="1316249" y="447103"/>
                  </a:lnTo>
                  <a:lnTo>
                    <a:pt x="1310570" y="452459"/>
                  </a:lnTo>
                  <a:lnTo>
                    <a:pt x="1310870" y="454924"/>
                  </a:lnTo>
                  <a:lnTo>
                    <a:pt x="1302246" y="460307"/>
                  </a:lnTo>
                  <a:lnTo>
                    <a:pt x="1295174" y="466978"/>
                  </a:lnTo>
                  <a:lnTo>
                    <a:pt x="1329766" y="474447"/>
                  </a:lnTo>
                  <a:lnTo>
                    <a:pt x="1335853" y="502801"/>
                  </a:lnTo>
                  <a:lnTo>
                    <a:pt x="1335913" y="506817"/>
                  </a:lnTo>
                  <a:lnTo>
                    <a:pt x="1316589" y="516203"/>
                  </a:lnTo>
                  <a:lnTo>
                    <a:pt x="1317336" y="519861"/>
                  </a:lnTo>
                  <a:lnTo>
                    <a:pt x="1317360" y="524101"/>
                  </a:lnTo>
                  <a:lnTo>
                    <a:pt x="1333765" y="529808"/>
                  </a:lnTo>
                  <a:lnTo>
                    <a:pt x="1336354" y="558693"/>
                  </a:lnTo>
                  <a:lnTo>
                    <a:pt x="1335926" y="562685"/>
                  </a:lnTo>
                  <a:lnTo>
                    <a:pt x="1315601" y="569649"/>
                  </a:lnTo>
                  <a:lnTo>
                    <a:pt x="1315898" y="573370"/>
                  </a:lnTo>
                  <a:lnTo>
                    <a:pt x="1314896" y="581918"/>
                  </a:lnTo>
                  <a:lnTo>
                    <a:pt x="1306390" y="584619"/>
                  </a:lnTo>
                  <a:lnTo>
                    <a:pt x="1316286" y="590018"/>
                  </a:lnTo>
                  <a:lnTo>
                    <a:pt x="1315369" y="602839"/>
                  </a:lnTo>
                  <a:lnTo>
                    <a:pt x="1325115" y="610210"/>
                  </a:lnTo>
                  <a:lnTo>
                    <a:pt x="1314553" y="614226"/>
                  </a:lnTo>
                  <a:lnTo>
                    <a:pt x="1314506" y="614879"/>
                  </a:lnTo>
                  <a:lnTo>
                    <a:pt x="1313058" y="620265"/>
                  </a:lnTo>
                  <a:lnTo>
                    <a:pt x="1299322" y="622558"/>
                  </a:lnTo>
                  <a:lnTo>
                    <a:pt x="1327020" y="641726"/>
                  </a:lnTo>
                  <a:lnTo>
                    <a:pt x="1322622" y="666259"/>
                  </a:lnTo>
                  <a:lnTo>
                    <a:pt x="1320613" y="671462"/>
                  </a:lnTo>
                  <a:lnTo>
                    <a:pt x="1304250" y="672437"/>
                  </a:lnTo>
                  <a:lnTo>
                    <a:pt x="1301332" y="687195"/>
                  </a:lnTo>
                  <a:lnTo>
                    <a:pt x="1310668" y="695507"/>
                  </a:lnTo>
                  <a:lnTo>
                    <a:pt x="1303316" y="719322"/>
                  </a:lnTo>
                  <a:lnTo>
                    <a:pt x="1300688" y="724242"/>
                  </a:lnTo>
                  <a:lnTo>
                    <a:pt x="1284327" y="723216"/>
                  </a:lnTo>
                  <a:lnTo>
                    <a:pt x="1279079" y="739201"/>
                  </a:lnTo>
                  <a:lnTo>
                    <a:pt x="1275578" y="745341"/>
                  </a:lnTo>
                  <a:lnTo>
                    <a:pt x="1259741" y="743987"/>
                  </a:lnTo>
                  <a:lnTo>
                    <a:pt x="1265380" y="750980"/>
                  </a:lnTo>
                  <a:lnTo>
                    <a:pt x="1264330" y="753123"/>
                  </a:lnTo>
                  <a:lnTo>
                    <a:pt x="1270887" y="764297"/>
                  </a:lnTo>
                  <a:lnTo>
                    <a:pt x="1259031" y="763950"/>
                  </a:lnTo>
                  <a:lnTo>
                    <a:pt x="1256852" y="768402"/>
                  </a:lnTo>
                  <a:lnTo>
                    <a:pt x="1251635" y="775246"/>
                  </a:lnTo>
                  <a:lnTo>
                    <a:pt x="1244709" y="773645"/>
                  </a:lnTo>
                  <a:lnTo>
                    <a:pt x="1259385" y="796404"/>
                  </a:lnTo>
                  <a:lnTo>
                    <a:pt x="1249064" y="812828"/>
                  </a:lnTo>
                  <a:lnTo>
                    <a:pt x="1243152" y="819083"/>
                  </a:lnTo>
                  <a:lnTo>
                    <a:pt x="1225369" y="812928"/>
                  </a:lnTo>
                  <a:lnTo>
                    <a:pt x="1224501" y="813816"/>
                  </a:lnTo>
                  <a:lnTo>
                    <a:pt x="1230450" y="823518"/>
                  </a:lnTo>
                  <a:lnTo>
                    <a:pt x="1222209" y="835651"/>
                  </a:lnTo>
                  <a:lnTo>
                    <a:pt x="1224700" y="840797"/>
                  </a:lnTo>
                  <a:lnTo>
                    <a:pt x="1212455" y="855842"/>
                  </a:lnTo>
                  <a:lnTo>
                    <a:pt x="1205825" y="861330"/>
                  </a:lnTo>
                  <a:lnTo>
                    <a:pt x="1187220" y="852220"/>
                  </a:lnTo>
                  <a:lnTo>
                    <a:pt x="1192677" y="864185"/>
                  </a:lnTo>
                  <a:lnTo>
                    <a:pt x="1180805" y="877758"/>
                  </a:lnTo>
                  <a:lnTo>
                    <a:pt x="1175455" y="881875"/>
                  </a:lnTo>
                  <a:lnTo>
                    <a:pt x="1160161" y="873951"/>
                  </a:lnTo>
                  <a:lnTo>
                    <a:pt x="1161819" y="885900"/>
                  </a:lnTo>
                  <a:lnTo>
                    <a:pt x="1152684" y="881799"/>
                  </a:lnTo>
                  <a:lnTo>
                    <a:pt x="1140661" y="892318"/>
                  </a:lnTo>
                  <a:lnTo>
                    <a:pt x="1134521" y="895817"/>
                  </a:lnTo>
                  <a:lnTo>
                    <a:pt x="1134171" y="895567"/>
                  </a:lnTo>
                  <a:lnTo>
                    <a:pt x="1135249" y="904881"/>
                  </a:lnTo>
                  <a:lnTo>
                    <a:pt x="1134472" y="904510"/>
                  </a:lnTo>
                  <a:lnTo>
                    <a:pt x="1135985" y="912827"/>
                  </a:lnTo>
                  <a:lnTo>
                    <a:pt x="1120426" y="923769"/>
                  </a:lnTo>
                  <a:lnTo>
                    <a:pt x="1113950" y="926599"/>
                  </a:lnTo>
                  <a:lnTo>
                    <a:pt x="1102582" y="916508"/>
                  </a:lnTo>
                  <a:lnTo>
                    <a:pt x="1099545" y="918572"/>
                  </a:lnTo>
                  <a:lnTo>
                    <a:pt x="1102257" y="935671"/>
                  </a:lnTo>
                  <a:lnTo>
                    <a:pt x="1093006" y="941804"/>
                  </a:lnTo>
                  <a:lnTo>
                    <a:pt x="1080468" y="947020"/>
                  </a:lnTo>
                  <a:lnTo>
                    <a:pt x="1079342" y="945973"/>
                  </a:lnTo>
                  <a:lnTo>
                    <a:pt x="1071263" y="950291"/>
                  </a:lnTo>
                  <a:lnTo>
                    <a:pt x="1064491" y="952311"/>
                  </a:lnTo>
                  <a:lnTo>
                    <a:pt x="1050973" y="936984"/>
                  </a:lnTo>
                  <a:lnTo>
                    <a:pt x="1051781" y="959892"/>
                  </a:lnTo>
                  <a:lnTo>
                    <a:pt x="1041852" y="964852"/>
                  </a:lnTo>
                  <a:lnTo>
                    <a:pt x="1028772" y="968502"/>
                  </a:lnTo>
                  <a:lnTo>
                    <a:pt x="1015500" y="952749"/>
                  </a:lnTo>
                  <a:lnTo>
                    <a:pt x="1014521" y="956509"/>
                  </a:lnTo>
                  <a:lnTo>
                    <a:pt x="1005524" y="946969"/>
                  </a:lnTo>
                  <a:lnTo>
                    <a:pt x="1003468" y="947979"/>
                  </a:lnTo>
                  <a:lnTo>
                    <a:pt x="1002627" y="955822"/>
                  </a:lnTo>
                  <a:lnTo>
                    <a:pt x="989836" y="960023"/>
                  </a:lnTo>
                  <a:lnTo>
                    <a:pt x="986386" y="972138"/>
                  </a:lnTo>
                  <a:lnTo>
                    <a:pt x="978406" y="963281"/>
                  </a:lnTo>
                  <a:lnTo>
                    <a:pt x="976452" y="972327"/>
                  </a:lnTo>
                  <a:lnTo>
                    <a:pt x="958821" y="976112"/>
                  </a:lnTo>
                  <a:lnTo>
                    <a:pt x="952072" y="976214"/>
                  </a:lnTo>
                  <a:lnTo>
                    <a:pt x="948181" y="968205"/>
                  </a:lnTo>
                  <a:lnTo>
                    <a:pt x="945761" y="968684"/>
                  </a:lnTo>
                  <a:lnTo>
                    <a:pt x="940906" y="988933"/>
                  </a:lnTo>
                  <a:lnTo>
                    <a:pt x="936223" y="989890"/>
                  </a:lnTo>
                  <a:lnTo>
                    <a:pt x="915577" y="990001"/>
                  </a:lnTo>
                  <a:lnTo>
                    <a:pt x="911867" y="981902"/>
                  </a:lnTo>
                  <a:lnTo>
                    <a:pt x="904488" y="982563"/>
                  </a:lnTo>
                  <a:lnTo>
                    <a:pt x="897776" y="981843"/>
                  </a:lnTo>
                  <a:lnTo>
                    <a:pt x="893744" y="970077"/>
                  </a:lnTo>
                  <a:lnTo>
                    <a:pt x="885144" y="993107"/>
                  </a:lnTo>
                  <a:lnTo>
                    <a:pt x="880379" y="993486"/>
                  </a:lnTo>
                  <a:lnTo>
                    <a:pt x="859873" y="991082"/>
                  </a:lnTo>
                  <a:lnTo>
                    <a:pt x="851623" y="965097"/>
                  </a:lnTo>
                  <a:lnTo>
                    <a:pt x="851414" y="965374"/>
                  </a:lnTo>
                  <a:lnTo>
                    <a:pt x="848857" y="958652"/>
                  </a:lnTo>
                  <a:lnTo>
                    <a:pt x="848176" y="959040"/>
                  </a:lnTo>
                  <a:lnTo>
                    <a:pt x="847223" y="961543"/>
                  </a:lnTo>
                  <a:lnTo>
                    <a:pt x="848039" y="968596"/>
                  </a:lnTo>
                  <a:lnTo>
                    <a:pt x="847262" y="968226"/>
                  </a:lnTo>
                  <a:lnTo>
                    <a:pt x="848775" y="976543"/>
                  </a:lnTo>
                  <a:lnTo>
                    <a:pt x="833216" y="987485"/>
                  </a:lnTo>
                  <a:lnTo>
                    <a:pt x="826740" y="990314"/>
                  </a:lnTo>
                  <a:lnTo>
                    <a:pt x="815373" y="980224"/>
                  </a:lnTo>
                  <a:lnTo>
                    <a:pt x="812335" y="982288"/>
                  </a:lnTo>
                  <a:lnTo>
                    <a:pt x="815048" y="999387"/>
                  </a:lnTo>
                  <a:lnTo>
                    <a:pt x="805796" y="1005520"/>
                  </a:lnTo>
                  <a:lnTo>
                    <a:pt x="793259" y="1010735"/>
                  </a:lnTo>
                  <a:lnTo>
                    <a:pt x="792133" y="1009689"/>
                  </a:lnTo>
                  <a:lnTo>
                    <a:pt x="784054" y="1014006"/>
                  </a:lnTo>
                  <a:lnTo>
                    <a:pt x="777281" y="1016026"/>
                  </a:lnTo>
                  <a:lnTo>
                    <a:pt x="763763" y="1000699"/>
                  </a:lnTo>
                  <a:lnTo>
                    <a:pt x="764571" y="1023607"/>
                  </a:lnTo>
                  <a:lnTo>
                    <a:pt x="754641" y="1028568"/>
                  </a:lnTo>
                  <a:lnTo>
                    <a:pt x="741562" y="1032217"/>
                  </a:lnTo>
                  <a:lnTo>
                    <a:pt x="728290" y="1016465"/>
                  </a:lnTo>
                  <a:lnTo>
                    <a:pt x="727311" y="1020224"/>
                  </a:lnTo>
                  <a:lnTo>
                    <a:pt x="718314" y="1010685"/>
                  </a:lnTo>
                  <a:lnTo>
                    <a:pt x="716258" y="1011695"/>
                  </a:lnTo>
                  <a:lnTo>
                    <a:pt x="715417" y="1019538"/>
                  </a:lnTo>
                  <a:lnTo>
                    <a:pt x="702626" y="1023739"/>
                  </a:lnTo>
                  <a:lnTo>
                    <a:pt x="699176" y="1035853"/>
                  </a:lnTo>
                  <a:lnTo>
                    <a:pt x="691196" y="1026997"/>
                  </a:lnTo>
                  <a:lnTo>
                    <a:pt x="689243" y="1036043"/>
                  </a:lnTo>
                  <a:lnTo>
                    <a:pt x="671612" y="1039827"/>
                  </a:lnTo>
                  <a:lnTo>
                    <a:pt x="664862" y="1039930"/>
                  </a:lnTo>
                  <a:lnTo>
                    <a:pt x="660971" y="1031921"/>
                  </a:lnTo>
                  <a:lnTo>
                    <a:pt x="658551" y="1032399"/>
                  </a:lnTo>
                  <a:lnTo>
                    <a:pt x="653696" y="1052649"/>
                  </a:lnTo>
                  <a:lnTo>
                    <a:pt x="649014" y="1053606"/>
                  </a:lnTo>
                  <a:lnTo>
                    <a:pt x="628367" y="1053717"/>
                  </a:lnTo>
                  <a:lnTo>
                    <a:pt x="624657" y="1045617"/>
                  </a:lnTo>
                  <a:lnTo>
                    <a:pt x="617278" y="1046278"/>
                  </a:lnTo>
                  <a:lnTo>
                    <a:pt x="610565" y="1045558"/>
                  </a:lnTo>
                  <a:lnTo>
                    <a:pt x="606534" y="1033793"/>
                  </a:lnTo>
                  <a:lnTo>
                    <a:pt x="597934" y="1056822"/>
                  </a:lnTo>
                  <a:lnTo>
                    <a:pt x="593169" y="1057202"/>
                  </a:lnTo>
                  <a:lnTo>
                    <a:pt x="572663" y="1054798"/>
                  </a:lnTo>
                  <a:lnTo>
                    <a:pt x="564413" y="1028812"/>
                  </a:lnTo>
                  <a:lnTo>
                    <a:pt x="564204" y="1029090"/>
                  </a:lnTo>
                  <a:lnTo>
                    <a:pt x="561381" y="1021667"/>
                  </a:lnTo>
                  <a:lnTo>
                    <a:pt x="553753" y="1041696"/>
                  </a:lnTo>
                  <a:lnTo>
                    <a:pt x="548985" y="1042045"/>
                  </a:lnTo>
                  <a:lnTo>
                    <a:pt x="536335" y="1040479"/>
                  </a:lnTo>
                  <a:lnTo>
                    <a:pt x="535907" y="1041017"/>
                  </a:lnTo>
                  <a:lnTo>
                    <a:pt x="535688" y="1040399"/>
                  </a:lnTo>
                  <a:lnTo>
                    <a:pt x="528495" y="1039509"/>
                  </a:lnTo>
                  <a:lnTo>
                    <a:pt x="524501" y="1026639"/>
                  </a:lnTo>
                  <a:lnTo>
                    <a:pt x="521231" y="1025760"/>
                  </a:lnTo>
                  <a:lnTo>
                    <a:pt x="521189" y="1025508"/>
                  </a:lnTo>
                  <a:lnTo>
                    <a:pt x="519079" y="1028555"/>
                  </a:lnTo>
                  <a:lnTo>
                    <a:pt x="508154" y="1026597"/>
                  </a:lnTo>
                  <a:lnTo>
                    <a:pt x="504589" y="1025221"/>
                  </a:lnTo>
                  <a:lnTo>
                    <a:pt x="500068" y="1033780"/>
                  </a:lnTo>
                  <a:lnTo>
                    <a:pt x="495294" y="1033545"/>
                  </a:lnTo>
                  <a:lnTo>
                    <a:pt x="490191" y="1032268"/>
                  </a:lnTo>
                  <a:lnTo>
                    <a:pt x="485737" y="1038403"/>
                  </a:lnTo>
                  <a:lnTo>
                    <a:pt x="479932" y="1037255"/>
                  </a:lnTo>
                  <a:lnTo>
                    <a:pt x="460203" y="1029005"/>
                  </a:lnTo>
                  <a:lnTo>
                    <a:pt x="459657" y="1014169"/>
                  </a:lnTo>
                  <a:lnTo>
                    <a:pt x="456648" y="1013240"/>
                  </a:lnTo>
                  <a:lnTo>
                    <a:pt x="446424" y="1007779"/>
                  </a:lnTo>
                  <a:lnTo>
                    <a:pt x="432960" y="1022227"/>
                  </a:lnTo>
                  <a:lnTo>
                    <a:pt x="427338" y="1020382"/>
                  </a:lnTo>
                  <a:lnTo>
                    <a:pt x="408761" y="1009790"/>
                  </a:lnTo>
                  <a:lnTo>
                    <a:pt x="411081" y="982649"/>
                  </a:lnTo>
                  <a:lnTo>
                    <a:pt x="389006" y="1006034"/>
                  </a:lnTo>
                  <a:lnTo>
                    <a:pt x="383396" y="1004152"/>
                  </a:lnTo>
                  <a:lnTo>
                    <a:pt x="364888" y="993441"/>
                  </a:lnTo>
                  <a:lnTo>
                    <a:pt x="367807" y="961709"/>
                  </a:lnTo>
                  <a:lnTo>
                    <a:pt x="364403" y="959114"/>
                  </a:lnTo>
                  <a:lnTo>
                    <a:pt x="364485" y="958762"/>
                  </a:lnTo>
                  <a:lnTo>
                    <a:pt x="340891" y="978319"/>
                  </a:lnTo>
                  <a:lnTo>
                    <a:pt x="335552" y="975768"/>
                  </a:lnTo>
                  <a:lnTo>
                    <a:pt x="318486" y="962882"/>
                  </a:lnTo>
                  <a:lnTo>
                    <a:pt x="321765" y="947783"/>
                  </a:lnTo>
                  <a:lnTo>
                    <a:pt x="315600" y="941525"/>
                  </a:lnTo>
                  <a:lnTo>
                    <a:pt x="320744" y="927683"/>
                  </a:lnTo>
                  <a:lnTo>
                    <a:pt x="294271" y="938238"/>
                  </a:lnTo>
                  <a:lnTo>
                    <a:pt x="296296" y="927144"/>
                  </a:lnTo>
                  <a:lnTo>
                    <a:pt x="295140" y="927671"/>
                  </a:lnTo>
                  <a:lnTo>
                    <a:pt x="288781" y="922108"/>
                  </a:lnTo>
                  <a:lnTo>
                    <a:pt x="275888" y="905350"/>
                  </a:lnTo>
                  <a:lnTo>
                    <a:pt x="279640" y="898106"/>
                  </a:lnTo>
                  <a:lnTo>
                    <a:pt x="251801" y="910588"/>
                  </a:lnTo>
                  <a:lnTo>
                    <a:pt x="245478" y="904985"/>
                  </a:lnTo>
                  <a:lnTo>
                    <a:pt x="232693" y="888143"/>
                  </a:lnTo>
                  <a:lnTo>
                    <a:pt x="249232" y="856718"/>
                  </a:lnTo>
                  <a:lnTo>
                    <a:pt x="216331" y="866874"/>
                  </a:lnTo>
                  <a:lnTo>
                    <a:pt x="210738" y="860543"/>
                  </a:lnTo>
                  <a:lnTo>
                    <a:pt x="200099" y="842269"/>
                  </a:lnTo>
                  <a:lnTo>
                    <a:pt x="220339" y="813096"/>
                  </a:lnTo>
                  <a:lnTo>
                    <a:pt x="220088" y="812492"/>
                  </a:lnTo>
                  <a:lnTo>
                    <a:pt x="190487" y="812099"/>
                  </a:lnTo>
                  <a:lnTo>
                    <a:pt x="205477" y="788879"/>
                  </a:lnTo>
                  <a:lnTo>
                    <a:pt x="204563" y="788911"/>
                  </a:lnTo>
                  <a:lnTo>
                    <a:pt x="201686" y="783155"/>
                  </a:lnTo>
                  <a:lnTo>
                    <a:pt x="198075" y="770209"/>
                  </a:lnTo>
                  <a:lnTo>
                    <a:pt x="162123" y="771245"/>
                  </a:lnTo>
                  <a:lnTo>
                    <a:pt x="159285" y="765470"/>
                  </a:lnTo>
                  <a:lnTo>
                    <a:pt x="152517" y="740595"/>
                  </a:lnTo>
                  <a:lnTo>
                    <a:pt x="176492" y="720660"/>
                  </a:lnTo>
                  <a:lnTo>
                    <a:pt x="144291" y="717648"/>
                  </a:lnTo>
                  <a:lnTo>
                    <a:pt x="142177" y="711570"/>
                  </a:lnTo>
                  <a:lnTo>
                    <a:pt x="138489" y="686055"/>
                  </a:lnTo>
                  <a:lnTo>
                    <a:pt x="168401" y="666817"/>
                  </a:lnTo>
                  <a:lnTo>
                    <a:pt x="142871" y="655841"/>
                  </a:lnTo>
                  <a:lnTo>
                    <a:pt x="163273" y="641738"/>
                  </a:lnTo>
                  <a:lnTo>
                    <a:pt x="157085" y="636325"/>
                  </a:lnTo>
                  <a:lnTo>
                    <a:pt x="144192" y="619567"/>
                  </a:lnTo>
                  <a:lnTo>
                    <a:pt x="146530" y="615053"/>
                  </a:lnTo>
                  <a:lnTo>
                    <a:pt x="144002" y="614090"/>
                  </a:lnTo>
                  <a:lnTo>
                    <a:pt x="120104" y="624805"/>
                  </a:lnTo>
                  <a:lnTo>
                    <a:pt x="113782" y="619201"/>
                  </a:lnTo>
                  <a:lnTo>
                    <a:pt x="100996" y="602360"/>
                  </a:lnTo>
                  <a:lnTo>
                    <a:pt x="117535" y="570935"/>
                  </a:lnTo>
                  <a:lnTo>
                    <a:pt x="84634" y="581091"/>
                  </a:lnTo>
                  <a:lnTo>
                    <a:pt x="79042" y="574759"/>
                  </a:lnTo>
                  <a:lnTo>
                    <a:pt x="68403" y="556486"/>
                  </a:lnTo>
                  <a:lnTo>
                    <a:pt x="88643" y="527312"/>
                  </a:lnTo>
                  <a:lnTo>
                    <a:pt x="88392" y="526709"/>
                  </a:lnTo>
                  <a:lnTo>
                    <a:pt x="58790" y="526316"/>
                  </a:lnTo>
                  <a:lnTo>
                    <a:pt x="73781" y="503096"/>
                  </a:lnTo>
                  <a:lnTo>
                    <a:pt x="72867" y="503128"/>
                  </a:lnTo>
                  <a:lnTo>
                    <a:pt x="69990" y="497372"/>
                  </a:lnTo>
                  <a:lnTo>
                    <a:pt x="66378" y="484426"/>
                  </a:lnTo>
                  <a:lnTo>
                    <a:pt x="30427" y="485462"/>
                  </a:lnTo>
                  <a:lnTo>
                    <a:pt x="27589" y="479687"/>
                  </a:lnTo>
                  <a:lnTo>
                    <a:pt x="20820" y="454811"/>
                  </a:lnTo>
                  <a:lnTo>
                    <a:pt x="44796" y="434876"/>
                  </a:lnTo>
                  <a:lnTo>
                    <a:pt x="12594" y="431864"/>
                  </a:lnTo>
                  <a:lnTo>
                    <a:pt x="10481" y="425786"/>
                  </a:lnTo>
                  <a:lnTo>
                    <a:pt x="6792" y="400271"/>
                  </a:lnTo>
                  <a:lnTo>
                    <a:pt x="36705" y="381033"/>
                  </a:lnTo>
                  <a:lnTo>
                    <a:pt x="11175" y="370058"/>
                  </a:lnTo>
                  <a:lnTo>
                    <a:pt x="46717" y="345489"/>
                  </a:lnTo>
                  <a:lnTo>
                    <a:pt x="46720" y="343476"/>
                  </a:lnTo>
                  <a:lnTo>
                    <a:pt x="41814" y="341644"/>
                  </a:lnTo>
                  <a:lnTo>
                    <a:pt x="41642" y="339480"/>
                  </a:lnTo>
                  <a:lnTo>
                    <a:pt x="421" y="323780"/>
                  </a:lnTo>
                  <a:lnTo>
                    <a:pt x="0" y="318032"/>
                  </a:lnTo>
                  <a:lnTo>
                    <a:pt x="3544" y="289409"/>
                  </a:lnTo>
                  <a:lnTo>
                    <a:pt x="28737" y="281590"/>
                  </a:lnTo>
                  <a:lnTo>
                    <a:pt x="2503" y="267731"/>
                  </a:lnTo>
                  <a:lnTo>
                    <a:pt x="2785" y="261975"/>
                  </a:lnTo>
                  <a:lnTo>
                    <a:pt x="9788" y="233996"/>
                  </a:lnTo>
                  <a:lnTo>
                    <a:pt x="46369" y="227382"/>
                  </a:lnTo>
                  <a:lnTo>
                    <a:pt x="35483" y="216203"/>
                  </a:lnTo>
                  <a:lnTo>
                    <a:pt x="33473" y="214610"/>
                  </a:lnTo>
                  <a:lnTo>
                    <a:pt x="33815" y="214489"/>
                  </a:lnTo>
                  <a:lnTo>
                    <a:pt x="26985" y="207475"/>
                  </a:lnTo>
                  <a:lnTo>
                    <a:pt x="63243" y="199665"/>
                  </a:lnTo>
                  <a:lnTo>
                    <a:pt x="65529" y="194021"/>
                  </a:lnTo>
                  <a:lnTo>
                    <a:pt x="33946" y="164207"/>
                  </a:lnTo>
                  <a:lnTo>
                    <a:pt x="37892" y="152444"/>
                  </a:lnTo>
                  <a:lnTo>
                    <a:pt x="44489" y="141046"/>
                  </a:lnTo>
                  <a:lnTo>
                    <a:pt x="47065" y="134799"/>
                  </a:lnTo>
                  <a:lnTo>
                    <a:pt x="48127" y="134761"/>
                  </a:lnTo>
                  <a:lnTo>
                    <a:pt x="50095" y="131359"/>
                  </a:lnTo>
                  <a:lnTo>
                    <a:pt x="71724" y="133350"/>
                  </a:lnTo>
                  <a:lnTo>
                    <a:pt x="55212" y="113429"/>
                  </a:lnTo>
                  <a:lnTo>
                    <a:pt x="60561" y="102234"/>
                  </a:lnTo>
                  <a:lnTo>
                    <a:pt x="68497" y="91725"/>
                  </a:lnTo>
                  <a:lnTo>
                    <a:pt x="71815" y="85838"/>
                  </a:lnTo>
                  <a:lnTo>
                    <a:pt x="72873" y="85928"/>
                  </a:lnTo>
                  <a:lnTo>
                    <a:pt x="75241" y="82792"/>
                  </a:lnTo>
                  <a:lnTo>
                    <a:pt x="100593" y="88298"/>
                  </a:lnTo>
                  <a:lnTo>
                    <a:pt x="105202" y="88692"/>
                  </a:lnTo>
                  <a:lnTo>
                    <a:pt x="98514" y="80986"/>
                  </a:lnTo>
                  <a:lnTo>
                    <a:pt x="100022" y="77679"/>
                  </a:lnTo>
                  <a:lnTo>
                    <a:pt x="91178" y="61792"/>
                  </a:lnTo>
                  <a:lnTo>
                    <a:pt x="109993" y="62771"/>
                  </a:lnTo>
                  <a:lnTo>
                    <a:pt x="116147" y="54137"/>
                  </a:lnTo>
                  <a:lnTo>
                    <a:pt x="134957" y="57778"/>
                  </a:lnTo>
                  <a:lnTo>
                    <a:pt x="110920" y="18576"/>
                  </a:lnTo>
                  <a:lnTo>
                    <a:pt x="114097" y="13767"/>
                  </a:lnTo>
                  <a:lnTo>
                    <a:pt x="127715" y="0"/>
                  </a:lnTo>
                  <a:close/>
                </a:path>
              </a:pathLst>
            </a:custGeom>
            <a:solidFill>
              <a:srgbClr val="bccdab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10"/>
            <p:cNvSpPr/>
            <p:nvPr/>
          </p:nvSpPr>
          <p:spPr>
            <a:xfrm rot="1182600">
              <a:off x="1471320" y="911160"/>
              <a:ext cx="2124000" cy="1422360"/>
            </a:xfrm>
            <a:custGeom>
              <a:avLst/>
              <a:gdLst/>
              <a:ahLst/>
              <a:rect l="l" t="t" r="r" b="b"/>
              <a:pathLst>
                <a:path w="3708493" h="3338539">
                  <a:moveTo>
                    <a:pt x="1132135" y="8165"/>
                  </a:moveTo>
                  <a:lnTo>
                    <a:pt x="1183221" y="8546"/>
                  </a:lnTo>
                  <a:lnTo>
                    <a:pt x="1209872" y="66729"/>
                  </a:lnTo>
                  <a:lnTo>
                    <a:pt x="1233450" y="3590"/>
                  </a:lnTo>
                  <a:lnTo>
                    <a:pt x="1287214" y="0"/>
                  </a:lnTo>
                  <a:lnTo>
                    <a:pt x="1337872" y="6599"/>
                  </a:lnTo>
                  <a:lnTo>
                    <a:pt x="1341676" y="18581"/>
                  </a:lnTo>
                  <a:lnTo>
                    <a:pt x="1370133" y="21822"/>
                  </a:lnTo>
                  <a:lnTo>
                    <a:pt x="1390807" y="83460"/>
                  </a:lnTo>
                  <a:lnTo>
                    <a:pt x="1418258" y="28510"/>
                  </a:lnTo>
                  <a:lnTo>
                    <a:pt x="1472100" y="30621"/>
                  </a:lnTo>
                  <a:lnTo>
                    <a:pt x="1521777" y="42540"/>
                  </a:lnTo>
                  <a:lnTo>
                    <a:pt x="1523745" y="52172"/>
                  </a:lnTo>
                  <a:lnTo>
                    <a:pt x="1529696" y="43978"/>
                  </a:lnTo>
                  <a:lnTo>
                    <a:pt x="1584794" y="55149"/>
                  </a:lnTo>
                  <a:lnTo>
                    <a:pt x="1630403" y="73960"/>
                  </a:lnTo>
                  <a:lnTo>
                    <a:pt x="1632547" y="132156"/>
                  </a:lnTo>
                  <a:lnTo>
                    <a:pt x="1677454" y="83963"/>
                  </a:lnTo>
                  <a:lnTo>
                    <a:pt x="1709913" y="94796"/>
                  </a:lnTo>
                  <a:lnTo>
                    <a:pt x="1710923" y="93677"/>
                  </a:lnTo>
                  <a:lnTo>
                    <a:pt x="1764531" y="110609"/>
                  </a:lnTo>
                  <a:lnTo>
                    <a:pt x="1800132" y="129922"/>
                  </a:lnTo>
                  <a:lnTo>
                    <a:pt x="1829922" y="117700"/>
                  </a:lnTo>
                  <a:lnTo>
                    <a:pt x="1881133" y="165276"/>
                  </a:lnTo>
                  <a:lnTo>
                    <a:pt x="1878643" y="94725"/>
                  </a:lnTo>
                  <a:lnTo>
                    <a:pt x="1909369" y="79187"/>
                  </a:lnTo>
                  <a:lnTo>
                    <a:pt x="1974574" y="61335"/>
                  </a:lnTo>
                  <a:lnTo>
                    <a:pt x="1996340" y="87169"/>
                  </a:lnTo>
                  <a:lnTo>
                    <a:pt x="2007777" y="83840"/>
                  </a:lnTo>
                  <a:lnTo>
                    <a:pt x="2044290" y="125782"/>
                  </a:lnTo>
                  <a:lnTo>
                    <a:pt x="2055258" y="87274"/>
                  </a:lnTo>
                  <a:lnTo>
                    <a:pt x="2056307" y="72448"/>
                  </a:lnTo>
                  <a:lnTo>
                    <a:pt x="2059865" y="71099"/>
                  </a:lnTo>
                  <a:lnTo>
                    <a:pt x="2063258" y="59186"/>
                  </a:lnTo>
                  <a:lnTo>
                    <a:pt x="2070396" y="67109"/>
                  </a:lnTo>
                  <a:lnTo>
                    <a:pt x="2088504" y="60245"/>
                  </a:lnTo>
                  <a:lnTo>
                    <a:pt x="2155229" y="49385"/>
                  </a:lnTo>
                  <a:lnTo>
                    <a:pt x="2157767" y="53142"/>
                  </a:lnTo>
                  <a:lnTo>
                    <a:pt x="2166094" y="18415"/>
                  </a:lnTo>
                  <a:lnTo>
                    <a:pt x="2219019" y="8305"/>
                  </a:lnTo>
                  <a:lnTo>
                    <a:pt x="2270105" y="8685"/>
                  </a:lnTo>
                  <a:lnTo>
                    <a:pt x="2296756" y="66868"/>
                  </a:lnTo>
                  <a:lnTo>
                    <a:pt x="2320334" y="3729"/>
                  </a:lnTo>
                  <a:lnTo>
                    <a:pt x="2374098" y="139"/>
                  </a:lnTo>
                  <a:lnTo>
                    <a:pt x="2424757" y="6739"/>
                  </a:lnTo>
                  <a:lnTo>
                    <a:pt x="2428561" y="18721"/>
                  </a:lnTo>
                  <a:lnTo>
                    <a:pt x="2457017" y="21961"/>
                  </a:lnTo>
                  <a:lnTo>
                    <a:pt x="2477691" y="83599"/>
                  </a:lnTo>
                  <a:lnTo>
                    <a:pt x="2505142" y="28649"/>
                  </a:lnTo>
                  <a:lnTo>
                    <a:pt x="2558984" y="30760"/>
                  </a:lnTo>
                  <a:lnTo>
                    <a:pt x="2608662" y="42679"/>
                  </a:lnTo>
                  <a:lnTo>
                    <a:pt x="2610629" y="52311"/>
                  </a:lnTo>
                  <a:lnTo>
                    <a:pt x="2616581" y="44117"/>
                  </a:lnTo>
                  <a:lnTo>
                    <a:pt x="2671679" y="55288"/>
                  </a:lnTo>
                  <a:lnTo>
                    <a:pt x="2717288" y="74099"/>
                  </a:lnTo>
                  <a:lnTo>
                    <a:pt x="2719432" y="132295"/>
                  </a:lnTo>
                  <a:lnTo>
                    <a:pt x="2764338" y="84102"/>
                  </a:lnTo>
                  <a:lnTo>
                    <a:pt x="2796797" y="94935"/>
                  </a:lnTo>
                  <a:lnTo>
                    <a:pt x="2797807" y="93816"/>
                  </a:lnTo>
                  <a:lnTo>
                    <a:pt x="2851415" y="110748"/>
                  </a:lnTo>
                  <a:lnTo>
                    <a:pt x="2894781" y="134274"/>
                  </a:lnTo>
                  <a:lnTo>
                    <a:pt x="2890445" y="196914"/>
                  </a:lnTo>
                  <a:lnTo>
                    <a:pt x="2938163" y="155502"/>
                  </a:lnTo>
                  <a:lnTo>
                    <a:pt x="2989311" y="178836"/>
                  </a:lnTo>
                  <a:lnTo>
                    <a:pt x="3029488" y="207470"/>
                  </a:lnTo>
                  <a:lnTo>
                    <a:pt x="3023316" y="239359"/>
                  </a:lnTo>
                  <a:lnTo>
                    <a:pt x="3026495" y="237411"/>
                  </a:lnTo>
                  <a:lnTo>
                    <a:pt x="3073690" y="268583"/>
                  </a:lnTo>
                  <a:lnTo>
                    <a:pt x="3096184" y="290836"/>
                  </a:lnTo>
                  <a:lnTo>
                    <a:pt x="3102828" y="288009"/>
                  </a:lnTo>
                  <a:lnTo>
                    <a:pt x="3101537" y="296126"/>
                  </a:lnTo>
                  <a:lnTo>
                    <a:pt x="3106840" y="301373"/>
                  </a:lnTo>
                  <a:lnTo>
                    <a:pt x="3096103" y="330251"/>
                  </a:lnTo>
                  <a:lnTo>
                    <a:pt x="3093811" y="344646"/>
                  </a:lnTo>
                  <a:lnTo>
                    <a:pt x="3099045" y="348056"/>
                  </a:lnTo>
                  <a:lnTo>
                    <a:pt x="3147662" y="325879"/>
                  </a:lnTo>
                  <a:lnTo>
                    <a:pt x="3163654" y="339508"/>
                  </a:lnTo>
                  <a:lnTo>
                    <a:pt x="3184995" y="329353"/>
                  </a:lnTo>
                  <a:lnTo>
                    <a:pt x="3228630" y="365341"/>
                  </a:lnTo>
                  <a:lnTo>
                    <a:pt x="3258126" y="401450"/>
                  </a:lnTo>
                  <a:lnTo>
                    <a:pt x="3233758" y="450414"/>
                  </a:lnTo>
                  <a:lnTo>
                    <a:pt x="3237348" y="448678"/>
                  </a:lnTo>
                  <a:lnTo>
                    <a:pt x="3243094" y="453354"/>
                  </a:lnTo>
                  <a:lnTo>
                    <a:pt x="3293784" y="436440"/>
                  </a:lnTo>
                  <a:lnTo>
                    <a:pt x="3332712" y="477474"/>
                  </a:lnTo>
                  <a:lnTo>
                    <a:pt x="3357591" y="516907"/>
                  </a:lnTo>
                  <a:lnTo>
                    <a:pt x="3327668" y="562194"/>
                  </a:lnTo>
                  <a:lnTo>
                    <a:pt x="3368964" y="609389"/>
                  </a:lnTo>
                  <a:lnTo>
                    <a:pt x="3375765" y="621324"/>
                  </a:lnTo>
                  <a:lnTo>
                    <a:pt x="3381140" y="620578"/>
                  </a:lnTo>
                  <a:lnTo>
                    <a:pt x="3378585" y="626271"/>
                  </a:lnTo>
                  <a:lnTo>
                    <a:pt x="3381626" y="631610"/>
                  </a:lnTo>
                  <a:lnTo>
                    <a:pt x="3398697" y="631451"/>
                  </a:lnTo>
                  <a:lnTo>
                    <a:pt x="3383282" y="656561"/>
                  </a:lnTo>
                  <a:lnTo>
                    <a:pt x="3383968" y="658234"/>
                  </a:lnTo>
                  <a:lnTo>
                    <a:pt x="3378916" y="663673"/>
                  </a:lnTo>
                  <a:lnTo>
                    <a:pt x="3366301" y="684222"/>
                  </a:lnTo>
                  <a:lnTo>
                    <a:pt x="3402498" y="678238"/>
                  </a:lnTo>
                  <a:lnTo>
                    <a:pt x="3406808" y="684582"/>
                  </a:lnTo>
                  <a:lnTo>
                    <a:pt x="3445501" y="677541"/>
                  </a:lnTo>
                  <a:lnTo>
                    <a:pt x="3486229" y="735447"/>
                  </a:lnTo>
                  <a:lnTo>
                    <a:pt x="3497387" y="760988"/>
                  </a:lnTo>
                  <a:lnTo>
                    <a:pt x="3490934" y="768258"/>
                  </a:lnTo>
                  <a:lnTo>
                    <a:pt x="3495984" y="785604"/>
                  </a:lnTo>
                  <a:lnTo>
                    <a:pt x="3460336" y="816639"/>
                  </a:lnTo>
                  <a:lnTo>
                    <a:pt x="3509948" y="813762"/>
                  </a:lnTo>
                  <a:lnTo>
                    <a:pt x="3543318" y="876198"/>
                  </a:lnTo>
                  <a:lnTo>
                    <a:pt x="3551285" y="902907"/>
                  </a:lnTo>
                  <a:lnTo>
                    <a:pt x="3543995" y="909336"/>
                  </a:lnTo>
                  <a:lnTo>
                    <a:pt x="3546895" y="927170"/>
                  </a:lnTo>
                  <a:lnTo>
                    <a:pt x="3498919" y="959587"/>
                  </a:lnTo>
                  <a:lnTo>
                    <a:pt x="3535696" y="963529"/>
                  </a:lnTo>
                  <a:lnTo>
                    <a:pt x="3555467" y="1023714"/>
                  </a:lnTo>
                  <a:lnTo>
                    <a:pt x="3577085" y="1029345"/>
                  </a:lnTo>
                  <a:lnTo>
                    <a:pt x="3561324" y="1044208"/>
                  </a:lnTo>
                  <a:lnTo>
                    <a:pt x="3562157" y="1051050"/>
                  </a:lnTo>
                  <a:lnTo>
                    <a:pt x="3538226" y="1065988"/>
                  </a:lnTo>
                  <a:lnTo>
                    <a:pt x="3518600" y="1084499"/>
                  </a:lnTo>
                  <a:lnTo>
                    <a:pt x="3614594" y="1105228"/>
                  </a:lnTo>
                  <a:lnTo>
                    <a:pt x="3631486" y="1183913"/>
                  </a:lnTo>
                  <a:lnTo>
                    <a:pt x="3631654" y="1195056"/>
                  </a:lnTo>
                  <a:lnTo>
                    <a:pt x="3578027" y="1221105"/>
                  </a:lnTo>
                  <a:lnTo>
                    <a:pt x="3580101" y="1231255"/>
                  </a:lnTo>
                  <a:lnTo>
                    <a:pt x="3580167" y="1243022"/>
                  </a:lnTo>
                  <a:lnTo>
                    <a:pt x="3625694" y="1258858"/>
                  </a:lnTo>
                  <a:lnTo>
                    <a:pt x="3632878" y="1339016"/>
                  </a:lnTo>
                  <a:lnTo>
                    <a:pt x="3631689" y="1350095"/>
                  </a:lnTo>
                  <a:lnTo>
                    <a:pt x="3575287" y="1369420"/>
                  </a:lnTo>
                  <a:lnTo>
                    <a:pt x="3576111" y="1379748"/>
                  </a:lnTo>
                  <a:lnTo>
                    <a:pt x="3573331" y="1403469"/>
                  </a:lnTo>
                  <a:lnTo>
                    <a:pt x="3567447" y="1405337"/>
                  </a:lnTo>
                  <a:lnTo>
                    <a:pt x="3556647" y="1414739"/>
                  </a:lnTo>
                  <a:lnTo>
                    <a:pt x="3577188" y="1425947"/>
                  </a:lnTo>
                  <a:lnTo>
                    <a:pt x="3576871" y="1430384"/>
                  </a:lnTo>
                  <a:lnTo>
                    <a:pt x="3585562" y="1429880"/>
                  </a:lnTo>
                  <a:lnTo>
                    <a:pt x="3618933" y="1492316"/>
                  </a:lnTo>
                  <a:lnTo>
                    <a:pt x="3626900" y="1519025"/>
                  </a:lnTo>
                  <a:lnTo>
                    <a:pt x="3619609" y="1525454"/>
                  </a:lnTo>
                  <a:lnTo>
                    <a:pt x="3622509" y="1543288"/>
                  </a:lnTo>
                  <a:lnTo>
                    <a:pt x="3595529" y="1561518"/>
                  </a:lnTo>
                  <a:lnTo>
                    <a:pt x="3606975" y="1569440"/>
                  </a:lnTo>
                  <a:lnTo>
                    <a:pt x="3605262" y="1578998"/>
                  </a:lnTo>
                  <a:lnTo>
                    <a:pt x="3611311" y="1579647"/>
                  </a:lnTo>
                  <a:lnTo>
                    <a:pt x="3631082" y="1639832"/>
                  </a:lnTo>
                  <a:lnTo>
                    <a:pt x="3652700" y="1645463"/>
                  </a:lnTo>
                  <a:lnTo>
                    <a:pt x="3636939" y="1660326"/>
                  </a:lnTo>
                  <a:lnTo>
                    <a:pt x="3637772" y="1667168"/>
                  </a:lnTo>
                  <a:lnTo>
                    <a:pt x="3613840" y="1682106"/>
                  </a:lnTo>
                  <a:lnTo>
                    <a:pt x="3594215" y="1700617"/>
                  </a:lnTo>
                  <a:lnTo>
                    <a:pt x="3690209" y="1721346"/>
                  </a:lnTo>
                  <a:lnTo>
                    <a:pt x="3707101" y="1800031"/>
                  </a:lnTo>
                  <a:lnTo>
                    <a:pt x="3707269" y="1811174"/>
                  </a:lnTo>
                  <a:lnTo>
                    <a:pt x="3653642" y="1837223"/>
                  </a:lnTo>
                  <a:lnTo>
                    <a:pt x="3655716" y="1847373"/>
                  </a:lnTo>
                  <a:lnTo>
                    <a:pt x="3655782" y="1859140"/>
                  </a:lnTo>
                  <a:lnTo>
                    <a:pt x="3701309" y="1874976"/>
                  </a:lnTo>
                  <a:lnTo>
                    <a:pt x="3708493" y="1955134"/>
                  </a:lnTo>
                  <a:lnTo>
                    <a:pt x="3707304" y="1966213"/>
                  </a:lnTo>
                  <a:lnTo>
                    <a:pt x="3650902" y="1985538"/>
                  </a:lnTo>
                  <a:lnTo>
                    <a:pt x="3651726" y="1995866"/>
                  </a:lnTo>
                  <a:lnTo>
                    <a:pt x="3648946" y="2019587"/>
                  </a:lnTo>
                  <a:lnTo>
                    <a:pt x="3625341" y="2027081"/>
                  </a:lnTo>
                  <a:lnTo>
                    <a:pt x="3652803" y="2042065"/>
                  </a:lnTo>
                  <a:lnTo>
                    <a:pt x="3650256" y="2077644"/>
                  </a:lnTo>
                  <a:lnTo>
                    <a:pt x="3677302" y="2098099"/>
                  </a:lnTo>
                  <a:lnTo>
                    <a:pt x="3647992" y="2109244"/>
                  </a:lnTo>
                  <a:lnTo>
                    <a:pt x="3647862" y="2111055"/>
                  </a:lnTo>
                  <a:lnTo>
                    <a:pt x="3643843" y="2126003"/>
                  </a:lnTo>
                  <a:lnTo>
                    <a:pt x="3605726" y="2132365"/>
                  </a:lnTo>
                  <a:lnTo>
                    <a:pt x="3682590" y="2185558"/>
                  </a:lnTo>
                  <a:lnTo>
                    <a:pt x="3670385" y="2253640"/>
                  </a:lnTo>
                  <a:lnTo>
                    <a:pt x="3664809" y="2268079"/>
                  </a:lnTo>
                  <a:lnTo>
                    <a:pt x="3619401" y="2270784"/>
                  </a:lnTo>
                  <a:lnTo>
                    <a:pt x="3611304" y="2311738"/>
                  </a:lnTo>
                  <a:lnTo>
                    <a:pt x="3637213" y="2334806"/>
                  </a:lnTo>
                  <a:lnTo>
                    <a:pt x="3616808" y="2400894"/>
                  </a:lnTo>
                  <a:lnTo>
                    <a:pt x="3609515" y="2414547"/>
                  </a:lnTo>
                  <a:lnTo>
                    <a:pt x="3564114" y="2411700"/>
                  </a:lnTo>
                  <a:lnTo>
                    <a:pt x="3549549" y="2456061"/>
                  </a:lnTo>
                  <a:lnTo>
                    <a:pt x="3539835" y="2473098"/>
                  </a:lnTo>
                  <a:lnTo>
                    <a:pt x="3495886" y="2469340"/>
                  </a:lnTo>
                  <a:lnTo>
                    <a:pt x="3511533" y="2488746"/>
                  </a:lnTo>
                  <a:lnTo>
                    <a:pt x="3508621" y="2494693"/>
                  </a:lnTo>
                  <a:lnTo>
                    <a:pt x="3526817" y="2525702"/>
                  </a:lnTo>
                  <a:lnTo>
                    <a:pt x="3493916" y="2524739"/>
                  </a:lnTo>
                  <a:lnTo>
                    <a:pt x="3487869" y="2537094"/>
                  </a:lnTo>
                  <a:lnTo>
                    <a:pt x="3473389" y="2556087"/>
                  </a:lnTo>
                  <a:lnTo>
                    <a:pt x="3454171" y="2551644"/>
                  </a:lnTo>
                  <a:lnTo>
                    <a:pt x="3494898" y="2614804"/>
                  </a:lnTo>
                  <a:lnTo>
                    <a:pt x="3466255" y="2660382"/>
                  </a:lnTo>
                  <a:lnTo>
                    <a:pt x="3449848" y="2677738"/>
                  </a:lnTo>
                  <a:lnTo>
                    <a:pt x="3400500" y="2660657"/>
                  </a:lnTo>
                  <a:lnTo>
                    <a:pt x="3398091" y="2663123"/>
                  </a:lnTo>
                  <a:lnTo>
                    <a:pt x="3414599" y="2690046"/>
                  </a:lnTo>
                  <a:lnTo>
                    <a:pt x="3391732" y="2723716"/>
                  </a:lnTo>
                  <a:lnTo>
                    <a:pt x="3398643" y="2737998"/>
                  </a:lnTo>
                  <a:lnTo>
                    <a:pt x="3364663" y="2779749"/>
                  </a:lnTo>
                  <a:lnTo>
                    <a:pt x="3346264" y="2794977"/>
                  </a:lnTo>
                  <a:lnTo>
                    <a:pt x="3294632" y="2769697"/>
                  </a:lnTo>
                  <a:lnTo>
                    <a:pt x="3309778" y="2802902"/>
                  </a:lnTo>
                  <a:lnTo>
                    <a:pt x="3276830" y="2840566"/>
                  </a:lnTo>
                  <a:lnTo>
                    <a:pt x="3261984" y="2851991"/>
                  </a:lnTo>
                  <a:lnTo>
                    <a:pt x="3219542" y="2830003"/>
                  </a:lnTo>
                  <a:lnTo>
                    <a:pt x="3224144" y="2863161"/>
                  </a:lnTo>
                  <a:lnTo>
                    <a:pt x="3198793" y="2851780"/>
                  </a:lnTo>
                  <a:lnTo>
                    <a:pt x="3165428" y="2880973"/>
                  </a:lnTo>
                  <a:lnTo>
                    <a:pt x="3148390" y="2890682"/>
                  </a:lnTo>
                  <a:lnTo>
                    <a:pt x="3147417" y="2889988"/>
                  </a:lnTo>
                  <a:lnTo>
                    <a:pt x="3150410" y="2915835"/>
                  </a:lnTo>
                  <a:lnTo>
                    <a:pt x="3148252" y="2914807"/>
                  </a:lnTo>
                  <a:lnTo>
                    <a:pt x="3152452" y="2937887"/>
                  </a:lnTo>
                  <a:lnTo>
                    <a:pt x="3109275" y="2968252"/>
                  </a:lnTo>
                  <a:lnTo>
                    <a:pt x="3091303" y="2976104"/>
                  </a:lnTo>
                  <a:lnTo>
                    <a:pt x="3059757" y="2948102"/>
                  </a:lnTo>
                  <a:lnTo>
                    <a:pt x="3051327" y="2953829"/>
                  </a:lnTo>
                  <a:lnTo>
                    <a:pt x="3058855" y="3001281"/>
                  </a:lnTo>
                  <a:lnTo>
                    <a:pt x="3033182" y="3018300"/>
                  </a:lnTo>
                  <a:lnTo>
                    <a:pt x="2998389" y="3032774"/>
                  </a:lnTo>
                  <a:lnTo>
                    <a:pt x="2995264" y="3029870"/>
                  </a:lnTo>
                  <a:lnTo>
                    <a:pt x="2972844" y="3041851"/>
                  </a:lnTo>
                  <a:lnTo>
                    <a:pt x="2954051" y="3047457"/>
                  </a:lnTo>
                  <a:lnTo>
                    <a:pt x="2916536" y="3004924"/>
                  </a:lnTo>
                  <a:lnTo>
                    <a:pt x="2918778" y="3068495"/>
                  </a:lnTo>
                  <a:lnTo>
                    <a:pt x="2891224" y="3082261"/>
                  </a:lnTo>
                  <a:lnTo>
                    <a:pt x="2854926" y="3092389"/>
                  </a:lnTo>
                  <a:lnTo>
                    <a:pt x="2818096" y="3048674"/>
                  </a:lnTo>
                  <a:lnTo>
                    <a:pt x="2815379" y="3059108"/>
                  </a:lnTo>
                  <a:lnTo>
                    <a:pt x="2790411" y="3032634"/>
                  </a:lnTo>
                  <a:lnTo>
                    <a:pt x="2784705" y="3035437"/>
                  </a:lnTo>
                  <a:lnTo>
                    <a:pt x="2782373" y="3057201"/>
                  </a:lnTo>
                  <a:lnTo>
                    <a:pt x="2746877" y="3068859"/>
                  </a:lnTo>
                  <a:lnTo>
                    <a:pt x="2737303" y="3102479"/>
                  </a:lnTo>
                  <a:lnTo>
                    <a:pt x="2715157" y="3077901"/>
                  </a:lnTo>
                  <a:lnTo>
                    <a:pt x="2709736" y="3103004"/>
                  </a:lnTo>
                  <a:lnTo>
                    <a:pt x="2660808" y="3113507"/>
                  </a:lnTo>
                  <a:lnTo>
                    <a:pt x="2642078" y="3113791"/>
                  </a:lnTo>
                  <a:lnTo>
                    <a:pt x="2631280" y="3091565"/>
                  </a:lnTo>
                  <a:lnTo>
                    <a:pt x="2624565" y="3092894"/>
                  </a:lnTo>
                  <a:lnTo>
                    <a:pt x="2611091" y="3149087"/>
                  </a:lnTo>
                  <a:lnTo>
                    <a:pt x="2598097" y="3151743"/>
                  </a:lnTo>
                  <a:lnTo>
                    <a:pt x="2540801" y="3152051"/>
                  </a:lnTo>
                  <a:lnTo>
                    <a:pt x="2530506" y="3129574"/>
                  </a:lnTo>
                  <a:lnTo>
                    <a:pt x="2510028" y="3131409"/>
                  </a:lnTo>
                  <a:lnTo>
                    <a:pt x="2491401" y="3129411"/>
                  </a:lnTo>
                  <a:lnTo>
                    <a:pt x="2480214" y="3096761"/>
                  </a:lnTo>
                  <a:lnTo>
                    <a:pt x="2456347" y="3160669"/>
                  </a:lnTo>
                  <a:lnTo>
                    <a:pt x="2443125" y="3161723"/>
                  </a:lnTo>
                  <a:lnTo>
                    <a:pt x="2386218" y="3155051"/>
                  </a:lnTo>
                  <a:lnTo>
                    <a:pt x="2363324" y="3082940"/>
                  </a:lnTo>
                  <a:lnTo>
                    <a:pt x="2362743" y="3083709"/>
                  </a:lnTo>
                  <a:lnTo>
                    <a:pt x="2355647" y="3065054"/>
                  </a:lnTo>
                  <a:lnTo>
                    <a:pt x="2353758" y="3066130"/>
                  </a:lnTo>
                  <a:lnTo>
                    <a:pt x="2351113" y="3073077"/>
                  </a:lnTo>
                  <a:lnTo>
                    <a:pt x="2353379" y="3092650"/>
                  </a:lnTo>
                  <a:lnTo>
                    <a:pt x="2351221" y="3091622"/>
                  </a:lnTo>
                  <a:lnTo>
                    <a:pt x="2355421" y="3114703"/>
                  </a:lnTo>
                  <a:lnTo>
                    <a:pt x="2312244" y="3145067"/>
                  </a:lnTo>
                  <a:lnTo>
                    <a:pt x="2294272" y="3152920"/>
                  </a:lnTo>
                  <a:lnTo>
                    <a:pt x="2262726" y="3124918"/>
                  </a:lnTo>
                  <a:lnTo>
                    <a:pt x="2254296" y="3130645"/>
                  </a:lnTo>
                  <a:lnTo>
                    <a:pt x="2261824" y="3178097"/>
                  </a:lnTo>
                  <a:lnTo>
                    <a:pt x="2236151" y="3195116"/>
                  </a:lnTo>
                  <a:lnTo>
                    <a:pt x="2201358" y="3209589"/>
                  </a:lnTo>
                  <a:lnTo>
                    <a:pt x="2198233" y="3206685"/>
                  </a:lnTo>
                  <a:lnTo>
                    <a:pt x="2175813" y="3218667"/>
                  </a:lnTo>
                  <a:lnTo>
                    <a:pt x="2157020" y="3224273"/>
                  </a:lnTo>
                  <a:lnTo>
                    <a:pt x="2119505" y="3181739"/>
                  </a:lnTo>
                  <a:lnTo>
                    <a:pt x="2121747" y="3245311"/>
                  </a:lnTo>
                  <a:lnTo>
                    <a:pt x="2094192" y="3259076"/>
                  </a:lnTo>
                  <a:lnTo>
                    <a:pt x="2057895" y="3269204"/>
                  </a:lnTo>
                  <a:lnTo>
                    <a:pt x="2021065" y="3225489"/>
                  </a:lnTo>
                  <a:lnTo>
                    <a:pt x="2018348" y="3235923"/>
                  </a:lnTo>
                  <a:lnTo>
                    <a:pt x="1993380" y="3209449"/>
                  </a:lnTo>
                  <a:lnTo>
                    <a:pt x="1987674" y="3212252"/>
                  </a:lnTo>
                  <a:lnTo>
                    <a:pt x="1985342" y="3234017"/>
                  </a:lnTo>
                  <a:lnTo>
                    <a:pt x="1949846" y="3245675"/>
                  </a:lnTo>
                  <a:lnTo>
                    <a:pt x="1940272" y="3279294"/>
                  </a:lnTo>
                  <a:lnTo>
                    <a:pt x="1918126" y="3254717"/>
                  </a:lnTo>
                  <a:lnTo>
                    <a:pt x="1912705" y="3279820"/>
                  </a:lnTo>
                  <a:lnTo>
                    <a:pt x="1863777" y="3290322"/>
                  </a:lnTo>
                  <a:lnTo>
                    <a:pt x="1845047" y="3290607"/>
                  </a:lnTo>
                  <a:lnTo>
                    <a:pt x="1834249" y="3268381"/>
                  </a:lnTo>
                  <a:lnTo>
                    <a:pt x="1827534" y="3269709"/>
                  </a:lnTo>
                  <a:lnTo>
                    <a:pt x="1814060" y="3325903"/>
                  </a:lnTo>
                  <a:lnTo>
                    <a:pt x="1801066" y="3328559"/>
                  </a:lnTo>
                  <a:lnTo>
                    <a:pt x="1743770" y="3328867"/>
                  </a:lnTo>
                  <a:lnTo>
                    <a:pt x="1733475" y="3306389"/>
                  </a:lnTo>
                  <a:lnTo>
                    <a:pt x="1712997" y="3308225"/>
                  </a:lnTo>
                  <a:lnTo>
                    <a:pt x="1694369" y="3306226"/>
                  </a:lnTo>
                  <a:lnTo>
                    <a:pt x="1683183" y="3273577"/>
                  </a:lnTo>
                  <a:lnTo>
                    <a:pt x="1659316" y="3337485"/>
                  </a:lnTo>
                  <a:lnTo>
                    <a:pt x="1646094" y="3338539"/>
                  </a:lnTo>
                  <a:lnTo>
                    <a:pt x="1589187" y="3331867"/>
                  </a:lnTo>
                  <a:lnTo>
                    <a:pt x="1566293" y="3259755"/>
                  </a:lnTo>
                  <a:lnTo>
                    <a:pt x="1565712" y="3260525"/>
                  </a:lnTo>
                  <a:lnTo>
                    <a:pt x="1557877" y="3239926"/>
                  </a:lnTo>
                  <a:lnTo>
                    <a:pt x="1536709" y="3295509"/>
                  </a:lnTo>
                  <a:lnTo>
                    <a:pt x="1523479" y="3296478"/>
                  </a:lnTo>
                  <a:lnTo>
                    <a:pt x="1488373" y="3292131"/>
                  </a:lnTo>
                  <a:lnTo>
                    <a:pt x="1487187" y="3293625"/>
                  </a:lnTo>
                  <a:lnTo>
                    <a:pt x="1486579" y="3291908"/>
                  </a:lnTo>
                  <a:lnTo>
                    <a:pt x="1466617" y="3289439"/>
                  </a:lnTo>
                  <a:lnTo>
                    <a:pt x="1455533" y="3253724"/>
                  </a:lnTo>
                  <a:lnTo>
                    <a:pt x="1446459" y="3251285"/>
                  </a:lnTo>
                  <a:lnTo>
                    <a:pt x="1446341" y="3250585"/>
                  </a:lnTo>
                  <a:lnTo>
                    <a:pt x="1440488" y="3259042"/>
                  </a:lnTo>
                  <a:lnTo>
                    <a:pt x="1410169" y="3253608"/>
                  </a:lnTo>
                  <a:lnTo>
                    <a:pt x="1400276" y="3249788"/>
                  </a:lnTo>
                  <a:lnTo>
                    <a:pt x="1387729" y="3273541"/>
                  </a:lnTo>
                  <a:lnTo>
                    <a:pt x="1374482" y="3272890"/>
                  </a:lnTo>
                  <a:lnTo>
                    <a:pt x="1360320" y="3269345"/>
                  </a:lnTo>
                  <a:lnTo>
                    <a:pt x="1347959" y="3286370"/>
                  </a:lnTo>
                  <a:lnTo>
                    <a:pt x="1331851" y="3283185"/>
                  </a:lnTo>
                  <a:lnTo>
                    <a:pt x="1277101" y="3260291"/>
                  </a:lnTo>
                  <a:lnTo>
                    <a:pt x="1275585" y="3219120"/>
                  </a:lnTo>
                  <a:lnTo>
                    <a:pt x="1267235" y="3216542"/>
                  </a:lnTo>
                  <a:lnTo>
                    <a:pt x="1238862" y="3201385"/>
                  </a:lnTo>
                  <a:lnTo>
                    <a:pt x="1201498" y="3241481"/>
                  </a:lnTo>
                  <a:lnTo>
                    <a:pt x="1185899" y="3236359"/>
                  </a:lnTo>
                  <a:lnTo>
                    <a:pt x="1134344" y="3206967"/>
                  </a:lnTo>
                  <a:lnTo>
                    <a:pt x="1140782" y="3131649"/>
                  </a:lnTo>
                  <a:lnTo>
                    <a:pt x="1079523" y="3196544"/>
                  </a:lnTo>
                  <a:lnTo>
                    <a:pt x="1063956" y="3191321"/>
                  </a:lnTo>
                  <a:lnTo>
                    <a:pt x="1012593" y="3161596"/>
                  </a:lnTo>
                  <a:lnTo>
                    <a:pt x="1020695" y="3073539"/>
                  </a:lnTo>
                  <a:lnTo>
                    <a:pt x="1011249" y="3066336"/>
                  </a:lnTo>
                  <a:lnTo>
                    <a:pt x="1011476" y="3065360"/>
                  </a:lnTo>
                  <a:lnTo>
                    <a:pt x="946000" y="3119633"/>
                  </a:lnTo>
                  <a:lnTo>
                    <a:pt x="931184" y="3112554"/>
                  </a:lnTo>
                  <a:lnTo>
                    <a:pt x="883824" y="3076794"/>
                  </a:lnTo>
                  <a:lnTo>
                    <a:pt x="892924" y="3034893"/>
                  </a:lnTo>
                  <a:lnTo>
                    <a:pt x="875817" y="3017525"/>
                  </a:lnTo>
                  <a:lnTo>
                    <a:pt x="890092" y="2979114"/>
                  </a:lnTo>
                  <a:lnTo>
                    <a:pt x="816627" y="3008405"/>
                  </a:lnTo>
                  <a:lnTo>
                    <a:pt x="822246" y="2977617"/>
                  </a:lnTo>
                  <a:lnTo>
                    <a:pt x="819038" y="2979080"/>
                  </a:lnTo>
                  <a:lnTo>
                    <a:pt x="801391" y="2963643"/>
                  </a:lnTo>
                  <a:lnTo>
                    <a:pt x="765611" y="2917138"/>
                  </a:lnTo>
                  <a:lnTo>
                    <a:pt x="776025" y="2897034"/>
                  </a:lnTo>
                  <a:lnTo>
                    <a:pt x="698767" y="2931673"/>
                  </a:lnTo>
                  <a:lnTo>
                    <a:pt x="681222" y="2916124"/>
                  </a:lnTo>
                  <a:lnTo>
                    <a:pt x="645741" y="2869387"/>
                  </a:lnTo>
                  <a:lnTo>
                    <a:pt x="691638" y="2782179"/>
                  </a:lnTo>
                  <a:lnTo>
                    <a:pt x="600335" y="2810364"/>
                  </a:lnTo>
                  <a:lnTo>
                    <a:pt x="584815" y="2792793"/>
                  </a:lnTo>
                  <a:lnTo>
                    <a:pt x="555291" y="2742083"/>
                  </a:lnTo>
                  <a:lnTo>
                    <a:pt x="611459" y="2661124"/>
                  </a:lnTo>
                  <a:lnTo>
                    <a:pt x="610762" y="2659449"/>
                  </a:lnTo>
                  <a:lnTo>
                    <a:pt x="528616" y="2658357"/>
                  </a:lnTo>
                  <a:lnTo>
                    <a:pt x="570215" y="2593920"/>
                  </a:lnTo>
                  <a:lnTo>
                    <a:pt x="567679" y="2594009"/>
                  </a:lnTo>
                  <a:lnTo>
                    <a:pt x="559696" y="2578037"/>
                  </a:lnTo>
                  <a:lnTo>
                    <a:pt x="549673" y="2542110"/>
                  </a:lnTo>
                  <a:lnTo>
                    <a:pt x="449904" y="2544985"/>
                  </a:lnTo>
                  <a:lnTo>
                    <a:pt x="442028" y="2528959"/>
                  </a:lnTo>
                  <a:lnTo>
                    <a:pt x="423246" y="2459927"/>
                  </a:lnTo>
                  <a:lnTo>
                    <a:pt x="489779" y="2404606"/>
                  </a:lnTo>
                  <a:lnTo>
                    <a:pt x="400418" y="2396247"/>
                  </a:lnTo>
                  <a:lnTo>
                    <a:pt x="394552" y="2379380"/>
                  </a:lnTo>
                  <a:lnTo>
                    <a:pt x="384317" y="2308574"/>
                  </a:lnTo>
                  <a:lnTo>
                    <a:pt x="467326" y="2255187"/>
                  </a:lnTo>
                  <a:lnTo>
                    <a:pt x="396479" y="2224730"/>
                  </a:lnTo>
                  <a:lnTo>
                    <a:pt x="453096" y="2185592"/>
                  </a:lnTo>
                  <a:lnTo>
                    <a:pt x="435923" y="2170571"/>
                  </a:lnTo>
                  <a:lnTo>
                    <a:pt x="400143" y="2124065"/>
                  </a:lnTo>
                  <a:lnTo>
                    <a:pt x="406632" y="2111539"/>
                  </a:lnTo>
                  <a:lnTo>
                    <a:pt x="399616" y="2108867"/>
                  </a:lnTo>
                  <a:lnTo>
                    <a:pt x="333298" y="2138600"/>
                  </a:lnTo>
                  <a:lnTo>
                    <a:pt x="315754" y="2123051"/>
                  </a:lnTo>
                  <a:lnTo>
                    <a:pt x="280273" y="2076314"/>
                  </a:lnTo>
                  <a:lnTo>
                    <a:pt x="326170" y="1989107"/>
                  </a:lnTo>
                  <a:lnTo>
                    <a:pt x="234867" y="2017291"/>
                  </a:lnTo>
                  <a:lnTo>
                    <a:pt x="219347" y="1999720"/>
                  </a:lnTo>
                  <a:lnTo>
                    <a:pt x="189823" y="1949011"/>
                  </a:lnTo>
                  <a:lnTo>
                    <a:pt x="245991" y="1868051"/>
                  </a:lnTo>
                  <a:lnTo>
                    <a:pt x="245294" y="1866376"/>
                  </a:lnTo>
                  <a:lnTo>
                    <a:pt x="163148" y="1865285"/>
                  </a:lnTo>
                  <a:lnTo>
                    <a:pt x="204747" y="1800848"/>
                  </a:lnTo>
                  <a:lnTo>
                    <a:pt x="202211" y="1800937"/>
                  </a:lnTo>
                  <a:lnTo>
                    <a:pt x="194228" y="1784964"/>
                  </a:lnTo>
                  <a:lnTo>
                    <a:pt x="184205" y="1749038"/>
                  </a:lnTo>
                  <a:lnTo>
                    <a:pt x="84436" y="1751913"/>
                  </a:lnTo>
                  <a:lnTo>
                    <a:pt x="76560" y="1735886"/>
                  </a:lnTo>
                  <a:lnTo>
                    <a:pt x="57777" y="1666854"/>
                  </a:lnTo>
                  <a:lnTo>
                    <a:pt x="124311" y="1611533"/>
                  </a:lnTo>
                  <a:lnTo>
                    <a:pt x="34950" y="1603174"/>
                  </a:lnTo>
                  <a:lnTo>
                    <a:pt x="29084" y="1586307"/>
                  </a:lnTo>
                  <a:lnTo>
                    <a:pt x="18849" y="1515501"/>
                  </a:lnTo>
                  <a:lnTo>
                    <a:pt x="101858" y="1462114"/>
                  </a:lnTo>
                  <a:lnTo>
                    <a:pt x="31010" y="1431657"/>
                  </a:lnTo>
                  <a:lnTo>
                    <a:pt x="129644" y="1363475"/>
                  </a:lnTo>
                  <a:lnTo>
                    <a:pt x="129650" y="1357891"/>
                  </a:lnTo>
                  <a:lnTo>
                    <a:pt x="116038" y="1352807"/>
                  </a:lnTo>
                  <a:lnTo>
                    <a:pt x="115559" y="1346802"/>
                  </a:lnTo>
                  <a:lnTo>
                    <a:pt x="1167" y="1303233"/>
                  </a:lnTo>
                  <a:lnTo>
                    <a:pt x="0" y="1287282"/>
                  </a:lnTo>
                  <a:lnTo>
                    <a:pt x="9835" y="1207849"/>
                  </a:lnTo>
                  <a:lnTo>
                    <a:pt x="79746" y="1186150"/>
                  </a:lnTo>
                  <a:lnTo>
                    <a:pt x="6945" y="1147692"/>
                  </a:lnTo>
                  <a:lnTo>
                    <a:pt x="7727" y="1131718"/>
                  </a:lnTo>
                  <a:lnTo>
                    <a:pt x="27163" y="1054074"/>
                  </a:lnTo>
                  <a:lnTo>
                    <a:pt x="128679" y="1035720"/>
                  </a:lnTo>
                  <a:lnTo>
                    <a:pt x="98469" y="1004697"/>
                  </a:lnTo>
                  <a:lnTo>
                    <a:pt x="92891" y="1000277"/>
                  </a:lnTo>
                  <a:lnTo>
                    <a:pt x="93838" y="999941"/>
                  </a:lnTo>
                  <a:lnTo>
                    <a:pt x="74885" y="980475"/>
                  </a:lnTo>
                  <a:lnTo>
                    <a:pt x="175505" y="958803"/>
                  </a:lnTo>
                  <a:lnTo>
                    <a:pt x="181848" y="943141"/>
                  </a:lnTo>
                  <a:lnTo>
                    <a:pt x="94203" y="860403"/>
                  </a:lnTo>
                  <a:lnTo>
                    <a:pt x="105153" y="827759"/>
                  </a:lnTo>
                  <a:lnTo>
                    <a:pt x="123460" y="796131"/>
                  </a:lnTo>
                  <a:lnTo>
                    <a:pt x="130610" y="778795"/>
                  </a:lnTo>
                  <a:lnTo>
                    <a:pt x="133555" y="778687"/>
                  </a:lnTo>
                  <a:lnTo>
                    <a:pt x="139018" y="769248"/>
                  </a:lnTo>
                  <a:lnTo>
                    <a:pt x="199040" y="774772"/>
                  </a:lnTo>
                  <a:lnTo>
                    <a:pt x="153217" y="719490"/>
                  </a:lnTo>
                  <a:lnTo>
                    <a:pt x="168062" y="688423"/>
                  </a:lnTo>
                  <a:lnTo>
                    <a:pt x="190084" y="659259"/>
                  </a:lnTo>
                  <a:lnTo>
                    <a:pt x="199292" y="642922"/>
                  </a:lnTo>
                  <a:lnTo>
                    <a:pt x="202229" y="643174"/>
                  </a:lnTo>
                  <a:lnTo>
                    <a:pt x="208799" y="634471"/>
                  </a:lnTo>
                  <a:lnTo>
                    <a:pt x="279153" y="649750"/>
                  </a:lnTo>
                  <a:lnTo>
                    <a:pt x="291944" y="650843"/>
                  </a:lnTo>
                  <a:lnTo>
                    <a:pt x="273384" y="629457"/>
                  </a:lnTo>
                  <a:lnTo>
                    <a:pt x="277570" y="620280"/>
                  </a:lnTo>
                  <a:lnTo>
                    <a:pt x="253027" y="576192"/>
                  </a:lnTo>
                  <a:lnTo>
                    <a:pt x="305240" y="578909"/>
                  </a:lnTo>
                  <a:lnTo>
                    <a:pt x="322316" y="554951"/>
                  </a:lnTo>
                  <a:lnTo>
                    <a:pt x="374517" y="565053"/>
                  </a:lnTo>
                  <a:lnTo>
                    <a:pt x="307813" y="456266"/>
                  </a:lnTo>
                  <a:lnTo>
                    <a:pt x="316627" y="442919"/>
                  </a:lnTo>
                  <a:lnTo>
                    <a:pt x="372916" y="386019"/>
                  </a:lnTo>
                  <a:lnTo>
                    <a:pt x="445812" y="413116"/>
                  </a:lnTo>
                  <a:lnTo>
                    <a:pt x="414455" y="344375"/>
                  </a:lnTo>
                  <a:lnTo>
                    <a:pt x="424830" y="332201"/>
                  </a:lnTo>
                  <a:lnTo>
                    <a:pt x="487630" y="282580"/>
                  </a:lnTo>
                  <a:lnTo>
                    <a:pt x="572641" y="326621"/>
                  </a:lnTo>
                  <a:lnTo>
                    <a:pt x="563272" y="245678"/>
                  </a:lnTo>
                  <a:lnTo>
                    <a:pt x="594272" y="260450"/>
                  </a:lnTo>
                  <a:lnTo>
                    <a:pt x="647126" y="227105"/>
                  </a:lnTo>
                  <a:lnTo>
                    <a:pt x="663917" y="238199"/>
                  </a:lnTo>
                  <a:lnTo>
                    <a:pt x="651886" y="162386"/>
                  </a:lnTo>
                  <a:lnTo>
                    <a:pt x="680493" y="143222"/>
                  </a:lnTo>
                  <a:lnTo>
                    <a:pt x="743037" y="117561"/>
                  </a:lnTo>
                  <a:lnTo>
                    <a:pt x="794248" y="165136"/>
                  </a:lnTo>
                  <a:lnTo>
                    <a:pt x="791759" y="94586"/>
                  </a:lnTo>
                  <a:lnTo>
                    <a:pt x="822485" y="79048"/>
                  </a:lnTo>
                  <a:lnTo>
                    <a:pt x="887690" y="61196"/>
                  </a:lnTo>
                  <a:lnTo>
                    <a:pt x="909456" y="87030"/>
                  </a:lnTo>
                  <a:lnTo>
                    <a:pt x="920893" y="83701"/>
                  </a:lnTo>
                  <a:lnTo>
                    <a:pt x="957406" y="125643"/>
                  </a:lnTo>
                  <a:lnTo>
                    <a:pt x="968374" y="87135"/>
                  </a:lnTo>
                  <a:lnTo>
                    <a:pt x="969422" y="72309"/>
                  </a:lnTo>
                  <a:lnTo>
                    <a:pt x="972980" y="70960"/>
                  </a:lnTo>
                  <a:lnTo>
                    <a:pt x="976373" y="59047"/>
                  </a:lnTo>
                  <a:lnTo>
                    <a:pt x="983512" y="66970"/>
                  </a:lnTo>
                  <a:lnTo>
                    <a:pt x="1001619" y="60106"/>
                  </a:lnTo>
                  <a:lnTo>
                    <a:pt x="1068344" y="49246"/>
                  </a:lnTo>
                  <a:lnTo>
                    <a:pt x="1070883" y="53003"/>
                  </a:lnTo>
                  <a:lnTo>
                    <a:pt x="1079209" y="18275"/>
                  </a:lnTo>
                  <a:lnTo>
                    <a:pt x="1132135" y="8165"/>
                  </a:lnTo>
                  <a:close/>
                </a:path>
              </a:pathLst>
            </a:custGeom>
            <a:gradFill rotWithShape="0">
              <a:gsLst>
                <a:gs pos="0">
                  <a:srgbClr val="93a993">
                    <a:alpha val="74117"/>
                  </a:srgbClr>
                </a:gs>
                <a:gs pos="100000">
                  <a:srgbClr val="91d9ba">
                    <a:alpha val="57254"/>
                  </a:srgbClr>
                </a:gs>
              </a:gsLst>
              <a:lin ang="96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任意多边形 31"/>
            <p:cNvSpPr/>
            <p:nvPr/>
          </p:nvSpPr>
          <p:spPr>
            <a:xfrm rot="4148400">
              <a:off x="-40680" y="-348120"/>
              <a:ext cx="2286360" cy="2303640"/>
            </a:xfrm>
            <a:custGeom>
              <a:avLst/>
              <a:gdLst/>
              <a:ahLst/>
              <a:rect l="l" t="t" r="r" b="b"/>
              <a:pathLst>
                <a:path w="2286583" h="2303596">
                  <a:moveTo>
                    <a:pt x="655736" y="175363"/>
                  </a:moveTo>
                  <a:lnTo>
                    <a:pt x="670051" y="167222"/>
                  </a:lnTo>
                  <a:lnTo>
                    <a:pt x="695029" y="158919"/>
                  </a:lnTo>
                  <a:lnTo>
                    <a:pt x="715962" y="181616"/>
                  </a:lnTo>
                  <a:lnTo>
                    <a:pt x="715768" y="179374"/>
                  </a:lnTo>
                  <a:lnTo>
                    <a:pt x="719390" y="177282"/>
                  </a:lnTo>
                  <a:lnTo>
                    <a:pt x="720655" y="147141"/>
                  </a:lnTo>
                  <a:lnTo>
                    <a:pt x="750127" y="134852"/>
                  </a:lnTo>
                  <a:lnTo>
                    <a:pt x="775931" y="129653"/>
                  </a:lnTo>
                  <a:lnTo>
                    <a:pt x="793808" y="154542"/>
                  </a:lnTo>
                  <a:lnTo>
                    <a:pt x="827006" y="142242"/>
                  </a:lnTo>
                  <a:lnTo>
                    <a:pt x="832529" y="141385"/>
                  </a:lnTo>
                  <a:lnTo>
                    <a:pt x="815365" y="134254"/>
                  </a:lnTo>
                  <a:lnTo>
                    <a:pt x="819247" y="129160"/>
                  </a:lnTo>
                  <a:lnTo>
                    <a:pt x="825738" y="124225"/>
                  </a:lnTo>
                  <a:lnTo>
                    <a:pt x="828273" y="121520"/>
                  </a:lnTo>
                  <a:lnTo>
                    <a:pt x="829317" y="121503"/>
                  </a:lnTo>
                  <a:lnTo>
                    <a:pt x="831254" y="120030"/>
                  </a:lnTo>
                  <a:lnTo>
                    <a:pt x="852535" y="120893"/>
                  </a:lnTo>
                  <a:lnTo>
                    <a:pt x="836288" y="112267"/>
                  </a:lnTo>
                  <a:lnTo>
                    <a:pt x="841552" y="107419"/>
                  </a:lnTo>
                  <a:lnTo>
                    <a:pt x="849360" y="102868"/>
                  </a:lnTo>
                  <a:lnTo>
                    <a:pt x="852624" y="100319"/>
                  </a:lnTo>
                  <a:lnTo>
                    <a:pt x="853666" y="100359"/>
                  </a:lnTo>
                  <a:lnTo>
                    <a:pt x="855995" y="99000"/>
                  </a:lnTo>
                  <a:lnTo>
                    <a:pt x="880939" y="101384"/>
                  </a:lnTo>
                  <a:lnTo>
                    <a:pt x="885474" y="101555"/>
                  </a:lnTo>
                  <a:lnTo>
                    <a:pt x="878894" y="98218"/>
                  </a:lnTo>
                  <a:lnTo>
                    <a:pt x="880378" y="96786"/>
                  </a:lnTo>
                  <a:lnTo>
                    <a:pt x="871676" y="89907"/>
                  </a:lnTo>
                  <a:lnTo>
                    <a:pt x="890188" y="90331"/>
                  </a:lnTo>
                  <a:lnTo>
                    <a:pt x="896243" y="86593"/>
                  </a:lnTo>
                  <a:lnTo>
                    <a:pt x="914751" y="88169"/>
                  </a:lnTo>
                  <a:lnTo>
                    <a:pt x="891101" y="71194"/>
                  </a:lnTo>
                  <a:lnTo>
                    <a:pt x="894226" y="69111"/>
                  </a:lnTo>
                  <a:lnTo>
                    <a:pt x="914183" y="60233"/>
                  </a:lnTo>
                  <a:lnTo>
                    <a:pt x="940028" y="64461"/>
                  </a:lnTo>
                  <a:lnTo>
                    <a:pt x="928911" y="53735"/>
                  </a:lnTo>
                  <a:lnTo>
                    <a:pt x="932589" y="51835"/>
                  </a:lnTo>
                  <a:lnTo>
                    <a:pt x="954855" y="44093"/>
                  </a:lnTo>
                  <a:lnTo>
                    <a:pt x="984996" y="50965"/>
                  </a:lnTo>
                  <a:lnTo>
                    <a:pt x="981674" y="38335"/>
                  </a:lnTo>
                  <a:lnTo>
                    <a:pt x="992665" y="40640"/>
                  </a:lnTo>
                  <a:lnTo>
                    <a:pt x="1011405" y="35437"/>
                  </a:lnTo>
                  <a:lnTo>
                    <a:pt x="1017358" y="37168"/>
                  </a:lnTo>
                  <a:lnTo>
                    <a:pt x="1013092" y="25338"/>
                  </a:lnTo>
                  <a:lnTo>
                    <a:pt x="1023235" y="22348"/>
                  </a:lnTo>
                  <a:lnTo>
                    <a:pt x="1045410" y="18344"/>
                  </a:lnTo>
                  <a:lnTo>
                    <a:pt x="1063567" y="25767"/>
                  </a:lnTo>
                  <a:lnTo>
                    <a:pt x="1062685" y="14759"/>
                  </a:lnTo>
                  <a:lnTo>
                    <a:pt x="1073578" y="12334"/>
                  </a:lnTo>
                  <a:lnTo>
                    <a:pt x="1096697" y="9549"/>
                  </a:lnTo>
                  <a:lnTo>
                    <a:pt x="1104414" y="13580"/>
                  </a:lnTo>
                  <a:lnTo>
                    <a:pt x="1108469" y="13060"/>
                  </a:lnTo>
                  <a:lnTo>
                    <a:pt x="1121415" y="19605"/>
                  </a:lnTo>
                  <a:lnTo>
                    <a:pt x="1125304" y="13596"/>
                  </a:lnTo>
                  <a:lnTo>
                    <a:pt x="1125675" y="11283"/>
                  </a:lnTo>
                  <a:lnTo>
                    <a:pt x="1126937" y="11072"/>
                  </a:lnTo>
                  <a:lnTo>
                    <a:pt x="1128140" y="9214"/>
                  </a:lnTo>
                  <a:lnTo>
                    <a:pt x="1130671" y="10450"/>
                  </a:lnTo>
                  <a:lnTo>
                    <a:pt x="1137091" y="9379"/>
                  </a:lnTo>
                  <a:lnTo>
                    <a:pt x="1160748" y="7684"/>
                  </a:lnTo>
                  <a:lnTo>
                    <a:pt x="1161648" y="8270"/>
                  </a:lnTo>
                  <a:lnTo>
                    <a:pt x="1164600" y="2852"/>
                  </a:lnTo>
                  <a:lnTo>
                    <a:pt x="1183365" y="1274"/>
                  </a:lnTo>
                  <a:lnTo>
                    <a:pt x="1201478" y="1333"/>
                  </a:lnTo>
                  <a:lnTo>
                    <a:pt x="1210927" y="10412"/>
                  </a:lnTo>
                  <a:lnTo>
                    <a:pt x="1219287" y="560"/>
                  </a:lnTo>
                  <a:lnTo>
                    <a:pt x="1238349" y="0"/>
                  </a:lnTo>
                  <a:lnTo>
                    <a:pt x="1256310" y="1030"/>
                  </a:lnTo>
                  <a:lnTo>
                    <a:pt x="1257658" y="2899"/>
                  </a:lnTo>
                  <a:lnTo>
                    <a:pt x="1267748" y="3405"/>
                  </a:lnTo>
                  <a:lnTo>
                    <a:pt x="1275078" y="13023"/>
                  </a:lnTo>
                  <a:lnTo>
                    <a:pt x="1284811" y="4449"/>
                  </a:lnTo>
                  <a:lnTo>
                    <a:pt x="1303900" y="4778"/>
                  </a:lnTo>
                  <a:lnTo>
                    <a:pt x="1321513" y="6638"/>
                  </a:lnTo>
                  <a:lnTo>
                    <a:pt x="1322211" y="8141"/>
                  </a:lnTo>
                  <a:lnTo>
                    <a:pt x="1324321" y="6862"/>
                  </a:lnTo>
                  <a:lnTo>
                    <a:pt x="1343856" y="8605"/>
                  </a:lnTo>
                  <a:lnTo>
                    <a:pt x="1360027" y="11540"/>
                  </a:lnTo>
                  <a:lnTo>
                    <a:pt x="1360787" y="20621"/>
                  </a:lnTo>
                  <a:lnTo>
                    <a:pt x="1376709" y="13101"/>
                  </a:lnTo>
                  <a:lnTo>
                    <a:pt x="1388217" y="14792"/>
                  </a:lnTo>
                  <a:lnTo>
                    <a:pt x="1388576" y="14617"/>
                  </a:lnTo>
                  <a:lnTo>
                    <a:pt x="1407582" y="17259"/>
                  </a:lnTo>
                  <a:lnTo>
                    <a:pt x="1420205" y="20273"/>
                  </a:lnTo>
                  <a:lnTo>
                    <a:pt x="1430767" y="18366"/>
                  </a:lnTo>
                  <a:lnTo>
                    <a:pt x="1448924" y="25789"/>
                  </a:lnTo>
                  <a:lnTo>
                    <a:pt x="1448041" y="14781"/>
                  </a:lnTo>
                  <a:lnTo>
                    <a:pt x="1458935" y="12356"/>
                  </a:lnTo>
                  <a:lnTo>
                    <a:pt x="1482053" y="9571"/>
                  </a:lnTo>
                  <a:lnTo>
                    <a:pt x="1489771" y="13602"/>
                  </a:lnTo>
                  <a:lnTo>
                    <a:pt x="1493826" y="13082"/>
                  </a:lnTo>
                  <a:lnTo>
                    <a:pt x="1506771" y="19627"/>
                  </a:lnTo>
                  <a:lnTo>
                    <a:pt x="1510660" y="13618"/>
                  </a:lnTo>
                  <a:lnTo>
                    <a:pt x="1511032" y="11305"/>
                  </a:lnTo>
                  <a:lnTo>
                    <a:pt x="1512293" y="11094"/>
                  </a:lnTo>
                  <a:lnTo>
                    <a:pt x="1513496" y="9235"/>
                  </a:lnTo>
                  <a:lnTo>
                    <a:pt x="1516027" y="10472"/>
                  </a:lnTo>
                  <a:lnTo>
                    <a:pt x="1522447" y="9400"/>
                  </a:lnTo>
                  <a:lnTo>
                    <a:pt x="1546105" y="7706"/>
                  </a:lnTo>
                  <a:lnTo>
                    <a:pt x="1547005" y="8292"/>
                  </a:lnTo>
                  <a:lnTo>
                    <a:pt x="1549957" y="2873"/>
                  </a:lnTo>
                  <a:lnTo>
                    <a:pt x="1568722" y="1296"/>
                  </a:lnTo>
                  <a:lnTo>
                    <a:pt x="1586834" y="1355"/>
                  </a:lnTo>
                  <a:lnTo>
                    <a:pt x="1596284" y="10434"/>
                  </a:lnTo>
                  <a:lnTo>
                    <a:pt x="1604643" y="582"/>
                  </a:lnTo>
                  <a:lnTo>
                    <a:pt x="1623705" y="22"/>
                  </a:lnTo>
                  <a:lnTo>
                    <a:pt x="1641666" y="1051"/>
                  </a:lnTo>
                  <a:lnTo>
                    <a:pt x="1643015" y="2921"/>
                  </a:lnTo>
                  <a:lnTo>
                    <a:pt x="1653104" y="3427"/>
                  </a:lnTo>
                  <a:lnTo>
                    <a:pt x="1660434" y="13044"/>
                  </a:lnTo>
                  <a:lnTo>
                    <a:pt x="1670167" y="4470"/>
                  </a:lnTo>
                  <a:lnTo>
                    <a:pt x="1689257" y="4800"/>
                  </a:lnTo>
                  <a:lnTo>
                    <a:pt x="1706870" y="6660"/>
                  </a:lnTo>
                  <a:lnTo>
                    <a:pt x="1707568" y="8162"/>
                  </a:lnTo>
                  <a:lnTo>
                    <a:pt x="1709678" y="6884"/>
                  </a:lnTo>
                  <a:lnTo>
                    <a:pt x="1729213" y="8627"/>
                  </a:lnTo>
                  <a:lnTo>
                    <a:pt x="1745384" y="11562"/>
                  </a:lnTo>
                  <a:lnTo>
                    <a:pt x="1746144" y="20643"/>
                  </a:lnTo>
                  <a:lnTo>
                    <a:pt x="1762065" y="13123"/>
                  </a:lnTo>
                  <a:lnTo>
                    <a:pt x="1773574" y="14813"/>
                  </a:lnTo>
                  <a:lnTo>
                    <a:pt x="1773932" y="14639"/>
                  </a:lnTo>
                  <a:lnTo>
                    <a:pt x="1792939" y="17281"/>
                  </a:lnTo>
                  <a:lnTo>
                    <a:pt x="1808314" y="20952"/>
                  </a:lnTo>
                  <a:lnTo>
                    <a:pt x="1806777" y="30726"/>
                  </a:lnTo>
                  <a:lnTo>
                    <a:pt x="1823695" y="24264"/>
                  </a:lnTo>
                  <a:lnTo>
                    <a:pt x="1841830" y="27905"/>
                  </a:lnTo>
                  <a:lnTo>
                    <a:pt x="1856075" y="32373"/>
                  </a:lnTo>
                  <a:lnTo>
                    <a:pt x="1853887" y="37349"/>
                  </a:lnTo>
                  <a:lnTo>
                    <a:pt x="1855014" y="37045"/>
                  </a:lnTo>
                  <a:lnTo>
                    <a:pt x="1871747" y="41909"/>
                  </a:lnTo>
                  <a:lnTo>
                    <a:pt x="1879722" y="45381"/>
                  </a:lnTo>
                  <a:lnTo>
                    <a:pt x="1882078" y="44940"/>
                  </a:lnTo>
                  <a:lnTo>
                    <a:pt x="1881620" y="46206"/>
                  </a:lnTo>
                  <a:lnTo>
                    <a:pt x="1883500" y="47025"/>
                  </a:lnTo>
                  <a:lnTo>
                    <a:pt x="1879693" y="51531"/>
                  </a:lnTo>
                  <a:lnTo>
                    <a:pt x="1878881" y="53777"/>
                  </a:lnTo>
                  <a:lnTo>
                    <a:pt x="1880736" y="54309"/>
                  </a:lnTo>
                  <a:lnTo>
                    <a:pt x="1897974" y="50849"/>
                  </a:lnTo>
                  <a:lnTo>
                    <a:pt x="1903643" y="52976"/>
                  </a:lnTo>
                  <a:lnTo>
                    <a:pt x="1911210" y="51391"/>
                  </a:lnTo>
                  <a:lnTo>
                    <a:pt x="1926681" y="57006"/>
                  </a:lnTo>
                  <a:lnTo>
                    <a:pt x="1937139" y="62641"/>
                  </a:lnTo>
                  <a:lnTo>
                    <a:pt x="1928499" y="70281"/>
                  </a:lnTo>
                  <a:lnTo>
                    <a:pt x="1929772" y="70010"/>
                  </a:lnTo>
                  <a:lnTo>
                    <a:pt x="1931809" y="70740"/>
                  </a:lnTo>
                  <a:lnTo>
                    <a:pt x="1949781" y="68101"/>
                  </a:lnTo>
                  <a:lnTo>
                    <a:pt x="1963583" y="74503"/>
                  </a:lnTo>
                  <a:lnTo>
                    <a:pt x="1972404" y="80656"/>
                  </a:lnTo>
                  <a:lnTo>
                    <a:pt x="1961795" y="87723"/>
                  </a:lnTo>
                  <a:lnTo>
                    <a:pt x="1976437" y="95087"/>
                  </a:lnTo>
                  <a:lnTo>
                    <a:pt x="1978848" y="96949"/>
                  </a:lnTo>
                  <a:lnTo>
                    <a:pt x="1980754" y="96833"/>
                  </a:lnTo>
                  <a:lnTo>
                    <a:pt x="1979848" y="97721"/>
                  </a:lnTo>
                  <a:lnTo>
                    <a:pt x="1980926" y="98554"/>
                  </a:lnTo>
                  <a:lnTo>
                    <a:pt x="1986978" y="98529"/>
                  </a:lnTo>
                  <a:lnTo>
                    <a:pt x="1981513" y="102447"/>
                  </a:lnTo>
                  <a:lnTo>
                    <a:pt x="1981756" y="102708"/>
                  </a:lnTo>
                  <a:lnTo>
                    <a:pt x="1979965" y="103557"/>
                  </a:lnTo>
                  <a:lnTo>
                    <a:pt x="1975492" y="106763"/>
                  </a:lnTo>
                  <a:lnTo>
                    <a:pt x="1988326" y="105830"/>
                  </a:lnTo>
                  <a:lnTo>
                    <a:pt x="1989854" y="106820"/>
                  </a:lnTo>
                  <a:lnTo>
                    <a:pt x="2003573" y="105721"/>
                  </a:lnTo>
                  <a:lnTo>
                    <a:pt x="2018013" y="114756"/>
                  </a:lnTo>
                  <a:lnTo>
                    <a:pt x="2021969" y="118742"/>
                  </a:lnTo>
                  <a:lnTo>
                    <a:pt x="2019681" y="119876"/>
                  </a:lnTo>
                  <a:lnTo>
                    <a:pt x="2021472" y="122583"/>
                  </a:lnTo>
                  <a:lnTo>
                    <a:pt x="2008833" y="127425"/>
                  </a:lnTo>
                  <a:lnTo>
                    <a:pt x="2026423" y="126976"/>
                  </a:lnTo>
                  <a:lnTo>
                    <a:pt x="2038254" y="136719"/>
                  </a:lnTo>
                  <a:lnTo>
                    <a:pt x="2041079" y="140886"/>
                  </a:lnTo>
                  <a:lnTo>
                    <a:pt x="2038494" y="141889"/>
                  </a:lnTo>
                  <a:lnTo>
                    <a:pt x="2039522" y="144672"/>
                  </a:lnTo>
                  <a:lnTo>
                    <a:pt x="2022512" y="149730"/>
                  </a:lnTo>
                  <a:lnTo>
                    <a:pt x="2035552" y="150346"/>
                  </a:lnTo>
                  <a:lnTo>
                    <a:pt x="2042561" y="159736"/>
                  </a:lnTo>
                  <a:lnTo>
                    <a:pt x="2050226" y="160615"/>
                  </a:lnTo>
                  <a:lnTo>
                    <a:pt x="2044638" y="162934"/>
                  </a:lnTo>
                  <a:lnTo>
                    <a:pt x="2044933" y="164002"/>
                  </a:lnTo>
                  <a:lnTo>
                    <a:pt x="2036449" y="166333"/>
                  </a:lnTo>
                  <a:lnTo>
                    <a:pt x="2029490" y="169221"/>
                  </a:lnTo>
                  <a:lnTo>
                    <a:pt x="2063525" y="172456"/>
                  </a:lnTo>
                  <a:lnTo>
                    <a:pt x="2069514" y="184733"/>
                  </a:lnTo>
                  <a:lnTo>
                    <a:pt x="2069574" y="186472"/>
                  </a:lnTo>
                  <a:lnTo>
                    <a:pt x="2050560" y="190537"/>
                  </a:lnTo>
                  <a:lnTo>
                    <a:pt x="2051295" y="192120"/>
                  </a:lnTo>
                  <a:lnTo>
                    <a:pt x="2051319" y="193956"/>
                  </a:lnTo>
                  <a:lnTo>
                    <a:pt x="2067460" y="196428"/>
                  </a:lnTo>
                  <a:lnTo>
                    <a:pt x="2070008" y="208935"/>
                  </a:lnTo>
                  <a:lnTo>
                    <a:pt x="2069586" y="210664"/>
                  </a:lnTo>
                  <a:lnTo>
                    <a:pt x="2049589" y="213679"/>
                  </a:lnTo>
                  <a:lnTo>
                    <a:pt x="2049881" y="215291"/>
                  </a:lnTo>
                  <a:lnTo>
                    <a:pt x="2048895" y="218992"/>
                  </a:lnTo>
                  <a:lnTo>
                    <a:pt x="2046809" y="219284"/>
                  </a:lnTo>
                  <a:lnTo>
                    <a:pt x="2042980" y="220751"/>
                  </a:lnTo>
                  <a:lnTo>
                    <a:pt x="2050263" y="222499"/>
                  </a:lnTo>
                  <a:lnTo>
                    <a:pt x="2050150" y="223192"/>
                  </a:lnTo>
                  <a:lnTo>
                    <a:pt x="2053232" y="223113"/>
                  </a:lnTo>
                  <a:lnTo>
                    <a:pt x="2065063" y="232855"/>
                  </a:lnTo>
                  <a:lnTo>
                    <a:pt x="2067888" y="237023"/>
                  </a:lnTo>
                  <a:lnTo>
                    <a:pt x="2065303" y="238026"/>
                  </a:lnTo>
                  <a:lnTo>
                    <a:pt x="2066331" y="240809"/>
                  </a:lnTo>
                  <a:lnTo>
                    <a:pt x="2056765" y="243653"/>
                  </a:lnTo>
                  <a:lnTo>
                    <a:pt x="2060824" y="244889"/>
                  </a:lnTo>
                  <a:lnTo>
                    <a:pt x="2060216" y="246381"/>
                  </a:lnTo>
                  <a:lnTo>
                    <a:pt x="2062361" y="246482"/>
                  </a:lnTo>
                  <a:lnTo>
                    <a:pt x="2069371" y="255873"/>
                  </a:lnTo>
                  <a:lnTo>
                    <a:pt x="2077036" y="256752"/>
                  </a:lnTo>
                  <a:lnTo>
                    <a:pt x="2071447" y="259071"/>
                  </a:lnTo>
                  <a:lnTo>
                    <a:pt x="2071743" y="260139"/>
                  </a:lnTo>
                  <a:lnTo>
                    <a:pt x="2063258" y="262470"/>
                  </a:lnTo>
                  <a:lnTo>
                    <a:pt x="2056300" y="265358"/>
                  </a:lnTo>
                  <a:lnTo>
                    <a:pt x="2090334" y="268592"/>
                  </a:lnTo>
                  <a:lnTo>
                    <a:pt x="2096324" y="280870"/>
                  </a:lnTo>
                  <a:lnTo>
                    <a:pt x="2096383" y="282609"/>
                  </a:lnTo>
                  <a:lnTo>
                    <a:pt x="2077370" y="286673"/>
                  </a:lnTo>
                  <a:lnTo>
                    <a:pt x="2078105" y="288257"/>
                  </a:lnTo>
                  <a:lnTo>
                    <a:pt x="2078128" y="290093"/>
                  </a:lnTo>
                  <a:lnTo>
                    <a:pt x="2094270" y="292564"/>
                  </a:lnTo>
                  <a:lnTo>
                    <a:pt x="2096817" y="305072"/>
                  </a:lnTo>
                  <a:lnTo>
                    <a:pt x="2096396" y="306800"/>
                  </a:lnTo>
                  <a:lnTo>
                    <a:pt x="2076398" y="309816"/>
                  </a:lnTo>
                  <a:lnTo>
                    <a:pt x="2076690" y="311427"/>
                  </a:lnTo>
                  <a:lnTo>
                    <a:pt x="2075705" y="315129"/>
                  </a:lnTo>
                  <a:lnTo>
                    <a:pt x="2067335" y="316298"/>
                  </a:lnTo>
                  <a:lnTo>
                    <a:pt x="2077072" y="318636"/>
                  </a:lnTo>
                  <a:lnTo>
                    <a:pt x="2076169" y="324188"/>
                  </a:lnTo>
                  <a:lnTo>
                    <a:pt x="2085758" y="327379"/>
                  </a:lnTo>
                  <a:lnTo>
                    <a:pt x="2075366" y="329118"/>
                  </a:lnTo>
                  <a:lnTo>
                    <a:pt x="2075320" y="329401"/>
                  </a:lnTo>
                  <a:lnTo>
                    <a:pt x="2073895" y="331734"/>
                  </a:lnTo>
                  <a:lnTo>
                    <a:pt x="2060381" y="332726"/>
                  </a:lnTo>
                  <a:lnTo>
                    <a:pt x="2087633" y="341026"/>
                  </a:lnTo>
                  <a:lnTo>
                    <a:pt x="2083306" y="351649"/>
                  </a:lnTo>
                  <a:lnTo>
                    <a:pt x="2081329" y="353902"/>
                  </a:lnTo>
                  <a:lnTo>
                    <a:pt x="2065229" y="354324"/>
                  </a:lnTo>
                  <a:lnTo>
                    <a:pt x="2062359" y="360715"/>
                  </a:lnTo>
                  <a:lnTo>
                    <a:pt x="2071545" y="364314"/>
                  </a:lnTo>
                  <a:lnTo>
                    <a:pt x="2064310" y="374626"/>
                  </a:lnTo>
                  <a:lnTo>
                    <a:pt x="2061724" y="376757"/>
                  </a:lnTo>
                  <a:lnTo>
                    <a:pt x="2045627" y="376313"/>
                  </a:lnTo>
                  <a:lnTo>
                    <a:pt x="2040463" y="383234"/>
                  </a:lnTo>
                  <a:lnTo>
                    <a:pt x="2037019" y="385893"/>
                  </a:lnTo>
                  <a:lnTo>
                    <a:pt x="2035250" y="385826"/>
                  </a:lnTo>
                  <a:lnTo>
                    <a:pt x="2033894" y="390273"/>
                  </a:lnTo>
                  <a:lnTo>
                    <a:pt x="2039937" y="388647"/>
                  </a:lnTo>
                  <a:lnTo>
                    <a:pt x="2041934" y="391860"/>
                  </a:lnTo>
                  <a:lnTo>
                    <a:pt x="2044173" y="390023"/>
                  </a:lnTo>
                  <a:lnTo>
                    <a:pt x="2067169" y="400065"/>
                  </a:lnTo>
                  <a:lnTo>
                    <a:pt x="2076062" y="394416"/>
                  </a:lnTo>
                  <a:lnTo>
                    <a:pt x="2074702" y="403776"/>
                  </a:lnTo>
                  <a:lnTo>
                    <a:pt x="2076834" y="405389"/>
                  </a:lnTo>
                  <a:lnTo>
                    <a:pt x="2072707" y="417493"/>
                  </a:lnTo>
                  <a:lnTo>
                    <a:pt x="2071013" y="429149"/>
                  </a:lnTo>
                  <a:lnTo>
                    <a:pt x="2109348" y="402883"/>
                  </a:lnTo>
                  <a:lnTo>
                    <a:pt x="2136359" y="418997"/>
                  </a:lnTo>
                  <a:lnTo>
                    <a:pt x="2139426" y="422020"/>
                  </a:lnTo>
                  <a:lnTo>
                    <a:pt x="2128173" y="447092"/>
                  </a:lnTo>
                  <a:lnTo>
                    <a:pt x="2131622" y="449206"/>
                  </a:lnTo>
                  <a:lnTo>
                    <a:pt x="2134822" y="452435"/>
                  </a:lnTo>
                  <a:lnTo>
                    <a:pt x="2154625" y="441638"/>
                  </a:lnTo>
                  <a:lnTo>
                    <a:pt x="2178723" y="461394"/>
                  </a:lnTo>
                  <a:lnTo>
                    <a:pt x="2181310" y="464852"/>
                  </a:lnTo>
                  <a:lnTo>
                    <a:pt x="2167295" y="488990"/>
                  </a:lnTo>
                  <a:lnTo>
                    <a:pt x="2170365" y="491570"/>
                  </a:lnTo>
                  <a:lnTo>
                    <a:pt x="2175823" y="499051"/>
                  </a:lnTo>
                  <a:lnTo>
                    <a:pt x="2169797" y="508990"/>
                  </a:lnTo>
                  <a:lnTo>
                    <a:pt x="2183209" y="503978"/>
                  </a:lnTo>
                  <a:lnTo>
                    <a:pt x="2191950" y="514658"/>
                  </a:lnTo>
                  <a:lnTo>
                    <a:pt x="2206697" y="511296"/>
                  </a:lnTo>
                  <a:lnTo>
                    <a:pt x="2199712" y="524145"/>
                  </a:lnTo>
                  <a:lnTo>
                    <a:pt x="2200157" y="524689"/>
                  </a:lnTo>
                  <a:lnTo>
                    <a:pt x="2202823" y="530159"/>
                  </a:lnTo>
                  <a:lnTo>
                    <a:pt x="2191542" y="544621"/>
                  </a:lnTo>
                  <a:lnTo>
                    <a:pt x="2232121" y="533702"/>
                  </a:lnTo>
                  <a:lnTo>
                    <a:pt x="2246346" y="556584"/>
                  </a:lnTo>
                  <a:lnTo>
                    <a:pt x="2248344" y="562432"/>
                  </a:lnTo>
                  <a:lnTo>
                    <a:pt x="2233589" y="578314"/>
                  </a:lnTo>
                  <a:lnTo>
                    <a:pt x="2241889" y="592330"/>
                  </a:lnTo>
                  <a:lnTo>
                    <a:pt x="2256954" y="590069"/>
                  </a:lnTo>
                  <a:lnTo>
                    <a:pt x="2267844" y="615133"/>
                  </a:lnTo>
                  <a:lnTo>
                    <a:pt x="2269045" y="621336"/>
                  </a:lnTo>
                  <a:lnTo>
                    <a:pt x="2252793" y="635681"/>
                  </a:lnTo>
                  <a:lnTo>
                    <a:pt x="2259806" y="652794"/>
                  </a:lnTo>
                  <a:lnTo>
                    <a:pt x="2261095" y="660740"/>
                  </a:lnTo>
                  <a:lnTo>
                    <a:pt x="2245092" y="674349"/>
                  </a:lnTo>
                  <a:lnTo>
                    <a:pt x="2255669" y="674497"/>
                  </a:lnTo>
                  <a:lnTo>
                    <a:pt x="2256282" y="677111"/>
                  </a:lnTo>
                  <a:lnTo>
                    <a:pt x="2270862" y="679615"/>
                  </a:lnTo>
                  <a:lnTo>
                    <a:pt x="2259382" y="690315"/>
                  </a:lnTo>
                  <a:lnTo>
                    <a:pt x="2260657" y="695744"/>
                  </a:lnTo>
                  <a:lnTo>
                    <a:pt x="2260848" y="705819"/>
                  </a:lnTo>
                  <a:lnTo>
                    <a:pt x="2253094" y="710997"/>
                  </a:lnTo>
                  <a:lnTo>
                    <a:pt x="2284041" y="714876"/>
                  </a:lnTo>
                  <a:lnTo>
                    <a:pt x="2286583" y="737017"/>
                  </a:lnTo>
                  <a:lnTo>
                    <a:pt x="2285675" y="747282"/>
                  </a:lnTo>
                  <a:lnTo>
                    <a:pt x="2264233" y="759009"/>
                  </a:lnTo>
                  <a:lnTo>
                    <a:pt x="2264077" y="760494"/>
                  </a:lnTo>
                  <a:lnTo>
                    <a:pt x="2276978" y="762431"/>
                  </a:lnTo>
                  <a:lnTo>
                    <a:pt x="2278273" y="779357"/>
                  </a:lnTo>
                  <a:lnTo>
                    <a:pt x="2284487" y="781000"/>
                  </a:lnTo>
                  <a:lnTo>
                    <a:pt x="2284175" y="803863"/>
                  </a:lnTo>
                  <a:lnTo>
                    <a:pt x="2282013" y="814204"/>
                  </a:lnTo>
                  <a:lnTo>
                    <a:pt x="2257578" y="824427"/>
                  </a:lnTo>
                  <a:lnTo>
                    <a:pt x="2271711" y="828554"/>
                  </a:lnTo>
                  <a:lnTo>
                    <a:pt x="2270647" y="849944"/>
                  </a:lnTo>
                  <a:lnTo>
                    <a:pt x="2268669" y="858049"/>
                  </a:lnTo>
                  <a:lnTo>
                    <a:pt x="2248257" y="866119"/>
                  </a:lnTo>
                  <a:lnTo>
                    <a:pt x="2258782" y="873748"/>
                  </a:lnTo>
                  <a:lnTo>
                    <a:pt x="2247063" y="879052"/>
                  </a:lnTo>
                  <a:lnTo>
                    <a:pt x="2243568" y="898239"/>
                  </a:lnTo>
                  <a:lnTo>
                    <a:pt x="2240380" y="906601"/>
                  </a:lnTo>
                  <a:lnTo>
                    <a:pt x="2239861" y="906734"/>
                  </a:lnTo>
                  <a:lnTo>
                    <a:pt x="2247862" y="912879"/>
                  </a:lnTo>
                  <a:lnTo>
                    <a:pt x="2246849" y="913314"/>
                  </a:lnTo>
                  <a:lnTo>
                    <a:pt x="2254514" y="918292"/>
                  </a:lnTo>
                  <a:lnTo>
                    <a:pt x="2247991" y="941073"/>
                  </a:lnTo>
                  <a:lnTo>
                    <a:pt x="2243982" y="949233"/>
                  </a:lnTo>
                  <a:lnTo>
                    <a:pt x="2225662" y="952009"/>
                  </a:lnTo>
                  <a:lnTo>
                    <a:pt x="2224334" y="956401"/>
                  </a:lnTo>
                  <a:lnTo>
                    <a:pt x="2239716" y="967005"/>
                  </a:lnTo>
                  <a:lnTo>
                    <a:pt x="2235557" y="980265"/>
                  </a:lnTo>
                  <a:lnTo>
                    <a:pt x="2227601" y="995861"/>
                  </a:lnTo>
                  <a:lnTo>
                    <a:pt x="2225751" y="996100"/>
                  </a:lnTo>
                  <a:lnTo>
                    <a:pt x="2221341" y="1006884"/>
                  </a:lnTo>
                  <a:lnTo>
                    <a:pt x="2216446" y="1014696"/>
                  </a:lnTo>
                  <a:lnTo>
                    <a:pt x="2192166" y="1015446"/>
                  </a:lnTo>
                  <a:lnTo>
                    <a:pt x="2210099" y="1032266"/>
                  </a:lnTo>
                  <a:lnTo>
                    <a:pt x="2204420" y="1045254"/>
                  </a:lnTo>
                  <a:lnTo>
                    <a:pt x="2194777" y="1060151"/>
                  </a:lnTo>
                  <a:lnTo>
                    <a:pt x="2170411" y="1060346"/>
                  </a:lnTo>
                  <a:lnTo>
                    <a:pt x="2172302" y="1064135"/>
                  </a:lnTo>
                  <a:lnTo>
                    <a:pt x="2156637" y="1065141"/>
                  </a:lnTo>
                  <a:lnTo>
                    <a:pt x="2155449" y="1067817"/>
                  </a:lnTo>
                  <a:lnTo>
                    <a:pt x="2160531" y="1074609"/>
                  </a:lnTo>
                  <a:lnTo>
                    <a:pt x="2151575" y="1089661"/>
                  </a:lnTo>
                  <a:lnTo>
                    <a:pt x="2157390" y="1102142"/>
                  </a:lnTo>
                  <a:lnTo>
                    <a:pt x="2143199" y="1102731"/>
                  </a:lnTo>
                  <a:lnTo>
                    <a:pt x="2148130" y="1111475"/>
                  </a:lnTo>
                  <a:lnTo>
                    <a:pt x="2134281" y="1130685"/>
                  </a:lnTo>
                  <a:lnTo>
                    <a:pt x="2127970" y="1137006"/>
                  </a:lnTo>
                  <a:lnTo>
                    <a:pt x="2118285" y="1134463"/>
                  </a:lnTo>
                  <a:lnTo>
                    <a:pt x="2116354" y="1137068"/>
                  </a:lnTo>
                  <a:lnTo>
                    <a:pt x="2126936" y="1157088"/>
                  </a:lnTo>
                  <a:lnTo>
                    <a:pt x="2123221" y="1162152"/>
                  </a:lnTo>
                  <a:lnTo>
                    <a:pt x="2103765" y="1181334"/>
                  </a:lnTo>
                  <a:lnTo>
                    <a:pt x="2094184" y="1178554"/>
                  </a:lnTo>
                  <a:lnTo>
                    <a:pt x="2087696" y="1185886"/>
                  </a:lnTo>
                  <a:lnTo>
                    <a:pt x="2080804" y="1191542"/>
                  </a:lnTo>
                  <a:lnTo>
                    <a:pt x="2068171" y="1186248"/>
                  </a:lnTo>
                  <a:lnTo>
                    <a:pt x="2077292" y="1211863"/>
                  </a:lnTo>
                  <a:lnTo>
                    <a:pt x="2073067" y="1216562"/>
                  </a:lnTo>
                  <a:lnTo>
                    <a:pt x="2051859" y="1233685"/>
                  </a:lnTo>
                  <a:lnTo>
                    <a:pt x="2024576" y="1221388"/>
                  </a:lnTo>
                  <a:lnTo>
                    <a:pt x="2024585" y="1221795"/>
                  </a:lnTo>
                  <a:lnTo>
                    <a:pt x="2017127" y="1219005"/>
                  </a:lnTo>
                  <a:lnTo>
                    <a:pt x="2016774" y="1219931"/>
                  </a:lnTo>
                  <a:lnTo>
                    <a:pt x="2017748" y="1222733"/>
                  </a:lnTo>
                  <a:lnTo>
                    <a:pt x="2023807" y="1227386"/>
                  </a:lnTo>
                  <a:lnTo>
                    <a:pt x="2022793" y="1227821"/>
                  </a:lnTo>
                  <a:lnTo>
                    <a:pt x="2030459" y="1232800"/>
                  </a:lnTo>
                  <a:lnTo>
                    <a:pt x="2023935" y="1255581"/>
                  </a:lnTo>
                  <a:lnTo>
                    <a:pt x="2019927" y="1263741"/>
                  </a:lnTo>
                  <a:lnTo>
                    <a:pt x="2001606" y="1266517"/>
                  </a:lnTo>
                  <a:lnTo>
                    <a:pt x="2000278" y="1270910"/>
                  </a:lnTo>
                  <a:lnTo>
                    <a:pt x="2015661" y="1281513"/>
                  </a:lnTo>
                  <a:lnTo>
                    <a:pt x="2011502" y="1294773"/>
                  </a:lnTo>
                  <a:lnTo>
                    <a:pt x="2003546" y="1310369"/>
                  </a:lnTo>
                  <a:lnTo>
                    <a:pt x="2001696" y="1310608"/>
                  </a:lnTo>
                  <a:lnTo>
                    <a:pt x="1997286" y="1321391"/>
                  </a:lnTo>
                  <a:lnTo>
                    <a:pt x="1992391" y="1329204"/>
                  </a:lnTo>
                  <a:lnTo>
                    <a:pt x="1968110" y="1329954"/>
                  </a:lnTo>
                  <a:lnTo>
                    <a:pt x="1986044" y="1346774"/>
                  </a:lnTo>
                  <a:lnTo>
                    <a:pt x="1980365" y="1359762"/>
                  </a:lnTo>
                  <a:lnTo>
                    <a:pt x="1970722" y="1374658"/>
                  </a:lnTo>
                  <a:lnTo>
                    <a:pt x="1948601" y="1374835"/>
                  </a:lnTo>
                  <a:lnTo>
                    <a:pt x="1946681" y="1375506"/>
                  </a:lnTo>
                  <a:lnTo>
                    <a:pt x="1948247" y="1378642"/>
                  </a:lnTo>
                  <a:lnTo>
                    <a:pt x="1936528" y="1379395"/>
                  </a:lnTo>
                  <a:lnTo>
                    <a:pt x="1941164" y="1382696"/>
                  </a:lnTo>
                  <a:lnTo>
                    <a:pt x="1933915" y="1385694"/>
                  </a:lnTo>
                  <a:lnTo>
                    <a:pt x="1936476" y="1389116"/>
                  </a:lnTo>
                  <a:lnTo>
                    <a:pt x="1930945" y="1398412"/>
                  </a:lnTo>
                  <a:lnTo>
                    <a:pt x="1933525" y="1399725"/>
                  </a:lnTo>
                  <a:lnTo>
                    <a:pt x="1932788" y="1415479"/>
                  </a:lnTo>
                  <a:lnTo>
                    <a:pt x="1933334" y="1416650"/>
                  </a:lnTo>
                  <a:lnTo>
                    <a:pt x="1932733" y="1416675"/>
                  </a:lnTo>
                  <a:lnTo>
                    <a:pt x="1932540" y="1420795"/>
                  </a:lnTo>
                  <a:lnTo>
                    <a:pt x="1948352" y="1432603"/>
                  </a:lnTo>
                  <a:lnTo>
                    <a:pt x="1930934" y="1439346"/>
                  </a:lnTo>
                  <a:lnTo>
                    <a:pt x="1943088" y="1447252"/>
                  </a:lnTo>
                  <a:lnTo>
                    <a:pt x="1938794" y="1475174"/>
                  </a:lnTo>
                  <a:lnTo>
                    <a:pt x="1935180" y="1485113"/>
                  </a:lnTo>
                  <a:lnTo>
                    <a:pt x="1921284" y="1486342"/>
                  </a:lnTo>
                  <a:lnTo>
                    <a:pt x="1920635" y="1490151"/>
                  </a:lnTo>
                  <a:lnTo>
                    <a:pt x="1947572" y="1508554"/>
                  </a:lnTo>
                  <a:lnTo>
                    <a:pt x="1946361" y="1515943"/>
                  </a:lnTo>
                  <a:lnTo>
                    <a:pt x="1935007" y="1546232"/>
                  </a:lnTo>
                  <a:lnTo>
                    <a:pt x="1921079" y="1547145"/>
                  </a:lnTo>
                  <a:lnTo>
                    <a:pt x="1917932" y="1558317"/>
                  </a:lnTo>
                  <a:lnTo>
                    <a:pt x="1913133" y="1567743"/>
                  </a:lnTo>
                  <a:lnTo>
                    <a:pt x="1893661" y="1567081"/>
                  </a:lnTo>
                  <a:lnTo>
                    <a:pt x="1922578" y="1592518"/>
                  </a:lnTo>
                  <a:lnTo>
                    <a:pt x="1920476" y="1599705"/>
                  </a:lnTo>
                  <a:lnTo>
                    <a:pt x="1905518" y="1628386"/>
                  </a:lnTo>
                  <a:lnTo>
                    <a:pt x="1862874" y="1625969"/>
                  </a:lnTo>
                  <a:lnTo>
                    <a:pt x="1863163" y="1626430"/>
                  </a:lnTo>
                  <a:lnTo>
                    <a:pt x="1850721" y="1626423"/>
                  </a:lnTo>
                  <a:lnTo>
                    <a:pt x="1875789" y="1648762"/>
                  </a:lnTo>
                  <a:lnTo>
                    <a:pt x="1873641" y="1655937"/>
                  </a:lnTo>
                  <a:lnTo>
                    <a:pt x="1864292" y="1673583"/>
                  </a:lnTo>
                  <a:lnTo>
                    <a:pt x="1864842" y="1674509"/>
                  </a:lnTo>
                  <a:lnTo>
                    <a:pt x="1863814" y="1674485"/>
                  </a:lnTo>
                  <a:lnTo>
                    <a:pt x="1858499" y="1684519"/>
                  </a:lnTo>
                  <a:lnTo>
                    <a:pt x="1837429" y="1683188"/>
                  </a:lnTo>
                  <a:lnTo>
                    <a:pt x="1834319" y="1687485"/>
                  </a:lnTo>
                  <a:lnTo>
                    <a:pt x="1833926" y="1687406"/>
                  </a:lnTo>
                  <a:lnTo>
                    <a:pt x="1837211" y="1692194"/>
                  </a:lnTo>
                  <a:lnTo>
                    <a:pt x="1828250" y="1707097"/>
                  </a:lnTo>
                  <a:lnTo>
                    <a:pt x="1824246" y="1711548"/>
                  </a:lnTo>
                  <a:lnTo>
                    <a:pt x="1834255" y="1722941"/>
                  </a:lnTo>
                  <a:lnTo>
                    <a:pt x="1831249" y="1729799"/>
                  </a:lnTo>
                  <a:lnTo>
                    <a:pt x="1826533" y="1736558"/>
                  </a:lnTo>
                  <a:lnTo>
                    <a:pt x="1833029" y="1746501"/>
                  </a:lnTo>
                  <a:lnTo>
                    <a:pt x="1828111" y="1754358"/>
                  </a:lnTo>
                  <a:lnTo>
                    <a:pt x="1805029" y="1778640"/>
                  </a:lnTo>
                  <a:lnTo>
                    <a:pt x="1783004" y="1771165"/>
                  </a:lnTo>
                  <a:lnTo>
                    <a:pt x="1779966" y="1775052"/>
                  </a:lnTo>
                  <a:lnTo>
                    <a:pt x="1766267" y="1786973"/>
                  </a:lnTo>
                  <a:lnTo>
                    <a:pt x="1779910" y="1814744"/>
                  </a:lnTo>
                  <a:lnTo>
                    <a:pt x="1774072" y="1821944"/>
                  </a:lnTo>
                  <a:lnTo>
                    <a:pt x="1748203" y="1843234"/>
                  </a:lnTo>
                  <a:lnTo>
                    <a:pt x="1709763" y="1824699"/>
                  </a:lnTo>
                  <a:lnTo>
                    <a:pt x="1731686" y="1870060"/>
                  </a:lnTo>
                  <a:lnTo>
                    <a:pt x="1725801" y="1877222"/>
                  </a:lnTo>
                  <a:lnTo>
                    <a:pt x="1699796" y="1898344"/>
                  </a:lnTo>
                  <a:lnTo>
                    <a:pt x="1654970" y="1876370"/>
                  </a:lnTo>
                  <a:lnTo>
                    <a:pt x="1649271" y="1879906"/>
                  </a:lnTo>
                  <a:lnTo>
                    <a:pt x="1648802" y="1879590"/>
                  </a:lnTo>
                  <a:lnTo>
                    <a:pt x="1664273" y="1925041"/>
                  </a:lnTo>
                  <a:lnTo>
                    <a:pt x="1657561" y="1931434"/>
                  </a:lnTo>
                  <a:lnTo>
                    <a:pt x="1629176" y="1949231"/>
                  </a:lnTo>
                  <a:lnTo>
                    <a:pt x="1608900" y="1936008"/>
                  </a:lnTo>
                  <a:lnTo>
                    <a:pt x="1596299" y="1941542"/>
                  </a:lnTo>
                  <a:lnTo>
                    <a:pt x="1578904" y="1926291"/>
                  </a:lnTo>
                  <a:lnTo>
                    <a:pt x="1579591" y="1970935"/>
                  </a:lnTo>
                  <a:lnTo>
                    <a:pt x="1564478" y="1961782"/>
                  </a:lnTo>
                  <a:lnTo>
                    <a:pt x="1564605" y="1963769"/>
                  </a:lnTo>
                  <a:lnTo>
                    <a:pt x="1552914" y="1969975"/>
                  </a:lnTo>
                  <a:lnTo>
                    <a:pt x="1521188" y="1979504"/>
                  </a:lnTo>
                  <a:lnTo>
                    <a:pt x="1512676" y="1969969"/>
                  </a:lnTo>
                  <a:lnTo>
                    <a:pt x="1515421" y="2017689"/>
                  </a:lnTo>
                  <a:lnTo>
                    <a:pt x="1503691" y="2023819"/>
                  </a:lnTo>
                  <a:lnTo>
                    <a:pt x="1471903" y="2033143"/>
                  </a:lnTo>
                  <a:lnTo>
                    <a:pt x="1435122" y="1991402"/>
                  </a:lnTo>
                  <a:lnTo>
                    <a:pt x="1431639" y="2045234"/>
                  </a:lnTo>
                  <a:lnTo>
                    <a:pt x="1419250" y="2049889"/>
                  </a:lnTo>
                  <a:lnTo>
                    <a:pt x="1386563" y="2055272"/>
                  </a:lnTo>
                  <a:lnTo>
                    <a:pt x="1355143" y="2009368"/>
                  </a:lnTo>
                  <a:lnTo>
                    <a:pt x="1354119" y="2009399"/>
                  </a:lnTo>
                  <a:lnTo>
                    <a:pt x="1337032" y="2052516"/>
                  </a:lnTo>
                  <a:lnTo>
                    <a:pt x="1311399" y="2017618"/>
                  </a:lnTo>
                  <a:lnTo>
                    <a:pt x="1310937" y="2018974"/>
                  </a:lnTo>
                  <a:lnTo>
                    <a:pt x="1300906" y="2019975"/>
                  </a:lnTo>
                  <a:lnTo>
                    <a:pt x="1279938" y="2018041"/>
                  </a:lnTo>
                  <a:lnTo>
                    <a:pt x="1261401" y="2071253"/>
                  </a:lnTo>
                  <a:lnTo>
                    <a:pt x="1251363" y="2072186"/>
                  </a:lnTo>
                  <a:lnTo>
                    <a:pt x="1211170" y="2068219"/>
                  </a:lnTo>
                  <a:lnTo>
                    <a:pt x="1207113" y="2056358"/>
                  </a:lnTo>
                  <a:lnTo>
                    <a:pt x="1206356" y="2058371"/>
                  </a:lnTo>
                  <a:lnTo>
                    <a:pt x="1196492" y="2059866"/>
                  </a:lnTo>
                  <a:lnTo>
                    <a:pt x="1193678" y="2069244"/>
                  </a:lnTo>
                  <a:lnTo>
                    <a:pt x="1189794" y="2077269"/>
                  </a:lnTo>
                  <a:lnTo>
                    <a:pt x="1176106" y="2077762"/>
                  </a:lnTo>
                  <a:lnTo>
                    <a:pt x="1195129" y="2097189"/>
                  </a:lnTo>
                  <a:lnTo>
                    <a:pt x="1193265" y="2103226"/>
                  </a:lnTo>
                  <a:lnTo>
                    <a:pt x="1181194" y="2127666"/>
                  </a:lnTo>
                  <a:lnTo>
                    <a:pt x="1151270" y="2127947"/>
                  </a:lnTo>
                  <a:lnTo>
                    <a:pt x="1151449" y="2128312"/>
                  </a:lnTo>
                  <a:lnTo>
                    <a:pt x="1142681" y="2128969"/>
                  </a:lnTo>
                  <a:lnTo>
                    <a:pt x="1159157" y="2146048"/>
                  </a:lnTo>
                  <a:lnTo>
                    <a:pt x="1157261" y="2152077"/>
                  </a:lnTo>
                  <a:lnTo>
                    <a:pt x="1149731" y="2167122"/>
                  </a:lnTo>
                  <a:lnTo>
                    <a:pt x="1150069" y="2167856"/>
                  </a:lnTo>
                  <a:lnTo>
                    <a:pt x="1149346" y="2167891"/>
                  </a:lnTo>
                  <a:lnTo>
                    <a:pt x="1145065" y="2176446"/>
                  </a:lnTo>
                  <a:lnTo>
                    <a:pt x="1130288" y="2176472"/>
                  </a:lnTo>
                  <a:lnTo>
                    <a:pt x="1127866" y="2180180"/>
                  </a:lnTo>
                  <a:lnTo>
                    <a:pt x="1127594" y="2180136"/>
                  </a:lnTo>
                  <a:lnTo>
                    <a:pt x="1129653" y="2183908"/>
                  </a:lnTo>
                  <a:lnTo>
                    <a:pt x="1122544" y="2196670"/>
                  </a:lnTo>
                  <a:lnTo>
                    <a:pt x="1119485" y="2200553"/>
                  </a:lnTo>
                  <a:lnTo>
                    <a:pt x="1125931" y="2209412"/>
                  </a:lnTo>
                  <a:lnTo>
                    <a:pt x="1123447" y="2215225"/>
                  </a:lnTo>
                  <a:lnTo>
                    <a:pt x="1119763" y="2221048"/>
                  </a:lnTo>
                  <a:lnTo>
                    <a:pt x="1123812" y="2228898"/>
                  </a:lnTo>
                  <a:lnTo>
                    <a:pt x="1119927" y="2235638"/>
                  </a:lnTo>
                  <a:lnTo>
                    <a:pt x="1102365" y="2256885"/>
                  </a:lnTo>
                  <a:lnTo>
                    <a:pt x="1087242" y="2251897"/>
                  </a:lnTo>
                  <a:lnTo>
                    <a:pt x="1084893" y="2255263"/>
                  </a:lnTo>
                  <a:lnTo>
                    <a:pt x="1074603" y="2265821"/>
                  </a:lnTo>
                  <a:lnTo>
                    <a:pt x="1082738" y="2287986"/>
                  </a:lnTo>
                  <a:lnTo>
                    <a:pt x="1078240" y="2294232"/>
                  </a:lnTo>
                  <a:lnTo>
                    <a:pt x="1068660" y="2303596"/>
                  </a:lnTo>
                  <a:lnTo>
                    <a:pt x="0" y="1896430"/>
                  </a:lnTo>
                  <a:lnTo>
                    <a:pt x="633820" y="232886"/>
                  </a:lnTo>
                  <a:lnTo>
                    <a:pt x="634886" y="232110"/>
                  </a:lnTo>
                  <a:lnTo>
                    <a:pt x="634775" y="230379"/>
                  </a:lnTo>
                  <a:lnTo>
                    <a:pt x="655736" y="175363"/>
                  </a:lnTo>
                  <a:close/>
                </a:path>
              </a:pathLst>
            </a:custGeom>
            <a:solidFill>
              <a:srgbClr val="e1b1a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任意多边形 11"/>
            <p:cNvSpPr/>
            <p:nvPr/>
          </p:nvSpPr>
          <p:spPr>
            <a:xfrm>
              <a:off x="1614240" y="974520"/>
              <a:ext cx="1424160" cy="1281240"/>
            </a:xfrm>
            <a:custGeom>
              <a:avLst/>
              <a:gdLst/>
              <a:ahLst/>
              <a:rect l="l" t="t" r="r" b="b"/>
              <a:pathLst>
                <a:path w="3708493" h="3338539">
                  <a:moveTo>
                    <a:pt x="1132135" y="8165"/>
                  </a:moveTo>
                  <a:lnTo>
                    <a:pt x="1183221" y="8546"/>
                  </a:lnTo>
                  <a:lnTo>
                    <a:pt x="1209872" y="66729"/>
                  </a:lnTo>
                  <a:lnTo>
                    <a:pt x="1233450" y="3590"/>
                  </a:lnTo>
                  <a:lnTo>
                    <a:pt x="1287214" y="0"/>
                  </a:lnTo>
                  <a:lnTo>
                    <a:pt x="1337872" y="6599"/>
                  </a:lnTo>
                  <a:lnTo>
                    <a:pt x="1341676" y="18581"/>
                  </a:lnTo>
                  <a:lnTo>
                    <a:pt x="1370133" y="21822"/>
                  </a:lnTo>
                  <a:lnTo>
                    <a:pt x="1390807" y="83460"/>
                  </a:lnTo>
                  <a:lnTo>
                    <a:pt x="1418258" y="28510"/>
                  </a:lnTo>
                  <a:lnTo>
                    <a:pt x="1472100" y="30621"/>
                  </a:lnTo>
                  <a:lnTo>
                    <a:pt x="1521777" y="42540"/>
                  </a:lnTo>
                  <a:lnTo>
                    <a:pt x="1523745" y="52172"/>
                  </a:lnTo>
                  <a:lnTo>
                    <a:pt x="1529696" y="43978"/>
                  </a:lnTo>
                  <a:lnTo>
                    <a:pt x="1584794" y="55149"/>
                  </a:lnTo>
                  <a:lnTo>
                    <a:pt x="1630403" y="73960"/>
                  </a:lnTo>
                  <a:lnTo>
                    <a:pt x="1632547" y="132156"/>
                  </a:lnTo>
                  <a:lnTo>
                    <a:pt x="1677454" y="83963"/>
                  </a:lnTo>
                  <a:lnTo>
                    <a:pt x="1709913" y="94796"/>
                  </a:lnTo>
                  <a:lnTo>
                    <a:pt x="1710923" y="93677"/>
                  </a:lnTo>
                  <a:lnTo>
                    <a:pt x="1764531" y="110609"/>
                  </a:lnTo>
                  <a:lnTo>
                    <a:pt x="1800132" y="129922"/>
                  </a:lnTo>
                  <a:lnTo>
                    <a:pt x="1829922" y="117700"/>
                  </a:lnTo>
                  <a:lnTo>
                    <a:pt x="1881133" y="165276"/>
                  </a:lnTo>
                  <a:lnTo>
                    <a:pt x="1878643" y="94725"/>
                  </a:lnTo>
                  <a:lnTo>
                    <a:pt x="1909369" y="79187"/>
                  </a:lnTo>
                  <a:lnTo>
                    <a:pt x="1974574" y="61335"/>
                  </a:lnTo>
                  <a:lnTo>
                    <a:pt x="1996340" y="87169"/>
                  </a:lnTo>
                  <a:lnTo>
                    <a:pt x="2007777" y="83840"/>
                  </a:lnTo>
                  <a:lnTo>
                    <a:pt x="2044290" y="125782"/>
                  </a:lnTo>
                  <a:lnTo>
                    <a:pt x="2055258" y="87274"/>
                  </a:lnTo>
                  <a:lnTo>
                    <a:pt x="2056307" y="72448"/>
                  </a:lnTo>
                  <a:lnTo>
                    <a:pt x="2059865" y="71099"/>
                  </a:lnTo>
                  <a:lnTo>
                    <a:pt x="2063258" y="59186"/>
                  </a:lnTo>
                  <a:lnTo>
                    <a:pt x="2070396" y="67109"/>
                  </a:lnTo>
                  <a:lnTo>
                    <a:pt x="2088504" y="60245"/>
                  </a:lnTo>
                  <a:lnTo>
                    <a:pt x="2155229" y="49385"/>
                  </a:lnTo>
                  <a:lnTo>
                    <a:pt x="2157767" y="53142"/>
                  </a:lnTo>
                  <a:lnTo>
                    <a:pt x="2166094" y="18415"/>
                  </a:lnTo>
                  <a:lnTo>
                    <a:pt x="2219019" y="8305"/>
                  </a:lnTo>
                  <a:lnTo>
                    <a:pt x="2270105" y="8685"/>
                  </a:lnTo>
                  <a:lnTo>
                    <a:pt x="2296756" y="66868"/>
                  </a:lnTo>
                  <a:lnTo>
                    <a:pt x="2320334" y="3729"/>
                  </a:lnTo>
                  <a:lnTo>
                    <a:pt x="2374098" y="139"/>
                  </a:lnTo>
                  <a:lnTo>
                    <a:pt x="2424757" y="6739"/>
                  </a:lnTo>
                  <a:lnTo>
                    <a:pt x="2428561" y="18721"/>
                  </a:lnTo>
                  <a:lnTo>
                    <a:pt x="2457017" y="21961"/>
                  </a:lnTo>
                  <a:lnTo>
                    <a:pt x="2477691" y="83599"/>
                  </a:lnTo>
                  <a:lnTo>
                    <a:pt x="2505142" y="28649"/>
                  </a:lnTo>
                  <a:lnTo>
                    <a:pt x="2558984" y="30760"/>
                  </a:lnTo>
                  <a:lnTo>
                    <a:pt x="2608662" y="42679"/>
                  </a:lnTo>
                  <a:lnTo>
                    <a:pt x="2610629" y="52311"/>
                  </a:lnTo>
                  <a:lnTo>
                    <a:pt x="2616581" y="44117"/>
                  </a:lnTo>
                  <a:lnTo>
                    <a:pt x="2671679" y="55288"/>
                  </a:lnTo>
                  <a:lnTo>
                    <a:pt x="2717288" y="74099"/>
                  </a:lnTo>
                  <a:lnTo>
                    <a:pt x="2719432" y="132295"/>
                  </a:lnTo>
                  <a:lnTo>
                    <a:pt x="2764338" y="84102"/>
                  </a:lnTo>
                  <a:lnTo>
                    <a:pt x="2796797" y="94935"/>
                  </a:lnTo>
                  <a:lnTo>
                    <a:pt x="2797807" y="93816"/>
                  </a:lnTo>
                  <a:lnTo>
                    <a:pt x="2851415" y="110748"/>
                  </a:lnTo>
                  <a:lnTo>
                    <a:pt x="2894781" y="134274"/>
                  </a:lnTo>
                  <a:lnTo>
                    <a:pt x="2890445" y="196914"/>
                  </a:lnTo>
                  <a:lnTo>
                    <a:pt x="2938163" y="155502"/>
                  </a:lnTo>
                  <a:lnTo>
                    <a:pt x="2989311" y="178836"/>
                  </a:lnTo>
                  <a:lnTo>
                    <a:pt x="3029488" y="207470"/>
                  </a:lnTo>
                  <a:lnTo>
                    <a:pt x="3023316" y="239359"/>
                  </a:lnTo>
                  <a:lnTo>
                    <a:pt x="3026495" y="237411"/>
                  </a:lnTo>
                  <a:lnTo>
                    <a:pt x="3073690" y="268583"/>
                  </a:lnTo>
                  <a:lnTo>
                    <a:pt x="3096184" y="290836"/>
                  </a:lnTo>
                  <a:lnTo>
                    <a:pt x="3102828" y="288009"/>
                  </a:lnTo>
                  <a:lnTo>
                    <a:pt x="3101537" y="296126"/>
                  </a:lnTo>
                  <a:lnTo>
                    <a:pt x="3106840" y="301373"/>
                  </a:lnTo>
                  <a:lnTo>
                    <a:pt x="3096103" y="330251"/>
                  </a:lnTo>
                  <a:lnTo>
                    <a:pt x="3093811" y="344646"/>
                  </a:lnTo>
                  <a:lnTo>
                    <a:pt x="3099045" y="348056"/>
                  </a:lnTo>
                  <a:lnTo>
                    <a:pt x="3147662" y="325879"/>
                  </a:lnTo>
                  <a:lnTo>
                    <a:pt x="3163654" y="339508"/>
                  </a:lnTo>
                  <a:lnTo>
                    <a:pt x="3184995" y="329353"/>
                  </a:lnTo>
                  <a:lnTo>
                    <a:pt x="3228630" y="365341"/>
                  </a:lnTo>
                  <a:lnTo>
                    <a:pt x="3258126" y="401450"/>
                  </a:lnTo>
                  <a:lnTo>
                    <a:pt x="3233758" y="450414"/>
                  </a:lnTo>
                  <a:lnTo>
                    <a:pt x="3237348" y="448678"/>
                  </a:lnTo>
                  <a:lnTo>
                    <a:pt x="3243094" y="453354"/>
                  </a:lnTo>
                  <a:lnTo>
                    <a:pt x="3293784" y="436440"/>
                  </a:lnTo>
                  <a:lnTo>
                    <a:pt x="3332712" y="477474"/>
                  </a:lnTo>
                  <a:lnTo>
                    <a:pt x="3357591" y="516907"/>
                  </a:lnTo>
                  <a:lnTo>
                    <a:pt x="3327668" y="562194"/>
                  </a:lnTo>
                  <a:lnTo>
                    <a:pt x="3368964" y="609389"/>
                  </a:lnTo>
                  <a:lnTo>
                    <a:pt x="3375765" y="621324"/>
                  </a:lnTo>
                  <a:lnTo>
                    <a:pt x="3381140" y="620578"/>
                  </a:lnTo>
                  <a:lnTo>
                    <a:pt x="3378585" y="626271"/>
                  </a:lnTo>
                  <a:lnTo>
                    <a:pt x="3381626" y="631610"/>
                  </a:lnTo>
                  <a:lnTo>
                    <a:pt x="3398697" y="631451"/>
                  </a:lnTo>
                  <a:lnTo>
                    <a:pt x="3383282" y="656561"/>
                  </a:lnTo>
                  <a:lnTo>
                    <a:pt x="3383968" y="658234"/>
                  </a:lnTo>
                  <a:lnTo>
                    <a:pt x="3378916" y="663673"/>
                  </a:lnTo>
                  <a:lnTo>
                    <a:pt x="3366301" y="684222"/>
                  </a:lnTo>
                  <a:lnTo>
                    <a:pt x="3402498" y="678238"/>
                  </a:lnTo>
                  <a:lnTo>
                    <a:pt x="3406808" y="684582"/>
                  </a:lnTo>
                  <a:lnTo>
                    <a:pt x="3445501" y="677541"/>
                  </a:lnTo>
                  <a:lnTo>
                    <a:pt x="3486229" y="735447"/>
                  </a:lnTo>
                  <a:lnTo>
                    <a:pt x="3497387" y="760988"/>
                  </a:lnTo>
                  <a:lnTo>
                    <a:pt x="3490934" y="768258"/>
                  </a:lnTo>
                  <a:lnTo>
                    <a:pt x="3495984" y="785604"/>
                  </a:lnTo>
                  <a:lnTo>
                    <a:pt x="3460336" y="816639"/>
                  </a:lnTo>
                  <a:lnTo>
                    <a:pt x="3509948" y="813762"/>
                  </a:lnTo>
                  <a:lnTo>
                    <a:pt x="3543318" y="876198"/>
                  </a:lnTo>
                  <a:lnTo>
                    <a:pt x="3551285" y="902907"/>
                  </a:lnTo>
                  <a:lnTo>
                    <a:pt x="3543995" y="909336"/>
                  </a:lnTo>
                  <a:lnTo>
                    <a:pt x="3546895" y="927170"/>
                  </a:lnTo>
                  <a:lnTo>
                    <a:pt x="3498919" y="959587"/>
                  </a:lnTo>
                  <a:lnTo>
                    <a:pt x="3535696" y="963529"/>
                  </a:lnTo>
                  <a:lnTo>
                    <a:pt x="3555467" y="1023714"/>
                  </a:lnTo>
                  <a:lnTo>
                    <a:pt x="3577085" y="1029345"/>
                  </a:lnTo>
                  <a:lnTo>
                    <a:pt x="3561324" y="1044208"/>
                  </a:lnTo>
                  <a:lnTo>
                    <a:pt x="3562157" y="1051050"/>
                  </a:lnTo>
                  <a:lnTo>
                    <a:pt x="3538226" y="1065988"/>
                  </a:lnTo>
                  <a:lnTo>
                    <a:pt x="3518600" y="1084499"/>
                  </a:lnTo>
                  <a:lnTo>
                    <a:pt x="3614594" y="1105228"/>
                  </a:lnTo>
                  <a:lnTo>
                    <a:pt x="3631486" y="1183913"/>
                  </a:lnTo>
                  <a:lnTo>
                    <a:pt x="3631654" y="1195056"/>
                  </a:lnTo>
                  <a:lnTo>
                    <a:pt x="3578027" y="1221105"/>
                  </a:lnTo>
                  <a:lnTo>
                    <a:pt x="3580101" y="1231255"/>
                  </a:lnTo>
                  <a:lnTo>
                    <a:pt x="3580167" y="1243022"/>
                  </a:lnTo>
                  <a:lnTo>
                    <a:pt x="3625694" y="1258858"/>
                  </a:lnTo>
                  <a:lnTo>
                    <a:pt x="3632878" y="1339016"/>
                  </a:lnTo>
                  <a:lnTo>
                    <a:pt x="3631689" y="1350095"/>
                  </a:lnTo>
                  <a:lnTo>
                    <a:pt x="3575287" y="1369420"/>
                  </a:lnTo>
                  <a:lnTo>
                    <a:pt x="3576111" y="1379748"/>
                  </a:lnTo>
                  <a:lnTo>
                    <a:pt x="3573331" y="1403469"/>
                  </a:lnTo>
                  <a:lnTo>
                    <a:pt x="3567447" y="1405337"/>
                  </a:lnTo>
                  <a:lnTo>
                    <a:pt x="3556647" y="1414739"/>
                  </a:lnTo>
                  <a:lnTo>
                    <a:pt x="3577188" y="1425947"/>
                  </a:lnTo>
                  <a:lnTo>
                    <a:pt x="3576871" y="1430384"/>
                  </a:lnTo>
                  <a:lnTo>
                    <a:pt x="3585562" y="1429880"/>
                  </a:lnTo>
                  <a:lnTo>
                    <a:pt x="3618933" y="1492316"/>
                  </a:lnTo>
                  <a:lnTo>
                    <a:pt x="3626900" y="1519025"/>
                  </a:lnTo>
                  <a:lnTo>
                    <a:pt x="3619609" y="1525454"/>
                  </a:lnTo>
                  <a:lnTo>
                    <a:pt x="3622509" y="1543288"/>
                  </a:lnTo>
                  <a:lnTo>
                    <a:pt x="3595529" y="1561518"/>
                  </a:lnTo>
                  <a:lnTo>
                    <a:pt x="3606975" y="1569440"/>
                  </a:lnTo>
                  <a:lnTo>
                    <a:pt x="3605262" y="1578998"/>
                  </a:lnTo>
                  <a:lnTo>
                    <a:pt x="3611311" y="1579647"/>
                  </a:lnTo>
                  <a:lnTo>
                    <a:pt x="3631082" y="1639832"/>
                  </a:lnTo>
                  <a:lnTo>
                    <a:pt x="3652700" y="1645463"/>
                  </a:lnTo>
                  <a:lnTo>
                    <a:pt x="3636939" y="1660326"/>
                  </a:lnTo>
                  <a:lnTo>
                    <a:pt x="3637772" y="1667168"/>
                  </a:lnTo>
                  <a:lnTo>
                    <a:pt x="3613840" y="1682106"/>
                  </a:lnTo>
                  <a:lnTo>
                    <a:pt x="3594215" y="1700617"/>
                  </a:lnTo>
                  <a:lnTo>
                    <a:pt x="3690209" y="1721346"/>
                  </a:lnTo>
                  <a:lnTo>
                    <a:pt x="3707101" y="1800031"/>
                  </a:lnTo>
                  <a:lnTo>
                    <a:pt x="3707269" y="1811174"/>
                  </a:lnTo>
                  <a:lnTo>
                    <a:pt x="3653642" y="1837223"/>
                  </a:lnTo>
                  <a:lnTo>
                    <a:pt x="3655716" y="1847373"/>
                  </a:lnTo>
                  <a:lnTo>
                    <a:pt x="3655782" y="1859140"/>
                  </a:lnTo>
                  <a:lnTo>
                    <a:pt x="3701309" y="1874976"/>
                  </a:lnTo>
                  <a:lnTo>
                    <a:pt x="3708493" y="1955134"/>
                  </a:lnTo>
                  <a:lnTo>
                    <a:pt x="3707304" y="1966213"/>
                  </a:lnTo>
                  <a:lnTo>
                    <a:pt x="3650902" y="1985538"/>
                  </a:lnTo>
                  <a:lnTo>
                    <a:pt x="3651726" y="1995866"/>
                  </a:lnTo>
                  <a:lnTo>
                    <a:pt x="3648946" y="2019587"/>
                  </a:lnTo>
                  <a:lnTo>
                    <a:pt x="3625341" y="2027081"/>
                  </a:lnTo>
                  <a:lnTo>
                    <a:pt x="3652803" y="2042065"/>
                  </a:lnTo>
                  <a:lnTo>
                    <a:pt x="3650256" y="2077644"/>
                  </a:lnTo>
                  <a:lnTo>
                    <a:pt x="3677302" y="2098099"/>
                  </a:lnTo>
                  <a:lnTo>
                    <a:pt x="3647992" y="2109244"/>
                  </a:lnTo>
                  <a:lnTo>
                    <a:pt x="3647862" y="2111055"/>
                  </a:lnTo>
                  <a:lnTo>
                    <a:pt x="3643843" y="2126003"/>
                  </a:lnTo>
                  <a:lnTo>
                    <a:pt x="3605726" y="2132365"/>
                  </a:lnTo>
                  <a:lnTo>
                    <a:pt x="3682590" y="2185558"/>
                  </a:lnTo>
                  <a:lnTo>
                    <a:pt x="3670385" y="2253640"/>
                  </a:lnTo>
                  <a:lnTo>
                    <a:pt x="3664809" y="2268079"/>
                  </a:lnTo>
                  <a:lnTo>
                    <a:pt x="3619401" y="2270784"/>
                  </a:lnTo>
                  <a:lnTo>
                    <a:pt x="3611304" y="2311738"/>
                  </a:lnTo>
                  <a:lnTo>
                    <a:pt x="3637213" y="2334806"/>
                  </a:lnTo>
                  <a:lnTo>
                    <a:pt x="3616808" y="2400894"/>
                  </a:lnTo>
                  <a:lnTo>
                    <a:pt x="3609515" y="2414547"/>
                  </a:lnTo>
                  <a:lnTo>
                    <a:pt x="3564114" y="2411700"/>
                  </a:lnTo>
                  <a:lnTo>
                    <a:pt x="3549549" y="2456061"/>
                  </a:lnTo>
                  <a:lnTo>
                    <a:pt x="3539835" y="2473098"/>
                  </a:lnTo>
                  <a:lnTo>
                    <a:pt x="3495886" y="2469340"/>
                  </a:lnTo>
                  <a:lnTo>
                    <a:pt x="3511533" y="2488746"/>
                  </a:lnTo>
                  <a:lnTo>
                    <a:pt x="3508621" y="2494693"/>
                  </a:lnTo>
                  <a:lnTo>
                    <a:pt x="3526817" y="2525702"/>
                  </a:lnTo>
                  <a:lnTo>
                    <a:pt x="3493916" y="2524739"/>
                  </a:lnTo>
                  <a:lnTo>
                    <a:pt x="3487869" y="2537094"/>
                  </a:lnTo>
                  <a:lnTo>
                    <a:pt x="3473389" y="2556087"/>
                  </a:lnTo>
                  <a:lnTo>
                    <a:pt x="3454171" y="2551644"/>
                  </a:lnTo>
                  <a:lnTo>
                    <a:pt x="3494898" y="2614804"/>
                  </a:lnTo>
                  <a:lnTo>
                    <a:pt x="3466255" y="2660382"/>
                  </a:lnTo>
                  <a:lnTo>
                    <a:pt x="3449848" y="2677738"/>
                  </a:lnTo>
                  <a:lnTo>
                    <a:pt x="3400500" y="2660657"/>
                  </a:lnTo>
                  <a:lnTo>
                    <a:pt x="3398091" y="2663123"/>
                  </a:lnTo>
                  <a:lnTo>
                    <a:pt x="3414599" y="2690046"/>
                  </a:lnTo>
                  <a:lnTo>
                    <a:pt x="3391732" y="2723716"/>
                  </a:lnTo>
                  <a:lnTo>
                    <a:pt x="3398643" y="2737998"/>
                  </a:lnTo>
                  <a:lnTo>
                    <a:pt x="3364663" y="2779749"/>
                  </a:lnTo>
                  <a:lnTo>
                    <a:pt x="3346264" y="2794977"/>
                  </a:lnTo>
                  <a:lnTo>
                    <a:pt x="3294632" y="2769697"/>
                  </a:lnTo>
                  <a:lnTo>
                    <a:pt x="3309778" y="2802902"/>
                  </a:lnTo>
                  <a:lnTo>
                    <a:pt x="3276830" y="2840566"/>
                  </a:lnTo>
                  <a:lnTo>
                    <a:pt x="3261984" y="2851991"/>
                  </a:lnTo>
                  <a:lnTo>
                    <a:pt x="3219542" y="2830003"/>
                  </a:lnTo>
                  <a:lnTo>
                    <a:pt x="3224144" y="2863161"/>
                  </a:lnTo>
                  <a:lnTo>
                    <a:pt x="3198793" y="2851780"/>
                  </a:lnTo>
                  <a:lnTo>
                    <a:pt x="3165428" y="2880973"/>
                  </a:lnTo>
                  <a:lnTo>
                    <a:pt x="3148390" y="2890682"/>
                  </a:lnTo>
                  <a:lnTo>
                    <a:pt x="3147417" y="2889988"/>
                  </a:lnTo>
                  <a:lnTo>
                    <a:pt x="3150410" y="2915835"/>
                  </a:lnTo>
                  <a:lnTo>
                    <a:pt x="3148252" y="2914807"/>
                  </a:lnTo>
                  <a:lnTo>
                    <a:pt x="3152452" y="2937887"/>
                  </a:lnTo>
                  <a:lnTo>
                    <a:pt x="3109275" y="2968252"/>
                  </a:lnTo>
                  <a:lnTo>
                    <a:pt x="3091303" y="2976104"/>
                  </a:lnTo>
                  <a:lnTo>
                    <a:pt x="3059757" y="2948102"/>
                  </a:lnTo>
                  <a:lnTo>
                    <a:pt x="3051327" y="2953829"/>
                  </a:lnTo>
                  <a:lnTo>
                    <a:pt x="3058855" y="3001281"/>
                  </a:lnTo>
                  <a:lnTo>
                    <a:pt x="3033182" y="3018300"/>
                  </a:lnTo>
                  <a:lnTo>
                    <a:pt x="2998389" y="3032774"/>
                  </a:lnTo>
                  <a:lnTo>
                    <a:pt x="2995264" y="3029870"/>
                  </a:lnTo>
                  <a:lnTo>
                    <a:pt x="2972844" y="3041851"/>
                  </a:lnTo>
                  <a:lnTo>
                    <a:pt x="2954051" y="3047457"/>
                  </a:lnTo>
                  <a:lnTo>
                    <a:pt x="2916536" y="3004924"/>
                  </a:lnTo>
                  <a:lnTo>
                    <a:pt x="2918778" y="3068495"/>
                  </a:lnTo>
                  <a:lnTo>
                    <a:pt x="2891224" y="3082261"/>
                  </a:lnTo>
                  <a:lnTo>
                    <a:pt x="2854926" y="3092389"/>
                  </a:lnTo>
                  <a:lnTo>
                    <a:pt x="2818096" y="3048674"/>
                  </a:lnTo>
                  <a:lnTo>
                    <a:pt x="2815379" y="3059108"/>
                  </a:lnTo>
                  <a:lnTo>
                    <a:pt x="2790411" y="3032634"/>
                  </a:lnTo>
                  <a:lnTo>
                    <a:pt x="2784705" y="3035437"/>
                  </a:lnTo>
                  <a:lnTo>
                    <a:pt x="2782373" y="3057201"/>
                  </a:lnTo>
                  <a:lnTo>
                    <a:pt x="2746877" y="3068859"/>
                  </a:lnTo>
                  <a:lnTo>
                    <a:pt x="2737303" y="3102479"/>
                  </a:lnTo>
                  <a:lnTo>
                    <a:pt x="2715157" y="3077901"/>
                  </a:lnTo>
                  <a:lnTo>
                    <a:pt x="2709736" y="3103004"/>
                  </a:lnTo>
                  <a:lnTo>
                    <a:pt x="2660808" y="3113507"/>
                  </a:lnTo>
                  <a:lnTo>
                    <a:pt x="2642078" y="3113791"/>
                  </a:lnTo>
                  <a:lnTo>
                    <a:pt x="2631280" y="3091565"/>
                  </a:lnTo>
                  <a:lnTo>
                    <a:pt x="2624565" y="3092894"/>
                  </a:lnTo>
                  <a:lnTo>
                    <a:pt x="2611091" y="3149087"/>
                  </a:lnTo>
                  <a:lnTo>
                    <a:pt x="2598097" y="3151743"/>
                  </a:lnTo>
                  <a:lnTo>
                    <a:pt x="2540801" y="3152051"/>
                  </a:lnTo>
                  <a:lnTo>
                    <a:pt x="2530506" y="3129574"/>
                  </a:lnTo>
                  <a:lnTo>
                    <a:pt x="2510028" y="3131409"/>
                  </a:lnTo>
                  <a:lnTo>
                    <a:pt x="2491401" y="3129411"/>
                  </a:lnTo>
                  <a:lnTo>
                    <a:pt x="2480214" y="3096761"/>
                  </a:lnTo>
                  <a:lnTo>
                    <a:pt x="2456347" y="3160669"/>
                  </a:lnTo>
                  <a:lnTo>
                    <a:pt x="2443125" y="3161723"/>
                  </a:lnTo>
                  <a:lnTo>
                    <a:pt x="2386218" y="3155051"/>
                  </a:lnTo>
                  <a:lnTo>
                    <a:pt x="2363324" y="3082940"/>
                  </a:lnTo>
                  <a:lnTo>
                    <a:pt x="2362743" y="3083709"/>
                  </a:lnTo>
                  <a:lnTo>
                    <a:pt x="2355647" y="3065054"/>
                  </a:lnTo>
                  <a:lnTo>
                    <a:pt x="2353758" y="3066130"/>
                  </a:lnTo>
                  <a:lnTo>
                    <a:pt x="2351113" y="3073077"/>
                  </a:lnTo>
                  <a:lnTo>
                    <a:pt x="2353379" y="3092650"/>
                  </a:lnTo>
                  <a:lnTo>
                    <a:pt x="2351221" y="3091622"/>
                  </a:lnTo>
                  <a:lnTo>
                    <a:pt x="2355421" y="3114703"/>
                  </a:lnTo>
                  <a:lnTo>
                    <a:pt x="2312244" y="3145067"/>
                  </a:lnTo>
                  <a:lnTo>
                    <a:pt x="2294272" y="3152920"/>
                  </a:lnTo>
                  <a:lnTo>
                    <a:pt x="2262726" y="3124918"/>
                  </a:lnTo>
                  <a:lnTo>
                    <a:pt x="2254296" y="3130645"/>
                  </a:lnTo>
                  <a:lnTo>
                    <a:pt x="2261824" y="3178097"/>
                  </a:lnTo>
                  <a:lnTo>
                    <a:pt x="2236151" y="3195116"/>
                  </a:lnTo>
                  <a:lnTo>
                    <a:pt x="2201358" y="3209589"/>
                  </a:lnTo>
                  <a:lnTo>
                    <a:pt x="2198233" y="3206685"/>
                  </a:lnTo>
                  <a:lnTo>
                    <a:pt x="2175813" y="3218667"/>
                  </a:lnTo>
                  <a:lnTo>
                    <a:pt x="2157020" y="3224273"/>
                  </a:lnTo>
                  <a:lnTo>
                    <a:pt x="2119505" y="3181739"/>
                  </a:lnTo>
                  <a:lnTo>
                    <a:pt x="2121747" y="3245311"/>
                  </a:lnTo>
                  <a:lnTo>
                    <a:pt x="2094192" y="3259076"/>
                  </a:lnTo>
                  <a:lnTo>
                    <a:pt x="2057895" y="3269204"/>
                  </a:lnTo>
                  <a:lnTo>
                    <a:pt x="2021065" y="3225489"/>
                  </a:lnTo>
                  <a:lnTo>
                    <a:pt x="2018348" y="3235923"/>
                  </a:lnTo>
                  <a:lnTo>
                    <a:pt x="1993380" y="3209449"/>
                  </a:lnTo>
                  <a:lnTo>
                    <a:pt x="1987674" y="3212252"/>
                  </a:lnTo>
                  <a:lnTo>
                    <a:pt x="1985342" y="3234017"/>
                  </a:lnTo>
                  <a:lnTo>
                    <a:pt x="1949846" y="3245675"/>
                  </a:lnTo>
                  <a:lnTo>
                    <a:pt x="1940272" y="3279294"/>
                  </a:lnTo>
                  <a:lnTo>
                    <a:pt x="1918126" y="3254717"/>
                  </a:lnTo>
                  <a:lnTo>
                    <a:pt x="1912705" y="3279820"/>
                  </a:lnTo>
                  <a:lnTo>
                    <a:pt x="1863777" y="3290322"/>
                  </a:lnTo>
                  <a:lnTo>
                    <a:pt x="1845047" y="3290607"/>
                  </a:lnTo>
                  <a:lnTo>
                    <a:pt x="1834249" y="3268381"/>
                  </a:lnTo>
                  <a:lnTo>
                    <a:pt x="1827534" y="3269709"/>
                  </a:lnTo>
                  <a:lnTo>
                    <a:pt x="1814060" y="3325903"/>
                  </a:lnTo>
                  <a:lnTo>
                    <a:pt x="1801066" y="3328559"/>
                  </a:lnTo>
                  <a:lnTo>
                    <a:pt x="1743770" y="3328867"/>
                  </a:lnTo>
                  <a:lnTo>
                    <a:pt x="1733475" y="3306389"/>
                  </a:lnTo>
                  <a:lnTo>
                    <a:pt x="1712997" y="3308225"/>
                  </a:lnTo>
                  <a:lnTo>
                    <a:pt x="1694369" y="3306226"/>
                  </a:lnTo>
                  <a:lnTo>
                    <a:pt x="1683183" y="3273577"/>
                  </a:lnTo>
                  <a:lnTo>
                    <a:pt x="1659316" y="3337485"/>
                  </a:lnTo>
                  <a:lnTo>
                    <a:pt x="1646094" y="3338539"/>
                  </a:lnTo>
                  <a:lnTo>
                    <a:pt x="1589187" y="3331867"/>
                  </a:lnTo>
                  <a:lnTo>
                    <a:pt x="1566293" y="3259755"/>
                  </a:lnTo>
                  <a:lnTo>
                    <a:pt x="1565712" y="3260525"/>
                  </a:lnTo>
                  <a:lnTo>
                    <a:pt x="1557877" y="3239926"/>
                  </a:lnTo>
                  <a:lnTo>
                    <a:pt x="1536709" y="3295509"/>
                  </a:lnTo>
                  <a:lnTo>
                    <a:pt x="1523479" y="3296478"/>
                  </a:lnTo>
                  <a:lnTo>
                    <a:pt x="1488373" y="3292131"/>
                  </a:lnTo>
                  <a:lnTo>
                    <a:pt x="1487187" y="3293625"/>
                  </a:lnTo>
                  <a:lnTo>
                    <a:pt x="1486579" y="3291908"/>
                  </a:lnTo>
                  <a:lnTo>
                    <a:pt x="1466617" y="3289439"/>
                  </a:lnTo>
                  <a:lnTo>
                    <a:pt x="1455533" y="3253724"/>
                  </a:lnTo>
                  <a:lnTo>
                    <a:pt x="1446459" y="3251285"/>
                  </a:lnTo>
                  <a:lnTo>
                    <a:pt x="1446341" y="3250585"/>
                  </a:lnTo>
                  <a:lnTo>
                    <a:pt x="1440488" y="3259042"/>
                  </a:lnTo>
                  <a:lnTo>
                    <a:pt x="1410169" y="3253608"/>
                  </a:lnTo>
                  <a:lnTo>
                    <a:pt x="1400276" y="3249788"/>
                  </a:lnTo>
                  <a:lnTo>
                    <a:pt x="1387729" y="3273541"/>
                  </a:lnTo>
                  <a:lnTo>
                    <a:pt x="1374482" y="3272890"/>
                  </a:lnTo>
                  <a:lnTo>
                    <a:pt x="1360320" y="3269345"/>
                  </a:lnTo>
                  <a:lnTo>
                    <a:pt x="1347959" y="3286370"/>
                  </a:lnTo>
                  <a:lnTo>
                    <a:pt x="1331851" y="3283185"/>
                  </a:lnTo>
                  <a:lnTo>
                    <a:pt x="1277101" y="3260291"/>
                  </a:lnTo>
                  <a:lnTo>
                    <a:pt x="1275585" y="3219120"/>
                  </a:lnTo>
                  <a:lnTo>
                    <a:pt x="1267235" y="3216542"/>
                  </a:lnTo>
                  <a:lnTo>
                    <a:pt x="1238862" y="3201385"/>
                  </a:lnTo>
                  <a:lnTo>
                    <a:pt x="1201498" y="3241481"/>
                  </a:lnTo>
                  <a:lnTo>
                    <a:pt x="1185899" y="3236359"/>
                  </a:lnTo>
                  <a:lnTo>
                    <a:pt x="1134344" y="3206967"/>
                  </a:lnTo>
                  <a:lnTo>
                    <a:pt x="1140782" y="3131649"/>
                  </a:lnTo>
                  <a:lnTo>
                    <a:pt x="1079523" y="3196544"/>
                  </a:lnTo>
                  <a:lnTo>
                    <a:pt x="1063956" y="3191321"/>
                  </a:lnTo>
                  <a:lnTo>
                    <a:pt x="1012593" y="3161596"/>
                  </a:lnTo>
                  <a:lnTo>
                    <a:pt x="1020695" y="3073539"/>
                  </a:lnTo>
                  <a:lnTo>
                    <a:pt x="1011249" y="3066336"/>
                  </a:lnTo>
                  <a:lnTo>
                    <a:pt x="1011476" y="3065360"/>
                  </a:lnTo>
                  <a:lnTo>
                    <a:pt x="946000" y="3119633"/>
                  </a:lnTo>
                  <a:lnTo>
                    <a:pt x="931184" y="3112554"/>
                  </a:lnTo>
                  <a:lnTo>
                    <a:pt x="883824" y="3076794"/>
                  </a:lnTo>
                  <a:lnTo>
                    <a:pt x="892924" y="3034893"/>
                  </a:lnTo>
                  <a:lnTo>
                    <a:pt x="875817" y="3017525"/>
                  </a:lnTo>
                  <a:lnTo>
                    <a:pt x="890092" y="2979114"/>
                  </a:lnTo>
                  <a:lnTo>
                    <a:pt x="816627" y="3008405"/>
                  </a:lnTo>
                  <a:lnTo>
                    <a:pt x="822246" y="2977617"/>
                  </a:lnTo>
                  <a:lnTo>
                    <a:pt x="819038" y="2979080"/>
                  </a:lnTo>
                  <a:lnTo>
                    <a:pt x="801391" y="2963643"/>
                  </a:lnTo>
                  <a:lnTo>
                    <a:pt x="765611" y="2917138"/>
                  </a:lnTo>
                  <a:lnTo>
                    <a:pt x="776025" y="2897034"/>
                  </a:lnTo>
                  <a:lnTo>
                    <a:pt x="698767" y="2931673"/>
                  </a:lnTo>
                  <a:lnTo>
                    <a:pt x="681222" y="2916124"/>
                  </a:lnTo>
                  <a:lnTo>
                    <a:pt x="645741" y="2869387"/>
                  </a:lnTo>
                  <a:lnTo>
                    <a:pt x="691638" y="2782179"/>
                  </a:lnTo>
                  <a:lnTo>
                    <a:pt x="600335" y="2810364"/>
                  </a:lnTo>
                  <a:lnTo>
                    <a:pt x="584815" y="2792793"/>
                  </a:lnTo>
                  <a:lnTo>
                    <a:pt x="555291" y="2742083"/>
                  </a:lnTo>
                  <a:lnTo>
                    <a:pt x="611459" y="2661124"/>
                  </a:lnTo>
                  <a:lnTo>
                    <a:pt x="610762" y="2659449"/>
                  </a:lnTo>
                  <a:lnTo>
                    <a:pt x="528616" y="2658357"/>
                  </a:lnTo>
                  <a:lnTo>
                    <a:pt x="570215" y="2593920"/>
                  </a:lnTo>
                  <a:lnTo>
                    <a:pt x="567679" y="2594009"/>
                  </a:lnTo>
                  <a:lnTo>
                    <a:pt x="559696" y="2578037"/>
                  </a:lnTo>
                  <a:lnTo>
                    <a:pt x="549673" y="2542110"/>
                  </a:lnTo>
                  <a:lnTo>
                    <a:pt x="449904" y="2544985"/>
                  </a:lnTo>
                  <a:lnTo>
                    <a:pt x="442028" y="2528959"/>
                  </a:lnTo>
                  <a:lnTo>
                    <a:pt x="423246" y="2459927"/>
                  </a:lnTo>
                  <a:lnTo>
                    <a:pt x="489779" y="2404606"/>
                  </a:lnTo>
                  <a:lnTo>
                    <a:pt x="400418" y="2396247"/>
                  </a:lnTo>
                  <a:lnTo>
                    <a:pt x="394552" y="2379380"/>
                  </a:lnTo>
                  <a:lnTo>
                    <a:pt x="384317" y="2308574"/>
                  </a:lnTo>
                  <a:lnTo>
                    <a:pt x="467326" y="2255187"/>
                  </a:lnTo>
                  <a:lnTo>
                    <a:pt x="396479" y="2224730"/>
                  </a:lnTo>
                  <a:lnTo>
                    <a:pt x="453096" y="2185592"/>
                  </a:lnTo>
                  <a:lnTo>
                    <a:pt x="435923" y="2170571"/>
                  </a:lnTo>
                  <a:lnTo>
                    <a:pt x="400143" y="2124065"/>
                  </a:lnTo>
                  <a:lnTo>
                    <a:pt x="406632" y="2111539"/>
                  </a:lnTo>
                  <a:lnTo>
                    <a:pt x="399616" y="2108867"/>
                  </a:lnTo>
                  <a:lnTo>
                    <a:pt x="333298" y="2138600"/>
                  </a:lnTo>
                  <a:lnTo>
                    <a:pt x="315754" y="2123051"/>
                  </a:lnTo>
                  <a:lnTo>
                    <a:pt x="280273" y="2076314"/>
                  </a:lnTo>
                  <a:lnTo>
                    <a:pt x="326170" y="1989107"/>
                  </a:lnTo>
                  <a:lnTo>
                    <a:pt x="234867" y="2017291"/>
                  </a:lnTo>
                  <a:lnTo>
                    <a:pt x="219347" y="1999720"/>
                  </a:lnTo>
                  <a:lnTo>
                    <a:pt x="189823" y="1949011"/>
                  </a:lnTo>
                  <a:lnTo>
                    <a:pt x="245991" y="1868051"/>
                  </a:lnTo>
                  <a:lnTo>
                    <a:pt x="245294" y="1866376"/>
                  </a:lnTo>
                  <a:lnTo>
                    <a:pt x="163148" y="1865285"/>
                  </a:lnTo>
                  <a:lnTo>
                    <a:pt x="204747" y="1800848"/>
                  </a:lnTo>
                  <a:lnTo>
                    <a:pt x="202211" y="1800937"/>
                  </a:lnTo>
                  <a:lnTo>
                    <a:pt x="194228" y="1784964"/>
                  </a:lnTo>
                  <a:lnTo>
                    <a:pt x="184205" y="1749038"/>
                  </a:lnTo>
                  <a:lnTo>
                    <a:pt x="84436" y="1751913"/>
                  </a:lnTo>
                  <a:lnTo>
                    <a:pt x="76560" y="1735886"/>
                  </a:lnTo>
                  <a:lnTo>
                    <a:pt x="57777" y="1666854"/>
                  </a:lnTo>
                  <a:lnTo>
                    <a:pt x="124311" y="1611533"/>
                  </a:lnTo>
                  <a:lnTo>
                    <a:pt x="34950" y="1603174"/>
                  </a:lnTo>
                  <a:lnTo>
                    <a:pt x="29084" y="1586307"/>
                  </a:lnTo>
                  <a:lnTo>
                    <a:pt x="18849" y="1515501"/>
                  </a:lnTo>
                  <a:lnTo>
                    <a:pt x="101858" y="1462114"/>
                  </a:lnTo>
                  <a:lnTo>
                    <a:pt x="31010" y="1431657"/>
                  </a:lnTo>
                  <a:lnTo>
                    <a:pt x="129644" y="1363475"/>
                  </a:lnTo>
                  <a:lnTo>
                    <a:pt x="129650" y="1357891"/>
                  </a:lnTo>
                  <a:lnTo>
                    <a:pt x="116038" y="1352807"/>
                  </a:lnTo>
                  <a:lnTo>
                    <a:pt x="115559" y="1346802"/>
                  </a:lnTo>
                  <a:lnTo>
                    <a:pt x="1167" y="1303233"/>
                  </a:lnTo>
                  <a:lnTo>
                    <a:pt x="0" y="1287282"/>
                  </a:lnTo>
                  <a:lnTo>
                    <a:pt x="9835" y="1207849"/>
                  </a:lnTo>
                  <a:lnTo>
                    <a:pt x="79746" y="1186150"/>
                  </a:lnTo>
                  <a:lnTo>
                    <a:pt x="6945" y="1147692"/>
                  </a:lnTo>
                  <a:lnTo>
                    <a:pt x="7727" y="1131718"/>
                  </a:lnTo>
                  <a:lnTo>
                    <a:pt x="27163" y="1054074"/>
                  </a:lnTo>
                  <a:lnTo>
                    <a:pt x="128679" y="1035720"/>
                  </a:lnTo>
                  <a:lnTo>
                    <a:pt x="98469" y="1004697"/>
                  </a:lnTo>
                  <a:lnTo>
                    <a:pt x="92891" y="1000277"/>
                  </a:lnTo>
                  <a:lnTo>
                    <a:pt x="93838" y="999941"/>
                  </a:lnTo>
                  <a:lnTo>
                    <a:pt x="74885" y="980475"/>
                  </a:lnTo>
                  <a:lnTo>
                    <a:pt x="175505" y="958803"/>
                  </a:lnTo>
                  <a:lnTo>
                    <a:pt x="181848" y="943141"/>
                  </a:lnTo>
                  <a:lnTo>
                    <a:pt x="94203" y="860403"/>
                  </a:lnTo>
                  <a:lnTo>
                    <a:pt x="105153" y="827759"/>
                  </a:lnTo>
                  <a:lnTo>
                    <a:pt x="123460" y="796131"/>
                  </a:lnTo>
                  <a:lnTo>
                    <a:pt x="130610" y="778795"/>
                  </a:lnTo>
                  <a:lnTo>
                    <a:pt x="133555" y="778687"/>
                  </a:lnTo>
                  <a:lnTo>
                    <a:pt x="139018" y="769248"/>
                  </a:lnTo>
                  <a:lnTo>
                    <a:pt x="199040" y="774772"/>
                  </a:lnTo>
                  <a:lnTo>
                    <a:pt x="153217" y="719490"/>
                  </a:lnTo>
                  <a:lnTo>
                    <a:pt x="168062" y="688423"/>
                  </a:lnTo>
                  <a:lnTo>
                    <a:pt x="190084" y="659259"/>
                  </a:lnTo>
                  <a:lnTo>
                    <a:pt x="199292" y="642922"/>
                  </a:lnTo>
                  <a:lnTo>
                    <a:pt x="202229" y="643174"/>
                  </a:lnTo>
                  <a:lnTo>
                    <a:pt x="208799" y="634471"/>
                  </a:lnTo>
                  <a:lnTo>
                    <a:pt x="279153" y="649750"/>
                  </a:lnTo>
                  <a:lnTo>
                    <a:pt x="291944" y="650843"/>
                  </a:lnTo>
                  <a:lnTo>
                    <a:pt x="273384" y="629457"/>
                  </a:lnTo>
                  <a:lnTo>
                    <a:pt x="277570" y="620280"/>
                  </a:lnTo>
                  <a:lnTo>
                    <a:pt x="253027" y="576192"/>
                  </a:lnTo>
                  <a:lnTo>
                    <a:pt x="305240" y="578909"/>
                  </a:lnTo>
                  <a:lnTo>
                    <a:pt x="322316" y="554951"/>
                  </a:lnTo>
                  <a:lnTo>
                    <a:pt x="374517" y="565053"/>
                  </a:lnTo>
                  <a:lnTo>
                    <a:pt x="307813" y="456266"/>
                  </a:lnTo>
                  <a:lnTo>
                    <a:pt x="316627" y="442919"/>
                  </a:lnTo>
                  <a:lnTo>
                    <a:pt x="372916" y="386019"/>
                  </a:lnTo>
                  <a:lnTo>
                    <a:pt x="445812" y="413116"/>
                  </a:lnTo>
                  <a:lnTo>
                    <a:pt x="414455" y="344375"/>
                  </a:lnTo>
                  <a:lnTo>
                    <a:pt x="424830" y="332201"/>
                  </a:lnTo>
                  <a:lnTo>
                    <a:pt x="487630" y="282580"/>
                  </a:lnTo>
                  <a:lnTo>
                    <a:pt x="572641" y="326621"/>
                  </a:lnTo>
                  <a:lnTo>
                    <a:pt x="563272" y="245678"/>
                  </a:lnTo>
                  <a:lnTo>
                    <a:pt x="594272" y="260450"/>
                  </a:lnTo>
                  <a:lnTo>
                    <a:pt x="647126" y="227105"/>
                  </a:lnTo>
                  <a:lnTo>
                    <a:pt x="663917" y="238199"/>
                  </a:lnTo>
                  <a:lnTo>
                    <a:pt x="651886" y="162386"/>
                  </a:lnTo>
                  <a:lnTo>
                    <a:pt x="680493" y="143222"/>
                  </a:lnTo>
                  <a:lnTo>
                    <a:pt x="743037" y="117561"/>
                  </a:lnTo>
                  <a:lnTo>
                    <a:pt x="794248" y="165136"/>
                  </a:lnTo>
                  <a:lnTo>
                    <a:pt x="791759" y="94586"/>
                  </a:lnTo>
                  <a:lnTo>
                    <a:pt x="822485" y="79048"/>
                  </a:lnTo>
                  <a:lnTo>
                    <a:pt x="887690" y="61196"/>
                  </a:lnTo>
                  <a:lnTo>
                    <a:pt x="909456" y="87030"/>
                  </a:lnTo>
                  <a:lnTo>
                    <a:pt x="920893" y="83701"/>
                  </a:lnTo>
                  <a:lnTo>
                    <a:pt x="957406" y="125643"/>
                  </a:lnTo>
                  <a:lnTo>
                    <a:pt x="968374" y="87135"/>
                  </a:lnTo>
                  <a:lnTo>
                    <a:pt x="969422" y="72309"/>
                  </a:lnTo>
                  <a:lnTo>
                    <a:pt x="972980" y="70960"/>
                  </a:lnTo>
                  <a:lnTo>
                    <a:pt x="976373" y="59047"/>
                  </a:lnTo>
                  <a:lnTo>
                    <a:pt x="983512" y="66970"/>
                  </a:lnTo>
                  <a:lnTo>
                    <a:pt x="1001619" y="60106"/>
                  </a:lnTo>
                  <a:lnTo>
                    <a:pt x="1068344" y="49246"/>
                  </a:lnTo>
                  <a:lnTo>
                    <a:pt x="1070883" y="53003"/>
                  </a:lnTo>
                  <a:lnTo>
                    <a:pt x="1079209" y="18275"/>
                  </a:lnTo>
                  <a:lnTo>
                    <a:pt x="1132135" y="8165"/>
                  </a:lnTo>
                  <a:close/>
                </a:path>
              </a:pathLst>
            </a:custGeom>
            <a:solidFill>
              <a:srgbClr val="c3dcb4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任意多边形 36"/>
          <p:cNvSpPr/>
          <p:nvPr/>
        </p:nvSpPr>
        <p:spPr>
          <a:xfrm rot="18896400">
            <a:off x="8538120" y="4281840"/>
            <a:ext cx="2422800" cy="3424320"/>
          </a:xfrm>
          <a:custGeom>
            <a:avLst/>
            <a:gdLst/>
            <a:ahLst/>
            <a:rect l="l" t="t" r="r" b="b"/>
            <a:pathLst>
              <a:path w="2224749" h="3200072">
                <a:moveTo>
                  <a:pt x="1379412" y="172407"/>
                </a:moveTo>
                <a:lnTo>
                  <a:pt x="1377974" y="182072"/>
                </a:lnTo>
                <a:lnTo>
                  <a:pt x="1385579" y="188366"/>
                </a:lnTo>
                <a:lnTo>
                  <a:pt x="1378501" y="238232"/>
                </a:lnTo>
                <a:lnTo>
                  <a:pt x="1398184" y="199935"/>
                </a:lnTo>
                <a:lnTo>
                  <a:pt x="1413428" y="208774"/>
                </a:lnTo>
                <a:lnTo>
                  <a:pt x="1425374" y="224549"/>
                </a:lnTo>
                <a:lnTo>
                  <a:pt x="1423899" y="232171"/>
                </a:lnTo>
                <a:lnTo>
                  <a:pt x="1427376" y="226710"/>
                </a:lnTo>
                <a:lnTo>
                  <a:pt x="1441060" y="242640"/>
                </a:lnTo>
                <a:lnTo>
                  <a:pt x="1450355" y="263133"/>
                </a:lnTo>
                <a:lnTo>
                  <a:pt x="1438608" y="307883"/>
                </a:lnTo>
                <a:lnTo>
                  <a:pt x="1461942" y="277090"/>
                </a:lnTo>
                <a:lnTo>
                  <a:pt x="1469099" y="289724"/>
                </a:lnTo>
                <a:lnTo>
                  <a:pt x="1469631" y="289004"/>
                </a:lnTo>
                <a:lnTo>
                  <a:pt x="1481656" y="309135"/>
                </a:lnTo>
                <a:lnTo>
                  <a:pt x="1489295" y="332930"/>
                </a:lnTo>
                <a:lnTo>
                  <a:pt x="1474714" y="380204"/>
                </a:lnTo>
                <a:lnTo>
                  <a:pt x="1497426" y="354971"/>
                </a:lnTo>
                <a:lnTo>
                  <a:pt x="1507373" y="379662"/>
                </a:lnTo>
                <a:lnTo>
                  <a:pt x="1512996" y="406932"/>
                </a:lnTo>
                <a:lnTo>
                  <a:pt x="1504417" y="430465"/>
                </a:lnTo>
                <a:lnTo>
                  <a:pt x="1505758" y="429404"/>
                </a:lnTo>
                <a:lnTo>
                  <a:pt x="1512886" y="459554"/>
                </a:lnTo>
                <a:lnTo>
                  <a:pt x="1514712" y="479574"/>
                </a:lnTo>
                <a:lnTo>
                  <a:pt x="1517250" y="478305"/>
                </a:lnTo>
                <a:lnTo>
                  <a:pt x="1515148" y="484333"/>
                </a:lnTo>
                <a:lnTo>
                  <a:pt x="1515578" y="489055"/>
                </a:lnTo>
                <a:lnTo>
                  <a:pt x="1511221" y="498749"/>
                </a:lnTo>
                <a:lnTo>
                  <a:pt x="1518097" y="504659"/>
                </a:lnTo>
                <a:lnTo>
                  <a:pt x="1517265" y="508332"/>
                </a:lnTo>
                <a:lnTo>
                  <a:pt x="1537632" y="490725"/>
                </a:lnTo>
                <a:lnTo>
                  <a:pt x="1563701" y="511559"/>
                </a:lnTo>
                <a:lnTo>
                  <a:pt x="1583888" y="538058"/>
                </a:lnTo>
                <a:lnTo>
                  <a:pt x="1565958" y="588425"/>
                </a:lnTo>
                <a:lnTo>
                  <a:pt x="1606353" y="560754"/>
                </a:lnTo>
                <a:lnTo>
                  <a:pt x="1629556" y="586127"/>
                </a:lnTo>
                <a:lnTo>
                  <a:pt x="1646520" y="616326"/>
                </a:lnTo>
                <a:lnTo>
                  <a:pt x="1642156" y="625831"/>
                </a:lnTo>
                <a:lnTo>
                  <a:pt x="1651914" y="642501"/>
                </a:lnTo>
                <a:lnTo>
                  <a:pt x="1629904" y="691973"/>
                </a:lnTo>
                <a:lnTo>
                  <a:pt x="1667824" y="671455"/>
                </a:lnTo>
                <a:lnTo>
                  <a:pt x="1688261" y="700461"/>
                </a:lnTo>
                <a:lnTo>
                  <a:pt x="1702222" y="733508"/>
                </a:lnTo>
                <a:lnTo>
                  <a:pt x="1698279" y="740589"/>
                </a:lnTo>
                <a:lnTo>
                  <a:pt x="1704674" y="738483"/>
                </a:lnTo>
                <a:lnTo>
                  <a:pt x="1721165" y="773845"/>
                </a:lnTo>
                <a:lnTo>
                  <a:pt x="1730121" y="809144"/>
                </a:lnTo>
                <a:lnTo>
                  <a:pt x="1702410" y="846921"/>
                </a:lnTo>
                <a:lnTo>
                  <a:pt x="1743975" y="839634"/>
                </a:lnTo>
                <a:lnTo>
                  <a:pt x="1751603" y="863146"/>
                </a:lnTo>
                <a:lnTo>
                  <a:pt x="1752555" y="862959"/>
                </a:lnTo>
                <a:lnTo>
                  <a:pt x="1765624" y="901186"/>
                </a:lnTo>
                <a:lnTo>
                  <a:pt x="1770342" y="931657"/>
                </a:lnTo>
                <a:lnTo>
                  <a:pt x="1788222" y="939266"/>
                </a:lnTo>
                <a:lnTo>
                  <a:pt x="1785293" y="995573"/>
                </a:lnTo>
                <a:lnTo>
                  <a:pt x="1818929" y="949831"/>
                </a:lnTo>
                <a:lnTo>
                  <a:pt x="1838809" y="955832"/>
                </a:lnTo>
                <a:lnTo>
                  <a:pt x="1873577" y="978099"/>
                </a:lnTo>
                <a:lnTo>
                  <a:pt x="1869576" y="1005568"/>
                </a:lnTo>
                <a:lnTo>
                  <a:pt x="1875772" y="1009349"/>
                </a:lnTo>
                <a:lnTo>
                  <a:pt x="1869746" y="1054549"/>
                </a:lnTo>
                <a:lnTo>
                  <a:pt x="1893022" y="1035919"/>
                </a:lnTo>
                <a:lnTo>
                  <a:pt x="1900717" y="1027116"/>
                </a:lnTo>
                <a:lnTo>
                  <a:pt x="1902799" y="1028094"/>
                </a:lnTo>
                <a:lnTo>
                  <a:pt x="1909999" y="1022330"/>
                </a:lnTo>
                <a:lnTo>
                  <a:pt x="1908957" y="1030992"/>
                </a:lnTo>
                <a:lnTo>
                  <a:pt x="1919548" y="1035975"/>
                </a:lnTo>
                <a:lnTo>
                  <a:pt x="1951489" y="1063428"/>
                </a:lnTo>
                <a:lnTo>
                  <a:pt x="1950657" y="1067101"/>
                </a:lnTo>
                <a:lnTo>
                  <a:pt x="1971024" y="1049496"/>
                </a:lnTo>
                <a:lnTo>
                  <a:pt x="1997093" y="1070330"/>
                </a:lnTo>
                <a:lnTo>
                  <a:pt x="2017280" y="1096829"/>
                </a:lnTo>
                <a:lnTo>
                  <a:pt x="1999350" y="1147194"/>
                </a:lnTo>
                <a:lnTo>
                  <a:pt x="2039744" y="1119523"/>
                </a:lnTo>
                <a:lnTo>
                  <a:pt x="2062948" y="1144896"/>
                </a:lnTo>
                <a:lnTo>
                  <a:pt x="2079911" y="1175096"/>
                </a:lnTo>
                <a:lnTo>
                  <a:pt x="2075548" y="1184602"/>
                </a:lnTo>
                <a:lnTo>
                  <a:pt x="2085306" y="1201272"/>
                </a:lnTo>
                <a:lnTo>
                  <a:pt x="2063296" y="1250744"/>
                </a:lnTo>
                <a:lnTo>
                  <a:pt x="2101215" y="1230224"/>
                </a:lnTo>
                <a:lnTo>
                  <a:pt x="2121653" y="1259230"/>
                </a:lnTo>
                <a:lnTo>
                  <a:pt x="2135614" y="1292277"/>
                </a:lnTo>
                <a:lnTo>
                  <a:pt x="2131670" y="1299357"/>
                </a:lnTo>
                <a:lnTo>
                  <a:pt x="2138067" y="1297254"/>
                </a:lnTo>
                <a:lnTo>
                  <a:pt x="2154557" y="1332614"/>
                </a:lnTo>
                <a:lnTo>
                  <a:pt x="2163512" y="1367914"/>
                </a:lnTo>
                <a:lnTo>
                  <a:pt x="2135803" y="1405692"/>
                </a:lnTo>
                <a:lnTo>
                  <a:pt x="2177367" y="1398403"/>
                </a:lnTo>
                <a:lnTo>
                  <a:pt x="2184995" y="1421915"/>
                </a:lnTo>
                <a:lnTo>
                  <a:pt x="2185947" y="1421728"/>
                </a:lnTo>
                <a:lnTo>
                  <a:pt x="2199015" y="1459955"/>
                </a:lnTo>
                <a:lnTo>
                  <a:pt x="2204762" y="1497072"/>
                </a:lnTo>
                <a:lnTo>
                  <a:pt x="2172288" y="1534321"/>
                </a:lnTo>
                <a:lnTo>
                  <a:pt x="2211644" y="1532749"/>
                </a:lnTo>
                <a:lnTo>
                  <a:pt x="2220589" y="1573747"/>
                </a:lnTo>
                <a:lnTo>
                  <a:pt x="2222557" y="1612444"/>
                </a:lnTo>
                <a:lnTo>
                  <a:pt x="2204443" y="1629367"/>
                </a:lnTo>
                <a:lnTo>
                  <a:pt x="2206667" y="1629774"/>
                </a:lnTo>
                <a:lnTo>
                  <a:pt x="2210189" y="1673679"/>
                </a:lnTo>
                <a:lnTo>
                  <a:pt x="2208236" y="1699265"/>
                </a:lnTo>
                <a:lnTo>
                  <a:pt x="2212274" y="1700899"/>
                </a:lnTo>
                <a:lnTo>
                  <a:pt x="2207775" y="1705351"/>
                </a:lnTo>
                <a:lnTo>
                  <a:pt x="2207314" y="1711382"/>
                </a:lnTo>
                <a:lnTo>
                  <a:pt x="2188858" y="1724062"/>
                </a:lnTo>
                <a:lnTo>
                  <a:pt x="2180878" y="1731958"/>
                </a:lnTo>
                <a:lnTo>
                  <a:pt x="2181292" y="1736797"/>
                </a:lnTo>
                <a:lnTo>
                  <a:pt x="2211566" y="1747810"/>
                </a:lnTo>
                <a:lnTo>
                  <a:pt x="2211254" y="1764620"/>
                </a:lnTo>
                <a:lnTo>
                  <a:pt x="2224749" y="1769188"/>
                </a:lnTo>
                <a:lnTo>
                  <a:pt x="2224487" y="1814298"/>
                </a:lnTo>
                <a:lnTo>
                  <a:pt x="2218526" y="1852216"/>
                </a:lnTo>
                <a:lnTo>
                  <a:pt x="2184774" y="1870549"/>
                </a:lnTo>
                <a:lnTo>
                  <a:pt x="2187058" y="1871301"/>
                </a:lnTo>
                <a:lnTo>
                  <a:pt x="2187055" y="1877201"/>
                </a:lnTo>
                <a:lnTo>
                  <a:pt x="2215573" y="1892597"/>
                </a:lnTo>
                <a:lnTo>
                  <a:pt x="2210956" y="1938466"/>
                </a:lnTo>
                <a:lnTo>
                  <a:pt x="2201523" y="1976107"/>
                </a:lnTo>
                <a:lnTo>
                  <a:pt x="2167361" y="1989265"/>
                </a:lnTo>
                <a:lnTo>
                  <a:pt x="2160664" y="2040235"/>
                </a:lnTo>
                <a:lnTo>
                  <a:pt x="2157519" y="2051252"/>
                </a:lnTo>
                <a:lnTo>
                  <a:pt x="2160028" y="2053544"/>
                </a:lnTo>
                <a:lnTo>
                  <a:pt x="2156215" y="2055820"/>
                </a:lnTo>
                <a:lnTo>
                  <a:pt x="2154807" y="2060749"/>
                </a:lnTo>
                <a:lnTo>
                  <a:pt x="2161693" y="2069423"/>
                </a:lnTo>
                <a:lnTo>
                  <a:pt x="2143220" y="2077322"/>
                </a:lnTo>
                <a:lnTo>
                  <a:pt x="2142673" y="2078730"/>
                </a:lnTo>
                <a:lnTo>
                  <a:pt x="2137989" y="2079561"/>
                </a:lnTo>
                <a:lnTo>
                  <a:pt x="2122871" y="2086027"/>
                </a:lnTo>
                <a:lnTo>
                  <a:pt x="2140244" y="2100863"/>
                </a:lnTo>
                <a:lnTo>
                  <a:pt x="2138849" y="2107077"/>
                </a:lnTo>
                <a:lnTo>
                  <a:pt x="2157736" y="2122527"/>
                </a:lnTo>
                <a:lnTo>
                  <a:pt x="2145556" y="2179955"/>
                </a:lnTo>
                <a:lnTo>
                  <a:pt x="2137469" y="2201787"/>
                </a:lnTo>
                <a:lnTo>
                  <a:pt x="2131328" y="2203052"/>
                </a:lnTo>
                <a:lnTo>
                  <a:pt x="2124827" y="2216579"/>
                </a:lnTo>
                <a:lnTo>
                  <a:pt x="2095377" y="2217814"/>
                </a:lnTo>
                <a:lnTo>
                  <a:pt x="2116576" y="2241502"/>
                </a:lnTo>
                <a:lnTo>
                  <a:pt x="2099237" y="2298003"/>
                </a:lnTo>
                <a:lnTo>
                  <a:pt x="2089304" y="2318931"/>
                </a:lnTo>
                <a:lnTo>
                  <a:pt x="2083241" y="2319235"/>
                </a:lnTo>
                <a:lnTo>
                  <a:pt x="2075645" y="2331965"/>
                </a:lnTo>
                <a:lnTo>
                  <a:pt x="2040599" y="2327734"/>
                </a:lnTo>
                <a:lnTo>
                  <a:pt x="2053331" y="2349122"/>
                </a:lnTo>
                <a:lnTo>
                  <a:pt x="2031675" y="2397214"/>
                </a:lnTo>
                <a:lnTo>
                  <a:pt x="2037532" y="2411874"/>
                </a:lnTo>
                <a:lnTo>
                  <a:pt x="2023951" y="2413140"/>
                </a:lnTo>
                <a:lnTo>
                  <a:pt x="2020926" y="2417880"/>
                </a:lnTo>
                <a:lnTo>
                  <a:pt x="2004050" y="2414994"/>
                </a:lnTo>
                <a:lnTo>
                  <a:pt x="1987136" y="2416571"/>
                </a:lnTo>
                <a:lnTo>
                  <a:pt x="2015245" y="2478978"/>
                </a:lnTo>
                <a:lnTo>
                  <a:pt x="1983360" y="2537249"/>
                </a:lnTo>
                <a:lnTo>
                  <a:pt x="1977957" y="2544358"/>
                </a:lnTo>
                <a:lnTo>
                  <a:pt x="1943784" y="2533209"/>
                </a:lnTo>
                <a:lnTo>
                  <a:pt x="1939630" y="2540671"/>
                </a:lnTo>
                <a:lnTo>
                  <a:pt x="1933880" y="2548121"/>
                </a:lnTo>
                <a:lnTo>
                  <a:pt x="1944263" y="2581502"/>
                </a:lnTo>
                <a:lnTo>
                  <a:pt x="1907784" y="2635711"/>
                </a:lnTo>
                <a:lnTo>
                  <a:pt x="1901872" y="2642083"/>
                </a:lnTo>
                <a:lnTo>
                  <a:pt x="1869892" y="2625270"/>
                </a:lnTo>
                <a:lnTo>
                  <a:pt x="1865151" y="2632201"/>
                </a:lnTo>
                <a:lnTo>
                  <a:pt x="1852400" y="2645722"/>
                </a:lnTo>
                <a:lnTo>
                  <a:pt x="1849136" y="2643875"/>
                </a:lnTo>
                <a:lnTo>
                  <a:pt x="1840214" y="2644249"/>
                </a:lnTo>
                <a:lnTo>
                  <a:pt x="1842904" y="2661871"/>
                </a:lnTo>
                <a:lnTo>
                  <a:pt x="1840600" y="2664504"/>
                </a:lnTo>
                <a:lnTo>
                  <a:pt x="1844314" y="2668654"/>
                </a:lnTo>
                <a:lnTo>
                  <a:pt x="1826976" y="2725155"/>
                </a:lnTo>
                <a:lnTo>
                  <a:pt x="1817043" y="2746082"/>
                </a:lnTo>
                <a:lnTo>
                  <a:pt x="1810980" y="2746386"/>
                </a:lnTo>
                <a:lnTo>
                  <a:pt x="1803383" y="2759116"/>
                </a:lnTo>
                <a:lnTo>
                  <a:pt x="1783675" y="2756737"/>
                </a:lnTo>
                <a:lnTo>
                  <a:pt x="1784352" y="2767613"/>
                </a:lnTo>
                <a:lnTo>
                  <a:pt x="1778977" y="2772755"/>
                </a:lnTo>
                <a:lnTo>
                  <a:pt x="1781070" y="2776273"/>
                </a:lnTo>
                <a:lnTo>
                  <a:pt x="1759414" y="2824366"/>
                </a:lnTo>
                <a:lnTo>
                  <a:pt x="1765271" y="2839027"/>
                </a:lnTo>
                <a:lnTo>
                  <a:pt x="1751691" y="2840292"/>
                </a:lnTo>
                <a:lnTo>
                  <a:pt x="1748665" y="2845032"/>
                </a:lnTo>
                <a:lnTo>
                  <a:pt x="1731788" y="2842146"/>
                </a:lnTo>
                <a:lnTo>
                  <a:pt x="1714875" y="2843722"/>
                </a:lnTo>
                <a:lnTo>
                  <a:pt x="1742984" y="2906130"/>
                </a:lnTo>
                <a:lnTo>
                  <a:pt x="1711099" y="2964401"/>
                </a:lnTo>
                <a:lnTo>
                  <a:pt x="1705696" y="2971510"/>
                </a:lnTo>
                <a:lnTo>
                  <a:pt x="1671523" y="2960360"/>
                </a:lnTo>
                <a:lnTo>
                  <a:pt x="1667368" y="2967824"/>
                </a:lnTo>
                <a:lnTo>
                  <a:pt x="1661619" y="2975272"/>
                </a:lnTo>
                <a:lnTo>
                  <a:pt x="1672002" y="3008654"/>
                </a:lnTo>
                <a:lnTo>
                  <a:pt x="1635523" y="3062864"/>
                </a:lnTo>
                <a:lnTo>
                  <a:pt x="1629611" y="3069236"/>
                </a:lnTo>
                <a:lnTo>
                  <a:pt x="1597631" y="3052422"/>
                </a:lnTo>
                <a:lnTo>
                  <a:pt x="1592890" y="3059353"/>
                </a:lnTo>
                <a:lnTo>
                  <a:pt x="1580138" y="3072874"/>
                </a:lnTo>
                <a:lnTo>
                  <a:pt x="1567046" y="3065463"/>
                </a:lnTo>
                <a:lnTo>
                  <a:pt x="1570644" y="3089023"/>
                </a:lnTo>
                <a:lnTo>
                  <a:pt x="1552164" y="3110136"/>
                </a:lnTo>
                <a:lnTo>
                  <a:pt x="1552910" y="3136929"/>
                </a:lnTo>
                <a:lnTo>
                  <a:pt x="1535750" y="3128886"/>
                </a:lnTo>
                <a:lnTo>
                  <a:pt x="1534810" y="3129962"/>
                </a:lnTo>
                <a:lnTo>
                  <a:pt x="1525870" y="3137316"/>
                </a:lnTo>
                <a:lnTo>
                  <a:pt x="1507545" y="3121731"/>
                </a:lnTo>
                <a:lnTo>
                  <a:pt x="1512091" y="3194766"/>
                </a:lnTo>
                <a:lnTo>
                  <a:pt x="1506545" y="3200072"/>
                </a:lnTo>
                <a:lnTo>
                  <a:pt x="24873" y="1715545"/>
                </a:lnTo>
                <a:lnTo>
                  <a:pt x="38484" y="1685880"/>
                </a:lnTo>
                <a:lnTo>
                  <a:pt x="10820" y="1679096"/>
                </a:lnTo>
                <a:lnTo>
                  <a:pt x="9004" y="1665410"/>
                </a:lnTo>
                <a:lnTo>
                  <a:pt x="5835" y="1607954"/>
                </a:lnTo>
                <a:lnTo>
                  <a:pt x="31533" y="1564633"/>
                </a:lnTo>
                <a:lnTo>
                  <a:pt x="9600" y="1539918"/>
                </a:lnTo>
                <a:lnTo>
                  <a:pt x="40135" y="1484590"/>
                </a:lnTo>
                <a:lnTo>
                  <a:pt x="40137" y="1480059"/>
                </a:lnTo>
                <a:lnTo>
                  <a:pt x="35923" y="1475934"/>
                </a:lnTo>
                <a:lnTo>
                  <a:pt x="35775" y="1471060"/>
                </a:lnTo>
                <a:lnTo>
                  <a:pt x="362" y="1435706"/>
                </a:lnTo>
                <a:lnTo>
                  <a:pt x="0" y="1422762"/>
                </a:lnTo>
                <a:lnTo>
                  <a:pt x="3045" y="1358305"/>
                </a:lnTo>
                <a:lnTo>
                  <a:pt x="24687" y="1340697"/>
                </a:lnTo>
                <a:lnTo>
                  <a:pt x="2150" y="1309490"/>
                </a:lnTo>
                <a:lnTo>
                  <a:pt x="2392" y="1296528"/>
                </a:lnTo>
                <a:lnTo>
                  <a:pt x="8409" y="1233523"/>
                </a:lnTo>
                <a:lnTo>
                  <a:pt x="39836" y="1218628"/>
                </a:lnTo>
                <a:lnTo>
                  <a:pt x="30484" y="1193455"/>
                </a:lnTo>
                <a:lnTo>
                  <a:pt x="28757" y="1189868"/>
                </a:lnTo>
                <a:lnTo>
                  <a:pt x="29050" y="1189595"/>
                </a:lnTo>
                <a:lnTo>
                  <a:pt x="23183" y="1173799"/>
                </a:lnTo>
                <a:lnTo>
                  <a:pt x="54332" y="1156213"/>
                </a:lnTo>
                <a:lnTo>
                  <a:pt x="56296" y="1143505"/>
                </a:lnTo>
                <a:lnTo>
                  <a:pt x="29163" y="1076365"/>
                </a:lnTo>
                <a:lnTo>
                  <a:pt x="32553" y="1049876"/>
                </a:lnTo>
                <a:lnTo>
                  <a:pt x="38221" y="1024210"/>
                </a:lnTo>
                <a:lnTo>
                  <a:pt x="40434" y="1010144"/>
                </a:lnTo>
                <a:lnTo>
                  <a:pt x="41346" y="1010056"/>
                </a:lnTo>
                <a:lnTo>
                  <a:pt x="43037" y="1002397"/>
                </a:lnTo>
                <a:lnTo>
                  <a:pt x="61618" y="1006878"/>
                </a:lnTo>
                <a:lnTo>
                  <a:pt x="47432" y="962019"/>
                </a:lnTo>
                <a:lnTo>
                  <a:pt x="52028" y="936809"/>
                </a:lnTo>
                <a:lnTo>
                  <a:pt x="58846" y="913145"/>
                </a:lnTo>
                <a:lnTo>
                  <a:pt x="61696" y="899887"/>
                </a:lnTo>
                <a:lnTo>
                  <a:pt x="62606" y="900091"/>
                </a:lnTo>
                <a:lnTo>
                  <a:pt x="64640" y="893029"/>
                </a:lnTo>
                <a:lnTo>
                  <a:pt x="86420" y="905428"/>
                </a:lnTo>
                <a:lnTo>
                  <a:pt x="90379" y="906315"/>
                </a:lnTo>
                <a:lnTo>
                  <a:pt x="84634" y="888961"/>
                </a:lnTo>
                <a:lnTo>
                  <a:pt x="85930" y="881514"/>
                </a:lnTo>
                <a:lnTo>
                  <a:pt x="78332" y="845737"/>
                </a:lnTo>
                <a:lnTo>
                  <a:pt x="94496" y="847943"/>
                </a:lnTo>
                <a:lnTo>
                  <a:pt x="99782" y="828501"/>
                </a:lnTo>
                <a:lnTo>
                  <a:pt x="115942" y="836699"/>
                </a:lnTo>
                <a:lnTo>
                  <a:pt x="95292" y="748424"/>
                </a:lnTo>
                <a:lnTo>
                  <a:pt x="98021" y="737592"/>
                </a:lnTo>
                <a:lnTo>
                  <a:pt x="115447" y="691420"/>
                </a:lnTo>
                <a:lnTo>
                  <a:pt x="138014" y="713407"/>
                </a:lnTo>
                <a:lnTo>
                  <a:pt x="128306" y="657627"/>
                </a:lnTo>
                <a:lnTo>
                  <a:pt x="131518" y="647749"/>
                </a:lnTo>
                <a:lnTo>
                  <a:pt x="150960" y="607482"/>
                </a:lnTo>
                <a:lnTo>
                  <a:pt x="177277" y="643219"/>
                </a:lnTo>
                <a:lnTo>
                  <a:pt x="174377" y="577538"/>
                </a:lnTo>
                <a:lnTo>
                  <a:pt x="183974" y="589524"/>
                </a:lnTo>
                <a:lnTo>
                  <a:pt x="200336" y="562466"/>
                </a:lnTo>
                <a:lnTo>
                  <a:pt x="205534" y="571470"/>
                </a:lnTo>
                <a:lnTo>
                  <a:pt x="201810" y="509950"/>
                </a:lnTo>
                <a:lnTo>
                  <a:pt x="210666" y="494399"/>
                </a:lnTo>
                <a:lnTo>
                  <a:pt x="230028" y="473575"/>
                </a:lnTo>
                <a:lnTo>
                  <a:pt x="245882" y="512181"/>
                </a:lnTo>
                <a:lnTo>
                  <a:pt x="245111" y="454931"/>
                </a:lnTo>
                <a:lnTo>
                  <a:pt x="254624" y="442323"/>
                </a:lnTo>
                <a:lnTo>
                  <a:pt x="274810" y="427837"/>
                </a:lnTo>
                <a:lnTo>
                  <a:pt x="281548" y="448800"/>
                </a:lnTo>
                <a:lnTo>
                  <a:pt x="285088" y="446099"/>
                </a:lnTo>
                <a:lnTo>
                  <a:pt x="296392" y="480134"/>
                </a:lnTo>
                <a:lnTo>
                  <a:pt x="299788" y="448885"/>
                </a:lnTo>
                <a:lnTo>
                  <a:pt x="300112" y="436854"/>
                </a:lnTo>
                <a:lnTo>
                  <a:pt x="301214" y="435760"/>
                </a:lnTo>
                <a:lnTo>
                  <a:pt x="302264" y="426094"/>
                </a:lnTo>
                <a:lnTo>
                  <a:pt x="304474" y="432522"/>
                </a:lnTo>
                <a:lnTo>
                  <a:pt x="310079" y="426953"/>
                </a:lnTo>
                <a:lnTo>
                  <a:pt x="330736" y="418140"/>
                </a:lnTo>
                <a:lnTo>
                  <a:pt x="331522" y="421189"/>
                </a:lnTo>
                <a:lnTo>
                  <a:pt x="334099" y="393009"/>
                </a:lnTo>
                <a:lnTo>
                  <a:pt x="350485" y="384804"/>
                </a:lnTo>
                <a:lnTo>
                  <a:pt x="366300" y="385114"/>
                </a:lnTo>
                <a:lnTo>
                  <a:pt x="374550" y="432326"/>
                </a:lnTo>
                <a:lnTo>
                  <a:pt x="381849" y="381092"/>
                </a:lnTo>
                <a:lnTo>
                  <a:pt x="398494" y="378179"/>
                </a:lnTo>
                <a:lnTo>
                  <a:pt x="414176" y="383534"/>
                </a:lnTo>
                <a:lnTo>
                  <a:pt x="415354" y="393257"/>
                </a:lnTo>
                <a:lnTo>
                  <a:pt x="424163" y="395886"/>
                </a:lnTo>
                <a:lnTo>
                  <a:pt x="430564" y="445903"/>
                </a:lnTo>
                <a:lnTo>
                  <a:pt x="439062" y="401314"/>
                </a:lnTo>
                <a:lnTo>
                  <a:pt x="455730" y="403027"/>
                </a:lnTo>
                <a:lnTo>
                  <a:pt x="471109" y="412698"/>
                </a:lnTo>
                <a:lnTo>
                  <a:pt x="471718" y="420515"/>
                </a:lnTo>
                <a:lnTo>
                  <a:pt x="473561" y="413865"/>
                </a:lnTo>
                <a:lnTo>
                  <a:pt x="490618" y="422930"/>
                </a:lnTo>
                <a:lnTo>
                  <a:pt x="504738" y="438195"/>
                </a:lnTo>
                <a:lnTo>
                  <a:pt x="505401" y="485419"/>
                </a:lnTo>
                <a:lnTo>
                  <a:pt x="519303" y="446313"/>
                </a:lnTo>
                <a:lnTo>
                  <a:pt x="529352" y="455103"/>
                </a:lnTo>
                <a:lnTo>
                  <a:pt x="529665" y="454194"/>
                </a:lnTo>
                <a:lnTo>
                  <a:pt x="541910" y="464332"/>
                </a:lnTo>
                <a:lnTo>
                  <a:pt x="546609" y="454327"/>
                </a:lnTo>
                <a:lnTo>
                  <a:pt x="547490" y="454639"/>
                </a:lnTo>
                <a:lnTo>
                  <a:pt x="551089" y="448161"/>
                </a:lnTo>
                <a:lnTo>
                  <a:pt x="567409" y="460437"/>
                </a:lnTo>
                <a:lnTo>
                  <a:pt x="565806" y="412053"/>
                </a:lnTo>
                <a:lnTo>
                  <a:pt x="576738" y="390310"/>
                </a:lnTo>
                <a:lnTo>
                  <a:pt x="589357" y="370985"/>
                </a:lnTo>
                <a:lnTo>
                  <a:pt x="595514" y="359740"/>
                </a:lnTo>
                <a:lnTo>
                  <a:pt x="596316" y="360326"/>
                </a:lnTo>
                <a:lnTo>
                  <a:pt x="600081" y="354559"/>
                </a:lnTo>
                <a:lnTo>
                  <a:pt x="617339" y="375676"/>
                </a:lnTo>
                <a:lnTo>
                  <a:pt x="620835" y="378228"/>
                </a:lnTo>
                <a:lnTo>
                  <a:pt x="619972" y="359397"/>
                </a:lnTo>
                <a:lnTo>
                  <a:pt x="623142" y="352947"/>
                </a:lnTo>
                <a:lnTo>
                  <a:pt x="625363" y="315971"/>
                </a:lnTo>
                <a:lnTo>
                  <a:pt x="640003" y="325056"/>
                </a:lnTo>
                <a:lnTo>
                  <a:pt x="650074" y="309043"/>
                </a:lnTo>
                <a:lnTo>
                  <a:pt x="663141" y="323768"/>
                </a:lnTo>
                <a:lnTo>
                  <a:pt x="666827" y="231702"/>
                </a:lnTo>
                <a:lnTo>
                  <a:pt x="672233" y="222689"/>
                </a:lnTo>
                <a:lnTo>
                  <a:pt x="700736" y="186773"/>
                </a:lnTo>
                <a:lnTo>
                  <a:pt x="716223" y="217258"/>
                </a:lnTo>
                <a:lnTo>
                  <a:pt x="721697" y="160532"/>
                </a:lnTo>
                <a:lnTo>
                  <a:pt x="727309" y="152625"/>
                </a:lnTo>
                <a:lnTo>
                  <a:pt x="756163" y="123143"/>
                </a:lnTo>
                <a:lnTo>
                  <a:pt x="771577" y="168201"/>
                </a:lnTo>
                <a:lnTo>
                  <a:pt x="786055" y="105103"/>
                </a:lnTo>
                <a:lnTo>
                  <a:pt x="791950" y="120550"/>
                </a:lnTo>
                <a:lnTo>
                  <a:pt x="814444" y="102169"/>
                </a:lnTo>
                <a:lnTo>
                  <a:pt x="816980" y="112898"/>
                </a:lnTo>
                <a:lnTo>
                  <a:pt x="829591" y="53364"/>
                </a:lnTo>
                <a:lnTo>
                  <a:pt x="842003" y="42562"/>
                </a:lnTo>
                <a:lnTo>
                  <a:pt x="865687" y="31352"/>
                </a:lnTo>
                <a:lnTo>
                  <a:pt x="870500" y="74572"/>
                </a:lnTo>
                <a:lnTo>
                  <a:pt x="884773" y="20338"/>
                </a:lnTo>
                <a:lnTo>
                  <a:pt x="897032" y="12592"/>
                </a:lnTo>
                <a:lnTo>
                  <a:pt x="919832" y="7706"/>
                </a:lnTo>
                <a:lnTo>
                  <a:pt x="920684" y="30363"/>
                </a:lnTo>
                <a:lnTo>
                  <a:pt x="924725" y="29356"/>
                </a:lnTo>
                <a:lnTo>
                  <a:pt x="926451" y="66299"/>
                </a:lnTo>
                <a:lnTo>
                  <a:pt x="937834" y="38352"/>
                </a:lnTo>
                <a:lnTo>
                  <a:pt x="941292" y="27166"/>
                </a:lnTo>
                <a:lnTo>
                  <a:pt x="942616" y="26612"/>
                </a:lnTo>
                <a:lnTo>
                  <a:pt x="946137" y="17966"/>
                </a:lnTo>
                <a:lnTo>
                  <a:pt x="946533" y="24978"/>
                </a:lnTo>
                <a:lnTo>
                  <a:pt x="953270" y="22164"/>
                </a:lnTo>
                <a:lnTo>
                  <a:pt x="975027" y="22824"/>
                </a:lnTo>
                <a:lnTo>
                  <a:pt x="974968" y="26034"/>
                </a:lnTo>
                <a:lnTo>
                  <a:pt x="984778" y="620"/>
                </a:lnTo>
                <a:lnTo>
                  <a:pt x="1002354" y="0"/>
                </a:lnTo>
                <a:lnTo>
                  <a:pt x="1017163" y="7147"/>
                </a:lnTo>
                <a:lnTo>
                  <a:pt x="1012561" y="55177"/>
                </a:lnTo>
                <a:lnTo>
                  <a:pt x="1032857" y="10103"/>
                </a:lnTo>
                <a:lnTo>
                  <a:pt x="1049290" y="14577"/>
                </a:lnTo>
                <a:lnTo>
                  <a:pt x="1062653" y="26418"/>
                </a:lnTo>
                <a:lnTo>
                  <a:pt x="1061214" y="36082"/>
                </a:lnTo>
                <a:lnTo>
                  <a:pt x="1068819" y="42378"/>
                </a:lnTo>
                <a:lnTo>
                  <a:pt x="1061740" y="92243"/>
                </a:lnTo>
                <a:lnTo>
                  <a:pt x="1081424" y="53947"/>
                </a:lnTo>
                <a:lnTo>
                  <a:pt x="1096668" y="62786"/>
                </a:lnTo>
                <a:lnTo>
                  <a:pt x="1108613" y="78562"/>
                </a:lnTo>
                <a:lnTo>
                  <a:pt x="1107139" y="86182"/>
                </a:lnTo>
                <a:lnTo>
                  <a:pt x="1110615" y="80721"/>
                </a:lnTo>
                <a:lnTo>
                  <a:pt x="1124300" y="96651"/>
                </a:lnTo>
                <a:lnTo>
                  <a:pt x="1133594" y="117145"/>
                </a:lnTo>
                <a:lnTo>
                  <a:pt x="1121847" y="161893"/>
                </a:lnTo>
                <a:lnTo>
                  <a:pt x="1145181" y="131102"/>
                </a:lnTo>
                <a:lnTo>
                  <a:pt x="1152339" y="143735"/>
                </a:lnTo>
                <a:lnTo>
                  <a:pt x="1152871" y="143016"/>
                </a:lnTo>
                <a:lnTo>
                  <a:pt x="1164896" y="163146"/>
                </a:lnTo>
                <a:lnTo>
                  <a:pt x="1171167" y="182679"/>
                </a:lnTo>
                <a:lnTo>
                  <a:pt x="1182448" y="177341"/>
                </a:lnTo>
                <a:lnTo>
                  <a:pt x="1187260" y="220561"/>
                </a:lnTo>
                <a:lnTo>
                  <a:pt x="1201533" y="166328"/>
                </a:lnTo>
                <a:lnTo>
                  <a:pt x="1213792" y="158581"/>
                </a:lnTo>
                <a:lnTo>
                  <a:pt x="1236592" y="153694"/>
                </a:lnTo>
                <a:lnTo>
                  <a:pt x="1237446" y="176353"/>
                </a:lnTo>
                <a:lnTo>
                  <a:pt x="1241486" y="175344"/>
                </a:lnTo>
                <a:lnTo>
                  <a:pt x="1243211" y="212287"/>
                </a:lnTo>
                <a:lnTo>
                  <a:pt x="1254594" y="184340"/>
                </a:lnTo>
                <a:lnTo>
                  <a:pt x="1258052" y="173154"/>
                </a:lnTo>
                <a:lnTo>
                  <a:pt x="1259376" y="172602"/>
                </a:lnTo>
                <a:lnTo>
                  <a:pt x="1262898" y="163956"/>
                </a:lnTo>
                <a:lnTo>
                  <a:pt x="1263294" y="170967"/>
                </a:lnTo>
                <a:lnTo>
                  <a:pt x="1270031" y="168154"/>
                </a:lnTo>
                <a:lnTo>
                  <a:pt x="1291788" y="168812"/>
                </a:lnTo>
                <a:lnTo>
                  <a:pt x="1291729" y="172023"/>
                </a:lnTo>
                <a:lnTo>
                  <a:pt x="1301539" y="146609"/>
                </a:lnTo>
                <a:lnTo>
                  <a:pt x="1319114" y="145988"/>
                </a:lnTo>
                <a:lnTo>
                  <a:pt x="1333923" y="153137"/>
                </a:lnTo>
                <a:lnTo>
                  <a:pt x="1329321" y="201165"/>
                </a:lnTo>
                <a:lnTo>
                  <a:pt x="1349617" y="156092"/>
                </a:lnTo>
                <a:lnTo>
                  <a:pt x="1366050" y="160565"/>
                </a:lnTo>
                <a:lnTo>
                  <a:pt x="1379412" y="172407"/>
                </a:lnTo>
                <a:close/>
              </a:path>
            </a:pathLst>
          </a:custGeom>
          <a:solidFill>
            <a:srgbClr val="dfa4a6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1"/>
          <p:cNvGrpSpPr/>
          <p:nvPr/>
        </p:nvGrpSpPr>
        <p:grpSpPr>
          <a:xfrm>
            <a:off x="7817760" y="4321080"/>
            <a:ext cx="4374360" cy="3296520"/>
            <a:chOff x="7817760" y="4321080"/>
            <a:chExt cx="4374360" cy="3296520"/>
          </a:xfrm>
        </p:grpSpPr>
        <p:sp>
          <p:nvSpPr>
            <p:cNvPr id="51" name="任意多边形 39"/>
            <p:cNvSpPr/>
            <p:nvPr/>
          </p:nvSpPr>
          <p:spPr>
            <a:xfrm>
              <a:off x="9612360" y="4321080"/>
              <a:ext cx="2579760" cy="2537280"/>
            </a:xfrm>
            <a:custGeom>
              <a:avLst/>
              <a:gdLst/>
              <a:ahLst/>
              <a:rect l="l" t="t" r="r" b="b"/>
              <a:pathLst>
                <a:path w="2579648" h="2536424">
                  <a:moveTo>
                    <a:pt x="1142435" y="0"/>
                  </a:moveTo>
                  <a:lnTo>
                    <a:pt x="1187396" y="5744"/>
                  </a:lnTo>
                  <a:lnTo>
                    <a:pt x="1190772" y="16174"/>
                  </a:lnTo>
                  <a:lnTo>
                    <a:pt x="1216028" y="18995"/>
                  </a:lnTo>
                  <a:lnTo>
                    <a:pt x="1234377" y="72647"/>
                  </a:lnTo>
                  <a:lnTo>
                    <a:pt x="1258740" y="24816"/>
                  </a:lnTo>
                  <a:lnTo>
                    <a:pt x="1306526" y="26654"/>
                  </a:lnTo>
                  <a:lnTo>
                    <a:pt x="1350616" y="37029"/>
                  </a:lnTo>
                  <a:lnTo>
                    <a:pt x="1352362" y="45413"/>
                  </a:lnTo>
                  <a:lnTo>
                    <a:pt x="1357644" y="38280"/>
                  </a:lnTo>
                  <a:lnTo>
                    <a:pt x="1406545" y="48004"/>
                  </a:lnTo>
                  <a:lnTo>
                    <a:pt x="1447024" y="64378"/>
                  </a:lnTo>
                  <a:lnTo>
                    <a:pt x="1448927" y="115033"/>
                  </a:lnTo>
                  <a:lnTo>
                    <a:pt x="1488783" y="73085"/>
                  </a:lnTo>
                  <a:lnTo>
                    <a:pt x="1517591" y="82514"/>
                  </a:lnTo>
                  <a:lnTo>
                    <a:pt x="1518488" y="81540"/>
                  </a:lnTo>
                  <a:lnTo>
                    <a:pt x="1566066" y="96278"/>
                  </a:lnTo>
                  <a:lnTo>
                    <a:pt x="1597663" y="113089"/>
                  </a:lnTo>
                  <a:lnTo>
                    <a:pt x="1624102" y="102450"/>
                  </a:lnTo>
                  <a:lnTo>
                    <a:pt x="1669554" y="143862"/>
                  </a:lnTo>
                  <a:lnTo>
                    <a:pt x="1667344" y="82452"/>
                  </a:lnTo>
                  <a:lnTo>
                    <a:pt x="1694614" y="68927"/>
                  </a:lnTo>
                  <a:lnTo>
                    <a:pt x="1752485" y="53388"/>
                  </a:lnTo>
                  <a:lnTo>
                    <a:pt x="1771803" y="75875"/>
                  </a:lnTo>
                  <a:lnTo>
                    <a:pt x="1781953" y="72978"/>
                  </a:lnTo>
                  <a:lnTo>
                    <a:pt x="1814360" y="109485"/>
                  </a:lnTo>
                  <a:lnTo>
                    <a:pt x="1824094" y="75967"/>
                  </a:lnTo>
                  <a:lnTo>
                    <a:pt x="1825025" y="63062"/>
                  </a:lnTo>
                  <a:lnTo>
                    <a:pt x="1828183" y="61887"/>
                  </a:lnTo>
                  <a:lnTo>
                    <a:pt x="1831194" y="51518"/>
                  </a:lnTo>
                  <a:lnTo>
                    <a:pt x="1837529" y="58414"/>
                  </a:lnTo>
                  <a:lnTo>
                    <a:pt x="1853600" y="52440"/>
                  </a:lnTo>
                  <a:lnTo>
                    <a:pt x="1912821" y="42987"/>
                  </a:lnTo>
                  <a:lnTo>
                    <a:pt x="1915073" y="46257"/>
                  </a:lnTo>
                  <a:lnTo>
                    <a:pt x="1922464" y="16029"/>
                  </a:lnTo>
                  <a:lnTo>
                    <a:pt x="1969436" y="7229"/>
                  </a:lnTo>
                  <a:lnTo>
                    <a:pt x="2014776" y="7560"/>
                  </a:lnTo>
                  <a:lnTo>
                    <a:pt x="2038430" y="58205"/>
                  </a:lnTo>
                  <a:lnTo>
                    <a:pt x="2059356" y="3246"/>
                  </a:lnTo>
                  <a:lnTo>
                    <a:pt x="2107072" y="121"/>
                  </a:lnTo>
                  <a:lnTo>
                    <a:pt x="2152034" y="5866"/>
                  </a:lnTo>
                  <a:lnTo>
                    <a:pt x="2155410" y="16296"/>
                  </a:lnTo>
                  <a:lnTo>
                    <a:pt x="2180665" y="19116"/>
                  </a:lnTo>
                  <a:lnTo>
                    <a:pt x="2199014" y="72768"/>
                  </a:lnTo>
                  <a:lnTo>
                    <a:pt x="2223377" y="24937"/>
                  </a:lnTo>
                  <a:lnTo>
                    <a:pt x="2271164" y="26775"/>
                  </a:lnTo>
                  <a:lnTo>
                    <a:pt x="2315254" y="37150"/>
                  </a:lnTo>
                  <a:lnTo>
                    <a:pt x="2317000" y="45534"/>
                  </a:lnTo>
                  <a:lnTo>
                    <a:pt x="2322282" y="38401"/>
                  </a:lnTo>
                  <a:lnTo>
                    <a:pt x="2371183" y="48125"/>
                  </a:lnTo>
                  <a:lnTo>
                    <a:pt x="2411662" y="64499"/>
                  </a:lnTo>
                  <a:lnTo>
                    <a:pt x="2413565" y="115154"/>
                  </a:lnTo>
                  <a:lnTo>
                    <a:pt x="2453420" y="73206"/>
                  </a:lnTo>
                  <a:lnTo>
                    <a:pt x="2482228" y="82635"/>
                  </a:lnTo>
                  <a:lnTo>
                    <a:pt x="2483125" y="81661"/>
                  </a:lnTo>
                  <a:lnTo>
                    <a:pt x="2530704" y="96399"/>
                  </a:lnTo>
                  <a:lnTo>
                    <a:pt x="2569192" y="116877"/>
                  </a:lnTo>
                  <a:lnTo>
                    <a:pt x="2565344" y="171401"/>
                  </a:lnTo>
                  <a:lnTo>
                    <a:pt x="2579648" y="159227"/>
                  </a:lnTo>
                  <a:lnTo>
                    <a:pt x="2579648" y="2536424"/>
                  </a:lnTo>
                  <a:lnTo>
                    <a:pt x="680955" y="2536424"/>
                  </a:lnTo>
                  <a:lnTo>
                    <a:pt x="688742" y="2521681"/>
                  </a:lnTo>
                  <a:lnTo>
                    <a:pt x="655213" y="2536424"/>
                  </a:lnTo>
                  <a:lnTo>
                    <a:pt x="603152" y="2536424"/>
                  </a:lnTo>
                  <a:lnTo>
                    <a:pt x="573112" y="2497616"/>
                  </a:lnTo>
                  <a:lnTo>
                    <a:pt x="613846" y="2421707"/>
                  </a:lnTo>
                  <a:lnTo>
                    <a:pt x="532813" y="2446240"/>
                  </a:lnTo>
                  <a:lnTo>
                    <a:pt x="519038" y="2430946"/>
                  </a:lnTo>
                  <a:lnTo>
                    <a:pt x="492835" y="2386806"/>
                  </a:lnTo>
                  <a:lnTo>
                    <a:pt x="542685" y="2316336"/>
                  </a:lnTo>
                  <a:lnTo>
                    <a:pt x="542067" y="2314878"/>
                  </a:lnTo>
                  <a:lnTo>
                    <a:pt x="469160" y="2313928"/>
                  </a:lnTo>
                  <a:lnTo>
                    <a:pt x="506080" y="2257840"/>
                  </a:lnTo>
                  <a:lnTo>
                    <a:pt x="503830" y="2257917"/>
                  </a:lnTo>
                  <a:lnTo>
                    <a:pt x="496744" y="2244014"/>
                  </a:lnTo>
                  <a:lnTo>
                    <a:pt x="487849" y="2212742"/>
                  </a:lnTo>
                  <a:lnTo>
                    <a:pt x="399301" y="2215245"/>
                  </a:lnTo>
                  <a:lnTo>
                    <a:pt x="392311" y="2201295"/>
                  </a:lnTo>
                  <a:lnTo>
                    <a:pt x="375642" y="2141207"/>
                  </a:lnTo>
                  <a:lnTo>
                    <a:pt x="434691" y="2093054"/>
                  </a:lnTo>
                  <a:lnTo>
                    <a:pt x="355381" y="2085778"/>
                  </a:lnTo>
                  <a:lnTo>
                    <a:pt x="350175" y="2071096"/>
                  </a:lnTo>
                  <a:lnTo>
                    <a:pt x="341091" y="2009464"/>
                  </a:lnTo>
                  <a:lnTo>
                    <a:pt x="414764" y="1962994"/>
                  </a:lnTo>
                  <a:lnTo>
                    <a:pt x="351885" y="1936484"/>
                  </a:lnTo>
                  <a:lnTo>
                    <a:pt x="402134" y="1902416"/>
                  </a:lnTo>
                  <a:lnTo>
                    <a:pt x="386893" y="1889342"/>
                  </a:lnTo>
                  <a:lnTo>
                    <a:pt x="355137" y="1848861"/>
                  </a:lnTo>
                  <a:lnTo>
                    <a:pt x="360896" y="1837958"/>
                  </a:lnTo>
                  <a:lnTo>
                    <a:pt x="354669" y="1835632"/>
                  </a:lnTo>
                  <a:lnTo>
                    <a:pt x="295810" y="1861513"/>
                  </a:lnTo>
                  <a:lnTo>
                    <a:pt x="280240" y="1847979"/>
                  </a:lnTo>
                  <a:lnTo>
                    <a:pt x="248749" y="1807297"/>
                  </a:lnTo>
                  <a:lnTo>
                    <a:pt x="289484" y="1731389"/>
                  </a:lnTo>
                  <a:lnTo>
                    <a:pt x="208450" y="1755921"/>
                  </a:lnTo>
                  <a:lnTo>
                    <a:pt x="194676" y="1740627"/>
                  </a:lnTo>
                  <a:lnTo>
                    <a:pt x="168473" y="1696488"/>
                  </a:lnTo>
                  <a:lnTo>
                    <a:pt x="218323" y="1626018"/>
                  </a:lnTo>
                  <a:lnTo>
                    <a:pt x="217705" y="1624560"/>
                  </a:lnTo>
                  <a:lnTo>
                    <a:pt x="144798" y="1623610"/>
                  </a:lnTo>
                  <a:lnTo>
                    <a:pt x="181718" y="1567522"/>
                  </a:lnTo>
                  <a:lnTo>
                    <a:pt x="179467" y="1567599"/>
                  </a:lnTo>
                  <a:lnTo>
                    <a:pt x="172382" y="1553696"/>
                  </a:lnTo>
                  <a:lnTo>
                    <a:pt x="163487" y="1522425"/>
                  </a:lnTo>
                  <a:lnTo>
                    <a:pt x="74939" y="1524927"/>
                  </a:lnTo>
                  <a:lnTo>
                    <a:pt x="67949" y="1510977"/>
                  </a:lnTo>
                  <a:lnTo>
                    <a:pt x="51279" y="1450889"/>
                  </a:lnTo>
                  <a:lnTo>
                    <a:pt x="110329" y="1402735"/>
                  </a:lnTo>
                  <a:lnTo>
                    <a:pt x="31019" y="1395459"/>
                  </a:lnTo>
                  <a:lnTo>
                    <a:pt x="25813" y="1380778"/>
                  </a:lnTo>
                  <a:lnTo>
                    <a:pt x="16729" y="1319146"/>
                  </a:lnTo>
                  <a:lnTo>
                    <a:pt x="90402" y="1272676"/>
                  </a:lnTo>
                  <a:lnTo>
                    <a:pt x="27522" y="1246165"/>
                  </a:lnTo>
                  <a:lnTo>
                    <a:pt x="115062" y="1186817"/>
                  </a:lnTo>
                  <a:lnTo>
                    <a:pt x="115068" y="1181956"/>
                  </a:lnTo>
                  <a:lnTo>
                    <a:pt x="102987" y="1177531"/>
                  </a:lnTo>
                  <a:lnTo>
                    <a:pt x="102562" y="1172304"/>
                  </a:lnTo>
                  <a:lnTo>
                    <a:pt x="1036" y="1134380"/>
                  </a:lnTo>
                  <a:lnTo>
                    <a:pt x="0" y="1120496"/>
                  </a:lnTo>
                  <a:lnTo>
                    <a:pt x="8729" y="1051355"/>
                  </a:lnTo>
                  <a:lnTo>
                    <a:pt x="70777" y="1032467"/>
                  </a:lnTo>
                  <a:lnTo>
                    <a:pt x="6164" y="998992"/>
                  </a:lnTo>
                  <a:lnTo>
                    <a:pt x="6858" y="985087"/>
                  </a:lnTo>
                  <a:lnTo>
                    <a:pt x="24108" y="917503"/>
                  </a:lnTo>
                  <a:lnTo>
                    <a:pt x="114206" y="901527"/>
                  </a:lnTo>
                  <a:lnTo>
                    <a:pt x="87394" y="874524"/>
                  </a:lnTo>
                  <a:lnTo>
                    <a:pt x="82443" y="870677"/>
                  </a:lnTo>
                  <a:lnTo>
                    <a:pt x="83284" y="870384"/>
                  </a:lnTo>
                  <a:lnTo>
                    <a:pt x="66462" y="853440"/>
                  </a:lnTo>
                  <a:lnTo>
                    <a:pt x="155765" y="834576"/>
                  </a:lnTo>
                  <a:lnTo>
                    <a:pt x="161395" y="820943"/>
                  </a:lnTo>
                  <a:lnTo>
                    <a:pt x="83608" y="748925"/>
                  </a:lnTo>
                  <a:lnTo>
                    <a:pt x="93326" y="720511"/>
                  </a:lnTo>
                  <a:lnTo>
                    <a:pt x="109574" y="692981"/>
                  </a:lnTo>
                  <a:lnTo>
                    <a:pt x="115920" y="677891"/>
                  </a:lnTo>
                  <a:lnTo>
                    <a:pt x="118533" y="677797"/>
                  </a:lnTo>
                  <a:lnTo>
                    <a:pt x="123382" y="669581"/>
                  </a:lnTo>
                  <a:lnTo>
                    <a:pt x="176653" y="674389"/>
                  </a:lnTo>
                  <a:lnTo>
                    <a:pt x="135984" y="626270"/>
                  </a:lnTo>
                  <a:lnTo>
                    <a:pt x="149159" y="599228"/>
                  </a:lnTo>
                  <a:lnTo>
                    <a:pt x="168704" y="573842"/>
                  </a:lnTo>
                  <a:lnTo>
                    <a:pt x="176877" y="559622"/>
                  </a:lnTo>
                  <a:lnTo>
                    <a:pt x="179483" y="559842"/>
                  </a:lnTo>
                  <a:lnTo>
                    <a:pt x="185314" y="552266"/>
                  </a:lnTo>
                  <a:lnTo>
                    <a:pt x="247755" y="565566"/>
                  </a:lnTo>
                  <a:lnTo>
                    <a:pt x="259108" y="566517"/>
                  </a:lnTo>
                  <a:lnTo>
                    <a:pt x="242635" y="547902"/>
                  </a:lnTo>
                  <a:lnTo>
                    <a:pt x="246350" y="539914"/>
                  </a:lnTo>
                  <a:lnTo>
                    <a:pt x="224568" y="501538"/>
                  </a:lnTo>
                  <a:lnTo>
                    <a:pt x="270908" y="503903"/>
                  </a:lnTo>
                  <a:lnTo>
                    <a:pt x="286064" y="483049"/>
                  </a:lnTo>
                  <a:lnTo>
                    <a:pt x="332393" y="491842"/>
                  </a:lnTo>
                  <a:lnTo>
                    <a:pt x="273192" y="397150"/>
                  </a:lnTo>
                  <a:lnTo>
                    <a:pt x="281015" y="385533"/>
                  </a:lnTo>
                  <a:lnTo>
                    <a:pt x="330972" y="336005"/>
                  </a:lnTo>
                  <a:lnTo>
                    <a:pt x="395670" y="359591"/>
                  </a:lnTo>
                  <a:lnTo>
                    <a:pt x="367839" y="299756"/>
                  </a:lnTo>
                  <a:lnTo>
                    <a:pt x="377047" y="289160"/>
                  </a:lnTo>
                  <a:lnTo>
                    <a:pt x="432784" y="245968"/>
                  </a:lnTo>
                  <a:lnTo>
                    <a:pt x="508233" y="284303"/>
                  </a:lnTo>
                  <a:lnTo>
                    <a:pt x="499918" y="213847"/>
                  </a:lnTo>
                  <a:lnTo>
                    <a:pt x="527432" y="226705"/>
                  </a:lnTo>
                  <a:lnTo>
                    <a:pt x="574341" y="197680"/>
                  </a:lnTo>
                  <a:lnTo>
                    <a:pt x="589243" y="207337"/>
                  </a:lnTo>
                  <a:lnTo>
                    <a:pt x="578565" y="141347"/>
                  </a:lnTo>
                  <a:lnTo>
                    <a:pt x="603955" y="124666"/>
                  </a:lnTo>
                  <a:lnTo>
                    <a:pt x="659464" y="102329"/>
                  </a:lnTo>
                  <a:lnTo>
                    <a:pt x="704915" y="143740"/>
                  </a:lnTo>
                  <a:lnTo>
                    <a:pt x="702706" y="82331"/>
                  </a:lnTo>
                  <a:lnTo>
                    <a:pt x="729976" y="68806"/>
                  </a:lnTo>
                  <a:lnTo>
                    <a:pt x="787848" y="53267"/>
                  </a:lnTo>
                  <a:lnTo>
                    <a:pt x="807165" y="75754"/>
                  </a:lnTo>
                  <a:lnTo>
                    <a:pt x="817316" y="72857"/>
                  </a:lnTo>
                  <a:lnTo>
                    <a:pt x="849722" y="109364"/>
                  </a:lnTo>
                  <a:lnTo>
                    <a:pt x="859457" y="75846"/>
                  </a:lnTo>
                  <a:lnTo>
                    <a:pt x="860387" y="62941"/>
                  </a:lnTo>
                  <a:lnTo>
                    <a:pt x="863545" y="61766"/>
                  </a:lnTo>
                  <a:lnTo>
                    <a:pt x="866556" y="51397"/>
                  </a:lnTo>
                  <a:lnTo>
                    <a:pt x="872892" y="58293"/>
                  </a:lnTo>
                  <a:lnTo>
                    <a:pt x="888962" y="52319"/>
                  </a:lnTo>
                  <a:lnTo>
                    <a:pt x="948182" y="42866"/>
                  </a:lnTo>
                  <a:lnTo>
                    <a:pt x="950436" y="46136"/>
                  </a:lnTo>
                  <a:lnTo>
                    <a:pt x="957826" y="15907"/>
                  </a:lnTo>
                  <a:lnTo>
                    <a:pt x="1004799" y="7107"/>
                  </a:lnTo>
                  <a:lnTo>
                    <a:pt x="1050139" y="7439"/>
                  </a:lnTo>
                  <a:lnTo>
                    <a:pt x="1073792" y="58084"/>
                  </a:lnTo>
                  <a:lnTo>
                    <a:pt x="1094718" y="3125"/>
                  </a:lnTo>
                  <a:lnTo>
                    <a:pt x="1142435" y="0"/>
                  </a:lnTo>
                  <a:close/>
                </a:path>
              </a:pathLst>
            </a:custGeom>
            <a:solidFill>
              <a:srgbClr val="e4cdbf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35"/>
            <p:cNvSpPr/>
            <p:nvPr/>
          </p:nvSpPr>
          <p:spPr>
            <a:xfrm rot="18896400">
              <a:off x="8454960" y="4667400"/>
              <a:ext cx="1997280" cy="2629080"/>
            </a:xfrm>
            <a:custGeom>
              <a:avLst/>
              <a:gdLst/>
              <a:ahLst/>
              <a:rect l="l" t="t" r="r" b="b"/>
              <a:pathLst>
                <a:path w="1996769" h="2628382">
                  <a:moveTo>
                    <a:pt x="1276142" y="162148"/>
                  </a:moveTo>
                  <a:lnTo>
                    <a:pt x="1286753" y="174400"/>
                  </a:lnTo>
                  <a:lnTo>
                    <a:pt x="1285442" y="180320"/>
                  </a:lnTo>
                  <a:lnTo>
                    <a:pt x="1288531" y="176078"/>
                  </a:lnTo>
                  <a:lnTo>
                    <a:pt x="1300685" y="188451"/>
                  </a:lnTo>
                  <a:lnTo>
                    <a:pt x="1308941" y="204367"/>
                  </a:lnTo>
                  <a:lnTo>
                    <a:pt x="1298508" y="239123"/>
                  </a:lnTo>
                  <a:lnTo>
                    <a:pt x="1319233" y="215207"/>
                  </a:lnTo>
                  <a:lnTo>
                    <a:pt x="1325590" y="225019"/>
                  </a:lnTo>
                  <a:lnTo>
                    <a:pt x="1326062" y="224460"/>
                  </a:lnTo>
                  <a:lnTo>
                    <a:pt x="1336743" y="240095"/>
                  </a:lnTo>
                  <a:lnTo>
                    <a:pt x="1343528" y="258576"/>
                  </a:lnTo>
                  <a:lnTo>
                    <a:pt x="1330577" y="295292"/>
                  </a:lnTo>
                  <a:lnTo>
                    <a:pt x="1350750" y="275694"/>
                  </a:lnTo>
                  <a:lnTo>
                    <a:pt x="1359585" y="294872"/>
                  </a:lnTo>
                  <a:lnTo>
                    <a:pt x="1364579" y="316050"/>
                  </a:lnTo>
                  <a:lnTo>
                    <a:pt x="1356960" y="334328"/>
                  </a:lnTo>
                  <a:lnTo>
                    <a:pt x="1358151" y="333504"/>
                  </a:lnTo>
                  <a:lnTo>
                    <a:pt x="1364482" y="356920"/>
                  </a:lnTo>
                  <a:lnTo>
                    <a:pt x="1366104" y="372470"/>
                  </a:lnTo>
                  <a:lnTo>
                    <a:pt x="1368358" y="371484"/>
                  </a:lnTo>
                  <a:lnTo>
                    <a:pt x="1366492" y="376166"/>
                  </a:lnTo>
                  <a:lnTo>
                    <a:pt x="1366873" y="379833"/>
                  </a:lnTo>
                  <a:lnTo>
                    <a:pt x="1363003" y="387362"/>
                  </a:lnTo>
                  <a:lnTo>
                    <a:pt x="1369110" y="391952"/>
                  </a:lnTo>
                  <a:lnTo>
                    <a:pt x="1368372" y="394805"/>
                  </a:lnTo>
                  <a:lnTo>
                    <a:pt x="1386462" y="381131"/>
                  </a:lnTo>
                  <a:lnTo>
                    <a:pt x="1409617" y="397311"/>
                  </a:lnTo>
                  <a:lnTo>
                    <a:pt x="1427547" y="417892"/>
                  </a:lnTo>
                  <a:lnTo>
                    <a:pt x="1411621" y="457010"/>
                  </a:lnTo>
                  <a:lnTo>
                    <a:pt x="1447500" y="435519"/>
                  </a:lnTo>
                  <a:lnTo>
                    <a:pt x="1468110" y="455226"/>
                  </a:lnTo>
                  <a:lnTo>
                    <a:pt x="1483178" y="478680"/>
                  </a:lnTo>
                  <a:lnTo>
                    <a:pt x="1479302" y="486062"/>
                  </a:lnTo>
                  <a:lnTo>
                    <a:pt x="1487969" y="499010"/>
                  </a:lnTo>
                  <a:lnTo>
                    <a:pt x="1468419" y="537433"/>
                  </a:lnTo>
                  <a:lnTo>
                    <a:pt x="1502100" y="521497"/>
                  </a:lnTo>
                  <a:lnTo>
                    <a:pt x="1520252" y="544025"/>
                  </a:lnTo>
                  <a:lnTo>
                    <a:pt x="1532653" y="569691"/>
                  </a:lnTo>
                  <a:lnTo>
                    <a:pt x="1529151" y="575191"/>
                  </a:lnTo>
                  <a:lnTo>
                    <a:pt x="1534831" y="573556"/>
                  </a:lnTo>
                  <a:lnTo>
                    <a:pt x="1549479" y="601021"/>
                  </a:lnTo>
                  <a:lnTo>
                    <a:pt x="1557434" y="628437"/>
                  </a:lnTo>
                  <a:lnTo>
                    <a:pt x="1532820" y="657777"/>
                  </a:lnTo>
                  <a:lnTo>
                    <a:pt x="1569739" y="652116"/>
                  </a:lnTo>
                  <a:lnTo>
                    <a:pt x="1576514" y="670377"/>
                  </a:lnTo>
                  <a:lnTo>
                    <a:pt x="1577360" y="670232"/>
                  </a:lnTo>
                  <a:lnTo>
                    <a:pt x="1588968" y="699922"/>
                  </a:lnTo>
                  <a:lnTo>
                    <a:pt x="1593158" y="723588"/>
                  </a:lnTo>
                  <a:lnTo>
                    <a:pt x="1609039" y="729497"/>
                  </a:lnTo>
                  <a:lnTo>
                    <a:pt x="1606438" y="773230"/>
                  </a:lnTo>
                  <a:lnTo>
                    <a:pt x="1636314" y="737704"/>
                  </a:lnTo>
                  <a:lnTo>
                    <a:pt x="1653971" y="742364"/>
                  </a:lnTo>
                  <a:lnTo>
                    <a:pt x="1684852" y="759658"/>
                  </a:lnTo>
                  <a:lnTo>
                    <a:pt x="1681300" y="780992"/>
                  </a:lnTo>
                  <a:lnTo>
                    <a:pt x="1686803" y="783928"/>
                  </a:lnTo>
                  <a:lnTo>
                    <a:pt x="1681450" y="819034"/>
                  </a:lnTo>
                  <a:lnTo>
                    <a:pt x="1702124" y="804565"/>
                  </a:lnTo>
                  <a:lnTo>
                    <a:pt x="1708959" y="797727"/>
                  </a:lnTo>
                  <a:lnTo>
                    <a:pt x="1710809" y="798487"/>
                  </a:lnTo>
                  <a:lnTo>
                    <a:pt x="1717204" y="794011"/>
                  </a:lnTo>
                  <a:lnTo>
                    <a:pt x="1716278" y="800739"/>
                  </a:lnTo>
                  <a:lnTo>
                    <a:pt x="1725685" y="804608"/>
                  </a:lnTo>
                  <a:lnTo>
                    <a:pt x="1754055" y="825930"/>
                  </a:lnTo>
                  <a:lnTo>
                    <a:pt x="1753317" y="828782"/>
                  </a:lnTo>
                  <a:lnTo>
                    <a:pt x="1771406" y="815109"/>
                  </a:lnTo>
                  <a:lnTo>
                    <a:pt x="1794562" y="831291"/>
                  </a:lnTo>
                  <a:lnTo>
                    <a:pt x="1812492" y="851871"/>
                  </a:lnTo>
                  <a:lnTo>
                    <a:pt x="1796566" y="890988"/>
                  </a:lnTo>
                  <a:lnTo>
                    <a:pt x="1832445" y="869497"/>
                  </a:lnTo>
                  <a:lnTo>
                    <a:pt x="1853055" y="889203"/>
                  </a:lnTo>
                  <a:lnTo>
                    <a:pt x="1868122" y="912659"/>
                  </a:lnTo>
                  <a:lnTo>
                    <a:pt x="1864246" y="920042"/>
                  </a:lnTo>
                  <a:lnTo>
                    <a:pt x="1872914" y="932989"/>
                  </a:lnTo>
                  <a:lnTo>
                    <a:pt x="1853364" y="971411"/>
                  </a:lnTo>
                  <a:lnTo>
                    <a:pt x="1887044" y="955475"/>
                  </a:lnTo>
                  <a:lnTo>
                    <a:pt x="1905197" y="978003"/>
                  </a:lnTo>
                  <a:lnTo>
                    <a:pt x="1917598" y="1003669"/>
                  </a:lnTo>
                  <a:lnTo>
                    <a:pt x="1914095" y="1009168"/>
                  </a:lnTo>
                  <a:lnTo>
                    <a:pt x="1919776" y="1007534"/>
                  </a:lnTo>
                  <a:lnTo>
                    <a:pt x="1934424" y="1034998"/>
                  </a:lnTo>
                  <a:lnTo>
                    <a:pt x="1942378" y="1062414"/>
                  </a:lnTo>
                  <a:lnTo>
                    <a:pt x="1917766" y="1091755"/>
                  </a:lnTo>
                  <a:lnTo>
                    <a:pt x="1954684" y="1086094"/>
                  </a:lnTo>
                  <a:lnTo>
                    <a:pt x="1961459" y="1104355"/>
                  </a:lnTo>
                  <a:lnTo>
                    <a:pt x="1962305" y="1104210"/>
                  </a:lnTo>
                  <a:lnTo>
                    <a:pt x="1973912" y="1133899"/>
                  </a:lnTo>
                  <a:lnTo>
                    <a:pt x="1979016" y="1162727"/>
                  </a:lnTo>
                  <a:lnTo>
                    <a:pt x="1950172" y="1191658"/>
                  </a:lnTo>
                  <a:lnTo>
                    <a:pt x="1985129" y="1190436"/>
                  </a:lnTo>
                  <a:lnTo>
                    <a:pt x="1993074" y="1222278"/>
                  </a:lnTo>
                  <a:cubicBezTo>
                    <a:pt x="1993657" y="1232296"/>
                    <a:pt x="1994239" y="1242315"/>
                    <a:pt x="1994822" y="1252333"/>
                  </a:cubicBezTo>
                  <a:lnTo>
                    <a:pt x="1978733" y="1265477"/>
                  </a:lnTo>
                  <a:lnTo>
                    <a:pt x="1980709" y="1265793"/>
                  </a:lnTo>
                  <a:lnTo>
                    <a:pt x="1983837" y="1299892"/>
                  </a:lnTo>
                  <a:lnTo>
                    <a:pt x="1982102" y="1319764"/>
                  </a:lnTo>
                  <a:lnTo>
                    <a:pt x="1985689" y="1321033"/>
                  </a:lnTo>
                  <a:lnTo>
                    <a:pt x="1981692" y="1324490"/>
                  </a:lnTo>
                  <a:cubicBezTo>
                    <a:pt x="1981556" y="1326052"/>
                    <a:pt x="1981419" y="1327613"/>
                    <a:pt x="1981283" y="1329175"/>
                  </a:cubicBezTo>
                  <a:lnTo>
                    <a:pt x="1964890" y="1339023"/>
                  </a:lnTo>
                  <a:lnTo>
                    <a:pt x="1957802" y="1345155"/>
                  </a:lnTo>
                  <a:cubicBezTo>
                    <a:pt x="1957925" y="1346408"/>
                    <a:pt x="1958047" y="1347661"/>
                    <a:pt x="1958170" y="1348914"/>
                  </a:cubicBezTo>
                  <a:lnTo>
                    <a:pt x="1985060" y="1357468"/>
                  </a:lnTo>
                  <a:cubicBezTo>
                    <a:pt x="1984967" y="1361819"/>
                    <a:pt x="1984875" y="1366171"/>
                    <a:pt x="1984782" y="1370522"/>
                  </a:cubicBezTo>
                  <a:lnTo>
                    <a:pt x="1996769" y="1374072"/>
                  </a:lnTo>
                  <a:cubicBezTo>
                    <a:pt x="1996691" y="1385750"/>
                    <a:pt x="1996614" y="1397428"/>
                    <a:pt x="1996536" y="1409106"/>
                  </a:cubicBezTo>
                  <a:lnTo>
                    <a:pt x="1991241" y="1438556"/>
                  </a:lnTo>
                  <a:lnTo>
                    <a:pt x="1961262" y="1452795"/>
                  </a:lnTo>
                  <a:lnTo>
                    <a:pt x="1963291" y="1453378"/>
                  </a:lnTo>
                  <a:cubicBezTo>
                    <a:pt x="1963290" y="1454906"/>
                    <a:pt x="1963290" y="1456433"/>
                    <a:pt x="1963289" y="1457961"/>
                  </a:cubicBezTo>
                  <a:lnTo>
                    <a:pt x="1988619" y="1469918"/>
                  </a:lnTo>
                  <a:lnTo>
                    <a:pt x="1984518" y="1505544"/>
                  </a:lnTo>
                  <a:lnTo>
                    <a:pt x="1976139" y="1534778"/>
                  </a:lnTo>
                  <a:lnTo>
                    <a:pt x="1945796" y="1544997"/>
                  </a:lnTo>
                  <a:lnTo>
                    <a:pt x="1939847" y="1584584"/>
                  </a:lnTo>
                  <a:lnTo>
                    <a:pt x="1937054" y="1593141"/>
                  </a:lnTo>
                  <a:lnTo>
                    <a:pt x="1939283" y="1594922"/>
                  </a:lnTo>
                  <a:lnTo>
                    <a:pt x="1935896" y="1596689"/>
                  </a:lnTo>
                  <a:lnTo>
                    <a:pt x="1934646" y="1600516"/>
                  </a:lnTo>
                  <a:lnTo>
                    <a:pt x="1940762" y="1607254"/>
                  </a:lnTo>
                  <a:lnTo>
                    <a:pt x="1924353" y="1613389"/>
                  </a:lnTo>
                  <a:lnTo>
                    <a:pt x="1923868" y="1614482"/>
                  </a:lnTo>
                  <a:lnTo>
                    <a:pt x="1919708" y="1615128"/>
                  </a:lnTo>
                  <a:lnTo>
                    <a:pt x="1906280" y="1620149"/>
                  </a:lnTo>
                  <a:lnTo>
                    <a:pt x="1921711" y="1631672"/>
                  </a:lnTo>
                  <a:lnTo>
                    <a:pt x="1920472" y="1636497"/>
                  </a:lnTo>
                  <a:lnTo>
                    <a:pt x="1937247" y="1648498"/>
                  </a:lnTo>
                  <a:lnTo>
                    <a:pt x="1926429" y="1693100"/>
                  </a:lnTo>
                  <a:lnTo>
                    <a:pt x="1919246" y="1710056"/>
                  </a:lnTo>
                  <a:lnTo>
                    <a:pt x="1913791" y="1711038"/>
                  </a:lnTo>
                  <a:lnTo>
                    <a:pt x="1908017" y="1721545"/>
                  </a:lnTo>
                  <a:lnTo>
                    <a:pt x="1881859" y="1722504"/>
                  </a:lnTo>
                  <a:lnTo>
                    <a:pt x="1900688" y="1740902"/>
                  </a:lnTo>
                  <a:lnTo>
                    <a:pt x="1885287" y="1784784"/>
                  </a:lnTo>
                  <a:lnTo>
                    <a:pt x="1876465" y="1801038"/>
                  </a:lnTo>
                  <a:lnTo>
                    <a:pt x="1871080" y="1801274"/>
                  </a:lnTo>
                  <a:lnTo>
                    <a:pt x="1864333" y="1811161"/>
                  </a:lnTo>
                  <a:lnTo>
                    <a:pt x="1833204" y="1807875"/>
                  </a:lnTo>
                  <a:lnTo>
                    <a:pt x="1844513" y="1824487"/>
                  </a:lnTo>
                  <a:lnTo>
                    <a:pt x="1825278" y="1861838"/>
                  </a:lnTo>
                  <a:lnTo>
                    <a:pt x="1830480" y="1873225"/>
                  </a:lnTo>
                  <a:lnTo>
                    <a:pt x="1818417" y="1874207"/>
                  </a:lnTo>
                  <a:lnTo>
                    <a:pt x="1815730" y="1877889"/>
                  </a:lnTo>
                  <a:lnTo>
                    <a:pt x="1800741" y="1875647"/>
                  </a:lnTo>
                  <a:lnTo>
                    <a:pt x="1785718" y="1876872"/>
                  </a:lnTo>
                  <a:lnTo>
                    <a:pt x="1810684" y="1925342"/>
                  </a:lnTo>
                  <a:lnTo>
                    <a:pt x="1782364" y="1970599"/>
                  </a:lnTo>
                  <a:lnTo>
                    <a:pt x="1777564" y="1976120"/>
                  </a:lnTo>
                  <a:lnTo>
                    <a:pt x="1747212" y="1967460"/>
                  </a:lnTo>
                  <a:lnTo>
                    <a:pt x="1743522" y="1973257"/>
                  </a:lnTo>
                  <a:lnTo>
                    <a:pt x="1738415" y="1979042"/>
                  </a:lnTo>
                  <a:lnTo>
                    <a:pt x="1715236" y="2047071"/>
                  </a:lnTo>
                  <a:lnTo>
                    <a:pt x="1709985" y="2052020"/>
                  </a:lnTo>
                  <a:lnTo>
                    <a:pt x="1681580" y="2038961"/>
                  </a:lnTo>
                  <a:lnTo>
                    <a:pt x="1677369" y="2044345"/>
                  </a:lnTo>
                  <a:lnTo>
                    <a:pt x="1666043" y="2054846"/>
                  </a:lnTo>
                  <a:lnTo>
                    <a:pt x="1663145" y="2053412"/>
                  </a:lnTo>
                  <a:lnTo>
                    <a:pt x="1655219" y="2053702"/>
                  </a:lnTo>
                  <a:lnTo>
                    <a:pt x="1657609" y="2067388"/>
                  </a:lnTo>
                  <a:lnTo>
                    <a:pt x="1655562" y="2069433"/>
                  </a:lnTo>
                  <a:lnTo>
                    <a:pt x="1643461" y="2116539"/>
                  </a:lnTo>
                  <a:lnTo>
                    <a:pt x="1634639" y="2132793"/>
                  </a:lnTo>
                  <a:lnTo>
                    <a:pt x="1629253" y="2133029"/>
                  </a:lnTo>
                  <a:lnTo>
                    <a:pt x="1622506" y="2142917"/>
                  </a:lnTo>
                  <a:lnTo>
                    <a:pt x="1605001" y="2141067"/>
                  </a:lnTo>
                  <a:cubicBezTo>
                    <a:pt x="1605201" y="2143883"/>
                    <a:pt x="1605402" y="2146699"/>
                    <a:pt x="1605602" y="2149515"/>
                  </a:cubicBezTo>
                  <a:lnTo>
                    <a:pt x="1600828" y="2153509"/>
                  </a:lnTo>
                  <a:lnTo>
                    <a:pt x="1602687" y="2156241"/>
                  </a:lnTo>
                  <a:lnTo>
                    <a:pt x="1583452" y="2193593"/>
                  </a:lnTo>
                  <a:lnTo>
                    <a:pt x="1588654" y="2204980"/>
                  </a:lnTo>
                  <a:lnTo>
                    <a:pt x="1576592" y="2205963"/>
                  </a:lnTo>
                  <a:lnTo>
                    <a:pt x="1573904" y="2209644"/>
                  </a:lnTo>
                  <a:lnTo>
                    <a:pt x="1558914" y="2207402"/>
                  </a:lnTo>
                  <a:lnTo>
                    <a:pt x="1568858" y="2257096"/>
                  </a:lnTo>
                  <a:lnTo>
                    <a:pt x="1540538" y="2302354"/>
                  </a:lnTo>
                  <a:lnTo>
                    <a:pt x="1535739" y="2307875"/>
                  </a:lnTo>
                  <a:lnTo>
                    <a:pt x="1505386" y="2299216"/>
                  </a:lnTo>
                  <a:lnTo>
                    <a:pt x="1501695" y="2305012"/>
                  </a:lnTo>
                  <a:lnTo>
                    <a:pt x="1496589" y="2310797"/>
                  </a:lnTo>
                  <a:lnTo>
                    <a:pt x="1473410" y="2378827"/>
                  </a:lnTo>
                  <a:lnTo>
                    <a:pt x="1468159" y="2383775"/>
                  </a:lnTo>
                  <a:lnTo>
                    <a:pt x="1439754" y="2370717"/>
                  </a:lnTo>
                  <a:lnTo>
                    <a:pt x="1435543" y="2376100"/>
                  </a:lnTo>
                  <a:lnTo>
                    <a:pt x="1424216" y="2386601"/>
                  </a:lnTo>
                  <a:lnTo>
                    <a:pt x="1412588" y="2380846"/>
                  </a:lnTo>
                  <a:lnTo>
                    <a:pt x="1415784" y="2399143"/>
                  </a:lnTo>
                  <a:lnTo>
                    <a:pt x="1400032" y="2436351"/>
                  </a:lnTo>
                  <a:lnTo>
                    <a:pt x="1329770" y="2509721"/>
                  </a:lnTo>
                  <a:lnTo>
                    <a:pt x="1321499" y="2514562"/>
                  </a:lnTo>
                  <a:lnTo>
                    <a:pt x="1304235" y="2497758"/>
                  </a:lnTo>
                  <a:lnTo>
                    <a:pt x="1246593" y="2560407"/>
                  </a:lnTo>
                  <a:lnTo>
                    <a:pt x="1238056" y="2564178"/>
                  </a:lnTo>
                  <a:lnTo>
                    <a:pt x="1187847" y="2565019"/>
                  </a:lnTo>
                  <a:lnTo>
                    <a:pt x="1173918" y="2545635"/>
                  </a:lnTo>
                  <a:lnTo>
                    <a:pt x="1170999" y="2561380"/>
                  </a:lnTo>
                  <a:lnTo>
                    <a:pt x="1167376" y="2563128"/>
                  </a:lnTo>
                  <a:lnTo>
                    <a:pt x="1160303" y="2585570"/>
                  </a:lnTo>
                  <a:lnTo>
                    <a:pt x="1149067" y="2571963"/>
                  </a:lnTo>
                  <a:lnTo>
                    <a:pt x="1141539" y="2575597"/>
                  </a:lnTo>
                  <a:lnTo>
                    <a:pt x="1128129" y="2579113"/>
                  </a:lnTo>
                  <a:lnTo>
                    <a:pt x="1123259" y="2569266"/>
                  </a:lnTo>
                  <a:lnTo>
                    <a:pt x="1110150" y="2616440"/>
                  </a:lnTo>
                  <a:lnTo>
                    <a:pt x="1080133" y="2627314"/>
                  </a:lnTo>
                  <a:lnTo>
                    <a:pt x="1072781" y="2628382"/>
                  </a:lnTo>
                  <a:lnTo>
                    <a:pt x="1062901" y="2618483"/>
                  </a:lnTo>
                  <a:lnTo>
                    <a:pt x="1056720" y="2601198"/>
                  </a:lnTo>
                  <a:lnTo>
                    <a:pt x="1054792" y="2601442"/>
                  </a:lnTo>
                  <a:lnTo>
                    <a:pt x="1052746" y="2608308"/>
                  </a:lnTo>
                  <a:lnTo>
                    <a:pt x="31385" y="1584979"/>
                  </a:lnTo>
                  <a:lnTo>
                    <a:pt x="44183" y="1579234"/>
                  </a:lnTo>
                  <a:lnTo>
                    <a:pt x="6622" y="1560168"/>
                  </a:lnTo>
                  <a:lnTo>
                    <a:pt x="0" y="1553533"/>
                  </a:lnTo>
                  <a:lnTo>
                    <a:pt x="1716" y="1541784"/>
                  </a:lnTo>
                  <a:lnTo>
                    <a:pt x="13367" y="1505176"/>
                  </a:lnTo>
                  <a:lnTo>
                    <a:pt x="68559" y="1487974"/>
                  </a:lnTo>
                  <a:lnTo>
                    <a:pt x="69041" y="1486875"/>
                  </a:lnTo>
                  <a:lnTo>
                    <a:pt x="40420" y="1453547"/>
                  </a:lnTo>
                  <a:lnTo>
                    <a:pt x="73233" y="1442106"/>
                  </a:lnTo>
                  <a:lnTo>
                    <a:pt x="77014" y="1428682"/>
                  </a:lnTo>
                  <a:lnTo>
                    <a:pt x="76318" y="1428738"/>
                  </a:lnTo>
                  <a:lnTo>
                    <a:pt x="74122" y="1418671"/>
                  </a:lnTo>
                  <a:lnTo>
                    <a:pt x="71366" y="1396030"/>
                  </a:lnTo>
                  <a:lnTo>
                    <a:pt x="43932" y="1397841"/>
                  </a:lnTo>
                  <a:lnTo>
                    <a:pt x="41766" y="1387740"/>
                  </a:lnTo>
                  <a:lnTo>
                    <a:pt x="36602" y="1344234"/>
                  </a:lnTo>
                  <a:lnTo>
                    <a:pt x="54897" y="1309368"/>
                  </a:lnTo>
                  <a:lnTo>
                    <a:pt x="30325" y="1304100"/>
                  </a:lnTo>
                  <a:lnTo>
                    <a:pt x="28712" y="1293470"/>
                  </a:lnTo>
                  <a:lnTo>
                    <a:pt x="25897" y="1248846"/>
                  </a:lnTo>
                  <a:lnTo>
                    <a:pt x="48723" y="1215200"/>
                  </a:lnTo>
                  <a:lnTo>
                    <a:pt x="29242" y="1196004"/>
                  </a:lnTo>
                  <a:lnTo>
                    <a:pt x="56363" y="1153032"/>
                  </a:lnTo>
                  <a:cubicBezTo>
                    <a:pt x="56364" y="1151859"/>
                    <a:pt x="56364" y="1150686"/>
                    <a:pt x="56365" y="1149513"/>
                  </a:cubicBezTo>
                  <a:lnTo>
                    <a:pt x="52622" y="1146309"/>
                  </a:lnTo>
                  <a:cubicBezTo>
                    <a:pt x="52578" y="1145048"/>
                    <a:pt x="52535" y="1143786"/>
                    <a:pt x="52491" y="1142525"/>
                  </a:cubicBezTo>
                  <a:lnTo>
                    <a:pt x="21037" y="1115067"/>
                  </a:lnTo>
                  <a:cubicBezTo>
                    <a:pt x="20930" y="1111716"/>
                    <a:pt x="20822" y="1108364"/>
                    <a:pt x="20715" y="1105013"/>
                  </a:cubicBezTo>
                  <a:lnTo>
                    <a:pt x="23420" y="1054952"/>
                  </a:lnTo>
                  <a:lnTo>
                    <a:pt x="42643" y="1041276"/>
                  </a:lnTo>
                  <a:lnTo>
                    <a:pt x="22625" y="1017039"/>
                  </a:lnTo>
                  <a:cubicBezTo>
                    <a:pt x="22696" y="1013683"/>
                    <a:pt x="22768" y="1010327"/>
                    <a:pt x="22839" y="1006971"/>
                  </a:cubicBezTo>
                  <a:lnTo>
                    <a:pt x="28184" y="958036"/>
                  </a:lnTo>
                  <a:lnTo>
                    <a:pt x="56098" y="946469"/>
                  </a:lnTo>
                  <a:lnTo>
                    <a:pt x="47791" y="926917"/>
                  </a:lnTo>
                  <a:lnTo>
                    <a:pt x="46257" y="924132"/>
                  </a:lnTo>
                  <a:lnTo>
                    <a:pt x="46517" y="923920"/>
                  </a:lnTo>
                  <a:lnTo>
                    <a:pt x="41306" y="911652"/>
                  </a:lnTo>
                  <a:lnTo>
                    <a:pt x="68973" y="897993"/>
                  </a:lnTo>
                  <a:lnTo>
                    <a:pt x="70718" y="888123"/>
                  </a:lnTo>
                  <a:lnTo>
                    <a:pt x="46618" y="835978"/>
                  </a:lnTo>
                  <a:lnTo>
                    <a:pt x="49629" y="815404"/>
                  </a:lnTo>
                  <a:lnTo>
                    <a:pt x="54663" y="795471"/>
                  </a:lnTo>
                  <a:lnTo>
                    <a:pt x="56629" y="784546"/>
                  </a:lnTo>
                  <a:lnTo>
                    <a:pt x="57439" y="784478"/>
                  </a:lnTo>
                  <a:lnTo>
                    <a:pt x="58941" y="778529"/>
                  </a:lnTo>
                  <a:lnTo>
                    <a:pt x="75445" y="782010"/>
                  </a:lnTo>
                  <a:lnTo>
                    <a:pt x="62844" y="747169"/>
                  </a:lnTo>
                  <a:lnTo>
                    <a:pt x="66927" y="727589"/>
                  </a:lnTo>
                  <a:lnTo>
                    <a:pt x="72982" y="709210"/>
                  </a:lnTo>
                  <a:lnTo>
                    <a:pt x="75514" y="698913"/>
                  </a:lnTo>
                  <a:lnTo>
                    <a:pt x="76323" y="699071"/>
                  </a:lnTo>
                  <a:lnTo>
                    <a:pt x="78129" y="693586"/>
                  </a:lnTo>
                  <a:lnTo>
                    <a:pt x="97474" y="703217"/>
                  </a:lnTo>
                  <a:lnTo>
                    <a:pt x="100991" y="703905"/>
                  </a:lnTo>
                  <a:lnTo>
                    <a:pt x="95888" y="690427"/>
                  </a:lnTo>
                  <a:lnTo>
                    <a:pt x="97039" y="684643"/>
                  </a:lnTo>
                  <a:lnTo>
                    <a:pt x="90290" y="656857"/>
                  </a:lnTo>
                  <a:lnTo>
                    <a:pt x="104647" y="658569"/>
                  </a:lnTo>
                  <a:lnTo>
                    <a:pt x="109343" y="643470"/>
                  </a:lnTo>
                  <a:lnTo>
                    <a:pt x="123696" y="649837"/>
                  </a:lnTo>
                  <a:lnTo>
                    <a:pt x="105355" y="581276"/>
                  </a:lnTo>
                  <a:lnTo>
                    <a:pt x="107779" y="572864"/>
                  </a:lnTo>
                  <a:lnTo>
                    <a:pt x="123256" y="537003"/>
                  </a:lnTo>
                  <a:lnTo>
                    <a:pt x="143301" y="554080"/>
                  </a:lnTo>
                  <a:lnTo>
                    <a:pt x="134678" y="510757"/>
                  </a:lnTo>
                  <a:lnTo>
                    <a:pt x="137531" y="503086"/>
                  </a:lnTo>
                  <a:lnTo>
                    <a:pt x="154800" y="471811"/>
                  </a:lnTo>
                  <a:lnTo>
                    <a:pt x="178175" y="499567"/>
                  </a:lnTo>
                  <a:lnTo>
                    <a:pt x="175599" y="448555"/>
                  </a:lnTo>
                  <a:lnTo>
                    <a:pt x="184123" y="457865"/>
                  </a:lnTo>
                  <a:lnTo>
                    <a:pt x="198656" y="436849"/>
                  </a:lnTo>
                  <a:lnTo>
                    <a:pt x="203273" y="443842"/>
                  </a:lnTo>
                  <a:lnTo>
                    <a:pt x="199966" y="396061"/>
                  </a:lnTo>
                  <a:lnTo>
                    <a:pt x="207831" y="383983"/>
                  </a:lnTo>
                  <a:lnTo>
                    <a:pt x="225029" y="367811"/>
                  </a:lnTo>
                  <a:lnTo>
                    <a:pt x="239111" y="397794"/>
                  </a:lnTo>
                  <a:cubicBezTo>
                    <a:pt x="238883" y="382973"/>
                    <a:pt x="238654" y="368151"/>
                    <a:pt x="238426" y="353330"/>
                  </a:cubicBezTo>
                  <a:lnTo>
                    <a:pt x="246875" y="343538"/>
                  </a:lnTo>
                  <a:lnTo>
                    <a:pt x="264805" y="332287"/>
                  </a:lnTo>
                  <a:lnTo>
                    <a:pt x="270790" y="348569"/>
                  </a:lnTo>
                  <a:lnTo>
                    <a:pt x="273934" y="346470"/>
                  </a:lnTo>
                  <a:lnTo>
                    <a:pt x="283975" y="372904"/>
                  </a:lnTo>
                  <a:lnTo>
                    <a:pt x="286991" y="348635"/>
                  </a:lnTo>
                  <a:cubicBezTo>
                    <a:pt x="287087" y="345520"/>
                    <a:pt x="287182" y="342406"/>
                    <a:pt x="287278" y="339291"/>
                  </a:cubicBezTo>
                  <a:lnTo>
                    <a:pt x="288257" y="338441"/>
                  </a:lnTo>
                  <a:lnTo>
                    <a:pt x="289190" y="330933"/>
                  </a:lnTo>
                  <a:lnTo>
                    <a:pt x="291153" y="335926"/>
                  </a:lnTo>
                  <a:lnTo>
                    <a:pt x="296131" y="331601"/>
                  </a:lnTo>
                  <a:lnTo>
                    <a:pt x="314479" y="324756"/>
                  </a:lnTo>
                  <a:lnTo>
                    <a:pt x="315178" y="327124"/>
                  </a:lnTo>
                  <a:lnTo>
                    <a:pt x="317466" y="305237"/>
                  </a:lnTo>
                  <a:lnTo>
                    <a:pt x="332021" y="298865"/>
                  </a:lnTo>
                  <a:lnTo>
                    <a:pt x="346068" y="299105"/>
                  </a:lnTo>
                  <a:lnTo>
                    <a:pt x="353396" y="335774"/>
                  </a:lnTo>
                  <a:lnTo>
                    <a:pt x="359879" y="295982"/>
                  </a:lnTo>
                  <a:lnTo>
                    <a:pt x="374663" y="293720"/>
                  </a:lnTo>
                  <a:lnTo>
                    <a:pt x="388592" y="297879"/>
                  </a:lnTo>
                  <a:lnTo>
                    <a:pt x="389639" y="305430"/>
                  </a:lnTo>
                  <a:lnTo>
                    <a:pt x="397462" y="307472"/>
                  </a:lnTo>
                  <a:lnTo>
                    <a:pt x="403148" y="346319"/>
                  </a:lnTo>
                  <a:lnTo>
                    <a:pt x="410696" y="311687"/>
                  </a:lnTo>
                  <a:lnTo>
                    <a:pt x="425501" y="313018"/>
                  </a:lnTo>
                  <a:lnTo>
                    <a:pt x="439161" y="320529"/>
                  </a:lnTo>
                  <a:cubicBezTo>
                    <a:pt x="439341" y="322553"/>
                    <a:pt x="439522" y="324576"/>
                    <a:pt x="439702" y="326600"/>
                  </a:cubicBezTo>
                  <a:lnTo>
                    <a:pt x="441338" y="321436"/>
                  </a:lnTo>
                  <a:lnTo>
                    <a:pt x="456489" y="328477"/>
                  </a:lnTo>
                  <a:lnTo>
                    <a:pt x="469030" y="340332"/>
                  </a:lnTo>
                  <a:cubicBezTo>
                    <a:pt x="469226" y="352558"/>
                    <a:pt x="469423" y="364784"/>
                    <a:pt x="469619" y="377010"/>
                  </a:cubicBezTo>
                  <a:lnTo>
                    <a:pt x="481967" y="346636"/>
                  </a:lnTo>
                  <a:lnTo>
                    <a:pt x="490893" y="353464"/>
                  </a:lnTo>
                  <a:cubicBezTo>
                    <a:pt x="490986" y="353229"/>
                    <a:pt x="491078" y="352993"/>
                    <a:pt x="491171" y="352758"/>
                  </a:cubicBezTo>
                  <a:lnTo>
                    <a:pt x="502047" y="360632"/>
                  </a:lnTo>
                  <a:lnTo>
                    <a:pt x="506221" y="352861"/>
                  </a:lnTo>
                  <a:lnTo>
                    <a:pt x="507004" y="353104"/>
                  </a:lnTo>
                  <a:lnTo>
                    <a:pt x="510200" y="348072"/>
                  </a:lnTo>
                  <a:lnTo>
                    <a:pt x="524695" y="357606"/>
                  </a:lnTo>
                  <a:cubicBezTo>
                    <a:pt x="524221" y="345080"/>
                    <a:pt x="523746" y="332554"/>
                    <a:pt x="523272" y="320028"/>
                  </a:cubicBezTo>
                  <a:lnTo>
                    <a:pt x="532982" y="303141"/>
                  </a:lnTo>
                  <a:lnTo>
                    <a:pt x="544190" y="288133"/>
                  </a:lnTo>
                  <a:lnTo>
                    <a:pt x="549659" y="279398"/>
                  </a:lnTo>
                  <a:lnTo>
                    <a:pt x="550372" y="279854"/>
                  </a:lnTo>
                  <a:lnTo>
                    <a:pt x="553716" y="275375"/>
                  </a:lnTo>
                  <a:lnTo>
                    <a:pt x="569044" y="291775"/>
                  </a:lnTo>
                  <a:lnTo>
                    <a:pt x="572149" y="293757"/>
                  </a:lnTo>
                  <a:cubicBezTo>
                    <a:pt x="571894" y="288882"/>
                    <a:pt x="571638" y="284007"/>
                    <a:pt x="571383" y="279132"/>
                  </a:cubicBezTo>
                  <a:lnTo>
                    <a:pt x="574199" y="274123"/>
                  </a:lnTo>
                  <a:lnTo>
                    <a:pt x="576171" y="245405"/>
                  </a:lnTo>
                  <a:lnTo>
                    <a:pt x="589175" y="252460"/>
                  </a:lnTo>
                  <a:lnTo>
                    <a:pt x="598120" y="240024"/>
                  </a:lnTo>
                  <a:lnTo>
                    <a:pt x="609726" y="251460"/>
                  </a:lnTo>
                  <a:lnTo>
                    <a:pt x="613000" y="179955"/>
                  </a:lnTo>
                  <a:lnTo>
                    <a:pt x="617802" y="172956"/>
                  </a:lnTo>
                  <a:lnTo>
                    <a:pt x="643119" y="145060"/>
                  </a:lnTo>
                  <a:lnTo>
                    <a:pt x="656875" y="168737"/>
                  </a:lnTo>
                  <a:lnTo>
                    <a:pt x="661737" y="124680"/>
                  </a:lnTo>
                  <a:lnTo>
                    <a:pt x="666721" y="118539"/>
                  </a:lnTo>
                  <a:lnTo>
                    <a:pt x="692350" y="95641"/>
                  </a:lnTo>
                  <a:lnTo>
                    <a:pt x="706040" y="130636"/>
                  </a:lnTo>
                  <a:lnTo>
                    <a:pt x="718900" y="81630"/>
                  </a:lnTo>
                  <a:lnTo>
                    <a:pt x="724136" y="93627"/>
                  </a:lnTo>
                  <a:lnTo>
                    <a:pt x="744116" y="79351"/>
                  </a:lnTo>
                  <a:lnTo>
                    <a:pt x="746368" y="87684"/>
                  </a:lnTo>
                  <a:lnTo>
                    <a:pt x="757570" y="41447"/>
                  </a:lnTo>
                  <a:lnTo>
                    <a:pt x="768594" y="33056"/>
                  </a:lnTo>
                  <a:lnTo>
                    <a:pt x="789631" y="24351"/>
                  </a:lnTo>
                  <a:lnTo>
                    <a:pt x="793905" y="57917"/>
                  </a:lnTo>
                  <a:lnTo>
                    <a:pt x="806583" y="15796"/>
                  </a:lnTo>
                  <a:lnTo>
                    <a:pt x="817472" y="9779"/>
                  </a:lnTo>
                  <a:lnTo>
                    <a:pt x="837722" y="5984"/>
                  </a:lnTo>
                  <a:cubicBezTo>
                    <a:pt x="837974" y="11850"/>
                    <a:pt x="838227" y="17716"/>
                    <a:pt x="838479" y="23582"/>
                  </a:cubicBezTo>
                  <a:lnTo>
                    <a:pt x="842069" y="22800"/>
                  </a:lnTo>
                  <a:lnTo>
                    <a:pt x="843602" y="51492"/>
                  </a:lnTo>
                  <a:lnTo>
                    <a:pt x="853713" y="29787"/>
                  </a:lnTo>
                  <a:lnTo>
                    <a:pt x="856784" y="21100"/>
                  </a:lnTo>
                  <a:lnTo>
                    <a:pt x="857960" y="20669"/>
                  </a:lnTo>
                  <a:lnTo>
                    <a:pt x="861088" y="13953"/>
                  </a:lnTo>
                  <a:lnTo>
                    <a:pt x="861439" y="19400"/>
                  </a:lnTo>
                  <a:lnTo>
                    <a:pt x="867423" y="17214"/>
                  </a:lnTo>
                  <a:lnTo>
                    <a:pt x="886748" y="17726"/>
                  </a:lnTo>
                  <a:cubicBezTo>
                    <a:pt x="886731" y="18557"/>
                    <a:pt x="886713" y="19389"/>
                    <a:pt x="886696" y="20220"/>
                  </a:cubicBezTo>
                  <a:lnTo>
                    <a:pt x="895409" y="481"/>
                  </a:lnTo>
                  <a:lnTo>
                    <a:pt x="911020" y="0"/>
                  </a:lnTo>
                  <a:lnTo>
                    <a:pt x="924174" y="5551"/>
                  </a:lnTo>
                  <a:lnTo>
                    <a:pt x="920087" y="42854"/>
                  </a:lnTo>
                  <a:lnTo>
                    <a:pt x="938113" y="7847"/>
                  </a:lnTo>
                  <a:lnTo>
                    <a:pt x="952710" y="11321"/>
                  </a:lnTo>
                  <a:lnTo>
                    <a:pt x="964579" y="20518"/>
                  </a:lnTo>
                  <a:lnTo>
                    <a:pt x="963300" y="28024"/>
                  </a:lnTo>
                  <a:lnTo>
                    <a:pt x="970056" y="32914"/>
                  </a:lnTo>
                  <a:lnTo>
                    <a:pt x="963767" y="71642"/>
                  </a:lnTo>
                  <a:lnTo>
                    <a:pt x="981251" y="41899"/>
                  </a:lnTo>
                  <a:lnTo>
                    <a:pt x="994791" y="48764"/>
                  </a:lnTo>
                  <a:lnTo>
                    <a:pt x="1005401" y="61016"/>
                  </a:lnTo>
                  <a:lnTo>
                    <a:pt x="1004091" y="66935"/>
                  </a:lnTo>
                  <a:lnTo>
                    <a:pt x="1007179" y="62693"/>
                  </a:lnTo>
                  <a:lnTo>
                    <a:pt x="1019334" y="75065"/>
                  </a:lnTo>
                  <a:lnTo>
                    <a:pt x="1027589" y="90982"/>
                  </a:lnTo>
                  <a:lnTo>
                    <a:pt x="1017156" y="125737"/>
                  </a:lnTo>
                  <a:lnTo>
                    <a:pt x="1037881" y="101823"/>
                  </a:lnTo>
                  <a:lnTo>
                    <a:pt x="1044239" y="111634"/>
                  </a:lnTo>
                  <a:lnTo>
                    <a:pt x="1044711" y="111075"/>
                  </a:lnTo>
                  <a:lnTo>
                    <a:pt x="1055392" y="126710"/>
                  </a:lnTo>
                  <a:lnTo>
                    <a:pt x="1060962" y="141881"/>
                  </a:lnTo>
                  <a:lnTo>
                    <a:pt x="1070982" y="137735"/>
                  </a:lnTo>
                  <a:lnTo>
                    <a:pt x="1075256" y="171303"/>
                  </a:lnTo>
                  <a:lnTo>
                    <a:pt x="1087934" y="129181"/>
                  </a:lnTo>
                  <a:lnTo>
                    <a:pt x="1098822" y="123164"/>
                  </a:lnTo>
                  <a:lnTo>
                    <a:pt x="1119074" y="119369"/>
                  </a:lnTo>
                  <a:cubicBezTo>
                    <a:pt x="1119327" y="125235"/>
                    <a:pt x="1119579" y="131101"/>
                    <a:pt x="1119832" y="136967"/>
                  </a:cubicBezTo>
                  <a:lnTo>
                    <a:pt x="1123420" y="136184"/>
                  </a:lnTo>
                  <a:lnTo>
                    <a:pt x="1124953" y="164877"/>
                  </a:lnTo>
                  <a:lnTo>
                    <a:pt x="1135063" y="143171"/>
                  </a:lnTo>
                  <a:lnTo>
                    <a:pt x="1138135" y="134483"/>
                  </a:lnTo>
                  <a:lnTo>
                    <a:pt x="1139311" y="134054"/>
                  </a:lnTo>
                  <a:lnTo>
                    <a:pt x="1142439" y="127339"/>
                  </a:lnTo>
                  <a:cubicBezTo>
                    <a:pt x="1142556" y="129154"/>
                    <a:pt x="1142674" y="130969"/>
                    <a:pt x="1142791" y="132784"/>
                  </a:cubicBezTo>
                  <a:lnTo>
                    <a:pt x="1148775" y="130599"/>
                  </a:lnTo>
                  <a:lnTo>
                    <a:pt x="1168100" y="131111"/>
                  </a:lnTo>
                  <a:cubicBezTo>
                    <a:pt x="1168082" y="131942"/>
                    <a:pt x="1168065" y="132774"/>
                    <a:pt x="1168047" y="133605"/>
                  </a:cubicBezTo>
                  <a:lnTo>
                    <a:pt x="1176761" y="113867"/>
                  </a:lnTo>
                  <a:lnTo>
                    <a:pt x="1192371" y="113384"/>
                  </a:lnTo>
                  <a:lnTo>
                    <a:pt x="1205525" y="118936"/>
                  </a:lnTo>
                  <a:lnTo>
                    <a:pt x="1201437" y="156238"/>
                  </a:lnTo>
                  <a:lnTo>
                    <a:pt x="1219464" y="121231"/>
                  </a:lnTo>
                  <a:lnTo>
                    <a:pt x="1234060" y="124705"/>
                  </a:lnTo>
                  <a:lnTo>
                    <a:pt x="1245928" y="133903"/>
                  </a:lnTo>
                  <a:lnTo>
                    <a:pt x="1244651" y="141410"/>
                  </a:lnTo>
                  <a:lnTo>
                    <a:pt x="1251406" y="146298"/>
                  </a:lnTo>
                  <a:lnTo>
                    <a:pt x="1245119" y="185027"/>
                  </a:lnTo>
                  <a:lnTo>
                    <a:pt x="1262603" y="155283"/>
                  </a:lnTo>
                  <a:lnTo>
                    <a:pt x="1276142" y="162148"/>
                  </a:lnTo>
                  <a:close/>
                </a:path>
              </a:pathLst>
            </a:custGeom>
            <a:solidFill>
              <a:srgbClr val="dfa4a6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图片 96" descr=""/>
          <p:cNvPicPr/>
          <p:nvPr/>
        </p:nvPicPr>
        <p:blipFill>
          <a:blip r:embed="rId1"/>
          <a:srcRect l="5752" t="7505" r="602" b="7642"/>
          <a:stretch/>
        </p:blipFill>
        <p:spPr>
          <a:xfrm>
            <a:off x="9139320" y="1806480"/>
            <a:ext cx="2697120" cy="387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98" descr=""/>
          <p:cNvPicPr/>
          <p:nvPr/>
        </p:nvPicPr>
        <p:blipFill>
          <a:blip r:embed="rId2"/>
          <a:srcRect l="25553" t="12284" r="0" b="0"/>
          <a:stretch/>
        </p:blipFill>
        <p:spPr>
          <a:xfrm>
            <a:off x="115920" y="2255760"/>
            <a:ext cx="1060560" cy="208296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97"/>
          <p:cNvSpPr/>
          <p:nvPr/>
        </p:nvSpPr>
        <p:spPr>
          <a:xfrm>
            <a:off x="668160" y="5468760"/>
            <a:ext cx="21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52b2e"/>
                </a:solidFill>
                <a:latin typeface="微软雅黑"/>
                <a:ea typeface="微软雅黑"/>
              </a:rPr>
              <a:t>HAPPY NEW YEAR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00"/>
          <p:cNvSpPr/>
          <p:nvPr/>
        </p:nvSpPr>
        <p:spPr>
          <a:xfrm>
            <a:off x="585720" y="5730840"/>
            <a:ext cx="758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楷体"/>
                <a:ea typeface="楷体"/>
              </a:rPr>
              <a:t>新一年的第一天或若干天，为世界多数国家通行的节日。世界各国，特别是古代都有不同的日期，现代世界多数国家为公元制纪年的</a:t>
            </a:r>
            <a:r>
              <a:rPr b="0" lang="en-US" sz="1200" spc="-1" strike="noStrike">
                <a:solidFill>
                  <a:srgbClr val="0d0d0d"/>
                </a:solidFill>
                <a:latin typeface="楷体"/>
                <a:ea typeface="楷体"/>
              </a:rPr>
              <a:t>1</a:t>
            </a:r>
            <a:r>
              <a:rPr b="0" lang="zh-CN" sz="1200" spc="-1" strike="noStrike">
                <a:solidFill>
                  <a:srgbClr val="0d0d0d"/>
                </a:solidFill>
                <a:latin typeface="楷体"/>
                <a:ea typeface="楷体"/>
              </a:rPr>
              <a:t>月</a:t>
            </a:r>
            <a:r>
              <a:rPr b="0" lang="en-US" sz="1200" spc="-1" strike="noStrike">
                <a:solidFill>
                  <a:srgbClr val="0d0d0d"/>
                </a:solidFill>
                <a:latin typeface="楷体"/>
                <a:ea typeface="楷体"/>
              </a:rPr>
              <a:t>1</a:t>
            </a:r>
            <a:r>
              <a:rPr b="0" lang="zh-CN" sz="1200" spc="-1" strike="noStrike">
                <a:solidFill>
                  <a:srgbClr val="0d0d0d"/>
                </a:solidFill>
                <a:latin typeface="楷体"/>
                <a:ea typeface="楷体"/>
              </a:rPr>
              <a:t>日。在中国古代，也称元旦，现代将“元旦”称为公历新年，将“春节”称为农历新年。当日，人们会以各种不同的方式庆祝新年的到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01"/>
          <p:cNvSpPr/>
          <p:nvPr/>
        </p:nvSpPr>
        <p:spPr>
          <a:xfrm>
            <a:off x="2198520" y="2668680"/>
            <a:ext cx="605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2b2e"/>
                </a:solidFill>
                <a:latin typeface="微软雅黑"/>
                <a:ea typeface="微软雅黑"/>
              </a:rPr>
              <a:t>2015</a:t>
            </a:r>
            <a:r>
              <a:rPr b="1" lang="zh-CN" sz="4800" spc="-1" strike="noStrike">
                <a:solidFill>
                  <a:srgbClr val="952b2e"/>
                </a:solidFill>
                <a:latin typeface="微软雅黑"/>
                <a:ea typeface="微软雅黑"/>
              </a:rPr>
              <a:t>恭贺新年</a:t>
            </a:r>
            <a:r>
              <a:rPr b="1" lang="en-US" sz="4800" spc="-1" strike="noStrike">
                <a:solidFill>
                  <a:srgbClr val="952b2e"/>
                </a:solidFill>
                <a:latin typeface="微软雅黑"/>
                <a:ea typeface="微软雅黑"/>
              </a:rPr>
              <a:t>PPT</a:t>
            </a:r>
            <a:r>
              <a:rPr b="1" lang="zh-CN" sz="4800" spc="-1" strike="noStrike">
                <a:solidFill>
                  <a:srgbClr val="952b2e"/>
                </a:solidFill>
                <a:latin typeface="微软雅黑"/>
                <a:ea typeface="微软雅黑"/>
              </a:rPr>
              <a:t>通用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02"/>
          <p:cNvSpPr/>
          <p:nvPr/>
        </p:nvSpPr>
        <p:spPr>
          <a:xfrm>
            <a:off x="4392000" y="36133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此输入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99"/>
          <p:cNvSpPr/>
          <p:nvPr/>
        </p:nvSpPr>
        <p:spPr>
          <a:xfrm>
            <a:off x="9518760" y="714240"/>
            <a:ext cx="2033640" cy="641520"/>
          </a:xfrm>
          <a:prstGeom prst="roundRect">
            <a:avLst>
              <a:gd name="adj" fmla="val 10958"/>
            </a:avLst>
          </a:prstGeom>
          <a:noFill/>
          <a:ln w="9360">
            <a:solidFill>
              <a:srgbClr val="952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2b2e"/>
                </a:solidFill>
                <a:latin typeface="Calibri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3"/>
          <p:cNvGrpSpPr/>
          <p:nvPr/>
        </p:nvGrpSpPr>
        <p:grpSpPr>
          <a:xfrm>
            <a:off x="-360" y="201600"/>
            <a:ext cx="2198520" cy="1854360"/>
            <a:chOff x="-360" y="201600"/>
            <a:chExt cx="2198520" cy="1854360"/>
          </a:xfrm>
        </p:grpSpPr>
        <p:pic>
          <p:nvPicPr>
            <p:cNvPr id="61" name="Picture 2" descr="http://pic13.nipic.com/20110412/7145303_162030214000_2.jpg"/>
            <p:cNvPicPr/>
            <p:nvPr/>
          </p:nvPicPr>
          <p:blipFill>
            <a:blip r:embed="rId3"/>
            <a:srcRect l="0" t="0" r="6454" b="6107"/>
            <a:stretch/>
          </p:blipFill>
          <p:spPr>
            <a:xfrm flipH="1">
              <a:off x="-360" y="201600"/>
              <a:ext cx="2198520" cy="152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图片 106" descr=""/>
            <p:cNvPicPr/>
            <p:nvPr/>
          </p:nvPicPr>
          <p:blipFill>
            <a:blip r:embed="rId4"/>
            <a:stretch/>
          </p:blipFill>
          <p:spPr>
            <a:xfrm>
              <a:off x="261360" y="1049040"/>
              <a:ext cx="484200" cy="100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4" descr=""/>
          <p:cNvPicPr/>
          <p:nvPr/>
        </p:nvPicPr>
        <p:blipFill>
          <a:blip r:embed="rId1"/>
          <a:stretch/>
        </p:blipFill>
        <p:spPr>
          <a:xfrm>
            <a:off x="0" y="-3240"/>
            <a:ext cx="12192120" cy="68644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96" descr=""/>
          <p:cNvPicPr/>
          <p:nvPr/>
        </p:nvPicPr>
        <p:blipFill>
          <a:blip r:embed="rId2"/>
          <a:srcRect l="602" t="7506" r="5753" b="7635"/>
          <a:stretch/>
        </p:blipFill>
        <p:spPr>
          <a:xfrm>
            <a:off x="463680" y="3575160"/>
            <a:ext cx="2122200" cy="30495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98" descr=""/>
          <p:cNvPicPr/>
          <p:nvPr/>
        </p:nvPicPr>
        <p:blipFill>
          <a:blip r:embed="rId3"/>
          <a:srcRect l="25553" t="12284" r="0" b="0"/>
          <a:stretch/>
        </p:blipFill>
        <p:spPr>
          <a:xfrm>
            <a:off x="10902960" y="1830240"/>
            <a:ext cx="1058760" cy="208296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101"/>
          <p:cNvSpPr/>
          <p:nvPr/>
        </p:nvSpPr>
        <p:spPr>
          <a:xfrm>
            <a:off x="2221200" y="619200"/>
            <a:ext cx="10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d0d0d"/>
                </a:solidFill>
                <a:latin typeface="微软雅黑"/>
                <a:ea typeface="微软雅黑"/>
              </a:rPr>
              <a:t>目 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pic13.nipic.com/20110412/7145303_162030214000_2.jpg"/>
          <p:cNvPicPr/>
          <p:nvPr/>
        </p:nvPicPr>
        <p:blipFill>
          <a:blip r:embed="rId4"/>
          <a:srcRect l="6454" t="0" r="0" b="6107"/>
          <a:stretch/>
        </p:blipFill>
        <p:spPr>
          <a:xfrm>
            <a:off x="0" y="201600"/>
            <a:ext cx="2198520" cy="152100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99"/>
          <p:cNvSpPr/>
          <p:nvPr/>
        </p:nvSpPr>
        <p:spPr>
          <a:xfrm>
            <a:off x="9518760" y="714240"/>
            <a:ext cx="2033640" cy="641520"/>
          </a:xfrm>
          <a:prstGeom prst="roundRect">
            <a:avLst>
              <a:gd name="adj" fmla="val 10958"/>
            </a:avLst>
          </a:prstGeom>
          <a:noFill/>
          <a:ln w="9360">
            <a:solidFill>
              <a:srgbClr val="952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2b2e"/>
                </a:solidFill>
                <a:latin typeface="Calibri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106" descr=""/>
          <p:cNvPicPr/>
          <p:nvPr/>
        </p:nvPicPr>
        <p:blipFill>
          <a:blip r:embed="rId5"/>
          <a:stretch/>
        </p:blipFill>
        <p:spPr>
          <a:xfrm>
            <a:off x="262080" y="1049400"/>
            <a:ext cx="484200" cy="1006560"/>
          </a:xfrm>
          <a:prstGeom prst="rect">
            <a:avLst/>
          </a:prstGeom>
          <a:ln w="0">
            <a:noFill/>
          </a:ln>
        </p:spPr>
      </p:pic>
      <p:sp>
        <p:nvSpPr>
          <p:cNvPr id="70" name="任意多边形 23"/>
          <p:cNvSpPr/>
          <p:nvPr/>
        </p:nvSpPr>
        <p:spPr>
          <a:xfrm>
            <a:off x="3511440" y="1968480"/>
            <a:ext cx="5915160" cy="746280"/>
          </a:xfrm>
          <a:prstGeom prst="pie">
            <a:avLst/>
          </a:prstGeom>
          <a:solidFill>
            <a:srgbClr val="e4d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在此输入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24"/>
          <p:cNvSpPr/>
          <p:nvPr/>
        </p:nvSpPr>
        <p:spPr>
          <a:xfrm>
            <a:off x="3511440" y="2928960"/>
            <a:ext cx="5915160" cy="746280"/>
          </a:xfrm>
          <a:prstGeom prst="pie">
            <a:avLst/>
          </a:prstGeom>
          <a:solidFill>
            <a:srgbClr val="add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在此输入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25"/>
          <p:cNvSpPr/>
          <p:nvPr/>
        </p:nvSpPr>
        <p:spPr>
          <a:xfrm>
            <a:off x="3511440" y="3890880"/>
            <a:ext cx="5915160" cy="746280"/>
          </a:xfrm>
          <a:prstGeom prst="pie">
            <a:avLst/>
          </a:prstGeom>
          <a:solidFill>
            <a:srgbClr val="e1b1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在此输入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26"/>
          <p:cNvSpPr/>
          <p:nvPr/>
        </p:nvSpPr>
        <p:spPr>
          <a:xfrm>
            <a:off x="3511440" y="4851360"/>
            <a:ext cx="5915160" cy="746280"/>
          </a:xfrm>
          <a:prstGeom prst="pie">
            <a:avLst/>
          </a:prstGeom>
          <a:solidFill>
            <a:srgbClr val="c9b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在此输入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4" descr=""/>
          <p:cNvPicPr/>
          <p:nvPr/>
        </p:nvPicPr>
        <p:blipFill>
          <a:blip r:embed="rId1"/>
          <a:stretch/>
        </p:blipFill>
        <p:spPr>
          <a:xfrm>
            <a:off x="0" y="-3240"/>
            <a:ext cx="12192120" cy="68644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96" descr=""/>
          <p:cNvPicPr/>
          <p:nvPr/>
        </p:nvPicPr>
        <p:blipFill>
          <a:blip r:embed="rId2"/>
          <a:srcRect l="5752" t="7505" r="602" b="7642"/>
          <a:stretch/>
        </p:blipFill>
        <p:spPr>
          <a:xfrm>
            <a:off x="4933800" y="1355760"/>
            <a:ext cx="2122560" cy="30495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98" descr=""/>
          <p:cNvPicPr/>
          <p:nvPr/>
        </p:nvPicPr>
        <p:blipFill>
          <a:blip r:embed="rId3"/>
          <a:srcRect l="25553" t="12284" r="0" b="0"/>
          <a:stretch/>
        </p:blipFill>
        <p:spPr>
          <a:xfrm>
            <a:off x="10902960" y="1830240"/>
            <a:ext cx="1058760" cy="208296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101"/>
          <p:cNvSpPr/>
          <p:nvPr/>
        </p:nvSpPr>
        <p:spPr>
          <a:xfrm>
            <a:off x="2334240" y="6192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d0d0d"/>
                </a:solidFill>
                <a:latin typeface="微软雅黑"/>
                <a:ea typeface="微软雅黑"/>
              </a:rPr>
              <a:t>过渡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pic13.nipic.com/20110412/7145303_162030214000_2.jpg"/>
          <p:cNvPicPr/>
          <p:nvPr/>
        </p:nvPicPr>
        <p:blipFill>
          <a:blip r:embed="rId4"/>
          <a:srcRect l="6454" t="0" r="0" b="6107"/>
          <a:stretch/>
        </p:blipFill>
        <p:spPr>
          <a:xfrm>
            <a:off x="0" y="201600"/>
            <a:ext cx="2198520" cy="152100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99"/>
          <p:cNvSpPr/>
          <p:nvPr/>
        </p:nvSpPr>
        <p:spPr>
          <a:xfrm>
            <a:off x="9518760" y="714240"/>
            <a:ext cx="2033640" cy="641520"/>
          </a:xfrm>
          <a:prstGeom prst="roundRect">
            <a:avLst>
              <a:gd name="adj" fmla="val 10958"/>
            </a:avLst>
          </a:prstGeom>
          <a:noFill/>
          <a:ln w="9360">
            <a:solidFill>
              <a:srgbClr val="952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2b2e"/>
                </a:solidFill>
                <a:latin typeface="Calibri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106" descr=""/>
          <p:cNvPicPr/>
          <p:nvPr/>
        </p:nvPicPr>
        <p:blipFill>
          <a:blip r:embed="rId5"/>
          <a:stretch/>
        </p:blipFill>
        <p:spPr>
          <a:xfrm>
            <a:off x="262080" y="1049400"/>
            <a:ext cx="484200" cy="1006560"/>
          </a:xfrm>
          <a:prstGeom prst="rect">
            <a:avLst/>
          </a:prstGeom>
          <a:ln w="0">
            <a:noFill/>
          </a:ln>
        </p:spPr>
      </p:pic>
      <p:sp>
        <p:nvSpPr>
          <p:cNvPr id="81" name="任意多边形 23"/>
          <p:cNvSpPr/>
          <p:nvPr/>
        </p:nvSpPr>
        <p:spPr>
          <a:xfrm>
            <a:off x="3201840" y="4659480"/>
            <a:ext cx="5916600" cy="984240"/>
          </a:xfrm>
          <a:prstGeom prst="pie">
            <a:avLst/>
          </a:prstGeom>
          <a:solidFill>
            <a:srgbClr val="e4d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在此输入过渡页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4" descr=""/>
          <p:cNvPicPr/>
          <p:nvPr/>
        </p:nvPicPr>
        <p:blipFill>
          <a:blip r:embed="rId1"/>
          <a:stretch/>
        </p:blipFill>
        <p:spPr>
          <a:xfrm>
            <a:off x="0" y="-3240"/>
            <a:ext cx="12192120" cy="68644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96" descr=""/>
          <p:cNvPicPr/>
          <p:nvPr/>
        </p:nvPicPr>
        <p:blipFill>
          <a:blip r:embed="rId2"/>
          <a:srcRect l="5759" t="7510" r="610" b="7633"/>
          <a:stretch/>
        </p:blipFill>
        <p:spPr>
          <a:xfrm>
            <a:off x="10577520" y="4753080"/>
            <a:ext cx="1384200" cy="19875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98" descr=""/>
          <p:cNvPicPr/>
          <p:nvPr/>
        </p:nvPicPr>
        <p:blipFill>
          <a:blip r:embed="rId3"/>
          <a:srcRect l="25553" t="12284" r="0" b="0"/>
          <a:stretch/>
        </p:blipFill>
        <p:spPr>
          <a:xfrm>
            <a:off x="139680" y="2260440"/>
            <a:ext cx="1058760" cy="2082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pic13.nipic.com/20110412/7145303_162030214000_2.jpg"/>
          <p:cNvPicPr/>
          <p:nvPr/>
        </p:nvPicPr>
        <p:blipFill>
          <a:blip r:embed="rId4"/>
          <a:srcRect l="6454" t="0" r="0" b="6107"/>
          <a:stretch/>
        </p:blipFill>
        <p:spPr>
          <a:xfrm>
            <a:off x="0" y="201600"/>
            <a:ext cx="2198520" cy="152100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99"/>
          <p:cNvSpPr/>
          <p:nvPr/>
        </p:nvSpPr>
        <p:spPr>
          <a:xfrm>
            <a:off x="9518760" y="714240"/>
            <a:ext cx="2033640" cy="641520"/>
          </a:xfrm>
          <a:prstGeom prst="roundRect">
            <a:avLst>
              <a:gd name="adj" fmla="val 10958"/>
            </a:avLst>
          </a:prstGeom>
          <a:noFill/>
          <a:ln w="9360">
            <a:solidFill>
              <a:srgbClr val="952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2b2e"/>
                </a:solidFill>
                <a:latin typeface="Calibri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06" descr=""/>
          <p:cNvPicPr/>
          <p:nvPr/>
        </p:nvPicPr>
        <p:blipFill>
          <a:blip r:embed="rId5"/>
          <a:stretch/>
        </p:blipFill>
        <p:spPr>
          <a:xfrm>
            <a:off x="262080" y="1049400"/>
            <a:ext cx="484200" cy="1006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56960" y="617400"/>
            <a:ext cx="93963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d0d0d"/>
                </a:solidFill>
                <a:latin typeface="微软雅黑"/>
              </a:rPr>
              <a:t>内容页</a:t>
            </a: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8080" y="1599840"/>
            <a:ext cx="10515600" cy="45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5"/>
          <p:cNvSpPr/>
          <p:nvPr/>
        </p:nvSpPr>
        <p:spPr>
          <a:xfrm>
            <a:off x="0" y="0"/>
            <a:ext cx="12192120" cy="6865920"/>
          </a:xfrm>
          <a:prstGeom prst="rect">
            <a:avLst/>
          </a:prstGeom>
          <a:gradFill rotWithShape="0">
            <a:gsLst>
              <a:gs pos="0">
                <a:srgbClr val="e4ded0"/>
              </a:gs>
              <a:gs pos="100000">
                <a:srgbClr val="eeed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2"/>
          <p:cNvGrpSpPr/>
          <p:nvPr/>
        </p:nvGrpSpPr>
        <p:grpSpPr>
          <a:xfrm>
            <a:off x="-381240" y="-675000"/>
            <a:ext cx="4905720" cy="3324960"/>
            <a:chOff x="-381240" y="-675000"/>
            <a:chExt cx="4905720" cy="3324960"/>
          </a:xfrm>
        </p:grpSpPr>
        <p:sp>
          <p:nvSpPr>
            <p:cNvPr id="92" name="任意多边形 12"/>
            <p:cNvSpPr/>
            <p:nvPr/>
          </p:nvSpPr>
          <p:spPr>
            <a:xfrm>
              <a:off x="2940120" y="1146240"/>
              <a:ext cx="1584360" cy="1239840"/>
            </a:xfrm>
            <a:custGeom>
              <a:avLst/>
              <a:gdLst/>
              <a:ahLst/>
              <a:rect l="l" t="t" r="r" b="b"/>
              <a:pathLst>
                <a:path w="3708493" h="3338539">
                  <a:moveTo>
                    <a:pt x="1132135" y="8165"/>
                  </a:moveTo>
                  <a:lnTo>
                    <a:pt x="1183221" y="8546"/>
                  </a:lnTo>
                  <a:lnTo>
                    <a:pt x="1209872" y="66729"/>
                  </a:lnTo>
                  <a:lnTo>
                    <a:pt x="1233450" y="3590"/>
                  </a:lnTo>
                  <a:lnTo>
                    <a:pt x="1287214" y="0"/>
                  </a:lnTo>
                  <a:lnTo>
                    <a:pt x="1337872" y="6599"/>
                  </a:lnTo>
                  <a:lnTo>
                    <a:pt x="1341676" y="18581"/>
                  </a:lnTo>
                  <a:lnTo>
                    <a:pt x="1370133" y="21822"/>
                  </a:lnTo>
                  <a:lnTo>
                    <a:pt x="1390807" y="83460"/>
                  </a:lnTo>
                  <a:lnTo>
                    <a:pt x="1418258" y="28510"/>
                  </a:lnTo>
                  <a:lnTo>
                    <a:pt x="1472100" y="30621"/>
                  </a:lnTo>
                  <a:lnTo>
                    <a:pt x="1521777" y="42540"/>
                  </a:lnTo>
                  <a:lnTo>
                    <a:pt x="1523745" y="52172"/>
                  </a:lnTo>
                  <a:lnTo>
                    <a:pt x="1529696" y="43978"/>
                  </a:lnTo>
                  <a:lnTo>
                    <a:pt x="1584794" y="55149"/>
                  </a:lnTo>
                  <a:lnTo>
                    <a:pt x="1630403" y="73960"/>
                  </a:lnTo>
                  <a:lnTo>
                    <a:pt x="1632547" y="132156"/>
                  </a:lnTo>
                  <a:lnTo>
                    <a:pt x="1677454" y="83963"/>
                  </a:lnTo>
                  <a:lnTo>
                    <a:pt x="1709913" y="94796"/>
                  </a:lnTo>
                  <a:lnTo>
                    <a:pt x="1710923" y="93677"/>
                  </a:lnTo>
                  <a:lnTo>
                    <a:pt x="1764531" y="110609"/>
                  </a:lnTo>
                  <a:lnTo>
                    <a:pt x="1800132" y="129922"/>
                  </a:lnTo>
                  <a:lnTo>
                    <a:pt x="1829922" y="117700"/>
                  </a:lnTo>
                  <a:lnTo>
                    <a:pt x="1881133" y="165276"/>
                  </a:lnTo>
                  <a:lnTo>
                    <a:pt x="1878643" y="94725"/>
                  </a:lnTo>
                  <a:lnTo>
                    <a:pt x="1909369" y="79187"/>
                  </a:lnTo>
                  <a:lnTo>
                    <a:pt x="1974574" y="61335"/>
                  </a:lnTo>
                  <a:lnTo>
                    <a:pt x="1996340" y="87169"/>
                  </a:lnTo>
                  <a:lnTo>
                    <a:pt x="2007777" y="83840"/>
                  </a:lnTo>
                  <a:lnTo>
                    <a:pt x="2044290" y="125782"/>
                  </a:lnTo>
                  <a:lnTo>
                    <a:pt x="2055258" y="87274"/>
                  </a:lnTo>
                  <a:lnTo>
                    <a:pt x="2056307" y="72448"/>
                  </a:lnTo>
                  <a:lnTo>
                    <a:pt x="2059865" y="71099"/>
                  </a:lnTo>
                  <a:lnTo>
                    <a:pt x="2063258" y="59186"/>
                  </a:lnTo>
                  <a:lnTo>
                    <a:pt x="2070396" y="67109"/>
                  </a:lnTo>
                  <a:lnTo>
                    <a:pt x="2088504" y="60245"/>
                  </a:lnTo>
                  <a:lnTo>
                    <a:pt x="2155229" y="49385"/>
                  </a:lnTo>
                  <a:lnTo>
                    <a:pt x="2157767" y="53142"/>
                  </a:lnTo>
                  <a:lnTo>
                    <a:pt x="2166094" y="18415"/>
                  </a:lnTo>
                  <a:lnTo>
                    <a:pt x="2219019" y="8305"/>
                  </a:lnTo>
                  <a:lnTo>
                    <a:pt x="2270105" y="8685"/>
                  </a:lnTo>
                  <a:lnTo>
                    <a:pt x="2296756" y="66868"/>
                  </a:lnTo>
                  <a:lnTo>
                    <a:pt x="2320334" y="3729"/>
                  </a:lnTo>
                  <a:lnTo>
                    <a:pt x="2374098" y="139"/>
                  </a:lnTo>
                  <a:lnTo>
                    <a:pt x="2424757" y="6739"/>
                  </a:lnTo>
                  <a:lnTo>
                    <a:pt x="2428561" y="18721"/>
                  </a:lnTo>
                  <a:lnTo>
                    <a:pt x="2457017" y="21961"/>
                  </a:lnTo>
                  <a:lnTo>
                    <a:pt x="2477691" y="83599"/>
                  </a:lnTo>
                  <a:lnTo>
                    <a:pt x="2505142" y="28649"/>
                  </a:lnTo>
                  <a:lnTo>
                    <a:pt x="2558984" y="30760"/>
                  </a:lnTo>
                  <a:lnTo>
                    <a:pt x="2608662" y="42679"/>
                  </a:lnTo>
                  <a:lnTo>
                    <a:pt x="2610629" y="52311"/>
                  </a:lnTo>
                  <a:lnTo>
                    <a:pt x="2616581" y="44117"/>
                  </a:lnTo>
                  <a:lnTo>
                    <a:pt x="2671679" y="55288"/>
                  </a:lnTo>
                  <a:lnTo>
                    <a:pt x="2717288" y="74099"/>
                  </a:lnTo>
                  <a:lnTo>
                    <a:pt x="2719432" y="132295"/>
                  </a:lnTo>
                  <a:lnTo>
                    <a:pt x="2764338" y="84102"/>
                  </a:lnTo>
                  <a:lnTo>
                    <a:pt x="2796797" y="94935"/>
                  </a:lnTo>
                  <a:lnTo>
                    <a:pt x="2797807" y="93816"/>
                  </a:lnTo>
                  <a:lnTo>
                    <a:pt x="2851415" y="110748"/>
                  </a:lnTo>
                  <a:lnTo>
                    <a:pt x="2894781" y="134274"/>
                  </a:lnTo>
                  <a:lnTo>
                    <a:pt x="2890445" y="196914"/>
                  </a:lnTo>
                  <a:lnTo>
                    <a:pt x="2938163" y="155502"/>
                  </a:lnTo>
                  <a:lnTo>
                    <a:pt x="2989311" y="178836"/>
                  </a:lnTo>
                  <a:lnTo>
                    <a:pt x="3029488" y="207470"/>
                  </a:lnTo>
                  <a:lnTo>
                    <a:pt x="3023316" y="239359"/>
                  </a:lnTo>
                  <a:lnTo>
                    <a:pt x="3026495" y="237411"/>
                  </a:lnTo>
                  <a:lnTo>
                    <a:pt x="3073690" y="268583"/>
                  </a:lnTo>
                  <a:lnTo>
                    <a:pt x="3096184" y="290836"/>
                  </a:lnTo>
                  <a:lnTo>
                    <a:pt x="3102828" y="288009"/>
                  </a:lnTo>
                  <a:lnTo>
                    <a:pt x="3101537" y="296126"/>
                  </a:lnTo>
                  <a:lnTo>
                    <a:pt x="3106840" y="301373"/>
                  </a:lnTo>
                  <a:lnTo>
                    <a:pt x="3096103" y="330251"/>
                  </a:lnTo>
                  <a:lnTo>
                    <a:pt x="3093811" y="344646"/>
                  </a:lnTo>
                  <a:lnTo>
                    <a:pt x="3099045" y="348056"/>
                  </a:lnTo>
                  <a:lnTo>
                    <a:pt x="3147662" y="325879"/>
                  </a:lnTo>
                  <a:lnTo>
                    <a:pt x="3163654" y="339508"/>
                  </a:lnTo>
                  <a:lnTo>
                    <a:pt x="3184995" y="329353"/>
                  </a:lnTo>
                  <a:lnTo>
                    <a:pt x="3228630" y="365341"/>
                  </a:lnTo>
                  <a:lnTo>
                    <a:pt x="3258126" y="401450"/>
                  </a:lnTo>
                  <a:lnTo>
                    <a:pt x="3233758" y="450414"/>
                  </a:lnTo>
                  <a:lnTo>
                    <a:pt x="3237348" y="448678"/>
                  </a:lnTo>
                  <a:lnTo>
                    <a:pt x="3243094" y="453354"/>
                  </a:lnTo>
                  <a:lnTo>
                    <a:pt x="3293784" y="436440"/>
                  </a:lnTo>
                  <a:lnTo>
                    <a:pt x="3332712" y="477474"/>
                  </a:lnTo>
                  <a:lnTo>
                    <a:pt x="3357591" y="516907"/>
                  </a:lnTo>
                  <a:lnTo>
                    <a:pt x="3327668" y="562194"/>
                  </a:lnTo>
                  <a:lnTo>
                    <a:pt x="3368964" y="609389"/>
                  </a:lnTo>
                  <a:lnTo>
                    <a:pt x="3375765" y="621324"/>
                  </a:lnTo>
                  <a:lnTo>
                    <a:pt x="3381140" y="620578"/>
                  </a:lnTo>
                  <a:lnTo>
                    <a:pt x="3378585" y="626271"/>
                  </a:lnTo>
                  <a:lnTo>
                    <a:pt x="3381626" y="631610"/>
                  </a:lnTo>
                  <a:lnTo>
                    <a:pt x="3398697" y="631451"/>
                  </a:lnTo>
                  <a:lnTo>
                    <a:pt x="3383282" y="656561"/>
                  </a:lnTo>
                  <a:lnTo>
                    <a:pt x="3383968" y="658234"/>
                  </a:lnTo>
                  <a:lnTo>
                    <a:pt x="3378916" y="663673"/>
                  </a:lnTo>
                  <a:lnTo>
                    <a:pt x="3366301" y="684222"/>
                  </a:lnTo>
                  <a:lnTo>
                    <a:pt x="3402498" y="678238"/>
                  </a:lnTo>
                  <a:lnTo>
                    <a:pt x="3406808" y="684582"/>
                  </a:lnTo>
                  <a:lnTo>
                    <a:pt x="3445501" y="677541"/>
                  </a:lnTo>
                  <a:lnTo>
                    <a:pt x="3486229" y="735447"/>
                  </a:lnTo>
                  <a:lnTo>
                    <a:pt x="3497387" y="760988"/>
                  </a:lnTo>
                  <a:lnTo>
                    <a:pt x="3490934" y="768258"/>
                  </a:lnTo>
                  <a:lnTo>
                    <a:pt x="3495984" y="785604"/>
                  </a:lnTo>
                  <a:lnTo>
                    <a:pt x="3460336" y="816639"/>
                  </a:lnTo>
                  <a:lnTo>
                    <a:pt x="3509948" y="813762"/>
                  </a:lnTo>
                  <a:lnTo>
                    <a:pt x="3543318" y="876198"/>
                  </a:lnTo>
                  <a:lnTo>
                    <a:pt x="3551285" y="902907"/>
                  </a:lnTo>
                  <a:lnTo>
                    <a:pt x="3543995" y="909336"/>
                  </a:lnTo>
                  <a:lnTo>
                    <a:pt x="3546895" y="927170"/>
                  </a:lnTo>
                  <a:lnTo>
                    <a:pt x="3498919" y="959587"/>
                  </a:lnTo>
                  <a:lnTo>
                    <a:pt x="3535696" y="963529"/>
                  </a:lnTo>
                  <a:lnTo>
                    <a:pt x="3555467" y="1023714"/>
                  </a:lnTo>
                  <a:lnTo>
                    <a:pt x="3577085" y="1029345"/>
                  </a:lnTo>
                  <a:lnTo>
                    <a:pt x="3561324" y="1044208"/>
                  </a:lnTo>
                  <a:lnTo>
                    <a:pt x="3562157" y="1051050"/>
                  </a:lnTo>
                  <a:lnTo>
                    <a:pt x="3538226" y="1065988"/>
                  </a:lnTo>
                  <a:lnTo>
                    <a:pt x="3518600" y="1084499"/>
                  </a:lnTo>
                  <a:lnTo>
                    <a:pt x="3614594" y="1105228"/>
                  </a:lnTo>
                  <a:lnTo>
                    <a:pt x="3631486" y="1183913"/>
                  </a:lnTo>
                  <a:lnTo>
                    <a:pt x="3631654" y="1195056"/>
                  </a:lnTo>
                  <a:lnTo>
                    <a:pt x="3578027" y="1221105"/>
                  </a:lnTo>
                  <a:lnTo>
                    <a:pt x="3580101" y="1231255"/>
                  </a:lnTo>
                  <a:lnTo>
                    <a:pt x="3580167" y="1243022"/>
                  </a:lnTo>
                  <a:lnTo>
                    <a:pt x="3625694" y="1258858"/>
                  </a:lnTo>
                  <a:lnTo>
                    <a:pt x="3632878" y="1339016"/>
                  </a:lnTo>
                  <a:lnTo>
                    <a:pt x="3631689" y="1350095"/>
                  </a:lnTo>
                  <a:lnTo>
                    <a:pt x="3575287" y="1369420"/>
                  </a:lnTo>
                  <a:lnTo>
                    <a:pt x="3576111" y="1379748"/>
                  </a:lnTo>
                  <a:lnTo>
                    <a:pt x="3573331" y="1403469"/>
                  </a:lnTo>
                  <a:lnTo>
                    <a:pt x="3567447" y="1405337"/>
                  </a:lnTo>
                  <a:lnTo>
                    <a:pt x="3556647" y="1414739"/>
                  </a:lnTo>
                  <a:lnTo>
                    <a:pt x="3577188" y="1425947"/>
                  </a:lnTo>
                  <a:lnTo>
                    <a:pt x="3576871" y="1430384"/>
                  </a:lnTo>
                  <a:lnTo>
                    <a:pt x="3585562" y="1429880"/>
                  </a:lnTo>
                  <a:lnTo>
                    <a:pt x="3618933" y="1492316"/>
                  </a:lnTo>
                  <a:lnTo>
                    <a:pt x="3626900" y="1519025"/>
                  </a:lnTo>
                  <a:lnTo>
                    <a:pt x="3619609" y="1525454"/>
                  </a:lnTo>
                  <a:lnTo>
                    <a:pt x="3622509" y="1543288"/>
                  </a:lnTo>
                  <a:lnTo>
                    <a:pt x="3595529" y="1561518"/>
                  </a:lnTo>
                  <a:lnTo>
                    <a:pt x="3606975" y="1569440"/>
                  </a:lnTo>
                  <a:lnTo>
                    <a:pt x="3605262" y="1578998"/>
                  </a:lnTo>
                  <a:lnTo>
                    <a:pt x="3611311" y="1579647"/>
                  </a:lnTo>
                  <a:lnTo>
                    <a:pt x="3631082" y="1639832"/>
                  </a:lnTo>
                  <a:lnTo>
                    <a:pt x="3652700" y="1645463"/>
                  </a:lnTo>
                  <a:lnTo>
                    <a:pt x="3636939" y="1660326"/>
                  </a:lnTo>
                  <a:lnTo>
                    <a:pt x="3637772" y="1667168"/>
                  </a:lnTo>
                  <a:lnTo>
                    <a:pt x="3613840" y="1682106"/>
                  </a:lnTo>
                  <a:lnTo>
                    <a:pt x="3594215" y="1700617"/>
                  </a:lnTo>
                  <a:lnTo>
                    <a:pt x="3690209" y="1721346"/>
                  </a:lnTo>
                  <a:lnTo>
                    <a:pt x="3707101" y="1800031"/>
                  </a:lnTo>
                  <a:lnTo>
                    <a:pt x="3707269" y="1811174"/>
                  </a:lnTo>
                  <a:lnTo>
                    <a:pt x="3653642" y="1837223"/>
                  </a:lnTo>
                  <a:lnTo>
                    <a:pt x="3655716" y="1847373"/>
                  </a:lnTo>
                  <a:lnTo>
                    <a:pt x="3655782" y="1859140"/>
                  </a:lnTo>
                  <a:lnTo>
                    <a:pt x="3701309" y="1874976"/>
                  </a:lnTo>
                  <a:lnTo>
                    <a:pt x="3708493" y="1955134"/>
                  </a:lnTo>
                  <a:lnTo>
                    <a:pt x="3707304" y="1966213"/>
                  </a:lnTo>
                  <a:lnTo>
                    <a:pt x="3650902" y="1985538"/>
                  </a:lnTo>
                  <a:lnTo>
                    <a:pt x="3651726" y="1995866"/>
                  </a:lnTo>
                  <a:lnTo>
                    <a:pt x="3648946" y="2019587"/>
                  </a:lnTo>
                  <a:lnTo>
                    <a:pt x="3625341" y="2027081"/>
                  </a:lnTo>
                  <a:lnTo>
                    <a:pt x="3652803" y="2042065"/>
                  </a:lnTo>
                  <a:lnTo>
                    <a:pt x="3650256" y="2077644"/>
                  </a:lnTo>
                  <a:lnTo>
                    <a:pt x="3677302" y="2098099"/>
                  </a:lnTo>
                  <a:lnTo>
                    <a:pt x="3647992" y="2109244"/>
                  </a:lnTo>
                  <a:lnTo>
                    <a:pt x="3647862" y="2111055"/>
                  </a:lnTo>
                  <a:lnTo>
                    <a:pt x="3643843" y="2126003"/>
                  </a:lnTo>
                  <a:lnTo>
                    <a:pt x="3605726" y="2132365"/>
                  </a:lnTo>
                  <a:lnTo>
                    <a:pt x="3682590" y="2185558"/>
                  </a:lnTo>
                  <a:lnTo>
                    <a:pt x="3670385" y="2253640"/>
                  </a:lnTo>
                  <a:lnTo>
                    <a:pt x="3664809" y="2268079"/>
                  </a:lnTo>
                  <a:lnTo>
                    <a:pt x="3619401" y="2270784"/>
                  </a:lnTo>
                  <a:lnTo>
                    <a:pt x="3611304" y="2311738"/>
                  </a:lnTo>
                  <a:lnTo>
                    <a:pt x="3637213" y="2334806"/>
                  </a:lnTo>
                  <a:lnTo>
                    <a:pt x="3616808" y="2400894"/>
                  </a:lnTo>
                  <a:lnTo>
                    <a:pt x="3609515" y="2414547"/>
                  </a:lnTo>
                  <a:lnTo>
                    <a:pt x="3564114" y="2411700"/>
                  </a:lnTo>
                  <a:lnTo>
                    <a:pt x="3549549" y="2456061"/>
                  </a:lnTo>
                  <a:lnTo>
                    <a:pt x="3539835" y="2473098"/>
                  </a:lnTo>
                  <a:lnTo>
                    <a:pt x="3495886" y="2469340"/>
                  </a:lnTo>
                  <a:lnTo>
                    <a:pt x="3511533" y="2488746"/>
                  </a:lnTo>
                  <a:lnTo>
                    <a:pt x="3508621" y="2494693"/>
                  </a:lnTo>
                  <a:lnTo>
                    <a:pt x="3526817" y="2525702"/>
                  </a:lnTo>
                  <a:lnTo>
                    <a:pt x="3493916" y="2524739"/>
                  </a:lnTo>
                  <a:lnTo>
                    <a:pt x="3487869" y="2537094"/>
                  </a:lnTo>
                  <a:lnTo>
                    <a:pt x="3473389" y="2556087"/>
                  </a:lnTo>
                  <a:lnTo>
                    <a:pt x="3454171" y="2551644"/>
                  </a:lnTo>
                  <a:lnTo>
                    <a:pt x="3494898" y="2614804"/>
                  </a:lnTo>
                  <a:lnTo>
                    <a:pt x="3466255" y="2660382"/>
                  </a:lnTo>
                  <a:lnTo>
                    <a:pt x="3449848" y="2677738"/>
                  </a:lnTo>
                  <a:lnTo>
                    <a:pt x="3400500" y="2660657"/>
                  </a:lnTo>
                  <a:lnTo>
                    <a:pt x="3398091" y="2663123"/>
                  </a:lnTo>
                  <a:lnTo>
                    <a:pt x="3414599" y="2690046"/>
                  </a:lnTo>
                  <a:lnTo>
                    <a:pt x="3391732" y="2723716"/>
                  </a:lnTo>
                  <a:lnTo>
                    <a:pt x="3398643" y="2737998"/>
                  </a:lnTo>
                  <a:lnTo>
                    <a:pt x="3364663" y="2779749"/>
                  </a:lnTo>
                  <a:lnTo>
                    <a:pt x="3346264" y="2794977"/>
                  </a:lnTo>
                  <a:lnTo>
                    <a:pt x="3294632" y="2769697"/>
                  </a:lnTo>
                  <a:lnTo>
                    <a:pt x="3309778" y="2802902"/>
                  </a:lnTo>
                  <a:lnTo>
                    <a:pt x="3276830" y="2840566"/>
                  </a:lnTo>
                  <a:lnTo>
                    <a:pt x="3261984" y="2851991"/>
                  </a:lnTo>
                  <a:lnTo>
                    <a:pt x="3219542" y="2830003"/>
                  </a:lnTo>
                  <a:lnTo>
                    <a:pt x="3224144" y="2863161"/>
                  </a:lnTo>
                  <a:lnTo>
                    <a:pt x="3198793" y="2851780"/>
                  </a:lnTo>
                  <a:lnTo>
                    <a:pt x="3165428" y="2880973"/>
                  </a:lnTo>
                  <a:lnTo>
                    <a:pt x="3148390" y="2890682"/>
                  </a:lnTo>
                  <a:lnTo>
                    <a:pt x="3147417" y="2889988"/>
                  </a:lnTo>
                  <a:lnTo>
                    <a:pt x="3150410" y="2915835"/>
                  </a:lnTo>
                  <a:lnTo>
                    <a:pt x="3148252" y="2914807"/>
                  </a:lnTo>
                  <a:lnTo>
                    <a:pt x="3152452" y="2937887"/>
                  </a:lnTo>
                  <a:lnTo>
                    <a:pt x="3109275" y="2968252"/>
                  </a:lnTo>
                  <a:lnTo>
                    <a:pt x="3091303" y="2976104"/>
                  </a:lnTo>
                  <a:lnTo>
                    <a:pt x="3059757" y="2948102"/>
                  </a:lnTo>
                  <a:lnTo>
                    <a:pt x="3051327" y="2953829"/>
                  </a:lnTo>
                  <a:lnTo>
                    <a:pt x="3058855" y="3001281"/>
                  </a:lnTo>
                  <a:lnTo>
                    <a:pt x="3033182" y="3018300"/>
                  </a:lnTo>
                  <a:lnTo>
                    <a:pt x="2998389" y="3032774"/>
                  </a:lnTo>
                  <a:lnTo>
                    <a:pt x="2995264" y="3029870"/>
                  </a:lnTo>
                  <a:lnTo>
                    <a:pt x="2972844" y="3041851"/>
                  </a:lnTo>
                  <a:lnTo>
                    <a:pt x="2954051" y="3047457"/>
                  </a:lnTo>
                  <a:lnTo>
                    <a:pt x="2916536" y="3004924"/>
                  </a:lnTo>
                  <a:lnTo>
                    <a:pt x="2918778" y="3068495"/>
                  </a:lnTo>
                  <a:lnTo>
                    <a:pt x="2891224" y="3082261"/>
                  </a:lnTo>
                  <a:lnTo>
                    <a:pt x="2854926" y="3092389"/>
                  </a:lnTo>
                  <a:lnTo>
                    <a:pt x="2818096" y="3048674"/>
                  </a:lnTo>
                  <a:lnTo>
                    <a:pt x="2815379" y="3059108"/>
                  </a:lnTo>
                  <a:lnTo>
                    <a:pt x="2790411" y="3032634"/>
                  </a:lnTo>
                  <a:lnTo>
                    <a:pt x="2784705" y="3035437"/>
                  </a:lnTo>
                  <a:lnTo>
                    <a:pt x="2782373" y="3057201"/>
                  </a:lnTo>
                  <a:lnTo>
                    <a:pt x="2746877" y="3068859"/>
                  </a:lnTo>
                  <a:lnTo>
                    <a:pt x="2737303" y="3102479"/>
                  </a:lnTo>
                  <a:lnTo>
                    <a:pt x="2715157" y="3077901"/>
                  </a:lnTo>
                  <a:lnTo>
                    <a:pt x="2709736" y="3103004"/>
                  </a:lnTo>
                  <a:lnTo>
                    <a:pt x="2660808" y="3113507"/>
                  </a:lnTo>
                  <a:lnTo>
                    <a:pt x="2642078" y="3113791"/>
                  </a:lnTo>
                  <a:lnTo>
                    <a:pt x="2631280" y="3091565"/>
                  </a:lnTo>
                  <a:lnTo>
                    <a:pt x="2624565" y="3092894"/>
                  </a:lnTo>
                  <a:lnTo>
                    <a:pt x="2611091" y="3149087"/>
                  </a:lnTo>
                  <a:lnTo>
                    <a:pt x="2598097" y="3151743"/>
                  </a:lnTo>
                  <a:lnTo>
                    <a:pt x="2540801" y="3152051"/>
                  </a:lnTo>
                  <a:lnTo>
                    <a:pt x="2530506" y="3129574"/>
                  </a:lnTo>
                  <a:lnTo>
                    <a:pt x="2510028" y="3131409"/>
                  </a:lnTo>
                  <a:lnTo>
                    <a:pt x="2491401" y="3129411"/>
                  </a:lnTo>
                  <a:lnTo>
                    <a:pt x="2480214" y="3096761"/>
                  </a:lnTo>
                  <a:lnTo>
                    <a:pt x="2456347" y="3160669"/>
                  </a:lnTo>
                  <a:lnTo>
                    <a:pt x="2443125" y="3161723"/>
                  </a:lnTo>
                  <a:lnTo>
                    <a:pt x="2386218" y="3155051"/>
                  </a:lnTo>
                  <a:lnTo>
                    <a:pt x="2363324" y="3082940"/>
                  </a:lnTo>
                  <a:lnTo>
                    <a:pt x="2362743" y="3083709"/>
                  </a:lnTo>
                  <a:lnTo>
                    <a:pt x="2355647" y="3065054"/>
                  </a:lnTo>
                  <a:lnTo>
                    <a:pt x="2353758" y="3066130"/>
                  </a:lnTo>
                  <a:lnTo>
                    <a:pt x="2351113" y="3073077"/>
                  </a:lnTo>
                  <a:lnTo>
                    <a:pt x="2353379" y="3092650"/>
                  </a:lnTo>
                  <a:lnTo>
                    <a:pt x="2351221" y="3091622"/>
                  </a:lnTo>
                  <a:lnTo>
                    <a:pt x="2355421" y="3114703"/>
                  </a:lnTo>
                  <a:lnTo>
                    <a:pt x="2312244" y="3145067"/>
                  </a:lnTo>
                  <a:lnTo>
                    <a:pt x="2294272" y="3152920"/>
                  </a:lnTo>
                  <a:lnTo>
                    <a:pt x="2262726" y="3124918"/>
                  </a:lnTo>
                  <a:lnTo>
                    <a:pt x="2254296" y="3130645"/>
                  </a:lnTo>
                  <a:lnTo>
                    <a:pt x="2261824" y="3178097"/>
                  </a:lnTo>
                  <a:lnTo>
                    <a:pt x="2236151" y="3195116"/>
                  </a:lnTo>
                  <a:lnTo>
                    <a:pt x="2201358" y="3209589"/>
                  </a:lnTo>
                  <a:lnTo>
                    <a:pt x="2198233" y="3206685"/>
                  </a:lnTo>
                  <a:lnTo>
                    <a:pt x="2175813" y="3218667"/>
                  </a:lnTo>
                  <a:lnTo>
                    <a:pt x="2157020" y="3224273"/>
                  </a:lnTo>
                  <a:lnTo>
                    <a:pt x="2119505" y="3181739"/>
                  </a:lnTo>
                  <a:lnTo>
                    <a:pt x="2121747" y="3245311"/>
                  </a:lnTo>
                  <a:lnTo>
                    <a:pt x="2094192" y="3259076"/>
                  </a:lnTo>
                  <a:lnTo>
                    <a:pt x="2057895" y="3269204"/>
                  </a:lnTo>
                  <a:lnTo>
                    <a:pt x="2021065" y="3225489"/>
                  </a:lnTo>
                  <a:lnTo>
                    <a:pt x="2018348" y="3235923"/>
                  </a:lnTo>
                  <a:lnTo>
                    <a:pt x="1993380" y="3209449"/>
                  </a:lnTo>
                  <a:lnTo>
                    <a:pt x="1987674" y="3212252"/>
                  </a:lnTo>
                  <a:lnTo>
                    <a:pt x="1985342" y="3234017"/>
                  </a:lnTo>
                  <a:lnTo>
                    <a:pt x="1949846" y="3245675"/>
                  </a:lnTo>
                  <a:lnTo>
                    <a:pt x="1940272" y="3279294"/>
                  </a:lnTo>
                  <a:lnTo>
                    <a:pt x="1918126" y="3254717"/>
                  </a:lnTo>
                  <a:lnTo>
                    <a:pt x="1912705" y="3279820"/>
                  </a:lnTo>
                  <a:lnTo>
                    <a:pt x="1863777" y="3290322"/>
                  </a:lnTo>
                  <a:lnTo>
                    <a:pt x="1845047" y="3290607"/>
                  </a:lnTo>
                  <a:lnTo>
                    <a:pt x="1834249" y="3268381"/>
                  </a:lnTo>
                  <a:lnTo>
                    <a:pt x="1827534" y="3269709"/>
                  </a:lnTo>
                  <a:lnTo>
                    <a:pt x="1814060" y="3325903"/>
                  </a:lnTo>
                  <a:lnTo>
                    <a:pt x="1801066" y="3328559"/>
                  </a:lnTo>
                  <a:lnTo>
                    <a:pt x="1743770" y="3328867"/>
                  </a:lnTo>
                  <a:lnTo>
                    <a:pt x="1733475" y="3306389"/>
                  </a:lnTo>
                  <a:lnTo>
                    <a:pt x="1712997" y="3308225"/>
                  </a:lnTo>
                  <a:lnTo>
                    <a:pt x="1694369" y="3306226"/>
                  </a:lnTo>
                  <a:lnTo>
                    <a:pt x="1683183" y="3273577"/>
                  </a:lnTo>
                  <a:lnTo>
                    <a:pt x="1659316" y="3337485"/>
                  </a:lnTo>
                  <a:lnTo>
                    <a:pt x="1646094" y="3338539"/>
                  </a:lnTo>
                  <a:lnTo>
                    <a:pt x="1589187" y="3331867"/>
                  </a:lnTo>
                  <a:lnTo>
                    <a:pt x="1566293" y="3259755"/>
                  </a:lnTo>
                  <a:lnTo>
                    <a:pt x="1565712" y="3260525"/>
                  </a:lnTo>
                  <a:lnTo>
                    <a:pt x="1557877" y="3239926"/>
                  </a:lnTo>
                  <a:lnTo>
                    <a:pt x="1536709" y="3295509"/>
                  </a:lnTo>
                  <a:lnTo>
                    <a:pt x="1523479" y="3296478"/>
                  </a:lnTo>
                  <a:lnTo>
                    <a:pt x="1488373" y="3292131"/>
                  </a:lnTo>
                  <a:lnTo>
                    <a:pt x="1487187" y="3293625"/>
                  </a:lnTo>
                  <a:lnTo>
                    <a:pt x="1486579" y="3291908"/>
                  </a:lnTo>
                  <a:lnTo>
                    <a:pt x="1466617" y="3289439"/>
                  </a:lnTo>
                  <a:lnTo>
                    <a:pt x="1455533" y="3253724"/>
                  </a:lnTo>
                  <a:lnTo>
                    <a:pt x="1446459" y="3251285"/>
                  </a:lnTo>
                  <a:lnTo>
                    <a:pt x="1446341" y="3250585"/>
                  </a:lnTo>
                  <a:lnTo>
                    <a:pt x="1440488" y="3259042"/>
                  </a:lnTo>
                  <a:lnTo>
                    <a:pt x="1410169" y="3253608"/>
                  </a:lnTo>
                  <a:lnTo>
                    <a:pt x="1400276" y="3249788"/>
                  </a:lnTo>
                  <a:lnTo>
                    <a:pt x="1387729" y="3273541"/>
                  </a:lnTo>
                  <a:lnTo>
                    <a:pt x="1374482" y="3272890"/>
                  </a:lnTo>
                  <a:lnTo>
                    <a:pt x="1360320" y="3269345"/>
                  </a:lnTo>
                  <a:lnTo>
                    <a:pt x="1347959" y="3286370"/>
                  </a:lnTo>
                  <a:lnTo>
                    <a:pt x="1331851" y="3283185"/>
                  </a:lnTo>
                  <a:lnTo>
                    <a:pt x="1277101" y="3260291"/>
                  </a:lnTo>
                  <a:lnTo>
                    <a:pt x="1275585" y="3219120"/>
                  </a:lnTo>
                  <a:lnTo>
                    <a:pt x="1267235" y="3216542"/>
                  </a:lnTo>
                  <a:lnTo>
                    <a:pt x="1238862" y="3201385"/>
                  </a:lnTo>
                  <a:lnTo>
                    <a:pt x="1201498" y="3241481"/>
                  </a:lnTo>
                  <a:lnTo>
                    <a:pt x="1185899" y="3236359"/>
                  </a:lnTo>
                  <a:lnTo>
                    <a:pt x="1134344" y="3206967"/>
                  </a:lnTo>
                  <a:lnTo>
                    <a:pt x="1140782" y="3131649"/>
                  </a:lnTo>
                  <a:lnTo>
                    <a:pt x="1079523" y="3196544"/>
                  </a:lnTo>
                  <a:lnTo>
                    <a:pt x="1063956" y="3191321"/>
                  </a:lnTo>
                  <a:lnTo>
                    <a:pt x="1012593" y="3161596"/>
                  </a:lnTo>
                  <a:lnTo>
                    <a:pt x="1020695" y="3073539"/>
                  </a:lnTo>
                  <a:lnTo>
                    <a:pt x="1011249" y="3066336"/>
                  </a:lnTo>
                  <a:lnTo>
                    <a:pt x="1011476" y="3065360"/>
                  </a:lnTo>
                  <a:lnTo>
                    <a:pt x="946000" y="3119633"/>
                  </a:lnTo>
                  <a:lnTo>
                    <a:pt x="931184" y="3112554"/>
                  </a:lnTo>
                  <a:lnTo>
                    <a:pt x="883824" y="3076794"/>
                  </a:lnTo>
                  <a:lnTo>
                    <a:pt x="892924" y="3034893"/>
                  </a:lnTo>
                  <a:lnTo>
                    <a:pt x="875817" y="3017525"/>
                  </a:lnTo>
                  <a:lnTo>
                    <a:pt x="890092" y="2979114"/>
                  </a:lnTo>
                  <a:lnTo>
                    <a:pt x="816627" y="3008405"/>
                  </a:lnTo>
                  <a:lnTo>
                    <a:pt x="822246" y="2977617"/>
                  </a:lnTo>
                  <a:lnTo>
                    <a:pt x="819038" y="2979080"/>
                  </a:lnTo>
                  <a:lnTo>
                    <a:pt x="801391" y="2963643"/>
                  </a:lnTo>
                  <a:lnTo>
                    <a:pt x="765611" y="2917138"/>
                  </a:lnTo>
                  <a:lnTo>
                    <a:pt x="776025" y="2897034"/>
                  </a:lnTo>
                  <a:lnTo>
                    <a:pt x="698767" y="2931673"/>
                  </a:lnTo>
                  <a:lnTo>
                    <a:pt x="681222" y="2916124"/>
                  </a:lnTo>
                  <a:lnTo>
                    <a:pt x="645741" y="2869387"/>
                  </a:lnTo>
                  <a:lnTo>
                    <a:pt x="691638" y="2782179"/>
                  </a:lnTo>
                  <a:lnTo>
                    <a:pt x="600335" y="2810364"/>
                  </a:lnTo>
                  <a:lnTo>
                    <a:pt x="584815" y="2792793"/>
                  </a:lnTo>
                  <a:lnTo>
                    <a:pt x="555291" y="2742083"/>
                  </a:lnTo>
                  <a:lnTo>
                    <a:pt x="611459" y="2661124"/>
                  </a:lnTo>
                  <a:lnTo>
                    <a:pt x="610762" y="2659449"/>
                  </a:lnTo>
                  <a:lnTo>
                    <a:pt x="528616" y="2658357"/>
                  </a:lnTo>
                  <a:lnTo>
                    <a:pt x="570215" y="2593920"/>
                  </a:lnTo>
                  <a:lnTo>
                    <a:pt x="567679" y="2594009"/>
                  </a:lnTo>
                  <a:lnTo>
                    <a:pt x="559696" y="2578037"/>
                  </a:lnTo>
                  <a:lnTo>
                    <a:pt x="549673" y="2542110"/>
                  </a:lnTo>
                  <a:lnTo>
                    <a:pt x="449904" y="2544985"/>
                  </a:lnTo>
                  <a:lnTo>
                    <a:pt x="442028" y="2528959"/>
                  </a:lnTo>
                  <a:lnTo>
                    <a:pt x="423246" y="2459927"/>
                  </a:lnTo>
                  <a:lnTo>
                    <a:pt x="489779" y="2404606"/>
                  </a:lnTo>
                  <a:lnTo>
                    <a:pt x="400418" y="2396247"/>
                  </a:lnTo>
                  <a:lnTo>
                    <a:pt x="394552" y="2379380"/>
                  </a:lnTo>
                  <a:lnTo>
                    <a:pt x="384317" y="2308574"/>
                  </a:lnTo>
                  <a:lnTo>
                    <a:pt x="467326" y="2255187"/>
                  </a:lnTo>
                  <a:lnTo>
                    <a:pt x="396479" y="2224730"/>
                  </a:lnTo>
                  <a:lnTo>
                    <a:pt x="453096" y="2185592"/>
                  </a:lnTo>
                  <a:lnTo>
                    <a:pt x="435923" y="2170571"/>
                  </a:lnTo>
                  <a:lnTo>
                    <a:pt x="400143" y="2124065"/>
                  </a:lnTo>
                  <a:lnTo>
                    <a:pt x="406632" y="2111539"/>
                  </a:lnTo>
                  <a:lnTo>
                    <a:pt x="399616" y="2108867"/>
                  </a:lnTo>
                  <a:lnTo>
                    <a:pt x="333298" y="2138600"/>
                  </a:lnTo>
                  <a:lnTo>
                    <a:pt x="315754" y="2123051"/>
                  </a:lnTo>
                  <a:lnTo>
                    <a:pt x="280273" y="2076314"/>
                  </a:lnTo>
                  <a:lnTo>
                    <a:pt x="326170" y="1989107"/>
                  </a:lnTo>
                  <a:lnTo>
                    <a:pt x="234867" y="2017291"/>
                  </a:lnTo>
                  <a:lnTo>
                    <a:pt x="219347" y="1999720"/>
                  </a:lnTo>
                  <a:lnTo>
                    <a:pt x="189823" y="1949011"/>
                  </a:lnTo>
                  <a:lnTo>
                    <a:pt x="245991" y="1868051"/>
                  </a:lnTo>
                  <a:lnTo>
                    <a:pt x="245294" y="1866376"/>
                  </a:lnTo>
                  <a:lnTo>
                    <a:pt x="163148" y="1865285"/>
                  </a:lnTo>
                  <a:lnTo>
                    <a:pt x="204747" y="1800848"/>
                  </a:lnTo>
                  <a:lnTo>
                    <a:pt x="202211" y="1800937"/>
                  </a:lnTo>
                  <a:lnTo>
                    <a:pt x="194228" y="1784964"/>
                  </a:lnTo>
                  <a:lnTo>
                    <a:pt x="184205" y="1749038"/>
                  </a:lnTo>
                  <a:lnTo>
                    <a:pt x="84436" y="1751913"/>
                  </a:lnTo>
                  <a:lnTo>
                    <a:pt x="76560" y="1735886"/>
                  </a:lnTo>
                  <a:lnTo>
                    <a:pt x="57777" y="1666854"/>
                  </a:lnTo>
                  <a:lnTo>
                    <a:pt x="124311" y="1611533"/>
                  </a:lnTo>
                  <a:lnTo>
                    <a:pt x="34950" y="1603174"/>
                  </a:lnTo>
                  <a:lnTo>
                    <a:pt x="29084" y="1586307"/>
                  </a:lnTo>
                  <a:lnTo>
                    <a:pt x="18849" y="1515501"/>
                  </a:lnTo>
                  <a:lnTo>
                    <a:pt x="101858" y="1462114"/>
                  </a:lnTo>
                  <a:lnTo>
                    <a:pt x="31010" y="1431657"/>
                  </a:lnTo>
                  <a:lnTo>
                    <a:pt x="129644" y="1363475"/>
                  </a:lnTo>
                  <a:lnTo>
                    <a:pt x="129650" y="1357891"/>
                  </a:lnTo>
                  <a:lnTo>
                    <a:pt x="116038" y="1352807"/>
                  </a:lnTo>
                  <a:lnTo>
                    <a:pt x="115559" y="1346802"/>
                  </a:lnTo>
                  <a:lnTo>
                    <a:pt x="1167" y="1303233"/>
                  </a:lnTo>
                  <a:lnTo>
                    <a:pt x="0" y="1287282"/>
                  </a:lnTo>
                  <a:lnTo>
                    <a:pt x="9835" y="1207849"/>
                  </a:lnTo>
                  <a:lnTo>
                    <a:pt x="79746" y="1186150"/>
                  </a:lnTo>
                  <a:lnTo>
                    <a:pt x="6945" y="1147692"/>
                  </a:lnTo>
                  <a:lnTo>
                    <a:pt x="7727" y="1131718"/>
                  </a:lnTo>
                  <a:lnTo>
                    <a:pt x="27163" y="1054074"/>
                  </a:lnTo>
                  <a:lnTo>
                    <a:pt x="128679" y="1035720"/>
                  </a:lnTo>
                  <a:lnTo>
                    <a:pt x="98469" y="1004697"/>
                  </a:lnTo>
                  <a:lnTo>
                    <a:pt x="92891" y="1000277"/>
                  </a:lnTo>
                  <a:lnTo>
                    <a:pt x="93838" y="999941"/>
                  </a:lnTo>
                  <a:lnTo>
                    <a:pt x="74885" y="980475"/>
                  </a:lnTo>
                  <a:lnTo>
                    <a:pt x="175505" y="958803"/>
                  </a:lnTo>
                  <a:lnTo>
                    <a:pt x="181848" y="943141"/>
                  </a:lnTo>
                  <a:lnTo>
                    <a:pt x="94203" y="860403"/>
                  </a:lnTo>
                  <a:lnTo>
                    <a:pt x="105153" y="827759"/>
                  </a:lnTo>
                  <a:lnTo>
                    <a:pt x="123460" y="796131"/>
                  </a:lnTo>
                  <a:lnTo>
                    <a:pt x="130610" y="778795"/>
                  </a:lnTo>
                  <a:lnTo>
                    <a:pt x="133555" y="778687"/>
                  </a:lnTo>
                  <a:lnTo>
                    <a:pt x="139018" y="769248"/>
                  </a:lnTo>
                  <a:lnTo>
                    <a:pt x="199040" y="774772"/>
                  </a:lnTo>
                  <a:lnTo>
                    <a:pt x="153217" y="719490"/>
                  </a:lnTo>
                  <a:lnTo>
                    <a:pt x="168062" y="688423"/>
                  </a:lnTo>
                  <a:lnTo>
                    <a:pt x="190084" y="659259"/>
                  </a:lnTo>
                  <a:lnTo>
                    <a:pt x="199292" y="642922"/>
                  </a:lnTo>
                  <a:lnTo>
                    <a:pt x="202229" y="643174"/>
                  </a:lnTo>
                  <a:lnTo>
                    <a:pt x="208799" y="634471"/>
                  </a:lnTo>
                  <a:lnTo>
                    <a:pt x="279153" y="649750"/>
                  </a:lnTo>
                  <a:lnTo>
                    <a:pt x="291944" y="650843"/>
                  </a:lnTo>
                  <a:lnTo>
                    <a:pt x="273384" y="629457"/>
                  </a:lnTo>
                  <a:lnTo>
                    <a:pt x="277570" y="620280"/>
                  </a:lnTo>
                  <a:lnTo>
                    <a:pt x="253027" y="576192"/>
                  </a:lnTo>
                  <a:lnTo>
                    <a:pt x="305240" y="578909"/>
                  </a:lnTo>
                  <a:lnTo>
                    <a:pt x="322316" y="554951"/>
                  </a:lnTo>
                  <a:lnTo>
                    <a:pt x="374517" y="565053"/>
                  </a:lnTo>
                  <a:lnTo>
                    <a:pt x="307813" y="456266"/>
                  </a:lnTo>
                  <a:lnTo>
                    <a:pt x="316627" y="442919"/>
                  </a:lnTo>
                  <a:lnTo>
                    <a:pt x="372916" y="386019"/>
                  </a:lnTo>
                  <a:lnTo>
                    <a:pt x="445812" y="413116"/>
                  </a:lnTo>
                  <a:lnTo>
                    <a:pt x="414455" y="344375"/>
                  </a:lnTo>
                  <a:lnTo>
                    <a:pt x="424830" y="332201"/>
                  </a:lnTo>
                  <a:lnTo>
                    <a:pt x="487630" y="282580"/>
                  </a:lnTo>
                  <a:lnTo>
                    <a:pt x="572641" y="326621"/>
                  </a:lnTo>
                  <a:lnTo>
                    <a:pt x="563272" y="245678"/>
                  </a:lnTo>
                  <a:lnTo>
                    <a:pt x="594272" y="260450"/>
                  </a:lnTo>
                  <a:lnTo>
                    <a:pt x="647126" y="227105"/>
                  </a:lnTo>
                  <a:lnTo>
                    <a:pt x="663917" y="238199"/>
                  </a:lnTo>
                  <a:lnTo>
                    <a:pt x="651886" y="162386"/>
                  </a:lnTo>
                  <a:lnTo>
                    <a:pt x="680493" y="143222"/>
                  </a:lnTo>
                  <a:lnTo>
                    <a:pt x="743037" y="117561"/>
                  </a:lnTo>
                  <a:lnTo>
                    <a:pt x="794248" y="165136"/>
                  </a:lnTo>
                  <a:lnTo>
                    <a:pt x="791759" y="94586"/>
                  </a:lnTo>
                  <a:lnTo>
                    <a:pt x="822485" y="79048"/>
                  </a:lnTo>
                  <a:lnTo>
                    <a:pt x="887690" y="61196"/>
                  </a:lnTo>
                  <a:lnTo>
                    <a:pt x="909456" y="87030"/>
                  </a:lnTo>
                  <a:lnTo>
                    <a:pt x="920893" y="83701"/>
                  </a:lnTo>
                  <a:lnTo>
                    <a:pt x="957406" y="125643"/>
                  </a:lnTo>
                  <a:lnTo>
                    <a:pt x="968374" y="87135"/>
                  </a:lnTo>
                  <a:lnTo>
                    <a:pt x="969422" y="72309"/>
                  </a:lnTo>
                  <a:lnTo>
                    <a:pt x="972980" y="70960"/>
                  </a:lnTo>
                  <a:lnTo>
                    <a:pt x="976373" y="59047"/>
                  </a:lnTo>
                  <a:lnTo>
                    <a:pt x="983512" y="66970"/>
                  </a:lnTo>
                  <a:lnTo>
                    <a:pt x="1001619" y="60106"/>
                  </a:lnTo>
                  <a:lnTo>
                    <a:pt x="1068344" y="49246"/>
                  </a:lnTo>
                  <a:lnTo>
                    <a:pt x="1070883" y="53003"/>
                  </a:lnTo>
                  <a:lnTo>
                    <a:pt x="1079209" y="18275"/>
                  </a:lnTo>
                  <a:lnTo>
                    <a:pt x="1132135" y="8165"/>
                  </a:lnTo>
                  <a:close/>
                </a:path>
              </a:pathLst>
            </a:custGeom>
            <a:solidFill>
              <a:srgbClr val="e4d8a8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29"/>
            <p:cNvSpPr/>
            <p:nvPr/>
          </p:nvSpPr>
          <p:spPr>
            <a:xfrm>
              <a:off x="2081160" y="0"/>
              <a:ext cx="2094120" cy="1595520"/>
            </a:xfrm>
            <a:custGeom>
              <a:avLst/>
              <a:gdLst/>
              <a:ahLst/>
              <a:rect l="l" t="t" r="r" b="b"/>
              <a:pathLst>
                <a:path w="2093614" h="1594464">
                  <a:moveTo>
                    <a:pt x="193832" y="0"/>
                  </a:moveTo>
                  <a:lnTo>
                    <a:pt x="1894553" y="0"/>
                  </a:lnTo>
                  <a:lnTo>
                    <a:pt x="1895514" y="1524"/>
                  </a:lnTo>
                  <a:lnTo>
                    <a:pt x="1878621" y="27090"/>
                  </a:lnTo>
                  <a:lnTo>
                    <a:pt x="1901935" y="53734"/>
                  </a:lnTo>
                  <a:lnTo>
                    <a:pt x="1905774" y="60472"/>
                  </a:lnTo>
                  <a:lnTo>
                    <a:pt x="1908808" y="60051"/>
                  </a:lnTo>
                  <a:lnTo>
                    <a:pt x="1907366" y="63265"/>
                  </a:lnTo>
                  <a:lnTo>
                    <a:pt x="1909083" y="66279"/>
                  </a:lnTo>
                  <a:lnTo>
                    <a:pt x="1918720" y="66189"/>
                  </a:lnTo>
                  <a:lnTo>
                    <a:pt x="1910018" y="80365"/>
                  </a:lnTo>
                  <a:lnTo>
                    <a:pt x="1910405" y="81309"/>
                  </a:lnTo>
                  <a:lnTo>
                    <a:pt x="1907553" y="84380"/>
                  </a:lnTo>
                  <a:lnTo>
                    <a:pt x="1900431" y="95981"/>
                  </a:lnTo>
                  <a:lnTo>
                    <a:pt x="1920866" y="92602"/>
                  </a:lnTo>
                  <a:lnTo>
                    <a:pt x="1923299" y="96184"/>
                  </a:lnTo>
                  <a:lnTo>
                    <a:pt x="1945143" y="92209"/>
                  </a:lnTo>
                  <a:lnTo>
                    <a:pt x="1968136" y="124900"/>
                  </a:lnTo>
                  <a:lnTo>
                    <a:pt x="1974435" y="139319"/>
                  </a:lnTo>
                  <a:lnTo>
                    <a:pt x="1970792" y="143423"/>
                  </a:lnTo>
                  <a:lnTo>
                    <a:pt x="1973643" y="153215"/>
                  </a:lnTo>
                  <a:lnTo>
                    <a:pt x="1953518" y="170736"/>
                  </a:lnTo>
                  <a:lnTo>
                    <a:pt x="1981526" y="169112"/>
                  </a:lnTo>
                  <a:lnTo>
                    <a:pt x="2000365" y="204360"/>
                  </a:lnTo>
                  <a:lnTo>
                    <a:pt x="2004863" y="219438"/>
                  </a:lnTo>
                  <a:lnTo>
                    <a:pt x="2000748" y="223068"/>
                  </a:lnTo>
                  <a:lnTo>
                    <a:pt x="2002385" y="233136"/>
                  </a:lnTo>
                  <a:lnTo>
                    <a:pt x="1975300" y="251437"/>
                  </a:lnTo>
                  <a:lnTo>
                    <a:pt x="1996062" y="253662"/>
                  </a:lnTo>
                  <a:lnTo>
                    <a:pt x="2007224" y="287639"/>
                  </a:lnTo>
                  <a:lnTo>
                    <a:pt x="2019428" y="290818"/>
                  </a:lnTo>
                  <a:lnTo>
                    <a:pt x="2010531" y="299209"/>
                  </a:lnTo>
                  <a:lnTo>
                    <a:pt x="2011001" y="303072"/>
                  </a:lnTo>
                  <a:lnTo>
                    <a:pt x="1997491" y="311505"/>
                  </a:lnTo>
                  <a:lnTo>
                    <a:pt x="1986411" y="321955"/>
                  </a:lnTo>
                  <a:lnTo>
                    <a:pt x="2040604" y="333658"/>
                  </a:lnTo>
                  <a:lnTo>
                    <a:pt x="2050140" y="378079"/>
                  </a:lnTo>
                  <a:lnTo>
                    <a:pt x="2050235" y="384370"/>
                  </a:lnTo>
                  <a:lnTo>
                    <a:pt x="2019960" y="399076"/>
                  </a:lnTo>
                  <a:lnTo>
                    <a:pt x="2021131" y="404806"/>
                  </a:lnTo>
                  <a:lnTo>
                    <a:pt x="2021168" y="411449"/>
                  </a:lnTo>
                  <a:lnTo>
                    <a:pt x="2046870" y="420389"/>
                  </a:lnTo>
                  <a:lnTo>
                    <a:pt x="2050926" y="465642"/>
                  </a:lnTo>
                  <a:lnTo>
                    <a:pt x="2050255" y="471896"/>
                  </a:lnTo>
                  <a:lnTo>
                    <a:pt x="2018413" y="482806"/>
                  </a:lnTo>
                  <a:lnTo>
                    <a:pt x="2018878" y="488637"/>
                  </a:lnTo>
                  <a:lnTo>
                    <a:pt x="2017309" y="502029"/>
                  </a:lnTo>
                  <a:lnTo>
                    <a:pt x="2013987" y="503083"/>
                  </a:lnTo>
                  <a:lnTo>
                    <a:pt x="2007890" y="508391"/>
                  </a:lnTo>
                  <a:lnTo>
                    <a:pt x="2019487" y="514718"/>
                  </a:lnTo>
                  <a:lnTo>
                    <a:pt x="2019308" y="517223"/>
                  </a:lnTo>
                  <a:lnTo>
                    <a:pt x="2024214" y="516939"/>
                  </a:lnTo>
                  <a:lnTo>
                    <a:pt x="2043053" y="552187"/>
                  </a:lnTo>
                  <a:lnTo>
                    <a:pt x="2047551" y="567265"/>
                  </a:lnTo>
                  <a:lnTo>
                    <a:pt x="2043435" y="570895"/>
                  </a:lnTo>
                  <a:lnTo>
                    <a:pt x="2045072" y="580963"/>
                  </a:lnTo>
                  <a:lnTo>
                    <a:pt x="2029841" y="591254"/>
                  </a:lnTo>
                  <a:lnTo>
                    <a:pt x="2036303" y="595727"/>
                  </a:lnTo>
                  <a:lnTo>
                    <a:pt x="2035336" y="601123"/>
                  </a:lnTo>
                  <a:lnTo>
                    <a:pt x="2038751" y="601489"/>
                  </a:lnTo>
                  <a:lnTo>
                    <a:pt x="2049912" y="635466"/>
                  </a:lnTo>
                  <a:lnTo>
                    <a:pt x="2062116" y="638645"/>
                  </a:lnTo>
                  <a:lnTo>
                    <a:pt x="2053219" y="647036"/>
                  </a:lnTo>
                  <a:lnTo>
                    <a:pt x="2053689" y="650899"/>
                  </a:lnTo>
                  <a:lnTo>
                    <a:pt x="2040178" y="659332"/>
                  </a:lnTo>
                  <a:lnTo>
                    <a:pt x="2029099" y="669782"/>
                  </a:lnTo>
                  <a:lnTo>
                    <a:pt x="2083292" y="681485"/>
                  </a:lnTo>
                  <a:lnTo>
                    <a:pt x="2092828" y="725906"/>
                  </a:lnTo>
                  <a:lnTo>
                    <a:pt x="2092923" y="732197"/>
                  </a:lnTo>
                  <a:lnTo>
                    <a:pt x="2062648" y="746902"/>
                  </a:lnTo>
                  <a:lnTo>
                    <a:pt x="2063819" y="752633"/>
                  </a:lnTo>
                  <a:lnTo>
                    <a:pt x="2063856" y="759276"/>
                  </a:lnTo>
                  <a:lnTo>
                    <a:pt x="2089558" y="768216"/>
                  </a:lnTo>
                  <a:lnTo>
                    <a:pt x="2093614" y="813469"/>
                  </a:lnTo>
                  <a:lnTo>
                    <a:pt x="2092943" y="819723"/>
                  </a:lnTo>
                  <a:lnTo>
                    <a:pt x="2061101" y="830633"/>
                  </a:lnTo>
                  <a:lnTo>
                    <a:pt x="2061567" y="836464"/>
                  </a:lnTo>
                  <a:lnTo>
                    <a:pt x="2059997" y="849855"/>
                  </a:lnTo>
                  <a:lnTo>
                    <a:pt x="2046671" y="854086"/>
                  </a:lnTo>
                  <a:lnTo>
                    <a:pt x="2062175" y="862545"/>
                  </a:lnTo>
                  <a:lnTo>
                    <a:pt x="2060737" y="882631"/>
                  </a:lnTo>
                  <a:lnTo>
                    <a:pt x="2076005" y="894179"/>
                  </a:lnTo>
                  <a:lnTo>
                    <a:pt x="2059459" y="900471"/>
                  </a:lnTo>
                  <a:lnTo>
                    <a:pt x="2059385" y="901493"/>
                  </a:lnTo>
                  <a:lnTo>
                    <a:pt x="2057116" y="909932"/>
                  </a:lnTo>
                  <a:lnTo>
                    <a:pt x="2035598" y="913524"/>
                  </a:lnTo>
                  <a:lnTo>
                    <a:pt x="2078991" y="943554"/>
                  </a:lnTo>
                  <a:lnTo>
                    <a:pt x="2072100" y="981989"/>
                  </a:lnTo>
                  <a:lnTo>
                    <a:pt x="2068953" y="990140"/>
                  </a:lnTo>
                  <a:lnTo>
                    <a:pt x="2043318" y="991668"/>
                  </a:lnTo>
                  <a:lnTo>
                    <a:pt x="2038747" y="1014788"/>
                  </a:lnTo>
                  <a:lnTo>
                    <a:pt x="2053373" y="1027811"/>
                  </a:lnTo>
                  <a:lnTo>
                    <a:pt x="2041854" y="1065121"/>
                  </a:lnTo>
                  <a:lnTo>
                    <a:pt x="2037737" y="1072828"/>
                  </a:lnTo>
                  <a:lnTo>
                    <a:pt x="2012106" y="1071221"/>
                  </a:lnTo>
                  <a:lnTo>
                    <a:pt x="2003883" y="1096265"/>
                  </a:lnTo>
                  <a:lnTo>
                    <a:pt x="1998399" y="1105883"/>
                  </a:lnTo>
                  <a:lnTo>
                    <a:pt x="1973588" y="1103761"/>
                  </a:lnTo>
                  <a:lnTo>
                    <a:pt x="1982421" y="1114717"/>
                  </a:lnTo>
                  <a:lnTo>
                    <a:pt x="1980777" y="1118074"/>
                  </a:lnTo>
                  <a:lnTo>
                    <a:pt x="1991050" y="1135580"/>
                  </a:lnTo>
                  <a:lnTo>
                    <a:pt x="1972476" y="1135037"/>
                  </a:lnTo>
                  <a:lnTo>
                    <a:pt x="1969062" y="1142012"/>
                  </a:lnTo>
                  <a:lnTo>
                    <a:pt x="1960887" y="1152734"/>
                  </a:lnTo>
                  <a:lnTo>
                    <a:pt x="1950038" y="1150226"/>
                  </a:lnTo>
                  <a:lnTo>
                    <a:pt x="1973030" y="1185883"/>
                  </a:lnTo>
                  <a:lnTo>
                    <a:pt x="1956860" y="1211613"/>
                  </a:lnTo>
                  <a:lnTo>
                    <a:pt x="1947597" y="1221412"/>
                  </a:lnTo>
                  <a:lnTo>
                    <a:pt x="1919738" y="1211769"/>
                  </a:lnTo>
                  <a:lnTo>
                    <a:pt x="1918378" y="1213161"/>
                  </a:lnTo>
                  <a:lnTo>
                    <a:pt x="1927698" y="1228360"/>
                  </a:lnTo>
                  <a:lnTo>
                    <a:pt x="1914788" y="1247368"/>
                  </a:lnTo>
                  <a:lnTo>
                    <a:pt x="1918690" y="1255431"/>
                  </a:lnTo>
                  <a:lnTo>
                    <a:pt x="1899506" y="1279002"/>
                  </a:lnTo>
                  <a:lnTo>
                    <a:pt x="1889119" y="1287598"/>
                  </a:lnTo>
                  <a:lnTo>
                    <a:pt x="1859971" y="1273327"/>
                  </a:lnTo>
                  <a:lnTo>
                    <a:pt x="1868521" y="1292072"/>
                  </a:lnTo>
                  <a:lnTo>
                    <a:pt x="1849921" y="1313336"/>
                  </a:lnTo>
                  <a:lnTo>
                    <a:pt x="1841539" y="1319785"/>
                  </a:lnTo>
                  <a:lnTo>
                    <a:pt x="1817579" y="1307372"/>
                  </a:lnTo>
                  <a:lnTo>
                    <a:pt x="1820177" y="1326091"/>
                  </a:lnTo>
                  <a:lnTo>
                    <a:pt x="1805865" y="1319666"/>
                  </a:lnTo>
                  <a:lnTo>
                    <a:pt x="1787029" y="1336147"/>
                  </a:lnTo>
                  <a:lnTo>
                    <a:pt x="1777410" y="1341628"/>
                  </a:lnTo>
                  <a:lnTo>
                    <a:pt x="1776861" y="1341237"/>
                  </a:lnTo>
                  <a:lnTo>
                    <a:pt x="1778551" y="1355828"/>
                  </a:lnTo>
                  <a:lnTo>
                    <a:pt x="1777333" y="1355248"/>
                  </a:lnTo>
                  <a:lnTo>
                    <a:pt x="1779704" y="1368278"/>
                  </a:lnTo>
                  <a:lnTo>
                    <a:pt x="1755328" y="1385420"/>
                  </a:lnTo>
                  <a:lnTo>
                    <a:pt x="1745182" y="1389853"/>
                  </a:lnTo>
                  <a:lnTo>
                    <a:pt x="1727373" y="1374045"/>
                  </a:lnTo>
                  <a:lnTo>
                    <a:pt x="1722614" y="1377278"/>
                  </a:lnTo>
                  <a:lnTo>
                    <a:pt x="1726864" y="1404066"/>
                  </a:lnTo>
                  <a:lnTo>
                    <a:pt x="1712370" y="1413674"/>
                  </a:lnTo>
                  <a:lnTo>
                    <a:pt x="1692728" y="1421846"/>
                  </a:lnTo>
                  <a:lnTo>
                    <a:pt x="1690964" y="1420206"/>
                  </a:lnTo>
                  <a:lnTo>
                    <a:pt x="1678307" y="1426970"/>
                  </a:lnTo>
                  <a:lnTo>
                    <a:pt x="1667697" y="1430135"/>
                  </a:lnTo>
                  <a:lnTo>
                    <a:pt x="1646518" y="1406123"/>
                  </a:lnTo>
                  <a:lnTo>
                    <a:pt x="1647784" y="1442012"/>
                  </a:lnTo>
                  <a:lnTo>
                    <a:pt x="1632228" y="1449783"/>
                  </a:lnTo>
                  <a:lnTo>
                    <a:pt x="1611737" y="1455501"/>
                  </a:lnTo>
                  <a:lnTo>
                    <a:pt x="1590944" y="1430822"/>
                  </a:lnTo>
                  <a:lnTo>
                    <a:pt x="1589410" y="1436712"/>
                  </a:lnTo>
                  <a:lnTo>
                    <a:pt x="1575315" y="1421767"/>
                  </a:lnTo>
                  <a:lnTo>
                    <a:pt x="1572094" y="1423349"/>
                  </a:lnTo>
                  <a:lnTo>
                    <a:pt x="1570777" y="1435636"/>
                  </a:lnTo>
                  <a:lnTo>
                    <a:pt x="1550738" y="1442217"/>
                  </a:lnTo>
                  <a:lnTo>
                    <a:pt x="1545333" y="1461197"/>
                  </a:lnTo>
                  <a:lnTo>
                    <a:pt x="1532831" y="1447322"/>
                  </a:lnTo>
                  <a:lnTo>
                    <a:pt x="1529770" y="1461494"/>
                  </a:lnTo>
                  <a:lnTo>
                    <a:pt x="1502148" y="1467423"/>
                  </a:lnTo>
                  <a:lnTo>
                    <a:pt x="1491574" y="1467584"/>
                  </a:lnTo>
                  <a:lnTo>
                    <a:pt x="1485478" y="1455036"/>
                  </a:lnTo>
                  <a:lnTo>
                    <a:pt x="1481687" y="1455786"/>
                  </a:lnTo>
                  <a:lnTo>
                    <a:pt x="1474081" y="1487510"/>
                  </a:lnTo>
                  <a:lnTo>
                    <a:pt x="1466745" y="1489009"/>
                  </a:lnTo>
                  <a:lnTo>
                    <a:pt x="1434399" y="1489183"/>
                  </a:lnTo>
                  <a:lnTo>
                    <a:pt x="1428587" y="1476494"/>
                  </a:lnTo>
                  <a:lnTo>
                    <a:pt x="1417026" y="1477530"/>
                  </a:lnTo>
                  <a:lnTo>
                    <a:pt x="1406510" y="1476402"/>
                  </a:lnTo>
                  <a:lnTo>
                    <a:pt x="1400194" y="1457969"/>
                  </a:lnTo>
                  <a:lnTo>
                    <a:pt x="1386720" y="1494048"/>
                  </a:lnTo>
                  <a:lnTo>
                    <a:pt x="1379256" y="1494643"/>
                  </a:lnTo>
                  <a:lnTo>
                    <a:pt x="1347129" y="1490877"/>
                  </a:lnTo>
                  <a:lnTo>
                    <a:pt x="1334205" y="1450167"/>
                  </a:lnTo>
                  <a:lnTo>
                    <a:pt x="1333877" y="1450601"/>
                  </a:lnTo>
                  <a:lnTo>
                    <a:pt x="1329871" y="1440069"/>
                  </a:lnTo>
                  <a:lnTo>
                    <a:pt x="1328804" y="1440677"/>
                  </a:lnTo>
                  <a:lnTo>
                    <a:pt x="1327311" y="1444599"/>
                  </a:lnTo>
                  <a:lnTo>
                    <a:pt x="1328590" y="1455648"/>
                  </a:lnTo>
                  <a:lnTo>
                    <a:pt x="1327372" y="1455068"/>
                  </a:lnTo>
                  <a:lnTo>
                    <a:pt x="1329743" y="1468098"/>
                  </a:lnTo>
                  <a:lnTo>
                    <a:pt x="1305368" y="1485240"/>
                  </a:lnTo>
                  <a:lnTo>
                    <a:pt x="1295222" y="1489674"/>
                  </a:lnTo>
                  <a:lnTo>
                    <a:pt x="1277413" y="1473865"/>
                  </a:lnTo>
                  <a:lnTo>
                    <a:pt x="1272653" y="1477098"/>
                  </a:lnTo>
                  <a:lnTo>
                    <a:pt x="1276903" y="1503887"/>
                  </a:lnTo>
                  <a:lnTo>
                    <a:pt x="1262410" y="1513495"/>
                  </a:lnTo>
                  <a:lnTo>
                    <a:pt x="1242768" y="1521666"/>
                  </a:lnTo>
                  <a:lnTo>
                    <a:pt x="1241003" y="1520026"/>
                  </a:lnTo>
                  <a:lnTo>
                    <a:pt x="1228346" y="1526791"/>
                  </a:lnTo>
                  <a:lnTo>
                    <a:pt x="1217737" y="1529956"/>
                  </a:lnTo>
                  <a:lnTo>
                    <a:pt x="1196558" y="1505943"/>
                  </a:lnTo>
                  <a:lnTo>
                    <a:pt x="1197823" y="1541833"/>
                  </a:lnTo>
                  <a:lnTo>
                    <a:pt x="1182267" y="1549604"/>
                  </a:lnTo>
                  <a:lnTo>
                    <a:pt x="1161776" y="1555321"/>
                  </a:lnTo>
                  <a:lnTo>
                    <a:pt x="1140984" y="1530642"/>
                  </a:lnTo>
                  <a:lnTo>
                    <a:pt x="1139450" y="1536533"/>
                  </a:lnTo>
                  <a:lnTo>
                    <a:pt x="1125354" y="1521587"/>
                  </a:lnTo>
                  <a:lnTo>
                    <a:pt x="1122133" y="1523169"/>
                  </a:lnTo>
                  <a:lnTo>
                    <a:pt x="1120817" y="1535457"/>
                  </a:lnTo>
                  <a:lnTo>
                    <a:pt x="1100777" y="1542038"/>
                  </a:lnTo>
                  <a:lnTo>
                    <a:pt x="1095373" y="1561018"/>
                  </a:lnTo>
                  <a:lnTo>
                    <a:pt x="1082870" y="1547143"/>
                  </a:lnTo>
                  <a:lnTo>
                    <a:pt x="1079810" y="1561315"/>
                  </a:lnTo>
                  <a:lnTo>
                    <a:pt x="1052188" y="1567243"/>
                  </a:lnTo>
                  <a:lnTo>
                    <a:pt x="1041614" y="1567404"/>
                  </a:lnTo>
                  <a:lnTo>
                    <a:pt x="1035518" y="1554857"/>
                  </a:lnTo>
                  <a:lnTo>
                    <a:pt x="1031727" y="1555606"/>
                  </a:lnTo>
                  <a:lnTo>
                    <a:pt x="1024120" y="1587330"/>
                  </a:lnTo>
                  <a:lnTo>
                    <a:pt x="1016784" y="1588830"/>
                  </a:lnTo>
                  <a:lnTo>
                    <a:pt x="984438" y="1589004"/>
                  </a:lnTo>
                  <a:lnTo>
                    <a:pt x="978626" y="1576314"/>
                  </a:lnTo>
                  <a:lnTo>
                    <a:pt x="967065" y="1577350"/>
                  </a:lnTo>
                  <a:lnTo>
                    <a:pt x="956549" y="1576222"/>
                  </a:lnTo>
                  <a:lnTo>
                    <a:pt x="950234" y="1557790"/>
                  </a:lnTo>
                  <a:lnTo>
                    <a:pt x="936760" y="1593869"/>
                  </a:lnTo>
                  <a:lnTo>
                    <a:pt x="929296" y="1594464"/>
                  </a:lnTo>
                  <a:lnTo>
                    <a:pt x="897169" y="1590697"/>
                  </a:lnTo>
                  <a:lnTo>
                    <a:pt x="884244" y="1549987"/>
                  </a:lnTo>
                  <a:lnTo>
                    <a:pt x="883916" y="1550422"/>
                  </a:lnTo>
                  <a:lnTo>
                    <a:pt x="879493" y="1538793"/>
                  </a:lnTo>
                  <a:lnTo>
                    <a:pt x="867543" y="1570172"/>
                  </a:lnTo>
                  <a:lnTo>
                    <a:pt x="860074" y="1570719"/>
                  </a:lnTo>
                  <a:lnTo>
                    <a:pt x="840255" y="1568265"/>
                  </a:lnTo>
                  <a:lnTo>
                    <a:pt x="839585" y="1569108"/>
                  </a:lnTo>
                  <a:lnTo>
                    <a:pt x="839242" y="1568139"/>
                  </a:lnTo>
                  <a:lnTo>
                    <a:pt x="827973" y="1566745"/>
                  </a:lnTo>
                  <a:lnTo>
                    <a:pt x="821715" y="1546582"/>
                  </a:lnTo>
                  <a:lnTo>
                    <a:pt x="816592" y="1545205"/>
                  </a:lnTo>
                  <a:lnTo>
                    <a:pt x="816526" y="1544810"/>
                  </a:lnTo>
                  <a:lnTo>
                    <a:pt x="813222" y="1549584"/>
                  </a:lnTo>
                  <a:lnTo>
                    <a:pt x="796105" y="1546517"/>
                  </a:lnTo>
                  <a:lnTo>
                    <a:pt x="790520" y="1544360"/>
                  </a:lnTo>
                  <a:lnTo>
                    <a:pt x="783437" y="1557770"/>
                  </a:lnTo>
                  <a:lnTo>
                    <a:pt x="775958" y="1557402"/>
                  </a:lnTo>
                  <a:lnTo>
                    <a:pt x="767963" y="1555401"/>
                  </a:lnTo>
                  <a:lnTo>
                    <a:pt x="760985" y="1565012"/>
                  </a:lnTo>
                  <a:lnTo>
                    <a:pt x="751891" y="1563214"/>
                  </a:lnTo>
                  <a:lnTo>
                    <a:pt x="720982" y="1550289"/>
                  </a:lnTo>
                  <a:lnTo>
                    <a:pt x="720126" y="1527047"/>
                  </a:lnTo>
                  <a:lnTo>
                    <a:pt x="715412" y="1525591"/>
                  </a:lnTo>
                  <a:lnTo>
                    <a:pt x="699394" y="1517034"/>
                  </a:lnTo>
                  <a:lnTo>
                    <a:pt x="678301" y="1539670"/>
                  </a:lnTo>
                  <a:lnTo>
                    <a:pt x="669494" y="1536779"/>
                  </a:lnTo>
                  <a:lnTo>
                    <a:pt x="640389" y="1520186"/>
                  </a:lnTo>
                  <a:lnTo>
                    <a:pt x="644024" y="1477665"/>
                  </a:lnTo>
                  <a:lnTo>
                    <a:pt x="609440" y="1514301"/>
                  </a:lnTo>
                  <a:lnTo>
                    <a:pt x="600652" y="1511353"/>
                  </a:lnTo>
                  <a:lnTo>
                    <a:pt x="571655" y="1494572"/>
                  </a:lnTo>
                  <a:lnTo>
                    <a:pt x="576229" y="1444859"/>
                  </a:lnTo>
                  <a:lnTo>
                    <a:pt x="570896" y="1440793"/>
                  </a:lnTo>
                  <a:lnTo>
                    <a:pt x="571025" y="1440242"/>
                  </a:lnTo>
                  <a:lnTo>
                    <a:pt x="534060" y="1470882"/>
                  </a:lnTo>
                  <a:lnTo>
                    <a:pt x="525696" y="1466885"/>
                  </a:lnTo>
                  <a:lnTo>
                    <a:pt x="498959" y="1446697"/>
                  </a:lnTo>
                  <a:lnTo>
                    <a:pt x="504097" y="1423042"/>
                  </a:lnTo>
                  <a:lnTo>
                    <a:pt x="494439" y="1413237"/>
                  </a:lnTo>
                  <a:lnTo>
                    <a:pt x="502498" y="1391552"/>
                  </a:lnTo>
                  <a:lnTo>
                    <a:pt x="461023" y="1408088"/>
                  </a:lnTo>
                  <a:lnTo>
                    <a:pt x="464196" y="1390707"/>
                  </a:lnTo>
                  <a:lnTo>
                    <a:pt x="462385" y="1391533"/>
                  </a:lnTo>
                  <a:lnTo>
                    <a:pt x="452422" y="1382818"/>
                  </a:lnTo>
                  <a:lnTo>
                    <a:pt x="432223" y="1356564"/>
                  </a:lnTo>
                  <a:lnTo>
                    <a:pt x="438102" y="1345214"/>
                  </a:lnTo>
                  <a:lnTo>
                    <a:pt x="394486" y="1364770"/>
                  </a:lnTo>
                  <a:lnTo>
                    <a:pt x="384581" y="1355991"/>
                  </a:lnTo>
                  <a:lnTo>
                    <a:pt x="364550" y="1329606"/>
                  </a:lnTo>
                  <a:lnTo>
                    <a:pt x="390461" y="1280373"/>
                  </a:lnTo>
                  <a:lnTo>
                    <a:pt x="338917" y="1296285"/>
                  </a:lnTo>
                  <a:lnTo>
                    <a:pt x="330155" y="1286365"/>
                  </a:lnTo>
                  <a:lnTo>
                    <a:pt x="313487" y="1257737"/>
                  </a:lnTo>
                  <a:lnTo>
                    <a:pt x="345197" y="1212032"/>
                  </a:lnTo>
                  <a:lnTo>
                    <a:pt x="344803" y="1211087"/>
                  </a:lnTo>
                  <a:lnTo>
                    <a:pt x="298428" y="1210470"/>
                  </a:lnTo>
                  <a:lnTo>
                    <a:pt x="321913" y="1174093"/>
                  </a:lnTo>
                  <a:lnTo>
                    <a:pt x="320481" y="1174143"/>
                  </a:lnTo>
                  <a:lnTo>
                    <a:pt x="315974" y="1165126"/>
                  </a:lnTo>
                  <a:lnTo>
                    <a:pt x="310316" y="1144843"/>
                  </a:lnTo>
                  <a:lnTo>
                    <a:pt x="253992" y="1146467"/>
                  </a:lnTo>
                  <a:lnTo>
                    <a:pt x="249545" y="1137419"/>
                  </a:lnTo>
                  <a:lnTo>
                    <a:pt x="238942" y="1098447"/>
                  </a:lnTo>
                  <a:lnTo>
                    <a:pt x="276503" y="1067216"/>
                  </a:lnTo>
                  <a:lnTo>
                    <a:pt x="226054" y="1062497"/>
                  </a:lnTo>
                  <a:lnTo>
                    <a:pt x="222743" y="1052975"/>
                  </a:lnTo>
                  <a:lnTo>
                    <a:pt x="216965" y="1013002"/>
                  </a:lnTo>
                  <a:lnTo>
                    <a:pt x="263827" y="982862"/>
                  </a:lnTo>
                  <a:lnTo>
                    <a:pt x="223831" y="965668"/>
                  </a:lnTo>
                  <a:lnTo>
                    <a:pt x="255794" y="943573"/>
                  </a:lnTo>
                  <a:lnTo>
                    <a:pt x="246099" y="935093"/>
                  </a:lnTo>
                  <a:lnTo>
                    <a:pt x="225899" y="908838"/>
                  </a:lnTo>
                  <a:lnTo>
                    <a:pt x="229563" y="901766"/>
                  </a:lnTo>
                  <a:lnTo>
                    <a:pt x="225602" y="900258"/>
                  </a:lnTo>
                  <a:lnTo>
                    <a:pt x="188162" y="917044"/>
                  </a:lnTo>
                  <a:lnTo>
                    <a:pt x="178258" y="908265"/>
                  </a:lnTo>
                  <a:lnTo>
                    <a:pt x="158227" y="881880"/>
                  </a:lnTo>
                  <a:lnTo>
                    <a:pt x="184138" y="832648"/>
                  </a:lnTo>
                  <a:lnTo>
                    <a:pt x="132593" y="848559"/>
                  </a:lnTo>
                  <a:lnTo>
                    <a:pt x="123832" y="838639"/>
                  </a:lnTo>
                  <a:lnTo>
                    <a:pt x="107164" y="810012"/>
                  </a:lnTo>
                  <a:lnTo>
                    <a:pt x="138873" y="764306"/>
                  </a:lnTo>
                  <a:lnTo>
                    <a:pt x="138480" y="763361"/>
                  </a:lnTo>
                  <a:lnTo>
                    <a:pt x="92105" y="762745"/>
                  </a:lnTo>
                  <a:lnTo>
                    <a:pt x="115589" y="726367"/>
                  </a:lnTo>
                  <a:lnTo>
                    <a:pt x="114157" y="726417"/>
                  </a:lnTo>
                  <a:lnTo>
                    <a:pt x="109651" y="717400"/>
                  </a:lnTo>
                  <a:lnTo>
                    <a:pt x="103992" y="697118"/>
                  </a:lnTo>
                  <a:lnTo>
                    <a:pt x="47668" y="698741"/>
                  </a:lnTo>
                  <a:lnTo>
                    <a:pt x="43222" y="689693"/>
                  </a:lnTo>
                  <a:lnTo>
                    <a:pt x="32618" y="650721"/>
                  </a:lnTo>
                  <a:lnTo>
                    <a:pt x="70180" y="619490"/>
                  </a:lnTo>
                  <a:lnTo>
                    <a:pt x="19731" y="614771"/>
                  </a:lnTo>
                  <a:lnTo>
                    <a:pt x="16419" y="605249"/>
                  </a:lnTo>
                  <a:lnTo>
                    <a:pt x="10641" y="565276"/>
                  </a:lnTo>
                  <a:lnTo>
                    <a:pt x="57504" y="535136"/>
                  </a:lnTo>
                  <a:lnTo>
                    <a:pt x="17507" y="517942"/>
                  </a:lnTo>
                  <a:lnTo>
                    <a:pt x="73190" y="479450"/>
                  </a:lnTo>
                  <a:lnTo>
                    <a:pt x="73193" y="476298"/>
                  </a:lnTo>
                  <a:lnTo>
                    <a:pt x="65509" y="473427"/>
                  </a:lnTo>
                  <a:lnTo>
                    <a:pt x="65238" y="470037"/>
                  </a:lnTo>
                  <a:lnTo>
                    <a:pt x="659" y="445441"/>
                  </a:lnTo>
                  <a:lnTo>
                    <a:pt x="0" y="436436"/>
                  </a:lnTo>
                  <a:lnTo>
                    <a:pt x="5552" y="391592"/>
                  </a:lnTo>
                  <a:lnTo>
                    <a:pt x="45020" y="379342"/>
                  </a:lnTo>
                  <a:lnTo>
                    <a:pt x="3921" y="357631"/>
                  </a:lnTo>
                  <a:lnTo>
                    <a:pt x="4362" y="348613"/>
                  </a:lnTo>
                  <a:lnTo>
                    <a:pt x="15335" y="304779"/>
                  </a:lnTo>
                  <a:lnTo>
                    <a:pt x="72645" y="294417"/>
                  </a:lnTo>
                  <a:lnTo>
                    <a:pt x="55590" y="276904"/>
                  </a:lnTo>
                  <a:lnTo>
                    <a:pt x="52441" y="274408"/>
                  </a:lnTo>
                  <a:lnTo>
                    <a:pt x="52976" y="274219"/>
                  </a:lnTo>
                  <a:lnTo>
                    <a:pt x="42276" y="263229"/>
                  </a:lnTo>
                  <a:lnTo>
                    <a:pt x="99081" y="250994"/>
                  </a:lnTo>
                  <a:lnTo>
                    <a:pt x="102662" y="242152"/>
                  </a:lnTo>
                  <a:lnTo>
                    <a:pt x="53182" y="195443"/>
                  </a:lnTo>
                  <a:lnTo>
                    <a:pt x="59364" y="177014"/>
                  </a:lnTo>
                  <a:lnTo>
                    <a:pt x="69699" y="159158"/>
                  </a:lnTo>
                  <a:lnTo>
                    <a:pt x="73735" y="149371"/>
                  </a:lnTo>
                  <a:lnTo>
                    <a:pt x="75398" y="149310"/>
                  </a:lnTo>
                  <a:lnTo>
                    <a:pt x="78482" y="143982"/>
                  </a:lnTo>
                  <a:lnTo>
                    <a:pt x="112367" y="147100"/>
                  </a:lnTo>
                  <a:lnTo>
                    <a:pt x="86498" y="115891"/>
                  </a:lnTo>
                  <a:lnTo>
                    <a:pt x="94879" y="98352"/>
                  </a:lnTo>
                  <a:lnTo>
                    <a:pt x="107311" y="81888"/>
                  </a:lnTo>
                  <a:lnTo>
                    <a:pt x="112510" y="72665"/>
                  </a:lnTo>
                  <a:lnTo>
                    <a:pt x="114168" y="72807"/>
                  </a:lnTo>
                  <a:lnTo>
                    <a:pt x="117877" y="67894"/>
                  </a:lnTo>
                  <a:lnTo>
                    <a:pt x="157595" y="76520"/>
                  </a:lnTo>
                  <a:lnTo>
                    <a:pt x="164816" y="77137"/>
                  </a:lnTo>
                  <a:lnTo>
                    <a:pt x="154338" y="65063"/>
                  </a:lnTo>
                  <a:lnTo>
                    <a:pt x="156701" y="59883"/>
                  </a:lnTo>
                  <a:lnTo>
                    <a:pt x="142845" y="34993"/>
                  </a:lnTo>
                  <a:lnTo>
                    <a:pt x="172322" y="36527"/>
                  </a:lnTo>
                  <a:lnTo>
                    <a:pt x="181962" y="23001"/>
                  </a:lnTo>
                  <a:lnTo>
                    <a:pt x="211432" y="28704"/>
                  </a:lnTo>
                  <a:lnTo>
                    <a:pt x="193832" y="0"/>
                  </a:lnTo>
                  <a:close/>
                </a:path>
              </a:pathLst>
            </a:custGeom>
            <a:solidFill>
              <a:srgbClr val="add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28"/>
            <p:cNvSpPr/>
            <p:nvPr/>
          </p:nvSpPr>
          <p:spPr>
            <a:xfrm>
              <a:off x="1481040" y="0"/>
              <a:ext cx="1336680" cy="1057320"/>
            </a:xfrm>
            <a:custGeom>
              <a:avLst/>
              <a:gdLst/>
              <a:ahLst/>
              <a:rect l="l" t="t" r="r" b="b"/>
              <a:pathLst>
                <a:path w="1336354" h="1057202">
                  <a:moveTo>
                    <a:pt x="127715" y="0"/>
                  </a:moveTo>
                  <a:lnTo>
                    <a:pt x="152505" y="0"/>
                  </a:lnTo>
                  <a:lnTo>
                    <a:pt x="160648" y="3027"/>
                  </a:lnTo>
                  <a:lnTo>
                    <a:pt x="159267" y="0"/>
                  </a:lnTo>
                  <a:lnTo>
                    <a:pt x="1173479" y="0"/>
                  </a:lnTo>
                  <a:lnTo>
                    <a:pt x="1165284" y="16468"/>
                  </a:lnTo>
                  <a:lnTo>
                    <a:pt x="1166577" y="15842"/>
                  </a:lnTo>
                  <a:lnTo>
                    <a:pt x="1168648" y="17527"/>
                  </a:lnTo>
                  <a:lnTo>
                    <a:pt x="1186914" y="11432"/>
                  </a:lnTo>
                  <a:lnTo>
                    <a:pt x="1200942" y="26219"/>
                  </a:lnTo>
                  <a:lnTo>
                    <a:pt x="1209907" y="40428"/>
                  </a:lnTo>
                  <a:lnTo>
                    <a:pt x="1199124" y="56747"/>
                  </a:lnTo>
                  <a:lnTo>
                    <a:pt x="1214005" y="73754"/>
                  </a:lnTo>
                  <a:lnTo>
                    <a:pt x="1216456" y="78055"/>
                  </a:lnTo>
                  <a:lnTo>
                    <a:pt x="1218393" y="77786"/>
                  </a:lnTo>
                  <a:lnTo>
                    <a:pt x="1217472" y="79837"/>
                  </a:lnTo>
                  <a:lnTo>
                    <a:pt x="1218568" y="81761"/>
                  </a:lnTo>
                  <a:lnTo>
                    <a:pt x="1224719" y="81704"/>
                  </a:lnTo>
                  <a:lnTo>
                    <a:pt x="1219165" y="90752"/>
                  </a:lnTo>
                  <a:lnTo>
                    <a:pt x="1219412" y="91355"/>
                  </a:lnTo>
                  <a:lnTo>
                    <a:pt x="1217591" y="93315"/>
                  </a:lnTo>
                  <a:lnTo>
                    <a:pt x="1213045" y="100720"/>
                  </a:lnTo>
                  <a:lnTo>
                    <a:pt x="1226089" y="98564"/>
                  </a:lnTo>
                  <a:lnTo>
                    <a:pt x="1227642" y="100850"/>
                  </a:lnTo>
                  <a:lnTo>
                    <a:pt x="1241585" y="98313"/>
                  </a:lnTo>
                  <a:lnTo>
                    <a:pt x="1256261" y="119179"/>
                  </a:lnTo>
                  <a:lnTo>
                    <a:pt x="1260282" y="128383"/>
                  </a:lnTo>
                  <a:lnTo>
                    <a:pt x="1257957" y="131002"/>
                  </a:lnTo>
                  <a:lnTo>
                    <a:pt x="1259777" y="137253"/>
                  </a:lnTo>
                  <a:lnTo>
                    <a:pt x="1246931" y="148437"/>
                  </a:lnTo>
                  <a:lnTo>
                    <a:pt x="1264809" y="147400"/>
                  </a:lnTo>
                  <a:lnTo>
                    <a:pt x="1276833" y="169899"/>
                  </a:lnTo>
                  <a:lnTo>
                    <a:pt x="1279704" y="179523"/>
                  </a:lnTo>
                  <a:lnTo>
                    <a:pt x="1277077" y="181840"/>
                  </a:lnTo>
                  <a:lnTo>
                    <a:pt x="1278122" y="188266"/>
                  </a:lnTo>
                  <a:lnTo>
                    <a:pt x="1260834" y="199948"/>
                  </a:lnTo>
                  <a:lnTo>
                    <a:pt x="1274087" y="201368"/>
                  </a:lnTo>
                  <a:lnTo>
                    <a:pt x="1281211" y="223056"/>
                  </a:lnTo>
                  <a:lnTo>
                    <a:pt x="1289001" y="225085"/>
                  </a:lnTo>
                  <a:lnTo>
                    <a:pt x="1283322" y="230441"/>
                  </a:lnTo>
                  <a:lnTo>
                    <a:pt x="1283622" y="232906"/>
                  </a:lnTo>
                  <a:lnTo>
                    <a:pt x="1274999" y="238289"/>
                  </a:lnTo>
                  <a:lnTo>
                    <a:pt x="1267926" y="244960"/>
                  </a:lnTo>
                  <a:lnTo>
                    <a:pt x="1302518" y="252429"/>
                  </a:lnTo>
                  <a:lnTo>
                    <a:pt x="1308605" y="280784"/>
                  </a:lnTo>
                  <a:lnTo>
                    <a:pt x="1308665" y="284799"/>
                  </a:lnTo>
                  <a:lnTo>
                    <a:pt x="1289341" y="294186"/>
                  </a:lnTo>
                  <a:lnTo>
                    <a:pt x="1290088" y="297843"/>
                  </a:lnTo>
                  <a:lnTo>
                    <a:pt x="1290112" y="302083"/>
                  </a:lnTo>
                  <a:lnTo>
                    <a:pt x="1306518" y="307790"/>
                  </a:lnTo>
                  <a:lnTo>
                    <a:pt x="1309106" y="336675"/>
                  </a:lnTo>
                  <a:lnTo>
                    <a:pt x="1308678" y="340667"/>
                  </a:lnTo>
                  <a:lnTo>
                    <a:pt x="1288353" y="347631"/>
                  </a:lnTo>
                  <a:lnTo>
                    <a:pt x="1288650" y="351353"/>
                  </a:lnTo>
                  <a:lnTo>
                    <a:pt x="1287649" y="359900"/>
                  </a:lnTo>
                  <a:lnTo>
                    <a:pt x="1285528" y="360574"/>
                  </a:lnTo>
                  <a:lnTo>
                    <a:pt x="1281637" y="363962"/>
                  </a:lnTo>
                  <a:lnTo>
                    <a:pt x="1289038" y="368000"/>
                  </a:lnTo>
                  <a:lnTo>
                    <a:pt x="1288924" y="369599"/>
                  </a:lnTo>
                  <a:lnTo>
                    <a:pt x="1292056" y="369418"/>
                  </a:lnTo>
                  <a:lnTo>
                    <a:pt x="1304081" y="391916"/>
                  </a:lnTo>
                  <a:lnTo>
                    <a:pt x="1306952" y="401541"/>
                  </a:lnTo>
                  <a:lnTo>
                    <a:pt x="1304325" y="403858"/>
                  </a:lnTo>
                  <a:lnTo>
                    <a:pt x="1305370" y="410284"/>
                  </a:lnTo>
                  <a:lnTo>
                    <a:pt x="1295648" y="416853"/>
                  </a:lnTo>
                  <a:lnTo>
                    <a:pt x="1299772" y="419708"/>
                  </a:lnTo>
                  <a:lnTo>
                    <a:pt x="1299155" y="423152"/>
                  </a:lnTo>
                  <a:lnTo>
                    <a:pt x="1301335" y="423386"/>
                  </a:lnTo>
                  <a:lnTo>
                    <a:pt x="1308459" y="445074"/>
                  </a:lnTo>
                  <a:lnTo>
                    <a:pt x="1316249" y="447103"/>
                  </a:lnTo>
                  <a:lnTo>
                    <a:pt x="1310570" y="452459"/>
                  </a:lnTo>
                  <a:lnTo>
                    <a:pt x="1310870" y="454924"/>
                  </a:lnTo>
                  <a:lnTo>
                    <a:pt x="1302246" y="460307"/>
                  </a:lnTo>
                  <a:lnTo>
                    <a:pt x="1295174" y="466978"/>
                  </a:lnTo>
                  <a:lnTo>
                    <a:pt x="1329766" y="474447"/>
                  </a:lnTo>
                  <a:lnTo>
                    <a:pt x="1335853" y="502801"/>
                  </a:lnTo>
                  <a:lnTo>
                    <a:pt x="1335913" y="506817"/>
                  </a:lnTo>
                  <a:lnTo>
                    <a:pt x="1316589" y="516203"/>
                  </a:lnTo>
                  <a:lnTo>
                    <a:pt x="1317336" y="519861"/>
                  </a:lnTo>
                  <a:lnTo>
                    <a:pt x="1317360" y="524101"/>
                  </a:lnTo>
                  <a:lnTo>
                    <a:pt x="1333765" y="529808"/>
                  </a:lnTo>
                  <a:lnTo>
                    <a:pt x="1336354" y="558693"/>
                  </a:lnTo>
                  <a:lnTo>
                    <a:pt x="1335926" y="562685"/>
                  </a:lnTo>
                  <a:lnTo>
                    <a:pt x="1315601" y="569649"/>
                  </a:lnTo>
                  <a:lnTo>
                    <a:pt x="1315898" y="573370"/>
                  </a:lnTo>
                  <a:lnTo>
                    <a:pt x="1314896" y="581918"/>
                  </a:lnTo>
                  <a:lnTo>
                    <a:pt x="1306390" y="584619"/>
                  </a:lnTo>
                  <a:lnTo>
                    <a:pt x="1316286" y="590018"/>
                  </a:lnTo>
                  <a:lnTo>
                    <a:pt x="1315369" y="602839"/>
                  </a:lnTo>
                  <a:lnTo>
                    <a:pt x="1325115" y="610210"/>
                  </a:lnTo>
                  <a:lnTo>
                    <a:pt x="1314553" y="614226"/>
                  </a:lnTo>
                  <a:lnTo>
                    <a:pt x="1314506" y="614879"/>
                  </a:lnTo>
                  <a:lnTo>
                    <a:pt x="1313058" y="620265"/>
                  </a:lnTo>
                  <a:lnTo>
                    <a:pt x="1299322" y="622558"/>
                  </a:lnTo>
                  <a:lnTo>
                    <a:pt x="1327020" y="641726"/>
                  </a:lnTo>
                  <a:lnTo>
                    <a:pt x="1322622" y="666259"/>
                  </a:lnTo>
                  <a:lnTo>
                    <a:pt x="1320613" y="671462"/>
                  </a:lnTo>
                  <a:lnTo>
                    <a:pt x="1304250" y="672437"/>
                  </a:lnTo>
                  <a:lnTo>
                    <a:pt x="1301332" y="687195"/>
                  </a:lnTo>
                  <a:lnTo>
                    <a:pt x="1310668" y="695507"/>
                  </a:lnTo>
                  <a:lnTo>
                    <a:pt x="1303316" y="719322"/>
                  </a:lnTo>
                  <a:lnTo>
                    <a:pt x="1300688" y="724242"/>
                  </a:lnTo>
                  <a:lnTo>
                    <a:pt x="1284327" y="723216"/>
                  </a:lnTo>
                  <a:lnTo>
                    <a:pt x="1279079" y="739201"/>
                  </a:lnTo>
                  <a:lnTo>
                    <a:pt x="1275578" y="745341"/>
                  </a:lnTo>
                  <a:lnTo>
                    <a:pt x="1259741" y="743987"/>
                  </a:lnTo>
                  <a:lnTo>
                    <a:pt x="1265380" y="750980"/>
                  </a:lnTo>
                  <a:lnTo>
                    <a:pt x="1264330" y="753123"/>
                  </a:lnTo>
                  <a:lnTo>
                    <a:pt x="1270887" y="764297"/>
                  </a:lnTo>
                  <a:lnTo>
                    <a:pt x="1259031" y="763950"/>
                  </a:lnTo>
                  <a:lnTo>
                    <a:pt x="1256852" y="768402"/>
                  </a:lnTo>
                  <a:lnTo>
                    <a:pt x="1251635" y="775246"/>
                  </a:lnTo>
                  <a:lnTo>
                    <a:pt x="1244709" y="773645"/>
                  </a:lnTo>
                  <a:lnTo>
                    <a:pt x="1259385" y="796404"/>
                  </a:lnTo>
                  <a:lnTo>
                    <a:pt x="1249064" y="812828"/>
                  </a:lnTo>
                  <a:lnTo>
                    <a:pt x="1243152" y="819083"/>
                  </a:lnTo>
                  <a:lnTo>
                    <a:pt x="1225369" y="812928"/>
                  </a:lnTo>
                  <a:lnTo>
                    <a:pt x="1224501" y="813816"/>
                  </a:lnTo>
                  <a:lnTo>
                    <a:pt x="1230450" y="823518"/>
                  </a:lnTo>
                  <a:lnTo>
                    <a:pt x="1222209" y="835651"/>
                  </a:lnTo>
                  <a:lnTo>
                    <a:pt x="1224700" y="840797"/>
                  </a:lnTo>
                  <a:lnTo>
                    <a:pt x="1212455" y="855842"/>
                  </a:lnTo>
                  <a:lnTo>
                    <a:pt x="1205825" y="861330"/>
                  </a:lnTo>
                  <a:lnTo>
                    <a:pt x="1187220" y="852220"/>
                  </a:lnTo>
                  <a:lnTo>
                    <a:pt x="1192677" y="864185"/>
                  </a:lnTo>
                  <a:lnTo>
                    <a:pt x="1180805" y="877758"/>
                  </a:lnTo>
                  <a:lnTo>
                    <a:pt x="1175455" y="881875"/>
                  </a:lnTo>
                  <a:lnTo>
                    <a:pt x="1160161" y="873951"/>
                  </a:lnTo>
                  <a:lnTo>
                    <a:pt x="1161819" y="885900"/>
                  </a:lnTo>
                  <a:lnTo>
                    <a:pt x="1152684" y="881799"/>
                  </a:lnTo>
                  <a:lnTo>
                    <a:pt x="1140661" y="892318"/>
                  </a:lnTo>
                  <a:lnTo>
                    <a:pt x="1134521" y="895817"/>
                  </a:lnTo>
                  <a:lnTo>
                    <a:pt x="1134171" y="895567"/>
                  </a:lnTo>
                  <a:lnTo>
                    <a:pt x="1135249" y="904881"/>
                  </a:lnTo>
                  <a:lnTo>
                    <a:pt x="1134472" y="904510"/>
                  </a:lnTo>
                  <a:lnTo>
                    <a:pt x="1135985" y="912827"/>
                  </a:lnTo>
                  <a:lnTo>
                    <a:pt x="1120426" y="923769"/>
                  </a:lnTo>
                  <a:lnTo>
                    <a:pt x="1113950" y="926599"/>
                  </a:lnTo>
                  <a:lnTo>
                    <a:pt x="1102582" y="916508"/>
                  </a:lnTo>
                  <a:lnTo>
                    <a:pt x="1099545" y="918572"/>
                  </a:lnTo>
                  <a:lnTo>
                    <a:pt x="1102257" y="935671"/>
                  </a:lnTo>
                  <a:lnTo>
                    <a:pt x="1093006" y="941804"/>
                  </a:lnTo>
                  <a:lnTo>
                    <a:pt x="1080468" y="947020"/>
                  </a:lnTo>
                  <a:lnTo>
                    <a:pt x="1079342" y="945973"/>
                  </a:lnTo>
                  <a:lnTo>
                    <a:pt x="1071263" y="950291"/>
                  </a:lnTo>
                  <a:lnTo>
                    <a:pt x="1064491" y="952311"/>
                  </a:lnTo>
                  <a:lnTo>
                    <a:pt x="1050973" y="936984"/>
                  </a:lnTo>
                  <a:lnTo>
                    <a:pt x="1051781" y="959892"/>
                  </a:lnTo>
                  <a:lnTo>
                    <a:pt x="1041852" y="964852"/>
                  </a:lnTo>
                  <a:lnTo>
                    <a:pt x="1028772" y="968502"/>
                  </a:lnTo>
                  <a:lnTo>
                    <a:pt x="1015500" y="952749"/>
                  </a:lnTo>
                  <a:lnTo>
                    <a:pt x="1014521" y="956509"/>
                  </a:lnTo>
                  <a:lnTo>
                    <a:pt x="1005524" y="946969"/>
                  </a:lnTo>
                  <a:lnTo>
                    <a:pt x="1003468" y="947979"/>
                  </a:lnTo>
                  <a:lnTo>
                    <a:pt x="1002627" y="955822"/>
                  </a:lnTo>
                  <a:lnTo>
                    <a:pt x="989836" y="960023"/>
                  </a:lnTo>
                  <a:lnTo>
                    <a:pt x="986386" y="972138"/>
                  </a:lnTo>
                  <a:lnTo>
                    <a:pt x="978406" y="963281"/>
                  </a:lnTo>
                  <a:lnTo>
                    <a:pt x="976452" y="972327"/>
                  </a:lnTo>
                  <a:lnTo>
                    <a:pt x="958821" y="976112"/>
                  </a:lnTo>
                  <a:lnTo>
                    <a:pt x="952072" y="976214"/>
                  </a:lnTo>
                  <a:lnTo>
                    <a:pt x="948181" y="968205"/>
                  </a:lnTo>
                  <a:lnTo>
                    <a:pt x="945761" y="968684"/>
                  </a:lnTo>
                  <a:lnTo>
                    <a:pt x="940906" y="988933"/>
                  </a:lnTo>
                  <a:lnTo>
                    <a:pt x="936223" y="989890"/>
                  </a:lnTo>
                  <a:lnTo>
                    <a:pt x="915577" y="990001"/>
                  </a:lnTo>
                  <a:lnTo>
                    <a:pt x="911867" y="981902"/>
                  </a:lnTo>
                  <a:lnTo>
                    <a:pt x="904488" y="982563"/>
                  </a:lnTo>
                  <a:lnTo>
                    <a:pt x="897776" y="981843"/>
                  </a:lnTo>
                  <a:lnTo>
                    <a:pt x="893744" y="970077"/>
                  </a:lnTo>
                  <a:lnTo>
                    <a:pt x="885144" y="993107"/>
                  </a:lnTo>
                  <a:lnTo>
                    <a:pt x="880379" y="993486"/>
                  </a:lnTo>
                  <a:lnTo>
                    <a:pt x="859873" y="991082"/>
                  </a:lnTo>
                  <a:lnTo>
                    <a:pt x="851623" y="965097"/>
                  </a:lnTo>
                  <a:lnTo>
                    <a:pt x="851414" y="965374"/>
                  </a:lnTo>
                  <a:lnTo>
                    <a:pt x="848857" y="958652"/>
                  </a:lnTo>
                  <a:lnTo>
                    <a:pt x="848176" y="959040"/>
                  </a:lnTo>
                  <a:lnTo>
                    <a:pt x="847223" y="961543"/>
                  </a:lnTo>
                  <a:lnTo>
                    <a:pt x="848039" y="968596"/>
                  </a:lnTo>
                  <a:lnTo>
                    <a:pt x="847262" y="968226"/>
                  </a:lnTo>
                  <a:lnTo>
                    <a:pt x="848775" y="976543"/>
                  </a:lnTo>
                  <a:lnTo>
                    <a:pt x="833216" y="987485"/>
                  </a:lnTo>
                  <a:lnTo>
                    <a:pt x="826740" y="990314"/>
                  </a:lnTo>
                  <a:lnTo>
                    <a:pt x="815373" y="980224"/>
                  </a:lnTo>
                  <a:lnTo>
                    <a:pt x="812335" y="982288"/>
                  </a:lnTo>
                  <a:lnTo>
                    <a:pt x="815048" y="999387"/>
                  </a:lnTo>
                  <a:lnTo>
                    <a:pt x="805796" y="1005520"/>
                  </a:lnTo>
                  <a:lnTo>
                    <a:pt x="793259" y="1010735"/>
                  </a:lnTo>
                  <a:lnTo>
                    <a:pt x="792133" y="1009689"/>
                  </a:lnTo>
                  <a:lnTo>
                    <a:pt x="784054" y="1014006"/>
                  </a:lnTo>
                  <a:lnTo>
                    <a:pt x="777281" y="1016026"/>
                  </a:lnTo>
                  <a:lnTo>
                    <a:pt x="763763" y="1000699"/>
                  </a:lnTo>
                  <a:lnTo>
                    <a:pt x="764571" y="1023607"/>
                  </a:lnTo>
                  <a:lnTo>
                    <a:pt x="754641" y="1028568"/>
                  </a:lnTo>
                  <a:lnTo>
                    <a:pt x="741562" y="1032217"/>
                  </a:lnTo>
                  <a:lnTo>
                    <a:pt x="728290" y="1016465"/>
                  </a:lnTo>
                  <a:lnTo>
                    <a:pt x="727311" y="1020224"/>
                  </a:lnTo>
                  <a:lnTo>
                    <a:pt x="718314" y="1010685"/>
                  </a:lnTo>
                  <a:lnTo>
                    <a:pt x="716258" y="1011695"/>
                  </a:lnTo>
                  <a:lnTo>
                    <a:pt x="715417" y="1019538"/>
                  </a:lnTo>
                  <a:lnTo>
                    <a:pt x="702626" y="1023739"/>
                  </a:lnTo>
                  <a:lnTo>
                    <a:pt x="699176" y="1035853"/>
                  </a:lnTo>
                  <a:lnTo>
                    <a:pt x="691196" y="1026997"/>
                  </a:lnTo>
                  <a:lnTo>
                    <a:pt x="689243" y="1036043"/>
                  </a:lnTo>
                  <a:lnTo>
                    <a:pt x="671612" y="1039827"/>
                  </a:lnTo>
                  <a:lnTo>
                    <a:pt x="664862" y="1039930"/>
                  </a:lnTo>
                  <a:lnTo>
                    <a:pt x="660971" y="1031921"/>
                  </a:lnTo>
                  <a:lnTo>
                    <a:pt x="658551" y="1032399"/>
                  </a:lnTo>
                  <a:lnTo>
                    <a:pt x="653696" y="1052649"/>
                  </a:lnTo>
                  <a:lnTo>
                    <a:pt x="649014" y="1053606"/>
                  </a:lnTo>
                  <a:lnTo>
                    <a:pt x="628367" y="1053717"/>
                  </a:lnTo>
                  <a:lnTo>
                    <a:pt x="624657" y="1045617"/>
                  </a:lnTo>
                  <a:lnTo>
                    <a:pt x="617278" y="1046278"/>
                  </a:lnTo>
                  <a:lnTo>
                    <a:pt x="610565" y="1045558"/>
                  </a:lnTo>
                  <a:lnTo>
                    <a:pt x="606534" y="1033793"/>
                  </a:lnTo>
                  <a:lnTo>
                    <a:pt x="597934" y="1056822"/>
                  </a:lnTo>
                  <a:lnTo>
                    <a:pt x="593169" y="1057202"/>
                  </a:lnTo>
                  <a:lnTo>
                    <a:pt x="572663" y="1054798"/>
                  </a:lnTo>
                  <a:lnTo>
                    <a:pt x="564413" y="1028812"/>
                  </a:lnTo>
                  <a:lnTo>
                    <a:pt x="564204" y="1029090"/>
                  </a:lnTo>
                  <a:lnTo>
                    <a:pt x="561381" y="1021667"/>
                  </a:lnTo>
                  <a:lnTo>
                    <a:pt x="553753" y="1041696"/>
                  </a:lnTo>
                  <a:lnTo>
                    <a:pt x="548985" y="1042045"/>
                  </a:lnTo>
                  <a:lnTo>
                    <a:pt x="536335" y="1040479"/>
                  </a:lnTo>
                  <a:lnTo>
                    <a:pt x="535907" y="1041017"/>
                  </a:lnTo>
                  <a:lnTo>
                    <a:pt x="535688" y="1040399"/>
                  </a:lnTo>
                  <a:lnTo>
                    <a:pt x="528495" y="1039509"/>
                  </a:lnTo>
                  <a:lnTo>
                    <a:pt x="524501" y="1026639"/>
                  </a:lnTo>
                  <a:lnTo>
                    <a:pt x="521231" y="1025760"/>
                  </a:lnTo>
                  <a:lnTo>
                    <a:pt x="521189" y="1025508"/>
                  </a:lnTo>
                  <a:lnTo>
                    <a:pt x="519079" y="1028555"/>
                  </a:lnTo>
                  <a:lnTo>
                    <a:pt x="508154" y="1026597"/>
                  </a:lnTo>
                  <a:lnTo>
                    <a:pt x="504589" y="1025221"/>
                  </a:lnTo>
                  <a:lnTo>
                    <a:pt x="500068" y="1033780"/>
                  </a:lnTo>
                  <a:lnTo>
                    <a:pt x="495294" y="1033545"/>
                  </a:lnTo>
                  <a:lnTo>
                    <a:pt x="490191" y="1032268"/>
                  </a:lnTo>
                  <a:lnTo>
                    <a:pt x="485737" y="1038403"/>
                  </a:lnTo>
                  <a:lnTo>
                    <a:pt x="479932" y="1037255"/>
                  </a:lnTo>
                  <a:lnTo>
                    <a:pt x="460203" y="1029005"/>
                  </a:lnTo>
                  <a:lnTo>
                    <a:pt x="459657" y="1014169"/>
                  </a:lnTo>
                  <a:lnTo>
                    <a:pt x="456648" y="1013240"/>
                  </a:lnTo>
                  <a:lnTo>
                    <a:pt x="446424" y="1007779"/>
                  </a:lnTo>
                  <a:lnTo>
                    <a:pt x="432960" y="1022227"/>
                  </a:lnTo>
                  <a:lnTo>
                    <a:pt x="427338" y="1020382"/>
                  </a:lnTo>
                  <a:lnTo>
                    <a:pt x="408761" y="1009790"/>
                  </a:lnTo>
                  <a:lnTo>
                    <a:pt x="411081" y="982649"/>
                  </a:lnTo>
                  <a:lnTo>
                    <a:pt x="389006" y="1006034"/>
                  </a:lnTo>
                  <a:lnTo>
                    <a:pt x="383396" y="1004152"/>
                  </a:lnTo>
                  <a:lnTo>
                    <a:pt x="364888" y="993441"/>
                  </a:lnTo>
                  <a:lnTo>
                    <a:pt x="367807" y="961709"/>
                  </a:lnTo>
                  <a:lnTo>
                    <a:pt x="364403" y="959114"/>
                  </a:lnTo>
                  <a:lnTo>
                    <a:pt x="364485" y="958762"/>
                  </a:lnTo>
                  <a:lnTo>
                    <a:pt x="340891" y="978319"/>
                  </a:lnTo>
                  <a:lnTo>
                    <a:pt x="335552" y="975768"/>
                  </a:lnTo>
                  <a:lnTo>
                    <a:pt x="318486" y="962882"/>
                  </a:lnTo>
                  <a:lnTo>
                    <a:pt x="321765" y="947783"/>
                  </a:lnTo>
                  <a:lnTo>
                    <a:pt x="315600" y="941525"/>
                  </a:lnTo>
                  <a:lnTo>
                    <a:pt x="320744" y="927683"/>
                  </a:lnTo>
                  <a:lnTo>
                    <a:pt x="294271" y="938238"/>
                  </a:lnTo>
                  <a:lnTo>
                    <a:pt x="296296" y="927144"/>
                  </a:lnTo>
                  <a:lnTo>
                    <a:pt x="295140" y="927671"/>
                  </a:lnTo>
                  <a:lnTo>
                    <a:pt x="288781" y="922108"/>
                  </a:lnTo>
                  <a:lnTo>
                    <a:pt x="275888" y="905350"/>
                  </a:lnTo>
                  <a:lnTo>
                    <a:pt x="279640" y="898106"/>
                  </a:lnTo>
                  <a:lnTo>
                    <a:pt x="251801" y="910588"/>
                  </a:lnTo>
                  <a:lnTo>
                    <a:pt x="245478" y="904985"/>
                  </a:lnTo>
                  <a:lnTo>
                    <a:pt x="232693" y="888143"/>
                  </a:lnTo>
                  <a:lnTo>
                    <a:pt x="249232" y="856718"/>
                  </a:lnTo>
                  <a:lnTo>
                    <a:pt x="216331" y="866874"/>
                  </a:lnTo>
                  <a:lnTo>
                    <a:pt x="210738" y="860543"/>
                  </a:lnTo>
                  <a:lnTo>
                    <a:pt x="200099" y="842269"/>
                  </a:lnTo>
                  <a:lnTo>
                    <a:pt x="220339" y="813096"/>
                  </a:lnTo>
                  <a:lnTo>
                    <a:pt x="220088" y="812492"/>
                  </a:lnTo>
                  <a:lnTo>
                    <a:pt x="190487" y="812099"/>
                  </a:lnTo>
                  <a:lnTo>
                    <a:pt x="205477" y="788879"/>
                  </a:lnTo>
                  <a:lnTo>
                    <a:pt x="204563" y="788911"/>
                  </a:lnTo>
                  <a:lnTo>
                    <a:pt x="201686" y="783155"/>
                  </a:lnTo>
                  <a:lnTo>
                    <a:pt x="198075" y="770209"/>
                  </a:lnTo>
                  <a:lnTo>
                    <a:pt x="162123" y="771245"/>
                  </a:lnTo>
                  <a:lnTo>
                    <a:pt x="159285" y="765470"/>
                  </a:lnTo>
                  <a:lnTo>
                    <a:pt x="152517" y="740595"/>
                  </a:lnTo>
                  <a:lnTo>
                    <a:pt x="176492" y="720660"/>
                  </a:lnTo>
                  <a:lnTo>
                    <a:pt x="144291" y="717648"/>
                  </a:lnTo>
                  <a:lnTo>
                    <a:pt x="142177" y="711570"/>
                  </a:lnTo>
                  <a:lnTo>
                    <a:pt x="138489" y="686055"/>
                  </a:lnTo>
                  <a:lnTo>
                    <a:pt x="168401" y="666817"/>
                  </a:lnTo>
                  <a:lnTo>
                    <a:pt x="142871" y="655841"/>
                  </a:lnTo>
                  <a:lnTo>
                    <a:pt x="163273" y="641738"/>
                  </a:lnTo>
                  <a:lnTo>
                    <a:pt x="157085" y="636325"/>
                  </a:lnTo>
                  <a:lnTo>
                    <a:pt x="144192" y="619567"/>
                  </a:lnTo>
                  <a:lnTo>
                    <a:pt x="146530" y="615053"/>
                  </a:lnTo>
                  <a:lnTo>
                    <a:pt x="144002" y="614090"/>
                  </a:lnTo>
                  <a:lnTo>
                    <a:pt x="120104" y="624805"/>
                  </a:lnTo>
                  <a:lnTo>
                    <a:pt x="113782" y="619201"/>
                  </a:lnTo>
                  <a:lnTo>
                    <a:pt x="100996" y="602360"/>
                  </a:lnTo>
                  <a:lnTo>
                    <a:pt x="117535" y="570935"/>
                  </a:lnTo>
                  <a:lnTo>
                    <a:pt x="84634" y="581091"/>
                  </a:lnTo>
                  <a:lnTo>
                    <a:pt x="79042" y="574759"/>
                  </a:lnTo>
                  <a:lnTo>
                    <a:pt x="68403" y="556486"/>
                  </a:lnTo>
                  <a:lnTo>
                    <a:pt x="88643" y="527312"/>
                  </a:lnTo>
                  <a:lnTo>
                    <a:pt x="88392" y="526709"/>
                  </a:lnTo>
                  <a:lnTo>
                    <a:pt x="58790" y="526316"/>
                  </a:lnTo>
                  <a:lnTo>
                    <a:pt x="73781" y="503096"/>
                  </a:lnTo>
                  <a:lnTo>
                    <a:pt x="72867" y="503128"/>
                  </a:lnTo>
                  <a:lnTo>
                    <a:pt x="69990" y="497372"/>
                  </a:lnTo>
                  <a:lnTo>
                    <a:pt x="66378" y="484426"/>
                  </a:lnTo>
                  <a:lnTo>
                    <a:pt x="30427" y="485462"/>
                  </a:lnTo>
                  <a:lnTo>
                    <a:pt x="27589" y="479687"/>
                  </a:lnTo>
                  <a:lnTo>
                    <a:pt x="20820" y="454811"/>
                  </a:lnTo>
                  <a:lnTo>
                    <a:pt x="44796" y="434876"/>
                  </a:lnTo>
                  <a:lnTo>
                    <a:pt x="12594" y="431864"/>
                  </a:lnTo>
                  <a:lnTo>
                    <a:pt x="10481" y="425786"/>
                  </a:lnTo>
                  <a:lnTo>
                    <a:pt x="6792" y="400271"/>
                  </a:lnTo>
                  <a:lnTo>
                    <a:pt x="36705" y="381033"/>
                  </a:lnTo>
                  <a:lnTo>
                    <a:pt x="11175" y="370058"/>
                  </a:lnTo>
                  <a:lnTo>
                    <a:pt x="46717" y="345489"/>
                  </a:lnTo>
                  <a:lnTo>
                    <a:pt x="46720" y="343476"/>
                  </a:lnTo>
                  <a:lnTo>
                    <a:pt x="41814" y="341644"/>
                  </a:lnTo>
                  <a:lnTo>
                    <a:pt x="41642" y="339480"/>
                  </a:lnTo>
                  <a:lnTo>
                    <a:pt x="421" y="323780"/>
                  </a:lnTo>
                  <a:lnTo>
                    <a:pt x="0" y="318032"/>
                  </a:lnTo>
                  <a:lnTo>
                    <a:pt x="3544" y="289409"/>
                  </a:lnTo>
                  <a:lnTo>
                    <a:pt x="28737" y="281590"/>
                  </a:lnTo>
                  <a:lnTo>
                    <a:pt x="2503" y="267731"/>
                  </a:lnTo>
                  <a:lnTo>
                    <a:pt x="2785" y="261975"/>
                  </a:lnTo>
                  <a:lnTo>
                    <a:pt x="9788" y="233996"/>
                  </a:lnTo>
                  <a:lnTo>
                    <a:pt x="46369" y="227382"/>
                  </a:lnTo>
                  <a:lnTo>
                    <a:pt x="35483" y="216203"/>
                  </a:lnTo>
                  <a:lnTo>
                    <a:pt x="33473" y="214610"/>
                  </a:lnTo>
                  <a:lnTo>
                    <a:pt x="33815" y="214489"/>
                  </a:lnTo>
                  <a:lnTo>
                    <a:pt x="26985" y="207475"/>
                  </a:lnTo>
                  <a:lnTo>
                    <a:pt x="63243" y="199665"/>
                  </a:lnTo>
                  <a:lnTo>
                    <a:pt x="65529" y="194021"/>
                  </a:lnTo>
                  <a:lnTo>
                    <a:pt x="33946" y="164207"/>
                  </a:lnTo>
                  <a:lnTo>
                    <a:pt x="37892" y="152444"/>
                  </a:lnTo>
                  <a:lnTo>
                    <a:pt x="44489" y="141046"/>
                  </a:lnTo>
                  <a:lnTo>
                    <a:pt x="47065" y="134799"/>
                  </a:lnTo>
                  <a:lnTo>
                    <a:pt x="48127" y="134761"/>
                  </a:lnTo>
                  <a:lnTo>
                    <a:pt x="50095" y="131359"/>
                  </a:lnTo>
                  <a:lnTo>
                    <a:pt x="71724" y="133350"/>
                  </a:lnTo>
                  <a:lnTo>
                    <a:pt x="55212" y="113429"/>
                  </a:lnTo>
                  <a:lnTo>
                    <a:pt x="60561" y="102234"/>
                  </a:lnTo>
                  <a:lnTo>
                    <a:pt x="68497" y="91725"/>
                  </a:lnTo>
                  <a:lnTo>
                    <a:pt x="71815" y="85838"/>
                  </a:lnTo>
                  <a:lnTo>
                    <a:pt x="72873" y="85928"/>
                  </a:lnTo>
                  <a:lnTo>
                    <a:pt x="75241" y="82792"/>
                  </a:lnTo>
                  <a:lnTo>
                    <a:pt x="100593" y="88298"/>
                  </a:lnTo>
                  <a:lnTo>
                    <a:pt x="105202" y="88692"/>
                  </a:lnTo>
                  <a:lnTo>
                    <a:pt x="98514" y="80986"/>
                  </a:lnTo>
                  <a:lnTo>
                    <a:pt x="100022" y="77679"/>
                  </a:lnTo>
                  <a:lnTo>
                    <a:pt x="91178" y="61792"/>
                  </a:lnTo>
                  <a:lnTo>
                    <a:pt x="109993" y="62771"/>
                  </a:lnTo>
                  <a:lnTo>
                    <a:pt x="116147" y="54137"/>
                  </a:lnTo>
                  <a:lnTo>
                    <a:pt x="134957" y="57778"/>
                  </a:lnTo>
                  <a:lnTo>
                    <a:pt x="110920" y="18576"/>
                  </a:lnTo>
                  <a:lnTo>
                    <a:pt x="114097" y="13767"/>
                  </a:lnTo>
                  <a:lnTo>
                    <a:pt x="127715" y="0"/>
                  </a:lnTo>
                  <a:close/>
                </a:path>
              </a:pathLst>
            </a:custGeom>
            <a:solidFill>
              <a:srgbClr val="bccdab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10"/>
            <p:cNvSpPr/>
            <p:nvPr/>
          </p:nvSpPr>
          <p:spPr>
            <a:xfrm rot="1182600">
              <a:off x="1471320" y="911160"/>
              <a:ext cx="2124000" cy="1422360"/>
            </a:xfrm>
            <a:custGeom>
              <a:avLst/>
              <a:gdLst/>
              <a:ahLst/>
              <a:rect l="l" t="t" r="r" b="b"/>
              <a:pathLst>
                <a:path w="3708493" h="3338539">
                  <a:moveTo>
                    <a:pt x="1132135" y="8165"/>
                  </a:moveTo>
                  <a:lnTo>
                    <a:pt x="1183221" y="8546"/>
                  </a:lnTo>
                  <a:lnTo>
                    <a:pt x="1209872" y="66729"/>
                  </a:lnTo>
                  <a:lnTo>
                    <a:pt x="1233450" y="3590"/>
                  </a:lnTo>
                  <a:lnTo>
                    <a:pt x="1287214" y="0"/>
                  </a:lnTo>
                  <a:lnTo>
                    <a:pt x="1337872" y="6599"/>
                  </a:lnTo>
                  <a:lnTo>
                    <a:pt x="1341676" y="18581"/>
                  </a:lnTo>
                  <a:lnTo>
                    <a:pt x="1370133" y="21822"/>
                  </a:lnTo>
                  <a:lnTo>
                    <a:pt x="1390807" y="83460"/>
                  </a:lnTo>
                  <a:lnTo>
                    <a:pt x="1418258" y="28510"/>
                  </a:lnTo>
                  <a:lnTo>
                    <a:pt x="1472100" y="30621"/>
                  </a:lnTo>
                  <a:lnTo>
                    <a:pt x="1521777" y="42540"/>
                  </a:lnTo>
                  <a:lnTo>
                    <a:pt x="1523745" y="52172"/>
                  </a:lnTo>
                  <a:lnTo>
                    <a:pt x="1529696" y="43978"/>
                  </a:lnTo>
                  <a:lnTo>
                    <a:pt x="1584794" y="55149"/>
                  </a:lnTo>
                  <a:lnTo>
                    <a:pt x="1630403" y="73960"/>
                  </a:lnTo>
                  <a:lnTo>
                    <a:pt x="1632547" y="132156"/>
                  </a:lnTo>
                  <a:lnTo>
                    <a:pt x="1677454" y="83963"/>
                  </a:lnTo>
                  <a:lnTo>
                    <a:pt x="1709913" y="94796"/>
                  </a:lnTo>
                  <a:lnTo>
                    <a:pt x="1710923" y="93677"/>
                  </a:lnTo>
                  <a:lnTo>
                    <a:pt x="1764531" y="110609"/>
                  </a:lnTo>
                  <a:lnTo>
                    <a:pt x="1800132" y="129922"/>
                  </a:lnTo>
                  <a:lnTo>
                    <a:pt x="1829922" y="117700"/>
                  </a:lnTo>
                  <a:lnTo>
                    <a:pt x="1881133" y="165276"/>
                  </a:lnTo>
                  <a:lnTo>
                    <a:pt x="1878643" y="94725"/>
                  </a:lnTo>
                  <a:lnTo>
                    <a:pt x="1909369" y="79187"/>
                  </a:lnTo>
                  <a:lnTo>
                    <a:pt x="1974574" y="61335"/>
                  </a:lnTo>
                  <a:lnTo>
                    <a:pt x="1996340" y="87169"/>
                  </a:lnTo>
                  <a:lnTo>
                    <a:pt x="2007777" y="83840"/>
                  </a:lnTo>
                  <a:lnTo>
                    <a:pt x="2044290" y="125782"/>
                  </a:lnTo>
                  <a:lnTo>
                    <a:pt x="2055258" y="87274"/>
                  </a:lnTo>
                  <a:lnTo>
                    <a:pt x="2056307" y="72448"/>
                  </a:lnTo>
                  <a:lnTo>
                    <a:pt x="2059865" y="71099"/>
                  </a:lnTo>
                  <a:lnTo>
                    <a:pt x="2063258" y="59186"/>
                  </a:lnTo>
                  <a:lnTo>
                    <a:pt x="2070396" y="67109"/>
                  </a:lnTo>
                  <a:lnTo>
                    <a:pt x="2088504" y="60245"/>
                  </a:lnTo>
                  <a:lnTo>
                    <a:pt x="2155229" y="49385"/>
                  </a:lnTo>
                  <a:lnTo>
                    <a:pt x="2157767" y="53142"/>
                  </a:lnTo>
                  <a:lnTo>
                    <a:pt x="2166094" y="18415"/>
                  </a:lnTo>
                  <a:lnTo>
                    <a:pt x="2219019" y="8305"/>
                  </a:lnTo>
                  <a:lnTo>
                    <a:pt x="2270105" y="8685"/>
                  </a:lnTo>
                  <a:lnTo>
                    <a:pt x="2296756" y="66868"/>
                  </a:lnTo>
                  <a:lnTo>
                    <a:pt x="2320334" y="3729"/>
                  </a:lnTo>
                  <a:lnTo>
                    <a:pt x="2374098" y="139"/>
                  </a:lnTo>
                  <a:lnTo>
                    <a:pt x="2424757" y="6739"/>
                  </a:lnTo>
                  <a:lnTo>
                    <a:pt x="2428561" y="18721"/>
                  </a:lnTo>
                  <a:lnTo>
                    <a:pt x="2457017" y="21961"/>
                  </a:lnTo>
                  <a:lnTo>
                    <a:pt x="2477691" y="83599"/>
                  </a:lnTo>
                  <a:lnTo>
                    <a:pt x="2505142" y="28649"/>
                  </a:lnTo>
                  <a:lnTo>
                    <a:pt x="2558984" y="30760"/>
                  </a:lnTo>
                  <a:lnTo>
                    <a:pt x="2608662" y="42679"/>
                  </a:lnTo>
                  <a:lnTo>
                    <a:pt x="2610629" y="52311"/>
                  </a:lnTo>
                  <a:lnTo>
                    <a:pt x="2616581" y="44117"/>
                  </a:lnTo>
                  <a:lnTo>
                    <a:pt x="2671679" y="55288"/>
                  </a:lnTo>
                  <a:lnTo>
                    <a:pt x="2717288" y="74099"/>
                  </a:lnTo>
                  <a:lnTo>
                    <a:pt x="2719432" y="132295"/>
                  </a:lnTo>
                  <a:lnTo>
                    <a:pt x="2764338" y="84102"/>
                  </a:lnTo>
                  <a:lnTo>
                    <a:pt x="2796797" y="94935"/>
                  </a:lnTo>
                  <a:lnTo>
                    <a:pt x="2797807" y="93816"/>
                  </a:lnTo>
                  <a:lnTo>
                    <a:pt x="2851415" y="110748"/>
                  </a:lnTo>
                  <a:lnTo>
                    <a:pt x="2894781" y="134274"/>
                  </a:lnTo>
                  <a:lnTo>
                    <a:pt x="2890445" y="196914"/>
                  </a:lnTo>
                  <a:lnTo>
                    <a:pt x="2938163" y="155502"/>
                  </a:lnTo>
                  <a:lnTo>
                    <a:pt x="2989311" y="178836"/>
                  </a:lnTo>
                  <a:lnTo>
                    <a:pt x="3029488" y="207470"/>
                  </a:lnTo>
                  <a:lnTo>
                    <a:pt x="3023316" y="239359"/>
                  </a:lnTo>
                  <a:lnTo>
                    <a:pt x="3026495" y="237411"/>
                  </a:lnTo>
                  <a:lnTo>
                    <a:pt x="3073690" y="268583"/>
                  </a:lnTo>
                  <a:lnTo>
                    <a:pt x="3096184" y="290836"/>
                  </a:lnTo>
                  <a:lnTo>
                    <a:pt x="3102828" y="288009"/>
                  </a:lnTo>
                  <a:lnTo>
                    <a:pt x="3101537" y="296126"/>
                  </a:lnTo>
                  <a:lnTo>
                    <a:pt x="3106840" y="301373"/>
                  </a:lnTo>
                  <a:lnTo>
                    <a:pt x="3096103" y="330251"/>
                  </a:lnTo>
                  <a:lnTo>
                    <a:pt x="3093811" y="344646"/>
                  </a:lnTo>
                  <a:lnTo>
                    <a:pt x="3099045" y="348056"/>
                  </a:lnTo>
                  <a:lnTo>
                    <a:pt x="3147662" y="325879"/>
                  </a:lnTo>
                  <a:lnTo>
                    <a:pt x="3163654" y="339508"/>
                  </a:lnTo>
                  <a:lnTo>
                    <a:pt x="3184995" y="329353"/>
                  </a:lnTo>
                  <a:lnTo>
                    <a:pt x="3228630" y="365341"/>
                  </a:lnTo>
                  <a:lnTo>
                    <a:pt x="3258126" y="401450"/>
                  </a:lnTo>
                  <a:lnTo>
                    <a:pt x="3233758" y="450414"/>
                  </a:lnTo>
                  <a:lnTo>
                    <a:pt x="3237348" y="448678"/>
                  </a:lnTo>
                  <a:lnTo>
                    <a:pt x="3243094" y="453354"/>
                  </a:lnTo>
                  <a:lnTo>
                    <a:pt x="3293784" y="436440"/>
                  </a:lnTo>
                  <a:lnTo>
                    <a:pt x="3332712" y="477474"/>
                  </a:lnTo>
                  <a:lnTo>
                    <a:pt x="3357591" y="516907"/>
                  </a:lnTo>
                  <a:lnTo>
                    <a:pt x="3327668" y="562194"/>
                  </a:lnTo>
                  <a:lnTo>
                    <a:pt x="3368964" y="609389"/>
                  </a:lnTo>
                  <a:lnTo>
                    <a:pt x="3375765" y="621324"/>
                  </a:lnTo>
                  <a:lnTo>
                    <a:pt x="3381140" y="620578"/>
                  </a:lnTo>
                  <a:lnTo>
                    <a:pt x="3378585" y="626271"/>
                  </a:lnTo>
                  <a:lnTo>
                    <a:pt x="3381626" y="631610"/>
                  </a:lnTo>
                  <a:lnTo>
                    <a:pt x="3398697" y="631451"/>
                  </a:lnTo>
                  <a:lnTo>
                    <a:pt x="3383282" y="656561"/>
                  </a:lnTo>
                  <a:lnTo>
                    <a:pt x="3383968" y="658234"/>
                  </a:lnTo>
                  <a:lnTo>
                    <a:pt x="3378916" y="663673"/>
                  </a:lnTo>
                  <a:lnTo>
                    <a:pt x="3366301" y="684222"/>
                  </a:lnTo>
                  <a:lnTo>
                    <a:pt x="3402498" y="678238"/>
                  </a:lnTo>
                  <a:lnTo>
                    <a:pt x="3406808" y="684582"/>
                  </a:lnTo>
                  <a:lnTo>
                    <a:pt x="3445501" y="677541"/>
                  </a:lnTo>
                  <a:lnTo>
                    <a:pt x="3486229" y="735447"/>
                  </a:lnTo>
                  <a:lnTo>
                    <a:pt x="3497387" y="760988"/>
                  </a:lnTo>
                  <a:lnTo>
                    <a:pt x="3490934" y="768258"/>
                  </a:lnTo>
                  <a:lnTo>
                    <a:pt x="3495984" y="785604"/>
                  </a:lnTo>
                  <a:lnTo>
                    <a:pt x="3460336" y="816639"/>
                  </a:lnTo>
                  <a:lnTo>
                    <a:pt x="3509948" y="813762"/>
                  </a:lnTo>
                  <a:lnTo>
                    <a:pt x="3543318" y="876198"/>
                  </a:lnTo>
                  <a:lnTo>
                    <a:pt x="3551285" y="902907"/>
                  </a:lnTo>
                  <a:lnTo>
                    <a:pt x="3543995" y="909336"/>
                  </a:lnTo>
                  <a:lnTo>
                    <a:pt x="3546895" y="927170"/>
                  </a:lnTo>
                  <a:lnTo>
                    <a:pt x="3498919" y="959587"/>
                  </a:lnTo>
                  <a:lnTo>
                    <a:pt x="3535696" y="963529"/>
                  </a:lnTo>
                  <a:lnTo>
                    <a:pt x="3555467" y="1023714"/>
                  </a:lnTo>
                  <a:lnTo>
                    <a:pt x="3577085" y="1029345"/>
                  </a:lnTo>
                  <a:lnTo>
                    <a:pt x="3561324" y="1044208"/>
                  </a:lnTo>
                  <a:lnTo>
                    <a:pt x="3562157" y="1051050"/>
                  </a:lnTo>
                  <a:lnTo>
                    <a:pt x="3538226" y="1065988"/>
                  </a:lnTo>
                  <a:lnTo>
                    <a:pt x="3518600" y="1084499"/>
                  </a:lnTo>
                  <a:lnTo>
                    <a:pt x="3614594" y="1105228"/>
                  </a:lnTo>
                  <a:lnTo>
                    <a:pt x="3631486" y="1183913"/>
                  </a:lnTo>
                  <a:lnTo>
                    <a:pt x="3631654" y="1195056"/>
                  </a:lnTo>
                  <a:lnTo>
                    <a:pt x="3578027" y="1221105"/>
                  </a:lnTo>
                  <a:lnTo>
                    <a:pt x="3580101" y="1231255"/>
                  </a:lnTo>
                  <a:lnTo>
                    <a:pt x="3580167" y="1243022"/>
                  </a:lnTo>
                  <a:lnTo>
                    <a:pt x="3625694" y="1258858"/>
                  </a:lnTo>
                  <a:lnTo>
                    <a:pt x="3632878" y="1339016"/>
                  </a:lnTo>
                  <a:lnTo>
                    <a:pt x="3631689" y="1350095"/>
                  </a:lnTo>
                  <a:lnTo>
                    <a:pt x="3575287" y="1369420"/>
                  </a:lnTo>
                  <a:lnTo>
                    <a:pt x="3576111" y="1379748"/>
                  </a:lnTo>
                  <a:lnTo>
                    <a:pt x="3573331" y="1403469"/>
                  </a:lnTo>
                  <a:lnTo>
                    <a:pt x="3567447" y="1405337"/>
                  </a:lnTo>
                  <a:lnTo>
                    <a:pt x="3556647" y="1414739"/>
                  </a:lnTo>
                  <a:lnTo>
                    <a:pt x="3577188" y="1425947"/>
                  </a:lnTo>
                  <a:lnTo>
                    <a:pt x="3576871" y="1430384"/>
                  </a:lnTo>
                  <a:lnTo>
                    <a:pt x="3585562" y="1429880"/>
                  </a:lnTo>
                  <a:lnTo>
                    <a:pt x="3618933" y="1492316"/>
                  </a:lnTo>
                  <a:lnTo>
                    <a:pt x="3626900" y="1519025"/>
                  </a:lnTo>
                  <a:lnTo>
                    <a:pt x="3619609" y="1525454"/>
                  </a:lnTo>
                  <a:lnTo>
                    <a:pt x="3622509" y="1543288"/>
                  </a:lnTo>
                  <a:lnTo>
                    <a:pt x="3595529" y="1561518"/>
                  </a:lnTo>
                  <a:lnTo>
                    <a:pt x="3606975" y="1569440"/>
                  </a:lnTo>
                  <a:lnTo>
                    <a:pt x="3605262" y="1578998"/>
                  </a:lnTo>
                  <a:lnTo>
                    <a:pt x="3611311" y="1579647"/>
                  </a:lnTo>
                  <a:lnTo>
                    <a:pt x="3631082" y="1639832"/>
                  </a:lnTo>
                  <a:lnTo>
                    <a:pt x="3652700" y="1645463"/>
                  </a:lnTo>
                  <a:lnTo>
                    <a:pt x="3636939" y="1660326"/>
                  </a:lnTo>
                  <a:lnTo>
                    <a:pt x="3637772" y="1667168"/>
                  </a:lnTo>
                  <a:lnTo>
                    <a:pt x="3613840" y="1682106"/>
                  </a:lnTo>
                  <a:lnTo>
                    <a:pt x="3594215" y="1700617"/>
                  </a:lnTo>
                  <a:lnTo>
                    <a:pt x="3690209" y="1721346"/>
                  </a:lnTo>
                  <a:lnTo>
                    <a:pt x="3707101" y="1800031"/>
                  </a:lnTo>
                  <a:lnTo>
                    <a:pt x="3707269" y="1811174"/>
                  </a:lnTo>
                  <a:lnTo>
                    <a:pt x="3653642" y="1837223"/>
                  </a:lnTo>
                  <a:lnTo>
                    <a:pt x="3655716" y="1847373"/>
                  </a:lnTo>
                  <a:lnTo>
                    <a:pt x="3655782" y="1859140"/>
                  </a:lnTo>
                  <a:lnTo>
                    <a:pt x="3701309" y="1874976"/>
                  </a:lnTo>
                  <a:lnTo>
                    <a:pt x="3708493" y="1955134"/>
                  </a:lnTo>
                  <a:lnTo>
                    <a:pt x="3707304" y="1966213"/>
                  </a:lnTo>
                  <a:lnTo>
                    <a:pt x="3650902" y="1985538"/>
                  </a:lnTo>
                  <a:lnTo>
                    <a:pt x="3651726" y="1995866"/>
                  </a:lnTo>
                  <a:lnTo>
                    <a:pt x="3648946" y="2019587"/>
                  </a:lnTo>
                  <a:lnTo>
                    <a:pt x="3625341" y="2027081"/>
                  </a:lnTo>
                  <a:lnTo>
                    <a:pt x="3652803" y="2042065"/>
                  </a:lnTo>
                  <a:lnTo>
                    <a:pt x="3650256" y="2077644"/>
                  </a:lnTo>
                  <a:lnTo>
                    <a:pt x="3677302" y="2098099"/>
                  </a:lnTo>
                  <a:lnTo>
                    <a:pt x="3647992" y="2109244"/>
                  </a:lnTo>
                  <a:lnTo>
                    <a:pt x="3647862" y="2111055"/>
                  </a:lnTo>
                  <a:lnTo>
                    <a:pt x="3643843" y="2126003"/>
                  </a:lnTo>
                  <a:lnTo>
                    <a:pt x="3605726" y="2132365"/>
                  </a:lnTo>
                  <a:lnTo>
                    <a:pt x="3682590" y="2185558"/>
                  </a:lnTo>
                  <a:lnTo>
                    <a:pt x="3670385" y="2253640"/>
                  </a:lnTo>
                  <a:lnTo>
                    <a:pt x="3664809" y="2268079"/>
                  </a:lnTo>
                  <a:lnTo>
                    <a:pt x="3619401" y="2270784"/>
                  </a:lnTo>
                  <a:lnTo>
                    <a:pt x="3611304" y="2311738"/>
                  </a:lnTo>
                  <a:lnTo>
                    <a:pt x="3637213" y="2334806"/>
                  </a:lnTo>
                  <a:lnTo>
                    <a:pt x="3616808" y="2400894"/>
                  </a:lnTo>
                  <a:lnTo>
                    <a:pt x="3609515" y="2414547"/>
                  </a:lnTo>
                  <a:lnTo>
                    <a:pt x="3564114" y="2411700"/>
                  </a:lnTo>
                  <a:lnTo>
                    <a:pt x="3549549" y="2456061"/>
                  </a:lnTo>
                  <a:lnTo>
                    <a:pt x="3539835" y="2473098"/>
                  </a:lnTo>
                  <a:lnTo>
                    <a:pt x="3495886" y="2469340"/>
                  </a:lnTo>
                  <a:lnTo>
                    <a:pt x="3511533" y="2488746"/>
                  </a:lnTo>
                  <a:lnTo>
                    <a:pt x="3508621" y="2494693"/>
                  </a:lnTo>
                  <a:lnTo>
                    <a:pt x="3526817" y="2525702"/>
                  </a:lnTo>
                  <a:lnTo>
                    <a:pt x="3493916" y="2524739"/>
                  </a:lnTo>
                  <a:lnTo>
                    <a:pt x="3487869" y="2537094"/>
                  </a:lnTo>
                  <a:lnTo>
                    <a:pt x="3473389" y="2556087"/>
                  </a:lnTo>
                  <a:lnTo>
                    <a:pt x="3454171" y="2551644"/>
                  </a:lnTo>
                  <a:lnTo>
                    <a:pt x="3494898" y="2614804"/>
                  </a:lnTo>
                  <a:lnTo>
                    <a:pt x="3466255" y="2660382"/>
                  </a:lnTo>
                  <a:lnTo>
                    <a:pt x="3449848" y="2677738"/>
                  </a:lnTo>
                  <a:lnTo>
                    <a:pt x="3400500" y="2660657"/>
                  </a:lnTo>
                  <a:lnTo>
                    <a:pt x="3398091" y="2663123"/>
                  </a:lnTo>
                  <a:lnTo>
                    <a:pt x="3414599" y="2690046"/>
                  </a:lnTo>
                  <a:lnTo>
                    <a:pt x="3391732" y="2723716"/>
                  </a:lnTo>
                  <a:lnTo>
                    <a:pt x="3398643" y="2737998"/>
                  </a:lnTo>
                  <a:lnTo>
                    <a:pt x="3364663" y="2779749"/>
                  </a:lnTo>
                  <a:lnTo>
                    <a:pt x="3346264" y="2794977"/>
                  </a:lnTo>
                  <a:lnTo>
                    <a:pt x="3294632" y="2769697"/>
                  </a:lnTo>
                  <a:lnTo>
                    <a:pt x="3309778" y="2802902"/>
                  </a:lnTo>
                  <a:lnTo>
                    <a:pt x="3276830" y="2840566"/>
                  </a:lnTo>
                  <a:lnTo>
                    <a:pt x="3261984" y="2851991"/>
                  </a:lnTo>
                  <a:lnTo>
                    <a:pt x="3219542" y="2830003"/>
                  </a:lnTo>
                  <a:lnTo>
                    <a:pt x="3224144" y="2863161"/>
                  </a:lnTo>
                  <a:lnTo>
                    <a:pt x="3198793" y="2851780"/>
                  </a:lnTo>
                  <a:lnTo>
                    <a:pt x="3165428" y="2880973"/>
                  </a:lnTo>
                  <a:lnTo>
                    <a:pt x="3148390" y="2890682"/>
                  </a:lnTo>
                  <a:lnTo>
                    <a:pt x="3147417" y="2889988"/>
                  </a:lnTo>
                  <a:lnTo>
                    <a:pt x="3150410" y="2915835"/>
                  </a:lnTo>
                  <a:lnTo>
                    <a:pt x="3148252" y="2914807"/>
                  </a:lnTo>
                  <a:lnTo>
                    <a:pt x="3152452" y="2937887"/>
                  </a:lnTo>
                  <a:lnTo>
                    <a:pt x="3109275" y="2968252"/>
                  </a:lnTo>
                  <a:lnTo>
                    <a:pt x="3091303" y="2976104"/>
                  </a:lnTo>
                  <a:lnTo>
                    <a:pt x="3059757" y="2948102"/>
                  </a:lnTo>
                  <a:lnTo>
                    <a:pt x="3051327" y="2953829"/>
                  </a:lnTo>
                  <a:lnTo>
                    <a:pt x="3058855" y="3001281"/>
                  </a:lnTo>
                  <a:lnTo>
                    <a:pt x="3033182" y="3018300"/>
                  </a:lnTo>
                  <a:lnTo>
                    <a:pt x="2998389" y="3032774"/>
                  </a:lnTo>
                  <a:lnTo>
                    <a:pt x="2995264" y="3029870"/>
                  </a:lnTo>
                  <a:lnTo>
                    <a:pt x="2972844" y="3041851"/>
                  </a:lnTo>
                  <a:lnTo>
                    <a:pt x="2954051" y="3047457"/>
                  </a:lnTo>
                  <a:lnTo>
                    <a:pt x="2916536" y="3004924"/>
                  </a:lnTo>
                  <a:lnTo>
                    <a:pt x="2918778" y="3068495"/>
                  </a:lnTo>
                  <a:lnTo>
                    <a:pt x="2891224" y="3082261"/>
                  </a:lnTo>
                  <a:lnTo>
                    <a:pt x="2854926" y="3092389"/>
                  </a:lnTo>
                  <a:lnTo>
                    <a:pt x="2818096" y="3048674"/>
                  </a:lnTo>
                  <a:lnTo>
                    <a:pt x="2815379" y="3059108"/>
                  </a:lnTo>
                  <a:lnTo>
                    <a:pt x="2790411" y="3032634"/>
                  </a:lnTo>
                  <a:lnTo>
                    <a:pt x="2784705" y="3035437"/>
                  </a:lnTo>
                  <a:lnTo>
                    <a:pt x="2782373" y="3057201"/>
                  </a:lnTo>
                  <a:lnTo>
                    <a:pt x="2746877" y="3068859"/>
                  </a:lnTo>
                  <a:lnTo>
                    <a:pt x="2737303" y="3102479"/>
                  </a:lnTo>
                  <a:lnTo>
                    <a:pt x="2715157" y="3077901"/>
                  </a:lnTo>
                  <a:lnTo>
                    <a:pt x="2709736" y="3103004"/>
                  </a:lnTo>
                  <a:lnTo>
                    <a:pt x="2660808" y="3113507"/>
                  </a:lnTo>
                  <a:lnTo>
                    <a:pt x="2642078" y="3113791"/>
                  </a:lnTo>
                  <a:lnTo>
                    <a:pt x="2631280" y="3091565"/>
                  </a:lnTo>
                  <a:lnTo>
                    <a:pt x="2624565" y="3092894"/>
                  </a:lnTo>
                  <a:lnTo>
                    <a:pt x="2611091" y="3149087"/>
                  </a:lnTo>
                  <a:lnTo>
                    <a:pt x="2598097" y="3151743"/>
                  </a:lnTo>
                  <a:lnTo>
                    <a:pt x="2540801" y="3152051"/>
                  </a:lnTo>
                  <a:lnTo>
                    <a:pt x="2530506" y="3129574"/>
                  </a:lnTo>
                  <a:lnTo>
                    <a:pt x="2510028" y="3131409"/>
                  </a:lnTo>
                  <a:lnTo>
                    <a:pt x="2491401" y="3129411"/>
                  </a:lnTo>
                  <a:lnTo>
                    <a:pt x="2480214" y="3096761"/>
                  </a:lnTo>
                  <a:lnTo>
                    <a:pt x="2456347" y="3160669"/>
                  </a:lnTo>
                  <a:lnTo>
                    <a:pt x="2443125" y="3161723"/>
                  </a:lnTo>
                  <a:lnTo>
                    <a:pt x="2386218" y="3155051"/>
                  </a:lnTo>
                  <a:lnTo>
                    <a:pt x="2363324" y="3082940"/>
                  </a:lnTo>
                  <a:lnTo>
                    <a:pt x="2362743" y="3083709"/>
                  </a:lnTo>
                  <a:lnTo>
                    <a:pt x="2355647" y="3065054"/>
                  </a:lnTo>
                  <a:lnTo>
                    <a:pt x="2353758" y="3066130"/>
                  </a:lnTo>
                  <a:lnTo>
                    <a:pt x="2351113" y="3073077"/>
                  </a:lnTo>
                  <a:lnTo>
                    <a:pt x="2353379" y="3092650"/>
                  </a:lnTo>
                  <a:lnTo>
                    <a:pt x="2351221" y="3091622"/>
                  </a:lnTo>
                  <a:lnTo>
                    <a:pt x="2355421" y="3114703"/>
                  </a:lnTo>
                  <a:lnTo>
                    <a:pt x="2312244" y="3145067"/>
                  </a:lnTo>
                  <a:lnTo>
                    <a:pt x="2294272" y="3152920"/>
                  </a:lnTo>
                  <a:lnTo>
                    <a:pt x="2262726" y="3124918"/>
                  </a:lnTo>
                  <a:lnTo>
                    <a:pt x="2254296" y="3130645"/>
                  </a:lnTo>
                  <a:lnTo>
                    <a:pt x="2261824" y="3178097"/>
                  </a:lnTo>
                  <a:lnTo>
                    <a:pt x="2236151" y="3195116"/>
                  </a:lnTo>
                  <a:lnTo>
                    <a:pt x="2201358" y="3209589"/>
                  </a:lnTo>
                  <a:lnTo>
                    <a:pt x="2198233" y="3206685"/>
                  </a:lnTo>
                  <a:lnTo>
                    <a:pt x="2175813" y="3218667"/>
                  </a:lnTo>
                  <a:lnTo>
                    <a:pt x="2157020" y="3224273"/>
                  </a:lnTo>
                  <a:lnTo>
                    <a:pt x="2119505" y="3181739"/>
                  </a:lnTo>
                  <a:lnTo>
                    <a:pt x="2121747" y="3245311"/>
                  </a:lnTo>
                  <a:lnTo>
                    <a:pt x="2094192" y="3259076"/>
                  </a:lnTo>
                  <a:lnTo>
                    <a:pt x="2057895" y="3269204"/>
                  </a:lnTo>
                  <a:lnTo>
                    <a:pt x="2021065" y="3225489"/>
                  </a:lnTo>
                  <a:lnTo>
                    <a:pt x="2018348" y="3235923"/>
                  </a:lnTo>
                  <a:lnTo>
                    <a:pt x="1993380" y="3209449"/>
                  </a:lnTo>
                  <a:lnTo>
                    <a:pt x="1987674" y="3212252"/>
                  </a:lnTo>
                  <a:lnTo>
                    <a:pt x="1985342" y="3234017"/>
                  </a:lnTo>
                  <a:lnTo>
                    <a:pt x="1949846" y="3245675"/>
                  </a:lnTo>
                  <a:lnTo>
                    <a:pt x="1940272" y="3279294"/>
                  </a:lnTo>
                  <a:lnTo>
                    <a:pt x="1918126" y="3254717"/>
                  </a:lnTo>
                  <a:lnTo>
                    <a:pt x="1912705" y="3279820"/>
                  </a:lnTo>
                  <a:lnTo>
                    <a:pt x="1863777" y="3290322"/>
                  </a:lnTo>
                  <a:lnTo>
                    <a:pt x="1845047" y="3290607"/>
                  </a:lnTo>
                  <a:lnTo>
                    <a:pt x="1834249" y="3268381"/>
                  </a:lnTo>
                  <a:lnTo>
                    <a:pt x="1827534" y="3269709"/>
                  </a:lnTo>
                  <a:lnTo>
                    <a:pt x="1814060" y="3325903"/>
                  </a:lnTo>
                  <a:lnTo>
                    <a:pt x="1801066" y="3328559"/>
                  </a:lnTo>
                  <a:lnTo>
                    <a:pt x="1743770" y="3328867"/>
                  </a:lnTo>
                  <a:lnTo>
                    <a:pt x="1733475" y="3306389"/>
                  </a:lnTo>
                  <a:lnTo>
                    <a:pt x="1712997" y="3308225"/>
                  </a:lnTo>
                  <a:lnTo>
                    <a:pt x="1694369" y="3306226"/>
                  </a:lnTo>
                  <a:lnTo>
                    <a:pt x="1683183" y="3273577"/>
                  </a:lnTo>
                  <a:lnTo>
                    <a:pt x="1659316" y="3337485"/>
                  </a:lnTo>
                  <a:lnTo>
                    <a:pt x="1646094" y="3338539"/>
                  </a:lnTo>
                  <a:lnTo>
                    <a:pt x="1589187" y="3331867"/>
                  </a:lnTo>
                  <a:lnTo>
                    <a:pt x="1566293" y="3259755"/>
                  </a:lnTo>
                  <a:lnTo>
                    <a:pt x="1565712" y="3260525"/>
                  </a:lnTo>
                  <a:lnTo>
                    <a:pt x="1557877" y="3239926"/>
                  </a:lnTo>
                  <a:lnTo>
                    <a:pt x="1536709" y="3295509"/>
                  </a:lnTo>
                  <a:lnTo>
                    <a:pt x="1523479" y="3296478"/>
                  </a:lnTo>
                  <a:lnTo>
                    <a:pt x="1488373" y="3292131"/>
                  </a:lnTo>
                  <a:lnTo>
                    <a:pt x="1487187" y="3293625"/>
                  </a:lnTo>
                  <a:lnTo>
                    <a:pt x="1486579" y="3291908"/>
                  </a:lnTo>
                  <a:lnTo>
                    <a:pt x="1466617" y="3289439"/>
                  </a:lnTo>
                  <a:lnTo>
                    <a:pt x="1455533" y="3253724"/>
                  </a:lnTo>
                  <a:lnTo>
                    <a:pt x="1446459" y="3251285"/>
                  </a:lnTo>
                  <a:lnTo>
                    <a:pt x="1446341" y="3250585"/>
                  </a:lnTo>
                  <a:lnTo>
                    <a:pt x="1440488" y="3259042"/>
                  </a:lnTo>
                  <a:lnTo>
                    <a:pt x="1410169" y="3253608"/>
                  </a:lnTo>
                  <a:lnTo>
                    <a:pt x="1400276" y="3249788"/>
                  </a:lnTo>
                  <a:lnTo>
                    <a:pt x="1387729" y="3273541"/>
                  </a:lnTo>
                  <a:lnTo>
                    <a:pt x="1374482" y="3272890"/>
                  </a:lnTo>
                  <a:lnTo>
                    <a:pt x="1360320" y="3269345"/>
                  </a:lnTo>
                  <a:lnTo>
                    <a:pt x="1347959" y="3286370"/>
                  </a:lnTo>
                  <a:lnTo>
                    <a:pt x="1331851" y="3283185"/>
                  </a:lnTo>
                  <a:lnTo>
                    <a:pt x="1277101" y="3260291"/>
                  </a:lnTo>
                  <a:lnTo>
                    <a:pt x="1275585" y="3219120"/>
                  </a:lnTo>
                  <a:lnTo>
                    <a:pt x="1267235" y="3216542"/>
                  </a:lnTo>
                  <a:lnTo>
                    <a:pt x="1238862" y="3201385"/>
                  </a:lnTo>
                  <a:lnTo>
                    <a:pt x="1201498" y="3241481"/>
                  </a:lnTo>
                  <a:lnTo>
                    <a:pt x="1185899" y="3236359"/>
                  </a:lnTo>
                  <a:lnTo>
                    <a:pt x="1134344" y="3206967"/>
                  </a:lnTo>
                  <a:lnTo>
                    <a:pt x="1140782" y="3131649"/>
                  </a:lnTo>
                  <a:lnTo>
                    <a:pt x="1079523" y="3196544"/>
                  </a:lnTo>
                  <a:lnTo>
                    <a:pt x="1063956" y="3191321"/>
                  </a:lnTo>
                  <a:lnTo>
                    <a:pt x="1012593" y="3161596"/>
                  </a:lnTo>
                  <a:lnTo>
                    <a:pt x="1020695" y="3073539"/>
                  </a:lnTo>
                  <a:lnTo>
                    <a:pt x="1011249" y="3066336"/>
                  </a:lnTo>
                  <a:lnTo>
                    <a:pt x="1011476" y="3065360"/>
                  </a:lnTo>
                  <a:lnTo>
                    <a:pt x="946000" y="3119633"/>
                  </a:lnTo>
                  <a:lnTo>
                    <a:pt x="931184" y="3112554"/>
                  </a:lnTo>
                  <a:lnTo>
                    <a:pt x="883824" y="3076794"/>
                  </a:lnTo>
                  <a:lnTo>
                    <a:pt x="892924" y="3034893"/>
                  </a:lnTo>
                  <a:lnTo>
                    <a:pt x="875817" y="3017525"/>
                  </a:lnTo>
                  <a:lnTo>
                    <a:pt x="890092" y="2979114"/>
                  </a:lnTo>
                  <a:lnTo>
                    <a:pt x="816627" y="3008405"/>
                  </a:lnTo>
                  <a:lnTo>
                    <a:pt x="822246" y="2977617"/>
                  </a:lnTo>
                  <a:lnTo>
                    <a:pt x="819038" y="2979080"/>
                  </a:lnTo>
                  <a:lnTo>
                    <a:pt x="801391" y="2963643"/>
                  </a:lnTo>
                  <a:lnTo>
                    <a:pt x="765611" y="2917138"/>
                  </a:lnTo>
                  <a:lnTo>
                    <a:pt x="776025" y="2897034"/>
                  </a:lnTo>
                  <a:lnTo>
                    <a:pt x="698767" y="2931673"/>
                  </a:lnTo>
                  <a:lnTo>
                    <a:pt x="681222" y="2916124"/>
                  </a:lnTo>
                  <a:lnTo>
                    <a:pt x="645741" y="2869387"/>
                  </a:lnTo>
                  <a:lnTo>
                    <a:pt x="691638" y="2782179"/>
                  </a:lnTo>
                  <a:lnTo>
                    <a:pt x="600335" y="2810364"/>
                  </a:lnTo>
                  <a:lnTo>
                    <a:pt x="584815" y="2792793"/>
                  </a:lnTo>
                  <a:lnTo>
                    <a:pt x="555291" y="2742083"/>
                  </a:lnTo>
                  <a:lnTo>
                    <a:pt x="611459" y="2661124"/>
                  </a:lnTo>
                  <a:lnTo>
                    <a:pt x="610762" y="2659449"/>
                  </a:lnTo>
                  <a:lnTo>
                    <a:pt x="528616" y="2658357"/>
                  </a:lnTo>
                  <a:lnTo>
                    <a:pt x="570215" y="2593920"/>
                  </a:lnTo>
                  <a:lnTo>
                    <a:pt x="567679" y="2594009"/>
                  </a:lnTo>
                  <a:lnTo>
                    <a:pt x="559696" y="2578037"/>
                  </a:lnTo>
                  <a:lnTo>
                    <a:pt x="549673" y="2542110"/>
                  </a:lnTo>
                  <a:lnTo>
                    <a:pt x="449904" y="2544985"/>
                  </a:lnTo>
                  <a:lnTo>
                    <a:pt x="442028" y="2528959"/>
                  </a:lnTo>
                  <a:lnTo>
                    <a:pt x="423246" y="2459927"/>
                  </a:lnTo>
                  <a:lnTo>
                    <a:pt x="489779" y="2404606"/>
                  </a:lnTo>
                  <a:lnTo>
                    <a:pt x="400418" y="2396247"/>
                  </a:lnTo>
                  <a:lnTo>
                    <a:pt x="394552" y="2379380"/>
                  </a:lnTo>
                  <a:lnTo>
                    <a:pt x="384317" y="2308574"/>
                  </a:lnTo>
                  <a:lnTo>
                    <a:pt x="467326" y="2255187"/>
                  </a:lnTo>
                  <a:lnTo>
                    <a:pt x="396479" y="2224730"/>
                  </a:lnTo>
                  <a:lnTo>
                    <a:pt x="453096" y="2185592"/>
                  </a:lnTo>
                  <a:lnTo>
                    <a:pt x="435923" y="2170571"/>
                  </a:lnTo>
                  <a:lnTo>
                    <a:pt x="400143" y="2124065"/>
                  </a:lnTo>
                  <a:lnTo>
                    <a:pt x="406632" y="2111539"/>
                  </a:lnTo>
                  <a:lnTo>
                    <a:pt x="399616" y="2108867"/>
                  </a:lnTo>
                  <a:lnTo>
                    <a:pt x="333298" y="2138600"/>
                  </a:lnTo>
                  <a:lnTo>
                    <a:pt x="315754" y="2123051"/>
                  </a:lnTo>
                  <a:lnTo>
                    <a:pt x="280273" y="2076314"/>
                  </a:lnTo>
                  <a:lnTo>
                    <a:pt x="326170" y="1989107"/>
                  </a:lnTo>
                  <a:lnTo>
                    <a:pt x="234867" y="2017291"/>
                  </a:lnTo>
                  <a:lnTo>
                    <a:pt x="219347" y="1999720"/>
                  </a:lnTo>
                  <a:lnTo>
                    <a:pt x="189823" y="1949011"/>
                  </a:lnTo>
                  <a:lnTo>
                    <a:pt x="245991" y="1868051"/>
                  </a:lnTo>
                  <a:lnTo>
                    <a:pt x="245294" y="1866376"/>
                  </a:lnTo>
                  <a:lnTo>
                    <a:pt x="163148" y="1865285"/>
                  </a:lnTo>
                  <a:lnTo>
                    <a:pt x="204747" y="1800848"/>
                  </a:lnTo>
                  <a:lnTo>
                    <a:pt x="202211" y="1800937"/>
                  </a:lnTo>
                  <a:lnTo>
                    <a:pt x="194228" y="1784964"/>
                  </a:lnTo>
                  <a:lnTo>
                    <a:pt x="184205" y="1749038"/>
                  </a:lnTo>
                  <a:lnTo>
                    <a:pt x="84436" y="1751913"/>
                  </a:lnTo>
                  <a:lnTo>
                    <a:pt x="76560" y="1735886"/>
                  </a:lnTo>
                  <a:lnTo>
                    <a:pt x="57777" y="1666854"/>
                  </a:lnTo>
                  <a:lnTo>
                    <a:pt x="124311" y="1611533"/>
                  </a:lnTo>
                  <a:lnTo>
                    <a:pt x="34950" y="1603174"/>
                  </a:lnTo>
                  <a:lnTo>
                    <a:pt x="29084" y="1586307"/>
                  </a:lnTo>
                  <a:lnTo>
                    <a:pt x="18849" y="1515501"/>
                  </a:lnTo>
                  <a:lnTo>
                    <a:pt x="101858" y="1462114"/>
                  </a:lnTo>
                  <a:lnTo>
                    <a:pt x="31010" y="1431657"/>
                  </a:lnTo>
                  <a:lnTo>
                    <a:pt x="129644" y="1363475"/>
                  </a:lnTo>
                  <a:lnTo>
                    <a:pt x="129650" y="1357891"/>
                  </a:lnTo>
                  <a:lnTo>
                    <a:pt x="116038" y="1352807"/>
                  </a:lnTo>
                  <a:lnTo>
                    <a:pt x="115559" y="1346802"/>
                  </a:lnTo>
                  <a:lnTo>
                    <a:pt x="1167" y="1303233"/>
                  </a:lnTo>
                  <a:lnTo>
                    <a:pt x="0" y="1287282"/>
                  </a:lnTo>
                  <a:lnTo>
                    <a:pt x="9835" y="1207849"/>
                  </a:lnTo>
                  <a:lnTo>
                    <a:pt x="79746" y="1186150"/>
                  </a:lnTo>
                  <a:lnTo>
                    <a:pt x="6945" y="1147692"/>
                  </a:lnTo>
                  <a:lnTo>
                    <a:pt x="7727" y="1131718"/>
                  </a:lnTo>
                  <a:lnTo>
                    <a:pt x="27163" y="1054074"/>
                  </a:lnTo>
                  <a:lnTo>
                    <a:pt x="128679" y="1035720"/>
                  </a:lnTo>
                  <a:lnTo>
                    <a:pt x="98469" y="1004697"/>
                  </a:lnTo>
                  <a:lnTo>
                    <a:pt x="92891" y="1000277"/>
                  </a:lnTo>
                  <a:lnTo>
                    <a:pt x="93838" y="999941"/>
                  </a:lnTo>
                  <a:lnTo>
                    <a:pt x="74885" y="980475"/>
                  </a:lnTo>
                  <a:lnTo>
                    <a:pt x="175505" y="958803"/>
                  </a:lnTo>
                  <a:lnTo>
                    <a:pt x="181848" y="943141"/>
                  </a:lnTo>
                  <a:lnTo>
                    <a:pt x="94203" y="860403"/>
                  </a:lnTo>
                  <a:lnTo>
                    <a:pt x="105153" y="827759"/>
                  </a:lnTo>
                  <a:lnTo>
                    <a:pt x="123460" y="796131"/>
                  </a:lnTo>
                  <a:lnTo>
                    <a:pt x="130610" y="778795"/>
                  </a:lnTo>
                  <a:lnTo>
                    <a:pt x="133555" y="778687"/>
                  </a:lnTo>
                  <a:lnTo>
                    <a:pt x="139018" y="769248"/>
                  </a:lnTo>
                  <a:lnTo>
                    <a:pt x="199040" y="774772"/>
                  </a:lnTo>
                  <a:lnTo>
                    <a:pt x="153217" y="719490"/>
                  </a:lnTo>
                  <a:lnTo>
                    <a:pt x="168062" y="688423"/>
                  </a:lnTo>
                  <a:lnTo>
                    <a:pt x="190084" y="659259"/>
                  </a:lnTo>
                  <a:lnTo>
                    <a:pt x="199292" y="642922"/>
                  </a:lnTo>
                  <a:lnTo>
                    <a:pt x="202229" y="643174"/>
                  </a:lnTo>
                  <a:lnTo>
                    <a:pt x="208799" y="634471"/>
                  </a:lnTo>
                  <a:lnTo>
                    <a:pt x="279153" y="649750"/>
                  </a:lnTo>
                  <a:lnTo>
                    <a:pt x="291944" y="650843"/>
                  </a:lnTo>
                  <a:lnTo>
                    <a:pt x="273384" y="629457"/>
                  </a:lnTo>
                  <a:lnTo>
                    <a:pt x="277570" y="620280"/>
                  </a:lnTo>
                  <a:lnTo>
                    <a:pt x="253027" y="576192"/>
                  </a:lnTo>
                  <a:lnTo>
                    <a:pt x="305240" y="578909"/>
                  </a:lnTo>
                  <a:lnTo>
                    <a:pt x="322316" y="554951"/>
                  </a:lnTo>
                  <a:lnTo>
                    <a:pt x="374517" y="565053"/>
                  </a:lnTo>
                  <a:lnTo>
                    <a:pt x="307813" y="456266"/>
                  </a:lnTo>
                  <a:lnTo>
                    <a:pt x="316627" y="442919"/>
                  </a:lnTo>
                  <a:lnTo>
                    <a:pt x="372916" y="386019"/>
                  </a:lnTo>
                  <a:lnTo>
                    <a:pt x="445812" y="413116"/>
                  </a:lnTo>
                  <a:lnTo>
                    <a:pt x="414455" y="344375"/>
                  </a:lnTo>
                  <a:lnTo>
                    <a:pt x="424830" y="332201"/>
                  </a:lnTo>
                  <a:lnTo>
                    <a:pt x="487630" y="282580"/>
                  </a:lnTo>
                  <a:lnTo>
                    <a:pt x="572641" y="326621"/>
                  </a:lnTo>
                  <a:lnTo>
                    <a:pt x="563272" y="245678"/>
                  </a:lnTo>
                  <a:lnTo>
                    <a:pt x="594272" y="260450"/>
                  </a:lnTo>
                  <a:lnTo>
                    <a:pt x="647126" y="227105"/>
                  </a:lnTo>
                  <a:lnTo>
                    <a:pt x="663917" y="238199"/>
                  </a:lnTo>
                  <a:lnTo>
                    <a:pt x="651886" y="162386"/>
                  </a:lnTo>
                  <a:lnTo>
                    <a:pt x="680493" y="143222"/>
                  </a:lnTo>
                  <a:lnTo>
                    <a:pt x="743037" y="117561"/>
                  </a:lnTo>
                  <a:lnTo>
                    <a:pt x="794248" y="165136"/>
                  </a:lnTo>
                  <a:lnTo>
                    <a:pt x="791759" y="94586"/>
                  </a:lnTo>
                  <a:lnTo>
                    <a:pt x="822485" y="79048"/>
                  </a:lnTo>
                  <a:lnTo>
                    <a:pt x="887690" y="61196"/>
                  </a:lnTo>
                  <a:lnTo>
                    <a:pt x="909456" y="87030"/>
                  </a:lnTo>
                  <a:lnTo>
                    <a:pt x="920893" y="83701"/>
                  </a:lnTo>
                  <a:lnTo>
                    <a:pt x="957406" y="125643"/>
                  </a:lnTo>
                  <a:lnTo>
                    <a:pt x="968374" y="87135"/>
                  </a:lnTo>
                  <a:lnTo>
                    <a:pt x="969422" y="72309"/>
                  </a:lnTo>
                  <a:lnTo>
                    <a:pt x="972980" y="70960"/>
                  </a:lnTo>
                  <a:lnTo>
                    <a:pt x="976373" y="59047"/>
                  </a:lnTo>
                  <a:lnTo>
                    <a:pt x="983512" y="66970"/>
                  </a:lnTo>
                  <a:lnTo>
                    <a:pt x="1001619" y="60106"/>
                  </a:lnTo>
                  <a:lnTo>
                    <a:pt x="1068344" y="49246"/>
                  </a:lnTo>
                  <a:lnTo>
                    <a:pt x="1070883" y="53003"/>
                  </a:lnTo>
                  <a:lnTo>
                    <a:pt x="1079209" y="18275"/>
                  </a:lnTo>
                  <a:lnTo>
                    <a:pt x="1132135" y="8165"/>
                  </a:lnTo>
                  <a:close/>
                </a:path>
              </a:pathLst>
            </a:custGeom>
            <a:gradFill rotWithShape="0">
              <a:gsLst>
                <a:gs pos="0">
                  <a:srgbClr val="93a993">
                    <a:alpha val="74117"/>
                  </a:srgbClr>
                </a:gs>
                <a:gs pos="100000">
                  <a:srgbClr val="91d9ba">
                    <a:alpha val="57254"/>
                  </a:srgbClr>
                </a:gs>
              </a:gsLst>
              <a:lin ang="96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31"/>
            <p:cNvSpPr/>
            <p:nvPr/>
          </p:nvSpPr>
          <p:spPr>
            <a:xfrm rot="4148400">
              <a:off x="-40680" y="-348120"/>
              <a:ext cx="2286360" cy="2303640"/>
            </a:xfrm>
            <a:custGeom>
              <a:avLst/>
              <a:gdLst/>
              <a:ahLst/>
              <a:rect l="l" t="t" r="r" b="b"/>
              <a:pathLst>
                <a:path w="2286583" h="2303596">
                  <a:moveTo>
                    <a:pt x="655736" y="175363"/>
                  </a:moveTo>
                  <a:lnTo>
                    <a:pt x="670051" y="167222"/>
                  </a:lnTo>
                  <a:lnTo>
                    <a:pt x="695029" y="158919"/>
                  </a:lnTo>
                  <a:lnTo>
                    <a:pt x="715962" y="181616"/>
                  </a:lnTo>
                  <a:lnTo>
                    <a:pt x="715768" y="179374"/>
                  </a:lnTo>
                  <a:lnTo>
                    <a:pt x="719390" y="177282"/>
                  </a:lnTo>
                  <a:lnTo>
                    <a:pt x="720655" y="147141"/>
                  </a:lnTo>
                  <a:lnTo>
                    <a:pt x="750127" y="134852"/>
                  </a:lnTo>
                  <a:lnTo>
                    <a:pt x="775931" y="129653"/>
                  </a:lnTo>
                  <a:lnTo>
                    <a:pt x="793808" y="154542"/>
                  </a:lnTo>
                  <a:lnTo>
                    <a:pt x="827006" y="142242"/>
                  </a:lnTo>
                  <a:lnTo>
                    <a:pt x="832529" y="141385"/>
                  </a:lnTo>
                  <a:lnTo>
                    <a:pt x="815365" y="134254"/>
                  </a:lnTo>
                  <a:lnTo>
                    <a:pt x="819247" y="129160"/>
                  </a:lnTo>
                  <a:lnTo>
                    <a:pt x="825738" y="124225"/>
                  </a:lnTo>
                  <a:lnTo>
                    <a:pt x="828273" y="121520"/>
                  </a:lnTo>
                  <a:lnTo>
                    <a:pt x="829317" y="121503"/>
                  </a:lnTo>
                  <a:lnTo>
                    <a:pt x="831254" y="120030"/>
                  </a:lnTo>
                  <a:lnTo>
                    <a:pt x="852535" y="120893"/>
                  </a:lnTo>
                  <a:lnTo>
                    <a:pt x="836288" y="112267"/>
                  </a:lnTo>
                  <a:lnTo>
                    <a:pt x="841552" y="107419"/>
                  </a:lnTo>
                  <a:lnTo>
                    <a:pt x="849360" y="102868"/>
                  </a:lnTo>
                  <a:lnTo>
                    <a:pt x="852624" y="100319"/>
                  </a:lnTo>
                  <a:lnTo>
                    <a:pt x="853666" y="100359"/>
                  </a:lnTo>
                  <a:lnTo>
                    <a:pt x="855995" y="99000"/>
                  </a:lnTo>
                  <a:lnTo>
                    <a:pt x="880939" y="101384"/>
                  </a:lnTo>
                  <a:lnTo>
                    <a:pt x="885474" y="101555"/>
                  </a:lnTo>
                  <a:lnTo>
                    <a:pt x="878894" y="98218"/>
                  </a:lnTo>
                  <a:lnTo>
                    <a:pt x="880378" y="96786"/>
                  </a:lnTo>
                  <a:lnTo>
                    <a:pt x="871676" y="89907"/>
                  </a:lnTo>
                  <a:lnTo>
                    <a:pt x="890188" y="90331"/>
                  </a:lnTo>
                  <a:lnTo>
                    <a:pt x="896243" y="86593"/>
                  </a:lnTo>
                  <a:lnTo>
                    <a:pt x="914751" y="88169"/>
                  </a:lnTo>
                  <a:lnTo>
                    <a:pt x="891101" y="71194"/>
                  </a:lnTo>
                  <a:lnTo>
                    <a:pt x="894226" y="69111"/>
                  </a:lnTo>
                  <a:lnTo>
                    <a:pt x="914183" y="60233"/>
                  </a:lnTo>
                  <a:lnTo>
                    <a:pt x="940028" y="64461"/>
                  </a:lnTo>
                  <a:lnTo>
                    <a:pt x="928911" y="53735"/>
                  </a:lnTo>
                  <a:lnTo>
                    <a:pt x="932589" y="51835"/>
                  </a:lnTo>
                  <a:lnTo>
                    <a:pt x="954855" y="44093"/>
                  </a:lnTo>
                  <a:lnTo>
                    <a:pt x="984996" y="50965"/>
                  </a:lnTo>
                  <a:lnTo>
                    <a:pt x="981674" y="38335"/>
                  </a:lnTo>
                  <a:lnTo>
                    <a:pt x="992665" y="40640"/>
                  </a:lnTo>
                  <a:lnTo>
                    <a:pt x="1011405" y="35437"/>
                  </a:lnTo>
                  <a:lnTo>
                    <a:pt x="1017358" y="37168"/>
                  </a:lnTo>
                  <a:lnTo>
                    <a:pt x="1013092" y="25338"/>
                  </a:lnTo>
                  <a:lnTo>
                    <a:pt x="1023235" y="22348"/>
                  </a:lnTo>
                  <a:lnTo>
                    <a:pt x="1045410" y="18344"/>
                  </a:lnTo>
                  <a:lnTo>
                    <a:pt x="1063567" y="25767"/>
                  </a:lnTo>
                  <a:lnTo>
                    <a:pt x="1062685" y="14759"/>
                  </a:lnTo>
                  <a:lnTo>
                    <a:pt x="1073578" y="12334"/>
                  </a:lnTo>
                  <a:lnTo>
                    <a:pt x="1096697" y="9549"/>
                  </a:lnTo>
                  <a:lnTo>
                    <a:pt x="1104414" y="13580"/>
                  </a:lnTo>
                  <a:lnTo>
                    <a:pt x="1108469" y="13060"/>
                  </a:lnTo>
                  <a:lnTo>
                    <a:pt x="1121415" y="19605"/>
                  </a:lnTo>
                  <a:lnTo>
                    <a:pt x="1125304" y="13596"/>
                  </a:lnTo>
                  <a:lnTo>
                    <a:pt x="1125675" y="11283"/>
                  </a:lnTo>
                  <a:lnTo>
                    <a:pt x="1126937" y="11072"/>
                  </a:lnTo>
                  <a:lnTo>
                    <a:pt x="1128140" y="9214"/>
                  </a:lnTo>
                  <a:lnTo>
                    <a:pt x="1130671" y="10450"/>
                  </a:lnTo>
                  <a:lnTo>
                    <a:pt x="1137091" y="9379"/>
                  </a:lnTo>
                  <a:lnTo>
                    <a:pt x="1160748" y="7684"/>
                  </a:lnTo>
                  <a:lnTo>
                    <a:pt x="1161648" y="8270"/>
                  </a:lnTo>
                  <a:lnTo>
                    <a:pt x="1164600" y="2852"/>
                  </a:lnTo>
                  <a:lnTo>
                    <a:pt x="1183365" y="1274"/>
                  </a:lnTo>
                  <a:lnTo>
                    <a:pt x="1201478" y="1333"/>
                  </a:lnTo>
                  <a:lnTo>
                    <a:pt x="1210927" y="10412"/>
                  </a:lnTo>
                  <a:lnTo>
                    <a:pt x="1219287" y="560"/>
                  </a:lnTo>
                  <a:lnTo>
                    <a:pt x="1238349" y="0"/>
                  </a:lnTo>
                  <a:lnTo>
                    <a:pt x="1256310" y="1030"/>
                  </a:lnTo>
                  <a:lnTo>
                    <a:pt x="1257658" y="2899"/>
                  </a:lnTo>
                  <a:lnTo>
                    <a:pt x="1267748" y="3405"/>
                  </a:lnTo>
                  <a:lnTo>
                    <a:pt x="1275078" y="13023"/>
                  </a:lnTo>
                  <a:lnTo>
                    <a:pt x="1284811" y="4449"/>
                  </a:lnTo>
                  <a:lnTo>
                    <a:pt x="1303900" y="4778"/>
                  </a:lnTo>
                  <a:lnTo>
                    <a:pt x="1321513" y="6638"/>
                  </a:lnTo>
                  <a:lnTo>
                    <a:pt x="1322211" y="8141"/>
                  </a:lnTo>
                  <a:lnTo>
                    <a:pt x="1324321" y="6862"/>
                  </a:lnTo>
                  <a:lnTo>
                    <a:pt x="1343856" y="8605"/>
                  </a:lnTo>
                  <a:lnTo>
                    <a:pt x="1360027" y="11540"/>
                  </a:lnTo>
                  <a:lnTo>
                    <a:pt x="1360787" y="20621"/>
                  </a:lnTo>
                  <a:lnTo>
                    <a:pt x="1376709" y="13101"/>
                  </a:lnTo>
                  <a:lnTo>
                    <a:pt x="1388217" y="14792"/>
                  </a:lnTo>
                  <a:lnTo>
                    <a:pt x="1388576" y="14617"/>
                  </a:lnTo>
                  <a:lnTo>
                    <a:pt x="1407582" y="17259"/>
                  </a:lnTo>
                  <a:lnTo>
                    <a:pt x="1420205" y="20273"/>
                  </a:lnTo>
                  <a:lnTo>
                    <a:pt x="1430767" y="18366"/>
                  </a:lnTo>
                  <a:lnTo>
                    <a:pt x="1448924" y="25789"/>
                  </a:lnTo>
                  <a:lnTo>
                    <a:pt x="1448041" y="14781"/>
                  </a:lnTo>
                  <a:lnTo>
                    <a:pt x="1458935" y="12356"/>
                  </a:lnTo>
                  <a:lnTo>
                    <a:pt x="1482053" y="9571"/>
                  </a:lnTo>
                  <a:lnTo>
                    <a:pt x="1489771" y="13602"/>
                  </a:lnTo>
                  <a:lnTo>
                    <a:pt x="1493826" y="13082"/>
                  </a:lnTo>
                  <a:lnTo>
                    <a:pt x="1506771" y="19627"/>
                  </a:lnTo>
                  <a:lnTo>
                    <a:pt x="1510660" y="13618"/>
                  </a:lnTo>
                  <a:lnTo>
                    <a:pt x="1511032" y="11305"/>
                  </a:lnTo>
                  <a:lnTo>
                    <a:pt x="1512293" y="11094"/>
                  </a:lnTo>
                  <a:lnTo>
                    <a:pt x="1513496" y="9235"/>
                  </a:lnTo>
                  <a:lnTo>
                    <a:pt x="1516027" y="10472"/>
                  </a:lnTo>
                  <a:lnTo>
                    <a:pt x="1522447" y="9400"/>
                  </a:lnTo>
                  <a:lnTo>
                    <a:pt x="1546105" y="7706"/>
                  </a:lnTo>
                  <a:lnTo>
                    <a:pt x="1547005" y="8292"/>
                  </a:lnTo>
                  <a:lnTo>
                    <a:pt x="1549957" y="2873"/>
                  </a:lnTo>
                  <a:lnTo>
                    <a:pt x="1568722" y="1296"/>
                  </a:lnTo>
                  <a:lnTo>
                    <a:pt x="1586834" y="1355"/>
                  </a:lnTo>
                  <a:lnTo>
                    <a:pt x="1596284" y="10434"/>
                  </a:lnTo>
                  <a:lnTo>
                    <a:pt x="1604643" y="582"/>
                  </a:lnTo>
                  <a:lnTo>
                    <a:pt x="1623705" y="22"/>
                  </a:lnTo>
                  <a:lnTo>
                    <a:pt x="1641666" y="1051"/>
                  </a:lnTo>
                  <a:lnTo>
                    <a:pt x="1643015" y="2921"/>
                  </a:lnTo>
                  <a:lnTo>
                    <a:pt x="1653104" y="3427"/>
                  </a:lnTo>
                  <a:lnTo>
                    <a:pt x="1660434" y="13044"/>
                  </a:lnTo>
                  <a:lnTo>
                    <a:pt x="1670167" y="4470"/>
                  </a:lnTo>
                  <a:lnTo>
                    <a:pt x="1689257" y="4800"/>
                  </a:lnTo>
                  <a:lnTo>
                    <a:pt x="1706870" y="6660"/>
                  </a:lnTo>
                  <a:lnTo>
                    <a:pt x="1707568" y="8162"/>
                  </a:lnTo>
                  <a:lnTo>
                    <a:pt x="1709678" y="6884"/>
                  </a:lnTo>
                  <a:lnTo>
                    <a:pt x="1729213" y="8627"/>
                  </a:lnTo>
                  <a:lnTo>
                    <a:pt x="1745384" y="11562"/>
                  </a:lnTo>
                  <a:lnTo>
                    <a:pt x="1746144" y="20643"/>
                  </a:lnTo>
                  <a:lnTo>
                    <a:pt x="1762065" y="13123"/>
                  </a:lnTo>
                  <a:lnTo>
                    <a:pt x="1773574" y="14813"/>
                  </a:lnTo>
                  <a:lnTo>
                    <a:pt x="1773932" y="14639"/>
                  </a:lnTo>
                  <a:lnTo>
                    <a:pt x="1792939" y="17281"/>
                  </a:lnTo>
                  <a:lnTo>
                    <a:pt x="1808314" y="20952"/>
                  </a:lnTo>
                  <a:lnTo>
                    <a:pt x="1806777" y="30726"/>
                  </a:lnTo>
                  <a:lnTo>
                    <a:pt x="1823695" y="24264"/>
                  </a:lnTo>
                  <a:lnTo>
                    <a:pt x="1841830" y="27905"/>
                  </a:lnTo>
                  <a:lnTo>
                    <a:pt x="1856075" y="32373"/>
                  </a:lnTo>
                  <a:lnTo>
                    <a:pt x="1853887" y="37349"/>
                  </a:lnTo>
                  <a:lnTo>
                    <a:pt x="1855014" y="37045"/>
                  </a:lnTo>
                  <a:lnTo>
                    <a:pt x="1871747" y="41909"/>
                  </a:lnTo>
                  <a:lnTo>
                    <a:pt x="1879722" y="45381"/>
                  </a:lnTo>
                  <a:lnTo>
                    <a:pt x="1882078" y="44940"/>
                  </a:lnTo>
                  <a:lnTo>
                    <a:pt x="1881620" y="46206"/>
                  </a:lnTo>
                  <a:lnTo>
                    <a:pt x="1883500" y="47025"/>
                  </a:lnTo>
                  <a:lnTo>
                    <a:pt x="1879693" y="51531"/>
                  </a:lnTo>
                  <a:lnTo>
                    <a:pt x="1878881" y="53777"/>
                  </a:lnTo>
                  <a:lnTo>
                    <a:pt x="1880736" y="54309"/>
                  </a:lnTo>
                  <a:lnTo>
                    <a:pt x="1897974" y="50849"/>
                  </a:lnTo>
                  <a:lnTo>
                    <a:pt x="1903643" y="52976"/>
                  </a:lnTo>
                  <a:lnTo>
                    <a:pt x="1911210" y="51391"/>
                  </a:lnTo>
                  <a:lnTo>
                    <a:pt x="1926681" y="57006"/>
                  </a:lnTo>
                  <a:lnTo>
                    <a:pt x="1937139" y="62641"/>
                  </a:lnTo>
                  <a:lnTo>
                    <a:pt x="1928499" y="70281"/>
                  </a:lnTo>
                  <a:lnTo>
                    <a:pt x="1929772" y="70010"/>
                  </a:lnTo>
                  <a:lnTo>
                    <a:pt x="1931809" y="70740"/>
                  </a:lnTo>
                  <a:lnTo>
                    <a:pt x="1949781" y="68101"/>
                  </a:lnTo>
                  <a:lnTo>
                    <a:pt x="1963583" y="74503"/>
                  </a:lnTo>
                  <a:lnTo>
                    <a:pt x="1972404" y="80656"/>
                  </a:lnTo>
                  <a:lnTo>
                    <a:pt x="1961795" y="87723"/>
                  </a:lnTo>
                  <a:lnTo>
                    <a:pt x="1976437" y="95087"/>
                  </a:lnTo>
                  <a:lnTo>
                    <a:pt x="1978848" y="96949"/>
                  </a:lnTo>
                  <a:lnTo>
                    <a:pt x="1980754" y="96833"/>
                  </a:lnTo>
                  <a:lnTo>
                    <a:pt x="1979848" y="97721"/>
                  </a:lnTo>
                  <a:lnTo>
                    <a:pt x="1980926" y="98554"/>
                  </a:lnTo>
                  <a:lnTo>
                    <a:pt x="1986978" y="98529"/>
                  </a:lnTo>
                  <a:lnTo>
                    <a:pt x="1981513" y="102447"/>
                  </a:lnTo>
                  <a:lnTo>
                    <a:pt x="1981756" y="102708"/>
                  </a:lnTo>
                  <a:lnTo>
                    <a:pt x="1979965" y="103557"/>
                  </a:lnTo>
                  <a:lnTo>
                    <a:pt x="1975492" y="106763"/>
                  </a:lnTo>
                  <a:lnTo>
                    <a:pt x="1988326" y="105830"/>
                  </a:lnTo>
                  <a:lnTo>
                    <a:pt x="1989854" y="106820"/>
                  </a:lnTo>
                  <a:lnTo>
                    <a:pt x="2003573" y="105721"/>
                  </a:lnTo>
                  <a:lnTo>
                    <a:pt x="2018013" y="114756"/>
                  </a:lnTo>
                  <a:lnTo>
                    <a:pt x="2021969" y="118742"/>
                  </a:lnTo>
                  <a:lnTo>
                    <a:pt x="2019681" y="119876"/>
                  </a:lnTo>
                  <a:lnTo>
                    <a:pt x="2021472" y="122583"/>
                  </a:lnTo>
                  <a:lnTo>
                    <a:pt x="2008833" y="127425"/>
                  </a:lnTo>
                  <a:lnTo>
                    <a:pt x="2026423" y="126976"/>
                  </a:lnTo>
                  <a:lnTo>
                    <a:pt x="2038254" y="136719"/>
                  </a:lnTo>
                  <a:lnTo>
                    <a:pt x="2041079" y="140886"/>
                  </a:lnTo>
                  <a:lnTo>
                    <a:pt x="2038494" y="141889"/>
                  </a:lnTo>
                  <a:lnTo>
                    <a:pt x="2039522" y="144672"/>
                  </a:lnTo>
                  <a:lnTo>
                    <a:pt x="2022512" y="149730"/>
                  </a:lnTo>
                  <a:lnTo>
                    <a:pt x="2035552" y="150346"/>
                  </a:lnTo>
                  <a:lnTo>
                    <a:pt x="2042561" y="159736"/>
                  </a:lnTo>
                  <a:lnTo>
                    <a:pt x="2050226" y="160615"/>
                  </a:lnTo>
                  <a:lnTo>
                    <a:pt x="2044638" y="162934"/>
                  </a:lnTo>
                  <a:lnTo>
                    <a:pt x="2044933" y="164002"/>
                  </a:lnTo>
                  <a:lnTo>
                    <a:pt x="2036449" y="166333"/>
                  </a:lnTo>
                  <a:lnTo>
                    <a:pt x="2029490" y="169221"/>
                  </a:lnTo>
                  <a:lnTo>
                    <a:pt x="2063525" y="172456"/>
                  </a:lnTo>
                  <a:lnTo>
                    <a:pt x="2069514" y="184733"/>
                  </a:lnTo>
                  <a:lnTo>
                    <a:pt x="2069574" y="186472"/>
                  </a:lnTo>
                  <a:lnTo>
                    <a:pt x="2050560" y="190537"/>
                  </a:lnTo>
                  <a:lnTo>
                    <a:pt x="2051295" y="192120"/>
                  </a:lnTo>
                  <a:lnTo>
                    <a:pt x="2051319" y="193956"/>
                  </a:lnTo>
                  <a:lnTo>
                    <a:pt x="2067460" y="196428"/>
                  </a:lnTo>
                  <a:lnTo>
                    <a:pt x="2070008" y="208935"/>
                  </a:lnTo>
                  <a:lnTo>
                    <a:pt x="2069586" y="210664"/>
                  </a:lnTo>
                  <a:lnTo>
                    <a:pt x="2049589" y="213679"/>
                  </a:lnTo>
                  <a:lnTo>
                    <a:pt x="2049881" y="215291"/>
                  </a:lnTo>
                  <a:lnTo>
                    <a:pt x="2048895" y="218992"/>
                  </a:lnTo>
                  <a:lnTo>
                    <a:pt x="2046809" y="219284"/>
                  </a:lnTo>
                  <a:lnTo>
                    <a:pt x="2042980" y="220751"/>
                  </a:lnTo>
                  <a:lnTo>
                    <a:pt x="2050263" y="222499"/>
                  </a:lnTo>
                  <a:lnTo>
                    <a:pt x="2050150" y="223192"/>
                  </a:lnTo>
                  <a:lnTo>
                    <a:pt x="2053232" y="223113"/>
                  </a:lnTo>
                  <a:lnTo>
                    <a:pt x="2065063" y="232855"/>
                  </a:lnTo>
                  <a:lnTo>
                    <a:pt x="2067888" y="237023"/>
                  </a:lnTo>
                  <a:lnTo>
                    <a:pt x="2065303" y="238026"/>
                  </a:lnTo>
                  <a:lnTo>
                    <a:pt x="2066331" y="240809"/>
                  </a:lnTo>
                  <a:lnTo>
                    <a:pt x="2056765" y="243653"/>
                  </a:lnTo>
                  <a:lnTo>
                    <a:pt x="2060824" y="244889"/>
                  </a:lnTo>
                  <a:lnTo>
                    <a:pt x="2060216" y="246381"/>
                  </a:lnTo>
                  <a:lnTo>
                    <a:pt x="2062361" y="246482"/>
                  </a:lnTo>
                  <a:lnTo>
                    <a:pt x="2069371" y="255873"/>
                  </a:lnTo>
                  <a:lnTo>
                    <a:pt x="2077036" y="256752"/>
                  </a:lnTo>
                  <a:lnTo>
                    <a:pt x="2071447" y="259071"/>
                  </a:lnTo>
                  <a:lnTo>
                    <a:pt x="2071743" y="260139"/>
                  </a:lnTo>
                  <a:lnTo>
                    <a:pt x="2063258" y="262470"/>
                  </a:lnTo>
                  <a:lnTo>
                    <a:pt x="2056300" y="265358"/>
                  </a:lnTo>
                  <a:lnTo>
                    <a:pt x="2090334" y="268592"/>
                  </a:lnTo>
                  <a:lnTo>
                    <a:pt x="2096324" y="280870"/>
                  </a:lnTo>
                  <a:lnTo>
                    <a:pt x="2096383" y="282609"/>
                  </a:lnTo>
                  <a:lnTo>
                    <a:pt x="2077370" y="286673"/>
                  </a:lnTo>
                  <a:lnTo>
                    <a:pt x="2078105" y="288257"/>
                  </a:lnTo>
                  <a:lnTo>
                    <a:pt x="2078128" y="290093"/>
                  </a:lnTo>
                  <a:lnTo>
                    <a:pt x="2094270" y="292564"/>
                  </a:lnTo>
                  <a:lnTo>
                    <a:pt x="2096817" y="305072"/>
                  </a:lnTo>
                  <a:lnTo>
                    <a:pt x="2096396" y="306800"/>
                  </a:lnTo>
                  <a:lnTo>
                    <a:pt x="2076398" y="309816"/>
                  </a:lnTo>
                  <a:lnTo>
                    <a:pt x="2076690" y="311427"/>
                  </a:lnTo>
                  <a:lnTo>
                    <a:pt x="2075705" y="315129"/>
                  </a:lnTo>
                  <a:lnTo>
                    <a:pt x="2067335" y="316298"/>
                  </a:lnTo>
                  <a:lnTo>
                    <a:pt x="2077072" y="318636"/>
                  </a:lnTo>
                  <a:lnTo>
                    <a:pt x="2076169" y="324188"/>
                  </a:lnTo>
                  <a:lnTo>
                    <a:pt x="2085758" y="327379"/>
                  </a:lnTo>
                  <a:lnTo>
                    <a:pt x="2075366" y="329118"/>
                  </a:lnTo>
                  <a:lnTo>
                    <a:pt x="2075320" y="329401"/>
                  </a:lnTo>
                  <a:lnTo>
                    <a:pt x="2073895" y="331734"/>
                  </a:lnTo>
                  <a:lnTo>
                    <a:pt x="2060381" y="332726"/>
                  </a:lnTo>
                  <a:lnTo>
                    <a:pt x="2087633" y="341026"/>
                  </a:lnTo>
                  <a:lnTo>
                    <a:pt x="2083306" y="351649"/>
                  </a:lnTo>
                  <a:lnTo>
                    <a:pt x="2081329" y="353902"/>
                  </a:lnTo>
                  <a:lnTo>
                    <a:pt x="2065229" y="354324"/>
                  </a:lnTo>
                  <a:lnTo>
                    <a:pt x="2062359" y="360715"/>
                  </a:lnTo>
                  <a:lnTo>
                    <a:pt x="2071545" y="364314"/>
                  </a:lnTo>
                  <a:lnTo>
                    <a:pt x="2064310" y="374626"/>
                  </a:lnTo>
                  <a:lnTo>
                    <a:pt x="2061724" y="376757"/>
                  </a:lnTo>
                  <a:lnTo>
                    <a:pt x="2045627" y="376313"/>
                  </a:lnTo>
                  <a:lnTo>
                    <a:pt x="2040463" y="383234"/>
                  </a:lnTo>
                  <a:lnTo>
                    <a:pt x="2037019" y="385893"/>
                  </a:lnTo>
                  <a:lnTo>
                    <a:pt x="2035250" y="385826"/>
                  </a:lnTo>
                  <a:lnTo>
                    <a:pt x="2033894" y="390273"/>
                  </a:lnTo>
                  <a:lnTo>
                    <a:pt x="2039937" y="388647"/>
                  </a:lnTo>
                  <a:lnTo>
                    <a:pt x="2041934" y="391860"/>
                  </a:lnTo>
                  <a:lnTo>
                    <a:pt x="2044173" y="390023"/>
                  </a:lnTo>
                  <a:lnTo>
                    <a:pt x="2067169" y="400065"/>
                  </a:lnTo>
                  <a:lnTo>
                    <a:pt x="2076062" y="394416"/>
                  </a:lnTo>
                  <a:lnTo>
                    <a:pt x="2074702" y="403776"/>
                  </a:lnTo>
                  <a:lnTo>
                    <a:pt x="2076834" y="405389"/>
                  </a:lnTo>
                  <a:lnTo>
                    <a:pt x="2072707" y="417493"/>
                  </a:lnTo>
                  <a:lnTo>
                    <a:pt x="2071013" y="429149"/>
                  </a:lnTo>
                  <a:lnTo>
                    <a:pt x="2109348" y="402883"/>
                  </a:lnTo>
                  <a:lnTo>
                    <a:pt x="2136359" y="418997"/>
                  </a:lnTo>
                  <a:lnTo>
                    <a:pt x="2139426" y="422020"/>
                  </a:lnTo>
                  <a:lnTo>
                    <a:pt x="2128173" y="447092"/>
                  </a:lnTo>
                  <a:lnTo>
                    <a:pt x="2131622" y="449206"/>
                  </a:lnTo>
                  <a:lnTo>
                    <a:pt x="2134822" y="452435"/>
                  </a:lnTo>
                  <a:lnTo>
                    <a:pt x="2154625" y="441638"/>
                  </a:lnTo>
                  <a:lnTo>
                    <a:pt x="2178723" y="461394"/>
                  </a:lnTo>
                  <a:lnTo>
                    <a:pt x="2181310" y="464852"/>
                  </a:lnTo>
                  <a:lnTo>
                    <a:pt x="2167295" y="488990"/>
                  </a:lnTo>
                  <a:lnTo>
                    <a:pt x="2170365" y="491570"/>
                  </a:lnTo>
                  <a:lnTo>
                    <a:pt x="2175823" y="499051"/>
                  </a:lnTo>
                  <a:lnTo>
                    <a:pt x="2169797" y="508990"/>
                  </a:lnTo>
                  <a:lnTo>
                    <a:pt x="2183209" y="503978"/>
                  </a:lnTo>
                  <a:lnTo>
                    <a:pt x="2191950" y="514658"/>
                  </a:lnTo>
                  <a:lnTo>
                    <a:pt x="2206697" y="511296"/>
                  </a:lnTo>
                  <a:lnTo>
                    <a:pt x="2199712" y="524145"/>
                  </a:lnTo>
                  <a:lnTo>
                    <a:pt x="2200157" y="524689"/>
                  </a:lnTo>
                  <a:lnTo>
                    <a:pt x="2202823" y="530159"/>
                  </a:lnTo>
                  <a:lnTo>
                    <a:pt x="2191542" y="544621"/>
                  </a:lnTo>
                  <a:lnTo>
                    <a:pt x="2232121" y="533702"/>
                  </a:lnTo>
                  <a:lnTo>
                    <a:pt x="2246346" y="556584"/>
                  </a:lnTo>
                  <a:lnTo>
                    <a:pt x="2248344" y="562432"/>
                  </a:lnTo>
                  <a:lnTo>
                    <a:pt x="2233589" y="578314"/>
                  </a:lnTo>
                  <a:lnTo>
                    <a:pt x="2241889" y="592330"/>
                  </a:lnTo>
                  <a:lnTo>
                    <a:pt x="2256954" y="590069"/>
                  </a:lnTo>
                  <a:lnTo>
                    <a:pt x="2267844" y="615133"/>
                  </a:lnTo>
                  <a:lnTo>
                    <a:pt x="2269045" y="621336"/>
                  </a:lnTo>
                  <a:lnTo>
                    <a:pt x="2252793" y="635681"/>
                  </a:lnTo>
                  <a:lnTo>
                    <a:pt x="2259806" y="652794"/>
                  </a:lnTo>
                  <a:lnTo>
                    <a:pt x="2261095" y="660740"/>
                  </a:lnTo>
                  <a:lnTo>
                    <a:pt x="2245092" y="674349"/>
                  </a:lnTo>
                  <a:lnTo>
                    <a:pt x="2255669" y="674497"/>
                  </a:lnTo>
                  <a:lnTo>
                    <a:pt x="2256282" y="677111"/>
                  </a:lnTo>
                  <a:lnTo>
                    <a:pt x="2270862" y="679615"/>
                  </a:lnTo>
                  <a:lnTo>
                    <a:pt x="2259382" y="690315"/>
                  </a:lnTo>
                  <a:lnTo>
                    <a:pt x="2260657" y="695744"/>
                  </a:lnTo>
                  <a:lnTo>
                    <a:pt x="2260848" y="705819"/>
                  </a:lnTo>
                  <a:lnTo>
                    <a:pt x="2253094" y="710997"/>
                  </a:lnTo>
                  <a:lnTo>
                    <a:pt x="2284041" y="714876"/>
                  </a:lnTo>
                  <a:lnTo>
                    <a:pt x="2286583" y="737017"/>
                  </a:lnTo>
                  <a:lnTo>
                    <a:pt x="2285675" y="747282"/>
                  </a:lnTo>
                  <a:lnTo>
                    <a:pt x="2264233" y="759009"/>
                  </a:lnTo>
                  <a:lnTo>
                    <a:pt x="2264077" y="760494"/>
                  </a:lnTo>
                  <a:lnTo>
                    <a:pt x="2276978" y="762431"/>
                  </a:lnTo>
                  <a:lnTo>
                    <a:pt x="2278273" y="779357"/>
                  </a:lnTo>
                  <a:lnTo>
                    <a:pt x="2284487" y="781000"/>
                  </a:lnTo>
                  <a:lnTo>
                    <a:pt x="2284175" y="803863"/>
                  </a:lnTo>
                  <a:lnTo>
                    <a:pt x="2282013" y="814204"/>
                  </a:lnTo>
                  <a:lnTo>
                    <a:pt x="2257578" y="824427"/>
                  </a:lnTo>
                  <a:lnTo>
                    <a:pt x="2271711" y="828554"/>
                  </a:lnTo>
                  <a:lnTo>
                    <a:pt x="2270647" y="849944"/>
                  </a:lnTo>
                  <a:lnTo>
                    <a:pt x="2268669" y="858049"/>
                  </a:lnTo>
                  <a:lnTo>
                    <a:pt x="2248257" y="866119"/>
                  </a:lnTo>
                  <a:lnTo>
                    <a:pt x="2258782" y="873748"/>
                  </a:lnTo>
                  <a:lnTo>
                    <a:pt x="2247063" y="879052"/>
                  </a:lnTo>
                  <a:lnTo>
                    <a:pt x="2243568" y="898239"/>
                  </a:lnTo>
                  <a:lnTo>
                    <a:pt x="2240380" y="906601"/>
                  </a:lnTo>
                  <a:lnTo>
                    <a:pt x="2239861" y="906734"/>
                  </a:lnTo>
                  <a:lnTo>
                    <a:pt x="2247862" y="912879"/>
                  </a:lnTo>
                  <a:lnTo>
                    <a:pt x="2246849" y="913314"/>
                  </a:lnTo>
                  <a:lnTo>
                    <a:pt x="2254514" y="918292"/>
                  </a:lnTo>
                  <a:lnTo>
                    <a:pt x="2247991" y="941073"/>
                  </a:lnTo>
                  <a:lnTo>
                    <a:pt x="2243982" y="949233"/>
                  </a:lnTo>
                  <a:lnTo>
                    <a:pt x="2225662" y="952009"/>
                  </a:lnTo>
                  <a:lnTo>
                    <a:pt x="2224334" y="956401"/>
                  </a:lnTo>
                  <a:lnTo>
                    <a:pt x="2239716" y="967005"/>
                  </a:lnTo>
                  <a:lnTo>
                    <a:pt x="2235557" y="980265"/>
                  </a:lnTo>
                  <a:lnTo>
                    <a:pt x="2227601" y="995861"/>
                  </a:lnTo>
                  <a:lnTo>
                    <a:pt x="2225751" y="996100"/>
                  </a:lnTo>
                  <a:lnTo>
                    <a:pt x="2221341" y="1006884"/>
                  </a:lnTo>
                  <a:lnTo>
                    <a:pt x="2216446" y="1014696"/>
                  </a:lnTo>
                  <a:lnTo>
                    <a:pt x="2192166" y="1015446"/>
                  </a:lnTo>
                  <a:lnTo>
                    <a:pt x="2210099" y="1032266"/>
                  </a:lnTo>
                  <a:lnTo>
                    <a:pt x="2204420" y="1045254"/>
                  </a:lnTo>
                  <a:lnTo>
                    <a:pt x="2194777" y="1060151"/>
                  </a:lnTo>
                  <a:lnTo>
                    <a:pt x="2170411" y="1060346"/>
                  </a:lnTo>
                  <a:lnTo>
                    <a:pt x="2172302" y="1064135"/>
                  </a:lnTo>
                  <a:lnTo>
                    <a:pt x="2156637" y="1065141"/>
                  </a:lnTo>
                  <a:lnTo>
                    <a:pt x="2155449" y="1067817"/>
                  </a:lnTo>
                  <a:lnTo>
                    <a:pt x="2160531" y="1074609"/>
                  </a:lnTo>
                  <a:lnTo>
                    <a:pt x="2151575" y="1089661"/>
                  </a:lnTo>
                  <a:lnTo>
                    <a:pt x="2157390" y="1102142"/>
                  </a:lnTo>
                  <a:lnTo>
                    <a:pt x="2143199" y="1102731"/>
                  </a:lnTo>
                  <a:lnTo>
                    <a:pt x="2148130" y="1111475"/>
                  </a:lnTo>
                  <a:lnTo>
                    <a:pt x="2134281" y="1130685"/>
                  </a:lnTo>
                  <a:lnTo>
                    <a:pt x="2127970" y="1137006"/>
                  </a:lnTo>
                  <a:lnTo>
                    <a:pt x="2118285" y="1134463"/>
                  </a:lnTo>
                  <a:lnTo>
                    <a:pt x="2116354" y="1137068"/>
                  </a:lnTo>
                  <a:lnTo>
                    <a:pt x="2126936" y="1157088"/>
                  </a:lnTo>
                  <a:lnTo>
                    <a:pt x="2123221" y="1162152"/>
                  </a:lnTo>
                  <a:lnTo>
                    <a:pt x="2103765" y="1181334"/>
                  </a:lnTo>
                  <a:lnTo>
                    <a:pt x="2094184" y="1178554"/>
                  </a:lnTo>
                  <a:lnTo>
                    <a:pt x="2087696" y="1185886"/>
                  </a:lnTo>
                  <a:lnTo>
                    <a:pt x="2080804" y="1191542"/>
                  </a:lnTo>
                  <a:lnTo>
                    <a:pt x="2068171" y="1186248"/>
                  </a:lnTo>
                  <a:lnTo>
                    <a:pt x="2077292" y="1211863"/>
                  </a:lnTo>
                  <a:lnTo>
                    <a:pt x="2073067" y="1216562"/>
                  </a:lnTo>
                  <a:lnTo>
                    <a:pt x="2051859" y="1233685"/>
                  </a:lnTo>
                  <a:lnTo>
                    <a:pt x="2024576" y="1221388"/>
                  </a:lnTo>
                  <a:lnTo>
                    <a:pt x="2024585" y="1221795"/>
                  </a:lnTo>
                  <a:lnTo>
                    <a:pt x="2017127" y="1219005"/>
                  </a:lnTo>
                  <a:lnTo>
                    <a:pt x="2016774" y="1219931"/>
                  </a:lnTo>
                  <a:lnTo>
                    <a:pt x="2017748" y="1222733"/>
                  </a:lnTo>
                  <a:lnTo>
                    <a:pt x="2023807" y="1227386"/>
                  </a:lnTo>
                  <a:lnTo>
                    <a:pt x="2022793" y="1227821"/>
                  </a:lnTo>
                  <a:lnTo>
                    <a:pt x="2030459" y="1232800"/>
                  </a:lnTo>
                  <a:lnTo>
                    <a:pt x="2023935" y="1255581"/>
                  </a:lnTo>
                  <a:lnTo>
                    <a:pt x="2019927" y="1263741"/>
                  </a:lnTo>
                  <a:lnTo>
                    <a:pt x="2001606" y="1266517"/>
                  </a:lnTo>
                  <a:lnTo>
                    <a:pt x="2000278" y="1270910"/>
                  </a:lnTo>
                  <a:lnTo>
                    <a:pt x="2015661" y="1281513"/>
                  </a:lnTo>
                  <a:lnTo>
                    <a:pt x="2011502" y="1294773"/>
                  </a:lnTo>
                  <a:lnTo>
                    <a:pt x="2003546" y="1310369"/>
                  </a:lnTo>
                  <a:lnTo>
                    <a:pt x="2001696" y="1310608"/>
                  </a:lnTo>
                  <a:lnTo>
                    <a:pt x="1997286" y="1321391"/>
                  </a:lnTo>
                  <a:lnTo>
                    <a:pt x="1992391" y="1329204"/>
                  </a:lnTo>
                  <a:lnTo>
                    <a:pt x="1968110" y="1329954"/>
                  </a:lnTo>
                  <a:lnTo>
                    <a:pt x="1986044" y="1346774"/>
                  </a:lnTo>
                  <a:lnTo>
                    <a:pt x="1980365" y="1359762"/>
                  </a:lnTo>
                  <a:lnTo>
                    <a:pt x="1970722" y="1374658"/>
                  </a:lnTo>
                  <a:lnTo>
                    <a:pt x="1948601" y="1374835"/>
                  </a:lnTo>
                  <a:lnTo>
                    <a:pt x="1946681" y="1375506"/>
                  </a:lnTo>
                  <a:lnTo>
                    <a:pt x="1948247" y="1378642"/>
                  </a:lnTo>
                  <a:lnTo>
                    <a:pt x="1936528" y="1379395"/>
                  </a:lnTo>
                  <a:lnTo>
                    <a:pt x="1941164" y="1382696"/>
                  </a:lnTo>
                  <a:lnTo>
                    <a:pt x="1933915" y="1385694"/>
                  </a:lnTo>
                  <a:lnTo>
                    <a:pt x="1936476" y="1389116"/>
                  </a:lnTo>
                  <a:lnTo>
                    <a:pt x="1930945" y="1398412"/>
                  </a:lnTo>
                  <a:lnTo>
                    <a:pt x="1933525" y="1399725"/>
                  </a:lnTo>
                  <a:lnTo>
                    <a:pt x="1932788" y="1415479"/>
                  </a:lnTo>
                  <a:lnTo>
                    <a:pt x="1933334" y="1416650"/>
                  </a:lnTo>
                  <a:lnTo>
                    <a:pt x="1932733" y="1416675"/>
                  </a:lnTo>
                  <a:lnTo>
                    <a:pt x="1932540" y="1420795"/>
                  </a:lnTo>
                  <a:lnTo>
                    <a:pt x="1948352" y="1432603"/>
                  </a:lnTo>
                  <a:lnTo>
                    <a:pt x="1930934" y="1439346"/>
                  </a:lnTo>
                  <a:lnTo>
                    <a:pt x="1943088" y="1447252"/>
                  </a:lnTo>
                  <a:lnTo>
                    <a:pt x="1938794" y="1475174"/>
                  </a:lnTo>
                  <a:lnTo>
                    <a:pt x="1935180" y="1485113"/>
                  </a:lnTo>
                  <a:lnTo>
                    <a:pt x="1921284" y="1486342"/>
                  </a:lnTo>
                  <a:lnTo>
                    <a:pt x="1920635" y="1490151"/>
                  </a:lnTo>
                  <a:lnTo>
                    <a:pt x="1947572" y="1508554"/>
                  </a:lnTo>
                  <a:lnTo>
                    <a:pt x="1946361" y="1515943"/>
                  </a:lnTo>
                  <a:lnTo>
                    <a:pt x="1935007" y="1546232"/>
                  </a:lnTo>
                  <a:lnTo>
                    <a:pt x="1921079" y="1547145"/>
                  </a:lnTo>
                  <a:lnTo>
                    <a:pt x="1917932" y="1558317"/>
                  </a:lnTo>
                  <a:lnTo>
                    <a:pt x="1913133" y="1567743"/>
                  </a:lnTo>
                  <a:lnTo>
                    <a:pt x="1893661" y="1567081"/>
                  </a:lnTo>
                  <a:lnTo>
                    <a:pt x="1922578" y="1592518"/>
                  </a:lnTo>
                  <a:lnTo>
                    <a:pt x="1920476" y="1599705"/>
                  </a:lnTo>
                  <a:lnTo>
                    <a:pt x="1905518" y="1628386"/>
                  </a:lnTo>
                  <a:lnTo>
                    <a:pt x="1862874" y="1625969"/>
                  </a:lnTo>
                  <a:lnTo>
                    <a:pt x="1863163" y="1626430"/>
                  </a:lnTo>
                  <a:lnTo>
                    <a:pt x="1850721" y="1626423"/>
                  </a:lnTo>
                  <a:lnTo>
                    <a:pt x="1875789" y="1648762"/>
                  </a:lnTo>
                  <a:lnTo>
                    <a:pt x="1873641" y="1655937"/>
                  </a:lnTo>
                  <a:lnTo>
                    <a:pt x="1864292" y="1673583"/>
                  </a:lnTo>
                  <a:lnTo>
                    <a:pt x="1864842" y="1674509"/>
                  </a:lnTo>
                  <a:lnTo>
                    <a:pt x="1863814" y="1674485"/>
                  </a:lnTo>
                  <a:lnTo>
                    <a:pt x="1858499" y="1684519"/>
                  </a:lnTo>
                  <a:lnTo>
                    <a:pt x="1837429" y="1683188"/>
                  </a:lnTo>
                  <a:lnTo>
                    <a:pt x="1834319" y="1687485"/>
                  </a:lnTo>
                  <a:lnTo>
                    <a:pt x="1833926" y="1687406"/>
                  </a:lnTo>
                  <a:lnTo>
                    <a:pt x="1837211" y="1692194"/>
                  </a:lnTo>
                  <a:lnTo>
                    <a:pt x="1828250" y="1707097"/>
                  </a:lnTo>
                  <a:lnTo>
                    <a:pt x="1824246" y="1711548"/>
                  </a:lnTo>
                  <a:lnTo>
                    <a:pt x="1834255" y="1722941"/>
                  </a:lnTo>
                  <a:lnTo>
                    <a:pt x="1831249" y="1729799"/>
                  </a:lnTo>
                  <a:lnTo>
                    <a:pt x="1826533" y="1736558"/>
                  </a:lnTo>
                  <a:lnTo>
                    <a:pt x="1833029" y="1746501"/>
                  </a:lnTo>
                  <a:lnTo>
                    <a:pt x="1828111" y="1754358"/>
                  </a:lnTo>
                  <a:lnTo>
                    <a:pt x="1805029" y="1778640"/>
                  </a:lnTo>
                  <a:lnTo>
                    <a:pt x="1783004" y="1771165"/>
                  </a:lnTo>
                  <a:lnTo>
                    <a:pt x="1779966" y="1775052"/>
                  </a:lnTo>
                  <a:lnTo>
                    <a:pt x="1766267" y="1786973"/>
                  </a:lnTo>
                  <a:lnTo>
                    <a:pt x="1779910" y="1814744"/>
                  </a:lnTo>
                  <a:lnTo>
                    <a:pt x="1774072" y="1821944"/>
                  </a:lnTo>
                  <a:lnTo>
                    <a:pt x="1748203" y="1843234"/>
                  </a:lnTo>
                  <a:lnTo>
                    <a:pt x="1709763" y="1824699"/>
                  </a:lnTo>
                  <a:lnTo>
                    <a:pt x="1731686" y="1870060"/>
                  </a:lnTo>
                  <a:lnTo>
                    <a:pt x="1725801" y="1877222"/>
                  </a:lnTo>
                  <a:lnTo>
                    <a:pt x="1699796" y="1898344"/>
                  </a:lnTo>
                  <a:lnTo>
                    <a:pt x="1654970" y="1876370"/>
                  </a:lnTo>
                  <a:lnTo>
                    <a:pt x="1649271" y="1879906"/>
                  </a:lnTo>
                  <a:lnTo>
                    <a:pt x="1648802" y="1879590"/>
                  </a:lnTo>
                  <a:lnTo>
                    <a:pt x="1664273" y="1925041"/>
                  </a:lnTo>
                  <a:lnTo>
                    <a:pt x="1657561" y="1931434"/>
                  </a:lnTo>
                  <a:lnTo>
                    <a:pt x="1629176" y="1949231"/>
                  </a:lnTo>
                  <a:lnTo>
                    <a:pt x="1608900" y="1936008"/>
                  </a:lnTo>
                  <a:lnTo>
                    <a:pt x="1596299" y="1941542"/>
                  </a:lnTo>
                  <a:lnTo>
                    <a:pt x="1578904" y="1926291"/>
                  </a:lnTo>
                  <a:lnTo>
                    <a:pt x="1579591" y="1970935"/>
                  </a:lnTo>
                  <a:lnTo>
                    <a:pt x="1564478" y="1961782"/>
                  </a:lnTo>
                  <a:lnTo>
                    <a:pt x="1564605" y="1963769"/>
                  </a:lnTo>
                  <a:lnTo>
                    <a:pt x="1552914" y="1969975"/>
                  </a:lnTo>
                  <a:lnTo>
                    <a:pt x="1521188" y="1979504"/>
                  </a:lnTo>
                  <a:lnTo>
                    <a:pt x="1512676" y="1969969"/>
                  </a:lnTo>
                  <a:lnTo>
                    <a:pt x="1515421" y="2017689"/>
                  </a:lnTo>
                  <a:lnTo>
                    <a:pt x="1503691" y="2023819"/>
                  </a:lnTo>
                  <a:lnTo>
                    <a:pt x="1471903" y="2033143"/>
                  </a:lnTo>
                  <a:lnTo>
                    <a:pt x="1435122" y="1991402"/>
                  </a:lnTo>
                  <a:lnTo>
                    <a:pt x="1431639" y="2045234"/>
                  </a:lnTo>
                  <a:lnTo>
                    <a:pt x="1419250" y="2049889"/>
                  </a:lnTo>
                  <a:lnTo>
                    <a:pt x="1386563" y="2055272"/>
                  </a:lnTo>
                  <a:lnTo>
                    <a:pt x="1355143" y="2009368"/>
                  </a:lnTo>
                  <a:lnTo>
                    <a:pt x="1354119" y="2009399"/>
                  </a:lnTo>
                  <a:lnTo>
                    <a:pt x="1337032" y="2052516"/>
                  </a:lnTo>
                  <a:lnTo>
                    <a:pt x="1311399" y="2017618"/>
                  </a:lnTo>
                  <a:lnTo>
                    <a:pt x="1310937" y="2018974"/>
                  </a:lnTo>
                  <a:lnTo>
                    <a:pt x="1300906" y="2019975"/>
                  </a:lnTo>
                  <a:lnTo>
                    <a:pt x="1279938" y="2018041"/>
                  </a:lnTo>
                  <a:lnTo>
                    <a:pt x="1261401" y="2071253"/>
                  </a:lnTo>
                  <a:lnTo>
                    <a:pt x="1251363" y="2072186"/>
                  </a:lnTo>
                  <a:lnTo>
                    <a:pt x="1211170" y="2068219"/>
                  </a:lnTo>
                  <a:lnTo>
                    <a:pt x="1207113" y="2056358"/>
                  </a:lnTo>
                  <a:lnTo>
                    <a:pt x="1206356" y="2058371"/>
                  </a:lnTo>
                  <a:lnTo>
                    <a:pt x="1196492" y="2059866"/>
                  </a:lnTo>
                  <a:lnTo>
                    <a:pt x="1193678" y="2069244"/>
                  </a:lnTo>
                  <a:lnTo>
                    <a:pt x="1189794" y="2077269"/>
                  </a:lnTo>
                  <a:lnTo>
                    <a:pt x="1176106" y="2077762"/>
                  </a:lnTo>
                  <a:lnTo>
                    <a:pt x="1195129" y="2097189"/>
                  </a:lnTo>
                  <a:lnTo>
                    <a:pt x="1193265" y="2103226"/>
                  </a:lnTo>
                  <a:lnTo>
                    <a:pt x="1181194" y="2127666"/>
                  </a:lnTo>
                  <a:lnTo>
                    <a:pt x="1151270" y="2127947"/>
                  </a:lnTo>
                  <a:lnTo>
                    <a:pt x="1151449" y="2128312"/>
                  </a:lnTo>
                  <a:lnTo>
                    <a:pt x="1142681" y="2128969"/>
                  </a:lnTo>
                  <a:lnTo>
                    <a:pt x="1159157" y="2146048"/>
                  </a:lnTo>
                  <a:lnTo>
                    <a:pt x="1157261" y="2152077"/>
                  </a:lnTo>
                  <a:lnTo>
                    <a:pt x="1149731" y="2167122"/>
                  </a:lnTo>
                  <a:lnTo>
                    <a:pt x="1150069" y="2167856"/>
                  </a:lnTo>
                  <a:lnTo>
                    <a:pt x="1149346" y="2167891"/>
                  </a:lnTo>
                  <a:lnTo>
                    <a:pt x="1145065" y="2176446"/>
                  </a:lnTo>
                  <a:lnTo>
                    <a:pt x="1130288" y="2176472"/>
                  </a:lnTo>
                  <a:lnTo>
                    <a:pt x="1127866" y="2180180"/>
                  </a:lnTo>
                  <a:lnTo>
                    <a:pt x="1127594" y="2180136"/>
                  </a:lnTo>
                  <a:lnTo>
                    <a:pt x="1129653" y="2183908"/>
                  </a:lnTo>
                  <a:lnTo>
                    <a:pt x="1122544" y="2196670"/>
                  </a:lnTo>
                  <a:lnTo>
                    <a:pt x="1119485" y="2200553"/>
                  </a:lnTo>
                  <a:lnTo>
                    <a:pt x="1125931" y="2209412"/>
                  </a:lnTo>
                  <a:lnTo>
                    <a:pt x="1123447" y="2215225"/>
                  </a:lnTo>
                  <a:lnTo>
                    <a:pt x="1119763" y="2221048"/>
                  </a:lnTo>
                  <a:lnTo>
                    <a:pt x="1123812" y="2228898"/>
                  </a:lnTo>
                  <a:lnTo>
                    <a:pt x="1119927" y="2235638"/>
                  </a:lnTo>
                  <a:lnTo>
                    <a:pt x="1102365" y="2256885"/>
                  </a:lnTo>
                  <a:lnTo>
                    <a:pt x="1087242" y="2251897"/>
                  </a:lnTo>
                  <a:lnTo>
                    <a:pt x="1084893" y="2255263"/>
                  </a:lnTo>
                  <a:lnTo>
                    <a:pt x="1074603" y="2265821"/>
                  </a:lnTo>
                  <a:lnTo>
                    <a:pt x="1082738" y="2287986"/>
                  </a:lnTo>
                  <a:lnTo>
                    <a:pt x="1078240" y="2294232"/>
                  </a:lnTo>
                  <a:lnTo>
                    <a:pt x="1068660" y="2303596"/>
                  </a:lnTo>
                  <a:lnTo>
                    <a:pt x="0" y="1896430"/>
                  </a:lnTo>
                  <a:lnTo>
                    <a:pt x="633820" y="232886"/>
                  </a:lnTo>
                  <a:lnTo>
                    <a:pt x="634886" y="232110"/>
                  </a:lnTo>
                  <a:lnTo>
                    <a:pt x="634775" y="230379"/>
                  </a:lnTo>
                  <a:lnTo>
                    <a:pt x="655736" y="175363"/>
                  </a:lnTo>
                  <a:close/>
                </a:path>
              </a:pathLst>
            </a:custGeom>
            <a:solidFill>
              <a:srgbClr val="e1b1a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11"/>
            <p:cNvSpPr/>
            <p:nvPr/>
          </p:nvSpPr>
          <p:spPr>
            <a:xfrm>
              <a:off x="1614240" y="974520"/>
              <a:ext cx="1424160" cy="1281240"/>
            </a:xfrm>
            <a:custGeom>
              <a:avLst/>
              <a:gdLst/>
              <a:ahLst/>
              <a:rect l="l" t="t" r="r" b="b"/>
              <a:pathLst>
                <a:path w="3708493" h="3338539">
                  <a:moveTo>
                    <a:pt x="1132135" y="8165"/>
                  </a:moveTo>
                  <a:lnTo>
                    <a:pt x="1183221" y="8546"/>
                  </a:lnTo>
                  <a:lnTo>
                    <a:pt x="1209872" y="66729"/>
                  </a:lnTo>
                  <a:lnTo>
                    <a:pt x="1233450" y="3590"/>
                  </a:lnTo>
                  <a:lnTo>
                    <a:pt x="1287214" y="0"/>
                  </a:lnTo>
                  <a:lnTo>
                    <a:pt x="1337872" y="6599"/>
                  </a:lnTo>
                  <a:lnTo>
                    <a:pt x="1341676" y="18581"/>
                  </a:lnTo>
                  <a:lnTo>
                    <a:pt x="1370133" y="21822"/>
                  </a:lnTo>
                  <a:lnTo>
                    <a:pt x="1390807" y="83460"/>
                  </a:lnTo>
                  <a:lnTo>
                    <a:pt x="1418258" y="28510"/>
                  </a:lnTo>
                  <a:lnTo>
                    <a:pt x="1472100" y="30621"/>
                  </a:lnTo>
                  <a:lnTo>
                    <a:pt x="1521777" y="42540"/>
                  </a:lnTo>
                  <a:lnTo>
                    <a:pt x="1523745" y="52172"/>
                  </a:lnTo>
                  <a:lnTo>
                    <a:pt x="1529696" y="43978"/>
                  </a:lnTo>
                  <a:lnTo>
                    <a:pt x="1584794" y="55149"/>
                  </a:lnTo>
                  <a:lnTo>
                    <a:pt x="1630403" y="73960"/>
                  </a:lnTo>
                  <a:lnTo>
                    <a:pt x="1632547" y="132156"/>
                  </a:lnTo>
                  <a:lnTo>
                    <a:pt x="1677454" y="83963"/>
                  </a:lnTo>
                  <a:lnTo>
                    <a:pt x="1709913" y="94796"/>
                  </a:lnTo>
                  <a:lnTo>
                    <a:pt x="1710923" y="93677"/>
                  </a:lnTo>
                  <a:lnTo>
                    <a:pt x="1764531" y="110609"/>
                  </a:lnTo>
                  <a:lnTo>
                    <a:pt x="1800132" y="129922"/>
                  </a:lnTo>
                  <a:lnTo>
                    <a:pt x="1829922" y="117700"/>
                  </a:lnTo>
                  <a:lnTo>
                    <a:pt x="1881133" y="165276"/>
                  </a:lnTo>
                  <a:lnTo>
                    <a:pt x="1878643" y="94725"/>
                  </a:lnTo>
                  <a:lnTo>
                    <a:pt x="1909369" y="79187"/>
                  </a:lnTo>
                  <a:lnTo>
                    <a:pt x="1974574" y="61335"/>
                  </a:lnTo>
                  <a:lnTo>
                    <a:pt x="1996340" y="87169"/>
                  </a:lnTo>
                  <a:lnTo>
                    <a:pt x="2007777" y="83840"/>
                  </a:lnTo>
                  <a:lnTo>
                    <a:pt x="2044290" y="125782"/>
                  </a:lnTo>
                  <a:lnTo>
                    <a:pt x="2055258" y="87274"/>
                  </a:lnTo>
                  <a:lnTo>
                    <a:pt x="2056307" y="72448"/>
                  </a:lnTo>
                  <a:lnTo>
                    <a:pt x="2059865" y="71099"/>
                  </a:lnTo>
                  <a:lnTo>
                    <a:pt x="2063258" y="59186"/>
                  </a:lnTo>
                  <a:lnTo>
                    <a:pt x="2070396" y="67109"/>
                  </a:lnTo>
                  <a:lnTo>
                    <a:pt x="2088504" y="60245"/>
                  </a:lnTo>
                  <a:lnTo>
                    <a:pt x="2155229" y="49385"/>
                  </a:lnTo>
                  <a:lnTo>
                    <a:pt x="2157767" y="53142"/>
                  </a:lnTo>
                  <a:lnTo>
                    <a:pt x="2166094" y="18415"/>
                  </a:lnTo>
                  <a:lnTo>
                    <a:pt x="2219019" y="8305"/>
                  </a:lnTo>
                  <a:lnTo>
                    <a:pt x="2270105" y="8685"/>
                  </a:lnTo>
                  <a:lnTo>
                    <a:pt x="2296756" y="66868"/>
                  </a:lnTo>
                  <a:lnTo>
                    <a:pt x="2320334" y="3729"/>
                  </a:lnTo>
                  <a:lnTo>
                    <a:pt x="2374098" y="139"/>
                  </a:lnTo>
                  <a:lnTo>
                    <a:pt x="2424757" y="6739"/>
                  </a:lnTo>
                  <a:lnTo>
                    <a:pt x="2428561" y="18721"/>
                  </a:lnTo>
                  <a:lnTo>
                    <a:pt x="2457017" y="21961"/>
                  </a:lnTo>
                  <a:lnTo>
                    <a:pt x="2477691" y="83599"/>
                  </a:lnTo>
                  <a:lnTo>
                    <a:pt x="2505142" y="28649"/>
                  </a:lnTo>
                  <a:lnTo>
                    <a:pt x="2558984" y="30760"/>
                  </a:lnTo>
                  <a:lnTo>
                    <a:pt x="2608662" y="42679"/>
                  </a:lnTo>
                  <a:lnTo>
                    <a:pt x="2610629" y="52311"/>
                  </a:lnTo>
                  <a:lnTo>
                    <a:pt x="2616581" y="44117"/>
                  </a:lnTo>
                  <a:lnTo>
                    <a:pt x="2671679" y="55288"/>
                  </a:lnTo>
                  <a:lnTo>
                    <a:pt x="2717288" y="74099"/>
                  </a:lnTo>
                  <a:lnTo>
                    <a:pt x="2719432" y="132295"/>
                  </a:lnTo>
                  <a:lnTo>
                    <a:pt x="2764338" y="84102"/>
                  </a:lnTo>
                  <a:lnTo>
                    <a:pt x="2796797" y="94935"/>
                  </a:lnTo>
                  <a:lnTo>
                    <a:pt x="2797807" y="93816"/>
                  </a:lnTo>
                  <a:lnTo>
                    <a:pt x="2851415" y="110748"/>
                  </a:lnTo>
                  <a:lnTo>
                    <a:pt x="2894781" y="134274"/>
                  </a:lnTo>
                  <a:lnTo>
                    <a:pt x="2890445" y="196914"/>
                  </a:lnTo>
                  <a:lnTo>
                    <a:pt x="2938163" y="155502"/>
                  </a:lnTo>
                  <a:lnTo>
                    <a:pt x="2989311" y="178836"/>
                  </a:lnTo>
                  <a:lnTo>
                    <a:pt x="3029488" y="207470"/>
                  </a:lnTo>
                  <a:lnTo>
                    <a:pt x="3023316" y="239359"/>
                  </a:lnTo>
                  <a:lnTo>
                    <a:pt x="3026495" y="237411"/>
                  </a:lnTo>
                  <a:lnTo>
                    <a:pt x="3073690" y="268583"/>
                  </a:lnTo>
                  <a:lnTo>
                    <a:pt x="3096184" y="290836"/>
                  </a:lnTo>
                  <a:lnTo>
                    <a:pt x="3102828" y="288009"/>
                  </a:lnTo>
                  <a:lnTo>
                    <a:pt x="3101537" y="296126"/>
                  </a:lnTo>
                  <a:lnTo>
                    <a:pt x="3106840" y="301373"/>
                  </a:lnTo>
                  <a:lnTo>
                    <a:pt x="3096103" y="330251"/>
                  </a:lnTo>
                  <a:lnTo>
                    <a:pt x="3093811" y="344646"/>
                  </a:lnTo>
                  <a:lnTo>
                    <a:pt x="3099045" y="348056"/>
                  </a:lnTo>
                  <a:lnTo>
                    <a:pt x="3147662" y="325879"/>
                  </a:lnTo>
                  <a:lnTo>
                    <a:pt x="3163654" y="339508"/>
                  </a:lnTo>
                  <a:lnTo>
                    <a:pt x="3184995" y="329353"/>
                  </a:lnTo>
                  <a:lnTo>
                    <a:pt x="3228630" y="365341"/>
                  </a:lnTo>
                  <a:lnTo>
                    <a:pt x="3258126" y="401450"/>
                  </a:lnTo>
                  <a:lnTo>
                    <a:pt x="3233758" y="450414"/>
                  </a:lnTo>
                  <a:lnTo>
                    <a:pt x="3237348" y="448678"/>
                  </a:lnTo>
                  <a:lnTo>
                    <a:pt x="3243094" y="453354"/>
                  </a:lnTo>
                  <a:lnTo>
                    <a:pt x="3293784" y="436440"/>
                  </a:lnTo>
                  <a:lnTo>
                    <a:pt x="3332712" y="477474"/>
                  </a:lnTo>
                  <a:lnTo>
                    <a:pt x="3357591" y="516907"/>
                  </a:lnTo>
                  <a:lnTo>
                    <a:pt x="3327668" y="562194"/>
                  </a:lnTo>
                  <a:lnTo>
                    <a:pt x="3368964" y="609389"/>
                  </a:lnTo>
                  <a:lnTo>
                    <a:pt x="3375765" y="621324"/>
                  </a:lnTo>
                  <a:lnTo>
                    <a:pt x="3381140" y="620578"/>
                  </a:lnTo>
                  <a:lnTo>
                    <a:pt x="3378585" y="626271"/>
                  </a:lnTo>
                  <a:lnTo>
                    <a:pt x="3381626" y="631610"/>
                  </a:lnTo>
                  <a:lnTo>
                    <a:pt x="3398697" y="631451"/>
                  </a:lnTo>
                  <a:lnTo>
                    <a:pt x="3383282" y="656561"/>
                  </a:lnTo>
                  <a:lnTo>
                    <a:pt x="3383968" y="658234"/>
                  </a:lnTo>
                  <a:lnTo>
                    <a:pt x="3378916" y="663673"/>
                  </a:lnTo>
                  <a:lnTo>
                    <a:pt x="3366301" y="684222"/>
                  </a:lnTo>
                  <a:lnTo>
                    <a:pt x="3402498" y="678238"/>
                  </a:lnTo>
                  <a:lnTo>
                    <a:pt x="3406808" y="684582"/>
                  </a:lnTo>
                  <a:lnTo>
                    <a:pt x="3445501" y="677541"/>
                  </a:lnTo>
                  <a:lnTo>
                    <a:pt x="3486229" y="735447"/>
                  </a:lnTo>
                  <a:lnTo>
                    <a:pt x="3497387" y="760988"/>
                  </a:lnTo>
                  <a:lnTo>
                    <a:pt x="3490934" y="768258"/>
                  </a:lnTo>
                  <a:lnTo>
                    <a:pt x="3495984" y="785604"/>
                  </a:lnTo>
                  <a:lnTo>
                    <a:pt x="3460336" y="816639"/>
                  </a:lnTo>
                  <a:lnTo>
                    <a:pt x="3509948" y="813762"/>
                  </a:lnTo>
                  <a:lnTo>
                    <a:pt x="3543318" y="876198"/>
                  </a:lnTo>
                  <a:lnTo>
                    <a:pt x="3551285" y="902907"/>
                  </a:lnTo>
                  <a:lnTo>
                    <a:pt x="3543995" y="909336"/>
                  </a:lnTo>
                  <a:lnTo>
                    <a:pt x="3546895" y="927170"/>
                  </a:lnTo>
                  <a:lnTo>
                    <a:pt x="3498919" y="959587"/>
                  </a:lnTo>
                  <a:lnTo>
                    <a:pt x="3535696" y="963529"/>
                  </a:lnTo>
                  <a:lnTo>
                    <a:pt x="3555467" y="1023714"/>
                  </a:lnTo>
                  <a:lnTo>
                    <a:pt x="3577085" y="1029345"/>
                  </a:lnTo>
                  <a:lnTo>
                    <a:pt x="3561324" y="1044208"/>
                  </a:lnTo>
                  <a:lnTo>
                    <a:pt x="3562157" y="1051050"/>
                  </a:lnTo>
                  <a:lnTo>
                    <a:pt x="3538226" y="1065988"/>
                  </a:lnTo>
                  <a:lnTo>
                    <a:pt x="3518600" y="1084499"/>
                  </a:lnTo>
                  <a:lnTo>
                    <a:pt x="3614594" y="1105228"/>
                  </a:lnTo>
                  <a:lnTo>
                    <a:pt x="3631486" y="1183913"/>
                  </a:lnTo>
                  <a:lnTo>
                    <a:pt x="3631654" y="1195056"/>
                  </a:lnTo>
                  <a:lnTo>
                    <a:pt x="3578027" y="1221105"/>
                  </a:lnTo>
                  <a:lnTo>
                    <a:pt x="3580101" y="1231255"/>
                  </a:lnTo>
                  <a:lnTo>
                    <a:pt x="3580167" y="1243022"/>
                  </a:lnTo>
                  <a:lnTo>
                    <a:pt x="3625694" y="1258858"/>
                  </a:lnTo>
                  <a:lnTo>
                    <a:pt x="3632878" y="1339016"/>
                  </a:lnTo>
                  <a:lnTo>
                    <a:pt x="3631689" y="1350095"/>
                  </a:lnTo>
                  <a:lnTo>
                    <a:pt x="3575287" y="1369420"/>
                  </a:lnTo>
                  <a:lnTo>
                    <a:pt x="3576111" y="1379748"/>
                  </a:lnTo>
                  <a:lnTo>
                    <a:pt x="3573331" y="1403469"/>
                  </a:lnTo>
                  <a:lnTo>
                    <a:pt x="3567447" y="1405337"/>
                  </a:lnTo>
                  <a:lnTo>
                    <a:pt x="3556647" y="1414739"/>
                  </a:lnTo>
                  <a:lnTo>
                    <a:pt x="3577188" y="1425947"/>
                  </a:lnTo>
                  <a:lnTo>
                    <a:pt x="3576871" y="1430384"/>
                  </a:lnTo>
                  <a:lnTo>
                    <a:pt x="3585562" y="1429880"/>
                  </a:lnTo>
                  <a:lnTo>
                    <a:pt x="3618933" y="1492316"/>
                  </a:lnTo>
                  <a:lnTo>
                    <a:pt x="3626900" y="1519025"/>
                  </a:lnTo>
                  <a:lnTo>
                    <a:pt x="3619609" y="1525454"/>
                  </a:lnTo>
                  <a:lnTo>
                    <a:pt x="3622509" y="1543288"/>
                  </a:lnTo>
                  <a:lnTo>
                    <a:pt x="3595529" y="1561518"/>
                  </a:lnTo>
                  <a:lnTo>
                    <a:pt x="3606975" y="1569440"/>
                  </a:lnTo>
                  <a:lnTo>
                    <a:pt x="3605262" y="1578998"/>
                  </a:lnTo>
                  <a:lnTo>
                    <a:pt x="3611311" y="1579647"/>
                  </a:lnTo>
                  <a:lnTo>
                    <a:pt x="3631082" y="1639832"/>
                  </a:lnTo>
                  <a:lnTo>
                    <a:pt x="3652700" y="1645463"/>
                  </a:lnTo>
                  <a:lnTo>
                    <a:pt x="3636939" y="1660326"/>
                  </a:lnTo>
                  <a:lnTo>
                    <a:pt x="3637772" y="1667168"/>
                  </a:lnTo>
                  <a:lnTo>
                    <a:pt x="3613840" y="1682106"/>
                  </a:lnTo>
                  <a:lnTo>
                    <a:pt x="3594215" y="1700617"/>
                  </a:lnTo>
                  <a:lnTo>
                    <a:pt x="3690209" y="1721346"/>
                  </a:lnTo>
                  <a:lnTo>
                    <a:pt x="3707101" y="1800031"/>
                  </a:lnTo>
                  <a:lnTo>
                    <a:pt x="3707269" y="1811174"/>
                  </a:lnTo>
                  <a:lnTo>
                    <a:pt x="3653642" y="1837223"/>
                  </a:lnTo>
                  <a:lnTo>
                    <a:pt x="3655716" y="1847373"/>
                  </a:lnTo>
                  <a:lnTo>
                    <a:pt x="3655782" y="1859140"/>
                  </a:lnTo>
                  <a:lnTo>
                    <a:pt x="3701309" y="1874976"/>
                  </a:lnTo>
                  <a:lnTo>
                    <a:pt x="3708493" y="1955134"/>
                  </a:lnTo>
                  <a:lnTo>
                    <a:pt x="3707304" y="1966213"/>
                  </a:lnTo>
                  <a:lnTo>
                    <a:pt x="3650902" y="1985538"/>
                  </a:lnTo>
                  <a:lnTo>
                    <a:pt x="3651726" y="1995866"/>
                  </a:lnTo>
                  <a:lnTo>
                    <a:pt x="3648946" y="2019587"/>
                  </a:lnTo>
                  <a:lnTo>
                    <a:pt x="3625341" y="2027081"/>
                  </a:lnTo>
                  <a:lnTo>
                    <a:pt x="3652803" y="2042065"/>
                  </a:lnTo>
                  <a:lnTo>
                    <a:pt x="3650256" y="2077644"/>
                  </a:lnTo>
                  <a:lnTo>
                    <a:pt x="3677302" y="2098099"/>
                  </a:lnTo>
                  <a:lnTo>
                    <a:pt x="3647992" y="2109244"/>
                  </a:lnTo>
                  <a:lnTo>
                    <a:pt x="3647862" y="2111055"/>
                  </a:lnTo>
                  <a:lnTo>
                    <a:pt x="3643843" y="2126003"/>
                  </a:lnTo>
                  <a:lnTo>
                    <a:pt x="3605726" y="2132365"/>
                  </a:lnTo>
                  <a:lnTo>
                    <a:pt x="3682590" y="2185558"/>
                  </a:lnTo>
                  <a:lnTo>
                    <a:pt x="3670385" y="2253640"/>
                  </a:lnTo>
                  <a:lnTo>
                    <a:pt x="3664809" y="2268079"/>
                  </a:lnTo>
                  <a:lnTo>
                    <a:pt x="3619401" y="2270784"/>
                  </a:lnTo>
                  <a:lnTo>
                    <a:pt x="3611304" y="2311738"/>
                  </a:lnTo>
                  <a:lnTo>
                    <a:pt x="3637213" y="2334806"/>
                  </a:lnTo>
                  <a:lnTo>
                    <a:pt x="3616808" y="2400894"/>
                  </a:lnTo>
                  <a:lnTo>
                    <a:pt x="3609515" y="2414547"/>
                  </a:lnTo>
                  <a:lnTo>
                    <a:pt x="3564114" y="2411700"/>
                  </a:lnTo>
                  <a:lnTo>
                    <a:pt x="3549549" y="2456061"/>
                  </a:lnTo>
                  <a:lnTo>
                    <a:pt x="3539835" y="2473098"/>
                  </a:lnTo>
                  <a:lnTo>
                    <a:pt x="3495886" y="2469340"/>
                  </a:lnTo>
                  <a:lnTo>
                    <a:pt x="3511533" y="2488746"/>
                  </a:lnTo>
                  <a:lnTo>
                    <a:pt x="3508621" y="2494693"/>
                  </a:lnTo>
                  <a:lnTo>
                    <a:pt x="3526817" y="2525702"/>
                  </a:lnTo>
                  <a:lnTo>
                    <a:pt x="3493916" y="2524739"/>
                  </a:lnTo>
                  <a:lnTo>
                    <a:pt x="3487869" y="2537094"/>
                  </a:lnTo>
                  <a:lnTo>
                    <a:pt x="3473389" y="2556087"/>
                  </a:lnTo>
                  <a:lnTo>
                    <a:pt x="3454171" y="2551644"/>
                  </a:lnTo>
                  <a:lnTo>
                    <a:pt x="3494898" y="2614804"/>
                  </a:lnTo>
                  <a:lnTo>
                    <a:pt x="3466255" y="2660382"/>
                  </a:lnTo>
                  <a:lnTo>
                    <a:pt x="3449848" y="2677738"/>
                  </a:lnTo>
                  <a:lnTo>
                    <a:pt x="3400500" y="2660657"/>
                  </a:lnTo>
                  <a:lnTo>
                    <a:pt x="3398091" y="2663123"/>
                  </a:lnTo>
                  <a:lnTo>
                    <a:pt x="3414599" y="2690046"/>
                  </a:lnTo>
                  <a:lnTo>
                    <a:pt x="3391732" y="2723716"/>
                  </a:lnTo>
                  <a:lnTo>
                    <a:pt x="3398643" y="2737998"/>
                  </a:lnTo>
                  <a:lnTo>
                    <a:pt x="3364663" y="2779749"/>
                  </a:lnTo>
                  <a:lnTo>
                    <a:pt x="3346264" y="2794977"/>
                  </a:lnTo>
                  <a:lnTo>
                    <a:pt x="3294632" y="2769697"/>
                  </a:lnTo>
                  <a:lnTo>
                    <a:pt x="3309778" y="2802902"/>
                  </a:lnTo>
                  <a:lnTo>
                    <a:pt x="3276830" y="2840566"/>
                  </a:lnTo>
                  <a:lnTo>
                    <a:pt x="3261984" y="2851991"/>
                  </a:lnTo>
                  <a:lnTo>
                    <a:pt x="3219542" y="2830003"/>
                  </a:lnTo>
                  <a:lnTo>
                    <a:pt x="3224144" y="2863161"/>
                  </a:lnTo>
                  <a:lnTo>
                    <a:pt x="3198793" y="2851780"/>
                  </a:lnTo>
                  <a:lnTo>
                    <a:pt x="3165428" y="2880973"/>
                  </a:lnTo>
                  <a:lnTo>
                    <a:pt x="3148390" y="2890682"/>
                  </a:lnTo>
                  <a:lnTo>
                    <a:pt x="3147417" y="2889988"/>
                  </a:lnTo>
                  <a:lnTo>
                    <a:pt x="3150410" y="2915835"/>
                  </a:lnTo>
                  <a:lnTo>
                    <a:pt x="3148252" y="2914807"/>
                  </a:lnTo>
                  <a:lnTo>
                    <a:pt x="3152452" y="2937887"/>
                  </a:lnTo>
                  <a:lnTo>
                    <a:pt x="3109275" y="2968252"/>
                  </a:lnTo>
                  <a:lnTo>
                    <a:pt x="3091303" y="2976104"/>
                  </a:lnTo>
                  <a:lnTo>
                    <a:pt x="3059757" y="2948102"/>
                  </a:lnTo>
                  <a:lnTo>
                    <a:pt x="3051327" y="2953829"/>
                  </a:lnTo>
                  <a:lnTo>
                    <a:pt x="3058855" y="3001281"/>
                  </a:lnTo>
                  <a:lnTo>
                    <a:pt x="3033182" y="3018300"/>
                  </a:lnTo>
                  <a:lnTo>
                    <a:pt x="2998389" y="3032774"/>
                  </a:lnTo>
                  <a:lnTo>
                    <a:pt x="2995264" y="3029870"/>
                  </a:lnTo>
                  <a:lnTo>
                    <a:pt x="2972844" y="3041851"/>
                  </a:lnTo>
                  <a:lnTo>
                    <a:pt x="2954051" y="3047457"/>
                  </a:lnTo>
                  <a:lnTo>
                    <a:pt x="2916536" y="3004924"/>
                  </a:lnTo>
                  <a:lnTo>
                    <a:pt x="2918778" y="3068495"/>
                  </a:lnTo>
                  <a:lnTo>
                    <a:pt x="2891224" y="3082261"/>
                  </a:lnTo>
                  <a:lnTo>
                    <a:pt x="2854926" y="3092389"/>
                  </a:lnTo>
                  <a:lnTo>
                    <a:pt x="2818096" y="3048674"/>
                  </a:lnTo>
                  <a:lnTo>
                    <a:pt x="2815379" y="3059108"/>
                  </a:lnTo>
                  <a:lnTo>
                    <a:pt x="2790411" y="3032634"/>
                  </a:lnTo>
                  <a:lnTo>
                    <a:pt x="2784705" y="3035437"/>
                  </a:lnTo>
                  <a:lnTo>
                    <a:pt x="2782373" y="3057201"/>
                  </a:lnTo>
                  <a:lnTo>
                    <a:pt x="2746877" y="3068859"/>
                  </a:lnTo>
                  <a:lnTo>
                    <a:pt x="2737303" y="3102479"/>
                  </a:lnTo>
                  <a:lnTo>
                    <a:pt x="2715157" y="3077901"/>
                  </a:lnTo>
                  <a:lnTo>
                    <a:pt x="2709736" y="3103004"/>
                  </a:lnTo>
                  <a:lnTo>
                    <a:pt x="2660808" y="3113507"/>
                  </a:lnTo>
                  <a:lnTo>
                    <a:pt x="2642078" y="3113791"/>
                  </a:lnTo>
                  <a:lnTo>
                    <a:pt x="2631280" y="3091565"/>
                  </a:lnTo>
                  <a:lnTo>
                    <a:pt x="2624565" y="3092894"/>
                  </a:lnTo>
                  <a:lnTo>
                    <a:pt x="2611091" y="3149087"/>
                  </a:lnTo>
                  <a:lnTo>
                    <a:pt x="2598097" y="3151743"/>
                  </a:lnTo>
                  <a:lnTo>
                    <a:pt x="2540801" y="3152051"/>
                  </a:lnTo>
                  <a:lnTo>
                    <a:pt x="2530506" y="3129574"/>
                  </a:lnTo>
                  <a:lnTo>
                    <a:pt x="2510028" y="3131409"/>
                  </a:lnTo>
                  <a:lnTo>
                    <a:pt x="2491401" y="3129411"/>
                  </a:lnTo>
                  <a:lnTo>
                    <a:pt x="2480214" y="3096761"/>
                  </a:lnTo>
                  <a:lnTo>
                    <a:pt x="2456347" y="3160669"/>
                  </a:lnTo>
                  <a:lnTo>
                    <a:pt x="2443125" y="3161723"/>
                  </a:lnTo>
                  <a:lnTo>
                    <a:pt x="2386218" y="3155051"/>
                  </a:lnTo>
                  <a:lnTo>
                    <a:pt x="2363324" y="3082940"/>
                  </a:lnTo>
                  <a:lnTo>
                    <a:pt x="2362743" y="3083709"/>
                  </a:lnTo>
                  <a:lnTo>
                    <a:pt x="2355647" y="3065054"/>
                  </a:lnTo>
                  <a:lnTo>
                    <a:pt x="2353758" y="3066130"/>
                  </a:lnTo>
                  <a:lnTo>
                    <a:pt x="2351113" y="3073077"/>
                  </a:lnTo>
                  <a:lnTo>
                    <a:pt x="2353379" y="3092650"/>
                  </a:lnTo>
                  <a:lnTo>
                    <a:pt x="2351221" y="3091622"/>
                  </a:lnTo>
                  <a:lnTo>
                    <a:pt x="2355421" y="3114703"/>
                  </a:lnTo>
                  <a:lnTo>
                    <a:pt x="2312244" y="3145067"/>
                  </a:lnTo>
                  <a:lnTo>
                    <a:pt x="2294272" y="3152920"/>
                  </a:lnTo>
                  <a:lnTo>
                    <a:pt x="2262726" y="3124918"/>
                  </a:lnTo>
                  <a:lnTo>
                    <a:pt x="2254296" y="3130645"/>
                  </a:lnTo>
                  <a:lnTo>
                    <a:pt x="2261824" y="3178097"/>
                  </a:lnTo>
                  <a:lnTo>
                    <a:pt x="2236151" y="3195116"/>
                  </a:lnTo>
                  <a:lnTo>
                    <a:pt x="2201358" y="3209589"/>
                  </a:lnTo>
                  <a:lnTo>
                    <a:pt x="2198233" y="3206685"/>
                  </a:lnTo>
                  <a:lnTo>
                    <a:pt x="2175813" y="3218667"/>
                  </a:lnTo>
                  <a:lnTo>
                    <a:pt x="2157020" y="3224273"/>
                  </a:lnTo>
                  <a:lnTo>
                    <a:pt x="2119505" y="3181739"/>
                  </a:lnTo>
                  <a:lnTo>
                    <a:pt x="2121747" y="3245311"/>
                  </a:lnTo>
                  <a:lnTo>
                    <a:pt x="2094192" y="3259076"/>
                  </a:lnTo>
                  <a:lnTo>
                    <a:pt x="2057895" y="3269204"/>
                  </a:lnTo>
                  <a:lnTo>
                    <a:pt x="2021065" y="3225489"/>
                  </a:lnTo>
                  <a:lnTo>
                    <a:pt x="2018348" y="3235923"/>
                  </a:lnTo>
                  <a:lnTo>
                    <a:pt x="1993380" y="3209449"/>
                  </a:lnTo>
                  <a:lnTo>
                    <a:pt x="1987674" y="3212252"/>
                  </a:lnTo>
                  <a:lnTo>
                    <a:pt x="1985342" y="3234017"/>
                  </a:lnTo>
                  <a:lnTo>
                    <a:pt x="1949846" y="3245675"/>
                  </a:lnTo>
                  <a:lnTo>
                    <a:pt x="1940272" y="3279294"/>
                  </a:lnTo>
                  <a:lnTo>
                    <a:pt x="1918126" y="3254717"/>
                  </a:lnTo>
                  <a:lnTo>
                    <a:pt x="1912705" y="3279820"/>
                  </a:lnTo>
                  <a:lnTo>
                    <a:pt x="1863777" y="3290322"/>
                  </a:lnTo>
                  <a:lnTo>
                    <a:pt x="1845047" y="3290607"/>
                  </a:lnTo>
                  <a:lnTo>
                    <a:pt x="1834249" y="3268381"/>
                  </a:lnTo>
                  <a:lnTo>
                    <a:pt x="1827534" y="3269709"/>
                  </a:lnTo>
                  <a:lnTo>
                    <a:pt x="1814060" y="3325903"/>
                  </a:lnTo>
                  <a:lnTo>
                    <a:pt x="1801066" y="3328559"/>
                  </a:lnTo>
                  <a:lnTo>
                    <a:pt x="1743770" y="3328867"/>
                  </a:lnTo>
                  <a:lnTo>
                    <a:pt x="1733475" y="3306389"/>
                  </a:lnTo>
                  <a:lnTo>
                    <a:pt x="1712997" y="3308225"/>
                  </a:lnTo>
                  <a:lnTo>
                    <a:pt x="1694369" y="3306226"/>
                  </a:lnTo>
                  <a:lnTo>
                    <a:pt x="1683183" y="3273577"/>
                  </a:lnTo>
                  <a:lnTo>
                    <a:pt x="1659316" y="3337485"/>
                  </a:lnTo>
                  <a:lnTo>
                    <a:pt x="1646094" y="3338539"/>
                  </a:lnTo>
                  <a:lnTo>
                    <a:pt x="1589187" y="3331867"/>
                  </a:lnTo>
                  <a:lnTo>
                    <a:pt x="1566293" y="3259755"/>
                  </a:lnTo>
                  <a:lnTo>
                    <a:pt x="1565712" y="3260525"/>
                  </a:lnTo>
                  <a:lnTo>
                    <a:pt x="1557877" y="3239926"/>
                  </a:lnTo>
                  <a:lnTo>
                    <a:pt x="1536709" y="3295509"/>
                  </a:lnTo>
                  <a:lnTo>
                    <a:pt x="1523479" y="3296478"/>
                  </a:lnTo>
                  <a:lnTo>
                    <a:pt x="1488373" y="3292131"/>
                  </a:lnTo>
                  <a:lnTo>
                    <a:pt x="1487187" y="3293625"/>
                  </a:lnTo>
                  <a:lnTo>
                    <a:pt x="1486579" y="3291908"/>
                  </a:lnTo>
                  <a:lnTo>
                    <a:pt x="1466617" y="3289439"/>
                  </a:lnTo>
                  <a:lnTo>
                    <a:pt x="1455533" y="3253724"/>
                  </a:lnTo>
                  <a:lnTo>
                    <a:pt x="1446459" y="3251285"/>
                  </a:lnTo>
                  <a:lnTo>
                    <a:pt x="1446341" y="3250585"/>
                  </a:lnTo>
                  <a:lnTo>
                    <a:pt x="1440488" y="3259042"/>
                  </a:lnTo>
                  <a:lnTo>
                    <a:pt x="1410169" y="3253608"/>
                  </a:lnTo>
                  <a:lnTo>
                    <a:pt x="1400276" y="3249788"/>
                  </a:lnTo>
                  <a:lnTo>
                    <a:pt x="1387729" y="3273541"/>
                  </a:lnTo>
                  <a:lnTo>
                    <a:pt x="1374482" y="3272890"/>
                  </a:lnTo>
                  <a:lnTo>
                    <a:pt x="1360320" y="3269345"/>
                  </a:lnTo>
                  <a:lnTo>
                    <a:pt x="1347959" y="3286370"/>
                  </a:lnTo>
                  <a:lnTo>
                    <a:pt x="1331851" y="3283185"/>
                  </a:lnTo>
                  <a:lnTo>
                    <a:pt x="1277101" y="3260291"/>
                  </a:lnTo>
                  <a:lnTo>
                    <a:pt x="1275585" y="3219120"/>
                  </a:lnTo>
                  <a:lnTo>
                    <a:pt x="1267235" y="3216542"/>
                  </a:lnTo>
                  <a:lnTo>
                    <a:pt x="1238862" y="3201385"/>
                  </a:lnTo>
                  <a:lnTo>
                    <a:pt x="1201498" y="3241481"/>
                  </a:lnTo>
                  <a:lnTo>
                    <a:pt x="1185899" y="3236359"/>
                  </a:lnTo>
                  <a:lnTo>
                    <a:pt x="1134344" y="3206967"/>
                  </a:lnTo>
                  <a:lnTo>
                    <a:pt x="1140782" y="3131649"/>
                  </a:lnTo>
                  <a:lnTo>
                    <a:pt x="1079523" y="3196544"/>
                  </a:lnTo>
                  <a:lnTo>
                    <a:pt x="1063956" y="3191321"/>
                  </a:lnTo>
                  <a:lnTo>
                    <a:pt x="1012593" y="3161596"/>
                  </a:lnTo>
                  <a:lnTo>
                    <a:pt x="1020695" y="3073539"/>
                  </a:lnTo>
                  <a:lnTo>
                    <a:pt x="1011249" y="3066336"/>
                  </a:lnTo>
                  <a:lnTo>
                    <a:pt x="1011476" y="3065360"/>
                  </a:lnTo>
                  <a:lnTo>
                    <a:pt x="946000" y="3119633"/>
                  </a:lnTo>
                  <a:lnTo>
                    <a:pt x="931184" y="3112554"/>
                  </a:lnTo>
                  <a:lnTo>
                    <a:pt x="883824" y="3076794"/>
                  </a:lnTo>
                  <a:lnTo>
                    <a:pt x="892924" y="3034893"/>
                  </a:lnTo>
                  <a:lnTo>
                    <a:pt x="875817" y="3017525"/>
                  </a:lnTo>
                  <a:lnTo>
                    <a:pt x="890092" y="2979114"/>
                  </a:lnTo>
                  <a:lnTo>
                    <a:pt x="816627" y="3008405"/>
                  </a:lnTo>
                  <a:lnTo>
                    <a:pt x="822246" y="2977617"/>
                  </a:lnTo>
                  <a:lnTo>
                    <a:pt x="819038" y="2979080"/>
                  </a:lnTo>
                  <a:lnTo>
                    <a:pt x="801391" y="2963643"/>
                  </a:lnTo>
                  <a:lnTo>
                    <a:pt x="765611" y="2917138"/>
                  </a:lnTo>
                  <a:lnTo>
                    <a:pt x="776025" y="2897034"/>
                  </a:lnTo>
                  <a:lnTo>
                    <a:pt x="698767" y="2931673"/>
                  </a:lnTo>
                  <a:lnTo>
                    <a:pt x="681222" y="2916124"/>
                  </a:lnTo>
                  <a:lnTo>
                    <a:pt x="645741" y="2869387"/>
                  </a:lnTo>
                  <a:lnTo>
                    <a:pt x="691638" y="2782179"/>
                  </a:lnTo>
                  <a:lnTo>
                    <a:pt x="600335" y="2810364"/>
                  </a:lnTo>
                  <a:lnTo>
                    <a:pt x="584815" y="2792793"/>
                  </a:lnTo>
                  <a:lnTo>
                    <a:pt x="555291" y="2742083"/>
                  </a:lnTo>
                  <a:lnTo>
                    <a:pt x="611459" y="2661124"/>
                  </a:lnTo>
                  <a:lnTo>
                    <a:pt x="610762" y="2659449"/>
                  </a:lnTo>
                  <a:lnTo>
                    <a:pt x="528616" y="2658357"/>
                  </a:lnTo>
                  <a:lnTo>
                    <a:pt x="570215" y="2593920"/>
                  </a:lnTo>
                  <a:lnTo>
                    <a:pt x="567679" y="2594009"/>
                  </a:lnTo>
                  <a:lnTo>
                    <a:pt x="559696" y="2578037"/>
                  </a:lnTo>
                  <a:lnTo>
                    <a:pt x="549673" y="2542110"/>
                  </a:lnTo>
                  <a:lnTo>
                    <a:pt x="449904" y="2544985"/>
                  </a:lnTo>
                  <a:lnTo>
                    <a:pt x="442028" y="2528959"/>
                  </a:lnTo>
                  <a:lnTo>
                    <a:pt x="423246" y="2459927"/>
                  </a:lnTo>
                  <a:lnTo>
                    <a:pt x="489779" y="2404606"/>
                  </a:lnTo>
                  <a:lnTo>
                    <a:pt x="400418" y="2396247"/>
                  </a:lnTo>
                  <a:lnTo>
                    <a:pt x="394552" y="2379380"/>
                  </a:lnTo>
                  <a:lnTo>
                    <a:pt x="384317" y="2308574"/>
                  </a:lnTo>
                  <a:lnTo>
                    <a:pt x="467326" y="2255187"/>
                  </a:lnTo>
                  <a:lnTo>
                    <a:pt x="396479" y="2224730"/>
                  </a:lnTo>
                  <a:lnTo>
                    <a:pt x="453096" y="2185592"/>
                  </a:lnTo>
                  <a:lnTo>
                    <a:pt x="435923" y="2170571"/>
                  </a:lnTo>
                  <a:lnTo>
                    <a:pt x="400143" y="2124065"/>
                  </a:lnTo>
                  <a:lnTo>
                    <a:pt x="406632" y="2111539"/>
                  </a:lnTo>
                  <a:lnTo>
                    <a:pt x="399616" y="2108867"/>
                  </a:lnTo>
                  <a:lnTo>
                    <a:pt x="333298" y="2138600"/>
                  </a:lnTo>
                  <a:lnTo>
                    <a:pt x="315754" y="2123051"/>
                  </a:lnTo>
                  <a:lnTo>
                    <a:pt x="280273" y="2076314"/>
                  </a:lnTo>
                  <a:lnTo>
                    <a:pt x="326170" y="1989107"/>
                  </a:lnTo>
                  <a:lnTo>
                    <a:pt x="234867" y="2017291"/>
                  </a:lnTo>
                  <a:lnTo>
                    <a:pt x="219347" y="1999720"/>
                  </a:lnTo>
                  <a:lnTo>
                    <a:pt x="189823" y="1949011"/>
                  </a:lnTo>
                  <a:lnTo>
                    <a:pt x="245991" y="1868051"/>
                  </a:lnTo>
                  <a:lnTo>
                    <a:pt x="245294" y="1866376"/>
                  </a:lnTo>
                  <a:lnTo>
                    <a:pt x="163148" y="1865285"/>
                  </a:lnTo>
                  <a:lnTo>
                    <a:pt x="204747" y="1800848"/>
                  </a:lnTo>
                  <a:lnTo>
                    <a:pt x="202211" y="1800937"/>
                  </a:lnTo>
                  <a:lnTo>
                    <a:pt x="194228" y="1784964"/>
                  </a:lnTo>
                  <a:lnTo>
                    <a:pt x="184205" y="1749038"/>
                  </a:lnTo>
                  <a:lnTo>
                    <a:pt x="84436" y="1751913"/>
                  </a:lnTo>
                  <a:lnTo>
                    <a:pt x="76560" y="1735886"/>
                  </a:lnTo>
                  <a:lnTo>
                    <a:pt x="57777" y="1666854"/>
                  </a:lnTo>
                  <a:lnTo>
                    <a:pt x="124311" y="1611533"/>
                  </a:lnTo>
                  <a:lnTo>
                    <a:pt x="34950" y="1603174"/>
                  </a:lnTo>
                  <a:lnTo>
                    <a:pt x="29084" y="1586307"/>
                  </a:lnTo>
                  <a:lnTo>
                    <a:pt x="18849" y="1515501"/>
                  </a:lnTo>
                  <a:lnTo>
                    <a:pt x="101858" y="1462114"/>
                  </a:lnTo>
                  <a:lnTo>
                    <a:pt x="31010" y="1431657"/>
                  </a:lnTo>
                  <a:lnTo>
                    <a:pt x="129644" y="1363475"/>
                  </a:lnTo>
                  <a:lnTo>
                    <a:pt x="129650" y="1357891"/>
                  </a:lnTo>
                  <a:lnTo>
                    <a:pt x="116038" y="1352807"/>
                  </a:lnTo>
                  <a:lnTo>
                    <a:pt x="115559" y="1346802"/>
                  </a:lnTo>
                  <a:lnTo>
                    <a:pt x="1167" y="1303233"/>
                  </a:lnTo>
                  <a:lnTo>
                    <a:pt x="0" y="1287282"/>
                  </a:lnTo>
                  <a:lnTo>
                    <a:pt x="9835" y="1207849"/>
                  </a:lnTo>
                  <a:lnTo>
                    <a:pt x="79746" y="1186150"/>
                  </a:lnTo>
                  <a:lnTo>
                    <a:pt x="6945" y="1147692"/>
                  </a:lnTo>
                  <a:lnTo>
                    <a:pt x="7727" y="1131718"/>
                  </a:lnTo>
                  <a:lnTo>
                    <a:pt x="27163" y="1054074"/>
                  </a:lnTo>
                  <a:lnTo>
                    <a:pt x="128679" y="1035720"/>
                  </a:lnTo>
                  <a:lnTo>
                    <a:pt x="98469" y="1004697"/>
                  </a:lnTo>
                  <a:lnTo>
                    <a:pt x="92891" y="1000277"/>
                  </a:lnTo>
                  <a:lnTo>
                    <a:pt x="93838" y="999941"/>
                  </a:lnTo>
                  <a:lnTo>
                    <a:pt x="74885" y="980475"/>
                  </a:lnTo>
                  <a:lnTo>
                    <a:pt x="175505" y="958803"/>
                  </a:lnTo>
                  <a:lnTo>
                    <a:pt x="181848" y="943141"/>
                  </a:lnTo>
                  <a:lnTo>
                    <a:pt x="94203" y="860403"/>
                  </a:lnTo>
                  <a:lnTo>
                    <a:pt x="105153" y="827759"/>
                  </a:lnTo>
                  <a:lnTo>
                    <a:pt x="123460" y="796131"/>
                  </a:lnTo>
                  <a:lnTo>
                    <a:pt x="130610" y="778795"/>
                  </a:lnTo>
                  <a:lnTo>
                    <a:pt x="133555" y="778687"/>
                  </a:lnTo>
                  <a:lnTo>
                    <a:pt x="139018" y="769248"/>
                  </a:lnTo>
                  <a:lnTo>
                    <a:pt x="199040" y="774772"/>
                  </a:lnTo>
                  <a:lnTo>
                    <a:pt x="153217" y="719490"/>
                  </a:lnTo>
                  <a:lnTo>
                    <a:pt x="168062" y="688423"/>
                  </a:lnTo>
                  <a:lnTo>
                    <a:pt x="190084" y="659259"/>
                  </a:lnTo>
                  <a:lnTo>
                    <a:pt x="199292" y="642922"/>
                  </a:lnTo>
                  <a:lnTo>
                    <a:pt x="202229" y="643174"/>
                  </a:lnTo>
                  <a:lnTo>
                    <a:pt x="208799" y="634471"/>
                  </a:lnTo>
                  <a:lnTo>
                    <a:pt x="279153" y="649750"/>
                  </a:lnTo>
                  <a:lnTo>
                    <a:pt x="291944" y="650843"/>
                  </a:lnTo>
                  <a:lnTo>
                    <a:pt x="273384" y="629457"/>
                  </a:lnTo>
                  <a:lnTo>
                    <a:pt x="277570" y="620280"/>
                  </a:lnTo>
                  <a:lnTo>
                    <a:pt x="253027" y="576192"/>
                  </a:lnTo>
                  <a:lnTo>
                    <a:pt x="305240" y="578909"/>
                  </a:lnTo>
                  <a:lnTo>
                    <a:pt x="322316" y="554951"/>
                  </a:lnTo>
                  <a:lnTo>
                    <a:pt x="374517" y="565053"/>
                  </a:lnTo>
                  <a:lnTo>
                    <a:pt x="307813" y="456266"/>
                  </a:lnTo>
                  <a:lnTo>
                    <a:pt x="316627" y="442919"/>
                  </a:lnTo>
                  <a:lnTo>
                    <a:pt x="372916" y="386019"/>
                  </a:lnTo>
                  <a:lnTo>
                    <a:pt x="445812" y="413116"/>
                  </a:lnTo>
                  <a:lnTo>
                    <a:pt x="414455" y="344375"/>
                  </a:lnTo>
                  <a:lnTo>
                    <a:pt x="424830" y="332201"/>
                  </a:lnTo>
                  <a:lnTo>
                    <a:pt x="487630" y="282580"/>
                  </a:lnTo>
                  <a:lnTo>
                    <a:pt x="572641" y="326621"/>
                  </a:lnTo>
                  <a:lnTo>
                    <a:pt x="563272" y="245678"/>
                  </a:lnTo>
                  <a:lnTo>
                    <a:pt x="594272" y="260450"/>
                  </a:lnTo>
                  <a:lnTo>
                    <a:pt x="647126" y="227105"/>
                  </a:lnTo>
                  <a:lnTo>
                    <a:pt x="663917" y="238199"/>
                  </a:lnTo>
                  <a:lnTo>
                    <a:pt x="651886" y="162386"/>
                  </a:lnTo>
                  <a:lnTo>
                    <a:pt x="680493" y="143222"/>
                  </a:lnTo>
                  <a:lnTo>
                    <a:pt x="743037" y="117561"/>
                  </a:lnTo>
                  <a:lnTo>
                    <a:pt x="794248" y="165136"/>
                  </a:lnTo>
                  <a:lnTo>
                    <a:pt x="791759" y="94586"/>
                  </a:lnTo>
                  <a:lnTo>
                    <a:pt x="822485" y="79048"/>
                  </a:lnTo>
                  <a:lnTo>
                    <a:pt x="887690" y="61196"/>
                  </a:lnTo>
                  <a:lnTo>
                    <a:pt x="909456" y="87030"/>
                  </a:lnTo>
                  <a:lnTo>
                    <a:pt x="920893" y="83701"/>
                  </a:lnTo>
                  <a:lnTo>
                    <a:pt x="957406" y="125643"/>
                  </a:lnTo>
                  <a:lnTo>
                    <a:pt x="968374" y="87135"/>
                  </a:lnTo>
                  <a:lnTo>
                    <a:pt x="969422" y="72309"/>
                  </a:lnTo>
                  <a:lnTo>
                    <a:pt x="972980" y="70960"/>
                  </a:lnTo>
                  <a:lnTo>
                    <a:pt x="976373" y="59047"/>
                  </a:lnTo>
                  <a:lnTo>
                    <a:pt x="983512" y="66970"/>
                  </a:lnTo>
                  <a:lnTo>
                    <a:pt x="1001619" y="60106"/>
                  </a:lnTo>
                  <a:lnTo>
                    <a:pt x="1068344" y="49246"/>
                  </a:lnTo>
                  <a:lnTo>
                    <a:pt x="1070883" y="53003"/>
                  </a:lnTo>
                  <a:lnTo>
                    <a:pt x="1079209" y="18275"/>
                  </a:lnTo>
                  <a:lnTo>
                    <a:pt x="1132135" y="8165"/>
                  </a:lnTo>
                  <a:close/>
                </a:path>
              </a:pathLst>
            </a:custGeom>
            <a:solidFill>
              <a:srgbClr val="c3dcb4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4"/>
          <p:cNvGrpSpPr/>
          <p:nvPr/>
        </p:nvGrpSpPr>
        <p:grpSpPr>
          <a:xfrm>
            <a:off x="7682040" y="3927240"/>
            <a:ext cx="4510080" cy="4134240"/>
            <a:chOff x="7682040" y="3927240"/>
            <a:chExt cx="4510080" cy="4134240"/>
          </a:xfrm>
        </p:grpSpPr>
        <p:sp>
          <p:nvSpPr>
            <p:cNvPr id="99" name="任意多边形 39"/>
            <p:cNvSpPr/>
            <p:nvPr/>
          </p:nvSpPr>
          <p:spPr>
            <a:xfrm>
              <a:off x="9612360" y="4321080"/>
              <a:ext cx="2579760" cy="2537280"/>
            </a:xfrm>
            <a:custGeom>
              <a:avLst/>
              <a:gdLst/>
              <a:ahLst/>
              <a:rect l="l" t="t" r="r" b="b"/>
              <a:pathLst>
                <a:path w="2579648" h="2536424">
                  <a:moveTo>
                    <a:pt x="1142435" y="0"/>
                  </a:moveTo>
                  <a:lnTo>
                    <a:pt x="1187396" y="5744"/>
                  </a:lnTo>
                  <a:lnTo>
                    <a:pt x="1190772" y="16174"/>
                  </a:lnTo>
                  <a:lnTo>
                    <a:pt x="1216028" y="18995"/>
                  </a:lnTo>
                  <a:lnTo>
                    <a:pt x="1234377" y="72647"/>
                  </a:lnTo>
                  <a:lnTo>
                    <a:pt x="1258740" y="24816"/>
                  </a:lnTo>
                  <a:lnTo>
                    <a:pt x="1306526" y="26654"/>
                  </a:lnTo>
                  <a:lnTo>
                    <a:pt x="1350616" y="37029"/>
                  </a:lnTo>
                  <a:lnTo>
                    <a:pt x="1352362" y="45413"/>
                  </a:lnTo>
                  <a:lnTo>
                    <a:pt x="1357644" y="38280"/>
                  </a:lnTo>
                  <a:lnTo>
                    <a:pt x="1406545" y="48004"/>
                  </a:lnTo>
                  <a:lnTo>
                    <a:pt x="1447024" y="64378"/>
                  </a:lnTo>
                  <a:lnTo>
                    <a:pt x="1448927" y="115033"/>
                  </a:lnTo>
                  <a:lnTo>
                    <a:pt x="1488783" y="73085"/>
                  </a:lnTo>
                  <a:lnTo>
                    <a:pt x="1517591" y="82514"/>
                  </a:lnTo>
                  <a:lnTo>
                    <a:pt x="1518488" y="81540"/>
                  </a:lnTo>
                  <a:lnTo>
                    <a:pt x="1566066" y="96278"/>
                  </a:lnTo>
                  <a:lnTo>
                    <a:pt x="1597663" y="113089"/>
                  </a:lnTo>
                  <a:lnTo>
                    <a:pt x="1624102" y="102450"/>
                  </a:lnTo>
                  <a:lnTo>
                    <a:pt x="1669554" y="143862"/>
                  </a:lnTo>
                  <a:lnTo>
                    <a:pt x="1667344" y="82452"/>
                  </a:lnTo>
                  <a:lnTo>
                    <a:pt x="1694614" y="68927"/>
                  </a:lnTo>
                  <a:lnTo>
                    <a:pt x="1752485" y="53388"/>
                  </a:lnTo>
                  <a:lnTo>
                    <a:pt x="1771803" y="75875"/>
                  </a:lnTo>
                  <a:lnTo>
                    <a:pt x="1781953" y="72978"/>
                  </a:lnTo>
                  <a:lnTo>
                    <a:pt x="1814360" y="109485"/>
                  </a:lnTo>
                  <a:lnTo>
                    <a:pt x="1824094" y="75967"/>
                  </a:lnTo>
                  <a:lnTo>
                    <a:pt x="1825025" y="63062"/>
                  </a:lnTo>
                  <a:lnTo>
                    <a:pt x="1828183" y="61887"/>
                  </a:lnTo>
                  <a:lnTo>
                    <a:pt x="1831194" y="51518"/>
                  </a:lnTo>
                  <a:lnTo>
                    <a:pt x="1837529" y="58414"/>
                  </a:lnTo>
                  <a:lnTo>
                    <a:pt x="1853600" y="52440"/>
                  </a:lnTo>
                  <a:lnTo>
                    <a:pt x="1912821" y="42987"/>
                  </a:lnTo>
                  <a:lnTo>
                    <a:pt x="1915073" y="46257"/>
                  </a:lnTo>
                  <a:lnTo>
                    <a:pt x="1922464" y="16029"/>
                  </a:lnTo>
                  <a:lnTo>
                    <a:pt x="1969436" y="7229"/>
                  </a:lnTo>
                  <a:lnTo>
                    <a:pt x="2014776" y="7560"/>
                  </a:lnTo>
                  <a:lnTo>
                    <a:pt x="2038430" y="58205"/>
                  </a:lnTo>
                  <a:lnTo>
                    <a:pt x="2059356" y="3246"/>
                  </a:lnTo>
                  <a:lnTo>
                    <a:pt x="2107072" y="121"/>
                  </a:lnTo>
                  <a:lnTo>
                    <a:pt x="2152034" y="5866"/>
                  </a:lnTo>
                  <a:lnTo>
                    <a:pt x="2155410" y="16296"/>
                  </a:lnTo>
                  <a:lnTo>
                    <a:pt x="2180665" y="19116"/>
                  </a:lnTo>
                  <a:lnTo>
                    <a:pt x="2199014" y="72768"/>
                  </a:lnTo>
                  <a:lnTo>
                    <a:pt x="2223377" y="24937"/>
                  </a:lnTo>
                  <a:lnTo>
                    <a:pt x="2271164" y="26775"/>
                  </a:lnTo>
                  <a:lnTo>
                    <a:pt x="2315254" y="37150"/>
                  </a:lnTo>
                  <a:lnTo>
                    <a:pt x="2317000" y="45534"/>
                  </a:lnTo>
                  <a:lnTo>
                    <a:pt x="2322282" y="38401"/>
                  </a:lnTo>
                  <a:lnTo>
                    <a:pt x="2371183" y="48125"/>
                  </a:lnTo>
                  <a:lnTo>
                    <a:pt x="2411662" y="64499"/>
                  </a:lnTo>
                  <a:lnTo>
                    <a:pt x="2413565" y="115154"/>
                  </a:lnTo>
                  <a:lnTo>
                    <a:pt x="2453420" y="73206"/>
                  </a:lnTo>
                  <a:lnTo>
                    <a:pt x="2482228" y="82635"/>
                  </a:lnTo>
                  <a:lnTo>
                    <a:pt x="2483125" y="81661"/>
                  </a:lnTo>
                  <a:lnTo>
                    <a:pt x="2530704" y="96399"/>
                  </a:lnTo>
                  <a:lnTo>
                    <a:pt x="2569192" y="116877"/>
                  </a:lnTo>
                  <a:lnTo>
                    <a:pt x="2565344" y="171401"/>
                  </a:lnTo>
                  <a:lnTo>
                    <a:pt x="2579648" y="159227"/>
                  </a:lnTo>
                  <a:lnTo>
                    <a:pt x="2579648" y="2536424"/>
                  </a:lnTo>
                  <a:lnTo>
                    <a:pt x="680955" y="2536424"/>
                  </a:lnTo>
                  <a:lnTo>
                    <a:pt x="688742" y="2521681"/>
                  </a:lnTo>
                  <a:lnTo>
                    <a:pt x="655213" y="2536424"/>
                  </a:lnTo>
                  <a:lnTo>
                    <a:pt x="603152" y="2536424"/>
                  </a:lnTo>
                  <a:lnTo>
                    <a:pt x="573112" y="2497616"/>
                  </a:lnTo>
                  <a:lnTo>
                    <a:pt x="613846" y="2421707"/>
                  </a:lnTo>
                  <a:lnTo>
                    <a:pt x="532813" y="2446240"/>
                  </a:lnTo>
                  <a:lnTo>
                    <a:pt x="519038" y="2430946"/>
                  </a:lnTo>
                  <a:lnTo>
                    <a:pt x="492835" y="2386806"/>
                  </a:lnTo>
                  <a:lnTo>
                    <a:pt x="542685" y="2316336"/>
                  </a:lnTo>
                  <a:lnTo>
                    <a:pt x="542067" y="2314878"/>
                  </a:lnTo>
                  <a:lnTo>
                    <a:pt x="469160" y="2313928"/>
                  </a:lnTo>
                  <a:lnTo>
                    <a:pt x="506080" y="2257840"/>
                  </a:lnTo>
                  <a:lnTo>
                    <a:pt x="503830" y="2257917"/>
                  </a:lnTo>
                  <a:lnTo>
                    <a:pt x="496744" y="2244014"/>
                  </a:lnTo>
                  <a:lnTo>
                    <a:pt x="487849" y="2212742"/>
                  </a:lnTo>
                  <a:lnTo>
                    <a:pt x="399301" y="2215245"/>
                  </a:lnTo>
                  <a:lnTo>
                    <a:pt x="392311" y="2201295"/>
                  </a:lnTo>
                  <a:lnTo>
                    <a:pt x="375642" y="2141207"/>
                  </a:lnTo>
                  <a:lnTo>
                    <a:pt x="434691" y="2093054"/>
                  </a:lnTo>
                  <a:lnTo>
                    <a:pt x="355381" y="2085778"/>
                  </a:lnTo>
                  <a:lnTo>
                    <a:pt x="350175" y="2071096"/>
                  </a:lnTo>
                  <a:lnTo>
                    <a:pt x="341091" y="2009464"/>
                  </a:lnTo>
                  <a:lnTo>
                    <a:pt x="414764" y="1962994"/>
                  </a:lnTo>
                  <a:lnTo>
                    <a:pt x="351885" y="1936484"/>
                  </a:lnTo>
                  <a:lnTo>
                    <a:pt x="402134" y="1902416"/>
                  </a:lnTo>
                  <a:lnTo>
                    <a:pt x="386893" y="1889342"/>
                  </a:lnTo>
                  <a:lnTo>
                    <a:pt x="355137" y="1848861"/>
                  </a:lnTo>
                  <a:lnTo>
                    <a:pt x="360896" y="1837958"/>
                  </a:lnTo>
                  <a:lnTo>
                    <a:pt x="354669" y="1835632"/>
                  </a:lnTo>
                  <a:lnTo>
                    <a:pt x="295810" y="1861513"/>
                  </a:lnTo>
                  <a:lnTo>
                    <a:pt x="280240" y="1847979"/>
                  </a:lnTo>
                  <a:lnTo>
                    <a:pt x="248749" y="1807297"/>
                  </a:lnTo>
                  <a:lnTo>
                    <a:pt x="289484" y="1731389"/>
                  </a:lnTo>
                  <a:lnTo>
                    <a:pt x="208450" y="1755921"/>
                  </a:lnTo>
                  <a:lnTo>
                    <a:pt x="194676" y="1740627"/>
                  </a:lnTo>
                  <a:lnTo>
                    <a:pt x="168473" y="1696488"/>
                  </a:lnTo>
                  <a:lnTo>
                    <a:pt x="218323" y="1626018"/>
                  </a:lnTo>
                  <a:lnTo>
                    <a:pt x="217705" y="1624560"/>
                  </a:lnTo>
                  <a:lnTo>
                    <a:pt x="144798" y="1623610"/>
                  </a:lnTo>
                  <a:lnTo>
                    <a:pt x="181718" y="1567522"/>
                  </a:lnTo>
                  <a:lnTo>
                    <a:pt x="179467" y="1567599"/>
                  </a:lnTo>
                  <a:lnTo>
                    <a:pt x="172382" y="1553696"/>
                  </a:lnTo>
                  <a:lnTo>
                    <a:pt x="163487" y="1522425"/>
                  </a:lnTo>
                  <a:lnTo>
                    <a:pt x="74939" y="1524927"/>
                  </a:lnTo>
                  <a:lnTo>
                    <a:pt x="67949" y="1510977"/>
                  </a:lnTo>
                  <a:lnTo>
                    <a:pt x="51279" y="1450889"/>
                  </a:lnTo>
                  <a:lnTo>
                    <a:pt x="110329" y="1402735"/>
                  </a:lnTo>
                  <a:lnTo>
                    <a:pt x="31019" y="1395459"/>
                  </a:lnTo>
                  <a:lnTo>
                    <a:pt x="25813" y="1380778"/>
                  </a:lnTo>
                  <a:lnTo>
                    <a:pt x="16729" y="1319146"/>
                  </a:lnTo>
                  <a:lnTo>
                    <a:pt x="90402" y="1272676"/>
                  </a:lnTo>
                  <a:lnTo>
                    <a:pt x="27522" y="1246165"/>
                  </a:lnTo>
                  <a:lnTo>
                    <a:pt x="115062" y="1186817"/>
                  </a:lnTo>
                  <a:lnTo>
                    <a:pt x="115068" y="1181956"/>
                  </a:lnTo>
                  <a:lnTo>
                    <a:pt x="102987" y="1177531"/>
                  </a:lnTo>
                  <a:lnTo>
                    <a:pt x="102562" y="1172304"/>
                  </a:lnTo>
                  <a:lnTo>
                    <a:pt x="1036" y="1134380"/>
                  </a:lnTo>
                  <a:lnTo>
                    <a:pt x="0" y="1120496"/>
                  </a:lnTo>
                  <a:lnTo>
                    <a:pt x="8729" y="1051355"/>
                  </a:lnTo>
                  <a:lnTo>
                    <a:pt x="70777" y="1032467"/>
                  </a:lnTo>
                  <a:lnTo>
                    <a:pt x="6164" y="998992"/>
                  </a:lnTo>
                  <a:lnTo>
                    <a:pt x="6858" y="985087"/>
                  </a:lnTo>
                  <a:lnTo>
                    <a:pt x="24108" y="917503"/>
                  </a:lnTo>
                  <a:lnTo>
                    <a:pt x="114206" y="901527"/>
                  </a:lnTo>
                  <a:lnTo>
                    <a:pt x="87394" y="874524"/>
                  </a:lnTo>
                  <a:lnTo>
                    <a:pt x="82443" y="870677"/>
                  </a:lnTo>
                  <a:lnTo>
                    <a:pt x="83284" y="870384"/>
                  </a:lnTo>
                  <a:lnTo>
                    <a:pt x="66462" y="853440"/>
                  </a:lnTo>
                  <a:lnTo>
                    <a:pt x="155765" y="834576"/>
                  </a:lnTo>
                  <a:lnTo>
                    <a:pt x="161395" y="820943"/>
                  </a:lnTo>
                  <a:lnTo>
                    <a:pt x="83608" y="748925"/>
                  </a:lnTo>
                  <a:lnTo>
                    <a:pt x="93326" y="720511"/>
                  </a:lnTo>
                  <a:lnTo>
                    <a:pt x="109574" y="692981"/>
                  </a:lnTo>
                  <a:lnTo>
                    <a:pt x="115920" y="677891"/>
                  </a:lnTo>
                  <a:lnTo>
                    <a:pt x="118533" y="677797"/>
                  </a:lnTo>
                  <a:lnTo>
                    <a:pt x="123382" y="669581"/>
                  </a:lnTo>
                  <a:lnTo>
                    <a:pt x="176653" y="674389"/>
                  </a:lnTo>
                  <a:lnTo>
                    <a:pt x="135984" y="626270"/>
                  </a:lnTo>
                  <a:lnTo>
                    <a:pt x="149159" y="599228"/>
                  </a:lnTo>
                  <a:lnTo>
                    <a:pt x="168704" y="573842"/>
                  </a:lnTo>
                  <a:lnTo>
                    <a:pt x="176877" y="559622"/>
                  </a:lnTo>
                  <a:lnTo>
                    <a:pt x="179483" y="559842"/>
                  </a:lnTo>
                  <a:lnTo>
                    <a:pt x="185314" y="552266"/>
                  </a:lnTo>
                  <a:lnTo>
                    <a:pt x="247755" y="565566"/>
                  </a:lnTo>
                  <a:lnTo>
                    <a:pt x="259108" y="566517"/>
                  </a:lnTo>
                  <a:lnTo>
                    <a:pt x="242635" y="547902"/>
                  </a:lnTo>
                  <a:lnTo>
                    <a:pt x="246350" y="539914"/>
                  </a:lnTo>
                  <a:lnTo>
                    <a:pt x="224568" y="501538"/>
                  </a:lnTo>
                  <a:lnTo>
                    <a:pt x="270908" y="503903"/>
                  </a:lnTo>
                  <a:lnTo>
                    <a:pt x="286064" y="483049"/>
                  </a:lnTo>
                  <a:lnTo>
                    <a:pt x="332393" y="491842"/>
                  </a:lnTo>
                  <a:lnTo>
                    <a:pt x="273192" y="397150"/>
                  </a:lnTo>
                  <a:lnTo>
                    <a:pt x="281015" y="385533"/>
                  </a:lnTo>
                  <a:lnTo>
                    <a:pt x="330972" y="336005"/>
                  </a:lnTo>
                  <a:lnTo>
                    <a:pt x="395670" y="359591"/>
                  </a:lnTo>
                  <a:lnTo>
                    <a:pt x="367839" y="299756"/>
                  </a:lnTo>
                  <a:lnTo>
                    <a:pt x="377047" y="289160"/>
                  </a:lnTo>
                  <a:lnTo>
                    <a:pt x="432784" y="245968"/>
                  </a:lnTo>
                  <a:lnTo>
                    <a:pt x="508233" y="284303"/>
                  </a:lnTo>
                  <a:lnTo>
                    <a:pt x="499918" y="213847"/>
                  </a:lnTo>
                  <a:lnTo>
                    <a:pt x="527432" y="226705"/>
                  </a:lnTo>
                  <a:lnTo>
                    <a:pt x="574341" y="197680"/>
                  </a:lnTo>
                  <a:lnTo>
                    <a:pt x="589243" y="207337"/>
                  </a:lnTo>
                  <a:lnTo>
                    <a:pt x="578565" y="141347"/>
                  </a:lnTo>
                  <a:lnTo>
                    <a:pt x="603955" y="124666"/>
                  </a:lnTo>
                  <a:lnTo>
                    <a:pt x="659464" y="102329"/>
                  </a:lnTo>
                  <a:lnTo>
                    <a:pt x="704915" y="143740"/>
                  </a:lnTo>
                  <a:lnTo>
                    <a:pt x="702706" y="82331"/>
                  </a:lnTo>
                  <a:lnTo>
                    <a:pt x="729976" y="68806"/>
                  </a:lnTo>
                  <a:lnTo>
                    <a:pt x="787848" y="53267"/>
                  </a:lnTo>
                  <a:lnTo>
                    <a:pt x="807165" y="75754"/>
                  </a:lnTo>
                  <a:lnTo>
                    <a:pt x="817316" y="72857"/>
                  </a:lnTo>
                  <a:lnTo>
                    <a:pt x="849722" y="109364"/>
                  </a:lnTo>
                  <a:lnTo>
                    <a:pt x="859457" y="75846"/>
                  </a:lnTo>
                  <a:lnTo>
                    <a:pt x="860387" y="62941"/>
                  </a:lnTo>
                  <a:lnTo>
                    <a:pt x="863545" y="61766"/>
                  </a:lnTo>
                  <a:lnTo>
                    <a:pt x="866556" y="51397"/>
                  </a:lnTo>
                  <a:lnTo>
                    <a:pt x="872892" y="58293"/>
                  </a:lnTo>
                  <a:lnTo>
                    <a:pt x="888962" y="52319"/>
                  </a:lnTo>
                  <a:lnTo>
                    <a:pt x="948182" y="42866"/>
                  </a:lnTo>
                  <a:lnTo>
                    <a:pt x="950436" y="46136"/>
                  </a:lnTo>
                  <a:lnTo>
                    <a:pt x="957826" y="15907"/>
                  </a:lnTo>
                  <a:lnTo>
                    <a:pt x="1004799" y="7107"/>
                  </a:lnTo>
                  <a:lnTo>
                    <a:pt x="1050139" y="7439"/>
                  </a:lnTo>
                  <a:lnTo>
                    <a:pt x="1073792" y="58084"/>
                  </a:lnTo>
                  <a:lnTo>
                    <a:pt x="1094718" y="3125"/>
                  </a:lnTo>
                  <a:lnTo>
                    <a:pt x="1142435" y="0"/>
                  </a:lnTo>
                  <a:close/>
                </a:path>
              </a:pathLst>
            </a:custGeom>
            <a:solidFill>
              <a:srgbClr val="e4cdbf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36"/>
            <p:cNvSpPr/>
            <p:nvPr/>
          </p:nvSpPr>
          <p:spPr>
            <a:xfrm rot="18896400">
              <a:off x="8538120" y="4281840"/>
              <a:ext cx="2422800" cy="3424680"/>
            </a:xfrm>
            <a:custGeom>
              <a:avLst/>
              <a:gdLst/>
              <a:ahLst/>
              <a:rect l="l" t="t" r="r" b="b"/>
              <a:pathLst>
                <a:path w="2224749" h="3200072">
                  <a:moveTo>
                    <a:pt x="1379412" y="172407"/>
                  </a:moveTo>
                  <a:lnTo>
                    <a:pt x="1377974" y="182072"/>
                  </a:lnTo>
                  <a:lnTo>
                    <a:pt x="1385579" y="188366"/>
                  </a:lnTo>
                  <a:lnTo>
                    <a:pt x="1378501" y="238232"/>
                  </a:lnTo>
                  <a:lnTo>
                    <a:pt x="1398184" y="199935"/>
                  </a:lnTo>
                  <a:lnTo>
                    <a:pt x="1413428" y="208774"/>
                  </a:lnTo>
                  <a:lnTo>
                    <a:pt x="1425374" y="224549"/>
                  </a:lnTo>
                  <a:lnTo>
                    <a:pt x="1423899" y="232171"/>
                  </a:lnTo>
                  <a:lnTo>
                    <a:pt x="1427376" y="226710"/>
                  </a:lnTo>
                  <a:lnTo>
                    <a:pt x="1441060" y="242640"/>
                  </a:lnTo>
                  <a:lnTo>
                    <a:pt x="1450355" y="263133"/>
                  </a:lnTo>
                  <a:lnTo>
                    <a:pt x="1438608" y="307883"/>
                  </a:lnTo>
                  <a:lnTo>
                    <a:pt x="1461942" y="277090"/>
                  </a:lnTo>
                  <a:lnTo>
                    <a:pt x="1469099" y="289724"/>
                  </a:lnTo>
                  <a:lnTo>
                    <a:pt x="1469631" y="289004"/>
                  </a:lnTo>
                  <a:lnTo>
                    <a:pt x="1481656" y="309135"/>
                  </a:lnTo>
                  <a:lnTo>
                    <a:pt x="1489295" y="332930"/>
                  </a:lnTo>
                  <a:lnTo>
                    <a:pt x="1474714" y="380204"/>
                  </a:lnTo>
                  <a:lnTo>
                    <a:pt x="1497426" y="354971"/>
                  </a:lnTo>
                  <a:lnTo>
                    <a:pt x="1507373" y="379662"/>
                  </a:lnTo>
                  <a:lnTo>
                    <a:pt x="1512996" y="406932"/>
                  </a:lnTo>
                  <a:lnTo>
                    <a:pt x="1504417" y="430465"/>
                  </a:lnTo>
                  <a:lnTo>
                    <a:pt x="1505758" y="429404"/>
                  </a:lnTo>
                  <a:lnTo>
                    <a:pt x="1512886" y="459554"/>
                  </a:lnTo>
                  <a:lnTo>
                    <a:pt x="1514712" y="479574"/>
                  </a:lnTo>
                  <a:lnTo>
                    <a:pt x="1517250" y="478305"/>
                  </a:lnTo>
                  <a:lnTo>
                    <a:pt x="1515148" y="484333"/>
                  </a:lnTo>
                  <a:lnTo>
                    <a:pt x="1515578" y="489055"/>
                  </a:lnTo>
                  <a:lnTo>
                    <a:pt x="1511221" y="498749"/>
                  </a:lnTo>
                  <a:lnTo>
                    <a:pt x="1518097" y="504659"/>
                  </a:lnTo>
                  <a:lnTo>
                    <a:pt x="1517265" y="508332"/>
                  </a:lnTo>
                  <a:lnTo>
                    <a:pt x="1537632" y="490725"/>
                  </a:lnTo>
                  <a:lnTo>
                    <a:pt x="1563701" y="511559"/>
                  </a:lnTo>
                  <a:lnTo>
                    <a:pt x="1583888" y="538058"/>
                  </a:lnTo>
                  <a:lnTo>
                    <a:pt x="1565958" y="588425"/>
                  </a:lnTo>
                  <a:lnTo>
                    <a:pt x="1606353" y="560754"/>
                  </a:lnTo>
                  <a:lnTo>
                    <a:pt x="1629556" y="586127"/>
                  </a:lnTo>
                  <a:lnTo>
                    <a:pt x="1646520" y="616326"/>
                  </a:lnTo>
                  <a:lnTo>
                    <a:pt x="1642156" y="625831"/>
                  </a:lnTo>
                  <a:lnTo>
                    <a:pt x="1651914" y="642501"/>
                  </a:lnTo>
                  <a:lnTo>
                    <a:pt x="1629904" y="691973"/>
                  </a:lnTo>
                  <a:lnTo>
                    <a:pt x="1667824" y="671455"/>
                  </a:lnTo>
                  <a:lnTo>
                    <a:pt x="1688261" y="700461"/>
                  </a:lnTo>
                  <a:lnTo>
                    <a:pt x="1702222" y="733508"/>
                  </a:lnTo>
                  <a:lnTo>
                    <a:pt x="1698279" y="740589"/>
                  </a:lnTo>
                  <a:lnTo>
                    <a:pt x="1704674" y="738483"/>
                  </a:lnTo>
                  <a:lnTo>
                    <a:pt x="1721165" y="773845"/>
                  </a:lnTo>
                  <a:lnTo>
                    <a:pt x="1730121" y="809144"/>
                  </a:lnTo>
                  <a:lnTo>
                    <a:pt x="1702410" y="846921"/>
                  </a:lnTo>
                  <a:lnTo>
                    <a:pt x="1743975" y="839634"/>
                  </a:lnTo>
                  <a:lnTo>
                    <a:pt x="1751603" y="863146"/>
                  </a:lnTo>
                  <a:lnTo>
                    <a:pt x="1752555" y="862959"/>
                  </a:lnTo>
                  <a:lnTo>
                    <a:pt x="1765624" y="901186"/>
                  </a:lnTo>
                  <a:lnTo>
                    <a:pt x="1770342" y="931657"/>
                  </a:lnTo>
                  <a:lnTo>
                    <a:pt x="1788222" y="939266"/>
                  </a:lnTo>
                  <a:lnTo>
                    <a:pt x="1785293" y="995573"/>
                  </a:lnTo>
                  <a:lnTo>
                    <a:pt x="1818929" y="949831"/>
                  </a:lnTo>
                  <a:lnTo>
                    <a:pt x="1838809" y="955832"/>
                  </a:lnTo>
                  <a:lnTo>
                    <a:pt x="1873577" y="978099"/>
                  </a:lnTo>
                  <a:lnTo>
                    <a:pt x="1869576" y="1005568"/>
                  </a:lnTo>
                  <a:lnTo>
                    <a:pt x="1875772" y="1009349"/>
                  </a:lnTo>
                  <a:lnTo>
                    <a:pt x="1869746" y="1054549"/>
                  </a:lnTo>
                  <a:lnTo>
                    <a:pt x="1893022" y="1035919"/>
                  </a:lnTo>
                  <a:lnTo>
                    <a:pt x="1900717" y="1027116"/>
                  </a:lnTo>
                  <a:lnTo>
                    <a:pt x="1902799" y="1028094"/>
                  </a:lnTo>
                  <a:lnTo>
                    <a:pt x="1909999" y="1022330"/>
                  </a:lnTo>
                  <a:lnTo>
                    <a:pt x="1908957" y="1030992"/>
                  </a:lnTo>
                  <a:lnTo>
                    <a:pt x="1919548" y="1035975"/>
                  </a:lnTo>
                  <a:lnTo>
                    <a:pt x="1951489" y="1063428"/>
                  </a:lnTo>
                  <a:lnTo>
                    <a:pt x="1950657" y="1067101"/>
                  </a:lnTo>
                  <a:lnTo>
                    <a:pt x="1971024" y="1049496"/>
                  </a:lnTo>
                  <a:lnTo>
                    <a:pt x="1997093" y="1070330"/>
                  </a:lnTo>
                  <a:lnTo>
                    <a:pt x="2017280" y="1096829"/>
                  </a:lnTo>
                  <a:lnTo>
                    <a:pt x="1999350" y="1147194"/>
                  </a:lnTo>
                  <a:lnTo>
                    <a:pt x="2039744" y="1119523"/>
                  </a:lnTo>
                  <a:lnTo>
                    <a:pt x="2062948" y="1144896"/>
                  </a:lnTo>
                  <a:lnTo>
                    <a:pt x="2079911" y="1175096"/>
                  </a:lnTo>
                  <a:lnTo>
                    <a:pt x="2075548" y="1184602"/>
                  </a:lnTo>
                  <a:lnTo>
                    <a:pt x="2085306" y="1201272"/>
                  </a:lnTo>
                  <a:lnTo>
                    <a:pt x="2063296" y="1250744"/>
                  </a:lnTo>
                  <a:lnTo>
                    <a:pt x="2101215" y="1230224"/>
                  </a:lnTo>
                  <a:lnTo>
                    <a:pt x="2121653" y="1259230"/>
                  </a:lnTo>
                  <a:lnTo>
                    <a:pt x="2135614" y="1292277"/>
                  </a:lnTo>
                  <a:lnTo>
                    <a:pt x="2131670" y="1299357"/>
                  </a:lnTo>
                  <a:lnTo>
                    <a:pt x="2138067" y="1297254"/>
                  </a:lnTo>
                  <a:lnTo>
                    <a:pt x="2154557" y="1332614"/>
                  </a:lnTo>
                  <a:lnTo>
                    <a:pt x="2163512" y="1367914"/>
                  </a:lnTo>
                  <a:lnTo>
                    <a:pt x="2135803" y="1405692"/>
                  </a:lnTo>
                  <a:lnTo>
                    <a:pt x="2177367" y="1398403"/>
                  </a:lnTo>
                  <a:lnTo>
                    <a:pt x="2184995" y="1421915"/>
                  </a:lnTo>
                  <a:lnTo>
                    <a:pt x="2185947" y="1421728"/>
                  </a:lnTo>
                  <a:lnTo>
                    <a:pt x="2199015" y="1459955"/>
                  </a:lnTo>
                  <a:lnTo>
                    <a:pt x="2204762" y="1497072"/>
                  </a:lnTo>
                  <a:lnTo>
                    <a:pt x="2172288" y="1534321"/>
                  </a:lnTo>
                  <a:lnTo>
                    <a:pt x="2211644" y="1532749"/>
                  </a:lnTo>
                  <a:lnTo>
                    <a:pt x="2220589" y="1573747"/>
                  </a:lnTo>
                  <a:lnTo>
                    <a:pt x="2222557" y="1612444"/>
                  </a:lnTo>
                  <a:lnTo>
                    <a:pt x="2204443" y="1629367"/>
                  </a:lnTo>
                  <a:lnTo>
                    <a:pt x="2206667" y="1629774"/>
                  </a:lnTo>
                  <a:lnTo>
                    <a:pt x="2210189" y="1673679"/>
                  </a:lnTo>
                  <a:lnTo>
                    <a:pt x="2208236" y="1699265"/>
                  </a:lnTo>
                  <a:lnTo>
                    <a:pt x="2212274" y="1700899"/>
                  </a:lnTo>
                  <a:lnTo>
                    <a:pt x="2207775" y="1705351"/>
                  </a:lnTo>
                  <a:lnTo>
                    <a:pt x="2207314" y="1711382"/>
                  </a:lnTo>
                  <a:lnTo>
                    <a:pt x="2188858" y="1724062"/>
                  </a:lnTo>
                  <a:lnTo>
                    <a:pt x="2180878" y="1731958"/>
                  </a:lnTo>
                  <a:lnTo>
                    <a:pt x="2181292" y="1736797"/>
                  </a:lnTo>
                  <a:lnTo>
                    <a:pt x="2211566" y="1747810"/>
                  </a:lnTo>
                  <a:lnTo>
                    <a:pt x="2211254" y="1764620"/>
                  </a:lnTo>
                  <a:lnTo>
                    <a:pt x="2224749" y="1769188"/>
                  </a:lnTo>
                  <a:lnTo>
                    <a:pt x="2224487" y="1814298"/>
                  </a:lnTo>
                  <a:lnTo>
                    <a:pt x="2218526" y="1852216"/>
                  </a:lnTo>
                  <a:lnTo>
                    <a:pt x="2184774" y="1870549"/>
                  </a:lnTo>
                  <a:lnTo>
                    <a:pt x="2187058" y="1871301"/>
                  </a:lnTo>
                  <a:lnTo>
                    <a:pt x="2187055" y="1877201"/>
                  </a:lnTo>
                  <a:lnTo>
                    <a:pt x="2215573" y="1892597"/>
                  </a:lnTo>
                  <a:lnTo>
                    <a:pt x="2210956" y="1938466"/>
                  </a:lnTo>
                  <a:lnTo>
                    <a:pt x="2201523" y="1976107"/>
                  </a:lnTo>
                  <a:lnTo>
                    <a:pt x="2167361" y="1989265"/>
                  </a:lnTo>
                  <a:lnTo>
                    <a:pt x="2160664" y="2040235"/>
                  </a:lnTo>
                  <a:lnTo>
                    <a:pt x="2157519" y="2051252"/>
                  </a:lnTo>
                  <a:lnTo>
                    <a:pt x="2160028" y="2053544"/>
                  </a:lnTo>
                  <a:lnTo>
                    <a:pt x="2156215" y="2055820"/>
                  </a:lnTo>
                  <a:lnTo>
                    <a:pt x="2154807" y="2060749"/>
                  </a:lnTo>
                  <a:lnTo>
                    <a:pt x="2161693" y="2069423"/>
                  </a:lnTo>
                  <a:lnTo>
                    <a:pt x="2143220" y="2077322"/>
                  </a:lnTo>
                  <a:lnTo>
                    <a:pt x="2142673" y="2078730"/>
                  </a:lnTo>
                  <a:lnTo>
                    <a:pt x="2137989" y="2079561"/>
                  </a:lnTo>
                  <a:lnTo>
                    <a:pt x="2122871" y="2086027"/>
                  </a:lnTo>
                  <a:lnTo>
                    <a:pt x="2140244" y="2100863"/>
                  </a:lnTo>
                  <a:lnTo>
                    <a:pt x="2138849" y="2107077"/>
                  </a:lnTo>
                  <a:lnTo>
                    <a:pt x="2157736" y="2122527"/>
                  </a:lnTo>
                  <a:lnTo>
                    <a:pt x="2145556" y="2179955"/>
                  </a:lnTo>
                  <a:lnTo>
                    <a:pt x="2137469" y="2201787"/>
                  </a:lnTo>
                  <a:lnTo>
                    <a:pt x="2131328" y="2203052"/>
                  </a:lnTo>
                  <a:lnTo>
                    <a:pt x="2124827" y="2216579"/>
                  </a:lnTo>
                  <a:lnTo>
                    <a:pt x="2095377" y="2217814"/>
                  </a:lnTo>
                  <a:lnTo>
                    <a:pt x="2116576" y="2241502"/>
                  </a:lnTo>
                  <a:lnTo>
                    <a:pt x="2099237" y="2298003"/>
                  </a:lnTo>
                  <a:lnTo>
                    <a:pt x="2089304" y="2318931"/>
                  </a:lnTo>
                  <a:lnTo>
                    <a:pt x="2083241" y="2319235"/>
                  </a:lnTo>
                  <a:lnTo>
                    <a:pt x="2075645" y="2331965"/>
                  </a:lnTo>
                  <a:lnTo>
                    <a:pt x="2040599" y="2327734"/>
                  </a:lnTo>
                  <a:lnTo>
                    <a:pt x="2053331" y="2349122"/>
                  </a:lnTo>
                  <a:lnTo>
                    <a:pt x="2031675" y="2397214"/>
                  </a:lnTo>
                  <a:lnTo>
                    <a:pt x="2037532" y="2411874"/>
                  </a:lnTo>
                  <a:lnTo>
                    <a:pt x="2023951" y="2413140"/>
                  </a:lnTo>
                  <a:lnTo>
                    <a:pt x="2020926" y="2417880"/>
                  </a:lnTo>
                  <a:lnTo>
                    <a:pt x="2004050" y="2414994"/>
                  </a:lnTo>
                  <a:lnTo>
                    <a:pt x="1987136" y="2416571"/>
                  </a:lnTo>
                  <a:lnTo>
                    <a:pt x="2015245" y="2478978"/>
                  </a:lnTo>
                  <a:lnTo>
                    <a:pt x="1983360" y="2537249"/>
                  </a:lnTo>
                  <a:lnTo>
                    <a:pt x="1977957" y="2544358"/>
                  </a:lnTo>
                  <a:lnTo>
                    <a:pt x="1943784" y="2533209"/>
                  </a:lnTo>
                  <a:lnTo>
                    <a:pt x="1939630" y="2540671"/>
                  </a:lnTo>
                  <a:lnTo>
                    <a:pt x="1933880" y="2548121"/>
                  </a:lnTo>
                  <a:lnTo>
                    <a:pt x="1944263" y="2581502"/>
                  </a:lnTo>
                  <a:lnTo>
                    <a:pt x="1907784" y="2635711"/>
                  </a:lnTo>
                  <a:lnTo>
                    <a:pt x="1901872" y="2642083"/>
                  </a:lnTo>
                  <a:lnTo>
                    <a:pt x="1869892" y="2625270"/>
                  </a:lnTo>
                  <a:lnTo>
                    <a:pt x="1865151" y="2632201"/>
                  </a:lnTo>
                  <a:lnTo>
                    <a:pt x="1852400" y="2645722"/>
                  </a:lnTo>
                  <a:lnTo>
                    <a:pt x="1849136" y="2643875"/>
                  </a:lnTo>
                  <a:lnTo>
                    <a:pt x="1840214" y="2644249"/>
                  </a:lnTo>
                  <a:lnTo>
                    <a:pt x="1842904" y="2661871"/>
                  </a:lnTo>
                  <a:lnTo>
                    <a:pt x="1840600" y="2664504"/>
                  </a:lnTo>
                  <a:lnTo>
                    <a:pt x="1844314" y="2668654"/>
                  </a:lnTo>
                  <a:lnTo>
                    <a:pt x="1826976" y="2725155"/>
                  </a:lnTo>
                  <a:lnTo>
                    <a:pt x="1817043" y="2746082"/>
                  </a:lnTo>
                  <a:lnTo>
                    <a:pt x="1810980" y="2746386"/>
                  </a:lnTo>
                  <a:lnTo>
                    <a:pt x="1803383" y="2759116"/>
                  </a:lnTo>
                  <a:lnTo>
                    <a:pt x="1783675" y="2756737"/>
                  </a:lnTo>
                  <a:lnTo>
                    <a:pt x="1784352" y="2767613"/>
                  </a:lnTo>
                  <a:lnTo>
                    <a:pt x="1778977" y="2772755"/>
                  </a:lnTo>
                  <a:lnTo>
                    <a:pt x="1781070" y="2776273"/>
                  </a:lnTo>
                  <a:lnTo>
                    <a:pt x="1759414" y="2824366"/>
                  </a:lnTo>
                  <a:lnTo>
                    <a:pt x="1765271" y="2839027"/>
                  </a:lnTo>
                  <a:lnTo>
                    <a:pt x="1751691" y="2840292"/>
                  </a:lnTo>
                  <a:lnTo>
                    <a:pt x="1748665" y="2845032"/>
                  </a:lnTo>
                  <a:lnTo>
                    <a:pt x="1731788" y="2842146"/>
                  </a:lnTo>
                  <a:lnTo>
                    <a:pt x="1714875" y="2843722"/>
                  </a:lnTo>
                  <a:lnTo>
                    <a:pt x="1742984" y="2906130"/>
                  </a:lnTo>
                  <a:lnTo>
                    <a:pt x="1711099" y="2964401"/>
                  </a:lnTo>
                  <a:lnTo>
                    <a:pt x="1705696" y="2971510"/>
                  </a:lnTo>
                  <a:lnTo>
                    <a:pt x="1671523" y="2960360"/>
                  </a:lnTo>
                  <a:lnTo>
                    <a:pt x="1667368" y="2967824"/>
                  </a:lnTo>
                  <a:lnTo>
                    <a:pt x="1661619" y="2975272"/>
                  </a:lnTo>
                  <a:lnTo>
                    <a:pt x="1672002" y="3008654"/>
                  </a:lnTo>
                  <a:lnTo>
                    <a:pt x="1635523" y="3062864"/>
                  </a:lnTo>
                  <a:lnTo>
                    <a:pt x="1629611" y="3069236"/>
                  </a:lnTo>
                  <a:lnTo>
                    <a:pt x="1597631" y="3052422"/>
                  </a:lnTo>
                  <a:lnTo>
                    <a:pt x="1592890" y="3059353"/>
                  </a:lnTo>
                  <a:lnTo>
                    <a:pt x="1580138" y="3072874"/>
                  </a:lnTo>
                  <a:lnTo>
                    <a:pt x="1567046" y="3065463"/>
                  </a:lnTo>
                  <a:lnTo>
                    <a:pt x="1570644" y="3089023"/>
                  </a:lnTo>
                  <a:lnTo>
                    <a:pt x="1552164" y="3110136"/>
                  </a:lnTo>
                  <a:lnTo>
                    <a:pt x="1552910" y="3136929"/>
                  </a:lnTo>
                  <a:lnTo>
                    <a:pt x="1535750" y="3128886"/>
                  </a:lnTo>
                  <a:lnTo>
                    <a:pt x="1534810" y="3129962"/>
                  </a:lnTo>
                  <a:lnTo>
                    <a:pt x="1525870" y="3137316"/>
                  </a:lnTo>
                  <a:lnTo>
                    <a:pt x="1507545" y="3121731"/>
                  </a:lnTo>
                  <a:lnTo>
                    <a:pt x="1512091" y="3194766"/>
                  </a:lnTo>
                  <a:lnTo>
                    <a:pt x="1506545" y="3200072"/>
                  </a:lnTo>
                  <a:lnTo>
                    <a:pt x="24873" y="1715545"/>
                  </a:lnTo>
                  <a:lnTo>
                    <a:pt x="38484" y="1685880"/>
                  </a:lnTo>
                  <a:lnTo>
                    <a:pt x="10820" y="1679096"/>
                  </a:lnTo>
                  <a:lnTo>
                    <a:pt x="9004" y="1665410"/>
                  </a:lnTo>
                  <a:lnTo>
                    <a:pt x="5835" y="1607954"/>
                  </a:lnTo>
                  <a:lnTo>
                    <a:pt x="31533" y="1564633"/>
                  </a:lnTo>
                  <a:lnTo>
                    <a:pt x="9600" y="1539918"/>
                  </a:lnTo>
                  <a:lnTo>
                    <a:pt x="40135" y="1484590"/>
                  </a:lnTo>
                  <a:lnTo>
                    <a:pt x="40137" y="1480059"/>
                  </a:lnTo>
                  <a:lnTo>
                    <a:pt x="35923" y="1475934"/>
                  </a:lnTo>
                  <a:lnTo>
                    <a:pt x="35775" y="1471060"/>
                  </a:lnTo>
                  <a:lnTo>
                    <a:pt x="362" y="1435706"/>
                  </a:lnTo>
                  <a:lnTo>
                    <a:pt x="0" y="1422762"/>
                  </a:lnTo>
                  <a:lnTo>
                    <a:pt x="3045" y="1358305"/>
                  </a:lnTo>
                  <a:lnTo>
                    <a:pt x="24687" y="1340697"/>
                  </a:lnTo>
                  <a:lnTo>
                    <a:pt x="2150" y="1309490"/>
                  </a:lnTo>
                  <a:lnTo>
                    <a:pt x="2392" y="1296528"/>
                  </a:lnTo>
                  <a:lnTo>
                    <a:pt x="8409" y="1233523"/>
                  </a:lnTo>
                  <a:lnTo>
                    <a:pt x="39836" y="1218628"/>
                  </a:lnTo>
                  <a:lnTo>
                    <a:pt x="30484" y="1193455"/>
                  </a:lnTo>
                  <a:lnTo>
                    <a:pt x="28757" y="1189868"/>
                  </a:lnTo>
                  <a:lnTo>
                    <a:pt x="29050" y="1189595"/>
                  </a:lnTo>
                  <a:lnTo>
                    <a:pt x="23183" y="1173799"/>
                  </a:lnTo>
                  <a:lnTo>
                    <a:pt x="54332" y="1156213"/>
                  </a:lnTo>
                  <a:lnTo>
                    <a:pt x="56296" y="1143505"/>
                  </a:lnTo>
                  <a:lnTo>
                    <a:pt x="29163" y="1076365"/>
                  </a:lnTo>
                  <a:lnTo>
                    <a:pt x="32553" y="1049876"/>
                  </a:lnTo>
                  <a:lnTo>
                    <a:pt x="38221" y="1024210"/>
                  </a:lnTo>
                  <a:lnTo>
                    <a:pt x="40434" y="1010144"/>
                  </a:lnTo>
                  <a:lnTo>
                    <a:pt x="41346" y="1010056"/>
                  </a:lnTo>
                  <a:lnTo>
                    <a:pt x="43037" y="1002397"/>
                  </a:lnTo>
                  <a:lnTo>
                    <a:pt x="61618" y="1006878"/>
                  </a:lnTo>
                  <a:lnTo>
                    <a:pt x="47432" y="962019"/>
                  </a:lnTo>
                  <a:lnTo>
                    <a:pt x="52028" y="936809"/>
                  </a:lnTo>
                  <a:lnTo>
                    <a:pt x="58846" y="913145"/>
                  </a:lnTo>
                  <a:lnTo>
                    <a:pt x="61696" y="899887"/>
                  </a:lnTo>
                  <a:lnTo>
                    <a:pt x="62606" y="900091"/>
                  </a:lnTo>
                  <a:lnTo>
                    <a:pt x="64640" y="893029"/>
                  </a:lnTo>
                  <a:lnTo>
                    <a:pt x="86420" y="905428"/>
                  </a:lnTo>
                  <a:lnTo>
                    <a:pt x="90379" y="906315"/>
                  </a:lnTo>
                  <a:lnTo>
                    <a:pt x="84634" y="888961"/>
                  </a:lnTo>
                  <a:lnTo>
                    <a:pt x="85930" y="881514"/>
                  </a:lnTo>
                  <a:lnTo>
                    <a:pt x="78332" y="845737"/>
                  </a:lnTo>
                  <a:lnTo>
                    <a:pt x="94496" y="847943"/>
                  </a:lnTo>
                  <a:lnTo>
                    <a:pt x="99782" y="828501"/>
                  </a:lnTo>
                  <a:lnTo>
                    <a:pt x="115942" y="836699"/>
                  </a:lnTo>
                  <a:lnTo>
                    <a:pt x="95292" y="748424"/>
                  </a:lnTo>
                  <a:lnTo>
                    <a:pt x="98021" y="737592"/>
                  </a:lnTo>
                  <a:lnTo>
                    <a:pt x="115447" y="691420"/>
                  </a:lnTo>
                  <a:lnTo>
                    <a:pt x="138014" y="713407"/>
                  </a:lnTo>
                  <a:lnTo>
                    <a:pt x="128306" y="657627"/>
                  </a:lnTo>
                  <a:lnTo>
                    <a:pt x="131518" y="647749"/>
                  </a:lnTo>
                  <a:lnTo>
                    <a:pt x="150960" y="607482"/>
                  </a:lnTo>
                  <a:lnTo>
                    <a:pt x="177277" y="643219"/>
                  </a:lnTo>
                  <a:lnTo>
                    <a:pt x="174377" y="577538"/>
                  </a:lnTo>
                  <a:lnTo>
                    <a:pt x="183974" y="589524"/>
                  </a:lnTo>
                  <a:lnTo>
                    <a:pt x="200336" y="562466"/>
                  </a:lnTo>
                  <a:lnTo>
                    <a:pt x="205534" y="571470"/>
                  </a:lnTo>
                  <a:lnTo>
                    <a:pt x="201810" y="509950"/>
                  </a:lnTo>
                  <a:lnTo>
                    <a:pt x="210666" y="494399"/>
                  </a:lnTo>
                  <a:lnTo>
                    <a:pt x="230028" y="473575"/>
                  </a:lnTo>
                  <a:lnTo>
                    <a:pt x="245882" y="512181"/>
                  </a:lnTo>
                  <a:lnTo>
                    <a:pt x="245111" y="454931"/>
                  </a:lnTo>
                  <a:lnTo>
                    <a:pt x="254624" y="442323"/>
                  </a:lnTo>
                  <a:lnTo>
                    <a:pt x="274810" y="427837"/>
                  </a:lnTo>
                  <a:lnTo>
                    <a:pt x="281548" y="448800"/>
                  </a:lnTo>
                  <a:lnTo>
                    <a:pt x="285088" y="446099"/>
                  </a:lnTo>
                  <a:lnTo>
                    <a:pt x="296392" y="480134"/>
                  </a:lnTo>
                  <a:lnTo>
                    <a:pt x="299788" y="448885"/>
                  </a:lnTo>
                  <a:lnTo>
                    <a:pt x="300112" y="436854"/>
                  </a:lnTo>
                  <a:lnTo>
                    <a:pt x="301214" y="435760"/>
                  </a:lnTo>
                  <a:lnTo>
                    <a:pt x="302264" y="426094"/>
                  </a:lnTo>
                  <a:lnTo>
                    <a:pt x="304474" y="432522"/>
                  </a:lnTo>
                  <a:lnTo>
                    <a:pt x="310079" y="426953"/>
                  </a:lnTo>
                  <a:lnTo>
                    <a:pt x="330736" y="418140"/>
                  </a:lnTo>
                  <a:lnTo>
                    <a:pt x="331522" y="421189"/>
                  </a:lnTo>
                  <a:lnTo>
                    <a:pt x="334099" y="393009"/>
                  </a:lnTo>
                  <a:lnTo>
                    <a:pt x="350485" y="384804"/>
                  </a:lnTo>
                  <a:lnTo>
                    <a:pt x="366300" y="385114"/>
                  </a:lnTo>
                  <a:lnTo>
                    <a:pt x="374550" y="432326"/>
                  </a:lnTo>
                  <a:lnTo>
                    <a:pt x="381849" y="381092"/>
                  </a:lnTo>
                  <a:lnTo>
                    <a:pt x="398494" y="378179"/>
                  </a:lnTo>
                  <a:lnTo>
                    <a:pt x="414176" y="383534"/>
                  </a:lnTo>
                  <a:lnTo>
                    <a:pt x="415354" y="393257"/>
                  </a:lnTo>
                  <a:lnTo>
                    <a:pt x="424163" y="395886"/>
                  </a:lnTo>
                  <a:lnTo>
                    <a:pt x="430564" y="445903"/>
                  </a:lnTo>
                  <a:lnTo>
                    <a:pt x="439062" y="401314"/>
                  </a:lnTo>
                  <a:lnTo>
                    <a:pt x="455730" y="403027"/>
                  </a:lnTo>
                  <a:lnTo>
                    <a:pt x="471109" y="412698"/>
                  </a:lnTo>
                  <a:lnTo>
                    <a:pt x="471718" y="420515"/>
                  </a:lnTo>
                  <a:lnTo>
                    <a:pt x="473561" y="413865"/>
                  </a:lnTo>
                  <a:lnTo>
                    <a:pt x="490618" y="422930"/>
                  </a:lnTo>
                  <a:lnTo>
                    <a:pt x="504738" y="438195"/>
                  </a:lnTo>
                  <a:lnTo>
                    <a:pt x="505401" y="485419"/>
                  </a:lnTo>
                  <a:lnTo>
                    <a:pt x="519303" y="446313"/>
                  </a:lnTo>
                  <a:lnTo>
                    <a:pt x="529352" y="455103"/>
                  </a:lnTo>
                  <a:lnTo>
                    <a:pt x="529665" y="454194"/>
                  </a:lnTo>
                  <a:lnTo>
                    <a:pt x="541910" y="464332"/>
                  </a:lnTo>
                  <a:lnTo>
                    <a:pt x="546609" y="454327"/>
                  </a:lnTo>
                  <a:lnTo>
                    <a:pt x="547490" y="454639"/>
                  </a:lnTo>
                  <a:lnTo>
                    <a:pt x="551089" y="448161"/>
                  </a:lnTo>
                  <a:lnTo>
                    <a:pt x="567409" y="460437"/>
                  </a:lnTo>
                  <a:lnTo>
                    <a:pt x="565806" y="412053"/>
                  </a:lnTo>
                  <a:lnTo>
                    <a:pt x="576738" y="390310"/>
                  </a:lnTo>
                  <a:lnTo>
                    <a:pt x="589357" y="370985"/>
                  </a:lnTo>
                  <a:lnTo>
                    <a:pt x="595514" y="359740"/>
                  </a:lnTo>
                  <a:lnTo>
                    <a:pt x="596316" y="360326"/>
                  </a:lnTo>
                  <a:lnTo>
                    <a:pt x="600081" y="354559"/>
                  </a:lnTo>
                  <a:lnTo>
                    <a:pt x="617339" y="375676"/>
                  </a:lnTo>
                  <a:lnTo>
                    <a:pt x="620835" y="378228"/>
                  </a:lnTo>
                  <a:lnTo>
                    <a:pt x="619972" y="359397"/>
                  </a:lnTo>
                  <a:lnTo>
                    <a:pt x="623142" y="352947"/>
                  </a:lnTo>
                  <a:lnTo>
                    <a:pt x="625363" y="315971"/>
                  </a:lnTo>
                  <a:lnTo>
                    <a:pt x="640003" y="325056"/>
                  </a:lnTo>
                  <a:lnTo>
                    <a:pt x="650074" y="309043"/>
                  </a:lnTo>
                  <a:lnTo>
                    <a:pt x="663141" y="323768"/>
                  </a:lnTo>
                  <a:lnTo>
                    <a:pt x="666827" y="231702"/>
                  </a:lnTo>
                  <a:lnTo>
                    <a:pt x="672233" y="222689"/>
                  </a:lnTo>
                  <a:lnTo>
                    <a:pt x="700736" y="186773"/>
                  </a:lnTo>
                  <a:lnTo>
                    <a:pt x="716223" y="217258"/>
                  </a:lnTo>
                  <a:lnTo>
                    <a:pt x="721697" y="160532"/>
                  </a:lnTo>
                  <a:lnTo>
                    <a:pt x="727309" y="152625"/>
                  </a:lnTo>
                  <a:lnTo>
                    <a:pt x="756163" y="123143"/>
                  </a:lnTo>
                  <a:lnTo>
                    <a:pt x="771577" y="168201"/>
                  </a:lnTo>
                  <a:lnTo>
                    <a:pt x="786055" y="105103"/>
                  </a:lnTo>
                  <a:lnTo>
                    <a:pt x="791950" y="120550"/>
                  </a:lnTo>
                  <a:lnTo>
                    <a:pt x="814444" y="102169"/>
                  </a:lnTo>
                  <a:lnTo>
                    <a:pt x="816980" y="112898"/>
                  </a:lnTo>
                  <a:lnTo>
                    <a:pt x="829591" y="53364"/>
                  </a:lnTo>
                  <a:lnTo>
                    <a:pt x="842003" y="42562"/>
                  </a:lnTo>
                  <a:lnTo>
                    <a:pt x="865687" y="31352"/>
                  </a:lnTo>
                  <a:lnTo>
                    <a:pt x="870500" y="74572"/>
                  </a:lnTo>
                  <a:lnTo>
                    <a:pt x="884773" y="20338"/>
                  </a:lnTo>
                  <a:lnTo>
                    <a:pt x="897032" y="12592"/>
                  </a:lnTo>
                  <a:lnTo>
                    <a:pt x="919832" y="7706"/>
                  </a:lnTo>
                  <a:lnTo>
                    <a:pt x="920684" y="30363"/>
                  </a:lnTo>
                  <a:lnTo>
                    <a:pt x="924725" y="29356"/>
                  </a:lnTo>
                  <a:lnTo>
                    <a:pt x="926451" y="66299"/>
                  </a:lnTo>
                  <a:lnTo>
                    <a:pt x="937834" y="38352"/>
                  </a:lnTo>
                  <a:lnTo>
                    <a:pt x="941292" y="27166"/>
                  </a:lnTo>
                  <a:lnTo>
                    <a:pt x="942616" y="26612"/>
                  </a:lnTo>
                  <a:lnTo>
                    <a:pt x="946137" y="17966"/>
                  </a:lnTo>
                  <a:lnTo>
                    <a:pt x="946533" y="24978"/>
                  </a:lnTo>
                  <a:lnTo>
                    <a:pt x="953270" y="22164"/>
                  </a:lnTo>
                  <a:lnTo>
                    <a:pt x="975027" y="22824"/>
                  </a:lnTo>
                  <a:lnTo>
                    <a:pt x="974968" y="26034"/>
                  </a:lnTo>
                  <a:lnTo>
                    <a:pt x="984778" y="620"/>
                  </a:lnTo>
                  <a:lnTo>
                    <a:pt x="1002354" y="0"/>
                  </a:lnTo>
                  <a:lnTo>
                    <a:pt x="1017163" y="7147"/>
                  </a:lnTo>
                  <a:lnTo>
                    <a:pt x="1012561" y="55177"/>
                  </a:lnTo>
                  <a:lnTo>
                    <a:pt x="1032857" y="10103"/>
                  </a:lnTo>
                  <a:lnTo>
                    <a:pt x="1049290" y="14577"/>
                  </a:lnTo>
                  <a:lnTo>
                    <a:pt x="1062653" y="26418"/>
                  </a:lnTo>
                  <a:lnTo>
                    <a:pt x="1061214" y="36082"/>
                  </a:lnTo>
                  <a:lnTo>
                    <a:pt x="1068819" y="42378"/>
                  </a:lnTo>
                  <a:lnTo>
                    <a:pt x="1061740" y="92243"/>
                  </a:lnTo>
                  <a:lnTo>
                    <a:pt x="1081424" y="53947"/>
                  </a:lnTo>
                  <a:lnTo>
                    <a:pt x="1096668" y="62786"/>
                  </a:lnTo>
                  <a:lnTo>
                    <a:pt x="1108613" y="78562"/>
                  </a:lnTo>
                  <a:lnTo>
                    <a:pt x="1107139" y="86182"/>
                  </a:lnTo>
                  <a:lnTo>
                    <a:pt x="1110615" y="80721"/>
                  </a:lnTo>
                  <a:lnTo>
                    <a:pt x="1124300" y="96651"/>
                  </a:lnTo>
                  <a:lnTo>
                    <a:pt x="1133594" y="117145"/>
                  </a:lnTo>
                  <a:lnTo>
                    <a:pt x="1121847" y="161893"/>
                  </a:lnTo>
                  <a:lnTo>
                    <a:pt x="1145181" y="131102"/>
                  </a:lnTo>
                  <a:lnTo>
                    <a:pt x="1152339" y="143735"/>
                  </a:lnTo>
                  <a:lnTo>
                    <a:pt x="1152871" y="143016"/>
                  </a:lnTo>
                  <a:lnTo>
                    <a:pt x="1164896" y="163146"/>
                  </a:lnTo>
                  <a:lnTo>
                    <a:pt x="1171167" y="182679"/>
                  </a:lnTo>
                  <a:lnTo>
                    <a:pt x="1182448" y="177341"/>
                  </a:lnTo>
                  <a:lnTo>
                    <a:pt x="1187260" y="220561"/>
                  </a:lnTo>
                  <a:lnTo>
                    <a:pt x="1201533" y="166328"/>
                  </a:lnTo>
                  <a:lnTo>
                    <a:pt x="1213792" y="158581"/>
                  </a:lnTo>
                  <a:lnTo>
                    <a:pt x="1236592" y="153694"/>
                  </a:lnTo>
                  <a:lnTo>
                    <a:pt x="1237446" y="176353"/>
                  </a:lnTo>
                  <a:lnTo>
                    <a:pt x="1241486" y="175344"/>
                  </a:lnTo>
                  <a:lnTo>
                    <a:pt x="1243211" y="212287"/>
                  </a:lnTo>
                  <a:lnTo>
                    <a:pt x="1254594" y="184340"/>
                  </a:lnTo>
                  <a:lnTo>
                    <a:pt x="1258052" y="173154"/>
                  </a:lnTo>
                  <a:lnTo>
                    <a:pt x="1259376" y="172602"/>
                  </a:lnTo>
                  <a:lnTo>
                    <a:pt x="1262898" y="163956"/>
                  </a:lnTo>
                  <a:lnTo>
                    <a:pt x="1263294" y="170967"/>
                  </a:lnTo>
                  <a:lnTo>
                    <a:pt x="1270031" y="168154"/>
                  </a:lnTo>
                  <a:lnTo>
                    <a:pt x="1291788" y="168812"/>
                  </a:lnTo>
                  <a:lnTo>
                    <a:pt x="1291729" y="172023"/>
                  </a:lnTo>
                  <a:lnTo>
                    <a:pt x="1301539" y="146609"/>
                  </a:lnTo>
                  <a:lnTo>
                    <a:pt x="1319114" y="145988"/>
                  </a:lnTo>
                  <a:lnTo>
                    <a:pt x="1333923" y="153137"/>
                  </a:lnTo>
                  <a:lnTo>
                    <a:pt x="1329321" y="201165"/>
                  </a:lnTo>
                  <a:lnTo>
                    <a:pt x="1349617" y="156092"/>
                  </a:lnTo>
                  <a:lnTo>
                    <a:pt x="1366050" y="160565"/>
                  </a:lnTo>
                  <a:lnTo>
                    <a:pt x="1379412" y="172407"/>
                  </a:lnTo>
                  <a:close/>
                </a:path>
              </a:pathLst>
            </a:custGeom>
            <a:solidFill>
              <a:srgbClr val="dfa4a6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35"/>
            <p:cNvSpPr/>
            <p:nvPr/>
          </p:nvSpPr>
          <p:spPr>
            <a:xfrm rot="18896400">
              <a:off x="8454600" y="4667400"/>
              <a:ext cx="1997280" cy="2629080"/>
            </a:xfrm>
            <a:custGeom>
              <a:avLst/>
              <a:gdLst/>
              <a:ahLst/>
              <a:rect l="l" t="t" r="r" b="b"/>
              <a:pathLst>
                <a:path w="1996769" h="2628382">
                  <a:moveTo>
                    <a:pt x="1276142" y="162148"/>
                  </a:moveTo>
                  <a:lnTo>
                    <a:pt x="1286753" y="174400"/>
                  </a:lnTo>
                  <a:lnTo>
                    <a:pt x="1285442" y="180320"/>
                  </a:lnTo>
                  <a:lnTo>
                    <a:pt x="1288531" y="176078"/>
                  </a:lnTo>
                  <a:lnTo>
                    <a:pt x="1300685" y="188451"/>
                  </a:lnTo>
                  <a:lnTo>
                    <a:pt x="1308941" y="204367"/>
                  </a:lnTo>
                  <a:lnTo>
                    <a:pt x="1298508" y="239123"/>
                  </a:lnTo>
                  <a:lnTo>
                    <a:pt x="1319233" y="215207"/>
                  </a:lnTo>
                  <a:lnTo>
                    <a:pt x="1325590" y="225019"/>
                  </a:lnTo>
                  <a:lnTo>
                    <a:pt x="1326062" y="224460"/>
                  </a:lnTo>
                  <a:lnTo>
                    <a:pt x="1336743" y="240095"/>
                  </a:lnTo>
                  <a:lnTo>
                    <a:pt x="1343528" y="258576"/>
                  </a:lnTo>
                  <a:lnTo>
                    <a:pt x="1330577" y="295292"/>
                  </a:lnTo>
                  <a:lnTo>
                    <a:pt x="1350750" y="275694"/>
                  </a:lnTo>
                  <a:lnTo>
                    <a:pt x="1359585" y="294872"/>
                  </a:lnTo>
                  <a:lnTo>
                    <a:pt x="1364579" y="316050"/>
                  </a:lnTo>
                  <a:lnTo>
                    <a:pt x="1356960" y="334328"/>
                  </a:lnTo>
                  <a:lnTo>
                    <a:pt x="1358151" y="333504"/>
                  </a:lnTo>
                  <a:lnTo>
                    <a:pt x="1364482" y="356920"/>
                  </a:lnTo>
                  <a:lnTo>
                    <a:pt x="1366104" y="372470"/>
                  </a:lnTo>
                  <a:lnTo>
                    <a:pt x="1368358" y="371484"/>
                  </a:lnTo>
                  <a:lnTo>
                    <a:pt x="1366492" y="376166"/>
                  </a:lnTo>
                  <a:lnTo>
                    <a:pt x="1366873" y="379833"/>
                  </a:lnTo>
                  <a:lnTo>
                    <a:pt x="1363003" y="387362"/>
                  </a:lnTo>
                  <a:lnTo>
                    <a:pt x="1369110" y="391952"/>
                  </a:lnTo>
                  <a:lnTo>
                    <a:pt x="1368372" y="394805"/>
                  </a:lnTo>
                  <a:lnTo>
                    <a:pt x="1386462" y="381131"/>
                  </a:lnTo>
                  <a:lnTo>
                    <a:pt x="1409617" y="397311"/>
                  </a:lnTo>
                  <a:lnTo>
                    <a:pt x="1427547" y="417892"/>
                  </a:lnTo>
                  <a:lnTo>
                    <a:pt x="1411621" y="457010"/>
                  </a:lnTo>
                  <a:lnTo>
                    <a:pt x="1447500" y="435519"/>
                  </a:lnTo>
                  <a:lnTo>
                    <a:pt x="1468110" y="455226"/>
                  </a:lnTo>
                  <a:lnTo>
                    <a:pt x="1483178" y="478680"/>
                  </a:lnTo>
                  <a:lnTo>
                    <a:pt x="1479302" y="486062"/>
                  </a:lnTo>
                  <a:lnTo>
                    <a:pt x="1487969" y="499010"/>
                  </a:lnTo>
                  <a:lnTo>
                    <a:pt x="1468419" y="537433"/>
                  </a:lnTo>
                  <a:lnTo>
                    <a:pt x="1502100" y="521497"/>
                  </a:lnTo>
                  <a:lnTo>
                    <a:pt x="1520252" y="544025"/>
                  </a:lnTo>
                  <a:lnTo>
                    <a:pt x="1532653" y="569691"/>
                  </a:lnTo>
                  <a:lnTo>
                    <a:pt x="1529151" y="575191"/>
                  </a:lnTo>
                  <a:lnTo>
                    <a:pt x="1534831" y="573556"/>
                  </a:lnTo>
                  <a:lnTo>
                    <a:pt x="1549479" y="601021"/>
                  </a:lnTo>
                  <a:lnTo>
                    <a:pt x="1557434" y="628437"/>
                  </a:lnTo>
                  <a:lnTo>
                    <a:pt x="1532820" y="657777"/>
                  </a:lnTo>
                  <a:lnTo>
                    <a:pt x="1569739" y="652116"/>
                  </a:lnTo>
                  <a:lnTo>
                    <a:pt x="1576514" y="670377"/>
                  </a:lnTo>
                  <a:lnTo>
                    <a:pt x="1577360" y="670232"/>
                  </a:lnTo>
                  <a:lnTo>
                    <a:pt x="1588968" y="699922"/>
                  </a:lnTo>
                  <a:lnTo>
                    <a:pt x="1593158" y="723588"/>
                  </a:lnTo>
                  <a:lnTo>
                    <a:pt x="1609039" y="729497"/>
                  </a:lnTo>
                  <a:lnTo>
                    <a:pt x="1606438" y="773230"/>
                  </a:lnTo>
                  <a:lnTo>
                    <a:pt x="1636314" y="737704"/>
                  </a:lnTo>
                  <a:lnTo>
                    <a:pt x="1653971" y="742364"/>
                  </a:lnTo>
                  <a:lnTo>
                    <a:pt x="1684852" y="759658"/>
                  </a:lnTo>
                  <a:lnTo>
                    <a:pt x="1681300" y="780992"/>
                  </a:lnTo>
                  <a:lnTo>
                    <a:pt x="1686803" y="783928"/>
                  </a:lnTo>
                  <a:lnTo>
                    <a:pt x="1681450" y="819034"/>
                  </a:lnTo>
                  <a:lnTo>
                    <a:pt x="1702124" y="804565"/>
                  </a:lnTo>
                  <a:lnTo>
                    <a:pt x="1708959" y="797727"/>
                  </a:lnTo>
                  <a:lnTo>
                    <a:pt x="1710809" y="798487"/>
                  </a:lnTo>
                  <a:lnTo>
                    <a:pt x="1717204" y="794011"/>
                  </a:lnTo>
                  <a:lnTo>
                    <a:pt x="1716278" y="800739"/>
                  </a:lnTo>
                  <a:lnTo>
                    <a:pt x="1725685" y="804608"/>
                  </a:lnTo>
                  <a:lnTo>
                    <a:pt x="1754055" y="825930"/>
                  </a:lnTo>
                  <a:lnTo>
                    <a:pt x="1753317" y="828782"/>
                  </a:lnTo>
                  <a:lnTo>
                    <a:pt x="1771406" y="815109"/>
                  </a:lnTo>
                  <a:lnTo>
                    <a:pt x="1794562" y="831291"/>
                  </a:lnTo>
                  <a:lnTo>
                    <a:pt x="1812492" y="851871"/>
                  </a:lnTo>
                  <a:lnTo>
                    <a:pt x="1796566" y="890988"/>
                  </a:lnTo>
                  <a:lnTo>
                    <a:pt x="1832445" y="869497"/>
                  </a:lnTo>
                  <a:lnTo>
                    <a:pt x="1853055" y="889203"/>
                  </a:lnTo>
                  <a:lnTo>
                    <a:pt x="1868122" y="912659"/>
                  </a:lnTo>
                  <a:lnTo>
                    <a:pt x="1864246" y="920042"/>
                  </a:lnTo>
                  <a:lnTo>
                    <a:pt x="1872914" y="932989"/>
                  </a:lnTo>
                  <a:lnTo>
                    <a:pt x="1853364" y="971411"/>
                  </a:lnTo>
                  <a:lnTo>
                    <a:pt x="1887044" y="955475"/>
                  </a:lnTo>
                  <a:lnTo>
                    <a:pt x="1905197" y="978003"/>
                  </a:lnTo>
                  <a:lnTo>
                    <a:pt x="1917598" y="1003669"/>
                  </a:lnTo>
                  <a:lnTo>
                    <a:pt x="1914095" y="1009168"/>
                  </a:lnTo>
                  <a:lnTo>
                    <a:pt x="1919776" y="1007534"/>
                  </a:lnTo>
                  <a:lnTo>
                    <a:pt x="1934424" y="1034998"/>
                  </a:lnTo>
                  <a:lnTo>
                    <a:pt x="1942378" y="1062414"/>
                  </a:lnTo>
                  <a:lnTo>
                    <a:pt x="1917766" y="1091755"/>
                  </a:lnTo>
                  <a:lnTo>
                    <a:pt x="1954684" y="1086094"/>
                  </a:lnTo>
                  <a:lnTo>
                    <a:pt x="1961459" y="1104355"/>
                  </a:lnTo>
                  <a:lnTo>
                    <a:pt x="1962305" y="1104210"/>
                  </a:lnTo>
                  <a:lnTo>
                    <a:pt x="1973912" y="1133899"/>
                  </a:lnTo>
                  <a:lnTo>
                    <a:pt x="1979016" y="1162727"/>
                  </a:lnTo>
                  <a:lnTo>
                    <a:pt x="1950172" y="1191658"/>
                  </a:lnTo>
                  <a:lnTo>
                    <a:pt x="1985129" y="1190436"/>
                  </a:lnTo>
                  <a:lnTo>
                    <a:pt x="1993074" y="1222278"/>
                  </a:lnTo>
                  <a:cubicBezTo>
                    <a:pt x="1993657" y="1232296"/>
                    <a:pt x="1994239" y="1242315"/>
                    <a:pt x="1994822" y="1252333"/>
                  </a:cubicBezTo>
                  <a:lnTo>
                    <a:pt x="1978733" y="1265477"/>
                  </a:lnTo>
                  <a:lnTo>
                    <a:pt x="1980709" y="1265793"/>
                  </a:lnTo>
                  <a:lnTo>
                    <a:pt x="1983837" y="1299892"/>
                  </a:lnTo>
                  <a:lnTo>
                    <a:pt x="1982102" y="1319764"/>
                  </a:lnTo>
                  <a:lnTo>
                    <a:pt x="1985689" y="1321033"/>
                  </a:lnTo>
                  <a:lnTo>
                    <a:pt x="1981692" y="1324490"/>
                  </a:lnTo>
                  <a:cubicBezTo>
                    <a:pt x="1981556" y="1326052"/>
                    <a:pt x="1981419" y="1327613"/>
                    <a:pt x="1981283" y="1329175"/>
                  </a:cubicBezTo>
                  <a:lnTo>
                    <a:pt x="1964890" y="1339023"/>
                  </a:lnTo>
                  <a:lnTo>
                    <a:pt x="1957802" y="1345155"/>
                  </a:lnTo>
                  <a:cubicBezTo>
                    <a:pt x="1957925" y="1346408"/>
                    <a:pt x="1958047" y="1347661"/>
                    <a:pt x="1958170" y="1348914"/>
                  </a:cubicBezTo>
                  <a:lnTo>
                    <a:pt x="1985060" y="1357468"/>
                  </a:lnTo>
                  <a:cubicBezTo>
                    <a:pt x="1984967" y="1361819"/>
                    <a:pt x="1984875" y="1366171"/>
                    <a:pt x="1984782" y="1370522"/>
                  </a:cubicBezTo>
                  <a:lnTo>
                    <a:pt x="1996769" y="1374072"/>
                  </a:lnTo>
                  <a:cubicBezTo>
                    <a:pt x="1996691" y="1385750"/>
                    <a:pt x="1996614" y="1397428"/>
                    <a:pt x="1996536" y="1409106"/>
                  </a:cubicBezTo>
                  <a:lnTo>
                    <a:pt x="1991241" y="1438556"/>
                  </a:lnTo>
                  <a:lnTo>
                    <a:pt x="1961262" y="1452795"/>
                  </a:lnTo>
                  <a:lnTo>
                    <a:pt x="1963291" y="1453378"/>
                  </a:lnTo>
                  <a:cubicBezTo>
                    <a:pt x="1963290" y="1454906"/>
                    <a:pt x="1963290" y="1456433"/>
                    <a:pt x="1963289" y="1457961"/>
                  </a:cubicBezTo>
                  <a:lnTo>
                    <a:pt x="1988619" y="1469918"/>
                  </a:lnTo>
                  <a:lnTo>
                    <a:pt x="1984518" y="1505544"/>
                  </a:lnTo>
                  <a:lnTo>
                    <a:pt x="1976139" y="1534778"/>
                  </a:lnTo>
                  <a:lnTo>
                    <a:pt x="1945796" y="1544997"/>
                  </a:lnTo>
                  <a:lnTo>
                    <a:pt x="1939847" y="1584584"/>
                  </a:lnTo>
                  <a:lnTo>
                    <a:pt x="1937054" y="1593141"/>
                  </a:lnTo>
                  <a:lnTo>
                    <a:pt x="1939283" y="1594922"/>
                  </a:lnTo>
                  <a:lnTo>
                    <a:pt x="1935896" y="1596689"/>
                  </a:lnTo>
                  <a:lnTo>
                    <a:pt x="1934646" y="1600516"/>
                  </a:lnTo>
                  <a:lnTo>
                    <a:pt x="1940762" y="1607254"/>
                  </a:lnTo>
                  <a:lnTo>
                    <a:pt x="1924353" y="1613389"/>
                  </a:lnTo>
                  <a:lnTo>
                    <a:pt x="1923868" y="1614482"/>
                  </a:lnTo>
                  <a:lnTo>
                    <a:pt x="1919708" y="1615128"/>
                  </a:lnTo>
                  <a:lnTo>
                    <a:pt x="1906280" y="1620149"/>
                  </a:lnTo>
                  <a:lnTo>
                    <a:pt x="1921711" y="1631672"/>
                  </a:lnTo>
                  <a:lnTo>
                    <a:pt x="1920472" y="1636497"/>
                  </a:lnTo>
                  <a:lnTo>
                    <a:pt x="1937247" y="1648498"/>
                  </a:lnTo>
                  <a:lnTo>
                    <a:pt x="1926429" y="1693100"/>
                  </a:lnTo>
                  <a:lnTo>
                    <a:pt x="1919246" y="1710056"/>
                  </a:lnTo>
                  <a:lnTo>
                    <a:pt x="1913791" y="1711038"/>
                  </a:lnTo>
                  <a:lnTo>
                    <a:pt x="1908017" y="1721545"/>
                  </a:lnTo>
                  <a:lnTo>
                    <a:pt x="1881859" y="1722504"/>
                  </a:lnTo>
                  <a:lnTo>
                    <a:pt x="1900688" y="1740902"/>
                  </a:lnTo>
                  <a:lnTo>
                    <a:pt x="1885287" y="1784784"/>
                  </a:lnTo>
                  <a:lnTo>
                    <a:pt x="1876465" y="1801038"/>
                  </a:lnTo>
                  <a:lnTo>
                    <a:pt x="1871080" y="1801274"/>
                  </a:lnTo>
                  <a:lnTo>
                    <a:pt x="1864333" y="1811161"/>
                  </a:lnTo>
                  <a:lnTo>
                    <a:pt x="1833204" y="1807875"/>
                  </a:lnTo>
                  <a:lnTo>
                    <a:pt x="1844513" y="1824487"/>
                  </a:lnTo>
                  <a:lnTo>
                    <a:pt x="1825278" y="1861838"/>
                  </a:lnTo>
                  <a:lnTo>
                    <a:pt x="1830480" y="1873225"/>
                  </a:lnTo>
                  <a:lnTo>
                    <a:pt x="1818417" y="1874207"/>
                  </a:lnTo>
                  <a:lnTo>
                    <a:pt x="1815730" y="1877889"/>
                  </a:lnTo>
                  <a:lnTo>
                    <a:pt x="1800741" y="1875647"/>
                  </a:lnTo>
                  <a:lnTo>
                    <a:pt x="1785718" y="1876872"/>
                  </a:lnTo>
                  <a:lnTo>
                    <a:pt x="1810684" y="1925342"/>
                  </a:lnTo>
                  <a:lnTo>
                    <a:pt x="1782364" y="1970599"/>
                  </a:lnTo>
                  <a:lnTo>
                    <a:pt x="1777564" y="1976120"/>
                  </a:lnTo>
                  <a:lnTo>
                    <a:pt x="1747212" y="1967460"/>
                  </a:lnTo>
                  <a:lnTo>
                    <a:pt x="1743522" y="1973257"/>
                  </a:lnTo>
                  <a:lnTo>
                    <a:pt x="1738415" y="1979042"/>
                  </a:lnTo>
                  <a:lnTo>
                    <a:pt x="1715236" y="2047071"/>
                  </a:lnTo>
                  <a:lnTo>
                    <a:pt x="1709985" y="2052020"/>
                  </a:lnTo>
                  <a:lnTo>
                    <a:pt x="1681580" y="2038961"/>
                  </a:lnTo>
                  <a:lnTo>
                    <a:pt x="1677369" y="2044345"/>
                  </a:lnTo>
                  <a:lnTo>
                    <a:pt x="1666043" y="2054846"/>
                  </a:lnTo>
                  <a:lnTo>
                    <a:pt x="1663145" y="2053412"/>
                  </a:lnTo>
                  <a:lnTo>
                    <a:pt x="1655219" y="2053702"/>
                  </a:lnTo>
                  <a:lnTo>
                    <a:pt x="1657609" y="2067388"/>
                  </a:lnTo>
                  <a:lnTo>
                    <a:pt x="1655562" y="2069433"/>
                  </a:lnTo>
                  <a:lnTo>
                    <a:pt x="1643461" y="2116539"/>
                  </a:lnTo>
                  <a:lnTo>
                    <a:pt x="1634639" y="2132793"/>
                  </a:lnTo>
                  <a:lnTo>
                    <a:pt x="1629253" y="2133029"/>
                  </a:lnTo>
                  <a:lnTo>
                    <a:pt x="1622506" y="2142917"/>
                  </a:lnTo>
                  <a:lnTo>
                    <a:pt x="1605001" y="2141067"/>
                  </a:lnTo>
                  <a:cubicBezTo>
                    <a:pt x="1605201" y="2143883"/>
                    <a:pt x="1605402" y="2146699"/>
                    <a:pt x="1605602" y="2149515"/>
                  </a:cubicBezTo>
                  <a:lnTo>
                    <a:pt x="1600828" y="2153509"/>
                  </a:lnTo>
                  <a:lnTo>
                    <a:pt x="1602687" y="2156241"/>
                  </a:lnTo>
                  <a:lnTo>
                    <a:pt x="1583452" y="2193593"/>
                  </a:lnTo>
                  <a:lnTo>
                    <a:pt x="1588654" y="2204980"/>
                  </a:lnTo>
                  <a:lnTo>
                    <a:pt x="1576592" y="2205963"/>
                  </a:lnTo>
                  <a:lnTo>
                    <a:pt x="1573904" y="2209644"/>
                  </a:lnTo>
                  <a:lnTo>
                    <a:pt x="1558914" y="2207402"/>
                  </a:lnTo>
                  <a:lnTo>
                    <a:pt x="1568858" y="2257096"/>
                  </a:lnTo>
                  <a:lnTo>
                    <a:pt x="1540538" y="2302354"/>
                  </a:lnTo>
                  <a:lnTo>
                    <a:pt x="1535739" y="2307875"/>
                  </a:lnTo>
                  <a:lnTo>
                    <a:pt x="1505386" y="2299216"/>
                  </a:lnTo>
                  <a:lnTo>
                    <a:pt x="1501695" y="2305012"/>
                  </a:lnTo>
                  <a:lnTo>
                    <a:pt x="1496589" y="2310797"/>
                  </a:lnTo>
                  <a:lnTo>
                    <a:pt x="1473410" y="2378827"/>
                  </a:lnTo>
                  <a:lnTo>
                    <a:pt x="1468159" y="2383775"/>
                  </a:lnTo>
                  <a:lnTo>
                    <a:pt x="1439754" y="2370717"/>
                  </a:lnTo>
                  <a:lnTo>
                    <a:pt x="1435543" y="2376100"/>
                  </a:lnTo>
                  <a:lnTo>
                    <a:pt x="1424216" y="2386601"/>
                  </a:lnTo>
                  <a:lnTo>
                    <a:pt x="1412588" y="2380846"/>
                  </a:lnTo>
                  <a:lnTo>
                    <a:pt x="1415784" y="2399143"/>
                  </a:lnTo>
                  <a:lnTo>
                    <a:pt x="1400032" y="2436351"/>
                  </a:lnTo>
                  <a:lnTo>
                    <a:pt x="1329770" y="2509721"/>
                  </a:lnTo>
                  <a:lnTo>
                    <a:pt x="1321499" y="2514562"/>
                  </a:lnTo>
                  <a:lnTo>
                    <a:pt x="1304235" y="2497758"/>
                  </a:lnTo>
                  <a:lnTo>
                    <a:pt x="1246593" y="2560407"/>
                  </a:lnTo>
                  <a:lnTo>
                    <a:pt x="1238056" y="2564178"/>
                  </a:lnTo>
                  <a:lnTo>
                    <a:pt x="1187847" y="2565019"/>
                  </a:lnTo>
                  <a:lnTo>
                    <a:pt x="1173918" y="2545635"/>
                  </a:lnTo>
                  <a:lnTo>
                    <a:pt x="1170999" y="2561380"/>
                  </a:lnTo>
                  <a:lnTo>
                    <a:pt x="1167376" y="2563128"/>
                  </a:lnTo>
                  <a:lnTo>
                    <a:pt x="1160303" y="2585570"/>
                  </a:lnTo>
                  <a:lnTo>
                    <a:pt x="1149067" y="2571963"/>
                  </a:lnTo>
                  <a:lnTo>
                    <a:pt x="1141539" y="2575597"/>
                  </a:lnTo>
                  <a:lnTo>
                    <a:pt x="1128129" y="2579113"/>
                  </a:lnTo>
                  <a:lnTo>
                    <a:pt x="1123259" y="2569266"/>
                  </a:lnTo>
                  <a:lnTo>
                    <a:pt x="1110150" y="2616440"/>
                  </a:lnTo>
                  <a:lnTo>
                    <a:pt x="1080133" y="2627314"/>
                  </a:lnTo>
                  <a:lnTo>
                    <a:pt x="1072781" y="2628382"/>
                  </a:lnTo>
                  <a:lnTo>
                    <a:pt x="1062901" y="2618483"/>
                  </a:lnTo>
                  <a:lnTo>
                    <a:pt x="1056720" y="2601198"/>
                  </a:lnTo>
                  <a:lnTo>
                    <a:pt x="1054792" y="2601442"/>
                  </a:lnTo>
                  <a:lnTo>
                    <a:pt x="1052746" y="2608308"/>
                  </a:lnTo>
                  <a:lnTo>
                    <a:pt x="31385" y="1584979"/>
                  </a:lnTo>
                  <a:lnTo>
                    <a:pt x="44183" y="1579234"/>
                  </a:lnTo>
                  <a:lnTo>
                    <a:pt x="6622" y="1560168"/>
                  </a:lnTo>
                  <a:lnTo>
                    <a:pt x="0" y="1553533"/>
                  </a:lnTo>
                  <a:lnTo>
                    <a:pt x="1716" y="1541784"/>
                  </a:lnTo>
                  <a:lnTo>
                    <a:pt x="13367" y="1505176"/>
                  </a:lnTo>
                  <a:lnTo>
                    <a:pt x="68559" y="1487974"/>
                  </a:lnTo>
                  <a:lnTo>
                    <a:pt x="69041" y="1486875"/>
                  </a:lnTo>
                  <a:lnTo>
                    <a:pt x="40420" y="1453547"/>
                  </a:lnTo>
                  <a:lnTo>
                    <a:pt x="73233" y="1442106"/>
                  </a:lnTo>
                  <a:lnTo>
                    <a:pt x="77014" y="1428682"/>
                  </a:lnTo>
                  <a:lnTo>
                    <a:pt x="76318" y="1428738"/>
                  </a:lnTo>
                  <a:lnTo>
                    <a:pt x="74122" y="1418671"/>
                  </a:lnTo>
                  <a:lnTo>
                    <a:pt x="71366" y="1396030"/>
                  </a:lnTo>
                  <a:lnTo>
                    <a:pt x="43932" y="1397841"/>
                  </a:lnTo>
                  <a:lnTo>
                    <a:pt x="41766" y="1387740"/>
                  </a:lnTo>
                  <a:lnTo>
                    <a:pt x="36602" y="1344234"/>
                  </a:lnTo>
                  <a:lnTo>
                    <a:pt x="54897" y="1309368"/>
                  </a:lnTo>
                  <a:lnTo>
                    <a:pt x="30325" y="1304100"/>
                  </a:lnTo>
                  <a:lnTo>
                    <a:pt x="28712" y="1293470"/>
                  </a:lnTo>
                  <a:lnTo>
                    <a:pt x="25897" y="1248846"/>
                  </a:lnTo>
                  <a:lnTo>
                    <a:pt x="48723" y="1215200"/>
                  </a:lnTo>
                  <a:lnTo>
                    <a:pt x="29242" y="1196004"/>
                  </a:lnTo>
                  <a:lnTo>
                    <a:pt x="56363" y="1153032"/>
                  </a:lnTo>
                  <a:cubicBezTo>
                    <a:pt x="56364" y="1151859"/>
                    <a:pt x="56364" y="1150686"/>
                    <a:pt x="56365" y="1149513"/>
                  </a:cubicBezTo>
                  <a:lnTo>
                    <a:pt x="52622" y="1146309"/>
                  </a:lnTo>
                  <a:cubicBezTo>
                    <a:pt x="52578" y="1145048"/>
                    <a:pt x="52535" y="1143786"/>
                    <a:pt x="52491" y="1142525"/>
                  </a:cubicBezTo>
                  <a:lnTo>
                    <a:pt x="21037" y="1115067"/>
                  </a:lnTo>
                  <a:cubicBezTo>
                    <a:pt x="20930" y="1111716"/>
                    <a:pt x="20822" y="1108364"/>
                    <a:pt x="20715" y="1105013"/>
                  </a:cubicBezTo>
                  <a:lnTo>
                    <a:pt x="23420" y="1054952"/>
                  </a:lnTo>
                  <a:lnTo>
                    <a:pt x="42643" y="1041276"/>
                  </a:lnTo>
                  <a:lnTo>
                    <a:pt x="22625" y="1017039"/>
                  </a:lnTo>
                  <a:cubicBezTo>
                    <a:pt x="22696" y="1013683"/>
                    <a:pt x="22768" y="1010327"/>
                    <a:pt x="22839" y="1006971"/>
                  </a:cubicBezTo>
                  <a:lnTo>
                    <a:pt x="28184" y="958036"/>
                  </a:lnTo>
                  <a:lnTo>
                    <a:pt x="56098" y="946469"/>
                  </a:lnTo>
                  <a:lnTo>
                    <a:pt x="47791" y="926917"/>
                  </a:lnTo>
                  <a:lnTo>
                    <a:pt x="46257" y="924132"/>
                  </a:lnTo>
                  <a:lnTo>
                    <a:pt x="46517" y="923920"/>
                  </a:lnTo>
                  <a:lnTo>
                    <a:pt x="41306" y="911652"/>
                  </a:lnTo>
                  <a:lnTo>
                    <a:pt x="68973" y="897993"/>
                  </a:lnTo>
                  <a:lnTo>
                    <a:pt x="70718" y="888123"/>
                  </a:lnTo>
                  <a:lnTo>
                    <a:pt x="46618" y="835978"/>
                  </a:lnTo>
                  <a:lnTo>
                    <a:pt x="49629" y="815404"/>
                  </a:lnTo>
                  <a:lnTo>
                    <a:pt x="54663" y="795471"/>
                  </a:lnTo>
                  <a:lnTo>
                    <a:pt x="56629" y="784546"/>
                  </a:lnTo>
                  <a:lnTo>
                    <a:pt x="57439" y="784478"/>
                  </a:lnTo>
                  <a:lnTo>
                    <a:pt x="58941" y="778529"/>
                  </a:lnTo>
                  <a:lnTo>
                    <a:pt x="75445" y="782010"/>
                  </a:lnTo>
                  <a:lnTo>
                    <a:pt x="62844" y="747169"/>
                  </a:lnTo>
                  <a:lnTo>
                    <a:pt x="66927" y="727589"/>
                  </a:lnTo>
                  <a:lnTo>
                    <a:pt x="72982" y="709210"/>
                  </a:lnTo>
                  <a:lnTo>
                    <a:pt x="75514" y="698913"/>
                  </a:lnTo>
                  <a:lnTo>
                    <a:pt x="76323" y="699071"/>
                  </a:lnTo>
                  <a:lnTo>
                    <a:pt x="78129" y="693586"/>
                  </a:lnTo>
                  <a:lnTo>
                    <a:pt x="97474" y="703217"/>
                  </a:lnTo>
                  <a:lnTo>
                    <a:pt x="100991" y="703905"/>
                  </a:lnTo>
                  <a:lnTo>
                    <a:pt x="95888" y="690427"/>
                  </a:lnTo>
                  <a:lnTo>
                    <a:pt x="97039" y="684643"/>
                  </a:lnTo>
                  <a:lnTo>
                    <a:pt x="90290" y="656857"/>
                  </a:lnTo>
                  <a:lnTo>
                    <a:pt x="104647" y="658569"/>
                  </a:lnTo>
                  <a:lnTo>
                    <a:pt x="109343" y="643470"/>
                  </a:lnTo>
                  <a:lnTo>
                    <a:pt x="123696" y="649837"/>
                  </a:lnTo>
                  <a:lnTo>
                    <a:pt x="105355" y="581276"/>
                  </a:lnTo>
                  <a:lnTo>
                    <a:pt x="107779" y="572864"/>
                  </a:lnTo>
                  <a:lnTo>
                    <a:pt x="123256" y="537003"/>
                  </a:lnTo>
                  <a:lnTo>
                    <a:pt x="143301" y="554080"/>
                  </a:lnTo>
                  <a:lnTo>
                    <a:pt x="134678" y="510757"/>
                  </a:lnTo>
                  <a:lnTo>
                    <a:pt x="137531" y="503086"/>
                  </a:lnTo>
                  <a:lnTo>
                    <a:pt x="154800" y="471811"/>
                  </a:lnTo>
                  <a:lnTo>
                    <a:pt x="178175" y="499567"/>
                  </a:lnTo>
                  <a:lnTo>
                    <a:pt x="175599" y="448555"/>
                  </a:lnTo>
                  <a:lnTo>
                    <a:pt x="184123" y="457865"/>
                  </a:lnTo>
                  <a:lnTo>
                    <a:pt x="198656" y="436849"/>
                  </a:lnTo>
                  <a:lnTo>
                    <a:pt x="203273" y="443842"/>
                  </a:lnTo>
                  <a:lnTo>
                    <a:pt x="199966" y="396061"/>
                  </a:lnTo>
                  <a:lnTo>
                    <a:pt x="207831" y="383983"/>
                  </a:lnTo>
                  <a:lnTo>
                    <a:pt x="225029" y="367811"/>
                  </a:lnTo>
                  <a:lnTo>
                    <a:pt x="239111" y="397794"/>
                  </a:lnTo>
                  <a:cubicBezTo>
                    <a:pt x="238883" y="382973"/>
                    <a:pt x="238654" y="368151"/>
                    <a:pt x="238426" y="353330"/>
                  </a:cubicBezTo>
                  <a:lnTo>
                    <a:pt x="246875" y="343538"/>
                  </a:lnTo>
                  <a:lnTo>
                    <a:pt x="264805" y="332287"/>
                  </a:lnTo>
                  <a:lnTo>
                    <a:pt x="270790" y="348569"/>
                  </a:lnTo>
                  <a:lnTo>
                    <a:pt x="273934" y="346470"/>
                  </a:lnTo>
                  <a:lnTo>
                    <a:pt x="283975" y="372904"/>
                  </a:lnTo>
                  <a:lnTo>
                    <a:pt x="286991" y="348635"/>
                  </a:lnTo>
                  <a:cubicBezTo>
                    <a:pt x="287087" y="345520"/>
                    <a:pt x="287182" y="342406"/>
                    <a:pt x="287278" y="339291"/>
                  </a:cubicBezTo>
                  <a:lnTo>
                    <a:pt x="288257" y="338441"/>
                  </a:lnTo>
                  <a:lnTo>
                    <a:pt x="289190" y="330933"/>
                  </a:lnTo>
                  <a:lnTo>
                    <a:pt x="291153" y="335926"/>
                  </a:lnTo>
                  <a:lnTo>
                    <a:pt x="296131" y="331601"/>
                  </a:lnTo>
                  <a:lnTo>
                    <a:pt x="314479" y="324756"/>
                  </a:lnTo>
                  <a:lnTo>
                    <a:pt x="315178" y="327124"/>
                  </a:lnTo>
                  <a:lnTo>
                    <a:pt x="317466" y="305237"/>
                  </a:lnTo>
                  <a:lnTo>
                    <a:pt x="332021" y="298865"/>
                  </a:lnTo>
                  <a:lnTo>
                    <a:pt x="346068" y="299105"/>
                  </a:lnTo>
                  <a:lnTo>
                    <a:pt x="353396" y="335774"/>
                  </a:lnTo>
                  <a:lnTo>
                    <a:pt x="359879" y="295982"/>
                  </a:lnTo>
                  <a:lnTo>
                    <a:pt x="374663" y="293720"/>
                  </a:lnTo>
                  <a:lnTo>
                    <a:pt x="388592" y="297879"/>
                  </a:lnTo>
                  <a:lnTo>
                    <a:pt x="389639" y="305430"/>
                  </a:lnTo>
                  <a:lnTo>
                    <a:pt x="397462" y="307472"/>
                  </a:lnTo>
                  <a:lnTo>
                    <a:pt x="403148" y="346319"/>
                  </a:lnTo>
                  <a:lnTo>
                    <a:pt x="410696" y="311687"/>
                  </a:lnTo>
                  <a:lnTo>
                    <a:pt x="425501" y="313018"/>
                  </a:lnTo>
                  <a:lnTo>
                    <a:pt x="439161" y="320529"/>
                  </a:lnTo>
                  <a:cubicBezTo>
                    <a:pt x="439341" y="322553"/>
                    <a:pt x="439522" y="324576"/>
                    <a:pt x="439702" y="326600"/>
                  </a:cubicBezTo>
                  <a:lnTo>
                    <a:pt x="441338" y="321436"/>
                  </a:lnTo>
                  <a:lnTo>
                    <a:pt x="456489" y="328477"/>
                  </a:lnTo>
                  <a:lnTo>
                    <a:pt x="469030" y="340332"/>
                  </a:lnTo>
                  <a:cubicBezTo>
                    <a:pt x="469226" y="352558"/>
                    <a:pt x="469423" y="364784"/>
                    <a:pt x="469619" y="377010"/>
                  </a:cubicBezTo>
                  <a:lnTo>
                    <a:pt x="481967" y="346636"/>
                  </a:lnTo>
                  <a:lnTo>
                    <a:pt x="490893" y="353464"/>
                  </a:lnTo>
                  <a:cubicBezTo>
                    <a:pt x="490986" y="353229"/>
                    <a:pt x="491078" y="352993"/>
                    <a:pt x="491171" y="352758"/>
                  </a:cubicBezTo>
                  <a:lnTo>
                    <a:pt x="502047" y="360632"/>
                  </a:lnTo>
                  <a:lnTo>
                    <a:pt x="506221" y="352861"/>
                  </a:lnTo>
                  <a:lnTo>
                    <a:pt x="507004" y="353104"/>
                  </a:lnTo>
                  <a:lnTo>
                    <a:pt x="510200" y="348072"/>
                  </a:lnTo>
                  <a:lnTo>
                    <a:pt x="524695" y="357606"/>
                  </a:lnTo>
                  <a:cubicBezTo>
                    <a:pt x="524221" y="345080"/>
                    <a:pt x="523746" y="332554"/>
                    <a:pt x="523272" y="320028"/>
                  </a:cubicBezTo>
                  <a:lnTo>
                    <a:pt x="532982" y="303141"/>
                  </a:lnTo>
                  <a:lnTo>
                    <a:pt x="544190" y="288133"/>
                  </a:lnTo>
                  <a:lnTo>
                    <a:pt x="549659" y="279398"/>
                  </a:lnTo>
                  <a:lnTo>
                    <a:pt x="550372" y="279854"/>
                  </a:lnTo>
                  <a:lnTo>
                    <a:pt x="553716" y="275375"/>
                  </a:lnTo>
                  <a:lnTo>
                    <a:pt x="569044" y="291775"/>
                  </a:lnTo>
                  <a:lnTo>
                    <a:pt x="572149" y="293757"/>
                  </a:lnTo>
                  <a:cubicBezTo>
                    <a:pt x="571894" y="288882"/>
                    <a:pt x="571638" y="284007"/>
                    <a:pt x="571383" y="279132"/>
                  </a:cubicBezTo>
                  <a:lnTo>
                    <a:pt x="574199" y="274123"/>
                  </a:lnTo>
                  <a:lnTo>
                    <a:pt x="576171" y="245405"/>
                  </a:lnTo>
                  <a:lnTo>
                    <a:pt x="589175" y="252460"/>
                  </a:lnTo>
                  <a:lnTo>
                    <a:pt x="598120" y="240024"/>
                  </a:lnTo>
                  <a:lnTo>
                    <a:pt x="609726" y="251460"/>
                  </a:lnTo>
                  <a:lnTo>
                    <a:pt x="613000" y="179955"/>
                  </a:lnTo>
                  <a:lnTo>
                    <a:pt x="617802" y="172956"/>
                  </a:lnTo>
                  <a:lnTo>
                    <a:pt x="643119" y="145060"/>
                  </a:lnTo>
                  <a:lnTo>
                    <a:pt x="656875" y="168737"/>
                  </a:lnTo>
                  <a:lnTo>
                    <a:pt x="661737" y="124680"/>
                  </a:lnTo>
                  <a:lnTo>
                    <a:pt x="666721" y="118539"/>
                  </a:lnTo>
                  <a:lnTo>
                    <a:pt x="692350" y="95641"/>
                  </a:lnTo>
                  <a:lnTo>
                    <a:pt x="706040" y="130636"/>
                  </a:lnTo>
                  <a:lnTo>
                    <a:pt x="718900" y="81630"/>
                  </a:lnTo>
                  <a:lnTo>
                    <a:pt x="724136" y="93627"/>
                  </a:lnTo>
                  <a:lnTo>
                    <a:pt x="744116" y="79351"/>
                  </a:lnTo>
                  <a:lnTo>
                    <a:pt x="746368" y="87684"/>
                  </a:lnTo>
                  <a:lnTo>
                    <a:pt x="757570" y="41447"/>
                  </a:lnTo>
                  <a:lnTo>
                    <a:pt x="768594" y="33056"/>
                  </a:lnTo>
                  <a:lnTo>
                    <a:pt x="789631" y="24351"/>
                  </a:lnTo>
                  <a:lnTo>
                    <a:pt x="793905" y="57917"/>
                  </a:lnTo>
                  <a:lnTo>
                    <a:pt x="806583" y="15796"/>
                  </a:lnTo>
                  <a:lnTo>
                    <a:pt x="817472" y="9779"/>
                  </a:lnTo>
                  <a:lnTo>
                    <a:pt x="837722" y="5984"/>
                  </a:lnTo>
                  <a:cubicBezTo>
                    <a:pt x="837974" y="11850"/>
                    <a:pt x="838227" y="17716"/>
                    <a:pt x="838479" y="23582"/>
                  </a:cubicBezTo>
                  <a:lnTo>
                    <a:pt x="842069" y="22800"/>
                  </a:lnTo>
                  <a:lnTo>
                    <a:pt x="843602" y="51492"/>
                  </a:lnTo>
                  <a:lnTo>
                    <a:pt x="853713" y="29787"/>
                  </a:lnTo>
                  <a:lnTo>
                    <a:pt x="856784" y="21100"/>
                  </a:lnTo>
                  <a:lnTo>
                    <a:pt x="857960" y="20669"/>
                  </a:lnTo>
                  <a:lnTo>
                    <a:pt x="861088" y="13953"/>
                  </a:lnTo>
                  <a:lnTo>
                    <a:pt x="861439" y="19400"/>
                  </a:lnTo>
                  <a:lnTo>
                    <a:pt x="867423" y="17214"/>
                  </a:lnTo>
                  <a:lnTo>
                    <a:pt x="886748" y="17726"/>
                  </a:lnTo>
                  <a:cubicBezTo>
                    <a:pt x="886731" y="18557"/>
                    <a:pt x="886713" y="19389"/>
                    <a:pt x="886696" y="20220"/>
                  </a:cubicBezTo>
                  <a:lnTo>
                    <a:pt x="895409" y="481"/>
                  </a:lnTo>
                  <a:lnTo>
                    <a:pt x="911020" y="0"/>
                  </a:lnTo>
                  <a:lnTo>
                    <a:pt x="924174" y="5551"/>
                  </a:lnTo>
                  <a:lnTo>
                    <a:pt x="920087" y="42854"/>
                  </a:lnTo>
                  <a:lnTo>
                    <a:pt x="938113" y="7847"/>
                  </a:lnTo>
                  <a:lnTo>
                    <a:pt x="952710" y="11321"/>
                  </a:lnTo>
                  <a:lnTo>
                    <a:pt x="964579" y="20518"/>
                  </a:lnTo>
                  <a:lnTo>
                    <a:pt x="963300" y="28024"/>
                  </a:lnTo>
                  <a:lnTo>
                    <a:pt x="970056" y="32914"/>
                  </a:lnTo>
                  <a:lnTo>
                    <a:pt x="963767" y="71642"/>
                  </a:lnTo>
                  <a:lnTo>
                    <a:pt x="981251" y="41899"/>
                  </a:lnTo>
                  <a:lnTo>
                    <a:pt x="994791" y="48764"/>
                  </a:lnTo>
                  <a:lnTo>
                    <a:pt x="1005401" y="61016"/>
                  </a:lnTo>
                  <a:lnTo>
                    <a:pt x="1004091" y="66935"/>
                  </a:lnTo>
                  <a:lnTo>
                    <a:pt x="1007179" y="62693"/>
                  </a:lnTo>
                  <a:lnTo>
                    <a:pt x="1019334" y="75065"/>
                  </a:lnTo>
                  <a:lnTo>
                    <a:pt x="1027589" y="90982"/>
                  </a:lnTo>
                  <a:lnTo>
                    <a:pt x="1017156" y="125737"/>
                  </a:lnTo>
                  <a:lnTo>
                    <a:pt x="1037881" y="101823"/>
                  </a:lnTo>
                  <a:lnTo>
                    <a:pt x="1044239" y="111634"/>
                  </a:lnTo>
                  <a:lnTo>
                    <a:pt x="1044711" y="111075"/>
                  </a:lnTo>
                  <a:lnTo>
                    <a:pt x="1055392" y="126710"/>
                  </a:lnTo>
                  <a:lnTo>
                    <a:pt x="1060962" y="141881"/>
                  </a:lnTo>
                  <a:lnTo>
                    <a:pt x="1070982" y="137735"/>
                  </a:lnTo>
                  <a:lnTo>
                    <a:pt x="1075256" y="171303"/>
                  </a:lnTo>
                  <a:lnTo>
                    <a:pt x="1087934" y="129181"/>
                  </a:lnTo>
                  <a:lnTo>
                    <a:pt x="1098822" y="123164"/>
                  </a:lnTo>
                  <a:lnTo>
                    <a:pt x="1119074" y="119369"/>
                  </a:lnTo>
                  <a:cubicBezTo>
                    <a:pt x="1119327" y="125235"/>
                    <a:pt x="1119579" y="131101"/>
                    <a:pt x="1119832" y="136967"/>
                  </a:cubicBezTo>
                  <a:lnTo>
                    <a:pt x="1123420" y="136184"/>
                  </a:lnTo>
                  <a:lnTo>
                    <a:pt x="1124953" y="164877"/>
                  </a:lnTo>
                  <a:lnTo>
                    <a:pt x="1135063" y="143171"/>
                  </a:lnTo>
                  <a:lnTo>
                    <a:pt x="1138135" y="134483"/>
                  </a:lnTo>
                  <a:lnTo>
                    <a:pt x="1139311" y="134054"/>
                  </a:lnTo>
                  <a:lnTo>
                    <a:pt x="1142439" y="127339"/>
                  </a:lnTo>
                  <a:cubicBezTo>
                    <a:pt x="1142556" y="129154"/>
                    <a:pt x="1142674" y="130969"/>
                    <a:pt x="1142791" y="132784"/>
                  </a:cubicBezTo>
                  <a:lnTo>
                    <a:pt x="1148775" y="130599"/>
                  </a:lnTo>
                  <a:lnTo>
                    <a:pt x="1168100" y="131111"/>
                  </a:lnTo>
                  <a:cubicBezTo>
                    <a:pt x="1168082" y="131942"/>
                    <a:pt x="1168065" y="132774"/>
                    <a:pt x="1168047" y="133605"/>
                  </a:cubicBezTo>
                  <a:lnTo>
                    <a:pt x="1176761" y="113867"/>
                  </a:lnTo>
                  <a:lnTo>
                    <a:pt x="1192371" y="113384"/>
                  </a:lnTo>
                  <a:lnTo>
                    <a:pt x="1205525" y="118936"/>
                  </a:lnTo>
                  <a:lnTo>
                    <a:pt x="1201437" y="156238"/>
                  </a:lnTo>
                  <a:lnTo>
                    <a:pt x="1219464" y="121231"/>
                  </a:lnTo>
                  <a:lnTo>
                    <a:pt x="1234060" y="124705"/>
                  </a:lnTo>
                  <a:lnTo>
                    <a:pt x="1245928" y="133903"/>
                  </a:lnTo>
                  <a:lnTo>
                    <a:pt x="1244651" y="141410"/>
                  </a:lnTo>
                  <a:lnTo>
                    <a:pt x="1251406" y="146298"/>
                  </a:lnTo>
                  <a:lnTo>
                    <a:pt x="1245119" y="185027"/>
                  </a:lnTo>
                  <a:lnTo>
                    <a:pt x="1262603" y="155283"/>
                  </a:lnTo>
                  <a:lnTo>
                    <a:pt x="1276142" y="162148"/>
                  </a:lnTo>
                  <a:close/>
                </a:path>
              </a:pathLst>
            </a:custGeom>
            <a:solidFill>
              <a:srgbClr val="dfa4a6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图片 96" descr=""/>
          <p:cNvPicPr/>
          <p:nvPr/>
        </p:nvPicPr>
        <p:blipFill>
          <a:blip r:embed="rId1"/>
          <a:srcRect l="5752" t="7505" r="602" b="7642"/>
          <a:stretch/>
        </p:blipFill>
        <p:spPr>
          <a:xfrm>
            <a:off x="8628120" y="2649600"/>
            <a:ext cx="2697120" cy="38736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98" descr=""/>
          <p:cNvPicPr/>
          <p:nvPr/>
        </p:nvPicPr>
        <p:blipFill>
          <a:blip r:embed="rId2"/>
          <a:srcRect l="25553" t="12284" r="0" b="0"/>
          <a:stretch/>
        </p:blipFill>
        <p:spPr>
          <a:xfrm>
            <a:off x="10979280" y="1755720"/>
            <a:ext cx="1058760" cy="208296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01"/>
          <p:cNvSpPr/>
          <p:nvPr/>
        </p:nvSpPr>
        <p:spPr>
          <a:xfrm>
            <a:off x="3411000" y="27367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52b2e"/>
                </a:solidFill>
                <a:latin typeface="微软雅黑"/>
                <a:ea typeface="微软雅黑"/>
              </a:rPr>
              <a:t>感谢观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2"/>
          <p:cNvSpPr/>
          <p:nvPr/>
        </p:nvSpPr>
        <p:spPr>
          <a:xfrm>
            <a:off x="3638520" y="386064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微软雅黑"/>
                <a:ea typeface="微软雅黑"/>
              </a:rPr>
              <a:t>TH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99"/>
          <p:cNvSpPr/>
          <p:nvPr/>
        </p:nvSpPr>
        <p:spPr>
          <a:xfrm>
            <a:off x="9518760" y="714240"/>
            <a:ext cx="2033640" cy="641520"/>
          </a:xfrm>
          <a:prstGeom prst="roundRect">
            <a:avLst>
              <a:gd name="adj" fmla="val 10958"/>
            </a:avLst>
          </a:prstGeom>
          <a:noFill/>
          <a:ln w="9360">
            <a:solidFill>
              <a:srgbClr val="952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2b2e"/>
                </a:solidFill>
                <a:latin typeface="Calibri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5"/>
          <p:cNvGrpSpPr/>
          <p:nvPr/>
        </p:nvGrpSpPr>
        <p:grpSpPr>
          <a:xfrm>
            <a:off x="-360" y="201600"/>
            <a:ext cx="2198520" cy="1854360"/>
            <a:chOff x="-360" y="201600"/>
            <a:chExt cx="2198520" cy="1854360"/>
          </a:xfrm>
        </p:grpSpPr>
        <p:pic>
          <p:nvPicPr>
            <p:cNvPr id="108" name="Picture 2" descr="http://pic13.nipic.com/20110412/7145303_162030214000_2.jpg"/>
            <p:cNvPicPr/>
            <p:nvPr/>
          </p:nvPicPr>
          <p:blipFill>
            <a:blip r:embed="rId3"/>
            <a:srcRect l="0" t="0" r="6454" b="6107"/>
            <a:stretch/>
          </p:blipFill>
          <p:spPr>
            <a:xfrm flipH="1">
              <a:off x="-360" y="201600"/>
              <a:ext cx="2198520" cy="152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图片 106" descr=""/>
            <p:cNvPicPr/>
            <p:nvPr/>
          </p:nvPicPr>
          <p:blipFill>
            <a:blip r:embed="rId4"/>
            <a:stretch/>
          </p:blipFill>
          <p:spPr>
            <a:xfrm>
              <a:off x="261360" y="1049040"/>
              <a:ext cx="484200" cy="100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d0d0d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0d0d0d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11:28:59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23:04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