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4D8-22C7-42F9-A547-1B6C1436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A2F-6F50-4FB5-85B1-3EB3BFF7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641-9B30-49B6-A8BF-BE57D1DF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A2E-9797-4246-A9E0-E6D72080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F92E-DB08-4F6A-8DDB-C57FBE77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0C8C-F711-471C-B703-F78E8561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AD05-FEF2-47C3-B65C-D65ED06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4FA-81B5-454A-BDD8-BADE542F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BBAB-AE4A-4ECB-ADD0-6FFA4EF1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519D-CF88-459E-8942-BC7214D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A761-1A33-43B9-8486-0A5FBFC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3CB-86E6-4839-97BF-9FD708AF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9734-D034-4C7A-B335-6988D7A3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8CA-6553-4BB1-A9D6-D7AD3413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3330-E889-4E3D-84AC-15A00990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0C57-4C63-4577-999F-62B67B80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D59-D363-41D0-BD2E-CD08F079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E4A0-B0A3-4147-8D1F-638C3101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7898-341B-4EC7-BB56-70AB310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BD76-E9CC-480E-965B-7A7B2B26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1565-EC99-45C3-8DA6-B417922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CACC-4517-4590-978E-2078B1EB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A3A-FE03-48B8-B672-97CC8CF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44B1-1A7F-4721-8D21-9A82A0C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6120-6762-481E-BB69-907EAF75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1EB5-1E8E-4922-802D-AB1B04E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17A4E-DEB3-4221-AA4B-6E88D440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BCD5-FBB3-40A3-9F32-E67727B1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56ED-81A4-4583-A782-1907F8A6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1D8A-ECF2-4C70-AA3D-1EABBC80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C983-B965-4CB6-A161-3316370B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1715-305D-4817-8095-234259E6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0636-3786-4431-90A1-094A6538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748-6737-43E6-AEE1-535A0D7B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B462-A2DB-4E43-9A27-788F033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50C7-0AA3-405E-8890-2375DC26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A806-143C-49B8-AED2-364873A8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0E9E-AD95-4A88-B530-74B43D16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159C-9544-4DE0-B1C9-AE0E0B6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A19B-A953-4D7E-8EDF-A7A65BE6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CB134-5975-448C-8750-6AD0C92F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C2FD-C2C1-4F8C-803F-8F8F2B0D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0C67-C7C6-4D3A-BDEB-FCCCA47B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24C-6968-4312-98C0-9F14FB7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634-910A-4799-A109-996A0B4B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BE8-174F-4CC7-B605-DBACA07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028-325C-4B31-8B99-FCD3F0A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59D-02E1-4AE0-90F9-4669D898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9.jpe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8" descr="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1" descr="09"/>
          <p:cNvPicPr/>
          <p:nvPr/>
        </p:nvPicPr>
        <p:blipFill>
          <a:blip r:embed="rId3"/>
          <a:stretch/>
        </p:blipFill>
        <p:spPr>
          <a:xfrm>
            <a:off x="-682560" y="5661000"/>
            <a:ext cx="4014720" cy="314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4" descr="06"/>
          <p:cNvPicPr/>
          <p:nvPr/>
        </p:nvPicPr>
        <p:blipFill>
          <a:blip r:embed="rId4"/>
          <a:stretch/>
        </p:blipFill>
        <p:spPr>
          <a:xfrm>
            <a:off x="250920" y="4911840"/>
            <a:ext cx="1728720" cy="1103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6" descr="04"/>
          <p:cNvPicPr/>
          <p:nvPr/>
        </p:nvPicPr>
        <p:blipFill>
          <a:blip r:embed="rId5"/>
          <a:stretch/>
        </p:blipFill>
        <p:spPr>
          <a:xfrm>
            <a:off x="6659640" y="4653000"/>
            <a:ext cx="259236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B0F3-3C4E-422D-9713-6D5FB23A9061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0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1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" name="Picture 58" descr="01"/>
          <p:cNvPicPr/>
          <p:nvPr/>
        </p:nvPicPr>
        <p:blipFill>
          <a:blip r:embed="rId6"/>
          <a:stretch/>
        </p:blipFill>
        <p:spPr>
          <a:xfrm>
            <a:off x="1042920" y="2573280"/>
            <a:ext cx="7561440" cy="3592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59" descr="11"/>
          <p:cNvPicPr/>
          <p:nvPr/>
        </p:nvPicPr>
        <p:blipFill>
          <a:blip r:embed="rId7"/>
          <a:stretch/>
        </p:blipFill>
        <p:spPr>
          <a:xfrm>
            <a:off x="-539640" y="1606680"/>
            <a:ext cx="1942920" cy="19666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60" descr="10"/>
          <p:cNvPicPr/>
          <p:nvPr/>
        </p:nvPicPr>
        <p:blipFill>
          <a:blip r:embed="rId8"/>
          <a:stretch/>
        </p:blipFill>
        <p:spPr>
          <a:xfrm>
            <a:off x="7885080" y="3139920"/>
            <a:ext cx="1281240" cy="15130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62" descr="08"/>
          <p:cNvPicPr/>
          <p:nvPr/>
        </p:nvPicPr>
        <p:blipFill>
          <a:blip r:embed="rId9"/>
          <a:stretch/>
        </p:blipFill>
        <p:spPr>
          <a:xfrm>
            <a:off x="501480" y="3068640"/>
            <a:ext cx="760680" cy="13683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63" descr="07"/>
          <p:cNvPicPr/>
          <p:nvPr/>
        </p:nvPicPr>
        <p:blipFill>
          <a:blip r:embed="rId10"/>
          <a:stretch/>
        </p:blipFill>
        <p:spPr>
          <a:xfrm>
            <a:off x="130320" y="2205000"/>
            <a:ext cx="2354040" cy="10587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02"/>
          <p:cNvPicPr/>
          <p:nvPr/>
        </p:nvPicPr>
        <p:blipFill>
          <a:blip r:embed="rId11"/>
          <a:stretch/>
        </p:blipFill>
        <p:spPr>
          <a:xfrm>
            <a:off x="6443640" y="5240160"/>
            <a:ext cx="1368360" cy="200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67" descr="03"/>
          <p:cNvPicPr/>
          <p:nvPr/>
        </p:nvPicPr>
        <p:blipFill>
          <a:blip r:embed="rId12"/>
          <a:stretch/>
        </p:blipFill>
        <p:spPr>
          <a:xfrm>
            <a:off x="7364520" y="1844640"/>
            <a:ext cx="1960560" cy="504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6" descr="1su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sub"/>
          <p:cNvPicPr/>
          <p:nvPr/>
        </p:nvPicPr>
        <p:blipFill>
          <a:blip r:embed="rId3"/>
          <a:stretch/>
        </p:blipFill>
        <p:spPr>
          <a:xfrm>
            <a:off x="0" y="0"/>
            <a:ext cx="9144000" cy="871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1CEA-AC3A-4638-B6B0-C29C7EF11520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63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64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5" name="Picture 35" descr="01"/>
          <p:cNvPicPr/>
          <p:nvPr/>
        </p:nvPicPr>
        <p:blipFill>
          <a:blip r:embed="rId4"/>
          <a:stretch/>
        </p:blipFill>
        <p:spPr>
          <a:xfrm>
            <a:off x="7558200" y="-68400"/>
            <a:ext cx="190980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7" descr="2sub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8" descr="sub2"/>
          <p:cNvPicPr/>
          <p:nvPr/>
        </p:nvPicPr>
        <p:blipFill>
          <a:blip r:embed="rId3"/>
          <a:stretch/>
        </p:blipFill>
        <p:spPr>
          <a:xfrm>
            <a:off x="0" y="0"/>
            <a:ext cx="9144000" cy="87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93B-245C-49A2-91AA-0C5276147477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09" name="Group 9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10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111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12" name="Picture 46" descr="07"/>
          <p:cNvPicPr/>
          <p:nvPr/>
        </p:nvPicPr>
        <p:blipFill>
          <a:blip r:embed="rId4"/>
          <a:stretch/>
        </p:blipFill>
        <p:spPr>
          <a:xfrm>
            <a:off x="7956720" y="-241200"/>
            <a:ext cx="201600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9" descr="sub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title"/>
          </p:nvPr>
        </p:nvSpPr>
        <p:spPr>
          <a:xfrm>
            <a:off x="428760" y="25848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069-607A-4120-B568-22D505269D37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56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57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1" descr="sub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649080"/>
            <a:ext cx="6823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97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198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9" name="Picture 40" descr="03"/>
          <p:cNvPicPr/>
          <p:nvPr/>
        </p:nvPicPr>
        <p:blipFill>
          <a:blip r:embed="rId3"/>
          <a:stretch/>
        </p:blipFill>
        <p:spPr>
          <a:xfrm>
            <a:off x="8172360" y="4149720"/>
            <a:ext cx="1065240" cy="273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9" descr="01"/>
          <p:cNvPicPr/>
          <p:nvPr/>
        </p:nvPicPr>
        <p:blipFill>
          <a:blip r:embed="rId4"/>
          <a:stretch/>
        </p:blipFill>
        <p:spPr>
          <a:xfrm>
            <a:off x="6588000" y="5541840"/>
            <a:ext cx="2772000" cy="131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6"/>
          <p:cNvSpPr/>
          <p:nvPr/>
        </p:nvSpPr>
        <p:spPr>
          <a:xfrm>
            <a:off x="0" y="760320"/>
            <a:ext cx="9144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0" y="1479600"/>
            <a:ext cx="91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矩形 3"/>
          <p:cNvSpPr/>
          <p:nvPr/>
        </p:nvSpPr>
        <p:spPr>
          <a:xfrm>
            <a:off x="5580000" y="6553080"/>
            <a:ext cx="30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2583720" y="9261360"/>
            <a:ext cx="34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www.51pptmoban.c om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607680" y="4950000"/>
            <a:ext cx="8280720" cy="808920"/>
            <a:chOff x="607680" y="4950000"/>
            <a:chExt cx="8280720" cy="808920"/>
          </a:xfrm>
        </p:grpSpPr>
        <p:sp>
          <p:nvSpPr>
            <p:cNvPr id="568" name="AutoShape 3"/>
            <p:cNvSpPr/>
            <p:nvPr/>
          </p:nvSpPr>
          <p:spPr>
            <a:xfrm rot="10800000">
              <a:off x="607680" y="4949640"/>
              <a:ext cx="8280360" cy="452160"/>
            </a:xfrm>
            <a:custGeom>
              <a:avLst/>
              <a:gdLst>
                <a:gd name="textAreaLeft" fmla="*/ 1012680 w 8280360"/>
                <a:gd name="textAreaRight" fmla="*/ 7267680 w 8280360"/>
                <a:gd name="textAreaTop" fmla="*/ 55440 h 452160"/>
                <a:gd name="textAreaBottom" fmla="*/ 3967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6" y="21600"/>
                  </a:lnTo>
                  <a:lnTo>
                    <a:pt x="1991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608040" y="5398920"/>
              <a:ext cx="8280360" cy="3600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571" name="Object 6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712000" cy="48672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5"/>
          <p:cNvSpPr/>
          <p:nvPr/>
        </p:nvSpPr>
        <p:spPr>
          <a:xfrm>
            <a:off x="1506960" y="6016680"/>
            <a:ext cx="35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워포인트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3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서 만든 막대그래프 입니다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더블클릭하시면 엑셀과 연동되어 데이터값을 입력하여 변형 할수 있습니다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4319640" y="981000"/>
            <a:ext cx="1955880" cy="1955880"/>
            <a:chOff x="4319640" y="981000"/>
            <a:chExt cx="1955880" cy="1955880"/>
          </a:xfrm>
        </p:grpSpPr>
        <p:sp>
          <p:nvSpPr>
            <p:cNvPr id="574" name="Freeform 76"/>
            <p:cNvSpPr/>
            <p:nvPr/>
          </p:nvSpPr>
          <p:spPr>
            <a:xfrm>
              <a:off x="5005440" y="1666800"/>
              <a:ext cx="584280" cy="584280"/>
            </a:xfrm>
            <a:custGeom>
              <a:avLst/>
              <a:gdLst/>
              <a:ahLst/>
              <a:rect l="l" t="t" r="r" b="b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c0c0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77"/>
            <p:cNvSpPr/>
            <p:nvPr/>
          </p:nvSpPr>
          <p:spPr>
            <a:xfrm>
              <a:off x="4776840" y="1438200"/>
              <a:ext cx="1041480" cy="1041480"/>
            </a:xfrm>
            <a:custGeom>
              <a:avLst/>
              <a:gdLst/>
              <a:ahLst/>
              <a:rect l="l" t="t" r="r" b="b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c0c0c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Freeform 78"/>
            <p:cNvSpPr/>
            <p:nvPr/>
          </p:nvSpPr>
          <p:spPr>
            <a:xfrm>
              <a:off x="4548240" y="1209600"/>
              <a:ext cx="1498680" cy="149868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c0c0c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Freeform 79"/>
            <p:cNvSpPr/>
            <p:nvPr/>
          </p:nvSpPr>
          <p:spPr>
            <a:xfrm>
              <a:off x="4319640" y="981000"/>
              <a:ext cx="1955880" cy="1955880"/>
            </a:xfrm>
            <a:custGeom>
              <a:avLst/>
              <a:gdLst>
                <a:gd name="textAreaLeft" fmla="*/ 0 w 1955880"/>
                <a:gd name="textAreaRight" fmla="*/ 1956240 w 19558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c0c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8" name="AutoShape 7"/>
          <p:cNvSpPr/>
          <p:nvPr/>
        </p:nvSpPr>
        <p:spPr>
          <a:xfrm rot="18900000">
            <a:off x="1270080" y="2962080"/>
            <a:ext cx="4606920" cy="1152360"/>
          </a:xfrm>
          <a:prstGeom prst="rightArrow">
            <a:avLst>
              <a:gd name="adj1" fmla="val 50000"/>
              <a:gd name="adj2" fmla="val 99945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Freeform 8"/>
          <p:cNvSpPr/>
          <p:nvPr/>
        </p:nvSpPr>
        <p:spPr>
          <a:xfrm>
            <a:off x="1366920" y="4124160"/>
            <a:ext cx="1625400" cy="160200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1024" h="1076">
                <a:moveTo>
                  <a:pt x="1024" y="1076"/>
                </a:moveTo>
                <a:lnTo>
                  <a:pt x="1024" y="1076"/>
                </a:lnTo>
                <a:lnTo>
                  <a:pt x="1024" y="1040"/>
                </a:lnTo>
                <a:lnTo>
                  <a:pt x="1022" y="986"/>
                </a:lnTo>
                <a:lnTo>
                  <a:pt x="1018" y="934"/>
                </a:lnTo>
                <a:lnTo>
                  <a:pt x="1012" y="884"/>
                </a:lnTo>
                <a:lnTo>
                  <a:pt x="1004" y="832"/>
                </a:lnTo>
                <a:lnTo>
                  <a:pt x="992" y="782"/>
                </a:lnTo>
                <a:lnTo>
                  <a:pt x="978" y="734"/>
                </a:lnTo>
                <a:lnTo>
                  <a:pt x="962" y="686"/>
                </a:lnTo>
                <a:lnTo>
                  <a:pt x="944" y="638"/>
                </a:lnTo>
                <a:lnTo>
                  <a:pt x="924" y="592"/>
                </a:lnTo>
                <a:lnTo>
                  <a:pt x="900" y="548"/>
                </a:lnTo>
                <a:lnTo>
                  <a:pt x="876" y="506"/>
                </a:lnTo>
                <a:lnTo>
                  <a:pt x="850" y="464"/>
                </a:lnTo>
                <a:lnTo>
                  <a:pt x="820" y="422"/>
                </a:lnTo>
                <a:lnTo>
                  <a:pt x="790" y="384"/>
                </a:lnTo>
                <a:lnTo>
                  <a:pt x="758" y="346"/>
                </a:lnTo>
                <a:lnTo>
                  <a:pt x="724" y="310"/>
                </a:lnTo>
                <a:lnTo>
                  <a:pt x="690" y="276"/>
                </a:lnTo>
                <a:lnTo>
                  <a:pt x="652" y="242"/>
                </a:lnTo>
                <a:lnTo>
                  <a:pt x="614" y="212"/>
                </a:lnTo>
                <a:lnTo>
                  <a:pt x="574" y="182"/>
                </a:lnTo>
                <a:lnTo>
                  <a:pt x="532" y="156"/>
                </a:lnTo>
                <a:lnTo>
                  <a:pt x="488" y="130"/>
                </a:lnTo>
                <a:lnTo>
                  <a:pt x="444" y="108"/>
                </a:lnTo>
                <a:lnTo>
                  <a:pt x="400" y="86"/>
                </a:lnTo>
                <a:lnTo>
                  <a:pt x="352" y="68"/>
                </a:lnTo>
                <a:lnTo>
                  <a:pt x="306" y="50"/>
                </a:lnTo>
                <a:lnTo>
                  <a:pt x="256" y="36"/>
                </a:lnTo>
                <a:lnTo>
                  <a:pt x="206" y="24"/>
                </a:lnTo>
                <a:lnTo>
                  <a:pt x="156" y="14"/>
                </a:lnTo>
                <a:lnTo>
                  <a:pt x="104" y="8"/>
                </a:lnTo>
                <a:lnTo>
                  <a:pt x="52" y="2"/>
                </a:lnTo>
                <a:lnTo>
                  <a:pt x="0" y="0"/>
                </a:lnTo>
                <a:lnTo>
                  <a:pt x="0" y="1076"/>
                </a:lnTo>
                <a:lnTo>
                  <a:pt x="1024" y="1076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1" name="Text Box 73"/>
          <p:cNvSpPr/>
          <p:nvPr/>
        </p:nvSpPr>
        <p:spPr>
          <a:xfrm>
            <a:off x="5224320" y="2125800"/>
            <a:ext cx="32036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Text Box 74"/>
          <p:cNvSpPr/>
          <p:nvPr/>
        </p:nvSpPr>
        <p:spPr>
          <a:xfrm>
            <a:off x="1944720" y="5972040"/>
            <a:ext cx="33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o offer you what you want, when you wa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Text Box 55"/>
          <p:cNvSpPr/>
          <p:nvPr/>
        </p:nvSpPr>
        <p:spPr>
          <a:xfrm>
            <a:off x="448200" y="233028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arity &amp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Text Box 56"/>
          <p:cNvSpPr/>
          <p:nvPr/>
        </p:nvSpPr>
        <p:spPr>
          <a:xfrm>
            <a:off x="421920" y="2951280"/>
            <a:ext cx="84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emiu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Text Box 57"/>
          <p:cNvSpPr/>
          <p:nvPr/>
        </p:nvSpPr>
        <p:spPr>
          <a:xfrm>
            <a:off x="627840" y="35640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ubtl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ouch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43080" y="4716360"/>
            <a:ext cx="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isual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ppeal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Oval 60"/>
          <p:cNvSpPr/>
          <p:nvPr/>
        </p:nvSpPr>
        <p:spPr>
          <a:xfrm>
            <a:off x="1476360" y="4211640"/>
            <a:ext cx="35568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Freeform 61"/>
          <p:cNvSpPr/>
          <p:nvPr/>
        </p:nvSpPr>
        <p:spPr>
          <a:xfrm>
            <a:off x="1370160" y="4124160"/>
            <a:ext cx="1118880" cy="482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AutoShape 62"/>
          <p:cNvSpPr/>
          <p:nvPr/>
        </p:nvSpPr>
        <p:spPr>
          <a:xfrm rot="2700000">
            <a:off x="-870840" y="3484800"/>
            <a:ext cx="4481640" cy="4480200"/>
          </a:xfrm>
          <a:custGeom>
            <a:avLst/>
            <a:gdLst>
              <a:gd name="textAreaLeft" fmla="*/ 345960 w 4481640"/>
              <a:gd name="textAreaRight" fmla="*/ 4135680 w 4481640"/>
              <a:gd name="textAreaTop" fmla="*/ 0 h 4480200"/>
              <a:gd name="textAreaBottom" fmla="*/ 1339560 h 4480200"/>
            </a:gdLst>
            <a:ahLst/>
            <a:rect l="textAreaLeft" t="textAreaTop" r="textAreaRight" b="textAreaBottom"/>
            <a:pathLst>
              <a:path w="18469" h="5074">
                <a:moveTo>
                  <a:pt x="5024" y="5073"/>
                </a:moveTo>
                <a:cubicBezTo>
                  <a:pt x="6551" y="3533"/>
                  <a:pt x="8630" y="2666"/>
                  <a:pt x="10800" y="2667"/>
                </a:cubicBezTo>
                <a:cubicBezTo>
                  <a:pt x="12969" y="2667"/>
                  <a:pt x="15048" y="3533"/>
                  <a:pt x="16575" y="5073"/>
                </a:cubicBezTo>
                <a:lnTo>
                  <a:pt x="18469" y="3195"/>
                </a:lnTo>
                <a:cubicBezTo>
                  <a:pt x="16441" y="1150"/>
                  <a:pt x="13680" y="-1"/>
                  <a:pt x="10799" y="0"/>
                </a:cubicBezTo>
                <a:cubicBezTo>
                  <a:pt x="7919" y="0"/>
                  <a:pt x="5158" y="1150"/>
                  <a:pt x="3130" y="3195"/>
                </a:cubicBezTo>
                <a:lnTo>
                  <a:pt x="5024" y="5073"/>
                </a:lnTo>
                <a:close/>
              </a:path>
            </a:pathLst>
          </a:custGeom>
          <a:solidFill>
            <a:srgbClr val="57a49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AutoShape 63"/>
          <p:cNvSpPr/>
          <p:nvPr/>
        </p:nvSpPr>
        <p:spPr>
          <a:xfrm rot="2700000">
            <a:off x="-1490760" y="2865240"/>
            <a:ext cx="5727600" cy="5724360"/>
          </a:xfrm>
          <a:custGeom>
            <a:avLst/>
            <a:gdLst>
              <a:gd name="textAreaLeft" fmla="*/ 442800 w 5727600"/>
              <a:gd name="textAreaRight" fmla="*/ 5284800 w 5727600"/>
              <a:gd name="textAreaTop" fmla="*/ 0 h 5724360"/>
              <a:gd name="textAreaBottom" fmla="*/ 1645200 h 5724360"/>
            </a:gdLst>
            <a:ahLst/>
            <a:rect l="textAreaLeft" t="textAreaTop" r="textAreaRight" b="textAreaBottom"/>
            <a:pathLst>
              <a:path w="18470" h="4744">
                <a:moveTo>
                  <a:pt x="4689" y="4743"/>
                </a:moveTo>
                <a:cubicBezTo>
                  <a:pt x="6304" y="3113"/>
                  <a:pt x="8504" y="2195"/>
                  <a:pt x="10800" y="2196"/>
                </a:cubicBezTo>
                <a:cubicBezTo>
                  <a:pt x="13095" y="2196"/>
                  <a:pt x="15295" y="3113"/>
                  <a:pt x="16910" y="4743"/>
                </a:cubicBezTo>
                <a:lnTo>
                  <a:pt x="18470" y="3197"/>
                </a:lnTo>
                <a:cubicBezTo>
                  <a:pt x="16442" y="1151"/>
                  <a:pt x="13680" y="-1"/>
                  <a:pt x="10799" y="0"/>
                </a:cubicBezTo>
                <a:cubicBezTo>
                  <a:pt x="7919" y="0"/>
                  <a:pt x="5157" y="1151"/>
                  <a:pt x="3129" y="3197"/>
                </a:cubicBezTo>
                <a:lnTo>
                  <a:pt x="4689" y="4743"/>
                </a:lnTo>
                <a:close/>
              </a:path>
            </a:pathLst>
          </a:custGeom>
          <a:solidFill>
            <a:srgbClr val="d1a44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AutoShape 64"/>
          <p:cNvSpPr/>
          <p:nvPr/>
        </p:nvSpPr>
        <p:spPr>
          <a:xfrm rot="2700000">
            <a:off x="-2122560" y="2232000"/>
            <a:ext cx="6983280" cy="6983640"/>
          </a:xfrm>
          <a:custGeom>
            <a:avLst/>
            <a:gdLst>
              <a:gd name="textAreaLeft" fmla="*/ 545760 w 6983280"/>
              <a:gd name="textAreaRight" fmla="*/ 6437520 w 6983280"/>
              <a:gd name="textAreaTop" fmla="*/ 0 h 6983640"/>
              <a:gd name="textAreaBottom" fmla="*/ 1931400 h 6983640"/>
            </a:gdLst>
            <a:ahLst/>
            <a:rect l="textAreaLeft" t="textAreaTop" r="textAreaRight" b="textAreaBottom"/>
            <a:pathLst>
              <a:path w="18448" h="4450">
                <a:moveTo>
                  <a:pt x="4430" y="4449"/>
                </a:moveTo>
                <a:cubicBezTo>
                  <a:pt x="6117" y="2756"/>
                  <a:pt x="8409" y="1804"/>
                  <a:pt x="10800" y="1805"/>
                </a:cubicBezTo>
                <a:cubicBezTo>
                  <a:pt x="13190" y="1805"/>
                  <a:pt x="15482" y="2756"/>
                  <a:pt x="17169" y="4449"/>
                </a:cubicBezTo>
                <a:lnTo>
                  <a:pt x="18448" y="3174"/>
                </a:lnTo>
                <a:cubicBezTo>
                  <a:pt x="16421" y="1142"/>
                  <a:pt x="13669" y="-1"/>
                  <a:pt x="10799" y="0"/>
                </a:cubicBezTo>
                <a:cubicBezTo>
                  <a:pt x="7930" y="0"/>
                  <a:pt x="5178" y="1142"/>
                  <a:pt x="3151" y="3174"/>
                </a:cubicBezTo>
                <a:lnTo>
                  <a:pt x="4430" y="4449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Freeform 65"/>
          <p:cNvSpPr/>
          <p:nvPr/>
        </p:nvSpPr>
        <p:spPr>
          <a:xfrm>
            <a:off x="1370160" y="2268360"/>
            <a:ext cx="2503440" cy="107820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Freeform 66"/>
          <p:cNvSpPr/>
          <p:nvPr/>
        </p:nvSpPr>
        <p:spPr>
          <a:xfrm>
            <a:off x="1370160" y="2892600"/>
            <a:ext cx="2009520" cy="865080"/>
          </a:xfrm>
          <a:custGeom>
            <a:avLst/>
            <a:gdLst>
              <a:gd name="textAreaLeft" fmla="*/ 0 w 2009520"/>
              <a:gd name="textAreaRight" fmla="*/ 2009880 w 20095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Freeform 67"/>
          <p:cNvSpPr/>
          <p:nvPr/>
        </p:nvSpPr>
        <p:spPr>
          <a:xfrm>
            <a:off x="1370160" y="3517920"/>
            <a:ext cx="1581120" cy="68112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Freeform 68"/>
          <p:cNvSpPr/>
          <p:nvPr/>
        </p:nvSpPr>
        <p:spPr>
          <a:xfrm>
            <a:off x="1370160" y="1692360"/>
            <a:ext cx="4070160" cy="4033800"/>
          </a:xfrm>
          <a:custGeom>
            <a:avLst/>
            <a:gdLst>
              <a:gd name="textAreaLeft" fmla="*/ 0 w 4070160"/>
              <a:gd name="textAreaRight" fmla="*/ 4070520 w 4070160"/>
              <a:gd name="textAreaTop" fmla="*/ 0 h 4033800"/>
              <a:gd name="textAreaBottom" fmla="*/ 4034160 h 4033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cap="rnd" w="38160">
            <a:solidFill>
              <a:srgbClr val="c0c0c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WordArt 69"/>
          <p:cNvSpPr txBox="1"/>
          <p:nvPr/>
        </p:nvSpPr>
        <p:spPr>
          <a:xfrm rot="2700000">
            <a:off x="-641880" y="2820240"/>
            <a:ext cx="5332320" cy="455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Immense Visual Appeal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7" name="WordArt 70"/>
          <p:cNvSpPr txBox="1"/>
          <p:nvPr/>
        </p:nvSpPr>
        <p:spPr>
          <a:xfrm rot="2700000">
            <a:off x="-698040" y="3283560"/>
            <a:ext cx="4632480" cy="438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ye-Catching Visual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8" name="WordArt 71"/>
          <p:cNvSpPr txBox="1"/>
          <p:nvPr/>
        </p:nvSpPr>
        <p:spPr>
          <a:xfrm rot="2700000">
            <a:off x="119880" y="3980880"/>
            <a:ext cx="3324240" cy="266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8030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asy To Use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9" name="WordArt 72"/>
          <p:cNvSpPr txBox="1"/>
          <p:nvPr/>
        </p:nvSpPr>
        <p:spPr>
          <a:xfrm rot="2700000">
            <a:off x="-470880" y="4210560"/>
            <a:ext cx="3160800" cy="348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Universal Design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01" name="Freeform 91"/>
          <p:cNvSpPr/>
          <p:nvPr/>
        </p:nvSpPr>
        <p:spPr>
          <a:xfrm>
            <a:off x="2984400" y="2994120"/>
            <a:ext cx="196920" cy="120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4" h="76">
                <a:moveTo>
                  <a:pt x="12" y="76"/>
                </a:moveTo>
                <a:lnTo>
                  <a:pt x="0" y="49"/>
                </a:lnTo>
                <a:lnTo>
                  <a:pt x="8" y="19"/>
                </a:lnTo>
                <a:lnTo>
                  <a:pt x="58" y="0"/>
                </a:lnTo>
                <a:lnTo>
                  <a:pt x="124" y="19"/>
                </a:lnTo>
                <a:lnTo>
                  <a:pt x="112" y="54"/>
                </a:lnTo>
                <a:lnTo>
                  <a:pt x="62" y="54"/>
                </a:lnTo>
                <a:lnTo>
                  <a:pt x="56" y="58"/>
                </a:lnTo>
                <a:lnTo>
                  <a:pt x="42" y="66"/>
                </a:lnTo>
                <a:lnTo>
                  <a:pt x="35" y="70"/>
                </a:lnTo>
                <a:lnTo>
                  <a:pt x="26" y="75"/>
                </a:lnTo>
                <a:lnTo>
                  <a:pt x="18" y="76"/>
                </a:lnTo>
                <a:lnTo>
                  <a:pt x="12" y="7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Freeform 92"/>
          <p:cNvSpPr/>
          <p:nvPr/>
        </p:nvSpPr>
        <p:spPr>
          <a:xfrm>
            <a:off x="2365200" y="1890720"/>
            <a:ext cx="567000" cy="671400"/>
          </a:xfrm>
          <a:custGeom>
            <a:avLst/>
            <a:gdLst>
              <a:gd name="textAreaLeft" fmla="*/ 0 w 567000"/>
              <a:gd name="textAreaRight" fmla="*/ 567360 w 5670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357" h="423">
                <a:moveTo>
                  <a:pt x="261" y="423"/>
                </a:moveTo>
                <a:lnTo>
                  <a:pt x="234" y="389"/>
                </a:lnTo>
                <a:lnTo>
                  <a:pt x="231" y="362"/>
                </a:lnTo>
                <a:lnTo>
                  <a:pt x="181" y="339"/>
                </a:lnTo>
                <a:lnTo>
                  <a:pt x="142" y="301"/>
                </a:lnTo>
                <a:lnTo>
                  <a:pt x="131" y="279"/>
                </a:lnTo>
                <a:lnTo>
                  <a:pt x="173" y="262"/>
                </a:lnTo>
                <a:lnTo>
                  <a:pt x="188" y="205"/>
                </a:lnTo>
                <a:lnTo>
                  <a:pt x="176" y="140"/>
                </a:lnTo>
                <a:lnTo>
                  <a:pt x="104" y="148"/>
                </a:lnTo>
                <a:lnTo>
                  <a:pt x="47" y="125"/>
                </a:lnTo>
                <a:lnTo>
                  <a:pt x="0" y="68"/>
                </a:lnTo>
                <a:lnTo>
                  <a:pt x="24" y="26"/>
                </a:lnTo>
                <a:lnTo>
                  <a:pt x="62" y="95"/>
                </a:lnTo>
                <a:lnTo>
                  <a:pt x="60" y="92"/>
                </a:lnTo>
                <a:lnTo>
                  <a:pt x="59" y="84"/>
                </a:lnTo>
                <a:lnTo>
                  <a:pt x="59" y="81"/>
                </a:lnTo>
                <a:lnTo>
                  <a:pt x="60" y="78"/>
                </a:lnTo>
                <a:lnTo>
                  <a:pt x="62" y="77"/>
                </a:lnTo>
                <a:lnTo>
                  <a:pt x="66" y="75"/>
                </a:lnTo>
                <a:lnTo>
                  <a:pt x="68" y="75"/>
                </a:lnTo>
                <a:lnTo>
                  <a:pt x="69" y="72"/>
                </a:lnTo>
                <a:lnTo>
                  <a:pt x="69" y="65"/>
                </a:lnTo>
                <a:lnTo>
                  <a:pt x="68" y="54"/>
                </a:lnTo>
                <a:lnTo>
                  <a:pt x="66" y="42"/>
                </a:lnTo>
                <a:lnTo>
                  <a:pt x="60" y="21"/>
                </a:lnTo>
                <a:lnTo>
                  <a:pt x="59" y="11"/>
                </a:lnTo>
                <a:lnTo>
                  <a:pt x="63" y="8"/>
                </a:lnTo>
                <a:lnTo>
                  <a:pt x="74" y="3"/>
                </a:lnTo>
                <a:lnTo>
                  <a:pt x="80" y="1"/>
                </a:lnTo>
                <a:lnTo>
                  <a:pt x="86" y="0"/>
                </a:lnTo>
                <a:lnTo>
                  <a:pt x="90" y="3"/>
                </a:lnTo>
                <a:lnTo>
                  <a:pt x="92" y="6"/>
                </a:lnTo>
                <a:lnTo>
                  <a:pt x="93" y="14"/>
                </a:lnTo>
                <a:lnTo>
                  <a:pt x="93" y="23"/>
                </a:lnTo>
                <a:lnTo>
                  <a:pt x="92" y="41"/>
                </a:lnTo>
                <a:lnTo>
                  <a:pt x="93" y="50"/>
                </a:lnTo>
                <a:lnTo>
                  <a:pt x="98" y="57"/>
                </a:lnTo>
                <a:lnTo>
                  <a:pt x="101" y="60"/>
                </a:lnTo>
                <a:lnTo>
                  <a:pt x="106" y="62"/>
                </a:lnTo>
                <a:lnTo>
                  <a:pt x="110" y="63"/>
                </a:lnTo>
                <a:lnTo>
                  <a:pt x="116" y="63"/>
                </a:lnTo>
                <a:lnTo>
                  <a:pt x="127" y="63"/>
                </a:lnTo>
                <a:lnTo>
                  <a:pt x="137" y="62"/>
                </a:lnTo>
                <a:lnTo>
                  <a:pt x="145" y="59"/>
                </a:lnTo>
                <a:lnTo>
                  <a:pt x="151" y="56"/>
                </a:lnTo>
                <a:lnTo>
                  <a:pt x="160" y="51"/>
                </a:lnTo>
                <a:lnTo>
                  <a:pt x="161" y="48"/>
                </a:lnTo>
                <a:lnTo>
                  <a:pt x="246" y="71"/>
                </a:lnTo>
                <a:lnTo>
                  <a:pt x="250" y="77"/>
                </a:lnTo>
                <a:lnTo>
                  <a:pt x="261" y="89"/>
                </a:lnTo>
                <a:lnTo>
                  <a:pt x="267" y="98"/>
                </a:lnTo>
                <a:lnTo>
                  <a:pt x="271" y="107"/>
                </a:lnTo>
                <a:lnTo>
                  <a:pt x="274" y="118"/>
                </a:lnTo>
                <a:lnTo>
                  <a:pt x="276" y="130"/>
                </a:lnTo>
                <a:lnTo>
                  <a:pt x="279" y="181"/>
                </a:lnTo>
                <a:lnTo>
                  <a:pt x="280" y="209"/>
                </a:lnTo>
                <a:lnTo>
                  <a:pt x="338" y="220"/>
                </a:lnTo>
                <a:lnTo>
                  <a:pt x="357" y="286"/>
                </a:lnTo>
                <a:lnTo>
                  <a:pt x="326" y="294"/>
                </a:lnTo>
                <a:lnTo>
                  <a:pt x="307" y="279"/>
                </a:lnTo>
                <a:lnTo>
                  <a:pt x="280" y="267"/>
                </a:lnTo>
                <a:lnTo>
                  <a:pt x="280" y="274"/>
                </a:lnTo>
                <a:lnTo>
                  <a:pt x="280" y="291"/>
                </a:lnTo>
                <a:lnTo>
                  <a:pt x="282" y="298"/>
                </a:lnTo>
                <a:lnTo>
                  <a:pt x="283" y="307"/>
                </a:lnTo>
                <a:lnTo>
                  <a:pt x="286" y="313"/>
                </a:lnTo>
                <a:lnTo>
                  <a:pt x="289" y="315"/>
                </a:lnTo>
                <a:lnTo>
                  <a:pt x="291" y="316"/>
                </a:lnTo>
                <a:lnTo>
                  <a:pt x="301" y="318"/>
                </a:lnTo>
                <a:lnTo>
                  <a:pt x="304" y="319"/>
                </a:lnTo>
                <a:lnTo>
                  <a:pt x="307" y="322"/>
                </a:lnTo>
                <a:lnTo>
                  <a:pt x="309" y="325"/>
                </a:lnTo>
                <a:lnTo>
                  <a:pt x="310" y="331"/>
                </a:lnTo>
                <a:lnTo>
                  <a:pt x="310" y="351"/>
                </a:lnTo>
                <a:lnTo>
                  <a:pt x="310" y="363"/>
                </a:lnTo>
                <a:lnTo>
                  <a:pt x="307" y="372"/>
                </a:lnTo>
                <a:lnTo>
                  <a:pt x="304" y="380"/>
                </a:lnTo>
                <a:lnTo>
                  <a:pt x="301" y="384"/>
                </a:lnTo>
                <a:lnTo>
                  <a:pt x="294" y="392"/>
                </a:lnTo>
                <a:lnTo>
                  <a:pt x="291" y="393"/>
                </a:lnTo>
                <a:lnTo>
                  <a:pt x="291" y="423"/>
                </a:lnTo>
                <a:lnTo>
                  <a:pt x="261" y="423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Freeform 93"/>
          <p:cNvSpPr/>
          <p:nvPr/>
        </p:nvSpPr>
        <p:spPr>
          <a:xfrm>
            <a:off x="2676600" y="1197000"/>
            <a:ext cx="1245960" cy="1428840"/>
          </a:xfrm>
          <a:custGeom>
            <a:avLst/>
            <a:gdLst>
              <a:gd name="textAreaLeft" fmla="*/ 0 w 1245960"/>
              <a:gd name="textAreaRight" fmla="*/ 1246320 w 124596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785" h="900">
                <a:moveTo>
                  <a:pt x="368" y="848"/>
                </a:moveTo>
                <a:lnTo>
                  <a:pt x="328" y="781"/>
                </a:lnTo>
                <a:lnTo>
                  <a:pt x="291" y="731"/>
                </a:lnTo>
                <a:lnTo>
                  <a:pt x="291" y="646"/>
                </a:lnTo>
                <a:lnTo>
                  <a:pt x="294" y="567"/>
                </a:lnTo>
                <a:lnTo>
                  <a:pt x="294" y="508"/>
                </a:lnTo>
                <a:lnTo>
                  <a:pt x="256" y="535"/>
                </a:lnTo>
                <a:lnTo>
                  <a:pt x="256" y="478"/>
                </a:lnTo>
                <a:lnTo>
                  <a:pt x="229" y="378"/>
                </a:lnTo>
                <a:lnTo>
                  <a:pt x="199" y="318"/>
                </a:lnTo>
                <a:lnTo>
                  <a:pt x="126" y="301"/>
                </a:lnTo>
                <a:lnTo>
                  <a:pt x="62" y="268"/>
                </a:lnTo>
                <a:lnTo>
                  <a:pt x="23" y="241"/>
                </a:lnTo>
                <a:lnTo>
                  <a:pt x="62" y="229"/>
                </a:lnTo>
                <a:lnTo>
                  <a:pt x="0" y="191"/>
                </a:lnTo>
                <a:lnTo>
                  <a:pt x="0" y="184"/>
                </a:lnTo>
                <a:lnTo>
                  <a:pt x="1" y="176"/>
                </a:lnTo>
                <a:lnTo>
                  <a:pt x="3" y="169"/>
                </a:lnTo>
                <a:lnTo>
                  <a:pt x="7" y="160"/>
                </a:lnTo>
                <a:lnTo>
                  <a:pt x="12" y="152"/>
                </a:lnTo>
                <a:lnTo>
                  <a:pt x="16" y="149"/>
                </a:lnTo>
                <a:lnTo>
                  <a:pt x="21" y="148"/>
                </a:lnTo>
                <a:lnTo>
                  <a:pt x="26" y="146"/>
                </a:lnTo>
                <a:lnTo>
                  <a:pt x="30" y="145"/>
                </a:lnTo>
                <a:lnTo>
                  <a:pt x="44" y="145"/>
                </a:lnTo>
                <a:lnTo>
                  <a:pt x="62" y="142"/>
                </a:lnTo>
                <a:lnTo>
                  <a:pt x="99" y="134"/>
                </a:lnTo>
                <a:lnTo>
                  <a:pt x="145" y="122"/>
                </a:lnTo>
                <a:lnTo>
                  <a:pt x="166" y="101"/>
                </a:lnTo>
                <a:lnTo>
                  <a:pt x="182" y="83"/>
                </a:lnTo>
                <a:lnTo>
                  <a:pt x="194" y="72"/>
                </a:lnTo>
                <a:lnTo>
                  <a:pt x="205" y="63"/>
                </a:lnTo>
                <a:lnTo>
                  <a:pt x="218" y="53"/>
                </a:lnTo>
                <a:lnTo>
                  <a:pt x="226" y="47"/>
                </a:lnTo>
                <a:lnTo>
                  <a:pt x="235" y="42"/>
                </a:lnTo>
                <a:lnTo>
                  <a:pt x="246" y="39"/>
                </a:lnTo>
                <a:lnTo>
                  <a:pt x="256" y="38"/>
                </a:lnTo>
                <a:lnTo>
                  <a:pt x="267" y="38"/>
                </a:lnTo>
                <a:lnTo>
                  <a:pt x="279" y="36"/>
                </a:lnTo>
                <a:lnTo>
                  <a:pt x="298" y="32"/>
                </a:lnTo>
                <a:lnTo>
                  <a:pt x="316" y="29"/>
                </a:lnTo>
                <a:lnTo>
                  <a:pt x="333" y="27"/>
                </a:lnTo>
                <a:lnTo>
                  <a:pt x="340" y="29"/>
                </a:lnTo>
                <a:lnTo>
                  <a:pt x="350" y="33"/>
                </a:lnTo>
                <a:lnTo>
                  <a:pt x="371" y="45"/>
                </a:lnTo>
                <a:lnTo>
                  <a:pt x="389" y="59"/>
                </a:lnTo>
                <a:lnTo>
                  <a:pt x="396" y="63"/>
                </a:lnTo>
                <a:lnTo>
                  <a:pt x="401" y="65"/>
                </a:lnTo>
                <a:lnTo>
                  <a:pt x="413" y="63"/>
                </a:lnTo>
                <a:lnTo>
                  <a:pt x="428" y="62"/>
                </a:lnTo>
                <a:lnTo>
                  <a:pt x="435" y="59"/>
                </a:lnTo>
                <a:lnTo>
                  <a:pt x="443" y="56"/>
                </a:lnTo>
                <a:lnTo>
                  <a:pt x="450" y="51"/>
                </a:lnTo>
                <a:lnTo>
                  <a:pt x="455" y="45"/>
                </a:lnTo>
                <a:lnTo>
                  <a:pt x="461" y="41"/>
                </a:lnTo>
                <a:lnTo>
                  <a:pt x="470" y="35"/>
                </a:lnTo>
                <a:lnTo>
                  <a:pt x="482" y="30"/>
                </a:lnTo>
                <a:lnTo>
                  <a:pt x="494" y="27"/>
                </a:lnTo>
                <a:lnTo>
                  <a:pt x="520" y="21"/>
                </a:lnTo>
                <a:lnTo>
                  <a:pt x="539" y="20"/>
                </a:lnTo>
                <a:lnTo>
                  <a:pt x="557" y="17"/>
                </a:lnTo>
                <a:lnTo>
                  <a:pt x="582" y="12"/>
                </a:lnTo>
                <a:lnTo>
                  <a:pt x="624" y="3"/>
                </a:lnTo>
                <a:lnTo>
                  <a:pt x="643" y="0"/>
                </a:lnTo>
                <a:lnTo>
                  <a:pt x="655" y="0"/>
                </a:lnTo>
                <a:lnTo>
                  <a:pt x="669" y="0"/>
                </a:lnTo>
                <a:lnTo>
                  <a:pt x="681" y="0"/>
                </a:lnTo>
                <a:lnTo>
                  <a:pt x="692" y="3"/>
                </a:lnTo>
                <a:lnTo>
                  <a:pt x="696" y="5"/>
                </a:lnTo>
                <a:lnTo>
                  <a:pt x="699" y="8"/>
                </a:lnTo>
                <a:lnTo>
                  <a:pt x="702" y="11"/>
                </a:lnTo>
                <a:lnTo>
                  <a:pt x="704" y="15"/>
                </a:lnTo>
                <a:lnTo>
                  <a:pt x="704" y="23"/>
                </a:lnTo>
                <a:lnTo>
                  <a:pt x="704" y="29"/>
                </a:lnTo>
                <a:lnTo>
                  <a:pt x="702" y="35"/>
                </a:lnTo>
                <a:lnTo>
                  <a:pt x="702" y="42"/>
                </a:lnTo>
                <a:lnTo>
                  <a:pt x="704" y="51"/>
                </a:lnTo>
                <a:lnTo>
                  <a:pt x="710" y="63"/>
                </a:lnTo>
                <a:lnTo>
                  <a:pt x="719" y="80"/>
                </a:lnTo>
                <a:lnTo>
                  <a:pt x="734" y="102"/>
                </a:lnTo>
                <a:lnTo>
                  <a:pt x="752" y="128"/>
                </a:lnTo>
                <a:lnTo>
                  <a:pt x="765" y="152"/>
                </a:lnTo>
                <a:lnTo>
                  <a:pt x="776" y="175"/>
                </a:lnTo>
                <a:lnTo>
                  <a:pt x="782" y="194"/>
                </a:lnTo>
                <a:lnTo>
                  <a:pt x="785" y="209"/>
                </a:lnTo>
                <a:lnTo>
                  <a:pt x="785" y="217"/>
                </a:lnTo>
                <a:lnTo>
                  <a:pt x="785" y="223"/>
                </a:lnTo>
                <a:lnTo>
                  <a:pt x="783" y="228"/>
                </a:lnTo>
                <a:lnTo>
                  <a:pt x="780" y="231"/>
                </a:lnTo>
                <a:lnTo>
                  <a:pt x="777" y="232"/>
                </a:lnTo>
                <a:lnTo>
                  <a:pt x="773" y="234"/>
                </a:lnTo>
                <a:lnTo>
                  <a:pt x="755" y="234"/>
                </a:lnTo>
                <a:lnTo>
                  <a:pt x="749" y="235"/>
                </a:lnTo>
                <a:lnTo>
                  <a:pt x="743" y="238"/>
                </a:lnTo>
                <a:lnTo>
                  <a:pt x="740" y="246"/>
                </a:lnTo>
                <a:lnTo>
                  <a:pt x="737" y="258"/>
                </a:lnTo>
                <a:lnTo>
                  <a:pt x="735" y="274"/>
                </a:lnTo>
                <a:lnTo>
                  <a:pt x="734" y="298"/>
                </a:lnTo>
                <a:lnTo>
                  <a:pt x="734" y="470"/>
                </a:lnTo>
                <a:lnTo>
                  <a:pt x="735" y="506"/>
                </a:lnTo>
                <a:lnTo>
                  <a:pt x="735" y="529"/>
                </a:lnTo>
                <a:lnTo>
                  <a:pt x="734" y="550"/>
                </a:lnTo>
                <a:lnTo>
                  <a:pt x="732" y="570"/>
                </a:lnTo>
                <a:lnTo>
                  <a:pt x="728" y="588"/>
                </a:lnTo>
                <a:lnTo>
                  <a:pt x="725" y="594"/>
                </a:lnTo>
                <a:lnTo>
                  <a:pt x="722" y="598"/>
                </a:lnTo>
                <a:lnTo>
                  <a:pt x="717" y="603"/>
                </a:lnTo>
                <a:lnTo>
                  <a:pt x="711" y="604"/>
                </a:lnTo>
                <a:lnTo>
                  <a:pt x="687" y="607"/>
                </a:lnTo>
                <a:lnTo>
                  <a:pt x="660" y="612"/>
                </a:lnTo>
                <a:lnTo>
                  <a:pt x="648" y="616"/>
                </a:lnTo>
                <a:lnTo>
                  <a:pt x="636" y="621"/>
                </a:lnTo>
                <a:lnTo>
                  <a:pt x="625" y="627"/>
                </a:lnTo>
                <a:lnTo>
                  <a:pt x="616" y="634"/>
                </a:lnTo>
                <a:lnTo>
                  <a:pt x="606" y="643"/>
                </a:lnTo>
                <a:lnTo>
                  <a:pt x="595" y="649"/>
                </a:lnTo>
                <a:lnTo>
                  <a:pt x="574" y="663"/>
                </a:lnTo>
                <a:lnTo>
                  <a:pt x="554" y="674"/>
                </a:lnTo>
                <a:lnTo>
                  <a:pt x="547" y="680"/>
                </a:lnTo>
                <a:lnTo>
                  <a:pt x="542" y="684"/>
                </a:lnTo>
                <a:lnTo>
                  <a:pt x="535" y="704"/>
                </a:lnTo>
                <a:lnTo>
                  <a:pt x="532" y="711"/>
                </a:lnTo>
                <a:lnTo>
                  <a:pt x="527" y="711"/>
                </a:lnTo>
                <a:lnTo>
                  <a:pt x="517" y="711"/>
                </a:lnTo>
                <a:lnTo>
                  <a:pt x="511" y="713"/>
                </a:lnTo>
                <a:lnTo>
                  <a:pt x="506" y="716"/>
                </a:lnTo>
                <a:lnTo>
                  <a:pt x="500" y="720"/>
                </a:lnTo>
                <a:lnTo>
                  <a:pt x="497" y="726"/>
                </a:lnTo>
                <a:lnTo>
                  <a:pt x="488" y="744"/>
                </a:lnTo>
                <a:lnTo>
                  <a:pt x="475" y="768"/>
                </a:lnTo>
                <a:lnTo>
                  <a:pt x="469" y="781"/>
                </a:lnTo>
                <a:lnTo>
                  <a:pt x="464" y="794"/>
                </a:lnTo>
                <a:lnTo>
                  <a:pt x="460" y="806"/>
                </a:lnTo>
                <a:lnTo>
                  <a:pt x="460" y="818"/>
                </a:lnTo>
                <a:lnTo>
                  <a:pt x="460" y="862"/>
                </a:lnTo>
                <a:lnTo>
                  <a:pt x="461" y="878"/>
                </a:lnTo>
                <a:lnTo>
                  <a:pt x="460" y="891"/>
                </a:lnTo>
                <a:lnTo>
                  <a:pt x="458" y="894"/>
                </a:lnTo>
                <a:lnTo>
                  <a:pt x="455" y="895"/>
                </a:lnTo>
                <a:lnTo>
                  <a:pt x="446" y="897"/>
                </a:lnTo>
                <a:lnTo>
                  <a:pt x="432" y="898"/>
                </a:lnTo>
                <a:lnTo>
                  <a:pt x="419" y="900"/>
                </a:lnTo>
                <a:lnTo>
                  <a:pt x="393" y="900"/>
                </a:lnTo>
                <a:lnTo>
                  <a:pt x="383" y="898"/>
                </a:lnTo>
                <a:lnTo>
                  <a:pt x="368" y="84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Freeform 94"/>
          <p:cNvSpPr/>
          <p:nvPr/>
        </p:nvSpPr>
        <p:spPr>
          <a:xfrm>
            <a:off x="631800" y="2033640"/>
            <a:ext cx="2408400" cy="167940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1517" h="1058">
                <a:moveTo>
                  <a:pt x="815" y="971"/>
                </a:moveTo>
                <a:lnTo>
                  <a:pt x="815" y="971"/>
                </a:lnTo>
                <a:lnTo>
                  <a:pt x="828" y="971"/>
                </a:lnTo>
                <a:lnTo>
                  <a:pt x="842" y="974"/>
                </a:lnTo>
                <a:lnTo>
                  <a:pt x="854" y="977"/>
                </a:lnTo>
                <a:lnTo>
                  <a:pt x="861" y="980"/>
                </a:lnTo>
                <a:lnTo>
                  <a:pt x="883" y="996"/>
                </a:lnTo>
                <a:lnTo>
                  <a:pt x="893" y="1005"/>
                </a:lnTo>
                <a:lnTo>
                  <a:pt x="898" y="1007"/>
                </a:lnTo>
                <a:lnTo>
                  <a:pt x="902" y="1007"/>
                </a:lnTo>
                <a:lnTo>
                  <a:pt x="913" y="1001"/>
                </a:lnTo>
                <a:lnTo>
                  <a:pt x="917" y="1001"/>
                </a:lnTo>
                <a:lnTo>
                  <a:pt x="919" y="1001"/>
                </a:lnTo>
                <a:lnTo>
                  <a:pt x="920" y="1002"/>
                </a:lnTo>
                <a:lnTo>
                  <a:pt x="934" y="1018"/>
                </a:lnTo>
                <a:lnTo>
                  <a:pt x="947" y="1031"/>
                </a:lnTo>
                <a:lnTo>
                  <a:pt x="949" y="1033"/>
                </a:lnTo>
                <a:lnTo>
                  <a:pt x="949" y="1034"/>
                </a:lnTo>
                <a:lnTo>
                  <a:pt x="949" y="1039"/>
                </a:lnTo>
                <a:lnTo>
                  <a:pt x="950" y="1042"/>
                </a:lnTo>
                <a:lnTo>
                  <a:pt x="953" y="1045"/>
                </a:lnTo>
                <a:lnTo>
                  <a:pt x="958" y="1048"/>
                </a:lnTo>
                <a:lnTo>
                  <a:pt x="967" y="1051"/>
                </a:lnTo>
                <a:lnTo>
                  <a:pt x="967" y="1043"/>
                </a:lnTo>
                <a:lnTo>
                  <a:pt x="968" y="1037"/>
                </a:lnTo>
                <a:lnTo>
                  <a:pt x="970" y="1031"/>
                </a:lnTo>
                <a:lnTo>
                  <a:pt x="974" y="1025"/>
                </a:lnTo>
                <a:lnTo>
                  <a:pt x="982" y="1016"/>
                </a:lnTo>
                <a:lnTo>
                  <a:pt x="993" y="1007"/>
                </a:lnTo>
                <a:lnTo>
                  <a:pt x="1005" y="1001"/>
                </a:lnTo>
                <a:lnTo>
                  <a:pt x="1017" y="996"/>
                </a:lnTo>
                <a:lnTo>
                  <a:pt x="1039" y="992"/>
                </a:lnTo>
                <a:lnTo>
                  <a:pt x="1051" y="989"/>
                </a:lnTo>
                <a:lnTo>
                  <a:pt x="1060" y="987"/>
                </a:lnTo>
                <a:lnTo>
                  <a:pt x="1077" y="989"/>
                </a:lnTo>
                <a:lnTo>
                  <a:pt x="1088" y="990"/>
                </a:lnTo>
                <a:lnTo>
                  <a:pt x="1097" y="992"/>
                </a:lnTo>
                <a:lnTo>
                  <a:pt x="1103" y="992"/>
                </a:lnTo>
                <a:lnTo>
                  <a:pt x="1109" y="995"/>
                </a:lnTo>
                <a:lnTo>
                  <a:pt x="1125" y="1001"/>
                </a:lnTo>
                <a:lnTo>
                  <a:pt x="1146" y="1010"/>
                </a:lnTo>
                <a:lnTo>
                  <a:pt x="1166" y="1057"/>
                </a:lnTo>
                <a:lnTo>
                  <a:pt x="1170" y="1057"/>
                </a:lnTo>
                <a:lnTo>
                  <a:pt x="1181" y="1058"/>
                </a:lnTo>
                <a:lnTo>
                  <a:pt x="1187" y="1058"/>
                </a:lnTo>
                <a:lnTo>
                  <a:pt x="1191" y="1057"/>
                </a:lnTo>
                <a:lnTo>
                  <a:pt x="1194" y="1054"/>
                </a:lnTo>
                <a:lnTo>
                  <a:pt x="1196" y="1049"/>
                </a:lnTo>
                <a:lnTo>
                  <a:pt x="1196" y="968"/>
                </a:lnTo>
                <a:lnTo>
                  <a:pt x="1198" y="953"/>
                </a:lnTo>
                <a:lnTo>
                  <a:pt x="1204" y="935"/>
                </a:lnTo>
                <a:lnTo>
                  <a:pt x="1211" y="915"/>
                </a:lnTo>
                <a:lnTo>
                  <a:pt x="1222" y="894"/>
                </a:lnTo>
                <a:lnTo>
                  <a:pt x="1238" y="861"/>
                </a:lnTo>
                <a:lnTo>
                  <a:pt x="1246" y="846"/>
                </a:lnTo>
                <a:lnTo>
                  <a:pt x="1261" y="835"/>
                </a:lnTo>
                <a:lnTo>
                  <a:pt x="1267" y="831"/>
                </a:lnTo>
                <a:lnTo>
                  <a:pt x="1271" y="829"/>
                </a:lnTo>
                <a:lnTo>
                  <a:pt x="1279" y="828"/>
                </a:lnTo>
                <a:lnTo>
                  <a:pt x="1282" y="829"/>
                </a:lnTo>
                <a:lnTo>
                  <a:pt x="1283" y="831"/>
                </a:lnTo>
                <a:lnTo>
                  <a:pt x="1323" y="823"/>
                </a:lnTo>
                <a:lnTo>
                  <a:pt x="1332" y="799"/>
                </a:lnTo>
                <a:lnTo>
                  <a:pt x="1345" y="766"/>
                </a:lnTo>
                <a:lnTo>
                  <a:pt x="1350" y="755"/>
                </a:lnTo>
                <a:lnTo>
                  <a:pt x="1356" y="745"/>
                </a:lnTo>
                <a:lnTo>
                  <a:pt x="1365" y="731"/>
                </a:lnTo>
                <a:lnTo>
                  <a:pt x="1381" y="718"/>
                </a:lnTo>
                <a:lnTo>
                  <a:pt x="1396" y="709"/>
                </a:lnTo>
                <a:lnTo>
                  <a:pt x="1404" y="706"/>
                </a:lnTo>
                <a:lnTo>
                  <a:pt x="1410" y="704"/>
                </a:lnTo>
                <a:lnTo>
                  <a:pt x="1413" y="704"/>
                </a:lnTo>
                <a:lnTo>
                  <a:pt x="1416" y="703"/>
                </a:lnTo>
                <a:lnTo>
                  <a:pt x="1419" y="698"/>
                </a:lnTo>
                <a:lnTo>
                  <a:pt x="1424" y="691"/>
                </a:lnTo>
                <a:lnTo>
                  <a:pt x="1425" y="683"/>
                </a:lnTo>
                <a:lnTo>
                  <a:pt x="1428" y="669"/>
                </a:lnTo>
                <a:lnTo>
                  <a:pt x="1430" y="662"/>
                </a:lnTo>
                <a:lnTo>
                  <a:pt x="1383" y="662"/>
                </a:lnTo>
                <a:lnTo>
                  <a:pt x="1357" y="654"/>
                </a:lnTo>
                <a:lnTo>
                  <a:pt x="1374" y="635"/>
                </a:lnTo>
                <a:lnTo>
                  <a:pt x="1389" y="620"/>
                </a:lnTo>
                <a:lnTo>
                  <a:pt x="1396" y="614"/>
                </a:lnTo>
                <a:lnTo>
                  <a:pt x="1402" y="609"/>
                </a:lnTo>
                <a:lnTo>
                  <a:pt x="1410" y="606"/>
                </a:lnTo>
                <a:lnTo>
                  <a:pt x="1421" y="605"/>
                </a:lnTo>
                <a:lnTo>
                  <a:pt x="1443" y="602"/>
                </a:lnTo>
                <a:lnTo>
                  <a:pt x="1472" y="602"/>
                </a:lnTo>
                <a:lnTo>
                  <a:pt x="1517" y="562"/>
                </a:lnTo>
                <a:lnTo>
                  <a:pt x="1502" y="519"/>
                </a:lnTo>
                <a:lnTo>
                  <a:pt x="1491" y="484"/>
                </a:lnTo>
                <a:lnTo>
                  <a:pt x="1488" y="469"/>
                </a:lnTo>
                <a:lnTo>
                  <a:pt x="1487" y="460"/>
                </a:lnTo>
                <a:lnTo>
                  <a:pt x="1485" y="455"/>
                </a:lnTo>
                <a:lnTo>
                  <a:pt x="1484" y="451"/>
                </a:lnTo>
                <a:lnTo>
                  <a:pt x="1476" y="437"/>
                </a:lnTo>
                <a:lnTo>
                  <a:pt x="1464" y="424"/>
                </a:lnTo>
                <a:lnTo>
                  <a:pt x="1452" y="409"/>
                </a:lnTo>
                <a:lnTo>
                  <a:pt x="1428" y="383"/>
                </a:lnTo>
                <a:lnTo>
                  <a:pt x="1418" y="371"/>
                </a:lnTo>
                <a:lnTo>
                  <a:pt x="1410" y="418"/>
                </a:lnTo>
                <a:lnTo>
                  <a:pt x="1402" y="415"/>
                </a:lnTo>
                <a:lnTo>
                  <a:pt x="1386" y="409"/>
                </a:lnTo>
                <a:lnTo>
                  <a:pt x="1377" y="404"/>
                </a:lnTo>
                <a:lnTo>
                  <a:pt x="1368" y="398"/>
                </a:lnTo>
                <a:lnTo>
                  <a:pt x="1362" y="391"/>
                </a:lnTo>
                <a:lnTo>
                  <a:pt x="1357" y="383"/>
                </a:lnTo>
                <a:lnTo>
                  <a:pt x="1353" y="374"/>
                </a:lnTo>
                <a:lnTo>
                  <a:pt x="1347" y="364"/>
                </a:lnTo>
                <a:lnTo>
                  <a:pt x="1339" y="354"/>
                </a:lnTo>
                <a:lnTo>
                  <a:pt x="1330" y="344"/>
                </a:lnTo>
                <a:lnTo>
                  <a:pt x="1320" y="333"/>
                </a:lnTo>
                <a:lnTo>
                  <a:pt x="1308" y="323"/>
                </a:lnTo>
                <a:lnTo>
                  <a:pt x="1294" y="314"/>
                </a:lnTo>
                <a:lnTo>
                  <a:pt x="1280" y="306"/>
                </a:lnTo>
                <a:lnTo>
                  <a:pt x="1273" y="305"/>
                </a:lnTo>
                <a:lnTo>
                  <a:pt x="1267" y="305"/>
                </a:lnTo>
                <a:lnTo>
                  <a:pt x="1261" y="308"/>
                </a:lnTo>
                <a:lnTo>
                  <a:pt x="1256" y="312"/>
                </a:lnTo>
                <a:lnTo>
                  <a:pt x="1250" y="318"/>
                </a:lnTo>
                <a:lnTo>
                  <a:pt x="1246" y="324"/>
                </a:lnTo>
                <a:lnTo>
                  <a:pt x="1240" y="341"/>
                </a:lnTo>
                <a:lnTo>
                  <a:pt x="1234" y="359"/>
                </a:lnTo>
                <a:lnTo>
                  <a:pt x="1229" y="376"/>
                </a:lnTo>
                <a:lnTo>
                  <a:pt x="1226" y="391"/>
                </a:lnTo>
                <a:lnTo>
                  <a:pt x="1226" y="433"/>
                </a:lnTo>
                <a:lnTo>
                  <a:pt x="1223" y="505"/>
                </a:lnTo>
                <a:lnTo>
                  <a:pt x="1208" y="555"/>
                </a:lnTo>
                <a:lnTo>
                  <a:pt x="1188" y="559"/>
                </a:lnTo>
                <a:lnTo>
                  <a:pt x="1166" y="513"/>
                </a:lnTo>
                <a:lnTo>
                  <a:pt x="1154" y="508"/>
                </a:lnTo>
                <a:lnTo>
                  <a:pt x="1127" y="495"/>
                </a:lnTo>
                <a:lnTo>
                  <a:pt x="1113" y="486"/>
                </a:lnTo>
                <a:lnTo>
                  <a:pt x="1101" y="478"/>
                </a:lnTo>
                <a:lnTo>
                  <a:pt x="1092" y="471"/>
                </a:lnTo>
                <a:lnTo>
                  <a:pt x="1091" y="466"/>
                </a:lnTo>
                <a:lnTo>
                  <a:pt x="1089" y="463"/>
                </a:lnTo>
                <a:lnTo>
                  <a:pt x="1089" y="460"/>
                </a:lnTo>
                <a:lnTo>
                  <a:pt x="1086" y="457"/>
                </a:lnTo>
                <a:lnTo>
                  <a:pt x="1080" y="449"/>
                </a:lnTo>
                <a:lnTo>
                  <a:pt x="1062" y="431"/>
                </a:lnTo>
                <a:lnTo>
                  <a:pt x="1053" y="421"/>
                </a:lnTo>
                <a:lnTo>
                  <a:pt x="1044" y="412"/>
                </a:lnTo>
                <a:lnTo>
                  <a:pt x="1038" y="401"/>
                </a:lnTo>
                <a:lnTo>
                  <a:pt x="1036" y="395"/>
                </a:lnTo>
                <a:lnTo>
                  <a:pt x="1035" y="391"/>
                </a:lnTo>
                <a:lnTo>
                  <a:pt x="1035" y="386"/>
                </a:lnTo>
                <a:lnTo>
                  <a:pt x="1033" y="383"/>
                </a:lnTo>
                <a:lnTo>
                  <a:pt x="1032" y="382"/>
                </a:lnTo>
                <a:lnTo>
                  <a:pt x="1030" y="380"/>
                </a:lnTo>
                <a:lnTo>
                  <a:pt x="1024" y="380"/>
                </a:lnTo>
                <a:lnTo>
                  <a:pt x="1018" y="382"/>
                </a:lnTo>
                <a:lnTo>
                  <a:pt x="1012" y="385"/>
                </a:lnTo>
                <a:lnTo>
                  <a:pt x="1006" y="386"/>
                </a:lnTo>
                <a:lnTo>
                  <a:pt x="1005" y="385"/>
                </a:lnTo>
                <a:lnTo>
                  <a:pt x="1003" y="385"/>
                </a:lnTo>
                <a:lnTo>
                  <a:pt x="1002" y="382"/>
                </a:lnTo>
                <a:lnTo>
                  <a:pt x="1002" y="379"/>
                </a:lnTo>
                <a:lnTo>
                  <a:pt x="1002" y="371"/>
                </a:lnTo>
                <a:lnTo>
                  <a:pt x="1005" y="364"/>
                </a:lnTo>
                <a:lnTo>
                  <a:pt x="1011" y="347"/>
                </a:lnTo>
                <a:lnTo>
                  <a:pt x="1017" y="332"/>
                </a:lnTo>
                <a:lnTo>
                  <a:pt x="1020" y="324"/>
                </a:lnTo>
                <a:lnTo>
                  <a:pt x="1020" y="318"/>
                </a:lnTo>
                <a:lnTo>
                  <a:pt x="1021" y="306"/>
                </a:lnTo>
                <a:lnTo>
                  <a:pt x="1023" y="300"/>
                </a:lnTo>
                <a:lnTo>
                  <a:pt x="1024" y="294"/>
                </a:lnTo>
                <a:lnTo>
                  <a:pt x="1029" y="288"/>
                </a:lnTo>
                <a:lnTo>
                  <a:pt x="1033" y="282"/>
                </a:lnTo>
                <a:lnTo>
                  <a:pt x="1039" y="276"/>
                </a:lnTo>
                <a:lnTo>
                  <a:pt x="1047" y="272"/>
                </a:lnTo>
                <a:lnTo>
                  <a:pt x="1065" y="264"/>
                </a:lnTo>
                <a:lnTo>
                  <a:pt x="1084" y="257"/>
                </a:lnTo>
                <a:lnTo>
                  <a:pt x="1104" y="249"/>
                </a:lnTo>
                <a:lnTo>
                  <a:pt x="1062" y="214"/>
                </a:lnTo>
                <a:lnTo>
                  <a:pt x="1112" y="207"/>
                </a:lnTo>
                <a:lnTo>
                  <a:pt x="1118" y="205"/>
                </a:lnTo>
                <a:lnTo>
                  <a:pt x="1124" y="201"/>
                </a:lnTo>
                <a:lnTo>
                  <a:pt x="1131" y="195"/>
                </a:lnTo>
                <a:lnTo>
                  <a:pt x="1142" y="186"/>
                </a:lnTo>
                <a:lnTo>
                  <a:pt x="1152" y="172"/>
                </a:lnTo>
                <a:lnTo>
                  <a:pt x="1164" y="154"/>
                </a:lnTo>
                <a:lnTo>
                  <a:pt x="1176" y="130"/>
                </a:lnTo>
                <a:lnTo>
                  <a:pt x="1182" y="119"/>
                </a:lnTo>
                <a:lnTo>
                  <a:pt x="1185" y="109"/>
                </a:lnTo>
                <a:lnTo>
                  <a:pt x="1187" y="100"/>
                </a:lnTo>
                <a:lnTo>
                  <a:pt x="1187" y="92"/>
                </a:lnTo>
                <a:lnTo>
                  <a:pt x="1185" y="86"/>
                </a:lnTo>
                <a:lnTo>
                  <a:pt x="1184" y="82"/>
                </a:lnTo>
                <a:lnTo>
                  <a:pt x="1181" y="79"/>
                </a:lnTo>
                <a:lnTo>
                  <a:pt x="1176" y="76"/>
                </a:lnTo>
                <a:lnTo>
                  <a:pt x="1167" y="73"/>
                </a:lnTo>
                <a:lnTo>
                  <a:pt x="1160" y="73"/>
                </a:lnTo>
                <a:lnTo>
                  <a:pt x="1151" y="73"/>
                </a:lnTo>
                <a:lnTo>
                  <a:pt x="1149" y="77"/>
                </a:lnTo>
                <a:lnTo>
                  <a:pt x="1143" y="89"/>
                </a:lnTo>
                <a:lnTo>
                  <a:pt x="1134" y="104"/>
                </a:lnTo>
                <a:lnTo>
                  <a:pt x="1127" y="112"/>
                </a:lnTo>
                <a:lnTo>
                  <a:pt x="1119" y="119"/>
                </a:lnTo>
                <a:lnTo>
                  <a:pt x="1115" y="122"/>
                </a:lnTo>
                <a:lnTo>
                  <a:pt x="1110" y="124"/>
                </a:lnTo>
                <a:lnTo>
                  <a:pt x="1104" y="125"/>
                </a:lnTo>
                <a:lnTo>
                  <a:pt x="1100" y="125"/>
                </a:lnTo>
                <a:lnTo>
                  <a:pt x="1088" y="122"/>
                </a:lnTo>
                <a:lnTo>
                  <a:pt x="1077" y="119"/>
                </a:lnTo>
                <a:lnTo>
                  <a:pt x="1066" y="113"/>
                </a:lnTo>
                <a:lnTo>
                  <a:pt x="1059" y="109"/>
                </a:lnTo>
                <a:lnTo>
                  <a:pt x="1051" y="104"/>
                </a:lnTo>
                <a:lnTo>
                  <a:pt x="1047" y="94"/>
                </a:lnTo>
                <a:lnTo>
                  <a:pt x="1039" y="70"/>
                </a:lnTo>
                <a:lnTo>
                  <a:pt x="1035" y="56"/>
                </a:lnTo>
                <a:lnTo>
                  <a:pt x="1030" y="46"/>
                </a:lnTo>
                <a:lnTo>
                  <a:pt x="1024" y="38"/>
                </a:lnTo>
                <a:lnTo>
                  <a:pt x="1023" y="37"/>
                </a:lnTo>
                <a:lnTo>
                  <a:pt x="1020" y="35"/>
                </a:lnTo>
                <a:lnTo>
                  <a:pt x="1017" y="34"/>
                </a:lnTo>
                <a:lnTo>
                  <a:pt x="1014" y="29"/>
                </a:lnTo>
                <a:lnTo>
                  <a:pt x="1011" y="25"/>
                </a:lnTo>
                <a:lnTo>
                  <a:pt x="1011" y="18"/>
                </a:lnTo>
                <a:lnTo>
                  <a:pt x="1009" y="6"/>
                </a:lnTo>
                <a:lnTo>
                  <a:pt x="1009" y="0"/>
                </a:lnTo>
                <a:lnTo>
                  <a:pt x="982" y="0"/>
                </a:lnTo>
                <a:lnTo>
                  <a:pt x="970" y="20"/>
                </a:lnTo>
                <a:lnTo>
                  <a:pt x="962" y="43"/>
                </a:lnTo>
                <a:lnTo>
                  <a:pt x="964" y="47"/>
                </a:lnTo>
                <a:lnTo>
                  <a:pt x="971" y="58"/>
                </a:lnTo>
                <a:lnTo>
                  <a:pt x="976" y="65"/>
                </a:lnTo>
                <a:lnTo>
                  <a:pt x="984" y="71"/>
                </a:lnTo>
                <a:lnTo>
                  <a:pt x="993" y="79"/>
                </a:lnTo>
                <a:lnTo>
                  <a:pt x="1005" y="85"/>
                </a:lnTo>
                <a:lnTo>
                  <a:pt x="1011" y="88"/>
                </a:lnTo>
                <a:lnTo>
                  <a:pt x="1015" y="91"/>
                </a:lnTo>
                <a:lnTo>
                  <a:pt x="1017" y="94"/>
                </a:lnTo>
                <a:lnTo>
                  <a:pt x="1018" y="98"/>
                </a:lnTo>
                <a:lnTo>
                  <a:pt x="1020" y="101"/>
                </a:lnTo>
                <a:lnTo>
                  <a:pt x="1018" y="104"/>
                </a:lnTo>
                <a:lnTo>
                  <a:pt x="1015" y="112"/>
                </a:lnTo>
                <a:lnTo>
                  <a:pt x="1011" y="118"/>
                </a:lnTo>
                <a:lnTo>
                  <a:pt x="1006" y="122"/>
                </a:lnTo>
                <a:lnTo>
                  <a:pt x="1002" y="127"/>
                </a:lnTo>
                <a:lnTo>
                  <a:pt x="974" y="127"/>
                </a:lnTo>
                <a:lnTo>
                  <a:pt x="952" y="127"/>
                </a:lnTo>
                <a:lnTo>
                  <a:pt x="922" y="127"/>
                </a:lnTo>
                <a:lnTo>
                  <a:pt x="896" y="125"/>
                </a:lnTo>
                <a:lnTo>
                  <a:pt x="875" y="122"/>
                </a:lnTo>
                <a:lnTo>
                  <a:pt x="858" y="122"/>
                </a:lnTo>
                <a:lnTo>
                  <a:pt x="845" y="124"/>
                </a:lnTo>
                <a:lnTo>
                  <a:pt x="836" y="125"/>
                </a:lnTo>
                <a:lnTo>
                  <a:pt x="833" y="127"/>
                </a:lnTo>
                <a:lnTo>
                  <a:pt x="825" y="147"/>
                </a:lnTo>
                <a:lnTo>
                  <a:pt x="798" y="147"/>
                </a:lnTo>
                <a:lnTo>
                  <a:pt x="748" y="147"/>
                </a:lnTo>
                <a:lnTo>
                  <a:pt x="744" y="145"/>
                </a:lnTo>
                <a:lnTo>
                  <a:pt x="739" y="141"/>
                </a:lnTo>
                <a:lnTo>
                  <a:pt x="736" y="135"/>
                </a:lnTo>
                <a:lnTo>
                  <a:pt x="735" y="128"/>
                </a:lnTo>
                <a:lnTo>
                  <a:pt x="733" y="116"/>
                </a:lnTo>
                <a:lnTo>
                  <a:pt x="733" y="112"/>
                </a:lnTo>
                <a:lnTo>
                  <a:pt x="730" y="107"/>
                </a:lnTo>
                <a:lnTo>
                  <a:pt x="724" y="98"/>
                </a:lnTo>
                <a:lnTo>
                  <a:pt x="718" y="94"/>
                </a:lnTo>
                <a:lnTo>
                  <a:pt x="712" y="88"/>
                </a:lnTo>
                <a:lnTo>
                  <a:pt x="705" y="82"/>
                </a:lnTo>
                <a:lnTo>
                  <a:pt x="694" y="77"/>
                </a:lnTo>
                <a:lnTo>
                  <a:pt x="685" y="74"/>
                </a:lnTo>
                <a:lnTo>
                  <a:pt x="676" y="73"/>
                </a:lnTo>
                <a:lnTo>
                  <a:pt x="667" y="73"/>
                </a:lnTo>
                <a:lnTo>
                  <a:pt x="658" y="73"/>
                </a:lnTo>
                <a:lnTo>
                  <a:pt x="644" y="76"/>
                </a:lnTo>
                <a:lnTo>
                  <a:pt x="634" y="77"/>
                </a:lnTo>
                <a:lnTo>
                  <a:pt x="620" y="74"/>
                </a:lnTo>
                <a:lnTo>
                  <a:pt x="601" y="67"/>
                </a:lnTo>
                <a:lnTo>
                  <a:pt x="590" y="62"/>
                </a:lnTo>
                <a:lnTo>
                  <a:pt x="581" y="56"/>
                </a:lnTo>
                <a:lnTo>
                  <a:pt x="572" y="50"/>
                </a:lnTo>
                <a:lnTo>
                  <a:pt x="565" y="43"/>
                </a:lnTo>
                <a:lnTo>
                  <a:pt x="559" y="37"/>
                </a:lnTo>
                <a:lnTo>
                  <a:pt x="550" y="34"/>
                </a:lnTo>
                <a:lnTo>
                  <a:pt x="541" y="34"/>
                </a:lnTo>
                <a:lnTo>
                  <a:pt x="533" y="34"/>
                </a:lnTo>
                <a:lnTo>
                  <a:pt x="518" y="37"/>
                </a:lnTo>
                <a:lnTo>
                  <a:pt x="512" y="40"/>
                </a:lnTo>
                <a:lnTo>
                  <a:pt x="462" y="85"/>
                </a:lnTo>
                <a:lnTo>
                  <a:pt x="412" y="97"/>
                </a:lnTo>
                <a:lnTo>
                  <a:pt x="381" y="77"/>
                </a:lnTo>
                <a:lnTo>
                  <a:pt x="343" y="55"/>
                </a:lnTo>
                <a:lnTo>
                  <a:pt x="308" y="40"/>
                </a:lnTo>
                <a:lnTo>
                  <a:pt x="259" y="40"/>
                </a:lnTo>
                <a:lnTo>
                  <a:pt x="194" y="35"/>
                </a:lnTo>
                <a:lnTo>
                  <a:pt x="152" y="5"/>
                </a:lnTo>
                <a:lnTo>
                  <a:pt x="90" y="35"/>
                </a:lnTo>
                <a:lnTo>
                  <a:pt x="82" y="80"/>
                </a:lnTo>
                <a:lnTo>
                  <a:pt x="18" y="92"/>
                </a:lnTo>
                <a:lnTo>
                  <a:pt x="0" y="119"/>
                </a:lnTo>
                <a:lnTo>
                  <a:pt x="25" y="154"/>
                </a:lnTo>
                <a:lnTo>
                  <a:pt x="72" y="189"/>
                </a:lnTo>
                <a:lnTo>
                  <a:pt x="18" y="196"/>
                </a:lnTo>
                <a:lnTo>
                  <a:pt x="33" y="241"/>
                </a:lnTo>
                <a:lnTo>
                  <a:pt x="79" y="241"/>
                </a:lnTo>
                <a:lnTo>
                  <a:pt x="75" y="284"/>
                </a:lnTo>
                <a:lnTo>
                  <a:pt x="30" y="329"/>
                </a:lnTo>
                <a:lnTo>
                  <a:pt x="30" y="361"/>
                </a:lnTo>
                <a:lnTo>
                  <a:pt x="64" y="388"/>
                </a:lnTo>
                <a:lnTo>
                  <a:pt x="90" y="403"/>
                </a:lnTo>
                <a:lnTo>
                  <a:pt x="114" y="403"/>
                </a:lnTo>
                <a:lnTo>
                  <a:pt x="97" y="433"/>
                </a:lnTo>
                <a:lnTo>
                  <a:pt x="102" y="471"/>
                </a:lnTo>
                <a:lnTo>
                  <a:pt x="147" y="471"/>
                </a:lnTo>
                <a:lnTo>
                  <a:pt x="167" y="437"/>
                </a:lnTo>
                <a:lnTo>
                  <a:pt x="209" y="391"/>
                </a:lnTo>
                <a:lnTo>
                  <a:pt x="229" y="361"/>
                </a:lnTo>
                <a:lnTo>
                  <a:pt x="256" y="371"/>
                </a:lnTo>
                <a:lnTo>
                  <a:pt x="289" y="368"/>
                </a:lnTo>
                <a:lnTo>
                  <a:pt x="324" y="368"/>
                </a:lnTo>
                <a:lnTo>
                  <a:pt x="346" y="395"/>
                </a:lnTo>
                <a:lnTo>
                  <a:pt x="393" y="395"/>
                </a:lnTo>
                <a:lnTo>
                  <a:pt x="427" y="406"/>
                </a:lnTo>
                <a:lnTo>
                  <a:pt x="488" y="463"/>
                </a:lnTo>
                <a:lnTo>
                  <a:pt x="530" y="520"/>
                </a:lnTo>
                <a:lnTo>
                  <a:pt x="542" y="570"/>
                </a:lnTo>
                <a:lnTo>
                  <a:pt x="592" y="632"/>
                </a:lnTo>
                <a:lnTo>
                  <a:pt x="599" y="674"/>
                </a:lnTo>
                <a:lnTo>
                  <a:pt x="599" y="719"/>
                </a:lnTo>
                <a:lnTo>
                  <a:pt x="607" y="727"/>
                </a:lnTo>
                <a:lnTo>
                  <a:pt x="613" y="734"/>
                </a:lnTo>
                <a:lnTo>
                  <a:pt x="619" y="745"/>
                </a:lnTo>
                <a:lnTo>
                  <a:pt x="625" y="758"/>
                </a:lnTo>
                <a:lnTo>
                  <a:pt x="626" y="766"/>
                </a:lnTo>
                <a:lnTo>
                  <a:pt x="626" y="775"/>
                </a:lnTo>
                <a:lnTo>
                  <a:pt x="626" y="784"/>
                </a:lnTo>
                <a:lnTo>
                  <a:pt x="625" y="793"/>
                </a:lnTo>
                <a:lnTo>
                  <a:pt x="623" y="804"/>
                </a:lnTo>
                <a:lnTo>
                  <a:pt x="619" y="816"/>
                </a:lnTo>
                <a:lnTo>
                  <a:pt x="614" y="826"/>
                </a:lnTo>
                <a:lnTo>
                  <a:pt x="611" y="835"/>
                </a:lnTo>
                <a:lnTo>
                  <a:pt x="611" y="843"/>
                </a:lnTo>
                <a:lnTo>
                  <a:pt x="611" y="849"/>
                </a:lnTo>
                <a:lnTo>
                  <a:pt x="611" y="853"/>
                </a:lnTo>
                <a:lnTo>
                  <a:pt x="614" y="856"/>
                </a:lnTo>
                <a:lnTo>
                  <a:pt x="620" y="862"/>
                </a:lnTo>
                <a:lnTo>
                  <a:pt x="634" y="871"/>
                </a:lnTo>
                <a:lnTo>
                  <a:pt x="640" y="876"/>
                </a:lnTo>
                <a:lnTo>
                  <a:pt x="641" y="880"/>
                </a:lnTo>
                <a:lnTo>
                  <a:pt x="641" y="885"/>
                </a:lnTo>
                <a:lnTo>
                  <a:pt x="643" y="889"/>
                </a:lnTo>
                <a:lnTo>
                  <a:pt x="644" y="895"/>
                </a:lnTo>
                <a:lnTo>
                  <a:pt x="655" y="912"/>
                </a:lnTo>
                <a:lnTo>
                  <a:pt x="670" y="933"/>
                </a:lnTo>
                <a:lnTo>
                  <a:pt x="687" y="956"/>
                </a:lnTo>
                <a:lnTo>
                  <a:pt x="717" y="957"/>
                </a:lnTo>
                <a:lnTo>
                  <a:pt x="727" y="959"/>
                </a:lnTo>
                <a:lnTo>
                  <a:pt x="736" y="960"/>
                </a:lnTo>
                <a:lnTo>
                  <a:pt x="745" y="965"/>
                </a:lnTo>
                <a:lnTo>
                  <a:pt x="754" y="966"/>
                </a:lnTo>
                <a:lnTo>
                  <a:pt x="777" y="969"/>
                </a:lnTo>
                <a:lnTo>
                  <a:pt x="798" y="971"/>
                </a:lnTo>
                <a:lnTo>
                  <a:pt x="815" y="97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Freeform 96"/>
          <p:cNvSpPr/>
          <p:nvPr/>
        </p:nvSpPr>
        <p:spPr>
          <a:xfrm>
            <a:off x="2984400" y="2995560"/>
            <a:ext cx="196920" cy="120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4" h="76">
                <a:moveTo>
                  <a:pt x="12" y="76"/>
                </a:moveTo>
                <a:lnTo>
                  <a:pt x="0" y="49"/>
                </a:lnTo>
                <a:lnTo>
                  <a:pt x="8" y="19"/>
                </a:lnTo>
                <a:lnTo>
                  <a:pt x="58" y="0"/>
                </a:lnTo>
                <a:lnTo>
                  <a:pt x="124" y="19"/>
                </a:lnTo>
                <a:lnTo>
                  <a:pt x="112" y="54"/>
                </a:lnTo>
                <a:lnTo>
                  <a:pt x="62" y="54"/>
                </a:lnTo>
                <a:lnTo>
                  <a:pt x="56" y="58"/>
                </a:lnTo>
                <a:lnTo>
                  <a:pt x="42" y="66"/>
                </a:lnTo>
                <a:lnTo>
                  <a:pt x="35" y="70"/>
                </a:lnTo>
                <a:lnTo>
                  <a:pt x="26" y="75"/>
                </a:lnTo>
                <a:lnTo>
                  <a:pt x="18" y="76"/>
                </a:lnTo>
                <a:lnTo>
                  <a:pt x="12" y="76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Freeform 97"/>
          <p:cNvSpPr/>
          <p:nvPr/>
        </p:nvSpPr>
        <p:spPr>
          <a:xfrm>
            <a:off x="2365200" y="1892160"/>
            <a:ext cx="567000" cy="671760"/>
          </a:xfrm>
          <a:custGeom>
            <a:avLst/>
            <a:gdLst>
              <a:gd name="textAreaLeft" fmla="*/ 0 w 567000"/>
              <a:gd name="textAreaRight" fmla="*/ 567360 w 56700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357" h="423">
                <a:moveTo>
                  <a:pt x="261" y="423"/>
                </a:moveTo>
                <a:lnTo>
                  <a:pt x="234" y="389"/>
                </a:lnTo>
                <a:lnTo>
                  <a:pt x="231" y="362"/>
                </a:lnTo>
                <a:lnTo>
                  <a:pt x="181" y="339"/>
                </a:lnTo>
                <a:lnTo>
                  <a:pt x="142" y="301"/>
                </a:lnTo>
                <a:lnTo>
                  <a:pt x="131" y="279"/>
                </a:lnTo>
                <a:lnTo>
                  <a:pt x="173" y="262"/>
                </a:lnTo>
                <a:lnTo>
                  <a:pt x="188" y="205"/>
                </a:lnTo>
                <a:lnTo>
                  <a:pt x="176" y="140"/>
                </a:lnTo>
                <a:lnTo>
                  <a:pt x="104" y="148"/>
                </a:lnTo>
                <a:lnTo>
                  <a:pt x="47" y="125"/>
                </a:lnTo>
                <a:lnTo>
                  <a:pt x="0" y="68"/>
                </a:lnTo>
                <a:lnTo>
                  <a:pt x="24" y="26"/>
                </a:lnTo>
                <a:lnTo>
                  <a:pt x="62" y="95"/>
                </a:lnTo>
                <a:lnTo>
                  <a:pt x="60" y="92"/>
                </a:lnTo>
                <a:lnTo>
                  <a:pt x="59" y="84"/>
                </a:lnTo>
                <a:lnTo>
                  <a:pt x="59" y="81"/>
                </a:lnTo>
                <a:lnTo>
                  <a:pt x="60" y="78"/>
                </a:lnTo>
                <a:lnTo>
                  <a:pt x="62" y="77"/>
                </a:lnTo>
                <a:lnTo>
                  <a:pt x="66" y="75"/>
                </a:lnTo>
                <a:lnTo>
                  <a:pt x="68" y="75"/>
                </a:lnTo>
                <a:lnTo>
                  <a:pt x="69" y="72"/>
                </a:lnTo>
                <a:lnTo>
                  <a:pt x="69" y="65"/>
                </a:lnTo>
                <a:lnTo>
                  <a:pt x="68" y="54"/>
                </a:lnTo>
                <a:lnTo>
                  <a:pt x="66" y="42"/>
                </a:lnTo>
                <a:lnTo>
                  <a:pt x="60" y="21"/>
                </a:lnTo>
                <a:lnTo>
                  <a:pt x="59" y="11"/>
                </a:lnTo>
                <a:lnTo>
                  <a:pt x="63" y="8"/>
                </a:lnTo>
                <a:lnTo>
                  <a:pt x="74" y="3"/>
                </a:lnTo>
                <a:lnTo>
                  <a:pt x="80" y="1"/>
                </a:lnTo>
                <a:lnTo>
                  <a:pt x="86" y="0"/>
                </a:lnTo>
                <a:lnTo>
                  <a:pt x="90" y="3"/>
                </a:lnTo>
                <a:lnTo>
                  <a:pt x="92" y="6"/>
                </a:lnTo>
                <a:lnTo>
                  <a:pt x="93" y="14"/>
                </a:lnTo>
                <a:lnTo>
                  <a:pt x="93" y="23"/>
                </a:lnTo>
                <a:lnTo>
                  <a:pt x="92" y="41"/>
                </a:lnTo>
                <a:lnTo>
                  <a:pt x="93" y="50"/>
                </a:lnTo>
                <a:lnTo>
                  <a:pt x="98" y="57"/>
                </a:lnTo>
                <a:lnTo>
                  <a:pt x="101" y="60"/>
                </a:lnTo>
                <a:lnTo>
                  <a:pt x="106" y="62"/>
                </a:lnTo>
                <a:lnTo>
                  <a:pt x="110" y="63"/>
                </a:lnTo>
                <a:lnTo>
                  <a:pt x="116" y="63"/>
                </a:lnTo>
                <a:lnTo>
                  <a:pt x="127" y="63"/>
                </a:lnTo>
                <a:lnTo>
                  <a:pt x="137" y="62"/>
                </a:lnTo>
                <a:lnTo>
                  <a:pt x="145" y="59"/>
                </a:lnTo>
                <a:lnTo>
                  <a:pt x="151" y="56"/>
                </a:lnTo>
                <a:lnTo>
                  <a:pt x="160" y="51"/>
                </a:lnTo>
                <a:lnTo>
                  <a:pt x="161" y="48"/>
                </a:lnTo>
                <a:lnTo>
                  <a:pt x="246" y="71"/>
                </a:lnTo>
                <a:lnTo>
                  <a:pt x="250" y="77"/>
                </a:lnTo>
                <a:lnTo>
                  <a:pt x="261" y="89"/>
                </a:lnTo>
                <a:lnTo>
                  <a:pt x="267" y="98"/>
                </a:lnTo>
                <a:lnTo>
                  <a:pt x="271" y="107"/>
                </a:lnTo>
                <a:lnTo>
                  <a:pt x="274" y="118"/>
                </a:lnTo>
                <a:lnTo>
                  <a:pt x="276" y="130"/>
                </a:lnTo>
                <a:lnTo>
                  <a:pt x="279" y="181"/>
                </a:lnTo>
                <a:lnTo>
                  <a:pt x="280" y="209"/>
                </a:lnTo>
                <a:lnTo>
                  <a:pt x="338" y="220"/>
                </a:lnTo>
                <a:lnTo>
                  <a:pt x="357" y="286"/>
                </a:lnTo>
                <a:lnTo>
                  <a:pt x="326" y="294"/>
                </a:lnTo>
                <a:lnTo>
                  <a:pt x="307" y="279"/>
                </a:lnTo>
                <a:lnTo>
                  <a:pt x="280" y="267"/>
                </a:lnTo>
                <a:lnTo>
                  <a:pt x="280" y="274"/>
                </a:lnTo>
                <a:lnTo>
                  <a:pt x="280" y="291"/>
                </a:lnTo>
                <a:lnTo>
                  <a:pt x="282" y="298"/>
                </a:lnTo>
                <a:lnTo>
                  <a:pt x="283" y="307"/>
                </a:lnTo>
                <a:lnTo>
                  <a:pt x="286" y="313"/>
                </a:lnTo>
                <a:lnTo>
                  <a:pt x="289" y="315"/>
                </a:lnTo>
                <a:lnTo>
                  <a:pt x="291" y="316"/>
                </a:lnTo>
                <a:lnTo>
                  <a:pt x="301" y="318"/>
                </a:lnTo>
                <a:lnTo>
                  <a:pt x="304" y="319"/>
                </a:lnTo>
                <a:lnTo>
                  <a:pt x="307" y="322"/>
                </a:lnTo>
                <a:lnTo>
                  <a:pt x="309" y="325"/>
                </a:lnTo>
                <a:lnTo>
                  <a:pt x="310" y="331"/>
                </a:lnTo>
                <a:lnTo>
                  <a:pt x="310" y="351"/>
                </a:lnTo>
                <a:lnTo>
                  <a:pt x="310" y="363"/>
                </a:lnTo>
                <a:lnTo>
                  <a:pt x="307" y="372"/>
                </a:lnTo>
                <a:lnTo>
                  <a:pt x="304" y="380"/>
                </a:lnTo>
                <a:lnTo>
                  <a:pt x="301" y="384"/>
                </a:lnTo>
                <a:lnTo>
                  <a:pt x="294" y="392"/>
                </a:lnTo>
                <a:lnTo>
                  <a:pt x="291" y="393"/>
                </a:lnTo>
                <a:lnTo>
                  <a:pt x="291" y="423"/>
                </a:lnTo>
                <a:lnTo>
                  <a:pt x="261" y="423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Freeform 98"/>
          <p:cNvSpPr/>
          <p:nvPr/>
        </p:nvSpPr>
        <p:spPr>
          <a:xfrm>
            <a:off x="2676600" y="1198440"/>
            <a:ext cx="1245960" cy="1428840"/>
          </a:xfrm>
          <a:custGeom>
            <a:avLst/>
            <a:gdLst>
              <a:gd name="textAreaLeft" fmla="*/ 0 w 1245960"/>
              <a:gd name="textAreaRight" fmla="*/ 1246320 w 124596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785" h="900">
                <a:moveTo>
                  <a:pt x="368" y="848"/>
                </a:moveTo>
                <a:lnTo>
                  <a:pt x="328" y="781"/>
                </a:lnTo>
                <a:lnTo>
                  <a:pt x="291" y="731"/>
                </a:lnTo>
                <a:lnTo>
                  <a:pt x="291" y="646"/>
                </a:lnTo>
                <a:lnTo>
                  <a:pt x="294" y="567"/>
                </a:lnTo>
                <a:lnTo>
                  <a:pt x="294" y="508"/>
                </a:lnTo>
                <a:lnTo>
                  <a:pt x="256" y="535"/>
                </a:lnTo>
                <a:lnTo>
                  <a:pt x="256" y="478"/>
                </a:lnTo>
                <a:lnTo>
                  <a:pt x="229" y="378"/>
                </a:lnTo>
                <a:lnTo>
                  <a:pt x="199" y="318"/>
                </a:lnTo>
                <a:lnTo>
                  <a:pt x="126" y="301"/>
                </a:lnTo>
                <a:lnTo>
                  <a:pt x="62" y="268"/>
                </a:lnTo>
                <a:lnTo>
                  <a:pt x="23" y="241"/>
                </a:lnTo>
                <a:lnTo>
                  <a:pt x="62" y="229"/>
                </a:lnTo>
                <a:lnTo>
                  <a:pt x="0" y="191"/>
                </a:lnTo>
                <a:lnTo>
                  <a:pt x="0" y="184"/>
                </a:lnTo>
                <a:lnTo>
                  <a:pt x="1" y="176"/>
                </a:lnTo>
                <a:lnTo>
                  <a:pt x="3" y="169"/>
                </a:lnTo>
                <a:lnTo>
                  <a:pt x="7" y="160"/>
                </a:lnTo>
                <a:lnTo>
                  <a:pt x="12" y="152"/>
                </a:lnTo>
                <a:lnTo>
                  <a:pt x="16" y="149"/>
                </a:lnTo>
                <a:lnTo>
                  <a:pt x="21" y="148"/>
                </a:lnTo>
                <a:lnTo>
                  <a:pt x="26" y="146"/>
                </a:lnTo>
                <a:lnTo>
                  <a:pt x="30" y="145"/>
                </a:lnTo>
                <a:lnTo>
                  <a:pt x="44" y="145"/>
                </a:lnTo>
                <a:lnTo>
                  <a:pt x="62" y="142"/>
                </a:lnTo>
                <a:lnTo>
                  <a:pt x="99" y="134"/>
                </a:lnTo>
                <a:lnTo>
                  <a:pt x="145" y="122"/>
                </a:lnTo>
                <a:lnTo>
                  <a:pt x="166" y="101"/>
                </a:lnTo>
                <a:lnTo>
                  <a:pt x="182" y="83"/>
                </a:lnTo>
                <a:lnTo>
                  <a:pt x="194" y="72"/>
                </a:lnTo>
                <a:lnTo>
                  <a:pt x="205" y="63"/>
                </a:lnTo>
                <a:lnTo>
                  <a:pt x="218" y="53"/>
                </a:lnTo>
                <a:lnTo>
                  <a:pt x="226" y="47"/>
                </a:lnTo>
                <a:lnTo>
                  <a:pt x="235" y="42"/>
                </a:lnTo>
                <a:lnTo>
                  <a:pt x="246" y="39"/>
                </a:lnTo>
                <a:lnTo>
                  <a:pt x="256" y="38"/>
                </a:lnTo>
                <a:lnTo>
                  <a:pt x="267" y="38"/>
                </a:lnTo>
                <a:lnTo>
                  <a:pt x="279" y="36"/>
                </a:lnTo>
                <a:lnTo>
                  <a:pt x="298" y="32"/>
                </a:lnTo>
                <a:lnTo>
                  <a:pt x="316" y="29"/>
                </a:lnTo>
                <a:lnTo>
                  <a:pt x="333" y="27"/>
                </a:lnTo>
                <a:lnTo>
                  <a:pt x="340" y="29"/>
                </a:lnTo>
                <a:lnTo>
                  <a:pt x="350" y="33"/>
                </a:lnTo>
                <a:lnTo>
                  <a:pt x="371" y="45"/>
                </a:lnTo>
                <a:lnTo>
                  <a:pt x="389" y="59"/>
                </a:lnTo>
                <a:lnTo>
                  <a:pt x="396" y="63"/>
                </a:lnTo>
                <a:lnTo>
                  <a:pt x="401" y="65"/>
                </a:lnTo>
                <a:lnTo>
                  <a:pt x="413" y="63"/>
                </a:lnTo>
                <a:lnTo>
                  <a:pt x="428" y="62"/>
                </a:lnTo>
                <a:lnTo>
                  <a:pt x="435" y="59"/>
                </a:lnTo>
                <a:lnTo>
                  <a:pt x="443" y="56"/>
                </a:lnTo>
                <a:lnTo>
                  <a:pt x="450" y="51"/>
                </a:lnTo>
                <a:lnTo>
                  <a:pt x="455" y="45"/>
                </a:lnTo>
                <a:lnTo>
                  <a:pt x="461" y="41"/>
                </a:lnTo>
                <a:lnTo>
                  <a:pt x="470" y="35"/>
                </a:lnTo>
                <a:lnTo>
                  <a:pt x="482" y="30"/>
                </a:lnTo>
                <a:lnTo>
                  <a:pt x="494" y="27"/>
                </a:lnTo>
                <a:lnTo>
                  <a:pt x="520" y="21"/>
                </a:lnTo>
                <a:lnTo>
                  <a:pt x="539" y="20"/>
                </a:lnTo>
                <a:lnTo>
                  <a:pt x="557" y="17"/>
                </a:lnTo>
                <a:lnTo>
                  <a:pt x="582" y="12"/>
                </a:lnTo>
                <a:lnTo>
                  <a:pt x="624" y="3"/>
                </a:lnTo>
                <a:lnTo>
                  <a:pt x="643" y="0"/>
                </a:lnTo>
                <a:lnTo>
                  <a:pt x="655" y="0"/>
                </a:lnTo>
                <a:lnTo>
                  <a:pt x="669" y="0"/>
                </a:lnTo>
                <a:lnTo>
                  <a:pt x="681" y="0"/>
                </a:lnTo>
                <a:lnTo>
                  <a:pt x="692" y="3"/>
                </a:lnTo>
                <a:lnTo>
                  <a:pt x="696" y="5"/>
                </a:lnTo>
                <a:lnTo>
                  <a:pt x="699" y="8"/>
                </a:lnTo>
                <a:lnTo>
                  <a:pt x="702" y="11"/>
                </a:lnTo>
                <a:lnTo>
                  <a:pt x="704" y="15"/>
                </a:lnTo>
                <a:lnTo>
                  <a:pt x="704" y="23"/>
                </a:lnTo>
                <a:lnTo>
                  <a:pt x="704" y="29"/>
                </a:lnTo>
                <a:lnTo>
                  <a:pt x="702" y="35"/>
                </a:lnTo>
                <a:lnTo>
                  <a:pt x="702" y="42"/>
                </a:lnTo>
                <a:lnTo>
                  <a:pt x="704" y="51"/>
                </a:lnTo>
                <a:lnTo>
                  <a:pt x="710" y="63"/>
                </a:lnTo>
                <a:lnTo>
                  <a:pt x="719" y="80"/>
                </a:lnTo>
                <a:lnTo>
                  <a:pt x="734" y="102"/>
                </a:lnTo>
                <a:lnTo>
                  <a:pt x="752" y="128"/>
                </a:lnTo>
                <a:lnTo>
                  <a:pt x="765" y="152"/>
                </a:lnTo>
                <a:lnTo>
                  <a:pt x="776" y="175"/>
                </a:lnTo>
                <a:lnTo>
                  <a:pt x="782" y="194"/>
                </a:lnTo>
                <a:lnTo>
                  <a:pt x="785" y="209"/>
                </a:lnTo>
                <a:lnTo>
                  <a:pt x="785" y="217"/>
                </a:lnTo>
                <a:lnTo>
                  <a:pt x="785" y="223"/>
                </a:lnTo>
                <a:lnTo>
                  <a:pt x="783" y="228"/>
                </a:lnTo>
                <a:lnTo>
                  <a:pt x="780" y="231"/>
                </a:lnTo>
                <a:lnTo>
                  <a:pt x="777" y="232"/>
                </a:lnTo>
                <a:lnTo>
                  <a:pt x="773" y="234"/>
                </a:lnTo>
                <a:lnTo>
                  <a:pt x="755" y="234"/>
                </a:lnTo>
                <a:lnTo>
                  <a:pt x="749" y="235"/>
                </a:lnTo>
                <a:lnTo>
                  <a:pt x="743" y="238"/>
                </a:lnTo>
                <a:lnTo>
                  <a:pt x="740" y="246"/>
                </a:lnTo>
                <a:lnTo>
                  <a:pt x="737" y="258"/>
                </a:lnTo>
                <a:lnTo>
                  <a:pt x="735" y="274"/>
                </a:lnTo>
                <a:lnTo>
                  <a:pt x="734" y="298"/>
                </a:lnTo>
                <a:lnTo>
                  <a:pt x="734" y="470"/>
                </a:lnTo>
                <a:lnTo>
                  <a:pt x="735" y="506"/>
                </a:lnTo>
                <a:lnTo>
                  <a:pt x="735" y="529"/>
                </a:lnTo>
                <a:lnTo>
                  <a:pt x="734" y="550"/>
                </a:lnTo>
                <a:lnTo>
                  <a:pt x="732" y="570"/>
                </a:lnTo>
                <a:lnTo>
                  <a:pt x="728" y="588"/>
                </a:lnTo>
                <a:lnTo>
                  <a:pt x="725" y="594"/>
                </a:lnTo>
                <a:lnTo>
                  <a:pt x="722" y="598"/>
                </a:lnTo>
                <a:lnTo>
                  <a:pt x="717" y="603"/>
                </a:lnTo>
                <a:lnTo>
                  <a:pt x="711" y="604"/>
                </a:lnTo>
                <a:lnTo>
                  <a:pt x="687" y="607"/>
                </a:lnTo>
                <a:lnTo>
                  <a:pt x="660" y="612"/>
                </a:lnTo>
                <a:lnTo>
                  <a:pt x="648" y="616"/>
                </a:lnTo>
                <a:lnTo>
                  <a:pt x="636" y="621"/>
                </a:lnTo>
                <a:lnTo>
                  <a:pt x="625" y="627"/>
                </a:lnTo>
                <a:lnTo>
                  <a:pt x="616" y="634"/>
                </a:lnTo>
                <a:lnTo>
                  <a:pt x="606" y="643"/>
                </a:lnTo>
                <a:lnTo>
                  <a:pt x="595" y="649"/>
                </a:lnTo>
                <a:lnTo>
                  <a:pt x="574" y="663"/>
                </a:lnTo>
                <a:lnTo>
                  <a:pt x="554" y="674"/>
                </a:lnTo>
                <a:lnTo>
                  <a:pt x="547" y="680"/>
                </a:lnTo>
                <a:lnTo>
                  <a:pt x="542" y="684"/>
                </a:lnTo>
                <a:lnTo>
                  <a:pt x="535" y="704"/>
                </a:lnTo>
                <a:lnTo>
                  <a:pt x="532" y="711"/>
                </a:lnTo>
                <a:lnTo>
                  <a:pt x="527" y="711"/>
                </a:lnTo>
                <a:lnTo>
                  <a:pt x="517" y="711"/>
                </a:lnTo>
                <a:lnTo>
                  <a:pt x="511" y="713"/>
                </a:lnTo>
                <a:lnTo>
                  <a:pt x="506" y="716"/>
                </a:lnTo>
                <a:lnTo>
                  <a:pt x="500" y="720"/>
                </a:lnTo>
                <a:lnTo>
                  <a:pt x="497" y="726"/>
                </a:lnTo>
                <a:lnTo>
                  <a:pt x="488" y="744"/>
                </a:lnTo>
                <a:lnTo>
                  <a:pt x="475" y="768"/>
                </a:lnTo>
                <a:lnTo>
                  <a:pt x="469" y="781"/>
                </a:lnTo>
                <a:lnTo>
                  <a:pt x="464" y="794"/>
                </a:lnTo>
                <a:lnTo>
                  <a:pt x="460" y="806"/>
                </a:lnTo>
                <a:lnTo>
                  <a:pt x="460" y="818"/>
                </a:lnTo>
                <a:lnTo>
                  <a:pt x="460" y="862"/>
                </a:lnTo>
                <a:lnTo>
                  <a:pt x="461" y="878"/>
                </a:lnTo>
                <a:lnTo>
                  <a:pt x="460" y="891"/>
                </a:lnTo>
                <a:lnTo>
                  <a:pt x="458" y="894"/>
                </a:lnTo>
                <a:lnTo>
                  <a:pt x="455" y="895"/>
                </a:lnTo>
                <a:lnTo>
                  <a:pt x="446" y="897"/>
                </a:lnTo>
                <a:lnTo>
                  <a:pt x="432" y="898"/>
                </a:lnTo>
                <a:lnTo>
                  <a:pt x="419" y="900"/>
                </a:lnTo>
                <a:lnTo>
                  <a:pt x="393" y="900"/>
                </a:lnTo>
                <a:lnTo>
                  <a:pt x="383" y="898"/>
                </a:lnTo>
                <a:lnTo>
                  <a:pt x="368" y="848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Freeform 99"/>
          <p:cNvSpPr/>
          <p:nvPr/>
        </p:nvSpPr>
        <p:spPr>
          <a:xfrm>
            <a:off x="631800" y="2035080"/>
            <a:ext cx="2408400" cy="167976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1517" h="1058">
                <a:moveTo>
                  <a:pt x="815" y="971"/>
                </a:moveTo>
                <a:lnTo>
                  <a:pt x="815" y="971"/>
                </a:lnTo>
                <a:lnTo>
                  <a:pt x="828" y="971"/>
                </a:lnTo>
                <a:lnTo>
                  <a:pt x="842" y="974"/>
                </a:lnTo>
                <a:lnTo>
                  <a:pt x="854" y="977"/>
                </a:lnTo>
                <a:lnTo>
                  <a:pt x="861" y="980"/>
                </a:lnTo>
                <a:lnTo>
                  <a:pt x="883" y="996"/>
                </a:lnTo>
                <a:lnTo>
                  <a:pt x="893" y="1005"/>
                </a:lnTo>
                <a:lnTo>
                  <a:pt x="898" y="1007"/>
                </a:lnTo>
                <a:lnTo>
                  <a:pt x="902" y="1007"/>
                </a:lnTo>
                <a:lnTo>
                  <a:pt x="913" y="1001"/>
                </a:lnTo>
                <a:lnTo>
                  <a:pt x="917" y="1001"/>
                </a:lnTo>
                <a:lnTo>
                  <a:pt x="919" y="1001"/>
                </a:lnTo>
                <a:lnTo>
                  <a:pt x="920" y="1002"/>
                </a:lnTo>
                <a:lnTo>
                  <a:pt x="934" y="1018"/>
                </a:lnTo>
                <a:lnTo>
                  <a:pt x="947" y="1031"/>
                </a:lnTo>
                <a:lnTo>
                  <a:pt x="949" y="1033"/>
                </a:lnTo>
                <a:lnTo>
                  <a:pt x="949" y="1034"/>
                </a:lnTo>
                <a:lnTo>
                  <a:pt x="949" y="1039"/>
                </a:lnTo>
                <a:lnTo>
                  <a:pt x="950" y="1042"/>
                </a:lnTo>
                <a:lnTo>
                  <a:pt x="953" y="1045"/>
                </a:lnTo>
                <a:lnTo>
                  <a:pt x="958" y="1048"/>
                </a:lnTo>
                <a:lnTo>
                  <a:pt x="967" y="1051"/>
                </a:lnTo>
                <a:lnTo>
                  <a:pt x="967" y="1043"/>
                </a:lnTo>
                <a:lnTo>
                  <a:pt x="968" y="1037"/>
                </a:lnTo>
                <a:lnTo>
                  <a:pt x="970" y="1031"/>
                </a:lnTo>
                <a:lnTo>
                  <a:pt x="974" y="1025"/>
                </a:lnTo>
                <a:lnTo>
                  <a:pt x="982" y="1016"/>
                </a:lnTo>
                <a:lnTo>
                  <a:pt x="993" y="1007"/>
                </a:lnTo>
                <a:lnTo>
                  <a:pt x="1005" y="1001"/>
                </a:lnTo>
                <a:lnTo>
                  <a:pt x="1017" y="996"/>
                </a:lnTo>
                <a:lnTo>
                  <a:pt x="1039" y="992"/>
                </a:lnTo>
                <a:lnTo>
                  <a:pt x="1051" y="989"/>
                </a:lnTo>
                <a:lnTo>
                  <a:pt x="1060" y="987"/>
                </a:lnTo>
                <a:lnTo>
                  <a:pt x="1077" y="989"/>
                </a:lnTo>
                <a:lnTo>
                  <a:pt x="1088" y="990"/>
                </a:lnTo>
                <a:lnTo>
                  <a:pt x="1097" y="992"/>
                </a:lnTo>
                <a:lnTo>
                  <a:pt x="1103" y="992"/>
                </a:lnTo>
                <a:lnTo>
                  <a:pt x="1109" y="995"/>
                </a:lnTo>
                <a:lnTo>
                  <a:pt x="1125" y="1001"/>
                </a:lnTo>
                <a:lnTo>
                  <a:pt x="1146" y="1010"/>
                </a:lnTo>
                <a:lnTo>
                  <a:pt x="1166" y="1057"/>
                </a:lnTo>
                <a:lnTo>
                  <a:pt x="1170" y="1057"/>
                </a:lnTo>
                <a:lnTo>
                  <a:pt x="1181" y="1058"/>
                </a:lnTo>
                <a:lnTo>
                  <a:pt x="1187" y="1058"/>
                </a:lnTo>
                <a:lnTo>
                  <a:pt x="1191" y="1057"/>
                </a:lnTo>
                <a:lnTo>
                  <a:pt x="1194" y="1054"/>
                </a:lnTo>
                <a:lnTo>
                  <a:pt x="1196" y="1049"/>
                </a:lnTo>
                <a:lnTo>
                  <a:pt x="1196" y="968"/>
                </a:lnTo>
                <a:lnTo>
                  <a:pt x="1198" y="953"/>
                </a:lnTo>
                <a:lnTo>
                  <a:pt x="1204" y="935"/>
                </a:lnTo>
                <a:lnTo>
                  <a:pt x="1211" y="915"/>
                </a:lnTo>
                <a:lnTo>
                  <a:pt x="1222" y="894"/>
                </a:lnTo>
                <a:lnTo>
                  <a:pt x="1238" y="861"/>
                </a:lnTo>
                <a:lnTo>
                  <a:pt x="1246" y="846"/>
                </a:lnTo>
                <a:lnTo>
                  <a:pt x="1261" y="835"/>
                </a:lnTo>
                <a:lnTo>
                  <a:pt x="1267" y="831"/>
                </a:lnTo>
                <a:lnTo>
                  <a:pt x="1271" y="829"/>
                </a:lnTo>
                <a:lnTo>
                  <a:pt x="1279" y="828"/>
                </a:lnTo>
                <a:lnTo>
                  <a:pt x="1282" y="829"/>
                </a:lnTo>
                <a:lnTo>
                  <a:pt x="1283" y="831"/>
                </a:lnTo>
                <a:lnTo>
                  <a:pt x="1323" y="823"/>
                </a:lnTo>
                <a:lnTo>
                  <a:pt x="1332" y="799"/>
                </a:lnTo>
                <a:lnTo>
                  <a:pt x="1345" y="766"/>
                </a:lnTo>
                <a:lnTo>
                  <a:pt x="1350" y="755"/>
                </a:lnTo>
                <a:lnTo>
                  <a:pt x="1356" y="745"/>
                </a:lnTo>
                <a:lnTo>
                  <a:pt x="1365" y="731"/>
                </a:lnTo>
                <a:lnTo>
                  <a:pt x="1381" y="718"/>
                </a:lnTo>
                <a:lnTo>
                  <a:pt x="1396" y="709"/>
                </a:lnTo>
                <a:lnTo>
                  <a:pt x="1404" y="706"/>
                </a:lnTo>
                <a:lnTo>
                  <a:pt x="1410" y="704"/>
                </a:lnTo>
                <a:lnTo>
                  <a:pt x="1413" y="704"/>
                </a:lnTo>
                <a:lnTo>
                  <a:pt x="1416" y="703"/>
                </a:lnTo>
                <a:lnTo>
                  <a:pt x="1419" y="698"/>
                </a:lnTo>
                <a:lnTo>
                  <a:pt x="1424" y="691"/>
                </a:lnTo>
                <a:lnTo>
                  <a:pt x="1425" y="683"/>
                </a:lnTo>
                <a:lnTo>
                  <a:pt x="1428" y="669"/>
                </a:lnTo>
                <a:lnTo>
                  <a:pt x="1430" y="662"/>
                </a:lnTo>
                <a:lnTo>
                  <a:pt x="1383" y="662"/>
                </a:lnTo>
                <a:lnTo>
                  <a:pt x="1357" y="654"/>
                </a:lnTo>
                <a:lnTo>
                  <a:pt x="1374" y="635"/>
                </a:lnTo>
                <a:lnTo>
                  <a:pt x="1389" y="620"/>
                </a:lnTo>
                <a:lnTo>
                  <a:pt x="1396" y="614"/>
                </a:lnTo>
                <a:lnTo>
                  <a:pt x="1402" y="609"/>
                </a:lnTo>
                <a:lnTo>
                  <a:pt x="1410" y="606"/>
                </a:lnTo>
                <a:lnTo>
                  <a:pt x="1421" y="605"/>
                </a:lnTo>
                <a:lnTo>
                  <a:pt x="1443" y="602"/>
                </a:lnTo>
                <a:lnTo>
                  <a:pt x="1472" y="602"/>
                </a:lnTo>
                <a:lnTo>
                  <a:pt x="1517" y="562"/>
                </a:lnTo>
                <a:lnTo>
                  <a:pt x="1502" y="519"/>
                </a:lnTo>
                <a:lnTo>
                  <a:pt x="1491" y="484"/>
                </a:lnTo>
                <a:lnTo>
                  <a:pt x="1488" y="469"/>
                </a:lnTo>
                <a:lnTo>
                  <a:pt x="1487" y="460"/>
                </a:lnTo>
                <a:lnTo>
                  <a:pt x="1485" y="455"/>
                </a:lnTo>
                <a:lnTo>
                  <a:pt x="1484" y="451"/>
                </a:lnTo>
                <a:lnTo>
                  <a:pt x="1476" y="437"/>
                </a:lnTo>
                <a:lnTo>
                  <a:pt x="1464" y="424"/>
                </a:lnTo>
                <a:lnTo>
                  <a:pt x="1452" y="409"/>
                </a:lnTo>
                <a:lnTo>
                  <a:pt x="1428" y="383"/>
                </a:lnTo>
                <a:lnTo>
                  <a:pt x="1418" y="371"/>
                </a:lnTo>
                <a:lnTo>
                  <a:pt x="1410" y="418"/>
                </a:lnTo>
                <a:lnTo>
                  <a:pt x="1402" y="415"/>
                </a:lnTo>
                <a:lnTo>
                  <a:pt x="1386" y="409"/>
                </a:lnTo>
                <a:lnTo>
                  <a:pt x="1377" y="404"/>
                </a:lnTo>
                <a:lnTo>
                  <a:pt x="1368" y="398"/>
                </a:lnTo>
                <a:lnTo>
                  <a:pt x="1362" y="391"/>
                </a:lnTo>
                <a:lnTo>
                  <a:pt x="1357" y="383"/>
                </a:lnTo>
                <a:lnTo>
                  <a:pt x="1353" y="374"/>
                </a:lnTo>
                <a:lnTo>
                  <a:pt x="1347" y="364"/>
                </a:lnTo>
                <a:lnTo>
                  <a:pt x="1339" y="354"/>
                </a:lnTo>
                <a:lnTo>
                  <a:pt x="1330" y="344"/>
                </a:lnTo>
                <a:lnTo>
                  <a:pt x="1320" y="333"/>
                </a:lnTo>
                <a:lnTo>
                  <a:pt x="1308" y="323"/>
                </a:lnTo>
                <a:lnTo>
                  <a:pt x="1294" y="314"/>
                </a:lnTo>
                <a:lnTo>
                  <a:pt x="1280" y="306"/>
                </a:lnTo>
                <a:lnTo>
                  <a:pt x="1273" y="305"/>
                </a:lnTo>
                <a:lnTo>
                  <a:pt x="1267" y="305"/>
                </a:lnTo>
                <a:lnTo>
                  <a:pt x="1261" y="308"/>
                </a:lnTo>
                <a:lnTo>
                  <a:pt x="1256" y="312"/>
                </a:lnTo>
                <a:lnTo>
                  <a:pt x="1250" y="318"/>
                </a:lnTo>
                <a:lnTo>
                  <a:pt x="1246" y="324"/>
                </a:lnTo>
                <a:lnTo>
                  <a:pt x="1240" y="341"/>
                </a:lnTo>
                <a:lnTo>
                  <a:pt x="1234" y="359"/>
                </a:lnTo>
                <a:lnTo>
                  <a:pt x="1229" y="376"/>
                </a:lnTo>
                <a:lnTo>
                  <a:pt x="1226" y="391"/>
                </a:lnTo>
                <a:lnTo>
                  <a:pt x="1226" y="433"/>
                </a:lnTo>
                <a:lnTo>
                  <a:pt x="1223" y="505"/>
                </a:lnTo>
                <a:lnTo>
                  <a:pt x="1208" y="555"/>
                </a:lnTo>
                <a:lnTo>
                  <a:pt x="1188" y="559"/>
                </a:lnTo>
                <a:lnTo>
                  <a:pt x="1166" y="513"/>
                </a:lnTo>
                <a:lnTo>
                  <a:pt x="1154" y="508"/>
                </a:lnTo>
                <a:lnTo>
                  <a:pt x="1127" y="495"/>
                </a:lnTo>
                <a:lnTo>
                  <a:pt x="1113" y="486"/>
                </a:lnTo>
                <a:lnTo>
                  <a:pt x="1101" y="478"/>
                </a:lnTo>
                <a:lnTo>
                  <a:pt x="1092" y="471"/>
                </a:lnTo>
                <a:lnTo>
                  <a:pt x="1091" y="466"/>
                </a:lnTo>
                <a:lnTo>
                  <a:pt x="1089" y="463"/>
                </a:lnTo>
                <a:lnTo>
                  <a:pt x="1089" y="460"/>
                </a:lnTo>
                <a:lnTo>
                  <a:pt x="1086" y="457"/>
                </a:lnTo>
                <a:lnTo>
                  <a:pt x="1080" y="449"/>
                </a:lnTo>
                <a:lnTo>
                  <a:pt x="1062" y="431"/>
                </a:lnTo>
                <a:lnTo>
                  <a:pt x="1053" y="421"/>
                </a:lnTo>
                <a:lnTo>
                  <a:pt x="1044" y="412"/>
                </a:lnTo>
                <a:lnTo>
                  <a:pt x="1038" y="401"/>
                </a:lnTo>
                <a:lnTo>
                  <a:pt x="1036" y="395"/>
                </a:lnTo>
                <a:lnTo>
                  <a:pt x="1035" y="391"/>
                </a:lnTo>
                <a:lnTo>
                  <a:pt x="1035" y="386"/>
                </a:lnTo>
                <a:lnTo>
                  <a:pt x="1033" y="383"/>
                </a:lnTo>
                <a:lnTo>
                  <a:pt x="1032" y="382"/>
                </a:lnTo>
                <a:lnTo>
                  <a:pt x="1030" y="380"/>
                </a:lnTo>
                <a:lnTo>
                  <a:pt x="1024" y="380"/>
                </a:lnTo>
                <a:lnTo>
                  <a:pt x="1018" y="382"/>
                </a:lnTo>
                <a:lnTo>
                  <a:pt x="1012" y="385"/>
                </a:lnTo>
                <a:lnTo>
                  <a:pt x="1006" y="386"/>
                </a:lnTo>
                <a:lnTo>
                  <a:pt x="1005" y="385"/>
                </a:lnTo>
                <a:lnTo>
                  <a:pt x="1003" y="385"/>
                </a:lnTo>
                <a:lnTo>
                  <a:pt x="1002" y="382"/>
                </a:lnTo>
                <a:lnTo>
                  <a:pt x="1002" y="379"/>
                </a:lnTo>
                <a:lnTo>
                  <a:pt x="1002" y="371"/>
                </a:lnTo>
                <a:lnTo>
                  <a:pt x="1005" y="364"/>
                </a:lnTo>
                <a:lnTo>
                  <a:pt x="1011" y="347"/>
                </a:lnTo>
                <a:lnTo>
                  <a:pt x="1017" y="332"/>
                </a:lnTo>
                <a:lnTo>
                  <a:pt x="1020" y="324"/>
                </a:lnTo>
                <a:lnTo>
                  <a:pt x="1020" y="318"/>
                </a:lnTo>
                <a:lnTo>
                  <a:pt x="1021" y="306"/>
                </a:lnTo>
                <a:lnTo>
                  <a:pt x="1023" y="300"/>
                </a:lnTo>
                <a:lnTo>
                  <a:pt x="1024" y="294"/>
                </a:lnTo>
                <a:lnTo>
                  <a:pt x="1029" y="288"/>
                </a:lnTo>
                <a:lnTo>
                  <a:pt x="1033" y="282"/>
                </a:lnTo>
                <a:lnTo>
                  <a:pt x="1039" y="276"/>
                </a:lnTo>
                <a:lnTo>
                  <a:pt x="1047" y="272"/>
                </a:lnTo>
                <a:lnTo>
                  <a:pt x="1065" y="264"/>
                </a:lnTo>
                <a:lnTo>
                  <a:pt x="1084" y="257"/>
                </a:lnTo>
                <a:lnTo>
                  <a:pt x="1104" y="249"/>
                </a:lnTo>
                <a:lnTo>
                  <a:pt x="1062" y="214"/>
                </a:lnTo>
                <a:lnTo>
                  <a:pt x="1112" y="207"/>
                </a:lnTo>
                <a:lnTo>
                  <a:pt x="1118" y="205"/>
                </a:lnTo>
                <a:lnTo>
                  <a:pt x="1124" y="201"/>
                </a:lnTo>
                <a:lnTo>
                  <a:pt x="1131" y="195"/>
                </a:lnTo>
                <a:lnTo>
                  <a:pt x="1142" y="186"/>
                </a:lnTo>
                <a:lnTo>
                  <a:pt x="1152" y="172"/>
                </a:lnTo>
                <a:lnTo>
                  <a:pt x="1164" y="154"/>
                </a:lnTo>
                <a:lnTo>
                  <a:pt x="1176" y="130"/>
                </a:lnTo>
                <a:lnTo>
                  <a:pt x="1182" y="119"/>
                </a:lnTo>
                <a:lnTo>
                  <a:pt x="1185" y="109"/>
                </a:lnTo>
                <a:lnTo>
                  <a:pt x="1187" y="100"/>
                </a:lnTo>
                <a:lnTo>
                  <a:pt x="1187" y="92"/>
                </a:lnTo>
                <a:lnTo>
                  <a:pt x="1185" y="86"/>
                </a:lnTo>
                <a:lnTo>
                  <a:pt x="1184" y="82"/>
                </a:lnTo>
                <a:lnTo>
                  <a:pt x="1181" y="79"/>
                </a:lnTo>
                <a:lnTo>
                  <a:pt x="1176" y="76"/>
                </a:lnTo>
                <a:lnTo>
                  <a:pt x="1167" y="73"/>
                </a:lnTo>
                <a:lnTo>
                  <a:pt x="1160" y="73"/>
                </a:lnTo>
                <a:lnTo>
                  <a:pt x="1151" y="73"/>
                </a:lnTo>
                <a:lnTo>
                  <a:pt x="1149" y="77"/>
                </a:lnTo>
                <a:lnTo>
                  <a:pt x="1143" y="89"/>
                </a:lnTo>
                <a:lnTo>
                  <a:pt x="1134" y="104"/>
                </a:lnTo>
                <a:lnTo>
                  <a:pt x="1127" y="112"/>
                </a:lnTo>
                <a:lnTo>
                  <a:pt x="1119" y="119"/>
                </a:lnTo>
                <a:lnTo>
                  <a:pt x="1115" y="122"/>
                </a:lnTo>
                <a:lnTo>
                  <a:pt x="1110" y="124"/>
                </a:lnTo>
                <a:lnTo>
                  <a:pt x="1104" y="125"/>
                </a:lnTo>
                <a:lnTo>
                  <a:pt x="1100" y="125"/>
                </a:lnTo>
                <a:lnTo>
                  <a:pt x="1088" y="122"/>
                </a:lnTo>
                <a:lnTo>
                  <a:pt x="1077" y="119"/>
                </a:lnTo>
                <a:lnTo>
                  <a:pt x="1066" y="113"/>
                </a:lnTo>
                <a:lnTo>
                  <a:pt x="1059" y="109"/>
                </a:lnTo>
                <a:lnTo>
                  <a:pt x="1051" y="104"/>
                </a:lnTo>
                <a:lnTo>
                  <a:pt x="1047" y="94"/>
                </a:lnTo>
                <a:lnTo>
                  <a:pt x="1039" y="70"/>
                </a:lnTo>
                <a:lnTo>
                  <a:pt x="1035" y="56"/>
                </a:lnTo>
                <a:lnTo>
                  <a:pt x="1030" y="46"/>
                </a:lnTo>
                <a:lnTo>
                  <a:pt x="1024" y="38"/>
                </a:lnTo>
                <a:lnTo>
                  <a:pt x="1023" y="37"/>
                </a:lnTo>
                <a:lnTo>
                  <a:pt x="1020" y="35"/>
                </a:lnTo>
                <a:lnTo>
                  <a:pt x="1017" y="34"/>
                </a:lnTo>
                <a:lnTo>
                  <a:pt x="1014" y="29"/>
                </a:lnTo>
                <a:lnTo>
                  <a:pt x="1011" y="25"/>
                </a:lnTo>
                <a:lnTo>
                  <a:pt x="1011" y="18"/>
                </a:lnTo>
                <a:lnTo>
                  <a:pt x="1009" y="6"/>
                </a:lnTo>
                <a:lnTo>
                  <a:pt x="1009" y="0"/>
                </a:lnTo>
                <a:lnTo>
                  <a:pt x="982" y="0"/>
                </a:lnTo>
                <a:lnTo>
                  <a:pt x="970" y="20"/>
                </a:lnTo>
                <a:lnTo>
                  <a:pt x="962" y="43"/>
                </a:lnTo>
                <a:lnTo>
                  <a:pt x="964" y="47"/>
                </a:lnTo>
                <a:lnTo>
                  <a:pt x="971" y="58"/>
                </a:lnTo>
                <a:lnTo>
                  <a:pt x="976" y="65"/>
                </a:lnTo>
                <a:lnTo>
                  <a:pt x="984" y="71"/>
                </a:lnTo>
                <a:lnTo>
                  <a:pt x="993" y="79"/>
                </a:lnTo>
                <a:lnTo>
                  <a:pt x="1005" y="85"/>
                </a:lnTo>
                <a:lnTo>
                  <a:pt x="1011" y="88"/>
                </a:lnTo>
                <a:lnTo>
                  <a:pt x="1015" y="91"/>
                </a:lnTo>
                <a:lnTo>
                  <a:pt x="1017" y="94"/>
                </a:lnTo>
                <a:lnTo>
                  <a:pt x="1018" y="98"/>
                </a:lnTo>
                <a:lnTo>
                  <a:pt x="1020" y="101"/>
                </a:lnTo>
                <a:lnTo>
                  <a:pt x="1018" y="104"/>
                </a:lnTo>
                <a:lnTo>
                  <a:pt x="1015" y="112"/>
                </a:lnTo>
                <a:lnTo>
                  <a:pt x="1011" y="118"/>
                </a:lnTo>
                <a:lnTo>
                  <a:pt x="1006" y="122"/>
                </a:lnTo>
                <a:lnTo>
                  <a:pt x="1002" y="127"/>
                </a:lnTo>
                <a:lnTo>
                  <a:pt x="974" y="127"/>
                </a:lnTo>
                <a:lnTo>
                  <a:pt x="952" y="127"/>
                </a:lnTo>
                <a:lnTo>
                  <a:pt x="922" y="127"/>
                </a:lnTo>
                <a:lnTo>
                  <a:pt x="896" y="125"/>
                </a:lnTo>
                <a:lnTo>
                  <a:pt x="875" y="122"/>
                </a:lnTo>
                <a:lnTo>
                  <a:pt x="858" y="122"/>
                </a:lnTo>
                <a:lnTo>
                  <a:pt x="845" y="124"/>
                </a:lnTo>
                <a:lnTo>
                  <a:pt x="836" y="125"/>
                </a:lnTo>
                <a:lnTo>
                  <a:pt x="833" y="127"/>
                </a:lnTo>
                <a:lnTo>
                  <a:pt x="825" y="147"/>
                </a:lnTo>
                <a:lnTo>
                  <a:pt x="798" y="147"/>
                </a:lnTo>
                <a:lnTo>
                  <a:pt x="748" y="147"/>
                </a:lnTo>
                <a:lnTo>
                  <a:pt x="744" y="145"/>
                </a:lnTo>
                <a:lnTo>
                  <a:pt x="739" y="141"/>
                </a:lnTo>
                <a:lnTo>
                  <a:pt x="736" y="135"/>
                </a:lnTo>
                <a:lnTo>
                  <a:pt x="735" y="128"/>
                </a:lnTo>
                <a:lnTo>
                  <a:pt x="733" y="116"/>
                </a:lnTo>
                <a:lnTo>
                  <a:pt x="733" y="112"/>
                </a:lnTo>
                <a:lnTo>
                  <a:pt x="730" y="107"/>
                </a:lnTo>
                <a:lnTo>
                  <a:pt x="724" y="98"/>
                </a:lnTo>
                <a:lnTo>
                  <a:pt x="718" y="94"/>
                </a:lnTo>
                <a:lnTo>
                  <a:pt x="712" y="88"/>
                </a:lnTo>
                <a:lnTo>
                  <a:pt x="705" y="82"/>
                </a:lnTo>
                <a:lnTo>
                  <a:pt x="694" y="77"/>
                </a:lnTo>
                <a:lnTo>
                  <a:pt x="685" y="74"/>
                </a:lnTo>
                <a:lnTo>
                  <a:pt x="676" y="73"/>
                </a:lnTo>
                <a:lnTo>
                  <a:pt x="667" y="73"/>
                </a:lnTo>
                <a:lnTo>
                  <a:pt x="658" y="73"/>
                </a:lnTo>
                <a:lnTo>
                  <a:pt x="644" y="76"/>
                </a:lnTo>
                <a:lnTo>
                  <a:pt x="634" y="77"/>
                </a:lnTo>
                <a:lnTo>
                  <a:pt x="620" y="74"/>
                </a:lnTo>
                <a:lnTo>
                  <a:pt x="601" y="67"/>
                </a:lnTo>
                <a:lnTo>
                  <a:pt x="590" y="62"/>
                </a:lnTo>
                <a:lnTo>
                  <a:pt x="581" y="56"/>
                </a:lnTo>
                <a:lnTo>
                  <a:pt x="572" y="50"/>
                </a:lnTo>
                <a:lnTo>
                  <a:pt x="565" y="43"/>
                </a:lnTo>
                <a:lnTo>
                  <a:pt x="559" y="37"/>
                </a:lnTo>
                <a:lnTo>
                  <a:pt x="550" y="34"/>
                </a:lnTo>
                <a:lnTo>
                  <a:pt x="541" y="34"/>
                </a:lnTo>
                <a:lnTo>
                  <a:pt x="533" y="34"/>
                </a:lnTo>
                <a:lnTo>
                  <a:pt x="518" y="37"/>
                </a:lnTo>
                <a:lnTo>
                  <a:pt x="512" y="40"/>
                </a:lnTo>
                <a:lnTo>
                  <a:pt x="462" y="85"/>
                </a:lnTo>
                <a:lnTo>
                  <a:pt x="412" y="97"/>
                </a:lnTo>
                <a:lnTo>
                  <a:pt x="381" y="77"/>
                </a:lnTo>
                <a:lnTo>
                  <a:pt x="343" y="55"/>
                </a:lnTo>
                <a:lnTo>
                  <a:pt x="308" y="40"/>
                </a:lnTo>
                <a:lnTo>
                  <a:pt x="259" y="40"/>
                </a:lnTo>
                <a:lnTo>
                  <a:pt x="194" y="35"/>
                </a:lnTo>
                <a:lnTo>
                  <a:pt x="152" y="5"/>
                </a:lnTo>
                <a:lnTo>
                  <a:pt x="90" y="35"/>
                </a:lnTo>
                <a:lnTo>
                  <a:pt x="82" y="80"/>
                </a:lnTo>
                <a:lnTo>
                  <a:pt x="18" y="92"/>
                </a:lnTo>
                <a:lnTo>
                  <a:pt x="0" y="119"/>
                </a:lnTo>
                <a:lnTo>
                  <a:pt x="25" y="154"/>
                </a:lnTo>
                <a:lnTo>
                  <a:pt x="72" y="189"/>
                </a:lnTo>
                <a:lnTo>
                  <a:pt x="18" y="196"/>
                </a:lnTo>
                <a:lnTo>
                  <a:pt x="33" y="241"/>
                </a:lnTo>
                <a:lnTo>
                  <a:pt x="79" y="241"/>
                </a:lnTo>
                <a:lnTo>
                  <a:pt x="75" y="284"/>
                </a:lnTo>
                <a:lnTo>
                  <a:pt x="30" y="329"/>
                </a:lnTo>
                <a:lnTo>
                  <a:pt x="30" y="361"/>
                </a:lnTo>
                <a:lnTo>
                  <a:pt x="64" y="388"/>
                </a:lnTo>
                <a:lnTo>
                  <a:pt x="90" y="403"/>
                </a:lnTo>
                <a:lnTo>
                  <a:pt x="114" y="403"/>
                </a:lnTo>
                <a:lnTo>
                  <a:pt x="97" y="433"/>
                </a:lnTo>
                <a:lnTo>
                  <a:pt x="102" y="471"/>
                </a:lnTo>
                <a:lnTo>
                  <a:pt x="147" y="471"/>
                </a:lnTo>
                <a:lnTo>
                  <a:pt x="167" y="437"/>
                </a:lnTo>
                <a:lnTo>
                  <a:pt x="209" y="391"/>
                </a:lnTo>
                <a:lnTo>
                  <a:pt x="229" y="361"/>
                </a:lnTo>
                <a:lnTo>
                  <a:pt x="256" y="371"/>
                </a:lnTo>
                <a:lnTo>
                  <a:pt x="289" y="368"/>
                </a:lnTo>
                <a:lnTo>
                  <a:pt x="324" y="368"/>
                </a:lnTo>
                <a:lnTo>
                  <a:pt x="346" y="395"/>
                </a:lnTo>
                <a:lnTo>
                  <a:pt x="393" y="395"/>
                </a:lnTo>
                <a:lnTo>
                  <a:pt x="427" y="406"/>
                </a:lnTo>
                <a:lnTo>
                  <a:pt x="488" y="463"/>
                </a:lnTo>
                <a:lnTo>
                  <a:pt x="530" y="520"/>
                </a:lnTo>
                <a:lnTo>
                  <a:pt x="542" y="570"/>
                </a:lnTo>
                <a:lnTo>
                  <a:pt x="592" y="632"/>
                </a:lnTo>
                <a:lnTo>
                  <a:pt x="599" y="674"/>
                </a:lnTo>
                <a:lnTo>
                  <a:pt x="599" y="719"/>
                </a:lnTo>
                <a:lnTo>
                  <a:pt x="607" y="727"/>
                </a:lnTo>
                <a:lnTo>
                  <a:pt x="613" y="734"/>
                </a:lnTo>
                <a:lnTo>
                  <a:pt x="619" y="745"/>
                </a:lnTo>
                <a:lnTo>
                  <a:pt x="625" y="758"/>
                </a:lnTo>
                <a:lnTo>
                  <a:pt x="626" y="766"/>
                </a:lnTo>
                <a:lnTo>
                  <a:pt x="626" y="775"/>
                </a:lnTo>
                <a:lnTo>
                  <a:pt x="626" y="784"/>
                </a:lnTo>
                <a:lnTo>
                  <a:pt x="625" y="793"/>
                </a:lnTo>
                <a:lnTo>
                  <a:pt x="623" y="804"/>
                </a:lnTo>
                <a:lnTo>
                  <a:pt x="619" y="816"/>
                </a:lnTo>
                <a:lnTo>
                  <a:pt x="614" y="826"/>
                </a:lnTo>
                <a:lnTo>
                  <a:pt x="611" y="835"/>
                </a:lnTo>
                <a:lnTo>
                  <a:pt x="611" y="843"/>
                </a:lnTo>
                <a:lnTo>
                  <a:pt x="611" y="849"/>
                </a:lnTo>
                <a:lnTo>
                  <a:pt x="611" y="853"/>
                </a:lnTo>
                <a:lnTo>
                  <a:pt x="614" y="856"/>
                </a:lnTo>
                <a:lnTo>
                  <a:pt x="620" y="862"/>
                </a:lnTo>
                <a:lnTo>
                  <a:pt x="634" y="871"/>
                </a:lnTo>
                <a:lnTo>
                  <a:pt x="640" y="876"/>
                </a:lnTo>
                <a:lnTo>
                  <a:pt x="641" y="880"/>
                </a:lnTo>
                <a:lnTo>
                  <a:pt x="641" y="885"/>
                </a:lnTo>
                <a:lnTo>
                  <a:pt x="643" y="889"/>
                </a:lnTo>
                <a:lnTo>
                  <a:pt x="644" y="895"/>
                </a:lnTo>
                <a:lnTo>
                  <a:pt x="655" y="912"/>
                </a:lnTo>
                <a:lnTo>
                  <a:pt x="670" y="933"/>
                </a:lnTo>
                <a:lnTo>
                  <a:pt x="687" y="956"/>
                </a:lnTo>
                <a:lnTo>
                  <a:pt x="717" y="957"/>
                </a:lnTo>
                <a:lnTo>
                  <a:pt x="727" y="959"/>
                </a:lnTo>
                <a:lnTo>
                  <a:pt x="736" y="960"/>
                </a:lnTo>
                <a:lnTo>
                  <a:pt x="745" y="965"/>
                </a:lnTo>
                <a:lnTo>
                  <a:pt x="754" y="966"/>
                </a:lnTo>
                <a:lnTo>
                  <a:pt x="777" y="969"/>
                </a:lnTo>
                <a:lnTo>
                  <a:pt x="798" y="971"/>
                </a:lnTo>
                <a:lnTo>
                  <a:pt x="815" y="971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Freeform 101"/>
          <p:cNvSpPr/>
          <p:nvPr/>
        </p:nvSpPr>
        <p:spPr>
          <a:xfrm>
            <a:off x="1738440" y="3570120"/>
            <a:ext cx="1831680" cy="219564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Freeform 102"/>
          <p:cNvSpPr/>
          <p:nvPr/>
        </p:nvSpPr>
        <p:spPr>
          <a:xfrm>
            <a:off x="1755720" y="3579840"/>
            <a:ext cx="1832040" cy="219564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AutoShape 103"/>
          <p:cNvSpPr/>
          <p:nvPr/>
        </p:nvSpPr>
        <p:spPr>
          <a:xfrm>
            <a:off x="64620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AutoShape 104"/>
          <p:cNvSpPr/>
          <p:nvPr/>
        </p:nvSpPr>
        <p:spPr>
          <a:xfrm>
            <a:off x="285840" y="4506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Oval 105"/>
          <p:cNvSpPr/>
          <p:nvPr/>
        </p:nvSpPr>
        <p:spPr>
          <a:xfrm>
            <a:off x="1762200" y="2562120"/>
            <a:ext cx="144360" cy="144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4" name="Oval 106"/>
          <p:cNvSpPr/>
          <p:nvPr/>
        </p:nvSpPr>
        <p:spPr>
          <a:xfrm>
            <a:off x="3130560" y="4578480"/>
            <a:ext cx="144360" cy="1443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615" name="AutoShape 107"/>
          <p:cNvCxnSpPr>
            <a:stCxn id="611" idx="2"/>
            <a:endCxn id="613" idx="0"/>
          </p:cNvCxnSpPr>
          <p:nvPr/>
        </p:nvCxnSpPr>
        <p:spPr>
          <a:xfrm>
            <a:off x="1437840" y="1770120"/>
            <a:ext cx="397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AutoShape 108"/>
          <p:cNvCxnSpPr>
            <a:stCxn id="612" idx="3"/>
            <a:endCxn id="614" idx="2"/>
          </p:cNvCxnSpPr>
          <p:nvPr/>
        </p:nvCxnSpPr>
        <p:spPr>
          <a:xfrm>
            <a:off x="1869840" y="4650840"/>
            <a:ext cx="1251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7" name="Freeform 110"/>
          <p:cNvSpPr/>
          <p:nvPr/>
        </p:nvSpPr>
        <p:spPr>
          <a:xfrm>
            <a:off x="4073400" y="1539720"/>
            <a:ext cx="4324320" cy="2014560"/>
          </a:xfrm>
          <a:custGeom>
            <a:avLst/>
            <a:gdLst>
              <a:gd name="textAreaLeft" fmla="*/ 0 w 4324320"/>
              <a:gd name="textAreaRight" fmla="*/ 4324680 w 4324320"/>
              <a:gd name="textAreaTop" fmla="*/ 0 h 2014560"/>
              <a:gd name="textAreaBottom" fmla="*/ 2014560 h 2014560"/>
            </a:gdLst>
            <a:ahLst/>
            <a:rect l="textAreaLeft" t="textAreaTop" r="textAreaRight" b="textAreaBottom"/>
            <a:pathLst>
              <a:path w="2724" h="1269">
                <a:moveTo>
                  <a:pt x="2705" y="500"/>
                </a:moveTo>
                <a:lnTo>
                  <a:pt x="2705" y="500"/>
                </a:lnTo>
                <a:lnTo>
                  <a:pt x="2711" y="494"/>
                </a:lnTo>
                <a:lnTo>
                  <a:pt x="2715" y="488"/>
                </a:lnTo>
                <a:lnTo>
                  <a:pt x="2721" y="481"/>
                </a:lnTo>
                <a:lnTo>
                  <a:pt x="2724" y="475"/>
                </a:lnTo>
                <a:lnTo>
                  <a:pt x="2724" y="472"/>
                </a:lnTo>
                <a:lnTo>
                  <a:pt x="2724" y="469"/>
                </a:lnTo>
                <a:lnTo>
                  <a:pt x="2723" y="466"/>
                </a:lnTo>
                <a:lnTo>
                  <a:pt x="2720" y="464"/>
                </a:lnTo>
                <a:lnTo>
                  <a:pt x="2715" y="463"/>
                </a:lnTo>
                <a:lnTo>
                  <a:pt x="2708" y="463"/>
                </a:lnTo>
                <a:lnTo>
                  <a:pt x="2684" y="461"/>
                </a:lnTo>
                <a:lnTo>
                  <a:pt x="2675" y="460"/>
                </a:lnTo>
                <a:lnTo>
                  <a:pt x="2667" y="458"/>
                </a:lnTo>
                <a:lnTo>
                  <a:pt x="2663" y="455"/>
                </a:lnTo>
                <a:lnTo>
                  <a:pt x="2660" y="451"/>
                </a:lnTo>
                <a:lnTo>
                  <a:pt x="2658" y="446"/>
                </a:lnTo>
                <a:lnTo>
                  <a:pt x="2658" y="440"/>
                </a:lnTo>
                <a:lnTo>
                  <a:pt x="2660" y="436"/>
                </a:lnTo>
                <a:lnTo>
                  <a:pt x="2658" y="434"/>
                </a:lnTo>
                <a:lnTo>
                  <a:pt x="2655" y="429"/>
                </a:lnTo>
                <a:lnTo>
                  <a:pt x="2649" y="428"/>
                </a:lnTo>
                <a:lnTo>
                  <a:pt x="2641" y="428"/>
                </a:lnTo>
                <a:lnTo>
                  <a:pt x="2626" y="429"/>
                </a:lnTo>
                <a:lnTo>
                  <a:pt x="2620" y="431"/>
                </a:lnTo>
                <a:lnTo>
                  <a:pt x="2571" y="366"/>
                </a:lnTo>
                <a:lnTo>
                  <a:pt x="2554" y="363"/>
                </a:lnTo>
                <a:lnTo>
                  <a:pt x="2538" y="360"/>
                </a:lnTo>
                <a:lnTo>
                  <a:pt x="2519" y="357"/>
                </a:lnTo>
                <a:lnTo>
                  <a:pt x="2500" y="356"/>
                </a:lnTo>
                <a:lnTo>
                  <a:pt x="2483" y="357"/>
                </a:lnTo>
                <a:lnTo>
                  <a:pt x="2477" y="359"/>
                </a:lnTo>
                <a:lnTo>
                  <a:pt x="2471" y="362"/>
                </a:lnTo>
                <a:lnTo>
                  <a:pt x="2468" y="365"/>
                </a:lnTo>
                <a:lnTo>
                  <a:pt x="2468" y="371"/>
                </a:lnTo>
                <a:lnTo>
                  <a:pt x="2468" y="380"/>
                </a:lnTo>
                <a:lnTo>
                  <a:pt x="2471" y="387"/>
                </a:lnTo>
                <a:lnTo>
                  <a:pt x="2474" y="392"/>
                </a:lnTo>
                <a:lnTo>
                  <a:pt x="2476" y="395"/>
                </a:lnTo>
                <a:lnTo>
                  <a:pt x="2477" y="396"/>
                </a:lnTo>
                <a:lnTo>
                  <a:pt x="2477" y="398"/>
                </a:lnTo>
                <a:lnTo>
                  <a:pt x="2468" y="401"/>
                </a:lnTo>
                <a:lnTo>
                  <a:pt x="2459" y="402"/>
                </a:lnTo>
                <a:lnTo>
                  <a:pt x="2452" y="401"/>
                </a:lnTo>
                <a:lnTo>
                  <a:pt x="2446" y="398"/>
                </a:lnTo>
                <a:lnTo>
                  <a:pt x="2438" y="395"/>
                </a:lnTo>
                <a:lnTo>
                  <a:pt x="2431" y="390"/>
                </a:lnTo>
                <a:lnTo>
                  <a:pt x="2423" y="386"/>
                </a:lnTo>
                <a:lnTo>
                  <a:pt x="2412" y="383"/>
                </a:lnTo>
                <a:lnTo>
                  <a:pt x="2402" y="381"/>
                </a:lnTo>
                <a:lnTo>
                  <a:pt x="2378" y="381"/>
                </a:lnTo>
                <a:lnTo>
                  <a:pt x="2355" y="380"/>
                </a:lnTo>
                <a:lnTo>
                  <a:pt x="2330" y="378"/>
                </a:lnTo>
                <a:lnTo>
                  <a:pt x="2331" y="369"/>
                </a:lnTo>
                <a:lnTo>
                  <a:pt x="2331" y="351"/>
                </a:lnTo>
                <a:lnTo>
                  <a:pt x="2331" y="342"/>
                </a:lnTo>
                <a:lnTo>
                  <a:pt x="2328" y="333"/>
                </a:lnTo>
                <a:lnTo>
                  <a:pt x="2324" y="327"/>
                </a:lnTo>
                <a:lnTo>
                  <a:pt x="2322" y="326"/>
                </a:lnTo>
                <a:lnTo>
                  <a:pt x="2319" y="324"/>
                </a:lnTo>
                <a:lnTo>
                  <a:pt x="2238" y="324"/>
                </a:lnTo>
                <a:lnTo>
                  <a:pt x="2191" y="322"/>
                </a:lnTo>
                <a:lnTo>
                  <a:pt x="2165" y="321"/>
                </a:lnTo>
                <a:lnTo>
                  <a:pt x="2150" y="282"/>
                </a:lnTo>
                <a:lnTo>
                  <a:pt x="2120" y="264"/>
                </a:lnTo>
                <a:lnTo>
                  <a:pt x="2078" y="252"/>
                </a:lnTo>
                <a:lnTo>
                  <a:pt x="2072" y="250"/>
                </a:lnTo>
                <a:lnTo>
                  <a:pt x="2060" y="247"/>
                </a:lnTo>
                <a:lnTo>
                  <a:pt x="2052" y="246"/>
                </a:lnTo>
                <a:lnTo>
                  <a:pt x="2046" y="247"/>
                </a:lnTo>
                <a:lnTo>
                  <a:pt x="2042" y="250"/>
                </a:lnTo>
                <a:lnTo>
                  <a:pt x="2040" y="253"/>
                </a:lnTo>
                <a:lnTo>
                  <a:pt x="2039" y="256"/>
                </a:lnTo>
                <a:lnTo>
                  <a:pt x="2034" y="279"/>
                </a:lnTo>
                <a:lnTo>
                  <a:pt x="2031" y="286"/>
                </a:lnTo>
                <a:lnTo>
                  <a:pt x="2016" y="298"/>
                </a:lnTo>
                <a:lnTo>
                  <a:pt x="1986" y="298"/>
                </a:lnTo>
                <a:lnTo>
                  <a:pt x="1972" y="297"/>
                </a:lnTo>
                <a:lnTo>
                  <a:pt x="1965" y="295"/>
                </a:lnTo>
                <a:lnTo>
                  <a:pt x="1957" y="294"/>
                </a:lnTo>
                <a:lnTo>
                  <a:pt x="1947" y="298"/>
                </a:lnTo>
                <a:lnTo>
                  <a:pt x="1933" y="303"/>
                </a:lnTo>
                <a:lnTo>
                  <a:pt x="1921" y="304"/>
                </a:lnTo>
                <a:lnTo>
                  <a:pt x="1909" y="306"/>
                </a:lnTo>
                <a:lnTo>
                  <a:pt x="1897" y="264"/>
                </a:lnTo>
                <a:lnTo>
                  <a:pt x="1879" y="217"/>
                </a:lnTo>
                <a:lnTo>
                  <a:pt x="1887" y="187"/>
                </a:lnTo>
                <a:lnTo>
                  <a:pt x="1810" y="187"/>
                </a:lnTo>
                <a:lnTo>
                  <a:pt x="1802" y="209"/>
                </a:lnTo>
                <a:lnTo>
                  <a:pt x="1810" y="229"/>
                </a:lnTo>
                <a:lnTo>
                  <a:pt x="1810" y="249"/>
                </a:lnTo>
                <a:lnTo>
                  <a:pt x="1781" y="235"/>
                </a:lnTo>
                <a:lnTo>
                  <a:pt x="1740" y="217"/>
                </a:lnTo>
                <a:lnTo>
                  <a:pt x="1724" y="211"/>
                </a:lnTo>
                <a:lnTo>
                  <a:pt x="1701" y="203"/>
                </a:lnTo>
                <a:lnTo>
                  <a:pt x="1673" y="194"/>
                </a:lnTo>
                <a:lnTo>
                  <a:pt x="1673" y="175"/>
                </a:lnTo>
                <a:lnTo>
                  <a:pt x="1653" y="179"/>
                </a:lnTo>
                <a:lnTo>
                  <a:pt x="1611" y="209"/>
                </a:lnTo>
                <a:lnTo>
                  <a:pt x="1645" y="152"/>
                </a:lnTo>
                <a:lnTo>
                  <a:pt x="1673" y="115"/>
                </a:lnTo>
                <a:lnTo>
                  <a:pt x="1674" y="107"/>
                </a:lnTo>
                <a:lnTo>
                  <a:pt x="1676" y="89"/>
                </a:lnTo>
                <a:lnTo>
                  <a:pt x="1677" y="80"/>
                </a:lnTo>
                <a:lnTo>
                  <a:pt x="1677" y="71"/>
                </a:lnTo>
                <a:lnTo>
                  <a:pt x="1676" y="63"/>
                </a:lnTo>
                <a:lnTo>
                  <a:pt x="1674" y="62"/>
                </a:lnTo>
                <a:lnTo>
                  <a:pt x="1673" y="60"/>
                </a:lnTo>
                <a:lnTo>
                  <a:pt x="1661" y="56"/>
                </a:lnTo>
                <a:lnTo>
                  <a:pt x="1648" y="48"/>
                </a:lnTo>
                <a:lnTo>
                  <a:pt x="1633" y="38"/>
                </a:lnTo>
                <a:lnTo>
                  <a:pt x="1596" y="60"/>
                </a:lnTo>
                <a:lnTo>
                  <a:pt x="1576" y="23"/>
                </a:lnTo>
                <a:lnTo>
                  <a:pt x="1576" y="0"/>
                </a:lnTo>
                <a:lnTo>
                  <a:pt x="1534" y="0"/>
                </a:lnTo>
                <a:lnTo>
                  <a:pt x="1514" y="45"/>
                </a:lnTo>
                <a:lnTo>
                  <a:pt x="1484" y="92"/>
                </a:lnTo>
                <a:lnTo>
                  <a:pt x="1377" y="83"/>
                </a:lnTo>
                <a:lnTo>
                  <a:pt x="1290" y="172"/>
                </a:lnTo>
                <a:lnTo>
                  <a:pt x="1285" y="214"/>
                </a:lnTo>
                <a:lnTo>
                  <a:pt x="1236" y="217"/>
                </a:lnTo>
                <a:lnTo>
                  <a:pt x="1234" y="223"/>
                </a:lnTo>
                <a:lnTo>
                  <a:pt x="1233" y="237"/>
                </a:lnTo>
                <a:lnTo>
                  <a:pt x="1231" y="246"/>
                </a:lnTo>
                <a:lnTo>
                  <a:pt x="1233" y="255"/>
                </a:lnTo>
                <a:lnTo>
                  <a:pt x="1236" y="264"/>
                </a:lnTo>
                <a:lnTo>
                  <a:pt x="1240" y="271"/>
                </a:lnTo>
                <a:lnTo>
                  <a:pt x="1252" y="285"/>
                </a:lnTo>
                <a:lnTo>
                  <a:pt x="1263" y="295"/>
                </a:lnTo>
                <a:lnTo>
                  <a:pt x="1270" y="306"/>
                </a:lnTo>
                <a:lnTo>
                  <a:pt x="1273" y="312"/>
                </a:lnTo>
                <a:lnTo>
                  <a:pt x="1275" y="316"/>
                </a:lnTo>
                <a:lnTo>
                  <a:pt x="1273" y="319"/>
                </a:lnTo>
                <a:lnTo>
                  <a:pt x="1272" y="319"/>
                </a:lnTo>
                <a:lnTo>
                  <a:pt x="1264" y="318"/>
                </a:lnTo>
                <a:lnTo>
                  <a:pt x="1254" y="313"/>
                </a:lnTo>
                <a:lnTo>
                  <a:pt x="1242" y="307"/>
                </a:lnTo>
                <a:lnTo>
                  <a:pt x="1219" y="294"/>
                </a:lnTo>
                <a:lnTo>
                  <a:pt x="1208" y="286"/>
                </a:lnTo>
                <a:lnTo>
                  <a:pt x="1171" y="279"/>
                </a:lnTo>
                <a:lnTo>
                  <a:pt x="1171" y="363"/>
                </a:lnTo>
                <a:lnTo>
                  <a:pt x="1169" y="368"/>
                </a:lnTo>
                <a:lnTo>
                  <a:pt x="1168" y="372"/>
                </a:lnTo>
                <a:lnTo>
                  <a:pt x="1165" y="378"/>
                </a:lnTo>
                <a:lnTo>
                  <a:pt x="1163" y="384"/>
                </a:lnTo>
                <a:lnTo>
                  <a:pt x="1165" y="390"/>
                </a:lnTo>
                <a:lnTo>
                  <a:pt x="1169" y="396"/>
                </a:lnTo>
                <a:lnTo>
                  <a:pt x="1178" y="402"/>
                </a:lnTo>
                <a:lnTo>
                  <a:pt x="1193" y="408"/>
                </a:lnTo>
                <a:lnTo>
                  <a:pt x="1186" y="431"/>
                </a:lnTo>
                <a:lnTo>
                  <a:pt x="1166" y="443"/>
                </a:lnTo>
                <a:lnTo>
                  <a:pt x="1160" y="448"/>
                </a:lnTo>
                <a:lnTo>
                  <a:pt x="1145" y="461"/>
                </a:lnTo>
                <a:lnTo>
                  <a:pt x="1138" y="470"/>
                </a:lnTo>
                <a:lnTo>
                  <a:pt x="1130" y="479"/>
                </a:lnTo>
                <a:lnTo>
                  <a:pt x="1124" y="488"/>
                </a:lnTo>
                <a:lnTo>
                  <a:pt x="1121" y="497"/>
                </a:lnTo>
                <a:lnTo>
                  <a:pt x="1124" y="482"/>
                </a:lnTo>
                <a:lnTo>
                  <a:pt x="1127" y="451"/>
                </a:lnTo>
                <a:lnTo>
                  <a:pt x="1129" y="432"/>
                </a:lnTo>
                <a:lnTo>
                  <a:pt x="1127" y="414"/>
                </a:lnTo>
                <a:lnTo>
                  <a:pt x="1126" y="407"/>
                </a:lnTo>
                <a:lnTo>
                  <a:pt x="1124" y="399"/>
                </a:lnTo>
                <a:lnTo>
                  <a:pt x="1121" y="393"/>
                </a:lnTo>
                <a:lnTo>
                  <a:pt x="1117" y="390"/>
                </a:lnTo>
                <a:lnTo>
                  <a:pt x="1110" y="383"/>
                </a:lnTo>
                <a:lnTo>
                  <a:pt x="1110" y="380"/>
                </a:lnTo>
                <a:lnTo>
                  <a:pt x="1109" y="377"/>
                </a:lnTo>
                <a:lnTo>
                  <a:pt x="1110" y="371"/>
                </a:lnTo>
                <a:lnTo>
                  <a:pt x="1115" y="365"/>
                </a:lnTo>
                <a:lnTo>
                  <a:pt x="1120" y="362"/>
                </a:lnTo>
                <a:lnTo>
                  <a:pt x="1124" y="357"/>
                </a:lnTo>
                <a:lnTo>
                  <a:pt x="1129" y="356"/>
                </a:lnTo>
                <a:lnTo>
                  <a:pt x="1114" y="274"/>
                </a:lnTo>
                <a:lnTo>
                  <a:pt x="1100" y="280"/>
                </a:lnTo>
                <a:lnTo>
                  <a:pt x="1086" y="286"/>
                </a:lnTo>
                <a:lnTo>
                  <a:pt x="1070" y="295"/>
                </a:lnTo>
                <a:lnTo>
                  <a:pt x="1055" y="307"/>
                </a:lnTo>
                <a:lnTo>
                  <a:pt x="1047" y="315"/>
                </a:lnTo>
                <a:lnTo>
                  <a:pt x="1041" y="324"/>
                </a:lnTo>
                <a:lnTo>
                  <a:pt x="1035" y="332"/>
                </a:lnTo>
                <a:lnTo>
                  <a:pt x="1032" y="342"/>
                </a:lnTo>
                <a:lnTo>
                  <a:pt x="1029" y="351"/>
                </a:lnTo>
                <a:lnTo>
                  <a:pt x="1029" y="363"/>
                </a:lnTo>
                <a:lnTo>
                  <a:pt x="1032" y="369"/>
                </a:lnTo>
                <a:lnTo>
                  <a:pt x="1037" y="386"/>
                </a:lnTo>
                <a:lnTo>
                  <a:pt x="1038" y="396"/>
                </a:lnTo>
                <a:lnTo>
                  <a:pt x="1040" y="408"/>
                </a:lnTo>
                <a:lnTo>
                  <a:pt x="1038" y="420"/>
                </a:lnTo>
                <a:lnTo>
                  <a:pt x="1037" y="431"/>
                </a:lnTo>
                <a:lnTo>
                  <a:pt x="1034" y="423"/>
                </a:lnTo>
                <a:lnTo>
                  <a:pt x="1025" y="405"/>
                </a:lnTo>
                <a:lnTo>
                  <a:pt x="1019" y="396"/>
                </a:lnTo>
                <a:lnTo>
                  <a:pt x="1013" y="390"/>
                </a:lnTo>
                <a:lnTo>
                  <a:pt x="1007" y="386"/>
                </a:lnTo>
                <a:lnTo>
                  <a:pt x="1002" y="386"/>
                </a:lnTo>
                <a:lnTo>
                  <a:pt x="999" y="386"/>
                </a:lnTo>
                <a:lnTo>
                  <a:pt x="991" y="389"/>
                </a:lnTo>
                <a:lnTo>
                  <a:pt x="985" y="395"/>
                </a:lnTo>
                <a:lnTo>
                  <a:pt x="976" y="405"/>
                </a:lnTo>
                <a:lnTo>
                  <a:pt x="970" y="416"/>
                </a:lnTo>
                <a:lnTo>
                  <a:pt x="967" y="420"/>
                </a:lnTo>
                <a:lnTo>
                  <a:pt x="927" y="413"/>
                </a:lnTo>
                <a:lnTo>
                  <a:pt x="900" y="405"/>
                </a:lnTo>
                <a:lnTo>
                  <a:pt x="900" y="436"/>
                </a:lnTo>
                <a:lnTo>
                  <a:pt x="877" y="440"/>
                </a:lnTo>
                <a:lnTo>
                  <a:pt x="857" y="440"/>
                </a:lnTo>
                <a:lnTo>
                  <a:pt x="818" y="440"/>
                </a:lnTo>
                <a:lnTo>
                  <a:pt x="818" y="478"/>
                </a:lnTo>
                <a:lnTo>
                  <a:pt x="777" y="463"/>
                </a:lnTo>
                <a:lnTo>
                  <a:pt x="765" y="436"/>
                </a:lnTo>
                <a:lnTo>
                  <a:pt x="753" y="451"/>
                </a:lnTo>
                <a:lnTo>
                  <a:pt x="750" y="490"/>
                </a:lnTo>
                <a:lnTo>
                  <a:pt x="750" y="515"/>
                </a:lnTo>
                <a:lnTo>
                  <a:pt x="731" y="520"/>
                </a:lnTo>
                <a:lnTo>
                  <a:pt x="704" y="527"/>
                </a:lnTo>
                <a:lnTo>
                  <a:pt x="693" y="542"/>
                </a:lnTo>
                <a:lnTo>
                  <a:pt x="646" y="573"/>
                </a:lnTo>
                <a:lnTo>
                  <a:pt x="624" y="550"/>
                </a:lnTo>
                <a:lnTo>
                  <a:pt x="624" y="508"/>
                </a:lnTo>
                <a:lnTo>
                  <a:pt x="597" y="490"/>
                </a:lnTo>
                <a:lnTo>
                  <a:pt x="600" y="488"/>
                </a:lnTo>
                <a:lnTo>
                  <a:pt x="606" y="485"/>
                </a:lnTo>
                <a:lnTo>
                  <a:pt x="610" y="485"/>
                </a:lnTo>
                <a:lnTo>
                  <a:pt x="615" y="485"/>
                </a:lnTo>
                <a:lnTo>
                  <a:pt x="621" y="488"/>
                </a:lnTo>
                <a:lnTo>
                  <a:pt x="628" y="493"/>
                </a:lnTo>
                <a:lnTo>
                  <a:pt x="636" y="499"/>
                </a:lnTo>
                <a:lnTo>
                  <a:pt x="648" y="506"/>
                </a:lnTo>
                <a:lnTo>
                  <a:pt x="658" y="511"/>
                </a:lnTo>
                <a:lnTo>
                  <a:pt x="664" y="512"/>
                </a:lnTo>
                <a:lnTo>
                  <a:pt x="669" y="511"/>
                </a:lnTo>
                <a:lnTo>
                  <a:pt x="675" y="509"/>
                </a:lnTo>
                <a:lnTo>
                  <a:pt x="678" y="506"/>
                </a:lnTo>
                <a:lnTo>
                  <a:pt x="681" y="502"/>
                </a:lnTo>
                <a:lnTo>
                  <a:pt x="684" y="493"/>
                </a:lnTo>
                <a:lnTo>
                  <a:pt x="684" y="484"/>
                </a:lnTo>
                <a:lnTo>
                  <a:pt x="684" y="470"/>
                </a:lnTo>
                <a:lnTo>
                  <a:pt x="681" y="455"/>
                </a:lnTo>
                <a:lnTo>
                  <a:pt x="678" y="436"/>
                </a:lnTo>
                <a:lnTo>
                  <a:pt x="672" y="428"/>
                </a:lnTo>
                <a:lnTo>
                  <a:pt x="663" y="420"/>
                </a:lnTo>
                <a:lnTo>
                  <a:pt x="652" y="413"/>
                </a:lnTo>
                <a:lnTo>
                  <a:pt x="637" y="404"/>
                </a:lnTo>
                <a:lnTo>
                  <a:pt x="618" y="396"/>
                </a:lnTo>
                <a:lnTo>
                  <a:pt x="607" y="393"/>
                </a:lnTo>
                <a:lnTo>
                  <a:pt x="594" y="392"/>
                </a:lnTo>
                <a:lnTo>
                  <a:pt x="582" y="390"/>
                </a:lnTo>
                <a:lnTo>
                  <a:pt x="567" y="390"/>
                </a:lnTo>
                <a:lnTo>
                  <a:pt x="562" y="380"/>
                </a:lnTo>
                <a:lnTo>
                  <a:pt x="556" y="372"/>
                </a:lnTo>
                <a:lnTo>
                  <a:pt x="548" y="362"/>
                </a:lnTo>
                <a:lnTo>
                  <a:pt x="539" y="354"/>
                </a:lnTo>
                <a:lnTo>
                  <a:pt x="535" y="350"/>
                </a:lnTo>
                <a:lnTo>
                  <a:pt x="529" y="348"/>
                </a:lnTo>
                <a:lnTo>
                  <a:pt x="524" y="347"/>
                </a:lnTo>
                <a:lnTo>
                  <a:pt x="518" y="347"/>
                </a:lnTo>
                <a:lnTo>
                  <a:pt x="512" y="348"/>
                </a:lnTo>
                <a:lnTo>
                  <a:pt x="505" y="351"/>
                </a:lnTo>
                <a:lnTo>
                  <a:pt x="491" y="360"/>
                </a:lnTo>
                <a:lnTo>
                  <a:pt x="476" y="368"/>
                </a:lnTo>
                <a:lnTo>
                  <a:pt x="444" y="381"/>
                </a:lnTo>
                <a:lnTo>
                  <a:pt x="431" y="387"/>
                </a:lnTo>
                <a:lnTo>
                  <a:pt x="420" y="393"/>
                </a:lnTo>
                <a:lnTo>
                  <a:pt x="413" y="399"/>
                </a:lnTo>
                <a:lnTo>
                  <a:pt x="410" y="402"/>
                </a:lnTo>
                <a:lnTo>
                  <a:pt x="410" y="405"/>
                </a:lnTo>
                <a:lnTo>
                  <a:pt x="408" y="410"/>
                </a:lnTo>
                <a:lnTo>
                  <a:pt x="404" y="416"/>
                </a:lnTo>
                <a:lnTo>
                  <a:pt x="398" y="420"/>
                </a:lnTo>
                <a:lnTo>
                  <a:pt x="390" y="423"/>
                </a:lnTo>
                <a:lnTo>
                  <a:pt x="377" y="429"/>
                </a:lnTo>
                <a:lnTo>
                  <a:pt x="371" y="431"/>
                </a:lnTo>
                <a:lnTo>
                  <a:pt x="360" y="470"/>
                </a:lnTo>
                <a:lnTo>
                  <a:pt x="325" y="497"/>
                </a:lnTo>
                <a:lnTo>
                  <a:pt x="271" y="558"/>
                </a:lnTo>
                <a:lnTo>
                  <a:pt x="238" y="622"/>
                </a:lnTo>
                <a:lnTo>
                  <a:pt x="211" y="639"/>
                </a:lnTo>
                <a:lnTo>
                  <a:pt x="203" y="692"/>
                </a:lnTo>
                <a:lnTo>
                  <a:pt x="211" y="726"/>
                </a:lnTo>
                <a:lnTo>
                  <a:pt x="256" y="741"/>
                </a:lnTo>
                <a:lnTo>
                  <a:pt x="291" y="738"/>
                </a:lnTo>
                <a:lnTo>
                  <a:pt x="298" y="769"/>
                </a:lnTo>
                <a:lnTo>
                  <a:pt x="298" y="799"/>
                </a:lnTo>
                <a:lnTo>
                  <a:pt x="345" y="796"/>
                </a:lnTo>
                <a:lnTo>
                  <a:pt x="356" y="756"/>
                </a:lnTo>
                <a:lnTo>
                  <a:pt x="380" y="707"/>
                </a:lnTo>
                <a:lnTo>
                  <a:pt x="375" y="657"/>
                </a:lnTo>
                <a:lnTo>
                  <a:pt x="398" y="615"/>
                </a:lnTo>
                <a:lnTo>
                  <a:pt x="429" y="573"/>
                </a:lnTo>
                <a:lnTo>
                  <a:pt x="455" y="542"/>
                </a:lnTo>
                <a:lnTo>
                  <a:pt x="461" y="539"/>
                </a:lnTo>
                <a:lnTo>
                  <a:pt x="467" y="536"/>
                </a:lnTo>
                <a:lnTo>
                  <a:pt x="473" y="533"/>
                </a:lnTo>
                <a:lnTo>
                  <a:pt x="479" y="533"/>
                </a:lnTo>
                <a:lnTo>
                  <a:pt x="481" y="535"/>
                </a:lnTo>
                <a:lnTo>
                  <a:pt x="484" y="536"/>
                </a:lnTo>
                <a:lnTo>
                  <a:pt x="484" y="539"/>
                </a:lnTo>
                <a:lnTo>
                  <a:pt x="485" y="542"/>
                </a:lnTo>
                <a:lnTo>
                  <a:pt x="482" y="555"/>
                </a:lnTo>
                <a:lnTo>
                  <a:pt x="478" y="567"/>
                </a:lnTo>
                <a:lnTo>
                  <a:pt x="472" y="577"/>
                </a:lnTo>
                <a:lnTo>
                  <a:pt x="466" y="585"/>
                </a:lnTo>
                <a:lnTo>
                  <a:pt x="460" y="589"/>
                </a:lnTo>
                <a:lnTo>
                  <a:pt x="454" y="592"/>
                </a:lnTo>
                <a:lnTo>
                  <a:pt x="449" y="595"/>
                </a:lnTo>
                <a:lnTo>
                  <a:pt x="444" y="597"/>
                </a:lnTo>
                <a:lnTo>
                  <a:pt x="429" y="642"/>
                </a:lnTo>
                <a:lnTo>
                  <a:pt x="429" y="648"/>
                </a:lnTo>
                <a:lnTo>
                  <a:pt x="431" y="654"/>
                </a:lnTo>
                <a:lnTo>
                  <a:pt x="434" y="662"/>
                </a:lnTo>
                <a:lnTo>
                  <a:pt x="440" y="669"/>
                </a:lnTo>
                <a:lnTo>
                  <a:pt x="447" y="677"/>
                </a:lnTo>
                <a:lnTo>
                  <a:pt x="461" y="681"/>
                </a:lnTo>
                <a:lnTo>
                  <a:pt x="469" y="683"/>
                </a:lnTo>
                <a:lnTo>
                  <a:pt x="479" y="684"/>
                </a:lnTo>
                <a:lnTo>
                  <a:pt x="497" y="686"/>
                </a:lnTo>
                <a:lnTo>
                  <a:pt x="512" y="690"/>
                </a:lnTo>
                <a:lnTo>
                  <a:pt x="526" y="695"/>
                </a:lnTo>
                <a:lnTo>
                  <a:pt x="536" y="699"/>
                </a:lnTo>
                <a:lnTo>
                  <a:pt x="550" y="707"/>
                </a:lnTo>
                <a:lnTo>
                  <a:pt x="554" y="711"/>
                </a:lnTo>
                <a:lnTo>
                  <a:pt x="517" y="722"/>
                </a:lnTo>
                <a:lnTo>
                  <a:pt x="475" y="719"/>
                </a:lnTo>
                <a:lnTo>
                  <a:pt x="444" y="769"/>
                </a:lnTo>
                <a:lnTo>
                  <a:pt x="413" y="784"/>
                </a:lnTo>
                <a:lnTo>
                  <a:pt x="410" y="833"/>
                </a:lnTo>
                <a:lnTo>
                  <a:pt x="387" y="853"/>
                </a:lnTo>
                <a:lnTo>
                  <a:pt x="276" y="848"/>
                </a:lnTo>
                <a:lnTo>
                  <a:pt x="276" y="796"/>
                </a:lnTo>
                <a:lnTo>
                  <a:pt x="273" y="794"/>
                </a:lnTo>
                <a:lnTo>
                  <a:pt x="268" y="794"/>
                </a:lnTo>
                <a:lnTo>
                  <a:pt x="264" y="794"/>
                </a:lnTo>
                <a:lnTo>
                  <a:pt x="259" y="796"/>
                </a:lnTo>
                <a:lnTo>
                  <a:pt x="255" y="800"/>
                </a:lnTo>
                <a:lnTo>
                  <a:pt x="252" y="806"/>
                </a:lnTo>
                <a:lnTo>
                  <a:pt x="249" y="814"/>
                </a:lnTo>
                <a:lnTo>
                  <a:pt x="246" y="833"/>
                </a:lnTo>
                <a:lnTo>
                  <a:pt x="243" y="851"/>
                </a:lnTo>
                <a:lnTo>
                  <a:pt x="238" y="868"/>
                </a:lnTo>
                <a:lnTo>
                  <a:pt x="203" y="883"/>
                </a:lnTo>
                <a:lnTo>
                  <a:pt x="172" y="933"/>
                </a:lnTo>
                <a:lnTo>
                  <a:pt x="142" y="955"/>
                </a:lnTo>
                <a:lnTo>
                  <a:pt x="104" y="960"/>
                </a:lnTo>
                <a:lnTo>
                  <a:pt x="92" y="982"/>
                </a:lnTo>
                <a:lnTo>
                  <a:pt x="104" y="1020"/>
                </a:lnTo>
                <a:lnTo>
                  <a:pt x="107" y="1026"/>
                </a:lnTo>
                <a:lnTo>
                  <a:pt x="110" y="1031"/>
                </a:lnTo>
                <a:lnTo>
                  <a:pt x="111" y="1038"/>
                </a:lnTo>
                <a:lnTo>
                  <a:pt x="113" y="1046"/>
                </a:lnTo>
                <a:lnTo>
                  <a:pt x="111" y="1055"/>
                </a:lnTo>
                <a:lnTo>
                  <a:pt x="107" y="1062"/>
                </a:lnTo>
                <a:lnTo>
                  <a:pt x="104" y="1067"/>
                </a:lnTo>
                <a:lnTo>
                  <a:pt x="99" y="1070"/>
                </a:lnTo>
                <a:lnTo>
                  <a:pt x="95" y="1073"/>
                </a:lnTo>
                <a:lnTo>
                  <a:pt x="89" y="1076"/>
                </a:lnTo>
                <a:lnTo>
                  <a:pt x="74" y="1079"/>
                </a:lnTo>
                <a:lnTo>
                  <a:pt x="59" y="1080"/>
                </a:lnTo>
                <a:lnTo>
                  <a:pt x="44" y="1079"/>
                </a:lnTo>
                <a:lnTo>
                  <a:pt x="18" y="1076"/>
                </a:lnTo>
                <a:lnTo>
                  <a:pt x="7" y="1074"/>
                </a:lnTo>
                <a:lnTo>
                  <a:pt x="0" y="1144"/>
                </a:lnTo>
                <a:lnTo>
                  <a:pt x="24" y="1204"/>
                </a:lnTo>
                <a:lnTo>
                  <a:pt x="74" y="1193"/>
                </a:lnTo>
                <a:lnTo>
                  <a:pt x="127" y="1174"/>
                </a:lnTo>
                <a:lnTo>
                  <a:pt x="157" y="1166"/>
                </a:lnTo>
                <a:lnTo>
                  <a:pt x="161" y="1132"/>
                </a:lnTo>
                <a:lnTo>
                  <a:pt x="184" y="1109"/>
                </a:lnTo>
                <a:lnTo>
                  <a:pt x="184" y="1059"/>
                </a:lnTo>
                <a:lnTo>
                  <a:pt x="188" y="1062"/>
                </a:lnTo>
                <a:lnTo>
                  <a:pt x="194" y="1067"/>
                </a:lnTo>
                <a:lnTo>
                  <a:pt x="202" y="1070"/>
                </a:lnTo>
                <a:lnTo>
                  <a:pt x="211" y="1073"/>
                </a:lnTo>
                <a:lnTo>
                  <a:pt x="223" y="1074"/>
                </a:lnTo>
                <a:lnTo>
                  <a:pt x="235" y="1074"/>
                </a:lnTo>
                <a:lnTo>
                  <a:pt x="249" y="1070"/>
                </a:lnTo>
                <a:lnTo>
                  <a:pt x="256" y="1068"/>
                </a:lnTo>
                <a:lnTo>
                  <a:pt x="262" y="1068"/>
                </a:lnTo>
                <a:lnTo>
                  <a:pt x="270" y="1068"/>
                </a:lnTo>
                <a:lnTo>
                  <a:pt x="276" y="1070"/>
                </a:lnTo>
                <a:lnTo>
                  <a:pt x="286" y="1076"/>
                </a:lnTo>
                <a:lnTo>
                  <a:pt x="295" y="1083"/>
                </a:lnTo>
                <a:lnTo>
                  <a:pt x="303" y="1092"/>
                </a:lnTo>
                <a:lnTo>
                  <a:pt x="309" y="1100"/>
                </a:lnTo>
                <a:lnTo>
                  <a:pt x="313" y="1109"/>
                </a:lnTo>
                <a:lnTo>
                  <a:pt x="345" y="1159"/>
                </a:lnTo>
                <a:lnTo>
                  <a:pt x="368" y="1159"/>
                </a:lnTo>
                <a:lnTo>
                  <a:pt x="375" y="1136"/>
                </a:lnTo>
                <a:lnTo>
                  <a:pt x="353" y="1102"/>
                </a:lnTo>
                <a:lnTo>
                  <a:pt x="337" y="1082"/>
                </a:lnTo>
                <a:lnTo>
                  <a:pt x="337" y="1062"/>
                </a:lnTo>
                <a:lnTo>
                  <a:pt x="348" y="1055"/>
                </a:lnTo>
                <a:lnTo>
                  <a:pt x="375" y="1094"/>
                </a:lnTo>
                <a:lnTo>
                  <a:pt x="405" y="1117"/>
                </a:lnTo>
                <a:lnTo>
                  <a:pt x="417" y="1151"/>
                </a:lnTo>
                <a:lnTo>
                  <a:pt x="425" y="1156"/>
                </a:lnTo>
                <a:lnTo>
                  <a:pt x="432" y="1160"/>
                </a:lnTo>
                <a:lnTo>
                  <a:pt x="441" y="1166"/>
                </a:lnTo>
                <a:lnTo>
                  <a:pt x="452" y="1168"/>
                </a:lnTo>
                <a:lnTo>
                  <a:pt x="455" y="1169"/>
                </a:lnTo>
                <a:lnTo>
                  <a:pt x="460" y="1168"/>
                </a:lnTo>
                <a:lnTo>
                  <a:pt x="463" y="1166"/>
                </a:lnTo>
                <a:lnTo>
                  <a:pt x="466" y="1165"/>
                </a:lnTo>
                <a:lnTo>
                  <a:pt x="467" y="1160"/>
                </a:lnTo>
                <a:lnTo>
                  <a:pt x="467" y="1154"/>
                </a:lnTo>
                <a:lnTo>
                  <a:pt x="467" y="1132"/>
                </a:lnTo>
                <a:lnTo>
                  <a:pt x="469" y="1117"/>
                </a:lnTo>
                <a:lnTo>
                  <a:pt x="470" y="1105"/>
                </a:lnTo>
                <a:lnTo>
                  <a:pt x="502" y="1117"/>
                </a:lnTo>
                <a:lnTo>
                  <a:pt x="524" y="1117"/>
                </a:lnTo>
                <a:lnTo>
                  <a:pt x="524" y="1082"/>
                </a:lnTo>
                <a:lnTo>
                  <a:pt x="524" y="1055"/>
                </a:lnTo>
                <a:lnTo>
                  <a:pt x="532" y="1025"/>
                </a:lnTo>
                <a:lnTo>
                  <a:pt x="586" y="1017"/>
                </a:lnTo>
                <a:lnTo>
                  <a:pt x="586" y="1023"/>
                </a:lnTo>
                <a:lnTo>
                  <a:pt x="588" y="1037"/>
                </a:lnTo>
                <a:lnTo>
                  <a:pt x="589" y="1043"/>
                </a:lnTo>
                <a:lnTo>
                  <a:pt x="591" y="1049"/>
                </a:lnTo>
                <a:lnTo>
                  <a:pt x="594" y="1053"/>
                </a:lnTo>
                <a:lnTo>
                  <a:pt x="597" y="1055"/>
                </a:lnTo>
                <a:lnTo>
                  <a:pt x="651" y="1055"/>
                </a:lnTo>
                <a:lnTo>
                  <a:pt x="628" y="1005"/>
                </a:lnTo>
                <a:lnTo>
                  <a:pt x="654" y="1005"/>
                </a:lnTo>
                <a:lnTo>
                  <a:pt x="686" y="1055"/>
                </a:lnTo>
                <a:lnTo>
                  <a:pt x="687" y="1062"/>
                </a:lnTo>
                <a:lnTo>
                  <a:pt x="687" y="1071"/>
                </a:lnTo>
                <a:lnTo>
                  <a:pt x="687" y="1080"/>
                </a:lnTo>
                <a:lnTo>
                  <a:pt x="684" y="1089"/>
                </a:lnTo>
                <a:lnTo>
                  <a:pt x="681" y="1094"/>
                </a:lnTo>
                <a:lnTo>
                  <a:pt x="677" y="1097"/>
                </a:lnTo>
                <a:lnTo>
                  <a:pt x="672" y="1100"/>
                </a:lnTo>
                <a:lnTo>
                  <a:pt x="666" y="1103"/>
                </a:lnTo>
                <a:lnTo>
                  <a:pt x="658" y="1105"/>
                </a:lnTo>
                <a:lnTo>
                  <a:pt x="651" y="1105"/>
                </a:lnTo>
                <a:lnTo>
                  <a:pt x="616" y="1106"/>
                </a:lnTo>
                <a:lnTo>
                  <a:pt x="591" y="1109"/>
                </a:lnTo>
                <a:lnTo>
                  <a:pt x="567" y="1112"/>
                </a:lnTo>
                <a:lnTo>
                  <a:pt x="532" y="1147"/>
                </a:lnTo>
                <a:lnTo>
                  <a:pt x="533" y="1156"/>
                </a:lnTo>
                <a:lnTo>
                  <a:pt x="536" y="1165"/>
                </a:lnTo>
                <a:lnTo>
                  <a:pt x="541" y="1175"/>
                </a:lnTo>
                <a:lnTo>
                  <a:pt x="548" y="1186"/>
                </a:lnTo>
                <a:lnTo>
                  <a:pt x="554" y="1190"/>
                </a:lnTo>
                <a:lnTo>
                  <a:pt x="560" y="1195"/>
                </a:lnTo>
                <a:lnTo>
                  <a:pt x="570" y="1199"/>
                </a:lnTo>
                <a:lnTo>
                  <a:pt x="579" y="1204"/>
                </a:lnTo>
                <a:lnTo>
                  <a:pt x="589" y="1205"/>
                </a:lnTo>
                <a:lnTo>
                  <a:pt x="601" y="1209"/>
                </a:lnTo>
                <a:lnTo>
                  <a:pt x="607" y="1209"/>
                </a:lnTo>
                <a:lnTo>
                  <a:pt x="613" y="1210"/>
                </a:lnTo>
                <a:lnTo>
                  <a:pt x="618" y="1213"/>
                </a:lnTo>
                <a:lnTo>
                  <a:pt x="621" y="1216"/>
                </a:lnTo>
                <a:lnTo>
                  <a:pt x="622" y="1221"/>
                </a:lnTo>
                <a:lnTo>
                  <a:pt x="622" y="1225"/>
                </a:lnTo>
                <a:lnTo>
                  <a:pt x="622" y="1230"/>
                </a:lnTo>
                <a:lnTo>
                  <a:pt x="621" y="1237"/>
                </a:lnTo>
                <a:lnTo>
                  <a:pt x="616" y="1245"/>
                </a:lnTo>
                <a:lnTo>
                  <a:pt x="612" y="1254"/>
                </a:lnTo>
                <a:lnTo>
                  <a:pt x="606" y="1264"/>
                </a:lnTo>
                <a:lnTo>
                  <a:pt x="606" y="1269"/>
                </a:lnTo>
                <a:lnTo>
                  <a:pt x="619" y="1257"/>
                </a:lnTo>
                <a:lnTo>
                  <a:pt x="633" y="1246"/>
                </a:lnTo>
                <a:lnTo>
                  <a:pt x="646" y="1240"/>
                </a:lnTo>
                <a:lnTo>
                  <a:pt x="652" y="1237"/>
                </a:lnTo>
                <a:lnTo>
                  <a:pt x="658" y="1237"/>
                </a:lnTo>
                <a:lnTo>
                  <a:pt x="675" y="1237"/>
                </a:lnTo>
                <a:lnTo>
                  <a:pt x="690" y="1234"/>
                </a:lnTo>
                <a:lnTo>
                  <a:pt x="717" y="1228"/>
                </a:lnTo>
                <a:lnTo>
                  <a:pt x="738" y="1222"/>
                </a:lnTo>
                <a:lnTo>
                  <a:pt x="750" y="1219"/>
                </a:lnTo>
                <a:lnTo>
                  <a:pt x="753" y="1218"/>
                </a:lnTo>
                <a:lnTo>
                  <a:pt x="756" y="1215"/>
                </a:lnTo>
                <a:lnTo>
                  <a:pt x="762" y="1205"/>
                </a:lnTo>
                <a:lnTo>
                  <a:pt x="770" y="1190"/>
                </a:lnTo>
                <a:lnTo>
                  <a:pt x="799" y="1207"/>
                </a:lnTo>
                <a:lnTo>
                  <a:pt x="821" y="1219"/>
                </a:lnTo>
                <a:lnTo>
                  <a:pt x="838" y="1227"/>
                </a:lnTo>
                <a:lnTo>
                  <a:pt x="845" y="1228"/>
                </a:lnTo>
                <a:lnTo>
                  <a:pt x="854" y="1225"/>
                </a:lnTo>
                <a:lnTo>
                  <a:pt x="878" y="1216"/>
                </a:lnTo>
                <a:lnTo>
                  <a:pt x="901" y="1207"/>
                </a:lnTo>
                <a:lnTo>
                  <a:pt x="909" y="1204"/>
                </a:lnTo>
                <a:lnTo>
                  <a:pt x="915" y="1202"/>
                </a:lnTo>
                <a:lnTo>
                  <a:pt x="919" y="1204"/>
                </a:lnTo>
                <a:lnTo>
                  <a:pt x="925" y="1210"/>
                </a:lnTo>
                <a:lnTo>
                  <a:pt x="943" y="1227"/>
                </a:lnTo>
                <a:lnTo>
                  <a:pt x="961" y="1245"/>
                </a:lnTo>
                <a:lnTo>
                  <a:pt x="967" y="1251"/>
                </a:lnTo>
                <a:lnTo>
                  <a:pt x="972" y="1254"/>
                </a:lnTo>
                <a:lnTo>
                  <a:pt x="976" y="1254"/>
                </a:lnTo>
                <a:lnTo>
                  <a:pt x="981" y="1252"/>
                </a:lnTo>
                <a:lnTo>
                  <a:pt x="994" y="1243"/>
                </a:lnTo>
                <a:lnTo>
                  <a:pt x="1002" y="1239"/>
                </a:lnTo>
                <a:lnTo>
                  <a:pt x="1010" y="1234"/>
                </a:lnTo>
                <a:lnTo>
                  <a:pt x="1019" y="1231"/>
                </a:lnTo>
                <a:lnTo>
                  <a:pt x="1028" y="1231"/>
                </a:lnTo>
                <a:lnTo>
                  <a:pt x="1073" y="1233"/>
                </a:lnTo>
                <a:lnTo>
                  <a:pt x="1109" y="1234"/>
                </a:lnTo>
                <a:lnTo>
                  <a:pt x="1117" y="1233"/>
                </a:lnTo>
                <a:lnTo>
                  <a:pt x="1124" y="1228"/>
                </a:lnTo>
                <a:lnTo>
                  <a:pt x="1142" y="1216"/>
                </a:lnTo>
                <a:lnTo>
                  <a:pt x="1165" y="1198"/>
                </a:lnTo>
                <a:lnTo>
                  <a:pt x="1202" y="1153"/>
                </a:lnTo>
                <a:lnTo>
                  <a:pt x="1230" y="1121"/>
                </a:lnTo>
                <a:lnTo>
                  <a:pt x="1248" y="1099"/>
                </a:lnTo>
                <a:lnTo>
                  <a:pt x="1252" y="1089"/>
                </a:lnTo>
                <a:lnTo>
                  <a:pt x="1254" y="1086"/>
                </a:lnTo>
                <a:lnTo>
                  <a:pt x="1254" y="1085"/>
                </a:lnTo>
                <a:lnTo>
                  <a:pt x="1254" y="1083"/>
                </a:lnTo>
                <a:lnTo>
                  <a:pt x="1255" y="1080"/>
                </a:lnTo>
                <a:lnTo>
                  <a:pt x="1260" y="1073"/>
                </a:lnTo>
                <a:lnTo>
                  <a:pt x="1276" y="1055"/>
                </a:lnTo>
                <a:lnTo>
                  <a:pt x="1305" y="1025"/>
                </a:lnTo>
                <a:lnTo>
                  <a:pt x="1318" y="1016"/>
                </a:lnTo>
                <a:lnTo>
                  <a:pt x="1344" y="999"/>
                </a:lnTo>
                <a:lnTo>
                  <a:pt x="1370" y="984"/>
                </a:lnTo>
                <a:lnTo>
                  <a:pt x="1380" y="979"/>
                </a:lnTo>
                <a:lnTo>
                  <a:pt x="1386" y="979"/>
                </a:lnTo>
                <a:lnTo>
                  <a:pt x="1419" y="989"/>
                </a:lnTo>
                <a:lnTo>
                  <a:pt x="1447" y="998"/>
                </a:lnTo>
                <a:lnTo>
                  <a:pt x="1447" y="958"/>
                </a:lnTo>
                <a:lnTo>
                  <a:pt x="1451" y="958"/>
                </a:lnTo>
                <a:lnTo>
                  <a:pt x="1466" y="957"/>
                </a:lnTo>
                <a:lnTo>
                  <a:pt x="1475" y="958"/>
                </a:lnTo>
                <a:lnTo>
                  <a:pt x="1484" y="961"/>
                </a:lnTo>
                <a:lnTo>
                  <a:pt x="1495" y="966"/>
                </a:lnTo>
                <a:lnTo>
                  <a:pt x="1504" y="972"/>
                </a:lnTo>
                <a:lnTo>
                  <a:pt x="1513" y="979"/>
                </a:lnTo>
                <a:lnTo>
                  <a:pt x="1522" y="985"/>
                </a:lnTo>
                <a:lnTo>
                  <a:pt x="1537" y="993"/>
                </a:lnTo>
                <a:lnTo>
                  <a:pt x="1551" y="998"/>
                </a:lnTo>
                <a:lnTo>
                  <a:pt x="1560" y="999"/>
                </a:lnTo>
                <a:lnTo>
                  <a:pt x="1587" y="999"/>
                </a:lnTo>
                <a:lnTo>
                  <a:pt x="1632" y="999"/>
                </a:lnTo>
                <a:lnTo>
                  <a:pt x="1680" y="998"/>
                </a:lnTo>
                <a:lnTo>
                  <a:pt x="1697" y="998"/>
                </a:lnTo>
                <a:lnTo>
                  <a:pt x="1707" y="996"/>
                </a:lnTo>
                <a:lnTo>
                  <a:pt x="1715" y="992"/>
                </a:lnTo>
                <a:lnTo>
                  <a:pt x="1722" y="982"/>
                </a:lnTo>
                <a:lnTo>
                  <a:pt x="1740" y="958"/>
                </a:lnTo>
                <a:lnTo>
                  <a:pt x="1755" y="936"/>
                </a:lnTo>
                <a:lnTo>
                  <a:pt x="1761" y="925"/>
                </a:lnTo>
                <a:lnTo>
                  <a:pt x="1799" y="919"/>
                </a:lnTo>
                <a:lnTo>
                  <a:pt x="1801" y="924"/>
                </a:lnTo>
                <a:lnTo>
                  <a:pt x="1807" y="937"/>
                </a:lnTo>
                <a:lnTo>
                  <a:pt x="1813" y="957"/>
                </a:lnTo>
                <a:lnTo>
                  <a:pt x="1816" y="967"/>
                </a:lnTo>
                <a:lnTo>
                  <a:pt x="1817" y="979"/>
                </a:lnTo>
                <a:lnTo>
                  <a:pt x="1819" y="989"/>
                </a:lnTo>
                <a:lnTo>
                  <a:pt x="1825" y="998"/>
                </a:lnTo>
                <a:lnTo>
                  <a:pt x="1831" y="1004"/>
                </a:lnTo>
                <a:lnTo>
                  <a:pt x="1838" y="1010"/>
                </a:lnTo>
                <a:lnTo>
                  <a:pt x="1846" y="1013"/>
                </a:lnTo>
                <a:lnTo>
                  <a:pt x="1852" y="1016"/>
                </a:lnTo>
                <a:lnTo>
                  <a:pt x="1858" y="1017"/>
                </a:lnTo>
                <a:lnTo>
                  <a:pt x="1861" y="1037"/>
                </a:lnTo>
                <a:lnTo>
                  <a:pt x="1862" y="1052"/>
                </a:lnTo>
                <a:lnTo>
                  <a:pt x="1864" y="1062"/>
                </a:lnTo>
                <a:lnTo>
                  <a:pt x="1864" y="1064"/>
                </a:lnTo>
                <a:lnTo>
                  <a:pt x="1867" y="1062"/>
                </a:lnTo>
                <a:lnTo>
                  <a:pt x="1877" y="1058"/>
                </a:lnTo>
                <a:lnTo>
                  <a:pt x="1893" y="1049"/>
                </a:lnTo>
                <a:lnTo>
                  <a:pt x="1888" y="1061"/>
                </a:lnTo>
                <a:lnTo>
                  <a:pt x="1874" y="1092"/>
                </a:lnTo>
                <a:lnTo>
                  <a:pt x="1862" y="1127"/>
                </a:lnTo>
                <a:lnTo>
                  <a:pt x="1859" y="1142"/>
                </a:lnTo>
                <a:lnTo>
                  <a:pt x="1858" y="1153"/>
                </a:lnTo>
                <a:lnTo>
                  <a:pt x="1859" y="1157"/>
                </a:lnTo>
                <a:lnTo>
                  <a:pt x="1862" y="1162"/>
                </a:lnTo>
                <a:lnTo>
                  <a:pt x="1867" y="1165"/>
                </a:lnTo>
                <a:lnTo>
                  <a:pt x="1871" y="1168"/>
                </a:lnTo>
                <a:lnTo>
                  <a:pt x="1884" y="1172"/>
                </a:lnTo>
                <a:lnTo>
                  <a:pt x="1897" y="1174"/>
                </a:lnTo>
                <a:lnTo>
                  <a:pt x="1897" y="1159"/>
                </a:lnTo>
                <a:lnTo>
                  <a:pt x="1874" y="1127"/>
                </a:lnTo>
                <a:lnTo>
                  <a:pt x="1897" y="1102"/>
                </a:lnTo>
                <a:lnTo>
                  <a:pt x="1905" y="1074"/>
                </a:lnTo>
                <a:lnTo>
                  <a:pt x="1959" y="1067"/>
                </a:lnTo>
                <a:lnTo>
                  <a:pt x="1968" y="1058"/>
                </a:lnTo>
                <a:lnTo>
                  <a:pt x="1991" y="1037"/>
                </a:lnTo>
                <a:lnTo>
                  <a:pt x="2003" y="1023"/>
                </a:lnTo>
                <a:lnTo>
                  <a:pt x="2013" y="1010"/>
                </a:lnTo>
                <a:lnTo>
                  <a:pt x="2022" y="998"/>
                </a:lnTo>
                <a:lnTo>
                  <a:pt x="2028" y="987"/>
                </a:lnTo>
                <a:lnTo>
                  <a:pt x="2036" y="951"/>
                </a:lnTo>
                <a:lnTo>
                  <a:pt x="2042" y="927"/>
                </a:lnTo>
                <a:lnTo>
                  <a:pt x="2045" y="900"/>
                </a:lnTo>
                <a:lnTo>
                  <a:pt x="2048" y="874"/>
                </a:lnTo>
                <a:lnTo>
                  <a:pt x="2048" y="863"/>
                </a:lnTo>
                <a:lnTo>
                  <a:pt x="2046" y="853"/>
                </a:lnTo>
                <a:lnTo>
                  <a:pt x="2045" y="845"/>
                </a:lnTo>
                <a:lnTo>
                  <a:pt x="2042" y="839"/>
                </a:lnTo>
                <a:lnTo>
                  <a:pt x="2037" y="835"/>
                </a:lnTo>
                <a:lnTo>
                  <a:pt x="2031" y="833"/>
                </a:lnTo>
                <a:lnTo>
                  <a:pt x="2021" y="833"/>
                </a:lnTo>
                <a:lnTo>
                  <a:pt x="2015" y="832"/>
                </a:lnTo>
                <a:lnTo>
                  <a:pt x="2013" y="830"/>
                </a:lnTo>
                <a:lnTo>
                  <a:pt x="2013" y="829"/>
                </a:lnTo>
                <a:lnTo>
                  <a:pt x="2018" y="827"/>
                </a:lnTo>
                <a:lnTo>
                  <a:pt x="2021" y="826"/>
                </a:lnTo>
                <a:lnTo>
                  <a:pt x="1997" y="833"/>
                </a:lnTo>
                <a:lnTo>
                  <a:pt x="2009" y="799"/>
                </a:lnTo>
                <a:lnTo>
                  <a:pt x="2043" y="761"/>
                </a:lnTo>
                <a:lnTo>
                  <a:pt x="2073" y="699"/>
                </a:lnTo>
                <a:lnTo>
                  <a:pt x="2165" y="704"/>
                </a:lnTo>
                <a:lnTo>
                  <a:pt x="2223" y="722"/>
                </a:lnTo>
                <a:lnTo>
                  <a:pt x="2269" y="707"/>
                </a:lnTo>
                <a:lnTo>
                  <a:pt x="2295" y="662"/>
                </a:lnTo>
                <a:lnTo>
                  <a:pt x="2342" y="654"/>
                </a:lnTo>
                <a:lnTo>
                  <a:pt x="2331" y="668"/>
                </a:lnTo>
                <a:lnTo>
                  <a:pt x="2319" y="684"/>
                </a:lnTo>
                <a:lnTo>
                  <a:pt x="2307" y="707"/>
                </a:lnTo>
                <a:lnTo>
                  <a:pt x="2295" y="737"/>
                </a:lnTo>
                <a:lnTo>
                  <a:pt x="2289" y="753"/>
                </a:lnTo>
                <a:lnTo>
                  <a:pt x="2283" y="773"/>
                </a:lnTo>
                <a:lnTo>
                  <a:pt x="2278" y="793"/>
                </a:lnTo>
                <a:lnTo>
                  <a:pt x="2275" y="815"/>
                </a:lnTo>
                <a:lnTo>
                  <a:pt x="2274" y="839"/>
                </a:lnTo>
                <a:lnTo>
                  <a:pt x="2272" y="863"/>
                </a:lnTo>
                <a:lnTo>
                  <a:pt x="2284" y="910"/>
                </a:lnTo>
                <a:lnTo>
                  <a:pt x="2334" y="833"/>
                </a:lnTo>
                <a:lnTo>
                  <a:pt x="2340" y="826"/>
                </a:lnTo>
                <a:lnTo>
                  <a:pt x="2352" y="811"/>
                </a:lnTo>
                <a:lnTo>
                  <a:pt x="2358" y="800"/>
                </a:lnTo>
                <a:lnTo>
                  <a:pt x="2363" y="791"/>
                </a:lnTo>
                <a:lnTo>
                  <a:pt x="2366" y="782"/>
                </a:lnTo>
                <a:lnTo>
                  <a:pt x="2366" y="779"/>
                </a:lnTo>
                <a:lnTo>
                  <a:pt x="2364" y="776"/>
                </a:lnTo>
                <a:lnTo>
                  <a:pt x="2349" y="743"/>
                </a:lnTo>
                <a:lnTo>
                  <a:pt x="2342" y="722"/>
                </a:lnTo>
                <a:lnTo>
                  <a:pt x="2346" y="716"/>
                </a:lnTo>
                <a:lnTo>
                  <a:pt x="2357" y="701"/>
                </a:lnTo>
                <a:lnTo>
                  <a:pt x="2372" y="684"/>
                </a:lnTo>
                <a:lnTo>
                  <a:pt x="2379" y="677"/>
                </a:lnTo>
                <a:lnTo>
                  <a:pt x="2387" y="672"/>
                </a:lnTo>
                <a:lnTo>
                  <a:pt x="2449" y="665"/>
                </a:lnTo>
                <a:lnTo>
                  <a:pt x="2459" y="662"/>
                </a:lnTo>
                <a:lnTo>
                  <a:pt x="2485" y="654"/>
                </a:lnTo>
                <a:lnTo>
                  <a:pt x="2518" y="642"/>
                </a:lnTo>
                <a:lnTo>
                  <a:pt x="2533" y="634"/>
                </a:lnTo>
                <a:lnTo>
                  <a:pt x="2548" y="627"/>
                </a:lnTo>
                <a:lnTo>
                  <a:pt x="2560" y="618"/>
                </a:lnTo>
                <a:lnTo>
                  <a:pt x="2571" y="607"/>
                </a:lnTo>
                <a:lnTo>
                  <a:pt x="2580" y="595"/>
                </a:lnTo>
                <a:lnTo>
                  <a:pt x="2586" y="583"/>
                </a:lnTo>
                <a:lnTo>
                  <a:pt x="2587" y="573"/>
                </a:lnTo>
                <a:lnTo>
                  <a:pt x="2587" y="567"/>
                </a:lnTo>
                <a:lnTo>
                  <a:pt x="2587" y="562"/>
                </a:lnTo>
                <a:lnTo>
                  <a:pt x="2584" y="558"/>
                </a:lnTo>
                <a:lnTo>
                  <a:pt x="2581" y="553"/>
                </a:lnTo>
                <a:lnTo>
                  <a:pt x="2577" y="550"/>
                </a:lnTo>
                <a:lnTo>
                  <a:pt x="2571" y="547"/>
                </a:lnTo>
                <a:lnTo>
                  <a:pt x="2580" y="544"/>
                </a:lnTo>
                <a:lnTo>
                  <a:pt x="2598" y="535"/>
                </a:lnTo>
                <a:lnTo>
                  <a:pt x="2608" y="529"/>
                </a:lnTo>
                <a:lnTo>
                  <a:pt x="2617" y="523"/>
                </a:lnTo>
                <a:lnTo>
                  <a:pt x="2625" y="514"/>
                </a:lnTo>
                <a:lnTo>
                  <a:pt x="2626" y="509"/>
                </a:lnTo>
                <a:lnTo>
                  <a:pt x="2628" y="505"/>
                </a:lnTo>
                <a:lnTo>
                  <a:pt x="2629" y="500"/>
                </a:lnTo>
                <a:lnTo>
                  <a:pt x="2629" y="499"/>
                </a:lnTo>
                <a:lnTo>
                  <a:pt x="2631" y="499"/>
                </a:lnTo>
                <a:lnTo>
                  <a:pt x="2634" y="499"/>
                </a:lnTo>
                <a:lnTo>
                  <a:pt x="2644" y="514"/>
                </a:lnTo>
                <a:lnTo>
                  <a:pt x="2654" y="523"/>
                </a:lnTo>
                <a:lnTo>
                  <a:pt x="2658" y="526"/>
                </a:lnTo>
                <a:lnTo>
                  <a:pt x="2664" y="529"/>
                </a:lnTo>
                <a:lnTo>
                  <a:pt x="2670" y="532"/>
                </a:lnTo>
                <a:lnTo>
                  <a:pt x="2678" y="533"/>
                </a:lnTo>
                <a:lnTo>
                  <a:pt x="2685" y="533"/>
                </a:lnTo>
                <a:lnTo>
                  <a:pt x="2693" y="530"/>
                </a:lnTo>
                <a:lnTo>
                  <a:pt x="2706" y="526"/>
                </a:lnTo>
                <a:lnTo>
                  <a:pt x="2714" y="520"/>
                </a:lnTo>
                <a:lnTo>
                  <a:pt x="2717" y="517"/>
                </a:lnTo>
                <a:lnTo>
                  <a:pt x="2717" y="515"/>
                </a:lnTo>
                <a:lnTo>
                  <a:pt x="2717" y="509"/>
                </a:lnTo>
                <a:lnTo>
                  <a:pt x="2714" y="506"/>
                </a:lnTo>
                <a:lnTo>
                  <a:pt x="2709" y="503"/>
                </a:lnTo>
                <a:lnTo>
                  <a:pt x="2705" y="5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Freeform 111"/>
          <p:cNvSpPr/>
          <p:nvPr/>
        </p:nvSpPr>
        <p:spPr>
          <a:xfrm>
            <a:off x="4073400" y="1539720"/>
            <a:ext cx="4324320" cy="2014560"/>
          </a:xfrm>
          <a:custGeom>
            <a:avLst/>
            <a:gdLst>
              <a:gd name="textAreaLeft" fmla="*/ 0 w 4324320"/>
              <a:gd name="textAreaRight" fmla="*/ 4324680 w 4324320"/>
              <a:gd name="textAreaTop" fmla="*/ 0 h 2014560"/>
              <a:gd name="textAreaBottom" fmla="*/ 2014560 h 2014560"/>
            </a:gdLst>
            <a:ahLst/>
            <a:rect l="textAreaLeft" t="textAreaTop" r="textAreaRight" b="textAreaBottom"/>
            <a:pathLst>
              <a:path w="2724" h="1269">
                <a:moveTo>
                  <a:pt x="2705" y="500"/>
                </a:moveTo>
                <a:lnTo>
                  <a:pt x="2705" y="500"/>
                </a:lnTo>
                <a:lnTo>
                  <a:pt x="2711" y="494"/>
                </a:lnTo>
                <a:lnTo>
                  <a:pt x="2715" y="488"/>
                </a:lnTo>
                <a:lnTo>
                  <a:pt x="2721" y="481"/>
                </a:lnTo>
                <a:lnTo>
                  <a:pt x="2724" y="475"/>
                </a:lnTo>
                <a:lnTo>
                  <a:pt x="2724" y="472"/>
                </a:lnTo>
                <a:lnTo>
                  <a:pt x="2724" y="469"/>
                </a:lnTo>
                <a:lnTo>
                  <a:pt x="2723" y="466"/>
                </a:lnTo>
                <a:lnTo>
                  <a:pt x="2720" y="464"/>
                </a:lnTo>
                <a:lnTo>
                  <a:pt x="2715" y="463"/>
                </a:lnTo>
                <a:lnTo>
                  <a:pt x="2708" y="463"/>
                </a:lnTo>
                <a:lnTo>
                  <a:pt x="2684" y="461"/>
                </a:lnTo>
                <a:lnTo>
                  <a:pt x="2675" y="460"/>
                </a:lnTo>
                <a:lnTo>
                  <a:pt x="2667" y="458"/>
                </a:lnTo>
                <a:lnTo>
                  <a:pt x="2663" y="455"/>
                </a:lnTo>
                <a:lnTo>
                  <a:pt x="2660" y="451"/>
                </a:lnTo>
                <a:lnTo>
                  <a:pt x="2658" y="446"/>
                </a:lnTo>
                <a:lnTo>
                  <a:pt x="2658" y="440"/>
                </a:lnTo>
                <a:lnTo>
                  <a:pt x="2660" y="436"/>
                </a:lnTo>
                <a:lnTo>
                  <a:pt x="2658" y="434"/>
                </a:lnTo>
                <a:lnTo>
                  <a:pt x="2655" y="429"/>
                </a:lnTo>
                <a:lnTo>
                  <a:pt x="2649" y="428"/>
                </a:lnTo>
                <a:lnTo>
                  <a:pt x="2641" y="428"/>
                </a:lnTo>
                <a:lnTo>
                  <a:pt x="2626" y="429"/>
                </a:lnTo>
                <a:lnTo>
                  <a:pt x="2620" y="431"/>
                </a:lnTo>
                <a:lnTo>
                  <a:pt x="2571" y="366"/>
                </a:lnTo>
                <a:lnTo>
                  <a:pt x="2554" y="363"/>
                </a:lnTo>
                <a:lnTo>
                  <a:pt x="2538" y="360"/>
                </a:lnTo>
                <a:lnTo>
                  <a:pt x="2519" y="357"/>
                </a:lnTo>
                <a:lnTo>
                  <a:pt x="2500" y="356"/>
                </a:lnTo>
                <a:lnTo>
                  <a:pt x="2483" y="357"/>
                </a:lnTo>
                <a:lnTo>
                  <a:pt x="2477" y="359"/>
                </a:lnTo>
                <a:lnTo>
                  <a:pt x="2471" y="362"/>
                </a:lnTo>
                <a:lnTo>
                  <a:pt x="2468" y="365"/>
                </a:lnTo>
                <a:lnTo>
                  <a:pt x="2468" y="371"/>
                </a:lnTo>
                <a:lnTo>
                  <a:pt x="2468" y="380"/>
                </a:lnTo>
                <a:lnTo>
                  <a:pt x="2471" y="387"/>
                </a:lnTo>
                <a:lnTo>
                  <a:pt x="2474" y="392"/>
                </a:lnTo>
                <a:lnTo>
                  <a:pt x="2476" y="395"/>
                </a:lnTo>
                <a:lnTo>
                  <a:pt x="2477" y="396"/>
                </a:lnTo>
                <a:lnTo>
                  <a:pt x="2477" y="398"/>
                </a:lnTo>
                <a:lnTo>
                  <a:pt x="2468" y="401"/>
                </a:lnTo>
                <a:lnTo>
                  <a:pt x="2459" y="402"/>
                </a:lnTo>
                <a:lnTo>
                  <a:pt x="2452" y="401"/>
                </a:lnTo>
                <a:lnTo>
                  <a:pt x="2446" y="398"/>
                </a:lnTo>
                <a:lnTo>
                  <a:pt x="2438" y="395"/>
                </a:lnTo>
                <a:lnTo>
                  <a:pt x="2431" y="390"/>
                </a:lnTo>
                <a:lnTo>
                  <a:pt x="2423" y="386"/>
                </a:lnTo>
                <a:lnTo>
                  <a:pt x="2412" y="383"/>
                </a:lnTo>
                <a:lnTo>
                  <a:pt x="2402" y="381"/>
                </a:lnTo>
                <a:lnTo>
                  <a:pt x="2378" y="381"/>
                </a:lnTo>
                <a:lnTo>
                  <a:pt x="2355" y="380"/>
                </a:lnTo>
                <a:lnTo>
                  <a:pt x="2330" y="378"/>
                </a:lnTo>
                <a:lnTo>
                  <a:pt x="2331" y="369"/>
                </a:lnTo>
                <a:lnTo>
                  <a:pt x="2331" y="351"/>
                </a:lnTo>
                <a:lnTo>
                  <a:pt x="2331" y="342"/>
                </a:lnTo>
                <a:lnTo>
                  <a:pt x="2328" y="333"/>
                </a:lnTo>
                <a:lnTo>
                  <a:pt x="2324" y="327"/>
                </a:lnTo>
                <a:lnTo>
                  <a:pt x="2322" y="326"/>
                </a:lnTo>
                <a:lnTo>
                  <a:pt x="2319" y="324"/>
                </a:lnTo>
                <a:lnTo>
                  <a:pt x="2238" y="324"/>
                </a:lnTo>
                <a:lnTo>
                  <a:pt x="2191" y="322"/>
                </a:lnTo>
                <a:lnTo>
                  <a:pt x="2165" y="321"/>
                </a:lnTo>
                <a:lnTo>
                  <a:pt x="2150" y="282"/>
                </a:lnTo>
                <a:lnTo>
                  <a:pt x="2120" y="264"/>
                </a:lnTo>
                <a:lnTo>
                  <a:pt x="2078" y="252"/>
                </a:lnTo>
                <a:lnTo>
                  <a:pt x="2072" y="250"/>
                </a:lnTo>
                <a:lnTo>
                  <a:pt x="2060" y="247"/>
                </a:lnTo>
                <a:lnTo>
                  <a:pt x="2052" y="246"/>
                </a:lnTo>
                <a:lnTo>
                  <a:pt x="2046" y="247"/>
                </a:lnTo>
                <a:lnTo>
                  <a:pt x="2042" y="250"/>
                </a:lnTo>
                <a:lnTo>
                  <a:pt x="2040" y="253"/>
                </a:lnTo>
                <a:lnTo>
                  <a:pt x="2039" y="256"/>
                </a:lnTo>
                <a:lnTo>
                  <a:pt x="2034" y="279"/>
                </a:lnTo>
                <a:lnTo>
                  <a:pt x="2031" y="286"/>
                </a:lnTo>
                <a:lnTo>
                  <a:pt x="2016" y="298"/>
                </a:lnTo>
                <a:lnTo>
                  <a:pt x="1986" y="298"/>
                </a:lnTo>
                <a:lnTo>
                  <a:pt x="1972" y="297"/>
                </a:lnTo>
                <a:lnTo>
                  <a:pt x="1965" y="295"/>
                </a:lnTo>
                <a:lnTo>
                  <a:pt x="1957" y="294"/>
                </a:lnTo>
                <a:lnTo>
                  <a:pt x="1947" y="298"/>
                </a:lnTo>
                <a:lnTo>
                  <a:pt x="1933" y="303"/>
                </a:lnTo>
                <a:lnTo>
                  <a:pt x="1921" y="304"/>
                </a:lnTo>
                <a:lnTo>
                  <a:pt x="1909" y="306"/>
                </a:lnTo>
                <a:lnTo>
                  <a:pt x="1897" y="264"/>
                </a:lnTo>
                <a:lnTo>
                  <a:pt x="1879" y="217"/>
                </a:lnTo>
                <a:lnTo>
                  <a:pt x="1887" y="187"/>
                </a:lnTo>
                <a:lnTo>
                  <a:pt x="1810" y="187"/>
                </a:lnTo>
                <a:lnTo>
                  <a:pt x="1802" y="209"/>
                </a:lnTo>
                <a:lnTo>
                  <a:pt x="1810" y="229"/>
                </a:lnTo>
                <a:lnTo>
                  <a:pt x="1810" y="249"/>
                </a:lnTo>
                <a:lnTo>
                  <a:pt x="1781" y="235"/>
                </a:lnTo>
                <a:lnTo>
                  <a:pt x="1740" y="217"/>
                </a:lnTo>
                <a:lnTo>
                  <a:pt x="1724" y="211"/>
                </a:lnTo>
                <a:lnTo>
                  <a:pt x="1701" y="203"/>
                </a:lnTo>
                <a:lnTo>
                  <a:pt x="1673" y="194"/>
                </a:lnTo>
                <a:lnTo>
                  <a:pt x="1673" y="175"/>
                </a:lnTo>
                <a:lnTo>
                  <a:pt x="1653" y="179"/>
                </a:lnTo>
                <a:lnTo>
                  <a:pt x="1611" y="209"/>
                </a:lnTo>
                <a:lnTo>
                  <a:pt x="1645" y="152"/>
                </a:lnTo>
                <a:lnTo>
                  <a:pt x="1673" y="115"/>
                </a:lnTo>
                <a:lnTo>
                  <a:pt x="1674" y="107"/>
                </a:lnTo>
                <a:lnTo>
                  <a:pt x="1676" y="89"/>
                </a:lnTo>
                <a:lnTo>
                  <a:pt x="1677" y="80"/>
                </a:lnTo>
                <a:lnTo>
                  <a:pt x="1677" y="71"/>
                </a:lnTo>
                <a:lnTo>
                  <a:pt x="1676" y="63"/>
                </a:lnTo>
                <a:lnTo>
                  <a:pt x="1674" y="62"/>
                </a:lnTo>
                <a:lnTo>
                  <a:pt x="1673" y="60"/>
                </a:lnTo>
                <a:lnTo>
                  <a:pt x="1661" y="56"/>
                </a:lnTo>
                <a:lnTo>
                  <a:pt x="1648" y="48"/>
                </a:lnTo>
                <a:lnTo>
                  <a:pt x="1633" y="38"/>
                </a:lnTo>
                <a:lnTo>
                  <a:pt x="1596" y="60"/>
                </a:lnTo>
                <a:lnTo>
                  <a:pt x="1576" y="23"/>
                </a:lnTo>
                <a:lnTo>
                  <a:pt x="1576" y="0"/>
                </a:lnTo>
                <a:lnTo>
                  <a:pt x="1534" y="0"/>
                </a:lnTo>
                <a:lnTo>
                  <a:pt x="1514" y="45"/>
                </a:lnTo>
                <a:lnTo>
                  <a:pt x="1484" y="92"/>
                </a:lnTo>
                <a:lnTo>
                  <a:pt x="1377" y="83"/>
                </a:lnTo>
                <a:lnTo>
                  <a:pt x="1290" y="172"/>
                </a:lnTo>
                <a:lnTo>
                  <a:pt x="1285" y="214"/>
                </a:lnTo>
                <a:lnTo>
                  <a:pt x="1236" y="217"/>
                </a:lnTo>
                <a:lnTo>
                  <a:pt x="1234" y="223"/>
                </a:lnTo>
                <a:lnTo>
                  <a:pt x="1233" y="237"/>
                </a:lnTo>
                <a:lnTo>
                  <a:pt x="1231" y="246"/>
                </a:lnTo>
                <a:lnTo>
                  <a:pt x="1233" y="255"/>
                </a:lnTo>
                <a:lnTo>
                  <a:pt x="1236" y="264"/>
                </a:lnTo>
                <a:lnTo>
                  <a:pt x="1240" y="271"/>
                </a:lnTo>
                <a:lnTo>
                  <a:pt x="1252" y="285"/>
                </a:lnTo>
                <a:lnTo>
                  <a:pt x="1263" y="295"/>
                </a:lnTo>
                <a:lnTo>
                  <a:pt x="1270" y="306"/>
                </a:lnTo>
                <a:lnTo>
                  <a:pt x="1273" y="312"/>
                </a:lnTo>
                <a:lnTo>
                  <a:pt x="1275" y="316"/>
                </a:lnTo>
                <a:lnTo>
                  <a:pt x="1273" y="319"/>
                </a:lnTo>
                <a:lnTo>
                  <a:pt x="1272" y="319"/>
                </a:lnTo>
                <a:lnTo>
                  <a:pt x="1264" y="318"/>
                </a:lnTo>
                <a:lnTo>
                  <a:pt x="1254" y="313"/>
                </a:lnTo>
                <a:lnTo>
                  <a:pt x="1242" y="307"/>
                </a:lnTo>
                <a:lnTo>
                  <a:pt x="1219" y="294"/>
                </a:lnTo>
                <a:lnTo>
                  <a:pt x="1208" y="286"/>
                </a:lnTo>
                <a:lnTo>
                  <a:pt x="1171" y="279"/>
                </a:lnTo>
                <a:lnTo>
                  <a:pt x="1171" y="363"/>
                </a:lnTo>
                <a:lnTo>
                  <a:pt x="1169" y="368"/>
                </a:lnTo>
                <a:lnTo>
                  <a:pt x="1168" y="372"/>
                </a:lnTo>
                <a:lnTo>
                  <a:pt x="1165" y="378"/>
                </a:lnTo>
                <a:lnTo>
                  <a:pt x="1163" y="384"/>
                </a:lnTo>
                <a:lnTo>
                  <a:pt x="1165" y="390"/>
                </a:lnTo>
                <a:lnTo>
                  <a:pt x="1169" y="396"/>
                </a:lnTo>
                <a:lnTo>
                  <a:pt x="1178" y="402"/>
                </a:lnTo>
                <a:lnTo>
                  <a:pt x="1193" y="408"/>
                </a:lnTo>
                <a:lnTo>
                  <a:pt x="1186" y="431"/>
                </a:lnTo>
                <a:lnTo>
                  <a:pt x="1166" y="443"/>
                </a:lnTo>
                <a:lnTo>
                  <a:pt x="1160" y="448"/>
                </a:lnTo>
                <a:lnTo>
                  <a:pt x="1145" y="461"/>
                </a:lnTo>
                <a:lnTo>
                  <a:pt x="1138" y="470"/>
                </a:lnTo>
                <a:lnTo>
                  <a:pt x="1130" y="479"/>
                </a:lnTo>
                <a:lnTo>
                  <a:pt x="1124" y="488"/>
                </a:lnTo>
                <a:lnTo>
                  <a:pt x="1121" y="497"/>
                </a:lnTo>
                <a:lnTo>
                  <a:pt x="1124" y="482"/>
                </a:lnTo>
                <a:lnTo>
                  <a:pt x="1127" y="451"/>
                </a:lnTo>
                <a:lnTo>
                  <a:pt x="1129" y="432"/>
                </a:lnTo>
                <a:lnTo>
                  <a:pt x="1127" y="414"/>
                </a:lnTo>
                <a:lnTo>
                  <a:pt x="1126" y="407"/>
                </a:lnTo>
                <a:lnTo>
                  <a:pt x="1124" y="399"/>
                </a:lnTo>
                <a:lnTo>
                  <a:pt x="1121" y="393"/>
                </a:lnTo>
                <a:lnTo>
                  <a:pt x="1117" y="390"/>
                </a:lnTo>
                <a:lnTo>
                  <a:pt x="1110" y="383"/>
                </a:lnTo>
                <a:lnTo>
                  <a:pt x="1110" y="380"/>
                </a:lnTo>
                <a:lnTo>
                  <a:pt x="1109" y="377"/>
                </a:lnTo>
                <a:lnTo>
                  <a:pt x="1110" y="371"/>
                </a:lnTo>
                <a:lnTo>
                  <a:pt x="1115" y="365"/>
                </a:lnTo>
                <a:lnTo>
                  <a:pt x="1120" y="362"/>
                </a:lnTo>
                <a:lnTo>
                  <a:pt x="1124" y="357"/>
                </a:lnTo>
                <a:lnTo>
                  <a:pt x="1129" y="356"/>
                </a:lnTo>
                <a:lnTo>
                  <a:pt x="1114" y="274"/>
                </a:lnTo>
                <a:lnTo>
                  <a:pt x="1100" y="280"/>
                </a:lnTo>
                <a:lnTo>
                  <a:pt x="1086" y="286"/>
                </a:lnTo>
                <a:lnTo>
                  <a:pt x="1070" y="295"/>
                </a:lnTo>
                <a:lnTo>
                  <a:pt x="1055" y="307"/>
                </a:lnTo>
                <a:lnTo>
                  <a:pt x="1047" y="315"/>
                </a:lnTo>
                <a:lnTo>
                  <a:pt x="1041" y="324"/>
                </a:lnTo>
                <a:lnTo>
                  <a:pt x="1035" y="332"/>
                </a:lnTo>
                <a:lnTo>
                  <a:pt x="1032" y="342"/>
                </a:lnTo>
                <a:lnTo>
                  <a:pt x="1029" y="351"/>
                </a:lnTo>
                <a:lnTo>
                  <a:pt x="1029" y="363"/>
                </a:lnTo>
                <a:lnTo>
                  <a:pt x="1032" y="369"/>
                </a:lnTo>
                <a:lnTo>
                  <a:pt x="1037" y="386"/>
                </a:lnTo>
                <a:lnTo>
                  <a:pt x="1038" y="396"/>
                </a:lnTo>
                <a:lnTo>
                  <a:pt x="1040" y="408"/>
                </a:lnTo>
                <a:lnTo>
                  <a:pt x="1038" y="420"/>
                </a:lnTo>
                <a:lnTo>
                  <a:pt x="1037" y="431"/>
                </a:lnTo>
                <a:lnTo>
                  <a:pt x="1034" y="423"/>
                </a:lnTo>
                <a:lnTo>
                  <a:pt x="1025" y="405"/>
                </a:lnTo>
                <a:lnTo>
                  <a:pt x="1019" y="396"/>
                </a:lnTo>
                <a:lnTo>
                  <a:pt x="1013" y="390"/>
                </a:lnTo>
                <a:lnTo>
                  <a:pt x="1007" y="386"/>
                </a:lnTo>
                <a:lnTo>
                  <a:pt x="1002" y="386"/>
                </a:lnTo>
                <a:lnTo>
                  <a:pt x="999" y="386"/>
                </a:lnTo>
                <a:lnTo>
                  <a:pt x="991" y="389"/>
                </a:lnTo>
                <a:lnTo>
                  <a:pt x="985" y="395"/>
                </a:lnTo>
                <a:lnTo>
                  <a:pt x="976" y="405"/>
                </a:lnTo>
                <a:lnTo>
                  <a:pt x="970" y="416"/>
                </a:lnTo>
                <a:lnTo>
                  <a:pt x="967" y="420"/>
                </a:lnTo>
                <a:lnTo>
                  <a:pt x="927" y="413"/>
                </a:lnTo>
                <a:lnTo>
                  <a:pt x="900" y="405"/>
                </a:lnTo>
                <a:lnTo>
                  <a:pt x="900" y="436"/>
                </a:lnTo>
                <a:lnTo>
                  <a:pt x="877" y="440"/>
                </a:lnTo>
                <a:lnTo>
                  <a:pt x="857" y="440"/>
                </a:lnTo>
                <a:lnTo>
                  <a:pt x="818" y="440"/>
                </a:lnTo>
                <a:lnTo>
                  <a:pt x="818" y="478"/>
                </a:lnTo>
                <a:lnTo>
                  <a:pt x="777" y="463"/>
                </a:lnTo>
                <a:lnTo>
                  <a:pt x="765" y="436"/>
                </a:lnTo>
                <a:lnTo>
                  <a:pt x="753" y="451"/>
                </a:lnTo>
                <a:lnTo>
                  <a:pt x="750" y="490"/>
                </a:lnTo>
                <a:lnTo>
                  <a:pt x="750" y="515"/>
                </a:lnTo>
                <a:lnTo>
                  <a:pt x="731" y="520"/>
                </a:lnTo>
                <a:lnTo>
                  <a:pt x="704" y="527"/>
                </a:lnTo>
                <a:lnTo>
                  <a:pt x="693" y="542"/>
                </a:lnTo>
                <a:lnTo>
                  <a:pt x="646" y="573"/>
                </a:lnTo>
                <a:lnTo>
                  <a:pt x="624" y="550"/>
                </a:lnTo>
                <a:lnTo>
                  <a:pt x="624" y="508"/>
                </a:lnTo>
                <a:lnTo>
                  <a:pt x="597" y="490"/>
                </a:lnTo>
                <a:lnTo>
                  <a:pt x="600" y="488"/>
                </a:lnTo>
                <a:lnTo>
                  <a:pt x="606" y="485"/>
                </a:lnTo>
                <a:lnTo>
                  <a:pt x="610" y="485"/>
                </a:lnTo>
                <a:lnTo>
                  <a:pt x="615" y="485"/>
                </a:lnTo>
                <a:lnTo>
                  <a:pt x="621" y="488"/>
                </a:lnTo>
                <a:lnTo>
                  <a:pt x="628" y="493"/>
                </a:lnTo>
                <a:lnTo>
                  <a:pt x="636" y="499"/>
                </a:lnTo>
                <a:lnTo>
                  <a:pt x="648" y="506"/>
                </a:lnTo>
                <a:lnTo>
                  <a:pt x="658" y="511"/>
                </a:lnTo>
                <a:lnTo>
                  <a:pt x="664" y="512"/>
                </a:lnTo>
                <a:lnTo>
                  <a:pt x="669" y="511"/>
                </a:lnTo>
                <a:lnTo>
                  <a:pt x="675" y="509"/>
                </a:lnTo>
                <a:lnTo>
                  <a:pt x="678" y="506"/>
                </a:lnTo>
                <a:lnTo>
                  <a:pt x="681" y="502"/>
                </a:lnTo>
                <a:lnTo>
                  <a:pt x="684" y="493"/>
                </a:lnTo>
                <a:lnTo>
                  <a:pt x="684" y="484"/>
                </a:lnTo>
                <a:lnTo>
                  <a:pt x="684" y="470"/>
                </a:lnTo>
                <a:lnTo>
                  <a:pt x="681" y="455"/>
                </a:lnTo>
                <a:lnTo>
                  <a:pt x="678" y="436"/>
                </a:lnTo>
                <a:lnTo>
                  <a:pt x="672" y="428"/>
                </a:lnTo>
                <a:lnTo>
                  <a:pt x="663" y="420"/>
                </a:lnTo>
                <a:lnTo>
                  <a:pt x="652" y="413"/>
                </a:lnTo>
                <a:lnTo>
                  <a:pt x="637" y="404"/>
                </a:lnTo>
                <a:lnTo>
                  <a:pt x="618" y="396"/>
                </a:lnTo>
                <a:lnTo>
                  <a:pt x="607" y="393"/>
                </a:lnTo>
                <a:lnTo>
                  <a:pt x="594" y="392"/>
                </a:lnTo>
                <a:lnTo>
                  <a:pt x="582" y="390"/>
                </a:lnTo>
                <a:lnTo>
                  <a:pt x="567" y="390"/>
                </a:lnTo>
                <a:lnTo>
                  <a:pt x="562" y="380"/>
                </a:lnTo>
                <a:lnTo>
                  <a:pt x="556" y="372"/>
                </a:lnTo>
                <a:lnTo>
                  <a:pt x="548" y="362"/>
                </a:lnTo>
                <a:lnTo>
                  <a:pt x="539" y="354"/>
                </a:lnTo>
                <a:lnTo>
                  <a:pt x="535" y="350"/>
                </a:lnTo>
                <a:lnTo>
                  <a:pt x="529" y="348"/>
                </a:lnTo>
                <a:lnTo>
                  <a:pt x="524" y="347"/>
                </a:lnTo>
                <a:lnTo>
                  <a:pt x="518" y="347"/>
                </a:lnTo>
                <a:lnTo>
                  <a:pt x="512" y="348"/>
                </a:lnTo>
                <a:lnTo>
                  <a:pt x="505" y="351"/>
                </a:lnTo>
                <a:lnTo>
                  <a:pt x="491" y="360"/>
                </a:lnTo>
                <a:lnTo>
                  <a:pt x="476" y="368"/>
                </a:lnTo>
                <a:lnTo>
                  <a:pt x="444" y="381"/>
                </a:lnTo>
                <a:lnTo>
                  <a:pt x="431" y="387"/>
                </a:lnTo>
                <a:lnTo>
                  <a:pt x="420" y="393"/>
                </a:lnTo>
                <a:lnTo>
                  <a:pt x="413" y="399"/>
                </a:lnTo>
                <a:lnTo>
                  <a:pt x="410" y="402"/>
                </a:lnTo>
                <a:lnTo>
                  <a:pt x="410" y="405"/>
                </a:lnTo>
                <a:lnTo>
                  <a:pt x="408" y="410"/>
                </a:lnTo>
                <a:lnTo>
                  <a:pt x="404" y="416"/>
                </a:lnTo>
                <a:lnTo>
                  <a:pt x="398" y="420"/>
                </a:lnTo>
                <a:lnTo>
                  <a:pt x="390" y="423"/>
                </a:lnTo>
                <a:lnTo>
                  <a:pt x="377" y="429"/>
                </a:lnTo>
                <a:lnTo>
                  <a:pt x="371" y="431"/>
                </a:lnTo>
                <a:lnTo>
                  <a:pt x="360" y="470"/>
                </a:lnTo>
                <a:lnTo>
                  <a:pt x="325" y="497"/>
                </a:lnTo>
                <a:lnTo>
                  <a:pt x="271" y="558"/>
                </a:lnTo>
                <a:lnTo>
                  <a:pt x="238" y="622"/>
                </a:lnTo>
                <a:lnTo>
                  <a:pt x="211" y="639"/>
                </a:lnTo>
                <a:lnTo>
                  <a:pt x="203" y="692"/>
                </a:lnTo>
                <a:lnTo>
                  <a:pt x="211" y="726"/>
                </a:lnTo>
                <a:lnTo>
                  <a:pt x="256" y="741"/>
                </a:lnTo>
                <a:lnTo>
                  <a:pt x="291" y="738"/>
                </a:lnTo>
                <a:lnTo>
                  <a:pt x="298" y="769"/>
                </a:lnTo>
                <a:lnTo>
                  <a:pt x="298" y="799"/>
                </a:lnTo>
                <a:lnTo>
                  <a:pt x="345" y="796"/>
                </a:lnTo>
                <a:lnTo>
                  <a:pt x="356" y="756"/>
                </a:lnTo>
                <a:lnTo>
                  <a:pt x="380" y="707"/>
                </a:lnTo>
                <a:lnTo>
                  <a:pt x="375" y="657"/>
                </a:lnTo>
                <a:lnTo>
                  <a:pt x="398" y="615"/>
                </a:lnTo>
                <a:lnTo>
                  <a:pt x="429" y="573"/>
                </a:lnTo>
                <a:lnTo>
                  <a:pt x="455" y="542"/>
                </a:lnTo>
                <a:lnTo>
                  <a:pt x="461" y="539"/>
                </a:lnTo>
                <a:lnTo>
                  <a:pt x="467" y="536"/>
                </a:lnTo>
                <a:lnTo>
                  <a:pt x="473" y="533"/>
                </a:lnTo>
                <a:lnTo>
                  <a:pt x="479" y="533"/>
                </a:lnTo>
                <a:lnTo>
                  <a:pt x="481" y="535"/>
                </a:lnTo>
                <a:lnTo>
                  <a:pt x="484" y="536"/>
                </a:lnTo>
                <a:lnTo>
                  <a:pt x="484" y="539"/>
                </a:lnTo>
                <a:lnTo>
                  <a:pt x="485" y="542"/>
                </a:lnTo>
                <a:lnTo>
                  <a:pt x="482" y="555"/>
                </a:lnTo>
                <a:lnTo>
                  <a:pt x="478" y="567"/>
                </a:lnTo>
                <a:lnTo>
                  <a:pt x="472" y="577"/>
                </a:lnTo>
                <a:lnTo>
                  <a:pt x="466" y="585"/>
                </a:lnTo>
                <a:lnTo>
                  <a:pt x="460" y="589"/>
                </a:lnTo>
                <a:lnTo>
                  <a:pt x="454" y="592"/>
                </a:lnTo>
                <a:lnTo>
                  <a:pt x="449" y="595"/>
                </a:lnTo>
                <a:lnTo>
                  <a:pt x="444" y="597"/>
                </a:lnTo>
                <a:lnTo>
                  <a:pt x="429" y="642"/>
                </a:lnTo>
                <a:lnTo>
                  <a:pt x="429" y="648"/>
                </a:lnTo>
                <a:lnTo>
                  <a:pt x="431" y="654"/>
                </a:lnTo>
                <a:lnTo>
                  <a:pt x="434" y="662"/>
                </a:lnTo>
                <a:lnTo>
                  <a:pt x="440" y="669"/>
                </a:lnTo>
                <a:lnTo>
                  <a:pt x="447" y="677"/>
                </a:lnTo>
                <a:lnTo>
                  <a:pt x="461" y="681"/>
                </a:lnTo>
                <a:lnTo>
                  <a:pt x="469" y="683"/>
                </a:lnTo>
                <a:lnTo>
                  <a:pt x="479" y="684"/>
                </a:lnTo>
                <a:lnTo>
                  <a:pt x="497" y="686"/>
                </a:lnTo>
                <a:lnTo>
                  <a:pt x="512" y="690"/>
                </a:lnTo>
                <a:lnTo>
                  <a:pt x="526" y="695"/>
                </a:lnTo>
                <a:lnTo>
                  <a:pt x="536" y="699"/>
                </a:lnTo>
                <a:lnTo>
                  <a:pt x="550" y="707"/>
                </a:lnTo>
                <a:lnTo>
                  <a:pt x="554" y="711"/>
                </a:lnTo>
                <a:lnTo>
                  <a:pt x="517" y="722"/>
                </a:lnTo>
                <a:lnTo>
                  <a:pt x="475" y="719"/>
                </a:lnTo>
                <a:lnTo>
                  <a:pt x="444" y="769"/>
                </a:lnTo>
                <a:lnTo>
                  <a:pt x="413" y="784"/>
                </a:lnTo>
                <a:lnTo>
                  <a:pt x="410" y="833"/>
                </a:lnTo>
                <a:lnTo>
                  <a:pt x="387" y="853"/>
                </a:lnTo>
                <a:lnTo>
                  <a:pt x="276" y="848"/>
                </a:lnTo>
                <a:lnTo>
                  <a:pt x="276" y="796"/>
                </a:lnTo>
                <a:lnTo>
                  <a:pt x="273" y="794"/>
                </a:lnTo>
                <a:lnTo>
                  <a:pt x="268" y="794"/>
                </a:lnTo>
                <a:lnTo>
                  <a:pt x="264" y="794"/>
                </a:lnTo>
                <a:lnTo>
                  <a:pt x="259" y="796"/>
                </a:lnTo>
                <a:lnTo>
                  <a:pt x="255" y="800"/>
                </a:lnTo>
                <a:lnTo>
                  <a:pt x="252" y="806"/>
                </a:lnTo>
                <a:lnTo>
                  <a:pt x="249" y="814"/>
                </a:lnTo>
                <a:lnTo>
                  <a:pt x="246" y="833"/>
                </a:lnTo>
                <a:lnTo>
                  <a:pt x="243" y="851"/>
                </a:lnTo>
                <a:lnTo>
                  <a:pt x="238" y="868"/>
                </a:lnTo>
                <a:lnTo>
                  <a:pt x="203" y="883"/>
                </a:lnTo>
                <a:lnTo>
                  <a:pt x="172" y="933"/>
                </a:lnTo>
                <a:lnTo>
                  <a:pt x="142" y="955"/>
                </a:lnTo>
                <a:lnTo>
                  <a:pt x="104" y="960"/>
                </a:lnTo>
                <a:lnTo>
                  <a:pt x="92" y="982"/>
                </a:lnTo>
                <a:lnTo>
                  <a:pt x="104" y="1020"/>
                </a:lnTo>
                <a:lnTo>
                  <a:pt x="107" y="1026"/>
                </a:lnTo>
                <a:lnTo>
                  <a:pt x="110" y="1031"/>
                </a:lnTo>
                <a:lnTo>
                  <a:pt x="111" y="1038"/>
                </a:lnTo>
                <a:lnTo>
                  <a:pt x="113" y="1046"/>
                </a:lnTo>
                <a:lnTo>
                  <a:pt x="111" y="1055"/>
                </a:lnTo>
                <a:lnTo>
                  <a:pt x="107" y="1062"/>
                </a:lnTo>
                <a:lnTo>
                  <a:pt x="104" y="1067"/>
                </a:lnTo>
                <a:lnTo>
                  <a:pt x="99" y="1070"/>
                </a:lnTo>
                <a:lnTo>
                  <a:pt x="95" y="1073"/>
                </a:lnTo>
                <a:lnTo>
                  <a:pt x="89" y="1076"/>
                </a:lnTo>
                <a:lnTo>
                  <a:pt x="74" y="1079"/>
                </a:lnTo>
                <a:lnTo>
                  <a:pt x="59" y="1080"/>
                </a:lnTo>
                <a:lnTo>
                  <a:pt x="44" y="1079"/>
                </a:lnTo>
                <a:lnTo>
                  <a:pt x="18" y="1076"/>
                </a:lnTo>
                <a:lnTo>
                  <a:pt x="7" y="1074"/>
                </a:lnTo>
                <a:lnTo>
                  <a:pt x="0" y="1144"/>
                </a:lnTo>
                <a:lnTo>
                  <a:pt x="24" y="1204"/>
                </a:lnTo>
                <a:lnTo>
                  <a:pt x="74" y="1193"/>
                </a:lnTo>
                <a:lnTo>
                  <a:pt x="127" y="1174"/>
                </a:lnTo>
                <a:lnTo>
                  <a:pt x="157" y="1166"/>
                </a:lnTo>
                <a:lnTo>
                  <a:pt x="161" y="1132"/>
                </a:lnTo>
                <a:lnTo>
                  <a:pt x="184" y="1109"/>
                </a:lnTo>
                <a:lnTo>
                  <a:pt x="184" y="1059"/>
                </a:lnTo>
                <a:lnTo>
                  <a:pt x="188" y="1062"/>
                </a:lnTo>
                <a:lnTo>
                  <a:pt x="194" y="1067"/>
                </a:lnTo>
                <a:lnTo>
                  <a:pt x="202" y="1070"/>
                </a:lnTo>
                <a:lnTo>
                  <a:pt x="211" y="1073"/>
                </a:lnTo>
                <a:lnTo>
                  <a:pt x="223" y="1074"/>
                </a:lnTo>
                <a:lnTo>
                  <a:pt x="235" y="1074"/>
                </a:lnTo>
                <a:lnTo>
                  <a:pt x="249" y="1070"/>
                </a:lnTo>
                <a:lnTo>
                  <a:pt x="256" y="1068"/>
                </a:lnTo>
                <a:lnTo>
                  <a:pt x="262" y="1068"/>
                </a:lnTo>
                <a:lnTo>
                  <a:pt x="270" y="1068"/>
                </a:lnTo>
                <a:lnTo>
                  <a:pt x="276" y="1070"/>
                </a:lnTo>
                <a:lnTo>
                  <a:pt x="286" y="1076"/>
                </a:lnTo>
                <a:lnTo>
                  <a:pt x="295" y="1083"/>
                </a:lnTo>
                <a:lnTo>
                  <a:pt x="303" y="1092"/>
                </a:lnTo>
                <a:lnTo>
                  <a:pt x="309" y="1100"/>
                </a:lnTo>
                <a:lnTo>
                  <a:pt x="313" y="1109"/>
                </a:lnTo>
                <a:lnTo>
                  <a:pt x="345" y="1159"/>
                </a:lnTo>
                <a:lnTo>
                  <a:pt x="368" y="1159"/>
                </a:lnTo>
                <a:lnTo>
                  <a:pt x="375" y="1136"/>
                </a:lnTo>
                <a:lnTo>
                  <a:pt x="353" y="1102"/>
                </a:lnTo>
                <a:lnTo>
                  <a:pt x="337" y="1082"/>
                </a:lnTo>
                <a:lnTo>
                  <a:pt x="337" y="1062"/>
                </a:lnTo>
                <a:lnTo>
                  <a:pt x="348" y="1055"/>
                </a:lnTo>
                <a:lnTo>
                  <a:pt x="375" y="1094"/>
                </a:lnTo>
                <a:lnTo>
                  <a:pt x="405" y="1117"/>
                </a:lnTo>
                <a:lnTo>
                  <a:pt x="417" y="1151"/>
                </a:lnTo>
                <a:lnTo>
                  <a:pt x="425" y="1156"/>
                </a:lnTo>
                <a:lnTo>
                  <a:pt x="432" y="1160"/>
                </a:lnTo>
                <a:lnTo>
                  <a:pt x="441" y="1166"/>
                </a:lnTo>
                <a:lnTo>
                  <a:pt x="452" y="1168"/>
                </a:lnTo>
                <a:lnTo>
                  <a:pt x="455" y="1169"/>
                </a:lnTo>
                <a:lnTo>
                  <a:pt x="460" y="1168"/>
                </a:lnTo>
                <a:lnTo>
                  <a:pt x="463" y="1166"/>
                </a:lnTo>
                <a:lnTo>
                  <a:pt x="466" y="1165"/>
                </a:lnTo>
                <a:lnTo>
                  <a:pt x="467" y="1160"/>
                </a:lnTo>
                <a:lnTo>
                  <a:pt x="467" y="1154"/>
                </a:lnTo>
                <a:lnTo>
                  <a:pt x="467" y="1132"/>
                </a:lnTo>
                <a:lnTo>
                  <a:pt x="469" y="1117"/>
                </a:lnTo>
                <a:lnTo>
                  <a:pt x="470" y="1105"/>
                </a:lnTo>
                <a:lnTo>
                  <a:pt x="502" y="1117"/>
                </a:lnTo>
                <a:lnTo>
                  <a:pt x="524" y="1117"/>
                </a:lnTo>
                <a:lnTo>
                  <a:pt x="524" y="1082"/>
                </a:lnTo>
                <a:lnTo>
                  <a:pt x="524" y="1055"/>
                </a:lnTo>
                <a:lnTo>
                  <a:pt x="532" y="1025"/>
                </a:lnTo>
                <a:lnTo>
                  <a:pt x="586" y="1017"/>
                </a:lnTo>
                <a:lnTo>
                  <a:pt x="586" y="1023"/>
                </a:lnTo>
                <a:lnTo>
                  <a:pt x="588" y="1037"/>
                </a:lnTo>
                <a:lnTo>
                  <a:pt x="589" y="1043"/>
                </a:lnTo>
                <a:lnTo>
                  <a:pt x="591" y="1049"/>
                </a:lnTo>
                <a:lnTo>
                  <a:pt x="594" y="1053"/>
                </a:lnTo>
                <a:lnTo>
                  <a:pt x="597" y="1055"/>
                </a:lnTo>
                <a:lnTo>
                  <a:pt x="651" y="1055"/>
                </a:lnTo>
                <a:lnTo>
                  <a:pt x="628" y="1005"/>
                </a:lnTo>
                <a:lnTo>
                  <a:pt x="654" y="1005"/>
                </a:lnTo>
                <a:lnTo>
                  <a:pt x="686" y="1055"/>
                </a:lnTo>
                <a:lnTo>
                  <a:pt x="687" y="1062"/>
                </a:lnTo>
                <a:lnTo>
                  <a:pt x="687" y="1071"/>
                </a:lnTo>
                <a:lnTo>
                  <a:pt x="687" y="1080"/>
                </a:lnTo>
                <a:lnTo>
                  <a:pt x="684" y="1089"/>
                </a:lnTo>
                <a:lnTo>
                  <a:pt x="681" y="1094"/>
                </a:lnTo>
                <a:lnTo>
                  <a:pt x="677" y="1097"/>
                </a:lnTo>
                <a:lnTo>
                  <a:pt x="672" y="1100"/>
                </a:lnTo>
                <a:lnTo>
                  <a:pt x="666" y="1103"/>
                </a:lnTo>
                <a:lnTo>
                  <a:pt x="658" y="1105"/>
                </a:lnTo>
                <a:lnTo>
                  <a:pt x="651" y="1105"/>
                </a:lnTo>
                <a:lnTo>
                  <a:pt x="616" y="1106"/>
                </a:lnTo>
                <a:lnTo>
                  <a:pt x="591" y="1109"/>
                </a:lnTo>
                <a:lnTo>
                  <a:pt x="567" y="1112"/>
                </a:lnTo>
                <a:lnTo>
                  <a:pt x="532" y="1147"/>
                </a:lnTo>
                <a:lnTo>
                  <a:pt x="533" y="1156"/>
                </a:lnTo>
                <a:lnTo>
                  <a:pt x="536" y="1165"/>
                </a:lnTo>
                <a:lnTo>
                  <a:pt x="541" y="1175"/>
                </a:lnTo>
                <a:lnTo>
                  <a:pt x="548" y="1186"/>
                </a:lnTo>
                <a:lnTo>
                  <a:pt x="554" y="1190"/>
                </a:lnTo>
                <a:lnTo>
                  <a:pt x="560" y="1195"/>
                </a:lnTo>
                <a:lnTo>
                  <a:pt x="570" y="1199"/>
                </a:lnTo>
                <a:lnTo>
                  <a:pt x="579" y="1204"/>
                </a:lnTo>
                <a:lnTo>
                  <a:pt x="589" y="1205"/>
                </a:lnTo>
                <a:lnTo>
                  <a:pt x="601" y="1209"/>
                </a:lnTo>
                <a:lnTo>
                  <a:pt x="607" y="1209"/>
                </a:lnTo>
                <a:lnTo>
                  <a:pt x="613" y="1210"/>
                </a:lnTo>
                <a:lnTo>
                  <a:pt x="618" y="1213"/>
                </a:lnTo>
                <a:lnTo>
                  <a:pt x="621" y="1216"/>
                </a:lnTo>
                <a:lnTo>
                  <a:pt x="622" y="1221"/>
                </a:lnTo>
                <a:lnTo>
                  <a:pt x="622" y="1225"/>
                </a:lnTo>
                <a:lnTo>
                  <a:pt x="622" y="1230"/>
                </a:lnTo>
                <a:lnTo>
                  <a:pt x="621" y="1237"/>
                </a:lnTo>
                <a:lnTo>
                  <a:pt x="616" y="1245"/>
                </a:lnTo>
                <a:lnTo>
                  <a:pt x="612" y="1254"/>
                </a:lnTo>
                <a:lnTo>
                  <a:pt x="606" y="1264"/>
                </a:lnTo>
                <a:lnTo>
                  <a:pt x="606" y="1269"/>
                </a:lnTo>
                <a:lnTo>
                  <a:pt x="619" y="1257"/>
                </a:lnTo>
                <a:lnTo>
                  <a:pt x="633" y="1246"/>
                </a:lnTo>
                <a:lnTo>
                  <a:pt x="646" y="1240"/>
                </a:lnTo>
                <a:lnTo>
                  <a:pt x="652" y="1237"/>
                </a:lnTo>
                <a:lnTo>
                  <a:pt x="658" y="1237"/>
                </a:lnTo>
                <a:lnTo>
                  <a:pt x="675" y="1237"/>
                </a:lnTo>
                <a:lnTo>
                  <a:pt x="690" y="1234"/>
                </a:lnTo>
                <a:lnTo>
                  <a:pt x="717" y="1228"/>
                </a:lnTo>
                <a:lnTo>
                  <a:pt x="738" y="1222"/>
                </a:lnTo>
                <a:lnTo>
                  <a:pt x="750" y="1219"/>
                </a:lnTo>
                <a:lnTo>
                  <a:pt x="753" y="1218"/>
                </a:lnTo>
                <a:lnTo>
                  <a:pt x="756" y="1215"/>
                </a:lnTo>
                <a:lnTo>
                  <a:pt x="762" y="1205"/>
                </a:lnTo>
                <a:lnTo>
                  <a:pt x="770" y="1190"/>
                </a:lnTo>
                <a:lnTo>
                  <a:pt x="799" y="1207"/>
                </a:lnTo>
                <a:lnTo>
                  <a:pt x="821" y="1219"/>
                </a:lnTo>
                <a:lnTo>
                  <a:pt x="838" y="1227"/>
                </a:lnTo>
                <a:lnTo>
                  <a:pt x="845" y="1228"/>
                </a:lnTo>
                <a:lnTo>
                  <a:pt x="854" y="1225"/>
                </a:lnTo>
                <a:lnTo>
                  <a:pt x="878" y="1216"/>
                </a:lnTo>
                <a:lnTo>
                  <a:pt x="901" y="1207"/>
                </a:lnTo>
                <a:lnTo>
                  <a:pt x="909" y="1204"/>
                </a:lnTo>
                <a:lnTo>
                  <a:pt x="915" y="1202"/>
                </a:lnTo>
                <a:lnTo>
                  <a:pt x="919" y="1204"/>
                </a:lnTo>
                <a:lnTo>
                  <a:pt x="925" y="1210"/>
                </a:lnTo>
                <a:lnTo>
                  <a:pt x="943" y="1227"/>
                </a:lnTo>
                <a:lnTo>
                  <a:pt x="961" y="1245"/>
                </a:lnTo>
                <a:lnTo>
                  <a:pt x="967" y="1251"/>
                </a:lnTo>
                <a:lnTo>
                  <a:pt x="972" y="1254"/>
                </a:lnTo>
                <a:lnTo>
                  <a:pt x="976" y="1254"/>
                </a:lnTo>
                <a:lnTo>
                  <a:pt x="981" y="1252"/>
                </a:lnTo>
                <a:lnTo>
                  <a:pt x="994" y="1243"/>
                </a:lnTo>
                <a:lnTo>
                  <a:pt x="1002" y="1239"/>
                </a:lnTo>
                <a:lnTo>
                  <a:pt x="1010" y="1234"/>
                </a:lnTo>
                <a:lnTo>
                  <a:pt x="1019" y="1231"/>
                </a:lnTo>
                <a:lnTo>
                  <a:pt x="1028" y="1231"/>
                </a:lnTo>
                <a:lnTo>
                  <a:pt x="1073" y="1233"/>
                </a:lnTo>
                <a:lnTo>
                  <a:pt x="1109" y="1234"/>
                </a:lnTo>
                <a:lnTo>
                  <a:pt x="1117" y="1233"/>
                </a:lnTo>
                <a:lnTo>
                  <a:pt x="1124" y="1228"/>
                </a:lnTo>
                <a:lnTo>
                  <a:pt x="1142" y="1216"/>
                </a:lnTo>
                <a:lnTo>
                  <a:pt x="1165" y="1198"/>
                </a:lnTo>
                <a:lnTo>
                  <a:pt x="1202" y="1153"/>
                </a:lnTo>
                <a:lnTo>
                  <a:pt x="1230" y="1121"/>
                </a:lnTo>
                <a:lnTo>
                  <a:pt x="1248" y="1099"/>
                </a:lnTo>
                <a:lnTo>
                  <a:pt x="1252" y="1089"/>
                </a:lnTo>
                <a:lnTo>
                  <a:pt x="1254" y="1086"/>
                </a:lnTo>
                <a:lnTo>
                  <a:pt x="1254" y="1085"/>
                </a:lnTo>
                <a:lnTo>
                  <a:pt x="1254" y="1083"/>
                </a:lnTo>
                <a:lnTo>
                  <a:pt x="1255" y="1080"/>
                </a:lnTo>
                <a:lnTo>
                  <a:pt x="1260" y="1073"/>
                </a:lnTo>
                <a:lnTo>
                  <a:pt x="1276" y="1055"/>
                </a:lnTo>
                <a:lnTo>
                  <a:pt x="1305" y="1025"/>
                </a:lnTo>
                <a:lnTo>
                  <a:pt x="1318" y="1016"/>
                </a:lnTo>
                <a:lnTo>
                  <a:pt x="1344" y="999"/>
                </a:lnTo>
                <a:lnTo>
                  <a:pt x="1370" y="984"/>
                </a:lnTo>
                <a:lnTo>
                  <a:pt x="1380" y="979"/>
                </a:lnTo>
                <a:lnTo>
                  <a:pt x="1386" y="979"/>
                </a:lnTo>
                <a:lnTo>
                  <a:pt x="1419" y="989"/>
                </a:lnTo>
                <a:lnTo>
                  <a:pt x="1447" y="998"/>
                </a:lnTo>
                <a:lnTo>
                  <a:pt x="1447" y="958"/>
                </a:lnTo>
                <a:lnTo>
                  <a:pt x="1451" y="958"/>
                </a:lnTo>
                <a:lnTo>
                  <a:pt x="1466" y="957"/>
                </a:lnTo>
                <a:lnTo>
                  <a:pt x="1475" y="958"/>
                </a:lnTo>
                <a:lnTo>
                  <a:pt x="1484" y="961"/>
                </a:lnTo>
                <a:lnTo>
                  <a:pt x="1495" y="966"/>
                </a:lnTo>
                <a:lnTo>
                  <a:pt x="1504" y="972"/>
                </a:lnTo>
                <a:lnTo>
                  <a:pt x="1513" y="979"/>
                </a:lnTo>
                <a:lnTo>
                  <a:pt x="1522" y="985"/>
                </a:lnTo>
                <a:lnTo>
                  <a:pt x="1537" y="993"/>
                </a:lnTo>
                <a:lnTo>
                  <a:pt x="1551" y="998"/>
                </a:lnTo>
                <a:lnTo>
                  <a:pt x="1560" y="999"/>
                </a:lnTo>
                <a:lnTo>
                  <a:pt x="1587" y="999"/>
                </a:lnTo>
                <a:lnTo>
                  <a:pt x="1632" y="999"/>
                </a:lnTo>
                <a:lnTo>
                  <a:pt x="1680" y="998"/>
                </a:lnTo>
                <a:lnTo>
                  <a:pt x="1697" y="998"/>
                </a:lnTo>
                <a:lnTo>
                  <a:pt x="1707" y="996"/>
                </a:lnTo>
                <a:lnTo>
                  <a:pt x="1715" y="992"/>
                </a:lnTo>
                <a:lnTo>
                  <a:pt x="1722" y="982"/>
                </a:lnTo>
                <a:lnTo>
                  <a:pt x="1740" y="958"/>
                </a:lnTo>
                <a:lnTo>
                  <a:pt x="1755" y="936"/>
                </a:lnTo>
                <a:lnTo>
                  <a:pt x="1761" y="925"/>
                </a:lnTo>
                <a:lnTo>
                  <a:pt x="1799" y="919"/>
                </a:lnTo>
                <a:lnTo>
                  <a:pt x="1801" y="924"/>
                </a:lnTo>
                <a:lnTo>
                  <a:pt x="1807" y="937"/>
                </a:lnTo>
                <a:lnTo>
                  <a:pt x="1813" y="957"/>
                </a:lnTo>
                <a:lnTo>
                  <a:pt x="1816" y="967"/>
                </a:lnTo>
                <a:lnTo>
                  <a:pt x="1817" y="979"/>
                </a:lnTo>
                <a:lnTo>
                  <a:pt x="1819" y="989"/>
                </a:lnTo>
                <a:lnTo>
                  <a:pt x="1825" y="998"/>
                </a:lnTo>
                <a:lnTo>
                  <a:pt x="1831" y="1004"/>
                </a:lnTo>
                <a:lnTo>
                  <a:pt x="1838" y="1010"/>
                </a:lnTo>
                <a:lnTo>
                  <a:pt x="1846" y="1013"/>
                </a:lnTo>
                <a:lnTo>
                  <a:pt x="1852" y="1016"/>
                </a:lnTo>
                <a:lnTo>
                  <a:pt x="1858" y="1017"/>
                </a:lnTo>
                <a:lnTo>
                  <a:pt x="1861" y="1037"/>
                </a:lnTo>
                <a:lnTo>
                  <a:pt x="1862" y="1052"/>
                </a:lnTo>
                <a:lnTo>
                  <a:pt x="1864" y="1062"/>
                </a:lnTo>
                <a:lnTo>
                  <a:pt x="1864" y="1064"/>
                </a:lnTo>
                <a:lnTo>
                  <a:pt x="1867" y="1062"/>
                </a:lnTo>
                <a:lnTo>
                  <a:pt x="1877" y="1058"/>
                </a:lnTo>
                <a:lnTo>
                  <a:pt x="1893" y="1049"/>
                </a:lnTo>
                <a:lnTo>
                  <a:pt x="1888" y="1061"/>
                </a:lnTo>
                <a:lnTo>
                  <a:pt x="1874" y="1092"/>
                </a:lnTo>
                <a:lnTo>
                  <a:pt x="1862" y="1127"/>
                </a:lnTo>
                <a:lnTo>
                  <a:pt x="1859" y="1142"/>
                </a:lnTo>
                <a:lnTo>
                  <a:pt x="1858" y="1153"/>
                </a:lnTo>
                <a:lnTo>
                  <a:pt x="1859" y="1157"/>
                </a:lnTo>
                <a:lnTo>
                  <a:pt x="1862" y="1162"/>
                </a:lnTo>
                <a:lnTo>
                  <a:pt x="1867" y="1165"/>
                </a:lnTo>
                <a:lnTo>
                  <a:pt x="1871" y="1168"/>
                </a:lnTo>
                <a:lnTo>
                  <a:pt x="1884" y="1172"/>
                </a:lnTo>
                <a:lnTo>
                  <a:pt x="1897" y="1174"/>
                </a:lnTo>
                <a:lnTo>
                  <a:pt x="1897" y="1159"/>
                </a:lnTo>
                <a:lnTo>
                  <a:pt x="1874" y="1127"/>
                </a:lnTo>
                <a:lnTo>
                  <a:pt x="1897" y="1102"/>
                </a:lnTo>
                <a:lnTo>
                  <a:pt x="1905" y="1074"/>
                </a:lnTo>
                <a:lnTo>
                  <a:pt x="1959" y="1067"/>
                </a:lnTo>
                <a:lnTo>
                  <a:pt x="1968" y="1058"/>
                </a:lnTo>
                <a:lnTo>
                  <a:pt x="1991" y="1037"/>
                </a:lnTo>
                <a:lnTo>
                  <a:pt x="2003" y="1023"/>
                </a:lnTo>
                <a:lnTo>
                  <a:pt x="2013" y="1010"/>
                </a:lnTo>
                <a:lnTo>
                  <a:pt x="2022" y="998"/>
                </a:lnTo>
                <a:lnTo>
                  <a:pt x="2028" y="987"/>
                </a:lnTo>
                <a:lnTo>
                  <a:pt x="2036" y="951"/>
                </a:lnTo>
                <a:lnTo>
                  <a:pt x="2042" y="927"/>
                </a:lnTo>
                <a:lnTo>
                  <a:pt x="2045" y="900"/>
                </a:lnTo>
                <a:lnTo>
                  <a:pt x="2048" y="874"/>
                </a:lnTo>
                <a:lnTo>
                  <a:pt x="2048" y="863"/>
                </a:lnTo>
                <a:lnTo>
                  <a:pt x="2046" y="853"/>
                </a:lnTo>
                <a:lnTo>
                  <a:pt x="2045" y="845"/>
                </a:lnTo>
                <a:lnTo>
                  <a:pt x="2042" y="839"/>
                </a:lnTo>
                <a:lnTo>
                  <a:pt x="2037" y="835"/>
                </a:lnTo>
                <a:lnTo>
                  <a:pt x="2031" y="833"/>
                </a:lnTo>
                <a:lnTo>
                  <a:pt x="2021" y="833"/>
                </a:lnTo>
                <a:lnTo>
                  <a:pt x="2015" y="832"/>
                </a:lnTo>
                <a:lnTo>
                  <a:pt x="2013" y="830"/>
                </a:lnTo>
                <a:lnTo>
                  <a:pt x="2013" y="829"/>
                </a:lnTo>
                <a:lnTo>
                  <a:pt x="2018" y="827"/>
                </a:lnTo>
                <a:lnTo>
                  <a:pt x="2021" y="826"/>
                </a:lnTo>
                <a:lnTo>
                  <a:pt x="1997" y="833"/>
                </a:lnTo>
                <a:lnTo>
                  <a:pt x="2009" y="799"/>
                </a:lnTo>
                <a:lnTo>
                  <a:pt x="2043" y="761"/>
                </a:lnTo>
                <a:lnTo>
                  <a:pt x="2073" y="699"/>
                </a:lnTo>
                <a:lnTo>
                  <a:pt x="2165" y="704"/>
                </a:lnTo>
                <a:lnTo>
                  <a:pt x="2223" y="722"/>
                </a:lnTo>
                <a:lnTo>
                  <a:pt x="2269" y="707"/>
                </a:lnTo>
                <a:lnTo>
                  <a:pt x="2295" y="662"/>
                </a:lnTo>
                <a:lnTo>
                  <a:pt x="2342" y="654"/>
                </a:lnTo>
                <a:lnTo>
                  <a:pt x="2331" y="668"/>
                </a:lnTo>
                <a:lnTo>
                  <a:pt x="2319" y="684"/>
                </a:lnTo>
                <a:lnTo>
                  <a:pt x="2307" y="707"/>
                </a:lnTo>
                <a:lnTo>
                  <a:pt x="2295" y="737"/>
                </a:lnTo>
                <a:lnTo>
                  <a:pt x="2289" y="753"/>
                </a:lnTo>
                <a:lnTo>
                  <a:pt x="2283" y="773"/>
                </a:lnTo>
                <a:lnTo>
                  <a:pt x="2278" y="793"/>
                </a:lnTo>
                <a:lnTo>
                  <a:pt x="2275" y="815"/>
                </a:lnTo>
                <a:lnTo>
                  <a:pt x="2274" y="839"/>
                </a:lnTo>
                <a:lnTo>
                  <a:pt x="2272" y="863"/>
                </a:lnTo>
                <a:lnTo>
                  <a:pt x="2284" y="910"/>
                </a:lnTo>
                <a:lnTo>
                  <a:pt x="2334" y="833"/>
                </a:lnTo>
                <a:lnTo>
                  <a:pt x="2340" y="826"/>
                </a:lnTo>
                <a:lnTo>
                  <a:pt x="2352" y="811"/>
                </a:lnTo>
                <a:lnTo>
                  <a:pt x="2358" y="800"/>
                </a:lnTo>
                <a:lnTo>
                  <a:pt x="2363" y="791"/>
                </a:lnTo>
                <a:lnTo>
                  <a:pt x="2366" y="782"/>
                </a:lnTo>
                <a:lnTo>
                  <a:pt x="2366" y="779"/>
                </a:lnTo>
                <a:lnTo>
                  <a:pt x="2364" y="776"/>
                </a:lnTo>
                <a:lnTo>
                  <a:pt x="2349" y="743"/>
                </a:lnTo>
                <a:lnTo>
                  <a:pt x="2342" y="722"/>
                </a:lnTo>
                <a:lnTo>
                  <a:pt x="2346" y="716"/>
                </a:lnTo>
                <a:lnTo>
                  <a:pt x="2357" y="701"/>
                </a:lnTo>
                <a:lnTo>
                  <a:pt x="2372" y="684"/>
                </a:lnTo>
                <a:lnTo>
                  <a:pt x="2379" y="677"/>
                </a:lnTo>
                <a:lnTo>
                  <a:pt x="2387" y="672"/>
                </a:lnTo>
                <a:lnTo>
                  <a:pt x="2449" y="665"/>
                </a:lnTo>
                <a:lnTo>
                  <a:pt x="2459" y="662"/>
                </a:lnTo>
                <a:lnTo>
                  <a:pt x="2485" y="654"/>
                </a:lnTo>
                <a:lnTo>
                  <a:pt x="2518" y="642"/>
                </a:lnTo>
                <a:lnTo>
                  <a:pt x="2533" y="634"/>
                </a:lnTo>
                <a:lnTo>
                  <a:pt x="2548" y="627"/>
                </a:lnTo>
                <a:lnTo>
                  <a:pt x="2560" y="618"/>
                </a:lnTo>
                <a:lnTo>
                  <a:pt x="2571" y="607"/>
                </a:lnTo>
                <a:lnTo>
                  <a:pt x="2580" y="595"/>
                </a:lnTo>
                <a:lnTo>
                  <a:pt x="2586" y="583"/>
                </a:lnTo>
                <a:lnTo>
                  <a:pt x="2587" y="573"/>
                </a:lnTo>
                <a:lnTo>
                  <a:pt x="2587" y="567"/>
                </a:lnTo>
                <a:lnTo>
                  <a:pt x="2587" y="562"/>
                </a:lnTo>
                <a:lnTo>
                  <a:pt x="2584" y="558"/>
                </a:lnTo>
                <a:lnTo>
                  <a:pt x="2581" y="553"/>
                </a:lnTo>
                <a:lnTo>
                  <a:pt x="2577" y="550"/>
                </a:lnTo>
                <a:lnTo>
                  <a:pt x="2571" y="547"/>
                </a:lnTo>
                <a:lnTo>
                  <a:pt x="2580" y="544"/>
                </a:lnTo>
                <a:lnTo>
                  <a:pt x="2598" y="535"/>
                </a:lnTo>
                <a:lnTo>
                  <a:pt x="2608" y="529"/>
                </a:lnTo>
                <a:lnTo>
                  <a:pt x="2617" y="523"/>
                </a:lnTo>
                <a:lnTo>
                  <a:pt x="2625" y="514"/>
                </a:lnTo>
                <a:lnTo>
                  <a:pt x="2626" y="509"/>
                </a:lnTo>
                <a:lnTo>
                  <a:pt x="2628" y="505"/>
                </a:lnTo>
                <a:lnTo>
                  <a:pt x="2629" y="500"/>
                </a:lnTo>
                <a:lnTo>
                  <a:pt x="2629" y="499"/>
                </a:lnTo>
                <a:lnTo>
                  <a:pt x="2631" y="499"/>
                </a:lnTo>
                <a:lnTo>
                  <a:pt x="2634" y="499"/>
                </a:lnTo>
                <a:lnTo>
                  <a:pt x="2644" y="514"/>
                </a:lnTo>
                <a:lnTo>
                  <a:pt x="2654" y="523"/>
                </a:lnTo>
                <a:lnTo>
                  <a:pt x="2658" y="526"/>
                </a:lnTo>
                <a:lnTo>
                  <a:pt x="2664" y="529"/>
                </a:lnTo>
                <a:lnTo>
                  <a:pt x="2670" y="532"/>
                </a:lnTo>
                <a:lnTo>
                  <a:pt x="2678" y="533"/>
                </a:lnTo>
                <a:lnTo>
                  <a:pt x="2685" y="533"/>
                </a:lnTo>
                <a:lnTo>
                  <a:pt x="2693" y="530"/>
                </a:lnTo>
                <a:lnTo>
                  <a:pt x="2706" y="526"/>
                </a:lnTo>
                <a:lnTo>
                  <a:pt x="2714" y="520"/>
                </a:lnTo>
                <a:lnTo>
                  <a:pt x="2717" y="517"/>
                </a:lnTo>
                <a:lnTo>
                  <a:pt x="2717" y="515"/>
                </a:lnTo>
                <a:lnTo>
                  <a:pt x="2717" y="509"/>
                </a:lnTo>
                <a:lnTo>
                  <a:pt x="2714" y="506"/>
                </a:lnTo>
                <a:lnTo>
                  <a:pt x="2709" y="503"/>
                </a:lnTo>
                <a:lnTo>
                  <a:pt x="2705" y="5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Freeform 114"/>
          <p:cNvSpPr/>
          <p:nvPr/>
        </p:nvSpPr>
        <p:spPr>
          <a:xfrm>
            <a:off x="7351560" y="2908440"/>
            <a:ext cx="68400" cy="253800"/>
          </a:xfrm>
          <a:custGeom>
            <a:avLst/>
            <a:gdLst>
              <a:gd name="textAreaLeft" fmla="*/ 0 w 68400"/>
              <a:gd name="textAreaRight" fmla="*/ 68760 w 684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3" h="160">
                <a:moveTo>
                  <a:pt x="5" y="160"/>
                </a:moveTo>
                <a:lnTo>
                  <a:pt x="35" y="145"/>
                </a:lnTo>
                <a:lnTo>
                  <a:pt x="35" y="107"/>
                </a:lnTo>
                <a:lnTo>
                  <a:pt x="43" y="65"/>
                </a:lnTo>
                <a:lnTo>
                  <a:pt x="35" y="11"/>
                </a:lnTo>
                <a:lnTo>
                  <a:pt x="23" y="0"/>
                </a:lnTo>
                <a:lnTo>
                  <a:pt x="8" y="26"/>
                </a:lnTo>
                <a:lnTo>
                  <a:pt x="8" y="88"/>
                </a:lnTo>
                <a:lnTo>
                  <a:pt x="0" y="137"/>
                </a:lnTo>
                <a:lnTo>
                  <a:pt x="5" y="16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Freeform 115"/>
          <p:cNvSpPr/>
          <p:nvPr/>
        </p:nvSpPr>
        <p:spPr>
          <a:xfrm>
            <a:off x="7304040" y="3218040"/>
            <a:ext cx="127080" cy="77760"/>
          </a:xfrm>
          <a:custGeom>
            <a:avLst/>
            <a:gdLst>
              <a:gd name="textAreaLeft" fmla="*/ 0 w 127080"/>
              <a:gd name="textAreaRight" fmla="*/ 127440 w 127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80" h="49">
                <a:moveTo>
                  <a:pt x="27" y="46"/>
                </a:moveTo>
                <a:lnTo>
                  <a:pt x="0" y="49"/>
                </a:lnTo>
                <a:lnTo>
                  <a:pt x="18" y="7"/>
                </a:lnTo>
                <a:lnTo>
                  <a:pt x="50" y="0"/>
                </a:lnTo>
                <a:lnTo>
                  <a:pt x="80" y="30"/>
                </a:lnTo>
                <a:lnTo>
                  <a:pt x="61" y="49"/>
                </a:lnTo>
                <a:lnTo>
                  <a:pt x="27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Freeform 116"/>
          <p:cNvSpPr/>
          <p:nvPr/>
        </p:nvSpPr>
        <p:spPr>
          <a:xfrm>
            <a:off x="7104240" y="3327480"/>
            <a:ext cx="255240" cy="230040"/>
          </a:xfrm>
          <a:custGeom>
            <a:avLst/>
            <a:gdLst>
              <a:gd name="textAreaLeft" fmla="*/ 0 w 255240"/>
              <a:gd name="textAreaRight" fmla="*/ 255600 w 255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61" h="145">
                <a:moveTo>
                  <a:pt x="134" y="8"/>
                </a:moveTo>
                <a:lnTo>
                  <a:pt x="114" y="27"/>
                </a:lnTo>
                <a:lnTo>
                  <a:pt x="99" y="45"/>
                </a:lnTo>
                <a:lnTo>
                  <a:pt x="87" y="50"/>
                </a:lnTo>
                <a:lnTo>
                  <a:pt x="72" y="60"/>
                </a:lnTo>
                <a:lnTo>
                  <a:pt x="69" y="87"/>
                </a:lnTo>
                <a:lnTo>
                  <a:pt x="22" y="87"/>
                </a:lnTo>
                <a:lnTo>
                  <a:pt x="0" y="110"/>
                </a:lnTo>
                <a:lnTo>
                  <a:pt x="22" y="134"/>
                </a:lnTo>
                <a:lnTo>
                  <a:pt x="61" y="142"/>
                </a:lnTo>
                <a:lnTo>
                  <a:pt x="84" y="145"/>
                </a:lnTo>
                <a:lnTo>
                  <a:pt x="114" y="130"/>
                </a:lnTo>
                <a:lnTo>
                  <a:pt x="129" y="77"/>
                </a:lnTo>
                <a:lnTo>
                  <a:pt x="149" y="50"/>
                </a:lnTo>
                <a:lnTo>
                  <a:pt x="161" y="23"/>
                </a:lnTo>
                <a:lnTo>
                  <a:pt x="161" y="0"/>
                </a:lnTo>
                <a:lnTo>
                  <a:pt x="134" y="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Freeform 117"/>
          <p:cNvSpPr/>
          <p:nvPr/>
        </p:nvSpPr>
        <p:spPr>
          <a:xfrm>
            <a:off x="7067520" y="3557520"/>
            <a:ext cx="71640" cy="49320"/>
          </a:xfrm>
          <a:custGeom>
            <a:avLst/>
            <a:gdLst>
              <a:gd name="textAreaLeft" fmla="*/ 0 w 71640"/>
              <a:gd name="textAreaRight" fmla="*/ 72000 w 716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5" h="31">
                <a:moveTo>
                  <a:pt x="18" y="27"/>
                </a:moveTo>
                <a:lnTo>
                  <a:pt x="0" y="7"/>
                </a:lnTo>
                <a:lnTo>
                  <a:pt x="27" y="0"/>
                </a:lnTo>
                <a:lnTo>
                  <a:pt x="45" y="12"/>
                </a:lnTo>
                <a:lnTo>
                  <a:pt x="38" y="31"/>
                </a:lnTo>
                <a:lnTo>
                  <a:pt x="18" y="2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Freeform 118"/>
          <p:cNvSpPr/>
          <p:nvPr/>
        </p:nvSpPr>
        <p:spPr>
          <a:xfrm>
            <a:off x="6859440" y="3765600"/>
            <a:ext cx="104760" cy="7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6" h="50">
                <a:moveTo>
                  <a:pt x="24" y="50"/>
                </a:moveTo>
                <a:lnTo>
                  <a:pt x="47" y="37"/>
                </a:lnTo>
                <a:lnTo>
                  <a:pt x="66" y="7"/>
                </a:lnTo>
                <a:lnTo>
                  <a:pt x="39" y="0"/>
                </a:lnTo>
                <a:lnTo>
                  <a:pt x="0" y="30"/>
                </a:lnTo>
                <a:lnTo>
                  <a:pt x="24" y="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Freeform 119"/>
          <p:cNvSpPr/>
          <p:nvPr/>
        </p:nvSpPr>
        <p:spPr>
          <a:xfrm>
            <a:off x="6648480" y="420840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37" h="152">
                <a:moveTo>
                  <a:pt x="118" y="0"/>
                </a:moveTo>
                <a:lnTo>
                  <a:pt x="80" y="10"/>
                </a:lnTo>
                <a:lnTo>
                  <a:pt x="43" y="30"/>
                </a:lnTo>
                <a:lnTo>
                  <a:pt x="18" y="60"/>
                </a:lnTo>
                <a:lnTo>
                  <a:pt x="15" y="61"/>
                </a:lnTo>
                <a:lnTo>
                  <a:pt x="9" y="66"/>
                </a:lnTo>
                <a:lnTo>
                  <a:pt x="3" y="72"/>
                </a:lnTo>
                <a:lnTo>
                  <a:pt x="0" y="75"/>
                </a:lnTo>
                <a:lnTo>
                  <a:pt x="0" y="79"/>
                </a:lnTo>
                <a:lnTo>
                  <a:pt x="0" y="85"/>
                </a:lnTo>
                <a:lnTo>
                  <a:pt x="3" y="95"/>
                </a:lnTo>
                <a:lnTo>
                  <a:pt x="11" y="114"/>
                </a:lnTo>
                <a:lnTo>
                  <a:pt x="23" y="141"/>
                </a:lnTo>
                <a:lnTo>
                  <a:pt x="61" y="152"/>
                </a:lnTo>
                <a:lnTo>
                  <a:pt x="103" y="107"/>
                </a:lnTo>
                <a:lnTo>
                  <a:pt x="110" y="104"/>
                </a:lnTo>
                <a:lnTo>
                  <a:pt x="116" y="99"/>
                </a:lnTo>
                <a:lnTo>
                  <a:pt x="124" y="95"/>
                </a:lnTo>
                <a:lnTo>
                  <a:pt x="130" y="88"/>
                </a:lnTo>
                <a:lnTo>
                  <a:pt x="136" y="81"/>
                </a:lnTo>
                <a:lnTo>
                  <a:pt x="136" y="76"/>
                </a:lnTo>
                <a:lnTo>
                  <a:pt x="137" y="73"/>
                </a:lnTo>
                <a:lnTo>
                  <a:pt x="136" y="69"/>
                </a:lnTo>
                <a:lnTo>
                  <a:pt x="133" y="64"/>
                </a:lnTo>
                <a:lnTo>
                  <a:pt x="128" y="55"/>
                </a:lnTo>
                <a:lnTo>
                  <a:pt x="125" y="45"/>
                </a:lnTo>
                <a:lnTo>
                  <a:pt x="122" y="34"/>
                </a:lnTo>
                <a:lnTo>
                  <a:pt x="121" y="24"/>
                </a:lnTo>
                <a:lnTo>
                  <a:pt x="118" y="6"/>
                </a:lnTo>
                <a:lnTo>
                  <a:pt x="118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Freeform 120"/>
          <p:cNvSpPr/>
          <p:nvPr/>
        </p:nvSpPr>
        <p:spPr>
          <a:xfrm>
            <a:off x="6362640" y="4280040"/>
            <a:ext cx="208080" cy="199800"/>
          </a:xfrm>
          <a:custGeom>
            <a:avLst/>
            <a:gdLst>
              <a:gd name="textAreaLeft" fmla="*/ 0 w 208080"/>
              <a:gd name="textAreaRight" fmla="*/ 208440 w 2080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1" h="126">
                <a:moveTo>
                  <a:pt x="84" y="119"/>
                </a:moveTo>
                <a:lnTo>
                  <a:pt x="69" y="89"/>
                </a:lnTo>
                <a:lnTo>
                  <a:pt x="42" y="50"/>
                </a:lnTo>
                <a:lnTo>
                  <a:pt x="0" y="7"/>
                </a:lnTo>
                <a:lnTo>
                  <a:pt x="31" y="0"/>
                </a:lnTo>
                <a:lnTo>
                  <a:pt x="73" y="19"/>
                </a:lnTo>
                <a:lnTo>
                  <a:pt x="99" y="74"/>
                </a:lnTo>
                <a:lnTo>
                  <a:pt x="107" y="81"/>
                </a:lnTo>
                <a:lnTo>
                  <a:pt x="122" y="99"/>
                </a:lnTo>
                <a:lnTo>
                  <a:pt x="128" y="110"/>
                </a:lnTo>
                <a:lnTo>
                  <a:pt x="131" y="117"/>
                </a:lnTo>
                <a:lnTo>
                  <a:pt x="131" y="122"/>
                </a:lnTo>
                <a:lnTo>
                  <a:pt x="129" y="125"/>
                </a:lnTo>
                <a:lnTo>
                  <a:pt x="126" y="126"/>
                </a:lnTo>
                <a:lnTo>
                  <a:pt x="123" y="126"/>
                </a:lnTo>
                <a:lnTo>
                  <a:pt x="105" y="125"/>
                </a:lnTo>
                <a:lnTo>
                  <a:pt x="93" y="123"/>
                </a:lnTo>
                <a:lnTo>
                  <a:pt x="87" y="120"/>
                </a:lnTo>
                <a:lnTo>
                  <a:pt x="84" y="11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Freeform 121"/>
          <p:cNvSpPr/>
          <p:nvPr/>
        </p:nvSpPr>
        <p:spPr>
          <a:xfrm>
            <a:off x="6605640" y="4498920"/>
            <a:ext cx="158760" cy="92160"/>
          </a:xfrm>
          <a:custGeom>
            <a:avLst/>
            <a:gdLst>
              <a:gd name="textAreaLeft" fmla="*/ 0 w 158760"/>
              <a:gd name="textAreaRight" fmla="*/ 159120 w 158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00" h="58">
                <a:moveTo>
                  <a:pt x="0" y="43"/>
                </a:moveTo>
                <a:lnTo>
                  <a:pt x="0" y="0"/>
                </a:lnTo>
                <a:lnTo>
                  <a:pt x="38" y="15"/>
                </a:lnTo>
                <a:lnTo>
                  <a:pt x="100" y="35"/>
                </a:lnTo>
                <a:lnTo>
                  <a:pt x="73" y="53"/>
                </a:lnTo>
                <a:lnTo>
                  <a:pt x="27" y="58"/>
                </a:lnTo>
                <a:lnTo>
                  <a:pt x="0" y="43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Freeform 122"/>
          <p:cNvSpPr/>
          <p:nvPr/>
        </p:nvSpPr>
        <p:spPr>
          <a:xfrm>
            <a:off x="6823080" y="4317840"/>
            <a:ext cx="141120" cy="174960"/>
          </a:xfrm>
          <a:custGeom>
            <a:avLst/>
            <a:gdLst>
              <a:gd name="textAreaLeft" fmla="*/ 0 w 141120"/>
              <a:gd name="textAreaRight" fmla="*/ 141480 w 14112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89" h="110">
                <a:moveTo>
                  <a:pt x="65" y="110"/>
                </a:moveTo>
                <a:lnTo>
                  <a:pt x="23" y="90"/>
                </a:lnTo>
                <a:lnTo>
                  <a:pt x="0" y="83"/>
                </a:lnTo>
                <a:lnTo>
                  <a:pt x="23" y="45"/>
                </a:lnTo>
                <a:lnTo>
                  <a:pt x="65" y="0"/>
                </a:lnTo>
                <a:lnTo>
                  <a:pt x="89" y="41"/>
                </a:lnTo>
                <a:lnTo>
                  <a:pt x="77" y="57"/>
                </a:lnTo>
                <a:lnTo>
                  <a:pt x="65" y="11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Freeform 123"/>
          <p:cNvSpPr/>
          <p:nvPr/>
        </p:nvSpPr>
        <p:spPr>
          <a:xfrm>
            <a:off x="5022720" y="3025800"/>
            <a:ext cx="2049480" cy="1317600"/>
          </a:xfrm>
          <a:custGeom>
            <a:avLst/>
            <a:gdLst>
              <a:gd name="textAreaLeft" fmla="*/ 0 w 2049480"/>
              <a:gd name="textAreaRight" fmla="*/ 2049840 w 204948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1291" h="830">
                <a:moveTo>
                  <a:pt x="1252" y="234"/>
                </a:moveTo>
                <a:lnTo>
                  <a:pt x="1252" y="234"/>
                </a:lnTo>
                <a:lnTo>
                  <a:pt x="1253" y="223"/>
                </a:lnTo>
                <a:lnTo>
                  <a:pt x="1256" y="208"/>
                </a:lnTo>
                <a:lnTo>
                  <a:pt x="1268" y="173"/>
                </a:lnTo>
                <a:lnTo>
                  <a:pt x="1282" y="142"/>
                </a:lnTo>
                <a:lnTo>
                  <a:pt x="1287" y="130"/>
                </a:lnTo>
                <a:lnTo>
                  <a:pt x="1271" y="139"/>
                </a:lnTo>
                <a:lnTo>
                  <a:pt x="1261" y="143"/>
                </a:lnTo>
                <a:lnTo>
                  <a:pt x="1258" y="145"/>
                </a:lnTo>
                <a:lnTo>
                  <a:pt x="1258" y="143"/>
                </a:lnTo>
                <a:lnTo>
                  <a:pt x="1256" y="133"/>
                </a:lnTo>
                <a:lnTo>
                  <a:pt x="1255" y="118"/>
                </a:lnTo>
                <a:lnTo>
                  <a:pt x="1252" y="98"/>
                </a:lnTo>
                <a:lnTo>
                  <a:pt x="1246" y="97"/>
                </a:lnTo>
                <a:lnTo>
                  <a:pt x="1240" y="94"/>
                </a:lnTo>
                <a:lnTo>
                  <a:pt x="1232" y="91"/>
                </a:lnTo>
                <a:lnTo>
                  <a:pt x="1225" y="85"/>
                </a:lnTo>
                <a:lnTo>
                  <a:pt x="1219" y="79"/>
                </a:lnTo>
                <a:lnTo>
                  <a:pt x="1213" y="70"/>
                </a:lnTo>
                <a:lnTo>
                  <a:pt x="1211" y="60"/>
                </a:lnTo>
                <a:lnTo>
                  <a:pt x="1210" y="48"/>
                </a:lnTo>
                <a:lnTo>
                  <a:pt x="1207" y="38"/>
                </a:lnTo>
                <a:lnTo>
                  <a:pt x="1201" y="18"/>
                </a:lnTo>
                <a:lnTo>
                  <a:pt x="1195" y="5"/>
                </a:lnTo>
                <a:lnTo>
                  <a:pt x="1193" y="0"/>
                </a:lnTo>
                <a:lnTo>
                  <a:pt x="1155" y="6"/>
                </a:lnTo>
                <a:lnTo>
                  <a:pt x="1149" y="17"/>
                </a:lnTo>
                <a:lnTo>
                  <a:pt x="1134" y="39"/>
                </a:lnTo>
                <a:lnTo>
                  <a:pt x="1116" y="63"/>
                </a:lnTo>
                <a:lnTo>
                  <a:pt x="1109" y="73"/>
                </a:lnTo>
                <a:lnTo>
                  <a:pt x="1101" y="77"/>
                </a:lnTo>
                <a:lnTo>
                  <a:pt x="1091" y="79"/>
                </a:lnTo>
                <a:lnTo>
                  <a:pt x="1074" y="79"/>
                </a:lnTo>
                <a:lnTo>
                  <a:pt x="1026" y="80"/>
                </a:lnTo>
                <a:lnTo>
                  <a:pt x="981" y="80"/>
                </a:lnTo>
                <a:lnTo>
                  <a:pt x="954" y="80"/>
                </a:lnTo>
                <a:lnTo>
                  <a:pt x="945" y="79"/>
                </a:lnTo>
                <a:lnTo>
                  <a:pt x="931" y="74"/>
                </a:lnTo>
                <a:lnTo>
                  <a:pt x="916" y="66"/>
                </a:lnTo>
                <a:lnTo>
                  <a:pt x="907" y="60"/>
                </a:lnTo>
                <a:lnTo>
                  <a:pt x="898" y="53"/>
                </a:lnTo>
                <a:lnTo>
                  <a:pt x="889" y="47"/>
                </a:lnTo>
                <a:lnTo>
                  <a:pt x="878" y="42"/>
                </a:lnTo>
                <a:lnTo>
                  <a:pt x="869" y="39"/>
                </a:lnTo>
                <a:lnTo>
                  <a:pt x="860" y="38"/>
                </a:lnTo>
                <a:lnTo>
                  <a:pt x="845" y="39"/>
                </a:lnTo>
                <a:lnTo>
                  <a:pt x="841" y="39"/>
                </a:lnTo>
                <a:lnTo>
                  <a:pt x="841" y="79"/>
                </a:lnTo>
                <a:lnTo>
                  <a:pt x="813" y="70"/>
                </a:lnTo>
                <a:lnTo>
                  <a:pt x="780" y="60"/>
                </a:lnTo>
                <a:lnTo>
                  <a:pt x="774" y="60"/>
                </a:lnTo>
                <a:lnTo>
                  <a:pt x="764" y="65"/>
                </a:lnTo>
                <a:lnTo>
                  <a:pt x="738" y="80"/>
                </a:lnTo>
                <a:lnTo>
                  <a:pt x="712" y="97"/>
                </a:lnTo>
                <a:lnTo>
                  <a:pt x="699" y="106"/>
                </a:lnTo>
                <a:lnTo>
                  <a:pt x="670" y="136"/>
                </a:lnTo>
                <a:lnTo>
                  <a:pt x="654" y="154"/>
                </a:lnTo>
                <a:lnTo>
                  <a:pt x="649" y="161"/>
                </a:lnTo>
                <a:lnTo>
                  <a:pt x="648" y="164"/>
                </a:lnTo>
                <a:lnTo>
                  <a:pt x="648" y="166"/>
                </a:lnTo>
                <a:lnTo>
                  <a:pt x="648" y="167"/>
                </a:lnTo>
                <a:lnTo>
                  <a:pt x="646" y="170"/>
                </a:lnTo>
                <a:lnTo>
                  <a:pt x="642" y="180"/>
                </a:lnTo>
                <a:lnTo>
                  <a:pt x="624" y="202"/>
                </a:lnTo>
                <a:lnTo>
                  <a:pt x="596" y="234"/>
                </a:lnTo>
                <a:lnTo>
                  <a:pt x="559" y="279"/>
                </a:lnTo>
                <a:lnTo>
                  <a:pt x="536" y="297"/>
                </a:lnTo>
                <a:lnTo>
                  <a:pt x="518" y="309"/>
                </a:lnTo>
                <a:lnTo>
                  <a:pt x="511" y="314"/>
                </a:lnTo>
                <a:lnTo>
                  <a:pt x="503" y="315"/>
                </a:lnTo>
                <a:lnTo>
                  <a:pt x="467" y="314"/>
                </a:lnTo>
                <a:lnTo>
                  <a:pt x="422" y="312"/>
                </a:lnTo>
                <a:lnTo>
                  <a:pt x="413" y="312"/>
                </a:lnTo>
                <a:lnTo>
                  <a:pt x="404" y="315"/>
                </a:lnTo>
                <a:lnTo>
                  <a:pt x="396" y="320"/>
                </a:lnTo>
                <a:lnTo>
                  <a:pt x="388" y="324"/>
                </a:lnTo>
                <a:lnTo>
                  <a:pt x="375" y="333"/>
                </a:lnTo>
                <a:lnTo>
                  <a:pt x="370" y="335"/>
                </a:lnTo>
                <a:lnTo>
                  <a:pt x="366" y="335"/>
                </a:lnTo>
                <a:lnTo>
                  <a:pt x="361" y="332"/>
                </a:lnTo>
                <a:lnTo>
                  <a:pt x="355" y="326"/>
                </a:lnTo>
                <a:lnTo>
                  <a:pt x="337" y="308"/>
                </a:lnTo>
                <a:lnTo>
                  <a:pt x="319" y="291"/>
                </a:lnTo>
                <a:lnTo>
                  <a:pt x="313" y="285"/>
                </a:lnTo>
                <a:lnTo>
                  <a:pt x="309" y="283"/>
                </a:lnTo>
                <a:lnTo>
                  <a:pt x="303" y="285"/>
                </a:lnTo>
                <a:lnTo>
                  <a:pt x="295" y="288"/>
                </a:lnTo>
                <a:lnTo>
                  <a:pt x="272" y="297"/>
                </a:lnTo>
                <a:lnTo>
                  <a:pt x="248" y="306"/>
                </a:lnTo>
                <a:lnTo>
                  <a:pt x="239" y="309"/>
                </a:lnTo>
                <a:lnTo>
                  <a:pt x="232" y="308"/>
                </a:lnTo>
                <a:lnTo>
                  <a:pt x="215" y="300"/>
                </a:lnTo>
                <a:lnTo>
                  <a:pt x="193" y="288"/>
                </a:lnTo>
                <a:lnTo>
                  <a:pt x="164" y="271"/>
                </a:lnTo>
                <a:lnTo>
                  <a:pt x="156" y="286"/>
                </a:lnTo>
                <a:lnTo>
                  <a:pt x="150" y="296"/>
                </a:lnTo>
                <a:lnTo>
                  <a:pt x="147" y="299"/>
                </a:lnTo>
                <a:lnTo>
                  <a:pt x="144" y="300"/>
                </a:lnTo>
                <a:lnTo>
                  <a:pt x="132" y="303"/>
                </a:lnTo>
                <a:lnTo>
                  <a:pt x="111" y="309"/>
                </a:lnTo>
                <a:lnTo>
                  <a:pt x="84" y="315"/>
                </a:lnTo>
                <a:lnTo>
                  <a:pt x="69" y="318"/>
                </a:lnTo>
                <a:lnTo>
                  <a:pt x="52" y="318"/>
                </a:lnTo>
                <a:lnTo>
                  <a:pt x="46" y="318"/>
                </a:lnTo>
                <a:lnTo>
                  <a:pt x="40" y="321"/>
                </a:lnTo>
                <a:lnTo>
                  <a:pt x="27" y="327"/>
                </a:lnTo>
                <a:lnTo>
                  <a:pt x="13" y="338"/>
                </a:lnTo>
                <a:lnTo>
                  <a:pt x="0" y="350"/>
                </a:lnTo>
                <a:lnTo>
                  <a:pt x="7" y="413"/>
                </a:lnTo>
                <a:lnTo>
                  <a:pt x="18" y="404"/>
                </a:lnTo>
                <a:lnTo>
                  <a:pt x="25" y="449"/>
                </a:lnTo>
                <a:lnTo>
                  <a:pt x="75" y="519"/>
                </a:lnTo>
                <a:lnTo>
                  <a:pt x="117" y="588"/>
                </a:lnTo>
                <a:lnTo>
                  <a:pt x="144" y="653"/>
                </a:lnTo>
                <a:lnTo>
                  <a:pt x="174" y="638"/>
                </a:lnTo>
                <a:lnTo>
                  <a:pt x="229" y="606"/>
                </a:lnTo>
                <a:lnTo>
                  <a:pt x="278" y="583"/>
                </a:lnTo>
                <a:lnTo>
                  <a:pt x="328" y="561"/>
                </a:lnTo>
                <a:lnTo>
                  <a:pt x="321" y="523"/>
                </a:lnTo>
                <a:lnTo>
                  <a:pt x="301" y="496"/>
                </a:lnTo>
                <a:lnTo>
                  <a:pt x="297" y="461"/>
                </a:lnTo>
                <a:lnTo>
                  <a:pt x="254" y="466"/>
                </a:lnTo>
                <a:lnTo>
                  <a:pt x="212" y="419"/>
                </a:lnTo>
                <a:lnTo>
                  <a:pt x="212" y="392"/>
                </a:lnTo>
                <a:lnTo>
                  <a:pt x="226" y="403"/>
                </a:lnTo>
                <a:lnTo>
                  <a:pt x="239" y="413"/>
                </a:lnTo>
                <a:lnTo>
                  <a:pt x="259" y="425"/>
                </a:lnTo>
                <a:lnTo>
                  <a:pt x="281" y="437"/>
                </a:lnTo>
                <a:lnTo>
                  <a:pt x="307" y="449"/>
                </a:lnTo>
                <a:lnTo>
                  <a:pt x="334" y="458"/>
                </a:lnTo>
                <a:lnTo>
                  <a:pt x="348" y="463"/>
                </a:lnTo>
                <a:lnTo>
                  <a:pt x="361" y="466"/>
                </a:lnTo>
                <a:lnTo>
                  <a:pt x="450" y="488"/>
                </a:lnTo>
                <a:lnTo>
                  <a:pt x="453" y="534"/>
                </a:lnTo>
                <a:lnTo>
                  <a:pt x="515" y="531"/>
                </a:lnTo>
                <a:lnTo>
                  <a:pt x="500" y="588"/>
                </a:lnTo>
                <a:lnTo>
                  <a:pt x="572" y="710"/>
                </a:lnTo>
                <a:lnTo>
                  <a:pt x="575" y="713"/>
                </a:lnTo>
                <a:lnTo>
                  <a:pt x="580" y="714"/>
                </a:lnTo>
                <a:lnTo>
                  <a:pt x="584" y="714"/>
                </a:lnTo>
                <a:lnTo>
                  <a:pt x="589" y="714"/>
                </a:lnTo>
                <a:lnTo>
                  <a:pt x="595" y="711"/>
                </a:lnTo>
                <a:lnTo>
                  <a:pt x="601" y="705"/>
                </a:lnTo>
                <a:lnTo>
                  <a:pt x="607" y="695"/>
                </a:lnTo>
                <a:lnTo>
                  <a:pt x="614" y="678"/>
                </a:lnTo>
                <a:lnTo>
                  <a:pt x="627" y="656"/>
                </a:lnTo>
                <a:lnTo>
                  <a:pt x="642" y="632"/>
                </a:lnTo>
                <a:lnTo>
                  <a:pt x="651" y="618"/>
                </a:lnTo>
                <a:lnTo>
                  <a:pt x="661" y="604"/>
                </a:lnTo>
                <a:lnTo>
                  <a:pt x="672" y="592"/>
                </a:lnTo>
                <a:lnTo>
                  <a:pt x="685" y="580"/>
                </a:lnTo>
                <a:lnTo>
                  <a:pt x="699" y="568"/>
                </a:lnTo>
                <a:lnTo>
                  <a:pt x="714" y="559"/>
                </a:lnTo>
                <a:lnTo>
                  <a:pt x="731" y="550"/>
                </a:lnTo>
                <a:lnTo>
                  <a:pt x="747" y="544"/>
                </a:lnTo>
                <a:lnTo>
                  <a:pt x="767" y="540"/>
                </a:lnTo>
                <a:lnTo>
                  <a:pt x="786" y="538"/>
                </a:lnTo>
                <a:lnTo>
                  <a:pt x="798" y="574"/>
                </a:lnTo>
                <a:lnTo>
                  <a:pt x="806" y="604"/>
                </a:lnTo>
                <a:lnTo>
                  <a:pt x="809" y="618"/>
                </a:lnTo>
                <a:lnTo>
                  <a:pt x="809" y="630"/>
                </a:lnTo>
                <a:lnTo>
                  <a:pt x="813" y="632"/>
                </a:lnTo>
                <a:lnTo>
                  <a:pt x="818" y="633"/>
                </a:lnTo>
                <a:lnTo>
                  <a:pt x="822" y="635"/>
                </a:lnTo>
                <a:lnTo>
                  <a:pt x="828" y="633"/>
                </a:lnTo>
                <a:lnTo>
                  <a:pt x="836" y="632"/>
                </a:lnTo>
                <a:lnTo>
                  <a:pt x="842" y="626"/>
                </a:lnTo>
                <a:lnTo>
                  <a:pt x="848" y="618"/>
                </a:lnTo>
                <a:lnTo>
                  <a:pt x="848" y="638"/>
                </a:lnTo>
                <a:lnTo>
                  <a:pt x="850" y="659"/>
                </a:lnTo>
                <a:lnTo>
                  <a:pt x="851" y="683"/>
                </a:lnTo>
                <a:lnTo>
                  <a:pt x="856" y="707"/>
                </a:lnTo>
                <a:lnTo>
                  <a:pt x="860" y="731"/>
                </a:lnTo>
                <a:lnTo>
                  <a:pt x="865" y="742"/>
                </a:lnTo>
                <a:lnTo>
                  <a:pt x="868" y="751"/>
                </a:lnTo>
                <a:lnTo>
                  <a:pt x="874" y="758"/>
                </a:lnTo>
                <a:lnTo>
                  <a:pt x="878" y="763"/>
                </a:lnTo>
                <a:lnTo>
                  <a:pt x="890" y="773"/>
                </a:lnTo>
                <a:lnTo>
                  <a:pt x="904" y="785"/>
                </a:lnTo>
                <a:lnTo>
                  <a:pt x="931" y="811"/>
                </a:lnTo>
                <a:lnTo>
                  <a:pt x="945" y="820"/>
                </a:lnTo>
                <a:lnTo>
                  <a:pt x="955" y="827"/>
                </a:lnTo>
                <a:lnTo>
                  <a:pt x="960" y="830"/>
                </a:lnTo>
                <a:lnTo>
                  <a:pt x="964" y="830"/>
                </a:lnTo>
                <a:lnTo>
                  <a:pt x="967" y="830"/>
                </a:lnTo>
                <a:lnTo>
                  <a:pt x="970" y="829"/>
                </a:lnTo>
                <a:lnTo>
                  <a:pt x="975" y="823"/>
                </a:lnTo>
                <a:lnTo>
                  <a:pt x="976" y="817"/>
                </a:lnTo>
                <a:lnTo>
                  <a:pt x="978" y="809"/>
                </a:lnTo>
                <a:lnTo>
                  <a:pt x="978" y="803"/>
                </a:lnTo>
                <a:lnTo>
                  <a:pt x="978" y="797"/>
                </a:lnTo>
                <a:lnTo>
                  <a:pt x="975" y="791"/>
                </a:lnTo>
                <a:lnTo>
                  <a:pt x="972" y="785"/>
                </a:lnTo>
                <a:lnTo>
                  <a:pt x="967" y="779"/>
                </a:lnTo>
                <a:lnTo>
                  <a:pt x="961" y="772"/>
                </a:lnTo>
                <a:lnTo>
                  <a:pt x="955" y="764"/>
                </a:lnTo>
                <a:lnTo>
                  <a:pt x="941" y="743"/>
                </a:lnTo>
                <a:lnTo>
                  <a:pt x="920" y="705"/>
                </a:lnTo>
                <a:lnTo>
                  <a:pt x="917" y="698"/>
                </a:lnTo>
                <a:lnTo>
                  <a:pt x="914" y="689"/>
                </a:lnTo>
                <a:lnTo>
                  <a:pt x="910" y="671"/>
                </a:lnTo>
                <a:lnTo>
                  <a:pt x="910" y="656"/>
                </a:lnTo>
                <a:lnTo>
                  <a:pt x="908" y="648"/>
                </a:lnTo>
                <a:lnTo>
                  <a:pt x="940" y="687"/>
                </a:lnTo>
                <a:lnTo>
                  <a:pt x="941" y="692"/>
                </a:lnTo>
                <a:lnTo>
                  <a:pt x="943" y="698"/>
                </a:lnTo>
                <a:lnTo>
                  <a:pt x="948" y="702"/>
                </a:lnTo>
                <a:lnTo>
                  <a:pt x="952" y="707"/>
                </a:lnTo>
                <a:lnTo>
                  <a:pt x="957" y="707"/>
                </a:lnTo>
                <a:lnTo>
                  <a:pt x="961" y="708"/>
                </a:lnTo>
                <a:lnTo>
                  <a:pt x="966" y="707"/>
                </a:lnTo>
                <a:lnTo>
                  <a:pt x="972" y="705"/>
                </a:lnTo>
                <a:lnTo>
                  <a:pt x="985" y="698"/>
                </a:lnTo>
                <a:lnTo>
                  <a:pt x="993" y="693"/>
                </a:lnTo>
                <a:lnTo>
                  <a:pt x="999" y="687"/>
                </a:lnTo>
                <a:lnTo>
                  <a:pt x="1003" y="681"/>
                </a:lnTo>
                <a:lnTo>
                  <a:pt x="1008" y="674"/>
                </a:lnTo>
                <a:lnTo>
                  <a:pt x="1014" y="660"/>
                </a:lnTo>
                <a:lnTo>
                  <a:pt x="1017" y="647"/>
                </a:lnTo>
                <a:lnTo>
                  <a:pt x="1017" y="633"/>
                </a:lnTo>
                <a:lnTo>
                  <a:pt x="1017" y="624"/>
                </a:lnTo>
                <a:lnTo>
                  <a:pt x="1017" y="615"/>
                </a:lnTo>
                <a:lnTo>
                  <a:pt x="975" y="588"/>
                </a:lnTo>
                <a:lnTo>
                  <a:pt x="975" y="541"/>
                </a:lnTo>
                <a:lnTo>
                  <a:pt x="1020" y="526"/>
                </a:lnTo>
                <a:lnTo>
                  <a:pt x="1017" y="565"/>
                </a:lnTo>
                <a:lnTo>
                  <a:pt x="1018" y="568"/>
                </a:lnTo>
                <a:lnTo>
                  <a:pt x="1023" y="577"/>
                </a:lnTo>
                <a:lnTo>
                  <a:pt x="1027" y="580"/>
                </a:lnTo>
                <a:lnTo>
                  <a:pt x="1030" y="583"/>
                </a:lnTo>
                <a:lnTo>
                  <a:pt x="1035" y="585"/>
                </a:lnTo>
                <a:lnTo>
                  <a:pt x="1039" y="583"/>
                </a:lnTo>
                <a:lnTo>
                  <a:pt x="1047" y="577"/>
                </a:lnTo>
                <a:lnTo>
                  <a:pt x="1051" y="570"/>
                </a:lnTo>
                <a:lnTo>
                  <a:pt x="1055" y="561"/>
                </a:lnTo>
                <a:lnTo>
                  <a:pt x="1055" y="534"/>
                </a:lnTo>
                <a:lnTo>
                  <a:pt x="1074" y="520"/>
                </a:lnTo>
                <a:lnTo>
                  <a:pt x="1095" y="505"/>
                </a:lnTo>
                <a:lnTo>
                  <a:pt x="1119" y="487"/>
                </a:lnTo>
                <a:lnTo>
                  <a:pt x="1145" y="467"/>
                </a:lnTo>
                <a:lnTo>
                  <a:pt x="1166" y="446"/>
                </a:lnTo>
                <a:lnTo>
                  <a:pt x="1175" y="437"/>
                </a:lnTo>
                <a:lnTo>
                  <a:pt x="1181" y="428"/>
                </a:lnTo>
                <a:lnTo>
                  <a:pt x="1186" y="419"/>
                </a:lnTo>
                <a:lnTo>
                  <a:pt x="1189" y="412"/>
                </a:lnTo>
                <a:lnTo>
                  <a:pt x="1192" y="389"/>
                </a:lnTo>
                <a:lnTo>
                  <a:pt x="1195" y="375"/>
                </a:lnTo>
                <a:lnTo>
                  <a:pt x="1195" y="366"/>
                </a:lnTo>
                <a:lnTo>
                  <a:pt x="1195" y="362"/>
                </a:lnTo>
                <a:lnTo>
                  <a:pt x="1192" y="357"/>
                </a:lnTo>
                <a:lnTo>
                  <a:pt x="1186" y="345"/>
                </a:lnTo>
                <a:lnTo>
                  <a:pt x="1180" y="329"/>
                </a:lnTo>
                <a:lnTo>
                  <a:pt x="1174" y="308"/>
                </a:lnTo>
                <a:lnTo>
                  <a:pt x="1189" y="262"/>
                </a:lnTo>
                <a:lnTo>
                  <a:pt x="1149" y="258"/>
                </a:lnTo>
                <a:lnTo>
                  <a:pt x="1149" y="235"/>
                </a:lnTo>
                <a:lnTo>
                  <a:pt x="1189" y="220"/>
                </a:lnTo>
                <a:lnTo>
                  <a:pt x="1226" y="220"/>
                </a:lnTo>
                <a:lnTo>
                  <a:pt x="1246" y="255"/>
                </a:lnTo>
                <a:lnTo>
                  <a:pt x="1243" y="312"/>
                </a:lnTo>
                <a:lnTo>
                  <a:pt x="1291" y="290"/>
                </a:lnTo>
                <a:lnTo>
                  <a:pt x="1291" y="255"/>
                </a:lnTo>
                <a:lnTo>
                  <a:pt x="1278" y="253"/>
                </a:lnTo>
                <a:lnTo>
                  <a:pt x="1265" y="249"/>
                </a:lnTo>
                <a:lnTo>
                  <a:pt x="1261" y="246"/>
                </a:lnTo>
                <a:lnTo>
                  <a:pt x="1256" y="243"/>
                </a:lnTo>
                <a:lnTo>
                  <a:pt x="1253" y="238"/>
                </a:lnTo>
                <a:lnTo>
                  <a:pt x="1252" y="23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Freeform 125"/>
          <p:cNvSpPr/>
          <p:nvPr/>
        </p:nvSpPr>
        <p:spPr>
          <a:xfrm>
            <a:off x="7353360" y="2908440"/>
            <a:ext cx="68040" cy="253800"/>
          </a:xfrm>
          <a:custGeom>
            <a:avLst/>
            <a:gdLst>
              <a:gd name="textAreaLeft" fmla="*/ 0 w 68040"/>
              <a:gd name="textAreaRight" fmla="*/ 68400 w 68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3" h="160">
                <a:moveTo>
                  <a:pt x="5" y="160"/>
                </a:moveTo>
                <a:lnTo>
                  <a:pt x="35" y="145"/>
                </a:lnTo>
                <a:lnTo>
                  <a:pt x="35" y="107"/>
                </a:lnTo>
                <a:lnTo>
                  <a:pt x="43" y="65"/>
                </a:lnTo>
                <a:lnTo>
                  <a:pt x="35" y="11"/>
                </a:lnTo>
                <a:lnTo>
                  <a:pt x="23" y="0"/>
                </a:lnTo>
                <a:lnTo>
                  <a:pt x="8" y="26"/>
                </a:lnTo>
                <a:lnTo>
                  <a:pt x="8" y="88"/>
                </a:lnTo>
                <a:lnTo>
                  <a:pt x="0" y="137"/>
                </a:lnTo>
                <a:lnTo>
                  <a:pt x="5" y="16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Freeform 126"/>
          <p:cNvSpPr/>
          <p:nvPr/>
        </p:nvSpPr>
        <p:spPr>
          <a:xfrm>
            <a:off x="7305840" y="3218040"/>
            <a:ext cx="126720" cy="77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80" h="49">
                <a:moveTo>
                  <a:pt x="27" y="46"/>
                </a:moveTo>
                <a:lnTo>
                  <a:pt x="0" y="49"/>
                </a:lnTo>
                <a:lnTo>
                  <a:pt x="18" y="7"/>
                </a:lnTo>
                <a:lnTo>
                  <a:pt x="50" y="0"/>
                </a:lnTo>
                <a:lnTo>
                  <a:pt x="80" y="30"/>
                </a:lnTo>
                <a:lnTo>
                  <a:pt x="61" y="49"/>
                </a:lnTo>
                <a:lnTo>
                  <a:pt x="27" y="4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Freeform 127"/>
          <p:cNvSpPr/>
          <p:nvPr/>
        </p:nvSpPr>
        <p:spPr>
          <a:xfrm>
            <a:off x="7105680" y="3327480"/>
            <a:ext cx="255600" cy="230040"/>
          </a:xfrm>
          <a:custGeom>
            <a:avLst/>
            <a:gdLst>
              <a:gd name="textAreaLeft" fmla="*/ 0 w 255600"/>
              <a:gd name="textAreaRight" fmla="*/ 255600 w 2556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61" h="145">
                <a:moveTo>
                  <a:pt x="134" y="8"/>
                </a:moveTo>
                <a:lnTo>
                  <a:pt x="114" y="27"/>
                </a:lnTo>
                <a:lnTo>
                  <a:pt x="99" y="45"/>
                </a:lnTo>
                <a:lnTo>
                  <a:pt x="87" y="50"/>
                </a:lnTo>
                <a:lnTo>
                  <a:pt x="72" y="60"/>
                </a:lnTo>
                <a:lnTo>
                  <a:pt x="69" y="87"/>
                </a:lnTo>
                <a:lnTo>
                  <a:pt x="22" y="87"/>
                </a:lnTo>
                <a:lnTo>
                  <a:pt x="0" y="110"/>
                </a:lnTo>
                <a:lnTo>
                  <a:pt x="22" y="134"/>
                </a:lnTo>
                <a:lnTo>
                  <a:pt x="61" y="142"/>
                </a:lnTo>
                <a:lnTo>
                  <a:pt x="84" y="145"/>
                </a:lnTo>
                <a:lnTo>
                  <a:pt x="114" y="130"/>
                </a:lnTo>
                <a:lnTo>
                  <a:pt x="129" y="77"/>
                </a:lnTo>
                <a:lnTo>
                  <a:pt x="149" y="50"/>
                </a:lnTo>
                <a:lnTo>
                  <a:pt x="161" y="23"/>
                </a:lnTo>
                <a:lnTo>
                  <a:pt x="161" y="0"/>
                </a:lnTo>
                <a:lnTo>
                  <a:pt x="134" y="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Freeform 128"/>
          <p:cNvSpPr/>
          <p:nvPr/>
        </p:nvSpPr>
        <p:spPr>
          <a:xfrm>
            <a:off x="7068960" y="3557520"/>
            <a:ext cx="71640" cy="49320"/>
          </a:xfrm>
          <a:custGeom>
            <a:avLst/>
            <a:gdLst>
              <a:gd name="textAreaLeft" fmla="*/ 0 w 71640"/>
              <a:gd name="textAreaRight" fmla="*/ 72000 w 716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5" h="31">
                <a:moveTo>
                  <a:pt x="18" y="27"/>
                </a:moveTo>
                <a:lnTo>
                  <a:pt x="0" y="7"/>
                </a:lnTo>
                <a:lnTo>
                  <a:pt x="27" y="0"/>
                </a:lnTo>
                <a:lnTo>
                  <a:pt x="45" y="12"/>
                </a:lnTo>
                <a:lnTo>
                  <a:pt x="38" y="31"/>
                </a:lnTo>
                <a:lnTo>
                  <a:pt x="18" y="2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Freeform 129"/>
          <p:cNvSpPr/>
          <p:nvPr/>
        </p:nvSpPr>
        <p:spPr>
          <a:xfrm>
            <a:off x="6861240" y="3765600"/>
            <a:ext cx="104760" cy="7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6" h="50">
                <a:moveTo>
                  <a:pt x="24" y="50"/>
                </a:moveTo>
                <a:lnTo>
                  <a:pt x="47" y="37"/>
                </a:lnTo>
                <a:lnTo>
                  <a:pt x="66" y="7"/>
                </a:lnTo>
                <a:lnTo>
                  <a:pt x="39" y="0"/>
                </a:lnTo>
                <a:lnTo>
                  <a:pt x="0" y="30"/>
                </a:lnTo>
                <a:lnTo>
                  <a:pt x="24" y="5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4" name="Freeform 130"/>
          <p:cNvSpPr/>
          <p:nvPr/>
        </p:nvSpPr>
        <p:spPr>
          <a:xfrm>
            <a:off x="6649920" y="420840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37" h="152">
                <a:moveTo>
                  <a:pt x="118" y="0"/>
                </a:moveTo>
                <a:lnTo>
                  <a:pt x="80" y="10"/>
                </a:lnTo>
                <a:lnTo>
                  <a:pt x="43" y="30"/>
                </a:lnTo>
                <a:lnTo>
                  <a:pt x="18" y="60"/>
                </a:lnTo>
                <a:lnTo>
                  <a:pt x="15" y="61"/>
                </a:lnTo>
                <a:lnTo>
                  <a:pt x="9" y="66"/>
                </a:lnTo>
                <a:lnTo>
                  <a:pt x="3" y="72"/>
                </a:lnTo>
                <a:lnTo>
                  <a:pt x="0" y="75"/>
                </a:lnTo>
                <a:lnTo>
                  <a:pt x="0" y="79"/>
                </a:lnTo>
                <a:lnTo>
                  <a:pt x="0" y="85"/>
                </a:lnTo>
                <a:lnTo>
                  <a:pt x="3" y="95"/>
                </a:lnTo>
                <a:lnTo>
                  <a:pt x="11" y="114"/>
                </a:lnTo>
                <a:lnTo>
                  <a:pt x="23" y="141"/>
                </a:lnTo>
                <a:lnTo>
                  <a:pt x="61" y="152"/>
                </a:lnTo>
                <a:lnTo>
                  <a:pt x="103" y="107"/>
                </a:lnTo>
                <a:lnTo>
                  <a:pt x="110" y="104"/>
                </a:lnTo>
                <a:lnTo>
                  <a:pt x="116" y="99"/>
                </a:lnTo>
                <a:lnTo>
                  <a:pt x="124" y="95"/>
                </a:lnTo>
                <a:lnTo>
                  <a:pt x="130" y="88"/>
                </a:lnTo>
                <a:lnTo>
                  <a:pt x="136" y="81"/>
                </a:lnTo>
                <a:lnTo>
                  <a:pt x="136" y="76"/>
                </a:lnTo>
                <a:lnTo>
                  <a:pt x="137" y="73"/>
                </a:lnTo>
                <a:lnTo>
                  <a:pt x="136" y="69"/>
                </a:lnTo>
                <a:lnTo>
                  <a:pt x="133" y="64"/>
                </a:lnTo>
                <a:lnTo>
                  <a:pt x="128" y="55"/>
                </a:lnTo>
                <a:lnTo>
                  <a:pt x="125" y="45"/>
                </a:lnTo>
                <a:lnTo>
                  <a:pt x="122" y="34"/>
                </a:lnTo>
                <a:lnTo>
                  <a:pt x="121" y="24"/>
                </a:lnTo>
                <a:lnTo>
                  <a:pt x="118" y="6"/>
                </a:lnTo>
                <a:lnTo>
                  <a:pt x="118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5" name="Freeform 131"/>
          <p:cNvSpPr/>
          <p:nvPr/>
        </p:nvSpPr>
        <p:spPr>
          <a:xfrm>
            <a:off x="6364440" y="4280040"/>
            <a:ext cx="207720" cy="199800"/>
          </a:xfrm>
          <a:custGeom>
            <a:avLst/>
            <a:gdLst>
              <a:gd name="textAreaLeft" fmla="*/ 0 w 207720"/>
              <a:gd name="textAreaRight" fmla="*/ 208080 w 2077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1" h="126">
                <a:moveTo>
                  <a:pt x="84" y="119"/>
                </a:moveTo>
                <a:lnTo>
                  <a:pt x="69" y="89"/>
                </a:lnTo>
                <a:lnTo>
                  <a:pt x="42" y="50"/>
                </a:lnTo>
                <a:lnTo>
                  <a:pt x="0" y="7"/>
                </a:lnTo>
                <a:lnTo>
                  <a:pt x="31" y="0"/>
                </a:lnTo>
                <a:lnTo>
                  <a:pt x="73" y="19"/>
                </a:lnTo>
                <a:lnTo>
                  <a:pt x="99" y="74"/>
                </a:lnTo>
                <a:lnTo>
                  <a:pt x="107" y="81"/>
                </a:lnTo>
                <a:lnTo>
                  <a:pt x="122" y="99"/>
                </a:lnTo>
                <a:lnTo>
                  <a:pt x="128" y="110"/>
                </a:lnTo>
                <a:lnTo>
                  <a:pt x="131" y="117"/>
                </a:lnTo>
                <a:lnTo>
                  <a:pt x="131" y="122"/>
                </a:lnTo>
                <a:lnTo>
                  <a:pt x="129" y="125"/>
                </a:lnTo>
                <a:lnTo>
                  <a:pt x="126" y="126"/>
                </a:lnTo>
                <a:lnTo>
                  <a:pt x="123" y="126"/>
                </a:lnTo>
                <a:lnTo>
                  <a:pt x="105" y="125"/>
                </a:lnTo>
                <a:lnTo>
                  <a:pt x="93" y="123"/>
                </a:lnTo>
                <a:lnTo>
                  <a:pt x="87" y="120"/>
                </a:lnTo>
                <a:lnTo>
                  <a:pt x="84" y="11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6" name="Freeform 132"/>
          <p:cNvSpPr/>
          <p:nvPr/>
        </p:nvSpPr>
        <p:spPr>
          <a:xfrm>
            <a:off x="6607080" y="4498920"/>
            <a:ext cx="158760" cy="92160"/>
          </a:xfrm>
          <a:custGeom>
            <a:avLst/>
            <a:gdLst>
              <a:gd name="textAreaLeft" fmla="*/ 0 w 158760"/>
              <a:gd name="textAreaRight" fmla="*/ 159120 w 158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00" h="58">
                <a:moveTo>
                  <a:pt x="0" y="43"/>
                </a:moveTo>
                <a:lnTo>
                  <a:pt x="0" y="0"/>
                </a:lnTo>
                <a:lnTo>
                  <a:pt x="38" y="15"/>
                </a:lnTo>
                <a:lnTo>
                  <a:pt x="100" y="35"/>
                </a:lnTo>
                <a:lnTo>
                  <a:pt x="73" y="53"/>
                </a:lnTo>
                <a:lnTo>
                  <a:pt x="27" y="58"/>
                </a:lnTo>
                <a:lnTo>
                  <a:pt x="0" y="43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7" name="Freeform 133"/>
          <p:cNvSpPr/>
          <p:nvPr/>
        </p:nvSpPr>
        <p:spPr>
          <a:xfrm>
            <a:off x="6824520" y="4317840"/>
            <a:ext cx="141480" cy="174960"/>
          </a:xfrm>
          <a:custGeom>
            <a:avLst/>
            <a:gdLst>
              <a:gd name="textAreaLeft" fmla="*/ 0 w 141480"/>
              <a:gd name="textAreaRight" fmla="*/ 141840 w 14148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89" h="110">
                <a:moveTo>
                  <a:pt x="65" y="110"/>
                </a:moveTo>
                <a:lnTo>
                  <a:pt x="23" y="90"/>
                </a:lnTo>
                <a:lnTo>
                  <a:pt x="0" y="83"/>
                </a:lnTo>
                <a:lnTo>
                  <a:pt x="23" y="45"/>
                </a:lnTo>
                <a:lnTo>
                  <a:pt x="65" y="0"/>
                </a:lnTo>
                <a:lnTo>
                  <a:pt x="89" y="41"/>
                </a:lnTo>
                <a:lnTo>
                  <a:pt x="77" y="57"/>
                </a:lnTo>
                <a:lnTo>
                  <a:pt x="65" y="11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Freeform 134"/>
          <p:cNvSpPr/>
          <p:nvPr/>
        </p:nvSpPr>
        <p:spPr>
          <a:xfrm>
            <a:off x="5024520" y="3025800"/>
            <a:ext cx="2049480" cy="1317600"/>
          </a:xfrm>
          <a:custGeom>
            <a:avLst/>
            <a:gdLst>
              <a:gd name="textAreaLeft" fmla="*/ 0 w 2049480"/>
              <a:gd name="textAreaRight" fmla="*/ 2049840 w 204948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1291" h="830">
                <a:moveTo>
                  <a:pt x="1252" y="234"/>
                </a:moveTo>
                <a:lnTo>
                  <a:pt x="1252" y="234"/>
                </a:lnTo>
                <a:lnTo>
                  <a:pt x="1253" y="223"/>
                </a:lnTo>
                <a:lnTo>
                  <a:pt x="1256" y="208"/>
                </a:lnTo>
                <a:lnTo>
                  <a:pt x="1268" y="173"/>
                </a:lnTo>
                <a:lnTo>
                  <a:pt x="1282" y="142"/>
                </a:lnTo>
                <a:lnTo>
                  <a:pt x="1287" y="130"/>
                </a:lnTo>
                <a:lnTo>
                  <a:pt x="1271" y="139"/>
                </a:lnTo>
                <a:lnTo>
                  <a:pt x="1261" y="143"/>
                </a:lnTo>
                <a:lnTo>
                  <a:pt x="1258" y="145"/>
                </a:lnTo>
                <a:lnTo>
                  <a:pt x="1258" y="143"/>
                </a:lnTo>
                <a:lnTo>
                  <a:pt x="1256" y="133"/>
                </a:lnTo>
                <a:lnTo>
                  <a:pt x="1255" y="118"/>
                </a:lnTo>
                <a:lnTo>
                  <a:pt x="1252" y="98"/>
                </a:lnTo>
                <a:lnTo>
                  <a:pt x="1246" y="97"/>
                </a:lnTo>
                <a:lnTo>
                  <a:pt x="1240" y="94"/>
                </a:lnTo>
                <a:lnTo>
                  <a:pt x="1232" y="91"/>
                </a:lnTo>
                <a:lnTo>
                  <a:pt x="1225" y="85"/>
                </a:lnTo>
                <a:lnTo>
                  <a:pt x="1219" y="79"/>
                </a:lnTo>
                <a:lnTo>
                  <a:pt x="1213" y="70"/>
                </a:lnTo>
                <a:lnTo>
                  <a:pt x="1211" y="60"/>
                </a:lnTo>
                <a:lnTo>
                  <a:pt x="1210" y="48"/>
                </a:lnTo>
                <a:lnTo>
                  <a:pt x="1207" y="38"/>
                </a:lnTo>
                <a:lnTo>
                  <a:pt x="1201" y="18"/>
                </a:lnTo>
                <a:lnTo>
                  <a:pt x="1195" y="5"/>
                </a:lnTo>
                <a:lnTo>
                  <a:pt x="1193" y="0"/>
                </a:lnTo>
                <a:lnTo>
                  <a:pt x="1155" y="6"/>
                </a:lnTo>
                <a:lnTo>
                  <a:pt x="1149" y="17"/>
                </a:lnTo>
                <a:lnTo>
                  <a:pt x="1134" y="39"/>
                </a:lnTo>
                <a:lnTo>
                  <a:pt x="1116" y="63"/>
                </a:lnTo>
                <a:lnTo>
                  <a:pt x="1109" y="73"/>
                </a:lnTo>
                <a:lnTo>
                  <a:pt x="1101" y="77"/>
                </a:lnTo>
                <a:lnTo>
                  <a:pt x="1091" y="79"/>
                </a:lnTo>
                <a:lnTo>
                  <a:pt x="1074" y="79"/>
                </a:lnTo>
                <a:lnTo>
                  <a:pt x="1026" y="80"/>
                </a:lnTo>
                <a:lnTo>
                  <a:pt x="981" y="80"/>
                </a:lnTo>
                <a:lnTo>
                  <a:pt x="954" y="80"/>
                </a:lnTo>
                <a:lnTo>
                  <a:pt x="945" y="79"/>
                </a:lnTo>
                <a:lnTo>
                  <a:pt x="931" y="74"/>
                </a:lnTo>
                <a:lnTo>
                  <a:pt x="916" y="66"/>
                </a:lnTo>
                <a:lnTo>
                  <a:pt x="907" y="60"/>
                </a:lnTo>
                <a:lnTo>
                  <a:pt x="898" y="53"/>
                </a:lnTo>
                <a:lnTo>
                  <a:pt x="889" y="47"/>
                </a:lnTo>
                <a:lnTo>
                  <a:pt x="878" y="42"/>
                </a:lnTo>
                <a:lnTo>
                  <a:pt x="869" y="39"/>
                </a:lnTo>
                <a:lnTo>
                  <a:pt x="860" y="38"/>
                </a:lnTo>
                <a:lnTo>
                  <a:pt x="845" y="39"/>
                </a:lnTo>
                <a:lnTo>
                  <a:pt x="841" y="39"/>
                </a:lnTo>
                <a:lnTo>
                  <a:pt x="841" y="79"/>
                </a:lnTo>
                <a:lnTo>
                  <a:pt x="813" y="70"/>
                </a:lnTo>
                <a:lnTo>
                  <a:pt x="780" y="60"/>
                </a:lnTo>
                <a:lnTo>
                  <a:pt x="774" y="60"/>
                </a:lnTo>
                <a:lnTo>
                  <a:pt x="764" y="65"/>
                </a:lnTo>
                <a:lnTo>
                  <a:pt x="738" y="80"/>
                </a:lnTo>
                <a:lnTo>
                  <a:pt x="712" y="97"/>
                </a:lnTo>
                <a:lnTo>
                  <a:pt x="699" y="106"/>
                </a:lnTo>
                <a:lnTo>
                  <a:pt x="670" y="136"/>
                </a:lnTo>
                <a:lnTo>
                  <a:pt x="654" y="154"/>
                </a:lnTo>
                <a:lnTo>
                  <a:pt x="649" y="161"/>
                </a:lnTo>
                <a:lnTo>
                  <a:pt x="648" y="164"/>
                </a:lnTo>
                <a:lnTo>
                  <a:pt x="648" y="166"/>
                </a:lnTo>
                <a:lnTo>
                  <a:pt x="648" y="167"/>
                </a:lnTo>
                <a:lnTo>
                  <a:pt x="646" y="170"/>
                </a:lnTo>
                <a:lnTo>
                  <a:pt x="642" y="180"/>
                </a:lnTo>
                <a:lnTo>
                  <a:pt x="624" y="202"/>
                </a:lnTo>
                <a:lnTo>
                  <a:pt x="596" y="234"/>
                </a:lnTo>
                <a:lnTo>
                  <a:pt x="559" y="279"/>
                </a:lnTo>
                <a:lnTo>
                  <a:pt x="536" y="297"/>
                </a:lnTo>
                <a:lnTo>
                  <a:pt x="518" y="309"/>
                </a:lnTo>
                <a:lnTo>
                  <a:pt x="511" y="314"/>
                </a:lnTo>
                <a:lnTo>
                  <a:pt x="503" y="315"/>
                </a:lnTo>
                <a:lnTo>
                  <a:pt x="467" y="314"/>
                </a:lnTo>
                <a:lnTo>
                  <a:pt x="422" y="312"/>
                </a:lnTo>
                <a:lnTo>
                  <a:pt x="413" y="312"/>
                </a:lnTo>
                <a:lnTo>
                  <a:pt x="404" y="315"/>
                </a:lnTo>
                <a:lnTo>
                  <a:pt x="396" y="320"/>
                </a:lnTo>
                <a:lnTo>
                  <a:pt x="388" y="324"/>
                </a:lnTo>
                <a:lnTo>
                  <a:pt x="375" y="333"/>
                </a:lnTo>
                <a:lnTo>
                  <a:pt x="370" y="335"/>
                </a:lnTo>
                <a:lnTo>
                  <a:pt x="366" y="335"/>
                </a:lnTo>
                <a:lnTo>
                  <a:pt x="361" y="332"/>
                </a:lnTo>
                <a:lnTo>
                  <a:pt x="355" y="326"/>
                </a:lnTo>
                <a:lnTo>
                  <a:pt x="337" y="308"/>
                </a:lnTo>
                <a:lnTo>
                  <a:pt x="319" y="291"/>
                </a:lnTo>
                <a:lnTo>
                  <a:pt x="313" y="285"/>
                </a:lnTo>
                <a:lnTo>
                  <a:pt x="309" y="283"/>
                </a:lnTo>
                <a:lnTo>
                  <a:pt x="303" y="285"/>
                </a:lnTo>
                <a:lnTo>
                  <a:pt x="295" y="288"/>
                </a:lnTo>
                <a:lnTo>
                  <a:pt x="272" y="297"/>
                </a:lnTo>
                <a:lnTo>
                  <a:pt x="248" y="306"/>
                </a:lnTo>
                <a:lnTo>
                  <a:pt x="239" y="309"/>
                </a:lnTo>
                <a:lnTo>
                  <a:pt x="232" y="308"/>
                </a:lnTo>
                <a:lnTo>
                  <a:pt x="215" y="300"/>
                </a:lnTo>
                <a:lnTo>
                  <a:pt x="193" y="288"/>
                </a:lnTo>
                <a:lnTo>
                  <a:pt x="164" y="271"/>
                </a:lnTo>
                <a:lnTo>
                  <a:pt x="156" y="286"/>
                </a:lnTo>
                <a:lnTo>
                  <a:pt x="150" y="296"/>
                </a:lnTo>
                <a:lnTo>
                  <a:pt x="147" y="299"/>
                </a:lnTo>
                <a:lnTo>
                  <a:pt x="144" y="300"/>
                </a:lnTo>
                <a:lnTo>
                  <a:pt x="132" y="303"/>
                </a:lnTo>
                <a:lnTo>
                  <a:pt x="111" y="309"/>
                </a:lnTo>
                <a:lnTo>
                  <a:pt x="84" y="315"/>
                </a:lnTo>
                <a:lnTo>
                  <a:pt x="69" y="318"/>
                </a:lnTo>
                <a:lnTo>
                  <a:pt x="52" y="318"/>
                </a:lnTo>
                <a:lnTo>
                  <a:pt x="46" y="318"/>
                </a:lnTo>
                <a:lnTo>
                  <a:pt x="40" y="321"/>
                </a:lnTo>
                <a:lnTo>
                  <a:pt x="27" y="327"/>
                </a:lnTo>
                <a:lnTo>
                  <a:pt x="13" y="338"/>
                </a:lnTo>
                <a:lnTo>
                  <a:pt x="0" y="350"/>
                </a:lnTo>
                <a:lnTo>
                  <a:pt x="7" y="413"/>
                </a:lnTo>
                <a:lnTo>
                  <a:pt x="18" y="404"/>
                </a:lnTo>
                <a:lnTo>
                  <a:pt x="25" y="449"/>
                </a:lnTo>
                <a:lnTo>
                  <a:pt x="75" y="519"/>
                </a:lnTo>
                <a:lnTo>
                  <a:pt x="117" y="588"/>
                </a:lnTo>
                <a:lnTo>
                  <a:pt x="144" y="653"/>
                </a:lnTo>
                <a:lnTo>
                  <a:pt x="174" y="638"/>
                </a:lnTo>
                <a:lnTo>
                  <a:pt x="229" y="606"/>
                </a:lnTo>
                <a:lnTo>
                  <a:pt x="278" y="583"/>
                </a:lnTo>
                <a:lnTo>
                  <a:pt x="328" y="561"/>
                </a:lnTo>
                <a:lnTo>
                  <a:pt x="321" y="523"/>
                </a:lnTo>
                <a:lnTo>
                  <a:pt x="301" y="496"/>
                </a:lnTo>
                <a:lnTo>
                  <a:pt x="297" y="461"/>
                </a:lnTo>
                <a:lnTo>
                  <a:pt x="254" y="466"/>
                </a:lnTo>
                <a:lnTo>
                  <a:pt x="212" y="419"/>
                </a:lnTo>
                <a:lnTo>
                  <a:pt x="212" y="392"/>
                </a:lnTo>
                <a:lnTo>
                  <a:pt x="226" y="403"/>
                </a:lnTo>
                <a:lnTo>
                  <a:pt x="239" y="413"/>
                </a:lnTo>
                <a:lnTo>
                  <a:pt x="259" y="425"/>
                </a:lnTo>
                <a:lnTo>
                  <a:pt x="281" y="437"/>
                </a:lnTo>
                <a:lnTo>
                  <a:pt x="307" y="449"/>
                </a:lnTo>
                <a:lnTo>
                  <a:pt x="334" y="458"/>
                </a:lnTo>
                <a:lnTo>
                  <a:pt x="348" y="463"/>
                </a:lnTo>
                <a:lnTo>
                  <a:pt x="361" y="466"/>
                </a:lnTo>
                <a:lnTo>
                  <a:pt x="450" y="488"/>
                </a:lnTo>
                <a:lnTo>
                  <a:pt x="453" y="534"/>
                </a:lnTo>
                <a:lnTo>
                  <a:pt x="515" y="531"/>
                </a:lnTo>
                <a:lnTo>
                  <a:pt x="500" y="588"/>
                </a:lnTo>
                <a:lnTo>
                  <a:pt x="572" y="710"/>
                </a:lnTo>
                <a:lnTo>
                  <a:pt x="575" y="713"/>
                </a:lnTo>
                <a:lnTo>
                  <a:pt x="580" y="714"/>
                </a:lnTo>
                <a:lnTo>
                  <a:pt x="584" y="714"/>
                </a:lnTo>
                <a:lnTo>
                  <a:pt x="589" y="714"/>
                </a:lnTo>
                <a:lnTo>
                  <a:pt x="595" y="711"/>
                </a:lnTo>
                <a:lnTo>
                  <a:pt x="601" y="705"/>
                </a:lnTo>
                <a:lnTo>
                  <a:pt x="607" y="695"/>
                </a:lnTo>
                <a:lnTo>
                  <a:pt x="614" y="678"/>
                </a:lnTo>
                <a:lnTo>
                  <a:pt x="627" y="656"/>
                </a:lnTo>
                <a:lnTo>
                  <a:pt x="642" y="632"/>
                </a:lnTo>
                <a:lnTo>
                  <a:pt x="651" y="618"/>
                </a:lnTo>
                <a:lnTo>
                  <a:pt x="661" y="604"/>
                </a:lnTo>
                <a:lnTo>
                  <a:pt x="672" y="592"/>
                </a:lnTo>
                <a:lnTo>
                  <a:pt x="685" y="580"/>
                </a:lnTo>
                <a:lnTo>
                  <a:pt x="699" y="568"/>
                </a:lnTo>
                <a:lnTo>
                  <a:pt x="714" y="559"/>
                </a:lnTo>
                <a:lnTo>
                  <a:pt x="731" y="550"/>
                </a:lnTo>
                <a:lnTo>
                  <a:pt x="747" y="544"/>
                </a:lnTo>
                <a:lnTo>
                  <a:pt x="767" y="540"/>
                </a:lnTo>
                <a:lnTo>
                  <a:pt x="786" y="538"/>
                </a:lnTo>
                <a:lnTo>
                  <a:pt x="798" y="574"/>
                </a:lnTo>
                <a:lnTo>
                  <a:pt x="806" y="604"/>
                </a:lnTo>
                <a:lnTo>
                  <a:pt x="809" y="618"/>
                </a:lnTo>
                <a:lnTo>
                  <a:pt x="809" y="630"/>
                </a:lnTo>
                <a:lnTo>
                  <a:pt x="813" y="632"/>
                </a:lnTo>
                <a:lnTo>
                  <a:pt x="818" y="633"/>
                </a:lnTo>
                <a:lnTo>
                  <a:pt x="822" y="635"/>
                </a:lnTo>
                <a:lnTo>
                  <a:pt x="828" y="633"/>
                </a:lnTo>
                <a:lnTo>
                  <a:pt x="836" y="632"/>
                </a:lnTo>
                <a:lnTo>
                  <a:pt x="842" y="626"/>
                </a:lnTo>
                <a:lnTo>
                  <a:pt x="848" y="618"/>
                </a:lnTo>
                <a:lnTo>
                  <a:pt x="848" y="638"/>
                </a:lnTo>
                <a:lnTo>
                  <a:pt x="850" y="659"/>
                </a:lnTo>
                <a:lnTo>
                  <a:pt x="851" y="683"/>
                </a:lnTo>
                <a:lnTo>
                  <a:pt x="856" y="707"/>
                </a:lnTo>
                <a:lnTo>
                  <a:pt x="860" y="731"/>
                </a:lnTo>
                <a:lnTo>
                  <a:pt x="865" y="742"/>
                </a:lnTo>
                <a:lnTo>
                  <a:pt x="868" y="751"/>
                </a:lnTo>
                <a:lnTo>
                  <a:pt x="874" y="758"/>
                </a:lnTo>
                <a:lnTo>
                  <a:pt x="878" y="763"/>
                </a:lnTo>
                <a:lnTo>
                  <a:pt x="890" y="773"/>
                </a:lnTo>
                <a:lnTo>
                  <a:pt x="904" y="785"/>
                </a:lnTo>
                <a:lnTo>
                  <a:pt x="931" y="811"/>
                </a:lnTo>
                <a:lnTo>
                  <a:pt x="945" y="820"/>
                </a:lnTo>
                <a:lnTo>
                  <a:pt x="955" y="827"/>
                </a:lnTo>
                <a:lnTo>
                  <a:pt x="960" y="830"/>
                </a:lnTo>
                <a:lnTo>
                  <a:pt x="964" y="830"/>
                </a:lnTo>
                <a:lnTo>
                  <a:pt x="967" y="830"/>
                </a:lnTo>
                <a:lnTo>
                  <a:pt x="970" y="829"/>
                </a:lnTo>
                <a:lnTo>
                  <a:pt x="975" y="823"/>
                </a:lnTo>
                <a:lnTo>
                  <a:pt x="976" y="817"/>
                </a:lnTo>
                <a:lnTo>
                  <a:pt x="978" y="809"/>
                </a:lnTo>
                <a:lnTo>
                  <a:pt x="978" y="803"/>
                </a:lnTo>
                <a:lnTo>
                  <a:pt x="978" y="797"/>
                </a:lnTo>
                <a:lnTo>
                  <a:pt x="975" y="791"/>
                </a:lnTo>
                <a:lnTo>
                  <a:pt x="972" y="785"/>
                </a:lnTo>
                <a:lnTo>
                  <a:pt x="967" y="779"/>
                </a:lnTo>
                <a:lnTo>
                  <a:pt x="961" y="772"/>
                </a:lnTo>
                <a:lnTo>
                  <a:pt x="955" y="764"/>
                </a:lnTo>
                <a:lnTo>
                  <a:pt x="941" y="743"/>
                </a:lnTo>
                <a:lnTo>
                  <a:pt x="920" y="705"/>
                </a:lnTo>
                <a:lnTo>
                  <a:pt x="917" y="698"/>
                </a:lnTo>
                <a:lnTo>
                  <a:pt x="914" y="689"/>
                </a:lnTo>
                <a:lnTo>
                  <a:pt x="910" y="671"/>
                </a:lnTo>
                <a:lnTo>
                  <a:pt x="910" y="656"/>
                </a:lnTo>
                <a:lnTo>
                  <a:pt x="908" y="648"/>
                </a:lnTo>
                <a:lnTo>
                  <a:pt x="940" y="687"/>
                </a:lnTo>
                <a:lnTo>
                  <a:pt x="941" y="692"/>
                </a:lnTo>
                <a:lnTo>
                  <a:pt x="943" y="698"/>
                </a:lnTo>
                <a:lnTo>
                  <a:pt x="948" y="702"/>
                </a:lnTo>
                <a:lnTo>
                  <a:pt x="952" y="707"/>
                </a:lnTo>
                <a:lnTo>
                  <a:pt x="957" y="707"/>
                </a:lnTo>
                <a:lnTo>
                  <a:pt x="961" y="708"/>
                </a:lnTo>
                <a:lnTo>
                  <a:pt x="966" y="707"/>
                </a:lnTo>
                <a:lnTo>
                  <a:pt x="972" y="705"/>
                </a:lnTo>
                <a:lnTo>
                  <a:pt x="985" y="698"/>
                </a:lnTo>
                <a:lnTo>
                  <a:pt x="993" y="693"/>
                </a:lnTo>
                <a:lnTo>
                  <a:pt x="999" y="687"/>
                </a:lnTo>
                <a:lnTo>
                  <a:pt x="1003" y="681"/>
                </a:lnTo>
                <a:lnTo>
                  <a:pt x="1008" y="674"/>
                </a:lnTo>
                <a:lnTo>
                  <a:pt x="1014" y="660"/>
                </a:lnTo>
                <a:lnTo>
                  <a:pt x="1017" y="647"/>
                </a:lnTo>
                <a:lnTo>
                  <a:pt x="1017" y="633"/>
                </a:lnTo>
                <a:lnTo>
                  <a:pt x="1017" y="624"/>
                </a:lnTo>
                <a:lnTo>
                  <a:pt x="1017" y="615"/>
                </a:lnTo>
                <a:lnTo>
                  <a:pt x="975" y="588"/>
                </a:lnTo>
                <a:lnTo>
                  <a:pt x="975" y="541"/>
                </a:lnTo>
                <a:lnTo>
                  <a:pt x="1020" y="526"/>
                </a:lnTo>
                <a:lnTo>
                  <a:pt x="1017" y="565"/>
                </a:lnTo>
                <a:lnTo>
                  <a:pt x="1018" y="568"/>
                </a:lnTo>
                <a:lnTo>
                  <a:pt x="1023" y="577"/>
                </a:lnTo>
                <a:lnTo>
                  <a:pt x="1027" y="580"/>
                </a:lnTo>
                <a:lnTo>
                  <a:pt x="1030" y="583"/>
                </a:lnTo>
                <a:lnTo>
                  <a:pt x="1035" y="585"/>
                </a:lnTo>
                <a:lnTo>
                  <a:pt x="1039" y="583"/>
                </a:lnTo>
                <a:lnTo>
                  <a:pt x="1047" y="577"/>
                </a:lnTo>
                <a:lnTo>
                  <a:pt x="1051" y="570"/>
                </a:lnTo>
                <a:lnTo>
                  <a:pt x="1055" y="561"/>
                </a:lnTo>
                <a:lnTo>
                  <a:pt x="1055" y="534"/>
                </a:lnTo>
                <a:lnTo>
                  <a:pt x="1074" y="520"/>
                </a:lnTo>
                <a:lnTo>
                  <a:pt x="1095" y="505"/>
                </a:lnTo>
                <a:lnTo>
                  <a:pt x="1119" y="487"/>
                </a:lnTo>
                <a:lnTo>
                  <a:pt x="1145" y="467"/>
                </a:lnTo>
                <a:lnTo>
                  <a:pt x="1166" y="446"/>
                </a:lnTo>
                <a:lnTo>
                  <a:pt x="1175" y="437"/>
                </a:lnTo>
                <a:lnTo>
                  <a:pt x="1181" y="428"/>
                </a:lnTo>
                <a:lnTo>
                  <a:pt x="1186" y="419"/>
                </a:lnTo>
                <a:lnTo>
                  <a:pt x="1189" y="412"/>
                </a:lnTo>
                <a:lnTo>
                  <a:pt x="1192" y="389"/>
                </a:lnTo>
                <a:lnTo>
                  <a:pt x="1195" y="375"/>
                </a:lnTo>
                <a:lnTo>
                  <a:pt x="1195" y="366"/>
                </a:lnTo>
                <a:lnTo>
                  <a:pt x="1195" y="362"/>
                </a:lnTo>
                <a:lnTo>
                  <a:pt x="1192" y="357"/>
                </a:lnTo>
                <a:lnTo>
                  <a:pt x="1186" y="345"/>
                </a:lnTo>
                <a:lnTo>
                  <a:pt x="1180" y="329"/>
                </a:lnTo>
                <a:lnTo>
                  <a:pt x="1174" y="308"/>
                </a:lnTo>
                <a:lnTo>
                  <a:pt x="1189" y="262"/>
                </a:lnTo>
                <a:lnTo>
                  <a:pt x="1149" y="258"/>
                </a:lnTo>
                <a:lnTo>
                  <a:pt x="1149" y="235"/>
                </a:lnTo>
                <a:lnTo>
                  <a:pt x="1189" y="220"/>
                </a:lnTo>
                <a:lnTo>
                  <a:pt x="1226" y="220"/>
                </a:lnTo>
                <a:lnTo>
                  <a:pt x="1246" y="255"/>
                </a:lnTo>
                <a:lnTo>
                  <a:pt x="1243" y="312"/>
                </a:lnTo>
                <a:lnTo>
                  <a:pt x="1291" y="290"/>
                </a:lnTo>
                <a:lnTo>
                  <a:pt x="1291" y="255"/>
                </a:lnTo>
                <a:lnTo>
                  <a:pt x="1278" y="253"/>
                </a:lnTo>
                <a:lnTo>
                  <a:pt x="1265" y="249"/>
                </a:lnTo>
                <a:lnTo>
                  <a:pt x="1261" y="246"/>
                </a:lnTo>
                <a:lnTo>
                  <a:pt x="1256" y="243"/>
                </a:lnTo>
                <a:lnTo>
                  <a:pt x="1253" y="238"/>
                </a:lnTo>
                <a:lnTo>
                  <a:pt x="1252" y="234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Freeform 137"/>
          <p:cNvSpPr/>
          <p:nvPr/>
        </p:nvSpPr>
        <p:spPr>
          <a:xfrm>
            <a:off x="5232240" y="4630680"/>
            <a:ext cx="189000" cy="344520"/>
          </a:xfrm>
          <a:custGeom>
            <a:avLst/>
            <a:gdLst>
              <a:gd name="textAreaLeft" fmla="*/ 0 w 189000"/>
              <a:gd name="textAreaRight" fmla="*/ 189360 w 189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19" h="217">
                <a:moveTo>
                  <a:pt x="119" y="69"/>
                </a:moveTo>
                <a:lnTo>
                  <a:pt x="107" y="22"/>
                </a:lnTo>
                <a:lnTo>
                  <a:pt x="92" y="0"/>
                </a:lnTo>
                <a:lnTo>
                  <a:pt x="73" y="22"/>
                </a:lnTo>
                <a:lnTo>
                  <a:pt x="35" y="57"/>
                </a:lnTo>
                <a:lnTo>
                  <a:pt x="29" y="62"/>
                </a:lnTo>
                <a:lnTo>
                  <a:pt x="18" y="71"/>
                </a:lnTo>
                <a:lnTo>
                  <a:pt x="11" y="77"/>
                </a:lnTo>
                <a:lnTo>
                  <a:pt x="6" y="84"/>
                </a:lnTo>
                <a:lnTo>
                  <a:pt x="2" y="92"/>
                </a:lnTo>
                <a:lnTo>
                  <a:pt x="0" y="99"/>
                </a:lnTo>
                <a:lnTo>
                  <a:pt x="2" y="116"/>
                </a:lnTo>
                <a:lnTo>
                  <a:pt x="6" y="135"/>
                </a:lnTo>
                <a:lnTo>
                  <a:pt x="12" y="156"/>
                </a:lnTo>
                <a:lnTo>
                  <a:pt x="12" y="199"/>
                </a:lnTo>
                <a:lnTo>
                  <a:pt x="17" y="203"/>
                </a:lnTo>
                <a:lnTo>
                  <a:pt x="30" y="211"/>
                </a:lnTo>
                <a:lnTo>
                  <a:pt x="36" y="214"/>
                </a:lnTo>
                <a:lnTo>
                  <a:pt x="42" y="217"/>
                </a:lnTo>
                <a:lnTo>
                  <a:pt x="47" y="217"/>
                </a:lnTo>
                <a:lnTo>
                  <a:pt x="49" y="215"/>
                </a:lnTo>
                <a:lnTo>
                  <a:pt x="50" y="214"/>
                </a:lnTo>
                <a:lnTo>
                  <a:pt x="65" y="159"/>
                </a:lnTo>
                <a:lnTo>
                  <a:pt x="89" y="102"/>
                </a:lnTo>
                <a:lnTo>
                  <a:pt x="119" y="6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Freeform 138"/>
          <p:cNvSpPr/>
          <p:nvPr/>
        </p:nvSpPr>
        <p:spPr>
          <a:xfrm>
            <a:off x="3905280" y="3479760"/>
            <a:ext cx="1485720" cy="174780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936" h="1101">
                <a:moveTo>
                  <a:pt x="699" y="65"/>
                </a:moveTo>
                <a:lnTo>
                  <a:pt x="639" y="87"/>
                </a:lnTo>
                <a:lnTo>
                  <a:pt x="597" y="99"/>
                </a:lnTo>
                <a:lnTo>
                  <a:pt x="555" y="84"/>
                </a:lnTo>
                <a:lnTo>
                  <a:pt x="508" y="72"/>
                </a:lnTo>
                <a:lnTo>
                  <a:pt x="505" y="107"/>
                </a:lnTo>
                <a:lnTo>
                  <a:pt x="466" y="92"/>
                </a:lnTo>
                <a:lnTo>
                  <a:pt x="432" y="80"/>
                </a:lnTo>
                <a:lnTo>
                  <a:pt x="383" y="72"/>
                </a:lnTo>
                <a:lnTo>
                  <a:pt x="375" y="18"/>
                </a:lnTo>
                <a:lnTo>
                  <a:pt x="366" y="0"/>
                </a:lnTo>
                <a:lnTo>
                  <a:pt x="301" y="0"/>
                </a:lnTo>
                <a:lnTo>
                  <a:pt x="256" y="3"/>
                </a:lnTo>
                <a:lnTo>
                  <a:pt x="237" y="11"/>
                </a:lnTo>
                <a:lnTo>
                  <a:pt x="164" y="15"/>
                </a:lnTo>
                <a:lnTo>
                  <a:pt x="127" y="65"/>
                </a:lnTo>
                <a:lnTo>
                  <a:pt x="87" y="130"/>
                </a:lnTo>
                <a:lnTo>
                  <a:pt x="11" y="191"/>
                </a:lnTo>
                <a:lnTo>
                  <a:pt x="8" y="202"/>
                </a:lnTo>
                <a:lnTo>
                  <a:pt x="3" y="215"/>
                </a:lnTo>
                <a:lnTo>
                  <a:pt x="2" y="234"/>
                </a:lnTo>
                <a:lnTo>
                  <a:pt x="0" y="256"/>
                </a:lnTo>
                <a:lnTo>
                  <a:pt x="2" y="268"/>
                </a:lnTo>
                <a:lnTo>
                  <a:pt x="3" y="282"/>
                </a:lnTo>
                <a:lnTo>
                  <a:pt x="6" y="295"/>
                </a:lnTo>
                <a:lnTo>
                  <a:pt x="11" y="309"/>
                </a:lnTo>
                <a:lnTo>
                  <a:pt x="15" y="324"/>
                </a:lnTo>
                <a:lnTo>
                  <a:pt x="23" y="341"/>
                </a:lnTo>
                <a:lnTo>
                  <a:pt x="20" y="344"/>
                </a:lnTo>
                <a:lnTo>
                  <a:pt x="18" y="350"/>
                </a:lnTo>
                <a:lnTo>
                  <a:pt x="18" y="357"/>
                </a:lnTo>
                <a:lnTo>
                  <a:pt x="20" y="369"/>
                </a:lnTo>
                <a:lnTo>
                  <a:pt x="23" y="383"/>
                </a:lnTo>
                <a:lnTo>
                  <a:pt x="30" y="402"/>
                </a:lnTo>
                <a:lnTo>
                  <a:pt x="42" y="423"/>
                </a:lnTo>
                <a:lnTo>
                  <a:pt x="44" y="428"/>
                </a:lnTo>
                <a:lnTo>
                  <a:pt x="48" y="438"/>
                </a:lnTo>
                <a:lnTo>
                  <a:pt x="57" y="454"/>
                </a:lnTo>
                <a:lnTo>
                  <a:pt x="63" y="461"/>
                </a:lnTo>
                <a:lnTo>
                  <a:pt x="71" y="469"/>
                </a:lnTo>
                <a:lnTo>
                  <a:pt x="80" y="475"/>
                </a:lnTo>
                <a:lnTo>
                  <a:pt x="92" y="481"/>
                </a:lnTo>
                <a:lnTo>
                  <a:pt x="105" y="485"/>
                </a:lnTo>
                <a:lnTo>
                  <a:pt x="121" y="488"/>
                </a:lnTo>
                <a:lnTo>
                  <a:pt x="139" y="490"/>
                </a:lnTo>
                <a:lnTo>
                  <a:pt x="158" y="488"/>
                </a:lnTo>
                <a:lnTo>
                  <a:pt x="181" y="485"/>
                </a:lnTo>
                <a:lnTo>
                  <a:pt x="206" y="478"/>
                </a:lnTo>
                <a:lnTo>
                  <a:pt x="241" y="473"/>
                </a:lnTo>
                <a:lnTo>
                  <a:pt x="271" y="478"/>
                </a:lnTo>
                <a:lnTo>
                  <a:pt x="321" y="473"/>
                </a:lnTo>
                <a:lnTo>
                  <a:pt x="309" y="493"/>
                </a:lnTo>
                <a:lnTo>
                  <a:pt x="348" y="493"/>
                </a:lnTo>
                <a:lnTo>
                  <a:pt x="351" y="542"/>
                </a:lnTo>
                <a:lnTo>
                  <a:pt x="351" y="553"/>
                </a:lnTo>
                <a:lnTo>
                  <a:pt x="350" y="574"/>
                </a:lnTo>
                <a:lnTo>
                  <a:pt x="350" y="586"/>
                </a:lnTo>
                <a:lnTo>
                  <a:pt x="350" y="595"/>
                </a:lnTo>
                <a:lnTo>
                  <a:pt x="353" y="604"/>
                </a:lnTo>
                <a:lnTo>
                  <a:pt x="354" y="606"/>
                </a:lnTo>
                <a:lnTo>
                  <a:pt x="356" y="607"/>
                </a:lnTo>
                <a:lnTo>
                  <a:pt x="366" y="613"/>
                </a:lnTo>
                <a:lnTo>
                  <a:pt x="378" y="624"/>
                </a:lnTo>
                <a:lnTo>
                  <a:pt x="384" y="630"/>
                </a:lnTo>
                <a:lnTo>
                  <a:pt x="389" y="637"/>
                </a:lnTo>
                <a:lnTo>
                  <a:pt x="392" y="645"/>
                </a:lnTo>
                <a:lnTo>
                  <a:pt x="393" y="654"/>
                </a:lnTo>
                <a:lnTo>
                  <a:pt x="395" y="663"/>
                </a:lnTo>
                <a:lnTo>
                  <a:pt x="396" y="675"/>
                </a:lnTo>
                <a:lnTo>
                  <a:pt x="401" y="701"/>
                </a:lnTo>
                <a:lnTo>
                  <a:pt x="408" y="729"/>
                </a:lnTo>
                <a:lnTo>
                  <a:pt x="404" y="758"/>
                </a:lnTo>
                <a:lnTo>
                  <a:pt x="399" y="784"/>
                </a:lnTo>
                <a:lnTo>
                  <a:pt x="398" y="811"/>
                </a:lnTo>
                <a:lnTo>
                  <a:pt x="399" y="842"/>
                </a:lnTo>
                <a:lnTo>
                  <a:pt x="404" y="878"/>
                </a:lnTo>
                <a:lnTo>
                  <a:pt x="408" y="921"/>
                </a:lnTo>
                <a:lnTo>
                  <a:pt x="443" y="958"/>
                </a:lnTo>
                <a:lnTo>
                  <a:pt x="467" y="987"/>
                </a:lnTo>
                <a:lnTo>
                  <a:pt x="475" y="999"/>
                </a:lnTo>
                <a:lnTo>
                  <a:pt x="478" y="1005"/>
                </a:lnTo>
                <a:lnTo>
                  <a:pt x="475" y="1047"/>
                </a:lnTo>
                <a:lnTo>
                  <a:pt x="470" y="1082"/>
                </a:lnTo>
                <a:lnTo>
                  <a:pt x="532" y="1101"/>
                </a:lnTo>
                <a:lnTo>
                  <a:pt x="589" y="1089"/>
                </a:lnTo>
                <a:lnTo>
                  <a:pt x="619" y="1040"/>
                </a:lnTo>
                <a:lnTo>
                  <a:pt x="689" y="987"/>
                </a:lnTo>
                <a:lnTo>
                  <a:pt x="689" y="925"/>
                </a:lnTo>
                <a:lnTo>
                  <a:pt x="734" y="913"/>
                </a:lnTo>
                <a:lnTo>
                  <a:pt x="734" y="863"/>
                </a:lnTo>
                <a:lnTo>
                  <a:pt x="734" y="818"/>
                </a:lnTo>
                <a:lnTo>
                  <a:pt x="738" y="817"/>
                </a:lnTo>
                <a:lnTo>
                  <a:pt x="749" y="814"/>
                </a:lnTo>
                <a:lnTo>
                  <a:pt x="762" y="808"/>
                </a:lnTo>
                <a:lnTo>
                  <a:pt x="770" y="803"/>
                </a:lnTo>
                <a:lnTo>
                  <a:pt x="778" y="797"/>
                </a:lnTo>
                <a:lnTo>
                  <a:pt x="784" y="790"/>
                </a:lnTo>
                <a:lnTo>
                  <a:pt x="790" y="781"/>
                </a:lnTo>
                <a:lnTo>
                  <a:pt x="796" y="770"/>
                </a:lnTo>
                <a:lnTo>
                  <a:pt x="799" y="756"/>
                </a:lnTo>
                <a:lnTo>
                  <a:pt x="800" y="741"/>
                </a:lnTo>
                <a:lnTo>
                  <a:pt x="800" y="725"/>
                </a:lnTo>
                <a:lnTo>
                  <a:pt x="797" y="705"/>
                </a:lnTo>
                <a:lnTo>
                  <a:pt x="791" y="684"/>
                </a:lnTo>
                <a:lnTo>
                  <a:pt x="788" y="615"/>
                </a:lnTo>
                <a:lnTo>
                  <a:pt x="823" y="577"/>
                </a:lnTo>
                <a:lnTo>
                  <a:pt x="844" y="554"/>
                </a:lnTo>
                <a:lnTo>
                  <a:pt x="866" y="532"/>
                </a:lnTo>
                <a:lnTo>
                  <a:pt x="891" y="503"/>
                </a:lnTo>
                <a:lnTo>
                  <a:pt x="901" y="487"/>
                </a:lnTo>
                <a:lnTo>
                  <a:pt x="912" y="472"/>
                </a:lnTo>
                <a:lnTo>
                  <a:pt x="921" y="455"/>
                </a:lnTo>
                <a:lnTo>
                  <a:pt x="928" y="440"/>
                </a:lnTo>
                <a:lnTo>
                  <a:pt x="934" y="425"/>
                </a:lnTo>
                <a:lnTo>
                  <a:pt x="936" y="410"/>
                </a:lnTo>
                <a:lnTo>
                  <a:pt x="936" y="404"/>
                </a:lnTo>
                <a:lnTo>
                  <a:pt x="934" y="398"/>
                </a:lnTo>
                <a:lnTo>
                  <a:pt x="933" y="392"/>
                </a:lnTo>
                <a:lnTo>
                  <a:pt x="930" y="386"/>
                </a:lnTo>
                <a:lnTo>
                  <a:pt x="915" y="393"/>
                </a:lnTo>
                <a:lnTo>
                  <a:pt x="882" y="407"/>
                </a:lnTo>
                <a:lnTo>
                  <a:pt x="863" y="413"/>
                </a:lnTo>
                <a:lnTo>
                  <a:pt x="847" y="416"/>
                </a:lnTo>
                <a:lnTo>
                  <a:pt x="841" y="417"/>
                </a:lnTo>
                <a:lnTo>
                  <a:pt x="835" y="417"/>
                </a:lnTo>
                <a:lnTo>
                  <a:pt x="832" y="416"/>
                </a:lnTo>
                <a:lnTo>
                  <a:pt x="830" y="413"/>
                </a:lnTo>
                <a:lnTo>
                  <a:pt x="823" y="384"/>
                </a:lnTo>
                <a:lnTo>
                  <a:pt x="818" y="371"/>
                </a:lnTo>
                <a:lnTo>
                  <a:pt x="769" y="309"/>
                </a:lnTo>
                <a:lnTo>
                  <a:pt x="764" y="295"/>
                </a:lnTo>
                <a:lnTo>
                  <a:pt x="762" y="283"/>
                </a:lnTo>
                <a:lnTo>
                  <a:pt x="761" y="271"/>
                </a:lnTo>
                <a:lnTo>
                  <a:pt x="759" y="264"/>
                </a:lnTo>
                <a:lnTo>
                  <a:pt x="756" y="255"/>
                </a:lnTo>
                <a:lnTo>
                  <a:pt x="746" y="234"/>
                </a:lnTo>
                <a:lnTo>
                  <a:pt x="731" y="206"/>
                </a:lnTo>
                <a:lnTo>
                  <a:pt x="684" y="149"/>
                </a:lnTo>
                <a:lnTo>
                  <a:pt x="708" y="131"/>
                </a:lnTo>
                <a:lnTo>
                  <a:pt x="701" y="63"/>
                </a:lnTo>
                <a:lnTo>
                  <a:pt x="699" y="6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1" name="Freeform 140"/>
          <p:cNvSpPr/>
          <p:nvPr/>
        </p:nvSpPr>
        <p:spPr>
          <a:xfrm>
            <a:off x="5234040" y="4629240"/>
            <a:ext cx="189000" cy="344520"/>
          </a:xfrm>
          <a:custGeom>
            <a:avLst/>
            <a:gdLst>
              <a:gd name="textAreaLeft" fmla="*/ 0 w 189000"/>
              <a:gd name="textAreaRight" fmla="*/ 189360 w 189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19" h="217">
                <a:moveTo>
                  <a:pt x="119" y="69"/>
                </a:moveTo>
                <a:lnTo>
                  <a:pt x="107" y="22"/>
                </a:lnTo>
                <a:lnTo>
                  <a:pt x="92" y="0"/>
                </a:lnTo>
                <a:lnTo>
                  <a:pt x="73" y="22"/>
                </a:lnTo>
                <a:lnTo>
                  <a:pt x="35" y="57"/>
                </a:lnTo>
                <a:lnTo>
                  <a:pt x="29" y="62"/>
                </a:lnTo>
                <a:lnTo>
                  <a:pt x="18" y="71"/>
                </a:lnTo>
                <a:lnTo>
                  <a:pt x="11" y="77"/>
                </a:lnTo>
                <a:lnTo>
                  <a:pt x="6" y="84"/>
                </a:lnTo>
                <a:lnTo>
                  <a:pt x="2" y="92"/>
                </a:lnTo>
                <a:lnTo>
                  <a:pt x="0" y="99"/>
                </a:lnTo>
                <a:lnTo>
                  <a:pt x="2" y="116"/>
                </a:lnTo>
                <a:lnTo>
                  <a:pt x="6" y="135"/>
                </a:lnTo>
                <a:lnTo>
                  <a:pt x="12" y="156"/>
                </a:lnTo>
                <a:lnTo>
                  <a:pt x="12" y="199"/>
                </a:lnTo>
                <a:lnTo>
                  <a:pt x="17" y="203"/>
                </a:lnTo>
                <a:lnTo>
                  <a:pt x="30" y="211"/>
                </a:lnTo>
                <a:lnTo>
                  <a:pt x="36" y="214"/>
                </a:lnTo>
                <a:lnTo>
                  <a:pt x="42" y="217"/>
                </a:lnTo>
                <a:lnTo>
                  <a:pt x="47" y="217"/>
                </a:lnTo>
                <a:lnTo>
                  <a:pt x="49" y="215"/>
                </a:lnTo>
                <a:lnTo>
                  <a:pt x="50" y="214"/>
                </a:lnTo>
                <a:lnTo>
                  <a:pt x="65" y="159"/>
                </a:lnTo>
                <a:lnTo>
                  <a:pt x="89" y="102"/>
                </a:lnTo>
                <a:lnTo>
                  <a:pt x="119" y="6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Freeform 141"/>
          <p:cNvSpPr/>
          <p:nvPr/>
        </p:nvSpPr>
        <p:spPr>
          <a:xfrm>
            <a:off x="3906720" y="3478320"/>
            <a:ext cx="1486080" cy="174780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936" h="1101">
                <a:moveTo>
                  <a:pt x="699" y="65"/>
                </a:moveTo>
                <a:lnTo>
                  <a:pt x="639" y="87"/>
                </a:lnTo>
                <a:lnTo>
                  <a:pt x="597" y="99"/>
                </a:lnTo>
                <a:lnTo>
                  <a:pt x="555" y="84"/>
                </a:lnTo>
                <a:lnTo>
                  <a:pt x="508" y="72"/>
                </a:lnTo>
                <a:lnTo>
                  <a:pt x="505" y="107"/>
                </a:lnTo>
                <a:lnTo>
                  <a:pt x="466" y="92"/>
                </a:lnTo>
                <a:lnTo>
                  <a:pt x="432" y="80"/>
                </a:lnTo>
                <a:lnTo>
                  <a:pt x="383" y="72"/>
                </a:lnTo>
                <a:lnTo>
                  <a:pt x="375" y="18"/>
                </a:lnTo>
                <a:lnTo>
                  <a:pt x="366" y="0"/>
                </a:lnTo>
                <a:lnTo>
                  <a:pt x="301" y="0"/>
                </a:lnTo>
                <a:lnTo>
                  <a:pt x="256" y="3"/>
                </a:lnTo>
                <a:lnTo>
                  <a:pt x="237" y="11"/>
                </a:lnTo>
                <a:lnTo>
                  <a:pt x="164" y="15"/>
                </a:lnTo>
                <a:lnTo>
                  <a:pt x="127" y="65"/>
                </a:lnTo>
                <a:lnTo>
                  <a:pt x="87" y="130"/>
                </a:lnTo>
                <a:lnTo>
                  <a:pt x="11" y="191"/>
                </a:lnTo>
                <a:lnTo>
                  <a:pt x="8" y="202"/>
                </a:lnTo>
                <a:lnTo>
                  <a:pt x="3" y="215"/>
                </a:lnTo>
                <a:lnTo>
                  <a:pt x="2" y="234"/>
                </a:lnTo>
                <a:lnTo>
                  <a:pt x="0" y="256"/>
                </a:lnTo>
                <a:lnTo>
                  <a:pt x="2" y="268"/>
                </a:lnTo>
                <a:lnTo>
                  <a:pt x="3" y="282"/>
                </a:lnTo>
                <a:lnTo>
                  <a:pt x="6" y="295"/>
                </a:lnTo>
                <a:lnTo>
                  <a:pt x="11" y="309"/>
                </a:lnTo>
                <a:lnTo>
                  <a:pt x="15" y="324"/>
                </a:lnTo>
                <a:lnTo>
                  <a:pt x="23" y="341"/>
                </a:lnTo>
                <a:lnTo>
                  <a:pt x="20" y="344"/>
                </a:lnTo>
                <a:lnTo>
                  <a:pt x="18" y="350"/>
                </a:lnTo>
                <a:lnTo>
                  <a:pt x="18" y="357"/>
                </a:lnTo>
                <a:lnTo>
                  <a:pt x="20" y="369"/>
                </a:lnTo>
                <a:lnTo>
                  <a:pt x="23" y="383"/>
                </a:lnTo>
                <a:lnTo>
                  <a:pt x="30" y="402"/>
                </a:lnTo>
                <a:lnTo>
                  <a:pt x="42" y="423"/>
                </a:lnTo>
                <a:lnTo>
                  <a:pt x="44" y="428"/>
                </a:lnTo>
                <a:lnTo>
                  <a:pt x="48" y="438"/>
                </a:lnTo>
                <a:lnTo>
                  <a:pt x="57" y="454"/>
                </a:lnTo>
                <a:lnTo>
                  <a:pt x="63" y="461"/>
                </a:lnTo>
                <a:lnTo>
                  <a:pt x="71" y="469"/>
                </a:lnTo>
                <a:lnTo>
                  <a:pt x="80" y="475"/>
                </a:lnTo>
                <a:lnTo>
                  <a:pt x="92" y="481"/>
                </a:lnTo>
                <a:lnTo>
                  <a:pt x="105" y="485"/>
                </a:lnTo>
                <a:lnTo>
                  <a:pt x="121" y="488"/>
                </a:lnTo>
                <a:lnTo>
                  <a:pt x="139" y="490"/>
                </a:lnTo>
                <a:lnTo>
                  <a:pt x="158" y="488"/>
                </a:lnTo>
                <a:lnTo>
                  <a:pt x="181" y="485"/>
                </a:lnTo>
                <a:lnTo>
                  <a:pt x="206" y="478"/>
                </a:lnTo>
                <a:lnTo>
                  <a:pt x="241" y="473"/>
                </a:lnTo>
                <a:lnTo>
                  <a:pt x="271" y="478"/>
                </a:lnTo>
                <a:lnTo>
                  <a:pt x="321" y="473"/>
                </a:lnTo>
                <a:lnTo>
                  <a:pt x="309" y="493"/>
                </a:lnTo>
                <a:lnTo>
                  <a:pt x="348" y="493"/>
                </a:lnTo>
                <a:lnTo>
                  <a:pt x="351" y="542"/>
                </a:lnTo>
                <a:lnTo>
                  <a:pt x="351" y="553"/>
                </a:lnTo>
                <a:lnTo>
                  <a:pt x="350" y="574"/>
                </a:lnTo>
                <a:lnTo>
                  <a:pt x="350" y="586"/>
                </a:lnTo>
                <a:lnTo>
                  <a:pt x="350" y="595"/>
                </a:lnTo>
                <a:lnTo>
                  <a:pt x="353" y="604"/>
                </a:lnTo>
                <a:lnTo>
                  <a:pt x="354" y="606"/>
                </a:lnTo>
                <a:lnTo>
                  <a:pt x="356" y="607"/>
                </a:lnTo>
                <a:lnTo>
                  <a:pt x="366" y="613"/>
                </a:lnTo>
                <a:lnTo>
                  <a:pt x="378" y="624"/>
                </a:lnTo>
                <a:lnTo>
                  <a:pt x="384" y="630"/>
                </a:lnTo>
                <a:lnTo>
                  <a:pt x="389" y="637"/>
                </a:lnTo>
                <a:lnTo>
                  <a:pt x="392" y="645"/>
                </a:lnTo>
                <a:lnTo>
                  <a:pt x="393" y="654"/>
                </a:lnTo>
                <a:lnTo>
                  <a:pt x="395" y="663"/>
                </a:lnTo>
                <a:lnTo>
                  <a:pt x="396" y="675"/>
                </a:lnTo>
                <a:lnTo>
                  <a:pt x="401" y="701"/>
                </a:lnTo>
                <a:lnTo>
                  <a:pt x="408" y="729"/>
                </a:lnTo>
                <a:lnTo>
                  <a:pt x="404" y="758"/>
                </a:lnTo>
                <a:lnTo>
                  <a:pt x="399" y="784"/>
                </a:lnTo>
                <a:lnTo>
                  <a:pt x="398" y="811"/>
                </a:lnTo>
                <a:lnTo>
                  <a:pt x="399" y="842"/>
                </a:lnTo>
                <a:lnTo>
                  <a:pt x="404" y="878"/>
                </a:lnTo>
                <a:lnTo>
                  <a:pt x="408" y="921"/>
                </a:lnTo>
                <a:lnTo>
                  <a:pt x="443" y="958"/>
                </a:lnTo>
                <a:lnTo>
                  <a:pt x="467" y="987"/>
                </a:lnTo>
                <a:lnTo>
                  <a:pt x="475" y="999"/>
                </a:lnTo>
                <a:lnTo>
                  <a:pt x="478" y="1005"/>
                </a:lnTo>
                <a:lnTo>
                  <a:pt x="475" y="1047"/>
                </a:lnTo>
                <a:lnTo>
                  <a:pt x="470" y="1082"/>
                </a:lnTo>
                <a:lnTo>
                  <a:pt x="532" y="1101"/>
                </a:lnTo>
                <a:lnTo>
                  <a:pt x="589" y="1089"/>
                </a:lnTo>
                <a:lnTo>
                  <a:pt x="619" y="1040"/>
                </a:lnTo>
                <a:lnTo>
                  <a:pt x="689" y="987"/>
                </a:lnTo>
                <a:lnTo>
                  <a:pt x="689" y="925"/>
                </a:lnTo>
                <a:lnTo>
                  <a:pt x="734" y="913"/>
                </a:lnTo>
                <a:lnTo>
                  <a:pt x="734" y="863"/>
                </a:lnTo>
                <a:lnTo>
                  <a:pt x="734" y="818"/>
                </a:lnTo>
                <a:lnTo>
                  <a:pt x="738" y="817"/>
                </a:lnTo>
                <a:lnTo>
                  <a:pt x="749" y="814"/>
                </a:lnTo>
                <a:lnTo>
                  <a:pt x="762" y="808"/>
                </a:lnTo>
                <a:lnTo>
                  <a:pt x="770" y="803"/>
                </a:lnTo>
                <a:lnTo>
                  <a:pt x="778" y="797"/>
                </a:lnTo>
                <a:lnTo>
                  <a:pt x="784" y="790"/>
                </a:lnTo>
                <a:lnTo>
                  <a:pt x="790" y="781"/>
                </a:lnTo>
                <a:lnTo>
                  <a:pt x="796" y="770"/>
                </a:lnTo>
                <a:lnTo>
                  <a:pt x="799" y="756"/>
                </a:lnTo>
                <a:lnTo>
                  <a:pt x="800" y="741"/>
                </a:lnTo>
                <a:lnTo>
                  <a:pt x="800" y="725"/>
                </a:lnTo>
                <a:lnTo>
                  <a:pt x="797" y="705"/>
                </a:lnTo>
                <a:lnTo>
                  <a:pt x="791" y="684"/>
                </a:lnTo>
                <a:lnTo>
                  <a:pt x="788" y="615"/>
                </a:lnTo>
                <a:lnTo>
                  <a:pt x="823" y="577"/>
                </a:lnTo>
                <a:lnTo>
                  <a:pt x="844" y="554"/>
                </a:lnTo>
                <a:lnTo>
                  <a:pt x="866" y="532"/>
                </a:lnTo>
                <a:lnTo>
                  <a:pt x="891" y="503"/>
                </a:lnTo>
                <a:lnTo>
                  <a:pt x="901" y="487"/>
                </a:lnTo>
                <a:lnTo>
                  <a:pt x="912" y="472"/>
                </a:lnTo>
                <a:lnTo>
                  <a:pt x="921" y="455"/>
                </a:lnTo>
                <a:lnTo>
                  <a:pt x="928" y="440"/>
                </a:lnTo>
                <a:lnTo>
                  <a:pt x="934" y="425"/>
                </a:lnTo>
                <a:lnTo>
                  <a:pt x="936" y="410"/>
                </a:lnTo>
                <a:lnTo>
                  <a:pt x="936" y="404"/>
                </a:lnTo>
                <a:lnTo>
                  <a:pt x="934" y="398"/>
                </a:lnTo>
                <a:lnTo>
                  <a:pt x="933" y="392"/>
                </a:lnTo>
                <a:lnTo>
                  <a:pt x="930" y="386"/>
                </a:lnTo>
                <a:lnTo>
                  <a:pt x="915" y="393"/>
                </a:lnTo>
                <a:lnTo>
                  <a:pt x="882" y="407"/>
                </a:lnTo>
                <a:lnTo>
                  <a:pt x="863" y="413"/>
                </a:lnTo>
                <a:lnTo>
                  <a:pt x="847" y="416"/>
                </a:lnTo>
                <a:lnTo>
                  <a:pt x="841" y="417"/>
                </a:lnTo>
                <a:lnTo>
                  <a:pt x="835" y="417"/>
                </a:lnTo>
                <a:lnTo>
                  <a:pt x="832" y="416"/>
                </a:lnTo>
                <a:lnTo>
                  <a:pt x="830" y="413"/>
                </a:lnTo>
                <a:lnTo>
                  <a:pt x="823" y="384"/>
                </a:lnTo>
                <a:lnTo>
                  <a:pt x="818" y="371"/>
                </a:lnTo>
                <a:lnTo>
                  <a:pt x="769" y="309"/>
                </a:lnTo>
                <a:lnTo>
                  <a:pt x="764" y="295"/>
                </a:lnTo>
                <a:lnTo>
                  <a:pt x="762" y="283"/>
                </a:lnTo>
                <a:lnTo>
                  <a:pt x="761" y="271"/>
                </a:lnTo>
                <a:lnTo>
                  <a:pt x="759" y="264"/>
                </a:lnTo>
                <a:lnTo>
                  <a:pt x="756" y="255"/>
                </a:lnTo>
                <a:lnTo>
                  <a:pt x="746" y="234"/>
                </a:lnTo>
                <a:lnTo>
                  <a:pt x="731" y="206"/>
                </a:lnTo>
                <a:lnTo>
                  <a:pt x="684" y="149"/>
                </a:lnTo>
                <a:lnTo>
                  <a:pt x="708" y="131"/>
                </a:lnTo>
                <a:lnTo>
                  <a:pt x="701" y="63"/>
                </a:lnTo>
                <a:lnTo>
                  <a:pt x="699" y="65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3" name="Freeform 144"/>
          <p:cNvSpPr/>
          <p:nvPr/>
        </p:nvSpPr>
        <p:spPr>
          <a:xfrm>
            <a:off x="7130880" y="4363920"/>
            <a:ext cx="433440" cy="220680"/>
          </a:xfrm>
          <a:custGeom>
            <a:avLst/>
            <a:gdLst>
              <a:gd name="textAreaLeft" fmla="*/ 0 w 433440"/>
              <a:gd name="textAreaRight" fmla="*/ 433800 w 433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73" h="139">
                <a:moveTo>
                  <a:pt x="86" y="66"/>
                </a:moveTo>
                <a:lnTo>
                  <a:pt x="82" y="44"/>
                </a:lnTo>
                <a:lnTo>
                  <a:pt x="68" y="41"/>
                </a:lnTo>
                <a:lnTo>
                  <a:pt x="38" y="35"/>
                </a:lnTo>
                <a:lnTo>
                  <a:pt x="23" y="30"/>
                </a:lnTo>
                <a:lnTo>
                  <a:pt x="9" y="24"/>
                </a:lnTo>
                <a:lnTo>
                  <a:pt x="5" y="21"/>
                </a:lnTo>
                <a:lnTo>
                  <a:pt x="2" y="17"/>
                </a:lnTo>
                <a:lnTo>
                  <a:pt x="0" y="14"/>
                </a:lnTo>
                <a:lnTo>
                  <a:pt x="2" y="9"/>
                </a:lnTo>
                <a:lnTo>
                  <a:pt x="5" y="5"/>
                </a:lnTo>
                <a:lnTo>
                  <a:pt x="9" y="3"/>
                </a:lnTo>
                <a:lnTo>
                  <a:pt x="14" y="2"/>
                </a:lnTo>
                <a:lnTo>
                  <a:pt x="18" y="0"/>
                </a:lnTo>
                <a:lnTo>
                  <a:pt x="32" y="0"/>
                </a:lnTo>
                <a:lnTo>
                  <a:pt x="44" y="3"/>
                </a:lnTo>
                <a:lnTo>
                  <a:pt x="68" y="9"/>
                </a:lnTo>
                <a:lnTo>
                  <a:pt x="79" y="14"/>
                </a:lnTo>
                <a:lnTo>
                  <a:pt x="140" y="9"/>
                </a:lnTo>
                <a:lnTo>
                  <a:pt x="163" y="44"/>
                </a:lnTo>
                <a:lnTo>
                  <a:pt x="208" y="44"/>
                </a:lnTo>
                <a:lnTo>
                  <a:pt x="223" y="89"/>
                </a:lnTo>
                <a:lnTo>
                  <a:pt x="273" y="116"/>
                </a:lnTo>
                <a:lnTo>
                  <a:pt x="268" y="122"/>
                </a:lnTo>
                <a:lnTo>
                  <a:pt x="261" y="128"/>
                </a:lnTo>
                <a:lnTo>
                  <a:pt x="252" y="134"/>
                </a:lnTo>
                <a:lnTo>
                  <a:pt x="240" y="139"/>
                </a:lnTo>
                <a:lnTo>
                  <a:pt x="232" y="139"/>
                </a:lnTo>
                <a:lnTo>
                  <a:pt x="225" y="139"/>
                </a:lnTo>
                <a:lnTo>
                  <a:pt x="217" y="137"/>
                </a:lnTo>
                <a:lnTo>
                  <a:pt x="208" y="134"/>
                </a:lnTo>
                <a:lnTo>
                  <a:pt x="199" y="130"/>
                </a:lnTo>
                <a:lnTo>
                  <a:pt x="190" y="124"/>
                </a:lnTo>
                <a:lnTo>
                  <a:pt x="174" y="112"/>
                </a:lnTo>
                <a:lnTo>
                  <a:pt x="166" y="106"/>
                </a:lnTo>
                <a:lnTo>
                  <a:pt x="164" y="103"/>
                </a:lnTo>
                <a:lnTo>
                  <a:pt x="166" y="101"/>
                </a:lnTo>
                <a:lnTo>
                  <a:pt x="172" y="103"/>
                </a:lnTo>
                <a:lnTo>
                  <a:pt x="186" y="109"/>
                </a:lnTo>
                <a:lnTo>
                  <a:pt x="158" y="136"/>
                </a:lnTo>
                <a:lnTo>
                  <a:pt x="128" y="113"/>
                </a:lnTo>
                <a:lnTo>
                  <a:pt x="94" y="96"/>
                </a:lnTo>
                <a:lnTo>
                  <a:pt x="74" y="109"/>
                </a:lnTo>
                <a:lnTo>
                  <a:pt x="64" y="78"/>
                </a:lnTo>
                <a:lnTo>
                  <a:pt x="86" y="6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4" name="Freeform 145"/>
          <p:cNvSpPr/>
          <p:nvPr/>
        </p:nvSpPr>
        <p:spPr>
          <a:xfrm>
            <a:off x="6746760" y="4595760"/>
            <a:ext cx="873360" cy="693720"/>
          </a:xfrm>
          <a:custGeom>
            <a:avLst/>
            <a:gdLst>
              <a:gd name="textAreaLeft" fmla="*/ 0 w 873360"/>
              <a:gd name="textAreaRight" fmla="*/ 873720 w 8733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550" h="437">
                <a:moveTo>
                  <a:pt x="390" y="92"/>
                </a:moveTo>
                <a:lnTo>
                  <a:pt x="293" y="67"/>
                </a:lnTo>
                <a:lnTo>
                  <a:pt x="298" y="32"/>
                </a:lnTo>
                <a:lnTo>
                  <a:pt x="328" y="32"/>
                </a:lnTo>
                <a:lnTo>
                  <a:pt x="328" y="0"/>
                </a:lnTo>
                <a:lnTo>
                  <a:pt x="271" y="0"/>
                </a:lnTo>
                <a:lnTo>
                  <a:pt x="263" y="3"/>
                </a:lnTo>
                <a:lnTo>
                  <a:pt x="253" y="8"/>
                </a:lnTo>
                <a:lnTo>
                  <a:pt x="227" y="21"/>
                </a:lnTo>
                <a:lnTo>
                  <a:pt x="194" y="42"/>
                </a:lnTo>
                <a:lnTo>
                  <a:pt x="167" y="50"/>
                </a:lnTo>
                <a:lnTo>
                  <a:pt x="129" y="50"/>
                </a:lnTo>
                <a:lnTo>
                  <a:pt x="107" y="82"/>
                </a:lnTo>
                <a:lnTo>
                  <a:pt x="96" y="94"/>
                </a:lnTo>
                <a:lnTo>
                  <a:pt x="90" y="106"/>
                </a:lnTo>
                <a:lnTo>
                  <a:pt x="89" y="110"/>
                </a:lnTo>
                <a:lnTo>
                  <a:pt x="87" y="115"/>
                </a:lnTo>
                <a:lnTo>
                  <a:pt x="86" y="121"/>
                </a:lnTo>
                <a:lnTo>
                  <a:pt x="83" y="125"/>
                </a:lnTo>
                <a:lnTo>
                  <a:pt x="73" y="137"/>
                </a:lnTo>
                <a:lnTo>
                  <a:pt x="60" y="149"/>
                </a:lnTo>
                <a:lnTo>
                  <a:pt x="10" y="149"/>
                </a:lnTo>
                <a:lnTo>
                  <a:pt x="0" y="199"/>
                </a:lnTo>
                <a:lnTo>
                  <a:pt x="10" y="238"/>
                </a:lnTo>
                <a:lnTo>
                  <a:pt x="10" y="296"/>
                </a:lnTo>
                <a:lnTo>
                  <a:pt x="13" y="315"/>
                </a:lnTo>
                <a:lnTo>
                  <a:pt x="16" y="339"/>
                </a:lnTo>
                <a:lnTo>
                  <a:pt x="22" y="362"/>
                </a:lnTo>
                <a:lnTo>
                  <a:pt x="25" y="375"/>
                </a:lnTo>
                <a:lnTo>
                  <a:pt x="27" y="377"/>
                </a:lnTo>
                <a:lnTo>
                  <a:pt x="30" y="378"/>
                </a:lnTo>
                <a:lnTo>
                  <a:pt x="39" y="380"/>
                </a:lnTo>
                <a:lnTo>
                  <a:pt x="49" y="380"/>
                </a:lnTo>
                <a:lnTo>
                  <a:pt x="61" y="378"/>
                </a:lnTo>
                <a:lnTo>
                  <a:pt x="84" y="374"/>
                </a:lnTo>
                <a:lnTo>
                  <a:pt x="95" y="372"/>
                </a:lnTo>
                <a:lnTo>
                  <a:pt x="194" y="348"/>
                </a:lnTo>
                <a:lnTo>
                  <a:pt x="236" y="323"/>
                </a:lnTo>
                <a:lnTo>
                  <a:pt x="248" y="324"/>
                </a:lnTo>
                <a:lnTo>
                  <a:pt x="275" y="330"/>
                </a:lnTo>
                <a:lnTo>
                  <a:pt x="290" y="336"/>
                </a:lnTo>
                <a:lnTo>
                  <a:pt x="306" y="341"/>
                </a:lnTo>
                <a:lnTo>
                  <a:pt x="319" y="348"/>
                </a:lnTo>
                <a:lnTo>
                  <a:pt x="324" y="353"/>
                </a:lnTo>
                <a:lnTo>
                  <a:pt x="328" y="356"/>
                </a:lnTo>
                <a:lnTo>
                  <a:pt x="358" y="393"/>
                </a:lnTo>
                <a:lnTo>
                  <a:pt x="382" y="425"/>
                </a:lnTo>
                <a:lnTo>
                  <a:pt x="387" y="430"/>
                </a:lnTo>
                <a:lnTo>
                  <a:pt x="396" y="434"/>
                </a:lnTo>
                <a:lnTo>
                  <a:pt x="406" y="436"/>
                </a:lnTo>
                <a:lnTo>
                  <a:pt x="417" y="437"/>
                </a:lnTo>
                <a:lnTo>
                  <a:pt x="435" y="437"/>
                </a:lnTo>
                <a:lnTo>
                  <a:pt x="443" y="437"/>
                </a:lnTo>
                <a:lnTo>
                  <a:pt x="482" y="406"/>
                </a:lnTo>
                <a:lnTo>
                  <a:pt x="485" y="401"/>
                </a:lnTo>
                <a:lnTo>
                  <a:pt x="494" y="390"/>
                </a:lnTo>
                <a:lnTo>
                  <a:pt x="504" y="377"/>
                </a:lnTo>
                <a:lnTo>
                  <a:pt x="507" y="371"/>
                </a:lnTo>
                <a:lnTo>
                  <a:pt x="507" y="363"/>
                </a:lnTo>
                <a:lnTo>
                  <a:pt x="507" y="333"/>
                </a:lnTo>
                <a:lnTo>
                  <a:pt x="539" y="283"/>
                </a:lnTo>
                <a:lnTo>
                  <a:pt x="550" y="219"/>
                </a:lnTo>
                <a:lnTo>
                  <a:pt x="535" y="190"/>
                </a:lnTo>
                <a:lnTo>
                  <a:pt x="519" y="166"/>
                </a:lnTo>
                <a:lnTo>
                  <a:pt x="512" y="155"/>
                </a:lnTo>
                <a:lnTo>
                  <a:pt x="504" y="146"/>
                </a:lnTo>
                <a:lnTo>
                  <a:pt x="486" y="131"/>
                </a:lnTo>
                <a:lnTo>
                  <a:pt x="468" y="118"/>
                </a:lnTo>
                <a:lnTo>
                  <a:pt x="447" y="104"/>
                </a:lnTo>
                <a:lnTo>
                  <a:pt x="435" y="54"/>
                </a:lnTo>
                <a:lnTo>
                  <a:pt x="382" y="8"/>
                </a:lnTo>
                <a:lnTo>
                  <a:pt x="385" y="82"/>
                </a:lnTo>
                <a:lnTo>
                  <a:pt x="390" y="9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Freeform 146"/>
          <p:cNvSpPr/>
          <p:nvPr/>
        </p:nvSpPr>
        <p:spPr>
          <a:xfrm>
            <a:off x="7358040" y="5345280"/>
            <a:ext cx="193680" cy="102960"/>
          </a:xfrm>
          <a:custGeom>
            <a:avLst/>
            <a:gdLst>
              <a:gd name="textAreaLeft" fmla="*/ 0 w 193680"/>
              <a:gd name="textAreaRight" fmla="*/ 194040 w 193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22" h="65">
                <a:moveTo>
                  <a:pt x="65" y="65"/>
                </a:moveTo>
                <a:lnTo>
                  <a:pt x="35" y="45"/>
                </a:lnTo>
                <a:lnTo>
                  <a:pt x="0" y="15"/>
                </a:lnTo>
                <a:lnTo>
                  <a:pt x="31" y="0"/>
                </a:lnTo>
                <a:lnTo>
                  <a:pt x="73" y="3"/>
                </a:lnTo>
                <a:lnTo>
                  <a:pt x="122" y="10"/>
                </a:lnTo>
                <a:lnTo>
                  <a:pt x="100" y="38"/>
                </a:lnTo>
                <a:lnTo>
                  <a:pt x="65" y="6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6" name="Freeform 147"/>
          <p:cNvSpPr/>
          <p:nvPr/>
        </p:nvSpPr>
        <p:spPr>
          <a:xfrm>
            <a:off x="7931160" y="5345280"/>
            <a:ext cx="181080" cy="185400"/>
          </a:xfrm>
          <a:custGeom>
            <a:avLst/>
            <a:gdLst>
              <a:gd name="textAreaLeft" fmla="*/ 0 w 181080"/>
              <a:gd name="textAreaRight" fmla="*/ 181440 w 18108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14" h="117">
                <a:moveTo>
                  <a:pt x="42" y="117"/>
                </a:moveTo>
                <a:lnTo>
                  <a:pt x="0" y="99"/>
                </a:lnTo>
                <a:lnTo>
                  <a:pt x="42" y="53"/>
                </a:lnTo>
                <a:lnTo>
                  <a:pt x="42" y="3"/>
                </a:lnTo>
                <a:lnTo>
                  <a:pt x="75" y="0"/>
                </a:lnTo>
                <a:lnTo>
                  <a:pt x="114" y="0"/>
                </a:lnTo>
                <a:lnTo>
                  <a:pt x="107" y="53"/>
                </a:lnTo>
                <a:lnTo>
                  <a:pt x="67" y="87"/>
                </a:lnTo>
                <a:lnTo>
                  <a:pt x="42" y="11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7" name="Freeform 148"/>
          <p:cNvSpPr/>
          <p:nvPr/>
        </p:nvSpPr>
        <p:spPr>
          <a:xfrm>
            <a:off x="8064360" y="5180040"/>
            <a:ext cx="169920" cy="133200"/>
          </a:xfrm>
          <a:custGeom>
            <a:avLst/>
            <a:gdLst>
              <a:gd name="textAreaLeft" fmla="*/ 0 w 169920"/>
              <a:gd name="textAreaRight" fmla="*/ 170280 w 169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07" h="84">
                <a:moveTo>
                  <a:pt x="26" y="77"/>
                </a:moveTo>
                <a:lnTo>
                  <a:pt x="0" y="27"/>
                </a:lnTo>
                <a:lnTo>
                  <a:pt x="26" y="0"/>
                </a:lnTo>
                <a:lnTo>
                  <a:pt x="30" y="3"/>
                </a:lnTo>
                <a:lnTo>
                  <a:pt x="42" y="12"/>
                </a:lnTo>
                <a:lnTo>
                  <a:pt x="57" y="19"/>
                </a:lnTo>
                <a:lnTo>
                  <a:pt x="65" y="22"/>
                </a:lnTo>
                <a:lnTo>
                  <a:pt x="72" y="22"/>
                </a:lnTo>
                <a:lnTo>
                  <a:pt x="86" y="24"/>
                </a:lnTo>
                <a:lnTo>
                  <a:pt x="92" y="25"/>
                </a:lnTo>
                <a:lnTo>
                  <a:pt x="98" y="27"/>
                </a:lnTo>
                <a:lnTo>
                  <a:pt x="102" y="30"/>
                </a:lnTo>
                <a:lnTo>
                  <a:pt x="105" y="35"/>
                </a:lnTo>
                <a:lnTo>
                  <a:pt x="107" y="39"/>
                </a:lnTo>
                <a:lnTo>
                  <a:pt x="107" y="47"/>
                </a:lnTo>
                <a:lnTo>
                  <a:pt x="104" y="53"/>
                </a:lnTo>
                <a:lnTo>
                  <a:pt x="99" y="59"/>
                </a:lnTo>
                <a:lnTo>
                  <a:pt x="95" y="65"/>
                </a:lnTo>
                <a:lnTo>
                  <a:pt x="89" y="71"/>
                </a:lnTo>
                <a:lnTo>
                  <a:pt x="80" y="78"/>
                </a:lnTo>
                <a:lnTo>
                  <a:pt x="75" y="80"/>
                </a:lnTo>
                <a:lnTo>
                  <a:pt x="50" y="84"/>
                </a:lnTo>
                <a:lnTo>
                  <a:pt x="26" y="7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Freeform 150"/>
          <p:cNvSpPr/>
          <p:nvPr/>
        </p:nvSpPr>
        <p:spPr>
          <a:xfrm>
            <a:off x="7130880" y="4362480"/>
            <a:ext cx="433440" cy="220680"/>
          </a:xfrm>
          <a:custGeom>
            <a:avLst/>
            <a:gdLst>
              <a:gd name="textAreaLeft" fmla="*/ 0 w 433440"/>
              <a:gd name="textAreaRight" fmla="*/ 433800 w 433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73" h="139">
                <a:moveTo>
                  <a:pt x="86" y="66"/>
                </a:moveTo>
                <a:lnTo>
                  <a:pt x="82" y="44"/>
                </a:lnTo>
                <a:lnTo>
                  <a:pt x="68" y="41"/>
                </a:lnTo>
                <a:lnTo>
                  <a:pt x="38" y="35"/>
                </a:lnTo>
                <a:lnTo>
                  <a:pt x="23" y="30"/>
                </a:lnTo>
                <a:lnTo>
                  <a:pt x="9" y="24"/>
                </a:lnTo>
                <a:lnTo>
                  <a:pt x="5" y="21"/>
                </a:lnTo>
                <a:lnTo>
                  <a:pt x="2" y="17"/>
                </a:lnTo>
                <a:lnTo>
                  <a:pt x="0" y="14"/>
                </a:lnTo>
                <a:lnTo>
                  <a:pt x="2" y="9"/>
                </a:lnTo>
                <a:lnTo>
                  <a:pt x="5" y="5"/>
                </a:lnTo>
                <a:lnTo>
                  <a:pt x="9" y="3"/>
                </a:lnTo>
                <a:lnTo>
                  <a:pt x="14" y="2"/>
                </a:lnTo>
                <a:lnTo>
                  <a:pt x="18" y="0"/>
                </a:lnTo>
                <a:lnTo>
                  <a:pt x="32" y="0"/>
                </a:lnTo>
                <a:lnTo>
                  <a:pt x="44" y="3"/>
                </a:lnTo>
                <a:lnTo>
                  <a:pt x="68" y="9"/>
                </a:lnTo>
                <a:lnTo>
                  <a:pt x="79" y="14"/>
                </a:lnTo>
                <a:lnTo>
                  <a:pt x="140" y="9"/>
                </a:lnTo>
                <a:lnTo>
                  <a:pt x="163" y="44"/>
                </a:lnTo>
                <a:lnTo>
                  <a:pt x="208" y="44"/>
                </a:lnTo>
                <a:lnTo>
                  <a:pt x="223" y="89"/>
                </a:lnTo>
                <a:lnTo>
                  <a:pt x="273" y="116"/>
                </a:lnTo>
                <a:lnTo>
                  <a:pt x="268" y="122"/>
                </a:lnTo>
                <a:lnTo>
                  <a:pt x="261" y="128"/>
                </a:lnTo>
                <a:lnTo>
                  <a:pt x="252" y="134"/>
                </a:lnTo>
                <a:lnTo>
                  <a:pt x="240" y="139"/>
                </a:lnTo>
                <a:lnTo>
                  <a:pt x="232" y="139"/>
                </a:lnTo>
                <a:lnTo>
                  <a:pt x="225" y="139"/>
                </a:lnTo>
                <a:lnTo>
                  <a:pt x="217" y="137"/>
                </a:lnTo>
                <a:lnTo>
                  <a:pt x="208" y="134"/>
                </a:lnTo>
                <a:lnTo>
                  <a:pt x="199" y="130"/>
                </a:lnTo>
                <a:lnTo>
                  <a:pt x="190" y="124"/>
                </a:lnTo>
                <a:lnTo>
                  <a:pt x="174" y="112"/>
                </a:lnTo>
                <a:lnTo>
                  <a:pt x="166" y="106"/>
                </a:lnTo>
                <a:lnTo>
                  <a:pt x="164" y="103"/>
                </a:lnTo>
                <a:lnTo>
                  <a:pt x="166" y="101"/>
                </a:lnTo>
                <a:lnTo>
                  <a:pt x="172" y="103"/>
                </a:lnTo>
                <a:lnTo>
                  <a:pt x="186" y="109"/>
                </a:lnTo>
                <a:lnTo>
                  <a:pt x="158" y="136"/>
                </a:lnTo>
                <a:lnTo>
                  <a:pt x="128" y="113"/>
                </a:lnTo>
                <a:lnTo>
                  <a:pt x="94" y="96"/>
                </a:lnTo>
                <a:lnTo>
                  <a:pt x="74" y="109"/>
                </a:lnTo>
                <a:lnTo>
                  <a:pt x="64" y="78"/>
                </a:lnTo>
                <a:lnTo>
                  <a:pt x="86" y="66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Freeform 151"/>
          <p:cNvSpPr/>
          <p:nvPr/>
        </p:nvSpPr>
        <p:spPr>
          <a:xfrm>
            <a:off x="6746760" y="4594320"/>
            <a:ext cx="873360" cy="693720"/>
          </a:xfrm>
          <a:custGeom>
            <a:avLst/>
            <a:gdLst>
              <a:gd name="textAreaLeft" fmla="*/ 0 w 873360"/>
              <a:gd name="textAreaRight" fmla="*/ 873720 w 8733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550" h="437">
                <a:moveTo>
                  <a:pt x="390" y="92"/>
                </a:moveTo>
                <a:lnTo>
                  <a:pt x="293" y="67"/>
                </a:lnTo>
                <a:lnTo>
                  <a:pt x="298" y="32"/>
                </a:lnTo>
                <a:lnTo>
                  <a:pt x="328" y="32"/>
                </a:lnTo>
                <a:lnTo>
                  <a:pt x="328" y="0"/>
                </a:lnTo>
                <a:lnTo>
                  <a:pt x="271" y="0"/>
                </a:lnTo>
                <a:lnTo>
                  <a:pt x="263" y="3"/>
                </a:lnTo>
                <a:lnTo>
                  <a:pt x="253" y="8"/>
                </a:lnTo>
                <a:lnTo>
                  <a:pt x="227" y="21"/>
                </a:lnTo>
                <a:lnTo>
                  <a:pt x="194" y="42"/>
                </a:lnTo>
                <a:lnTo>
                  <a:pt x="167" y="50"/>
                </a:lnTo>
                <a:lnTo>
                  <a:pt x="129" y="50"/>
                </a:lnTo>
                <a:lnTo>
                  <a:pt x="107" y="82"/>
                </a:lnTo>
                <a:lnTo>
                  <a:pt x="96" y="94"/>
                </a:lnTo>
                <a:lnTo>
                  <a:pt x="90" y="106"/>
                </a:lnTo>
                <a:lnTo>
                  <a:pt x="89" y="110"/>
                </a:lnTo>
                <a:lnTo>
                  <a:pt x="87" y="115"/>
                </a:lnTo>
                <a:lnTo>
                  <a:pt x="86" y="121"/>
                </a:lnTo>
                <a:lnTo>
                  <a:pt x="83" y="125"/>
                </a:lnTo>
                <a:lnTo>
                  <a:pt x="73" y="137"/>
                </a:lnTo>
                <a:lnTo>
                  <a:pt x="60" y="149"/>
                </a:lnTo>
                <a:lnTo>
                  <a:pt x="10" y="149"/>
                </a:lnTo>
                <a:lnTo>
                  <a:pt x="0" y="199"/>
                </a:lnTo>
                <a:lnTo>
                  <a:pt x="10" y="238"/>
                </a:lnTo>
                <a:lnTo>
                  <a:pt x="10" y="296"/>
                </a:lnTo>
                <a:lnTo>
                  <a:pt x="13" y="315"/>
                </a:lnTo>
                <a:lnTo>
                  <a:pt x="16" y="339"/>
                </a:lnTo>
                <a:lnTo>
                  <a:pt x="22" y="362"/>
                </a:lnTo>
                <a:lnTo>
                  <a:pt x="25" y="375"/>
                </a:lnTo>
                <a:lnTo>
                  <a:pt x="27" y="377"/>
                </a:lnTo>
                <a:lnTo>
                  <a:pt x="30" y="378"/>
                </a:lnTo>
                <a:lnTo>
                  <a:pt x="39" y="380"/>
                </a:lnTo>
                <a:lnTo>
                  <a:pt x="49" y="380"/>
                </a:lnTo>
                <a:lnTo>
                  <a:pt x="61" y="378"/>
                </a:lnTo>
                <a:lnTo>
                  <a:pt x="84" y="374"/>
                </a:lnTo>
                <a:lnTo>
                  <a:pt x="95" y="372"/>
                </a:lnTo>
                <a:lnTo>
                  <a:pt x="194" y="348"/>
                </a:lnTo>
                <a:lnTo>
                  <a:pt x="236" y="323"/>
                </a:lnTo>
                <a:lnTo>
                  <a:pt x="248" y="324"/>
                </a:lnTo>
                <a:lnTo>
                  <a:pt x="275" y="330"/>
                </a:lnTo>
                <a:lnTo>
                  <a:pt x="290" y="336"/>
                </a:lnTo>
                <a:lnTo>
                  <a:pt x="306" y="341"/>
                </a:lnTo>
                <a:lnTo>
                  <a:pt x="319" y="348"/>
                </a:lnTo>
                <a:lnTo>
                  <a:pt x="324" y="353"/>
                </a:lnTo>
                <a:lnTo>
                  <a:pt x="328" y="356"/>
                </a:lnTo>
                <a:lnTo>
                  <a:pt x="358" y="393"/>
                </a:lnTo>
                <a:lnTo>
                  <a:pt x="382" y="425"/>
                </a:lnTo>
                <a:lnTo>
                  <a:pt x="387" y="430"/>
                </a:lnTo>
                <a:lnTo>
                  <a:pt x="396" y="434"/>
                </a:lnTo>
                <a:lnTo>
                  <a:pt x="406" y="436"/>
                </a:lnTo>
                <a:lnTo>
                  <a:pt x="417" y="437"/>
                </a:lnTo>
                <a:lnTo>
                  <a:pt x="435" y="437"/>
                </a:lnTo>
                <a:lnTo>
                  <a:pt x="443" y="437"/>
                </a:lnTo>
                <a:lnTo>
                  <a:pt x="482" y="406"/>
                </a:lnTo>
                <a:lnTo>
                  <a:pt x="485" y="401"/>
                </a:lnTo>
                <a:lnTo>
                  <a:pt x="494" y="390"/>
                </a:lnTo>
                <a:lnTo>
                  <a:pt x="504" y="377"/>
                </a:lnTo>
                <a:lnTo>
                  <a:pt x="507" y="371"/>
                </a:lnTo>
                <a:lnTo>
                  <a:pt x="507" y="363"/>
                </a:lnTo>
                <a:lnTo>
                  <a:pt x="507" y="333"/>
                </a:lnTo>
                <a:lnTo>
                  <a:pt x="539" y="283"/>
                </a:lnTo>
                <a:lnTo>
                  <a:pt x="550" y="219"/>
                </a:lnTo>
                <a:lnTo>
                  <a:pt x="535" y="190"/>
                </a:lnTo>
                <a:lnTo>
                  <a:pt x="519" y="166"/>
                </a:lnTo>
                <a:lnTo>
                  <a:pt x="512" y="155"/>
                </a:lnTo>
                <a:lnTo>
                  <a:pt x="504" y="146"/>
                </a:lnTo>
                <a:lnTo>
                  <a:pt x="486" y="131"/>
                </a:lnTo>
                <a:lnTo>
                  <a:pt x="468" y="118"/>
                </a:lnTo>
                <a:lnTo>
                  <a:pt x="447" y="104"/>
                </a:lnTo>
                <a:lnTo>
                  <a:pt x="435" y="54"/>
                </a:lnTo>
                <a:lnTo>
                  <a:pt x="382" y="8"/>
                </a:lnTo>
                <a:lnTo>
                  <a:pt x="385" y="82"/>
                </a:lnTo>
                <a:lnTo>
                  <a:pt x="390" y="92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Freeform 152"/>
          <p:cNvSpPr/>
          <p:nvPr/>
        </p:nvSpPr>
        <p:spPr>
          <a:xfrm>
            <a:off x="7358040" y="5343480"/>
            <a:ext cx="193680" cy="103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2" h="65">
                <a:moveTo>
                  <a:pt x="65" y="65"/>
                </a:moveTo>
                <a:lnTo>
                  <a:pt x="35" y="45"/>
                </a:lnTo>
                <a:lnTo>
                  <a:pt x="0" y="15"/>
                </a:lnTo>
                <a:lnTo>
                  <a:pt x="31" y="0"/>
                </a:lnTo>
                <a:lnTo>
                  <a:pt x="73" y="3"/>
                </a:lnTo>
                <a:lnTo>
                  <a:pt x="122" y="10"/>
                </a:lnTo>
                <a:lnTo>
                  <a:pt x="100" y="38"/>
                </a:lnTo>
                <a:lnTo>
                  <a:pt x="65" y="65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Freeform 153"/>
          <p:cNvSpPr/>
          <p:nvPr/>
        </p:nvSpPr>
        <p:spPr>
          <a:xfrm>
            <a:off x="7931160" y="5343480"/>
            <a:ext cx="181080" cy="1857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4" h="117">
                <a:moveTo>
                  <a:pt x="42" y="117"/>
                </a:moveTo>
                <a:lnTo>
                  <a:pt x="0" y="99"/>
                </a:lnTo>
                <a:lnTo>
                  <a:pt x="42" y="53"/>
                </a:lnTo>
                <a:lnTo>
                  <a:pt x="42" y="3"/>
                </a:lnTo>
                <a:lnTo>
                  <a:pt x="75" y="0"/>
                </a:lnTo>
                <a:lnTo>
                  <a:pt x="114" y="0"/>
                </a:lnTo>
                <a:lnTo>
                  <a:pt x="107" y="53"/>
                </a:lnTo>
                <a:lnTo>
                  <a:pt x="67" y="87"/>
                </a:lnTo>
                <a:lnTo>
                  <a:pt x="42" y="117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Freeform 154"/>
          <p:cNvSpPr/>
          <p:nvPr/>
        </p:nvSpPr>
        <p:spPr>
          <a:xfrm>
            <a:off x="8064360" y="5178600"/>
            <a:ext cx="169920" cy="133200"/>
          </a:xfrm>
          <a:custGeom>
            <a:avLst/>
            <a:gdLst>
              <a:gd name="textAreaLeft" fmla="*/ 0 w 169920"/>
              <a:gd name="textAreaRight" fmla="*/ 170280 w 169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07" h="84">
                <a:moveTo>
                  <a:pt x="26" y="77"/>
                </a:moveTo>
                <a:lnTo>
                  <a:pt x="0" y="27"/>
                </a:lnTo>
                <a:lnTo>
                  <a:pt x="26" y="0"/>
                </a:lnTo>
                <a:lnTo>
                  <a:pt x="30" y="3"/>
                </a:lnTo>
                <a:lnTo>
                  <a:pt x="42" y="12"/>
                </a:lnTo>
                <a:lnTo>
                  <a:pt x="57" y="19"/>
                </a:lnTo>
                <a:lnTo>
                  <a:pt x="65" y="22"/>
                </a:lnTo>
                <a:lnTo>
                  <a:pt x="72" y="22"/>
                </a:lnTo>
                <a:lnTo>
                  <a:pt x="86" y="24"/>
                </a:lnTo>
                <a:lnTo>
                  <a:pt x="92" y="25"/>
                </a:lnTo>
                <a:lnTo>
                  <a:pt x="98" y="27"/>
                </a:lnTo>
                <a:lnTo>
                  <a:pt x="102" y="30"/>
                </a:lnTo>
                <a:lnTo>
                  <a:pt x="105" y="35"/>
                </a:lnTo>
                <a:lnTo>
                  <a:pt x="107" y="39"/>
                </a:lnTo>
                <a:lnTo>
                  <a:pt x="107" y="47"/>
                </a:lnTo>
                <a:lnTo>
                  <a:pt x="104" y="53"/>
                </a:lnTo>
                <a:lnTo>
                  <a:pt x="99" y="59"/>
                </a:lnTo>
                <a:lnTo>
                  <a:pt x="95" y="65"/>
                </a:lnTo>
                <a:lnTo>
                  <a:pt x="89" y="71"/>
                </a:lnTo>
                <a:lnTo>
                  <a:pt x="80" y="78"/>
                </a:lnTo>
                <a:lnTo>
                  <a:pt x="75" y="80"/>
                </a:lnTo>
                <a:lnTo>
                  <a:pt x="50" y="84"/>
                </a:lnTo>
                <a:lnTo>
                  <a:pt x="26" y="77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AutoShape 155"/>
          <p:cNvSpPr/>
          <p:nvPr/>
        </p:nvSpPr>
        <p:spPr>
          <a:xfrm>
            <a:off x="433692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AutoShape 156"/>
          <p:cNvSpPr/>
          <p:nvPr/>
        </p:nvSpPr>
        <p:spPr>
          <a:xfrm>
            <a:off x="7270920" y="400356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5" name="AutoShape 157"/>
          <p:cNvSpPr/>
          <p:nvPr/>
        </p:nvSpPr>
        <p:spPr>
          <a:xfrm>
            <a:off x="3454560" y="573084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AutoShape 158"/>
          <p:cNvSpPr/>
          <p:nvPr/>
        </p:nvSpPr>
        <p:spPr>
          <a:xfrm>
            <a:off x="6424560" y="5875200"/>
            <a:ext cx="1584360" cy="28764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Oval 159"/>
          <p:cNvSpPr/>
          <p:nvPr/>
        </p:nvSpPr>
        <p:spPr>
          <a:xfrm>
            <a:off x="6497640" y="3282840"/>
            <a:ext cx="144360" cy="144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Oval 160"/>
          <p:cNvSpPr/>
          <p:nvPr/>
        </p:nvSpPr>
        <p:spPr>
          <a:xfrm>
            <a:off x="5056200" y="2706840"/>
            <a:ext cx="144360" cy="1443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Oval 161"/>
          <p:cNvSpPr/>
          <p:nvPr/>
        </p:nvSpPr>
        <p:spPr>
          <a:xfrm>
            <a:off x="4840200" y="4219560"/>
            <a:ext cx="144720" cy="1443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Oval 162"/>
          <p:cNvSpPr/>
          <p:nvPr/>
        </p:nvSpPr>
        <p:spPr>
          <a:xfrm>
            <a:off x="7145280" y="4794120"/>
            <a:ext cx="144360" cy="144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661" name="AutoShape 163"/>
          <p:cNvCxnSpPr/>
          <p:nvPr/>
        </p:nvCxnSpPr>
        <p:spPr>
          <a:xfrm>
            <a:off x="5128920" y="1769760"/>
            <a:ext cx="108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AutoShape 164"/>
          <p:cNvCxnSpPr/>
          <p:nvPr/>
        </p:nvCxnSpPr>
        <p:spPr>
          <a:xfrm>
            <a:off x="6621480" y="3416040"/>
            <a:ext cx="65016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3" name="AutoShape 165"/>
          <p:cNvCxnSpPr/>
          <p:nvPr/>
        </p:nvCxnSpPr>
        <p:spPr>
          <a:xfrm flipH="1">
            <a:off x="7216560" y="494784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4" name="AutoShape 166"/>
          <p:cNvCxnSpPr/>
          <p:nvPr/>
        </p:nvCxnSpPr>
        <p:spPr>
          <a:xfrm flipH="1">
            <a:off x="4245840" y="4352760"/>
            <a:ext cx="61524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6"/>
          <p:cNvSpPr/>
          <p:nvPr/>
        </p:nvSpPr>
        <p:spPr>
          <a:xfrm>
            <a:off x="34920" y="692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34920" y="1479600"/>
            <a:ext cx="91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4" descr="sub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5680" y="549360"/>
            <a:ext cx="26416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HY헤드라인M"/>
              </a:rPr>
              <a:t>CONTENTS</a:t>
            </a:r>
            <a:endParaRPr b="0" lang="en-US" sz="43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3670200" y="1593720"/>
            <a:ext cx="4789440" cy="5414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3670200" y="220680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3670200" y="281952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WordArt 8"/>
          <p:cNvSpPr txBox="1"/>
          <p:nvPr/>
        </p:nvSpPr>
        <p:spPr>
          <a:xfrm>
            <a:off x="4030560" y="177336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4" name="WordArt 9"/>
          <p:cNvSpPr txBox="1"/>
          <p:nvPr/>
        </p:nvSpPr>
        <p:spPr>
          <a:xfrm>
            <a:off x="4030560" y="238608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5" name="WordArt 10"/>
          <p:cNvSpPr txBox="1"/>
          <p:nvPr/>
        </p:nvSpPr>
        <p:spPr>
          <a:xfrm>
            <a:off x="4030560" y="299736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3670200" y="342900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4030560" y="360684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3670200" y="404172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WordArt 14"/>
          <p:cNvSpPr txBox="1"/>
          <p:nvPr/>
        </p:nvSpPr>
        <p:spPr>
          <a:xfrm>
            <a:off x="4030560" y="421956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3670200" y="465300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WordArt 16"/>
          <p:cNvSpPr txBox="1"/>
          <p:nvPr/>
        </p:nvSpPr>
        <p:spPr>
          <a:xfrm>
            <a:off x="4030560" y="483084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670200" y="526572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4030560" y="544356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3059280" y="1628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3224160" y="1638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3059280" y="2241720"/>
            <a:ext cx="465120" cy="46800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3224160" y="2251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Oval 24"/>
          <p:cNvSpPr/>
          <p:nvPr/>
        </p:nvSpPr>
        <p:spPr>
          <a:xfrm>
            <a:off x="3059280" y="2852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Oval 25"/>
          <p:cNvSpPr/>
          <p:nvPr/>
        </p:nvSpPr>
        <p:spPr>
          <a:xfrm>
            <a:off x="3224160" y="2862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Oval 27"/>
          <p:cNvSpPr/>
          <p:nvPr/>
        </p:nvSpPr>
        <p:spPr>
          <a:xfrm>
            <a:off x="3059280" y="3465360"/>
            <a:ext cx="465120" cy="468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Oval 28"/>
          <p:cNvSpPr/>
          <p:nvPr/>
        </p:nvSpPr>
        <p:spPr>
          <a:xfrm>
            <a:off x="3224160" y="3475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Oval 29"/>
          <p:cNvSpPr/>
          <p:nvPr/>
        </p:nvSpPr>
        <p:spPr>
          <a:xfrm>
            <a:off x="3059280" y="4076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Oval 30"/>
          <p:cNvSpPr/>
          <p:nvPr/>
        </p:nvSpPr>
        <p:spPr>
          <a:xfrm>
            <a:off x="3224160" y="4086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Oval 32"/>
          <p:cNvSpPr/>
          <p:nvPr/>
        </p:nvSpPr>
        <p:spPr>
          <a:xfrm>
            <a:off x="3059280" y="4689360"/>
            <a:ext cx="465120" cy="468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Oval 33"/>
          <p:cNvSpPr/>
          <p:nvPr/>
        </p:nvSpPr>
        <p:spPr>
          <a:xfrm>
            <a:off x="3224160" y="4699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Oval 34"/>
          <p:cNvSpPr/>
          <p:nvPr/>
        </p:nvSpPr>
        <p:spPr>
          <a:xfrm>
            <a:off x="3059280" y="5300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Oval 35"/>
          <p:cNvSpPr/>
          <p:nvPr/>
        </p:nvSpPr>
        <p:spPr>
          <a:xfrm>
            <a:off x="3224160" y="5310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250920" y="1076400"/>
            <a:ext cx="2824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33"/>
                </a:solidFill>
                <a:latin typeface="HY헤드라인M"/>
                <a:ea typeface="HY헤드라인M"/>
              </a:rPr>
              <a:t>COMPANY LOGOTYPE INSER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9" name="Picture 55" descr="03"/>
          <p:cNvPicPr/>
          <p:nvPr/>
        </p:nvPicPr>
        <p:blipFill>
          <a:blip r:embed="rId2"/>
          <a:stretch/>
        </p:blipFill>
        <p:spPr>
          <a:xfrm>
            <a:off x="831960" y="1701720"/>
            <a:ext cx="16524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3"/>
          <p:cNvSpPr/>
          <p:nvPr/>
        </p:nvSpPr>
        <p:spPr>
          <a:xfrm>
            <a:off x="6227640" y="1843200"/>
            <a:ext cx="2311560" cy="2322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Oval 4"/>
          <p:cNvSpPr/>
          <p:nvPr/>
        </p:nvSpPr>
        <p:spPr>
          <a:xfrm>
            <a:off x="7045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341964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4237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276720" y="3389400"/>
            <a:ext cx="2627280" cy="212724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57a4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6084720" y="3389400"/>
            <a:ext cx="2627640" cy="212724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Oval 9"/>
          <p:cNvSpPr/>
          <p:nvPr/>
        </p:nvSpPr>
        <p:spPr>
          <a:xfrm>
            <a:off x="719280" y="3330720"/>
            <a:ext cx="2087280" cy="744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61128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142884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AutoShape 12"/>
          <p:cNvSpPr/>
          <p:nvPr/>
        </p:nvSpPr>
        <p:spPr>
          <a:xfrm>
            <a:off x="468360" y="3390840"/>
            <a:ext cx="2627280" cy="2125800"/>
          </a:xfrm>
          <a:prstGeom prst="roundRect">
            <a:avLst>
              <a:gd name="adj" fmla="val 5801"/>
            </a:avLst>
          </a:prstGeom>
          <a:solidFill>
            <a:srgbClr val="ffffff"/>
          </a:solidFill>
          <a:ln w="57240">
            <a:solidFill>
              <a:srgbClr val="d1a4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AutoShape 14"/>
          <p:cNvSpPr/>
          <p:nvPr/>
        </p:nvSpPr>
        <p:spPr>
          <a:xfrm>
            <a:off x="320364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344484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57a4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Oval 17"/>
          <p:cNvSpPr/>
          <p:nvPr/>
        </p:nvSpPr>
        <p:spPr>
          <a:xfrm flipV="1">
            <a:off x="355752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320364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AutoShape 21"/>
          <p:cNvSpPr/>
          <p:nvPr/>
        </p:nvSpPr>
        <p:spPr>
          <a:xfrm>
            <a:off x="344484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57a4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Oval 22"/>
          <p:cNvSpPr/>
          <p:nvPr/>
        </p:nvSpPr>
        <p:spPr>
          <a:xfrm flipV="1">
            <a:off x="355752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320364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344484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57a4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Oval 27"/>
          <p:cNvSpPr/>
          <p:nvPr/>
        </p:nvSpPr>
        <p:spPr>
          <a:xfrm flipV="1">
            <a:off x="355752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9" name="Group 21"/>
          <p:cNvGrpSpPr/>
          <p:nvPr/>
        </p:nvGrpSpPr>
        <p:grpSpPr>
          <a:xfrm>
            <a:off x="6012000" y="3645000"/>
            <a:ext cx="2771640" cy="610200"/>
            <a:chOff x="6012000" y="3645000"/>
            <a:chExt cx="2771640" cy="610200"/>
          </a:xfrm>
        </p:grpSpPr>
        <p:sp>
          <p:nvSpPr>
            <p:cNvPr id="330" name="AutoShape 29"/>
            <p:cNvSpPr/>
            <p:nvPr/>
          </p:nvSpPr>
          <p:spPr>
            <a:xfrm>
              <a:off x="6012000" y="3952800"/>
              <a:ext cx="2771640" cy="30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6253200" y="3645000"/>
              <a:ext cx="2301840" cy="444960"/>
              <a:chOff x="6253200" y="3645000"/>
              <a:chExt cx="2301840" cy="444960"/>
            </a:xfrm>
          </p:grpSpPr>
          <p:sp>
            <p:nvSpPr>
              <p:cNvPr id="332" name="AutoShape 31"/>
              <p:cNvSpPr/>
              <p:nvPr/>
            </p:nvSpPr>
            <p:spPr>
              <a:xfrm>
                <a:off x="6253200" y="3645000"/>
                <a:ext cx="2301840" cy="444960"/>
              </a:xfrm>
              <a:prstGeom prst="roundRect">
                <a:avLst>
                  <a:gd name="adj" fmla="val 50000"/>
                </a:avLst>
              </a:prstGeom>
              <a:solidFill>
                <a:srgbClr val="00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3" name="Oval 32"/>
              <p:cNvSpPr/>
              <p:nvPr/>
            </p:nvSpPr>
            <p:spPr>
              <a:xfrm flipV="1">
                <a:off x="6366240" y="3679560"/>
                <a:ext cx="2075400" cy="102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334" name="Group 26"/>
          <p:cNvGrpSpPr/>
          <p:nvPr/>
        </p:nvGrpSpPr>
        <p:grpSpPr>
          <a:xfrm>
            <a:off x="6012000" y="4184640"/>
            <a:ext cx="2771640" cy="645840"/>
            <a:chOff x="6012000" y="4184640"/>
            <a:chExt cx="2771640" cy="645840"/>
          </a:xfrm>
        </p:grpSpPr>
        <p:sp>
          <p:nvSpPr>
            <p:cNvPr id="335" name="AutoShape 34"/>
            <p:cNvSpPr/>
            <p:nvPr/>
          </p:nvSpPr>
          <p:spPr>
            <a:xfrm>
              <a:off x="6012000" y="4510440"/>
              <a:ext cx="2771640" cy="32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36" name="Group 28"/>
            <p:cNvGrpSpPr/>
            <p:nvPr/>
          </p:nvGrpSpPr>
          <p:grpSpPr>
            <a:xfrm>
              <a:off x="6253200" y="4184640"/>
              <a:ext cx="2301840" cy="470520"/>
              <a:chOff x="6253200" y="4184640"/>
              <a:chExt cx="2301840" cy="470520"/>
            </a:xfrm>
          </p:grpSpPr>
          <p:sp>
            <p:nvSpPr>
              <p:cNvPr id="337" name="AutoShape 36"/>
              <p:cNvSpPr/>
              <p:nvPr/>
            </p:nvSpPr>
            <p:spPr>
              <a:xfrm>
                <a:off x="6253200" y="4184640"/>
                <a:ext cx="2301840" cy="470520"/>
              </a:xfrm>
              <a:prstGeom prst="roundRect">
                <a:avLst>
                  <a:gd name="adj" fmla="val 50000"/>
                </a:avLst>
              </a:prstGeom>
              <a:solidFill>
                <a:srgbClr val="00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8" name="Oval 37"/>
              <p:cNvSpPr/>
              <p:nvPr/>
            </p:nvSpPr>
            <p:spPr>
              <a:xfrm flipV="1">
                <a:off x="6366240" y="4220640"/>
                <a:ext cx="207540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339" name="Group 31"/>
          <p:cNvGrpSpPr/>
          <p:nvPr/>
        </p:nvGrpSpPr>
        <p:grpSpPr>
          <a:xfrm>
            <a:off x="6012000" y="4759200"/>
            <a:ext cx="2771640" cy="612360"/>
            <a:chOff x="6012000" y="4759200"/>
            <a:chExt cx="2771640" cy="612360"/>
          </a:xfrm>
        </p:grpSpPr>
        <p:sp>
          <p:nvSpPr>
            <p:cNvPr id="340" name="AutoShape 39"/>
            <p:cNvSpPr/>
            <p:nvPr/>
          </p:nvSpPr>
          <p:spPr>
            <a:xfrm>
              <a:off x="6012000" y="5068080"/>
              <a:ext cx="277164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41" name="Group 33"/>
            <p:cNvGrpSpPr/>
            <p:nvPr/>
          </p:nvGrpSpPr>
          <p:grpSpPr>
            <a:xfrm>
              <a:off x="6253200" y="4759200"/>
              <a:ext cx="2301840" cy="446400"/>
              <a:chOff x="6253200" y="4759200"/>
              <a:chExt cx="2301840" cy="446400"/>
            </a:xfrm>
          </p:grpSpPr>
          <p:sp>
            <p:nvSpPr>
              <p:cNvPr id="342" name="AutoShape 41"/>
              <p:cNvSpPr/>
              <p:nvPr/>
            </p:nvSpPr>
            <p:spPr>
              <a:xfrm>
                <a:off x="6253200" y="4759200"/>
                <a:ext cx="2301840" cy="446400"/>
              </a:xfrm>
              <a:prstGeom prst="roundRect">
                <a:avLst>
                  <a:gd name="adj" fmla="val 50000"/>
                </a:avLst>
              </a:prstGeom>
              <a:solidFill>
                <a:srgbClr val="00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3" name="Oval 42"/>
              <p:cNvSpPr/>
              <p:nvPr/>
            </p:nvSpPr>
            <p:spPr>
              <a:xfrm flipV="1">
                <a:off x="6366240" y="4793040"/>
                <a:ext cx="2075400" cy="1026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44" name="WordArt 43"/>
          <p:cNvSpPr txBox="1"/>
          <p:nvPr/>
        </p:nvSpPr>
        <p:spPr>
          <a:xfrm>
            <a:off x="3780000" y="43624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5" name="WordArt 44"/>
          <p:cNvSpPr txBox="1"/>
          <p:nvPr/>
        </p:nvSpPr>
        <p:spPr>
          <a:xfrm>
            <a:off x="3780000" y="38242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6" name="WordArt 45"/>
          <p:cNvSpPr txBox="1"/>
          <p:nvPr/>
        </p:nvSpPr>
        <p:spPr>
          <a:xfrm>
            <a:off x="3780000" y="490536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7" name="WordArt 46"/>
          <p:cNvSpPr txBox="1"/>
          <p:nvPr/>
        </p:nvSpPr>
        <p:spPr>
          <a:xfrm>
            <a:off x="6588000" y="4362480"/>
            <a:ext cx="165600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8" name="WordArt 47"/>
          <p:cNvSpPr txBox="1"/>
          <p:nvPr/>
        </p:nvSpPr>
        <p:spPr>
          <a:xfrm>
            <a:off x="6588000" y="3824280"/>
            <a:ext cx="165600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9" name="WordArt 48"/>
          <p:cNvSpPr txBox="1"/>
          <p:nvPr/>
        </p:nvSpPr>
        <p:spPr>
          <a:xfrm>
            <a:off x="6588000" y="4905360"/>
            <a:ext cx="165600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50" name="Group 42"/>
          <p:cNvGrpSpPr/>
          <p:nvPr/>
        </p:nvGrpSpPr>
        <p:grpSpPr>
          <a:xfrm>
            <a:off x="1187280" y="2563920"/>
            <a:ext cx="1155600" cy="420120"/>
            <a:chOff x="1187280" y="2563920"/>
            <a:chExt cx="1155600" cy="420120"/>
          </a:xfrm>
        </p:grpSpPr>
        <p:sp>
          <p:nvSpPr>
            <p:cNvPr id="351" name="WordArt 50"/>
            <p:cNvSpPr txBox="1"/>
            <p:nvPr/>
          </p:nvSpPr>
          <p:spPr>
            <a:xfrm>
              <a:off x="1334880" y="2563920"/>
              <a:ext cx="86364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2" name="WordArt 51"/>
            <p:cNvSpPr txBox="1"/>
            <p:nvPr/>
          </p:nvSpPr>
          <p:spPr>
            <a:xfrm>
              <a:off x="1187280" y="2850840"/>
              <a:ext cx="115560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3" name="Group 45"/>
          <p:cNvGrpSpPr/>
          <p:nvPr/>
        </p:nvGrpSpPr>
        <p:grpSpPr>
          <a:xfrm>
            <a:off x="3995640" y="2563920"/>
            <a:ext cx="1155600" cy="420120"/>
            <a:chOff x="3995640" y="2563920"/>
            <a:chExt cx="1155600" cy="420120"/>
          </a:xfrm>
        </p:grpSpPr>
        <p:sp>
          <p:nvSpPr>
            <p:cNvPr id="354" name="WordArt 53"/>
            <p:cNvSpPr txBox="1"/>
            <p:nvPr/>
          </p:nvSpPr>
          <p:spPr>
            <a:xfrm>
              <a:off x="4143240" y="2563920"/>
              <a:ext cx="86364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5" name="WordArt 54"/>
            <p:cNvSpPr txBox="1"/>
            <p:nvPr/>
          </p:nvSpPr>
          <p:spPr>
            <a:xfrm>
              <a:off x="3995640" y="2850840"/>
              <a:ext cx="115560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6" name="Group 48"/>
          <p:cNvGrpSpPr/>
          <p:nvPr/>
        </p:nvGrpSpPr>
        <p:grpSpPr>
          <a:xfrm>
            <a:off x="6877080" y="2563920"/>
            <a:ext cx="1155600" cy="420120"/>
            <a:chOff x="6877080" y="2563920"/>
            <a:chExt cx="1155600" cy="420120"/>
          </a:xfrm>
        </p:grpSpPr>
        <p:sp>
          <p:nvSpPr>
            <p:cNvPr id="357" name="WordArt 56"/>
            <p:cNvSpPr txBox="1"/>
            <p:nvPr/>
          </p:nvSpPr>
          <p:spPr>
            <a:xfrm>
              <a:off x="7024680" y="2563920"/>
              <a:ext cx="86364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8" name="WordArt 57"/>
            <p:cNvSpPr txBox="1"/>
            <p:nvPr/>
          </p:nvSpPr>
          <p:spPr>
            <a:xfrm>
              <a:off x="6877080" y="2850840"/>
              <a:ext cx="115560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9" name="AutoShape 59"/>
          <p:cNvSpPr/>
          <p:nvPr/>
        </p:nvSpPr>
        <p:spPr>
          <a:xfrm>
            <a:off x="39528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AutoShape 61"/>
          <p:cNvSpPr/>
          <p:nvPr/>
        </p:nvSpPr>
        <p:spPr>
          <a:xfrm>
            <a:off x="63648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d1a4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Oval 62"/>
          <p:cNvSpPr/>
          <p:nvPr/>
        </p:nvSpPr>
        <p:spPr>
          <a:xfrm flipV="1">
            <a:off x="74916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AutoShape 64"/>
          <p:cNvSpPr/>
          <p:nvPr/>
        </p:nvSpPr>
        <p:spPr>
          <a:xfrm>
            <a:off x="39528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AutoShape 66"/>
          <p:cNvSpPr/>
          <p:nvPr/>
        </p:nvSpPr>
        <p:spPr>
          <a:xfrm>
            <a:off x="63648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d1a4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Oval 67"/>
          <p:cNvSpPr/>
          <p:nvPr/>
        </p:nvSpPr>
        <p:spPr>
          <a:xfrm flipV="1">
            <a:off x="74916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AutoShape 69"/>
          <p:cNvSpPr/>
          <p:nvPr/>
        </p:nvSpPr>
        <p:spPr>
          <a:xfrm>
            <a:off x="39528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AutoShape 71"/>
          <p:cNvSpPr/>
          <p:nvPr/>
        </p:nvSpPr>
        <p:spPr>
          <a:xfrm>
            <a:off x="63648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d1a4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Oval 72"/>
          <p:cNvSpPr/>
          <p:nvPr/>
        </p:nvSpPr>
        <p:spPr>
          <a:xfrm flipV="1">
            <a:off x="74916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WordArt 73"/>
          <p:cNvSpPr txBox="1"/>
          <p:nvPr/>
        </p:nvSpPr>
        <p:spPr>
          <a:xfrm>
            <a:off x="971640" y="43624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9" name="WordArt 74"/>
          <p:cNvSpPr txBox="1"/>
          <p:nvPr/>
        </p:nvSpPr>
        <p:spPr>
          <a:xfrm>
            <a:off x="971640" y="38242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WordArt 75"/>
          <p:cNvSpPr txBox="1"/>
          <p:nvPr/>
        </p:nvSpPr>
        <p:spPr>
          <a:xfrm>
            <a:off x="971640" y="490536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val 2"/>
          <p:cNvSpPr/>
          <p:nvPr/>
        </p:nvSpPr>
        <p:spPr>
          <a:xfrm>
            <a:off x="3213000" y="5691240"/>
            <a:ext cx="2718000" cy="9064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3274920" y="3498840"/>
            <a:ext cx="2595600" cy="2608200"/>
          </a:xfrm>
          <a:prstGeom prst="ellipse">
            <a:avLst/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4192560" y="3552840"/>
            <a:ext cx="692280" cy="6969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5435640" y="2852640"/>
            <a:ext cx="1440" cy="611280"/>
          </a:xfrm>
          <a:prstGeom prst="line">
            <a:avLst/>
          </a:prstGeom>
          <a:ln w="190440">
            <a:solidFill>
              <a:srgbClr val="0099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43280" y="2852640"/>
            <a:ext cx="1800" cy="611280"/>
          </a:xfrm>
          <a:prstGeom prst="line">
            <a:avLst/>
          </a:prstGeom>
          <a:ln w="190440">
            <a:solidFill>
              <a:srgbClr val="d1a4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Freeform 9"/>
          <p:cNvSpPr/>
          <p:nvPr/>
        </p:nvSpPr>
        <p:spPr>
          <a:xfrm flipH="1">
            <a:off x="6192720" y="2852640"/>
            <a:ext cx="935280" cy="176364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d1a4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Freeform 10"/>
          <p:cNvSpPr/>
          <p:nvPr/>
        </p:nvSpPr>
        <p:spPr>
          <a:xfrm>
            <a:off x="2050920" y="2852640"/>
            <a:ext cx="900360" cy="1763640"/>
          </a:xfrm>
          <a:custGeom>
            <a:avLst/>
            <a:gdLst>
              <a:gd name="textAreaLeft" fmla="*/ 0 w 900360"/>
              <a:gd name="textAreaRight" fmla="*/ 900720 w 90036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0099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1042920" y="263520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129528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8ec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1366920" y="144792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AutoShape 14"/>
          <p:cNvSpPr/>
          <p:nvPr/>
        </p:nvSpPr>
        <p:spPr>
          <a:xfrm>
            <a:off x="2735280" y="263520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298764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5e0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AutoShape 16"/>
          <p:cNvSpPr/>
          <p:nvPr/>
        </p:nvSpPr>
        <p:spPr>
          <a:xfrm>
            <a:off x="3059280" y="1447920"/>
            <a:ext cx="1368360" cy="863640"/>
          </a:xfrm>
          <a:prstGeom prst="roundRect">
            <a:avLst>
              <a:gd name="adj" fmla="val 15806"/>
            </a:avLst>
          </a:pr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AutoShape 17"/>
          <p:cNvSpPr/>
          <p:nvPr/>
        </p:nvSpPr>
        <p:spPr>
          <a:xfrm>
            <a:off x="4427640" y="263520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AutoShape 18"/>
          <p:cNvSpPr/>
          <p:nvPr/>
        </p:nvSpPr>
        <p:spPr>
          <a:xfrm>
            <a:off x="468000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8ec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AutoShape 19"/>
          <p:cNvSpPr/>
          <p:nvPr/>
        </p:nvSpPr>
        <p:spPr>
          <a:xfrm>
            <a:off x="4751280" y="144792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6119640" y="263520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AutoShape 21"/>
          <p:cNvSpPr/>
          <p:nvPr/>
        </p:nvSpPr>
        <p:spPr>
          <a:xfrm>
            <a:off x="637236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5e0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AutoShape 22"/>
          <p:cNvSpPr/>
          <p:nvPr/>
        </p:nvSpPr>
        <p:spPr>
          <a:xfrm>
            <a:off x="6434280" y="144792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1" name="Group 21"/>
          <p:cNvGrpSpPr/>
          <p:nvPr/>
        </p:nvGrpSpPr>
        <p:grpSpPr>
          <a:xfrm>
            <a:off x="1476360" y="1663560"/>
            <a:ext cx="1155600" cy="420840"/>
            <a:chOff x="1476360" y="1663560"/>
            <a:chExt cx="1155600" cy="420840"/>
          </a:xfrm>
        </p:grpSpPr>
        <p:sp>
          <p:nvSpPr>
            <p:cNvPr id="392" name="WordArt 24"/>
            <p:cNvSpPr txBox="1"/>
            <p:nvPr/>
          </p:nvSpPr>
          <p:spPr>
            <a:xfrm>
              <a:off x="162396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3" name="WordArt 25"/>
            <p:cNvSpPr txBox="1"/>
            <p:nvPr/>
          </p:nvSpPr>
          <p:spPr>
            <a:xfrm>
              <a:off x="147636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3165480" y="1663560"/>
            <a:ext cx="1155600" cy="420840"/>
            <a:chOff x="3165480" y="1663560"/>
            <a:chExt cx="1155600" cy="420840"/>
          </a:xfrm>
        </p:grpSpPr>
        <p:sp>
          <p:nvSpPr>
            <p:cNvPr id="395" name="WordArt 27"/>
            <p:cNvSpPr txBox="1"/>
            <p:nvPr/>
          </p:nvSpPr>
          <p:spPr>
            <a:xfrm>
              <a:off x="331308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6" name="WordArt 28"/>
            <p:cNvSpPr txBox="1"/>
            <p:nvPr/>
          </p:nvSpPr>
          <p:spPr>
            <a:xfrm>
              <a:off x="316548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7" name="Group 27"/>
          <p:cNvGrpSpPr/>
          <p:nvPr/>
        </p:nvGrpSpPr>
        <p:grpSpPr>
          <a:xfrm>
            <a:off x="4859280" y="1663560"/>
            <a:ext cx="1155600" cy="420840"/>
            <a:chOff x="4859280" y="1663560"/>
            <a:chExt cx="1155600" cy="420840"/>
          </a:xfrm>
        </p:grpSpPr>
        <p:sp>
          <p:nvSpPr>
            <p:cNvPr id="398" name="WordArt 30"/>
            <p:cNvSpPr txBox="1"/>
            <p:nvPr/>
          </p:nvSpPr>
          <p:spPr>
            <a:xfrm>
              <a:off x="500688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9" name="WordArt 31"/>
            <p:cNvSpPr txBox="1"/>
            <p:nvPr/>
          </p:nvSpPr>
          <p:spPr>
            <a:xfrm>
              <a:off x="485928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0" name="Group 30"/>
          <p:cNvGrpSpPr/>
          <p:nvPr/>
        </p:nvGrpSpPr>
        <p:grpSpPr>
          <a:xfrm>
            <a:off x="6550200" y="1663560"/>
            <a:ext cx="1155600" cy="420840"/>
            <a:chOff x="6550200" y="1663560"/>
            <a:chExt cx="1155600" cy="420840"/>
          </a:xfrm>
        </p:grpSpPr>
        <p:sp>
          <p:nvSpPr>
            <p:cNvPr id="401" name="WordArt 33"/>
            <p:cNvSpPr txBox="1"/>
            <p:nvPr/>
          </p:nvSpPr>
          <p:spPr>
            <a:xfrm>
              <a:off x="669780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2" name="WordArt 34"/>
            <p:cNvSpPr txBox="1"/>
            <p:nvPr/>
          </p:nvSpPr>
          <p:spPr>
            <a:xfrm>
              <a:off x="655020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03" name="WordArt 35"/>
          <p:cNvSpPr txBox="1"/>
          <p:nvPr/>
        </p:nvSpPr>
        <p:spPr>
          <a:xfrm>
            <a:off x="1547640" y="2527200"/>
            <a:ext cx="1006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4" name="WordArt 36"/>
          <p:cNvSpPr txBox="1"/>
          <p:nvPr/>
        </p:nvSpPr>
        <p:spPr>
          <a:xfrm>
            <a:off x="3276720" y="2527200"/>
            <a:ext cx="10062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5" name="WordArt 37"/>
          <p:cNvSpPr txBox="1"/>
          <p:nvPr/>
        </p:nvSpPr>
        <p:spPr>
          <a:xfrm>
            <a:off x="4932360" y="2527200"/>
            <a:ext cx="1006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6" name="WordArt 38"/>
          <p:cNvSpPr txBox="1"/>
          <p:nvPr/>
        </p:nvSpPr>
        <p:spPr>
          <a:xfrm>
            <a:off x="6659640" y="2527200"/>
            <a:ext cx="1006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07" name="Picture 39" descr="그림1"/>
          <p:cNvPicPr/>
          <p:nvPr/>
        </p:nvPicPr>
        <p:blipFill>
          <a:blip r:embed="rId1"/>
          <a:stretch/>
        </p:blipFill>
        <p:spPr>
          <a:xfrm>
            <a:off x="3132000" y="3375000"/>
            <a:ext cx="2791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38"/>
          <p:cNvGrpSpPr/>
          <p:nvPr/>
        </p:nvGrpSpPr>
        <p:grpSpPr>
          <a:xfrm>
            <a:off x="3527280" y="4543560"/>
            <a:ext cx="2089080" cy="431640"/>
            <a:chOff x="3527280" y="4543560"/>
            <a:chExt cx="2089080" cy="431640"/>
          </a:xfrm>
        </p:grpSpPr>
        <p:sp>
          <p:nvSpPr>
            <p:cNvPr id="409" name="WordArt 41"/>
            <p:cNvSpPr txBox="1"/>
            <p:nvPr/>
          </p:nvSpPr>
          <p:spPr>
            <a:xfrm>
              <a:off x="3671640" y="454356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0" name="WordArt 42"/>
            <p:cNvSpPr txBox="1"/>
            <p:nvPr/>
          </p:nvSpPr>
          <p:spPr>
            <a:xfrm>
              <a:off x="3527280" y="4842000"/>
              <a:ext cx="20890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2973240" y="2201760"/>
            <a:ext cx="3254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3297240" y="1484280"/>
            <a:ext cx="2540160" cy="97164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3425760" y="1808280"/>
            <a:ext cx="2281320" cy="57600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3780000" y="19875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7" name="WordArt 7"/>
          <p:cNvSpPr txBox="1"/>
          <p:nvPr/>
        </p:nvSpPr>
        <p:spPr>
          <a:xfrm>
            <a:off x="1908000" y="2060640"/>
            <a:ext cx="64800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8" name="WordArt 8"/>
          <p:cNvSpPr txBox="1"/>
          <p:nvPr/>
        </p:nvSpPr>
        <p:spPr>
          <a:xfrm>
            <a:off x="6661080" y="206064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9" name="WordArt 9"/>
          <p:cNvSpPr txBox="1"/>
          <p:nvPr/>
        </p:nvSpPr>
        <p:spPr>
          <a:xfrm>
            <a:off x="4211640" y="155592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20" name="Freeform 10"/>
          <p:cNvSpPr/>
          <p:nvPr/>
        </p:nvSpPr>
        <p:spPr>
          <a:xfrm>
            <a:off x="1835280" y="1987560"/>
            <a:ext cx="1368360" cy="1441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15" h="544">
                <a:moveTo>
                  <a:pt x="0" y="544"/>
                </a:moveTo>
                <a:lnTo>
                  <a:pt x="0" y="0"/>
                </a:lnTo>
                <a:lnTo>
                  <a:pt x="1315" y="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Freeform 11"/>
          <p:cNvSpPr/>
          <p:nvPr/>
        </p:nvSpPr>
        <p:spPr>
          <a:xfrm flipH="1">
            <a:off x="5903280" y="1987560"/>
            <a:ext cx="1476360" cy="1441440"/>
          </a:xfrm>
          <a:custGeom>
            <a:avLst/>
            <a:gdLst>
              <a:gd name="textAreaLeft" fmla="*/ -360 w 1476360"/>
              <a:gd name="textAreaRight" fmla="*/ 1476360 w 1476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15" h="544">
                <a:moveTo>
                  <a:pt x="0" y="544"/>
                </a:moveTo>
                <a:lnTo>
                  <a:pt x="0" y="0"/>
                </a:lnTo>
                <a:lnTo>
                  <a:pt x="1315" y="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Line 6"/>
          <p:cNvSpPr/>
          <p:nvPr/>
        </p:nvSpPr>
        <p:spPr>
          <a:xfrm>
            <a:off x="5867280" y="4130640"/>
            <a:ext cx="1152720" cy="0"/>
          </a:xfrm>
          <a:prstGeom prst="line">
            <a:avLst/>
          </a:prstGeom>
          <a:ln w="101520">
            <a:solidFill>
              <a:srgbClr val="bfbfb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Line 7"/>
          <p:cNvSpPr/>
          <p:nvPr/>
        </p:nvSpPr>
        <p:spPr>
          <a:xfrm>
            <a:off x="2089080" y="4130640"/>
            <a:ext cx="1187640" cy="0"/>
          </a:xfrm>
          <a:prstGeom prst="line">
            <a:avLst/>
          </a:prstGeom>
          <a:ln w="101520">
            <a:solidFill>
              <a:srgbClr val="bfbf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3348000" y="4564080"/>
            <a:ext cx="2311560" cy="1025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Oval 20"/>
          <p:cNvSpPr/>
          <p:nvPr/>
        </p:nvSpPr>
        <p:spPr>
          <a:xfrm>
            <a:off x="3419640" y="29448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614c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Oval 21"/>
          <p:cNvSpPr/>
          <p:nvPr/>
        </p:nvSpPr>
        <p:spPr>
          <a:xfrm>
            <a:off x="4284720" y="3087720"/>
            <a:ext cx="433440" cy="4334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27" name="Group 17"/>
          <p:cNvGrpSpPr/>
          <p:nvPr/>
        </p:nvGrpSpPr>
        <p:grpSpPr>
          <a:xfrm>
            <a:off x="3924360" y="3664080"/>
            <a:ext cx="1368000" cy="900720"/>
            <a:chOff x="3924360" y="3664080"/>
            <a:chExt cx="1368000" cy="900720"/>
          </a:xfrm>
        </p:grpSpPr>
        <p:sp>
          <p:nvSpPr>
            <p:cNvPr id="428" name="WordArt 23"/>
            <p:cNvSpPr txBox="1"/>
            <p:nvPr/>
          </p:nvSpPr>
          <p:spPr>
            <a:xfrm>
              <a:off x="4098960" y="3664080"/>
              <a:ext cx="102240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9" name="WordArt 24"/>
            <p:cNvSpPr txBox="1"/>
            <p:nvPr/>
          </p:nvSpPr>
          <p:spPr>
            <a:xfrm>
              <a:off x="3924360" y="4052520"/>
              <a:ext cx="13680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0" name="AutoShape 14"/>
          <p:cNvSpPr/>
          <p:nvPr/>
        </p:nvSpPr>
        <p:spPr>
          <a:xfrm>
            <a:off x="746280" y="464184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AutoShape 15"/>
          <p:cNvSpPr/>
          <p:nvPr/>
        </p:nvSpPr>
        <p:spPr>
          <a:xfrm>
            <a:off x="942840" y="317016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79a2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AutoShape 19"/>
          <p:cNvSpPr/>
          <p:nvPr/>
        </p:nvSpPr>
        <p:spPr>
          <a:xfrm>
            <a:off x="1039680" y="3270240"/>
            <a:ext cx="1570320" cy="538200"/>
          </a:xfrm>
          <a:prstGeom prst="roundRect">
            <a:avLst>
              <a:gd name="adj" fmla="val 2168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33" name="Group 23"/>
          <p:cNvGrpSpPr/>
          <p:nvPr/>
        </p:nvGrpSpPr>
        <p:grpSpPr>
          <a:xfrm>
            <a:off x="1136520" y="3857760"/>
            <a:ext cx="1373040" cy="489960"/>
            <a:chOff x="1136520" y="3857760"/>
            <a:chExt cx="1373040" cy="489960"/>
          </a:xfrm>
        </p:grpSpPr>
        <p:sp>
          <p:nvSpPr>
            <p:cNvPr id="434" name="WordArt 27"/>
            <p:cNvSpPr txBox="1"/>
            <p:nvPr/>
          </p:nvSpPr>
          <p:spPr>
            <a:xfrm>
              <a:off x="1311840" y="3857760"/>
              <a:ext cx="102636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5" name="WordArt 28"/>
            <p:cNvSpPr txBox="1"/>
            <p:nvPr/>
          </p:nvSpPr>
          <p:spPr>
            <a:xfrm>
              <a:off x="1136520" y="4192200"/>
              <a:ext cx="137304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6" name="AutoShape 14"/>
          <p:cNvSpPr/>
          <p:nvPr/>
        </p:nvSpPr>
        <p:spPr>
          <a:xfrm>
            <a:off x="6286680" y="463248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AutoShape 15"/>
          <p:cNvSpPr/>
          <p:nvPr/>
        </p:nvSpPr>
        <p:spPr>
          <a:xfrm>
            <a:off x="6483240" y="316080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88b6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AutoShape 19"/>
          <p:cNvSpPr/>
          <p:nvPr/>
        </p:nvSpPr>
        <p:spPr>
          <a:xfrm>
            <a:off x="6580080" y="3260880"/>
            <a:ext cx="1570320" cy="537840"/>
          </a:xfrm>
          <a:prstGeom prst="roundRect">
            <a:avLst>
              <a:gd name="adj" fmla="val 2168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6676920" y="3848040"/>
            <a:ext cx="1373040" cy="490320"/>
            <a:chOff x="6676920" y="3848040"/>
            <a:chExt cx="1373040" cy="490320"/>
          </a:xfrm>
        </p:grpSpPr>
        <p:sp>
          <p:nvSpPr>
            <p:cNvPr id="440" name="WordArt 27"/>
            <p:cNvSpPr txBox="1"/>
            <p:nvPr/>
          </p:nvSpPr>
          <p:spPr>
            <a:xfrm>
              <a:off x="6852240" y="3848040"/>
              <a:ext cx="1026360" cy="29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1" name="WordArt 28"/>
            <p:cNvSpPr txBox="1"/>
            <p:nvPr/>
          </p:nvSpPr>
          <p:spPr>
            <a:xfrm>
              <a:off x="6676920" y="4182840"/>
              <a:ext cx="137304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rc 2"/>
          <p:cNvSpPr/>
          <p:nvPr/>
        </p:nvSpPr>
        <p:spPr>
          <a:xfrm rot="18746400">
            <a:off x="3442320" y="1231200"/>
            <a:ext cx="1014480" cy="100332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fill="none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</a:path>
              <a:path stroke="0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Freeform 5"/>
          <p:cNvSpPr/>
          <p:nvPr/>
        </p:nvSpPr>
        <p:spPr>
          <a:xfrm rot="21274800">
            <a:off x="4092120" y="1690200"/>
            <a:ext cx="2629080" cy="263052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630520"/>
              <a:gd name="textAreaBottom" fmla="*/ 2630880 h 263052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57a49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Freeform 7"/>
          <p:cNvSpPr/>
          <p:nvPr/>
        </p:nvSpPr>
        <p:spPr>
          <a:xfrm rot="21274800">
            <a:off x="828360" y="1760040"/>
            <a:ext cx="3429000" cy="34290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d1a44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Oval 8"/>
          <p:cNvSpPr/>
          <p:nvPr/>
        </p:nvSpPr>
        <p:spPr>
          <a:xfrm rot="21274800">
            <a:off x="1195200" y="2126880"/>
            <a:ext cx="2695320" cy="269388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Oval 9"/>
          <p:cNvSpPr/>
          <p:nvPr/>
        </p:nvSpPr>
        <p:spPr>
          <a:xfrm rot="21274800">
            <a:off x="4505400" y="210492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Freeform 11"/>
          <p:cNvSpPr/>
          <p:nvPr/>
        </p:nvSpPr>
        <p:spPr>
          <a:xfrm rot="21274800">
            <a:off x="5581800" y="3787560"/>
            <a:ext cx="2303280" cy="23050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00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Oval 12"/>
          <p:cNvSpPr/>
          <p:nvPr/>
        </p:nvSpPr>
        <p:spPr>
          <a:xfrm rot="21274800">
            <a:off x="5943600" y="4151160"/>
            <a:ext cx="1577880" cy="15782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Arc 13"/>
          <p:cNvSpPr/>
          <p:nvPr/>
        </p:nvSpPr>
        <p:spPr>
          <a:xfrm rot="7501200">
            <a:off x="4029840" y="3719880"/>
            <a:ext cx="1906560" cy="15494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fill="none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</a:path>
              <a:path stroke="0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  <a:lnTo>
                  <a:pt x="0" y="15695"/>
                </a:lnTo>
                <a:lnTo>
                  <a:pt x="1484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Arc 14"/>
          <p:cNvSpPr/>
          <p:nvPr/>
        </p:nvSpPr>
        <p:spPr>
          <a:xfrm rot="256800">
            <a:off x="6907320" y="2855520"/>
            <a:ext cx="620640" cy="898560"/>
          </a:xfrm>
          <a:custGeom>
            <a:avLst/>
            <a:gdLst>
              <a:gd name="textAreaLeft" fmla="*/ 0 w 620640"/>
              <a:gd name="textAreaRight" fmla="*/ 620640 w 6206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fill="none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</a:path>
              <a:path stroke="0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51" name="Group 11"/>
          <p:cNvGrpSpPr/>
          <p:nvPr/>
        </p:nvGrpSpPr>
        <p:grpSpPr>
          <a:xfrm>
            <a:off x="2052720" y="3025800"/>
            <a:ext cx="1008000" cy="901800"/>
            <a:chOff x="2052720" y="3025800"/>
            <a:chExt cx="1008000" cy="901800"/>
          </a:xfrm>
        </p:grpSpPr>
        <p:sp>
          <p:nvSpPr>
            <p:cNvPr id="452" name="WordArt 16"/>
            <p:cNvSpPr txBox="1"/>
            <p:nvPr/>
          </p:nvSpPr>
          <p:spPr>
            <a:xfrm>
              <a:off x="2052720" y="3025800"/>
              <a:ext cx="10080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17"/>
            <p:cNvSpPr txBox="1"/>
            <p:nvPr/>
          </p:nvSpPr>
          <p:spPr>
            <a:xfrm>
              <a:off x="2052720" y="3414600"/>
              <a:ext cx="100800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54" name="Group 14"/>
          <p:cNvGrpSpPr/>
          <p:nvPr/>
        </p:nvGrpSpPr>
        <p:grpSpPr>
          <a:xfrm>
            <a:off x="4933800" y="2593800"/>
            <a:ext cx="1008000" cy="901800"/>
            <a:chOff x="4933800" y="2593800"/>
            <a:chExt cx="1008000" cy="901800"/>
          </a:xfrm>
        </p:grpSpPr>
        <p:sp>
          <p:nvSpPr>
            <p:cNvPr id="455" name="WordArt 19"/>
            <p:cNvSpPr txBox="1"/>
            <p:nvPr/>
          </p:nvSpPr>
          <p:spPr>
            <a:xfrm>
              <a:off x="4933800" y="2593800"/>
              <a:ext cx="10080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20"/>
            <p:cNvSpPr txBox="1"/>
            <p:nvPr/>
          </p:nvSpPr>
          <p:spPr>
            <a:xfrm>
              <a:off x="4933800" y="2982600"/>
              <a:ext cx="100800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57" name="Group 17"/>
          <p:cNvGrpSpPr/>
          <p:nvPr/>
        </p:nvGrpSpPr>
        <p:grpSpPr>
          <a:xfrm>
            <a:off x="6300720" y="4610160"/>
            <a:ext cx="792360" cy="708120"/>
            <a:chOff x="6300720" y="4610160"/>
            <a:chExt cx="792360" cy="708120"/>
          </a:xfrm>
        </p:grpSpPr>
        <p:sp>
          <p:nvSpPr>
            <p:cNvPr id="458" name="WordArt 22"/>
            <p:cNvSpPr txBox="1"/>
            <p:nvPr/>
          </p:nvSpPr>
          <p:spPr>
            <a:xfrm>
              <a:off x="6300720" y="4610160"/>
              <a:ext cx="792360" cy="23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WordArt 23"/>
            <p:cNvSpPr txBox="1"/>
            <p:nvPr/>
          </p:nvSpPr>
          <p:spPr>
            <a:xfrm>
              <a:off x="6300720" y="4915440"/>
              <a:ext cx="792360" cy="40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0" name="WordArt 24"/>
          <p:cNvSpPr txBox="1"/>
          <p:nvPr/>
        </p:nvSpPr>
        <p:spPr>
          <a:xfrm>
            <a:off x="4429080" y="482616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1" name="WordArt 25"/>
          <p:cNvSpPr txBox="1"/>
          <p:nvPr/>
        </p:nvSpPr>
        <p:spPr>
          <a:xfrm>
            <a:off x="3708360" y="165744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7308720" y="2593800"/>
            <a:ext cx="648000" cy="1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784080" y="2602080"/>
            <a:ext cx="2376720" cy="2124000"/>
          </a:xfrm>
          <a:prstGeom prst="rect">
            <a:avLst/>
          </a:prstGeom>
          <a:solidFill>
            <a:srgbClr val="96969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784080" y="1413000"/>
            <a:ext cx="2376720" cy="2376360"/>
          </a:xfrm>
          <a:prstGeom prst="ellipse">
            <a:avLst/>
          </a:prstGeom>
          <a:gradFill rotWithShape="0">
            <a:gsLst>
              <a:gs pos="0">
                <a:srgbClr val="74c7e3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779400" y="5022720"/>
            <a:ext cx="2386080" cy="93204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005" h="754">
                <a:moveTo>
                  <a:pt x="1005" y="503"/>
                </a:moveTo>
                <a:lnTo>
                  <a:pt x="1005" y="503"/>
                </a:lnTo>
                <a:lnTo>
                  <a:pt x="1005" y="516"/>
                </a:lnTo>
                <a:lnTo>
                  <a:pt x="1002" y="528"/>
                </a:lnTo>
                <a:lnTo>
                  <a:pt x="999" y="541"/>
                </a:lnTo>
                <a:lnTo>
                  <a:pt x="995" y="554"/>
                </a:lnTo>
                <a:lnTo>
                  <a:pt x="989" y="565"/>
                </a:lnTo>
                <a:lnTo>
                  <a:pt x="982" y="578"/>
                </a:lnTo>
                <a:lnTo>
                  <a:pt x="975" y="589"/>
                </a:lnTo>
                <a:lnTo>
                  <a:pt x="965" y="600"/>
                </a:lnTo>
                <a:lnTo>
                  <a:pt x="955" y="612"/>
                </a:lnTo>
                <a:lnTo>
                  <a:pt x="944" y="623"/>
                </a:lnTo>
                <a:lnTo>
                  <a:pt x="933" y="633"/>
                </a:lnTo>
                <a:lnTo>
                  <a:pt x="919" y="643"/>
                </a:lnTo>
                <a:lnTo>
                  <a:pt x="891" y="662"/>
                </a:lnTo>
                <a:lnTo>
                  <a:pt x="858" y="681"/>
                </a:lnTo>
                <a:lnTo>
                  <a:pt x="822" y="696"/>
                </a:lnTo>
                <a:lnTo>
                  <a:pt x="783" y="712"/>
                </a:lnTo>
                <a:lnTo>
                  <a:pt x="743" y="723"/>
                </a:lnTo>
                <a:lnTo>
                  <a:pt x="699" y="734"/>
                </a:lnTo>
                <a:lnTo>
                  <a:pt x="652" y="743"/>
                </a:lnTo>
                <a:lnTo>
                  <a:pt x="604" y="748"/>
                </a:lnTo>
                <a:lnTo>
                  <a:pt x="554" y="752"/>
                </a:lnTo>
                <a:lnTo>
                  <a:pt x="503" y="754"/>
                </a:lnTo>
                <a:lnTo>
                  <a:pt x="451" y="752"/>
                </a:lnTo>
                <a:lnTo>
                  <a:pt x="402" y="748"/>
                </a:lnTo>
                <a:lnTo>
                  <a:pt x="354" y="743"/>
                </a:lnTo>
                <a:lnTo>
                  <a:pt x="307" y="734"/>
                </a:lnTo>
                <a:lnTo>
                  <a:pt x="263" y="723"/>
                </a:lnTo>
                <a:lnTo>
                  <a:pt x="223" y="712"/>
                </a:lnTo>
                <a:lnTo>
                  <a:pt x="183" y="696"/>
                </a:lnTo>
                <a:lnTo>
                  <a:pt x="148" y="681"/>
                </a:lnTo>
                <a:lnTo>
                  <a:pt x="115" y="662"/>
                </a:lnTo>
                <a:lnTo>
                  <a:pt x="86" y="643"/>
                </a:lnTo>
                <a:lnTo>
                  <a:pt x="73" y="633"/>
                </a:lnTo>
                <a:lnTo>
                  <a:pt x="60" y="623"/>
                </a:lnTo>
                <a:lnTo>
                  <a:pt x="51" y="612"/>
                </a:lnTo>
                <a:lnTo>
                  <a:pt x="39" y="600"/>
                </a:lnTo>
                <a:lnTo>
                  <a:pt x="31" y="589"/>
                </a:lnTo>
                <a:lnTo>
                  <a:pt x="22" y="578"/>
                </a:lnTo>
                <a:lnTo>
                  <a:pt x="17" y="565"/>
                </a:lnTo>
                <a:lnTo>
                  <a:pt x="11" y="554"/>
                </a:lnTo>
                <a:lnTo>
                  <a:pt x="7" y="541"/>
                </a:lnTo>
                <a:lnTo>
                  <a:pt x="3" y="528"/>
                </a:lnTo>
                <a:lnTo>
                  <a:pt x="1" y="516"/>
                </a:lnTo>
                <a:lnTo>
                  <a:pt x="0" y="503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lnTo>
                  <a:pt x="1005" y="503"/>
                </a:lnTo>
                <a:close/>
              </a:path>
            </a:pathLst>
          </a:custGeom>
          <a:gradFill rotWithShape="0">
            <a:gsLst>
              <a:gs pos="0">
                <a:srgbClr val="224039"/>
              </a:gs>
              <a:gs pos="100000">
                <a:srgbClr val="57a4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779400" y="5022720"/>
            <a:ext cx="2386080" cy="62100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1005" h="503">
                <a:moveTo>
                  <a:pt x="1005" y="252"/>
                </a:moveTo>
                <a:lnTo>
                  <a:pt x="1005" y="252"/>
                </a:lnTo>
                <a:lnTo>
                  <a:pt x="1005" y="265"/>
                </a:lnTo>
                <a:lnTo>
                  <a:pt x="1002" y="277"/>
                </a:lnTo>
                <a:lnTo>
                  <a:pt x="999" y="290"/>
                </a:lnTo>
                <a:lnTo>
                  <a:pt x="995" y="301"/>
                </a:lnTo>
                <a:lnTo>
                  <a:pt x="989" y="314"/>
                </a:lnTo>
                <a:lnTo>
                  <a:pt x="982" y="327"/>
                </a:lnTo>
                <a:lnTo>
                  <a:pt x="975" y="338"/>
                </a:lnTo>
                <a:lnTo>
                  <a:pt x="965" y="349"/>
                </a:lnTo>
                <a:lnTo>
                  <a:pt x="955" y="361"/>
                </a:lnTo>
                <a:lnTo>
                  <a:pt x="944" y="372"/>
                </a:lnTo>
                <a:lnTo>
                  <a:pt x="933" y="382"/>
                </a:lnTo>
                <a:lnTo>
                  <a:pt x="919" y="392"/>
                </a:lnTo>
                <a:lnTo>
                  <a:pt x="891" y="411"/>
                </a:lnTo>
                <a:lnTo>
                  <a:pt x="858" y="430"/>
                </a:lnTo>
                <a:lnTo>
                  <a:pt x="822" y="445"/>
                </a:lnTo>
                <a:lnTo>
                  <a:pt x="783" y="459"/>
                </a:lnTo>
                <a:lnTo>
                  <a:pt x="743" y="472"/>
                </a:lnTo>
                <a:lnTo>
                  <a:pt x="699" y="483"/>
                </a:lnTo>
                <a:lnTo>
                  <a:pt x="652" y="492"/>
                </a:lnTo>
                <a:lnTo>
                  <a:pt x="604" y="497"/>
                </a:lnTo>
                <a:lnTo>
                  <a:pt x="554" y="502"/>
                </a:lnTo>
                <a:lnTo>
                  <a:pt x="503" y="503"/>
                </a:lnTo>
                <a:lnTo>
                  <a:pt x="451" y="502"/>
                </a:lnTo>
                <a:lnTo>
                  <a:pt x="402" y="497"/>
                </a:lnTo>
                <a:lnTo>
                  <a:pt x="354" y="492"/>
                </a:lnTo>
                <a:lnTo>
                  <a:pt x="307" y="483"/>
                </a:lnTo>
                <a:lnTo>
                  <a:pt x="263" y="472"/>
                </a:lnTo>
                <a:lnTo>
                  <a:pt x="223" y="459"/>
                </a:lnTo>
                <a:lnTo>
                  <a:pt x="183" y="445"/>
                </a:lnTo>
                <a:lnTo>
                  <a:pt x="148" y="430"/>
                </a:lnTo>
                <a:lnTo>
                  <a:pt x="115" y="411"/>
                </a:lnTo>
                <a:lnTo>
                  <a:pt x="86" y="392"/>
                </a:lnTo>
                <a:lnTo>
                  <a:pt x="73" y="382"/>
                </a:lnTo>
                <a:lnTo>
                  <a:pt x="60" y="372"/>
                </a:lnTo>
                <a:lnTo>
                  <a:pt x="51" y="361"/>
                </a:lnTo>
                <a:lnTo>
                  <a:pt x="39" y="349"/>
                </a:lnTo>
                <a:lnTo>
                  <a:pt x="31" y="338"/>
                </a:lnTo>
                <a:lnTo>
                  <a:pt x="22" y="327"/>
                </a:lnTo>
                <a:lnTo>
                  <a:pt x="17" y="314"/>
                </a:lnTo>
                <a:lnTo>
                  <a:pt x="11" y="301"/>
                </a:lnTo>
                <a:lnTo>
                  <a:pt x="7" y="290"/>
                </a:lnTo>
                <a:lnTo>
                  <a:pt x="3" y="277"/>
                </a:lnTo>
                <a:lnTo>
                  <a:pt x="1" y="265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892080" y="5510160"/>
            <a:ext cx="108000" cy="29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Freeform 9"/>
          <p:cNvSpPr/>
          <p:nvPr/>
        </p:nvSpPr>
        <p:spPr>
          <a:xfrm>
            <a:off x="779400" y="4667400"/>
            <a:ext cx="2386080" cy="93168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1005" h="754">
                <a:moveTo>
                  <a:pt x="1005" y="503"/>
                </a:moveTo>
                <a:lnTo>
                  <a:pt x="1005" y="503"/>
                </a:lnTo>
                <a:lnTo>
                  <a:pt x="1005" y="516"/>
                </a:lnTo>
                <a:lnTo>
                  <a:pt x="1002" y="528"/>
                </a:lnTo>
                <a:lnTo>
                  <a:pt x="999" y="541"/>
                </a:lnTo>
                <a:lnTo>
                  <a:pt x="995" y="554"/>
                </a:lnTo>
                <a:lnTo>
                  <a:pt x="989" y="565"/>
                </a:lnTo>
                <a:lnTo>
                  <a:pt x="982" y="578"/>
                </a:lnTo>
                <a:lnTo>
                  <a:pt x="975" y="589"/>
                </a:lnTo>
                <a:lnTo>
                  <a:pt x="965" y="600"/>
                </a:lnTo>
                <a:lnTo>
                  <a:pt x="955" y="612"/>
                </a:lnTo>
                <a:lnTo>
                  <a:pt x="944" y="623"/>
                </a:lnTo>
                <a:lnTo>
                  <a:pt x="933" y="633"/>
                </a:lnTo>
                <a:lnTo>
                  <a:pt x="919" y="643"/>
                </a:lnTo>
                <a:lnTo>
                  <a:pt x="891" y="662"/>
                </a:lnTo>
                <a:lnTo>
                  <a:pt x="858" y="681"/>
                </a:lnTo>
                <a:lnTo>
                  <a:pt x="822" y="696"/>
                </a:lnTo>
                <a:lnTo>
                  <a:pt x="783" y="712"/>
                </a:lnTo>
                <a:lnTo>
                  <a:pt x="743" y="723"/>
                </a:lnTo>
                <a:lnTo>
                  <a:pt x="699" y="734"/>
                </a:lnTo>
                <a:lnTo>
                  <a:pt x="652" y="743"/>
                </a:lnTo>
                <a:lnTo>
                  <a:pt x="604" y="748"/>
                </a:lnTo>
                <a:lnTo>
                  <a:pt x="554" y="752"/>
                </a:lnTo>
                <a:lnTo>
                  <a:pt x="503" y="754"/>
                </a:lnTo>
                <a:lnTo>
                  <a:pt x="451" y="752"/>
                </a:lnTo>
                <a:lnTo>
                  <a:pt x="402" y="748"/>
                </a:lnTo>
                <a:lnTo>
                  <a:pt x="354" y="743"/>
                </a:lnTo>
                <a:lnTo>
                  <a:pt x="307" y="734"/>
                </a:lnTo>
                <a:lnTo>
                  <a:pt x="263" y="723"/>
                </a:lnTo>
                <a:lnTo>
                  <a:pt x="223" y="712"/>
                </a:lnTo>
                <a:lnTo>
                  <a:pt x="183" y="696"/>
                </a:lnTo>
                <a:lnTo>
                  <a:pt x="148" y="681"/>
                </a:lnTo>
                <a:lnTo>
                  <a:pt x="115" y="662"/>
                </a:lnTo>
                <a:lnTo>
                  <a:pt x="86" y="643"/>
                </a:lnTo>
                <a:lnTo>
                  <a:pt x="73" y="633"/>
                </a:lnTo>
                <a:lnTo>
                  <a:pt x="60" y="623"/>
                </a:lnTo>
                <a:lnTo>
                  <a:pt x="51" y="612"/>
                </a:lnTo>
                <a:lnTo>
                  <a:pt x="39" y="600"/>
                </a:lnTo>
                <a:lnTo>
                  <a:pt x="31" y="589"/>
                </a:lnTo>
                <a:lnTo>
                  <a:pt x="22" y="578"/>
                </a:lnTo>
                <a:lnTo>
                  <a:pt x="17" y="565"/>
                </a:lnTo>
                <a:lnTo>
                  <a:pt x="11" y="554"/>
                </a:lnTo>
                <a:lnTo>
                  <a:pt x="7" y="541"/>
                </a:lnTo>
                <a:lnTo>
                  <a:pt x="3" y="528"/>
                </a:lnTo>
                <a:lnTo>
                  <a:pt x="1" y="516"/>
                </a:lnTo>
                <a:lnTo>
                  <a:pt x="0" y="503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lnTo>
                  <a:pt x="1005" y="503"/>
                </a:lnTo>
                <a:close/>
              </a:path>
            </a:pathLst>
          </a:custGeom>
          <a:gradFill rotWithShape="0">
            <a:gsLst>
              <a:gs pos="0">
                <a:srgbClr val="524019"/>
              </a:gs>
              <a:gs pos="100000">
                <a:srgbClr val="d1a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Freeform 10"/>
          <p:cNvSpPr/>
          <p:nvPr/>
        </p:nvSpPr>
        <p:spPr>
          <a:xfrm>
            <a:off x="779400" y="4667400"/>
            <a:ext cx="2386080" cy="62064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1005" h="503">
                <a:moveTo>
                  <a:pt x="1005" y="252"/>
                </a:moveTo>
                <a:lnTo>
                  <a:pt x="1005" y="252"/>
                </a:lnTo>
                <a:lnTo>
                  <a:pt x="1005" y="265"/>
                </a:lnTo>
                <a:lnTo>
                  <a:pt x="1002" y="277"/>
                </a:lnTo>
                <a:lnTo>
                  <a:pt x="999" y="290"/>
                </a:lnTo>
                <a:lnTo>
                  <a:pt x="995" y="301"/>
                </a:lnTo>
                <a:lnTo>
                  <a:pt x="989" y="314"/>
                </a:lnTo>
                <a:lnTo>
                  <a:pt x="982" y="327"/>
                </a:lnTo>
                <a:lnTo>
                  <a:pt x="975" y="338"/>
                </a:lnTo>
                <a:lnTo>
                  <a:pt x="965" y="349"/>
                </a:lnTo>
                <a:lnTo>
                  <a:pt x="955" y="361"/>
                </a:lnTo>
                <a:lnTo>
                  <a:pt x="944" y="372"/>
                </a:lnTo>
                <a:lnTo>
                  <a:pt x="933" y="382"/>
                </a:lnTo>
                <a:lnTo>
                  <a:pt x="919" y="392"/>
                </a:lnTo>
                <a:lnTo>
                  <a:pt x="891" y="411"/>
                </a:lnTo>
                <a:lnTo>
                  <a:pt x="858" y="430"/>
                </a:lnTo>
                <a:lnTo>
                  <a:pt x="822" y="445"/>
                </a:lnTo>
                <a:lnTo>
                  <a:pt x="783" y="459"/>
                </a:lnTo>
                <a:lnTo>
                  <a:pt x="743" y="472"/>
                </a:lnTo>
                <a:lnTo>
                  <a:pt x="699" y="483"/>
                </a:lnTo>
                <a:lnTo>
                  <a:pt x="652" y="492"/>
                </a:lnTo>
                <a:lnTo>
                  <a:pt x="604" y="497"/>
                </a:lnTo>
                <a:lnTo>
                  <a:pt x="554" y="502"/>
                </a:lnTo>
                <a:lnTo>
                  <a:pt x="503" y="503"/>
                </a:lnTo>
                <a:lnTo>
                  <a:pt x="451" y="502"/>
                </a:lnTo>
                <a:lnTo>
                  <a:pt x="402" y="497"/>
                </a:lnTo>
                <a:lnTo>
                  <a:pt x="354" y="492"/>
                </a:lnTo>
                <a:lnTo>
                  <a:pt x="307" y="483"/>
                </a:lnTo>
                <a:lnTo>
                  <a:pt x="263" y="472"/>
                </a:lnTo>
                <a:lnTo>
                  <a:pt x="223" y="459"/>
                </a:lnTo>
                <a:lnTo>
                  <a:pt x="183" y="445"/>
                </a:lnTo>
                <a:lnTo>
                  <a:pt x="148" y="430"/>
                </a:lnTo>
                <a:lnTo>
                  <a:pt x="115" y="411"/>
                </a:lnTo>
                <a:lnTo>
                  <a:pt x="86" y="392"/>
                </a:lnTo>
                <a:lnTo>
                  <a:pt x="73" y="382"/>
                </a:lnTo>
                <a:lnTo>
                  <a:pt x="60" y="372"/>
                </a:lnTo>
                <a:lnTo>
                  <a:pt x="51" y="361"/>
                </a:lnTo>
                <a:lnTo>
                  <a:pt x="39" y="349"/>
                </a:lnTo>
                <a:lnTo>
                  <a:pt x="31" y="338"/>
                </a:lnTo>
                <a:lnTo>
                  <a:pt x="22" y="327"/>
                </a:lnTo>
                <a:lnTo>
                  <a:pt x="17" y="314"/>
                </a:lnTo>
                <a:lnTo>
                  <a:pt x="11" y="301"/>
                </a:lnTo>
                <a:lnTo>
                  <a:pt x="7" y="290"/>
                </a:lnTo>
                <a:lnTo>
                  <a:pt x="3" y="277"/>
                </a:lnTo>
                <a:lnTo>
                  <a:pt x="1" y="265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892080" y="5154480"/>
            <a:ext cx="108000" cy="29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Freeform 12"/>
          <p:cNvSpPr/>
          <p:nvPr/>
        </p:nvSpPr>
        <p:spPr>
          <a:xfrm>
            <a:off x="779400" y="4309920"/>
            <a:ext cx="2386080" cy="93204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005" h="754">
                <a:moveTo>
                  <a:pt x="1005" y="503"/>
                </a:moveTo>
                <a:lnTo>
                  <a:pt x="1005" y="503"/>
                </a:lnTo>
                <a:lnTo>
                  <a:pt x="1005" y="516"/>
                </a:lnTo>
                <a:lnTo>
                  <a:pt x="1002" y="528"/>
                </a:lnTo>
                <a:lnTo>
                  <a:pt x="999" y="541"/>
                </a:lnTo>
                <a:lnTo>
                  <a:pt x="995" y="554"/>
                </a:lnTo>
                <a:lnTo>
                  <a:pt x="989" y="565"/>
                </a:lnTo>
                <a:lnTo>
                  <a:pt x="982" y="578"/>
                </a:lnTo>
                <a:lnTo>
                  <a:pt x="975" y="589"/>
                </a:lnTo>
                <a:lnTo>
                  <a:pt x="965" y="600"/>
                </a:lnTo>
                <a:lnTo>
                  <a:pt x="955" y="612"/>
                </a:lnTo>
                <a:lnTo>
                  <a:pt x="944" y="623"/>
                </a:lnTo>
                <a:lnTo>
                  <a:pt x="933" y="633"/>
                </a:lnTo>
                <a:lnTo>
                  <a:pt x="919" y="643"/>
                </a:lnTo>
                <a:lnTo>
                  <a:pt x="891" y="662"/>
                </a:lnTo>
                <a:lnTo>
                  <a:pt x="858" y="681"/>
                </a:lnTo>
                <a:lnTo>
                  <a:pt x="822" y="696"/>
                </a:lnTo>
                <a:lnTo>
                  <a:pt x="783" y="712"/>
                </a:lnTo>
                <a:lnTo>
                  <a:pt x="743" y="723"/>
                </a:lnTo>
                <a:lnTo>
                  <a:pt x="699" y="734"/>
                </a:lnTo>
                <a:lnTo>
                  <a:pt x="652" y="743"/>
                </a:lnTo>
                <a:lnTo>
                  <a:pt x="604" y="748"/>
                </a:lnTo>
                <a:lnTo>
                  <a:pt x="554" y="752"/>
                </a:lnTo>
                <a:lnTo>
                  <a:pt x="503" y="754"/>
                </a:lnTo>
                <a:lnTo>
                  <a:pt x="451" y="752"/>
                </a:lnTo>
                <a:lnTo>
                  <a:pt x="402" y="748"/>
                </a:lnTo>
                <a:lnTo>
                  <a:pt x="354" y="743"/>
                </a:lnTo>
                <a:lnTo>
                  <a:pt x="307" y="734"/>
                </a:lnTo>
                <a:lnTo>
                  <a:pt x="263" y="723"/>
                </a:lnTo>
                <a:lnTo>
                  <a:pt x="223" y="712"/>
                </a:lnTo>
                <a:lnTo>
                  <a:pt x="183" y="696"/>
                </a:lnTo>
                <a:lnTo>
                  <a:pt x="148" y="681"/>
                </a:lnTo>
                <a:lnTo>
                  <a:pt x="115" y="662"/>
                </a:lnTo>
                <a:lnTo>
                  <a:pt x="86" y="643"/>
                </a:lnTo>
                <a:lnTo>
                  <a:pt x="73" y="633"/>
                </a:lnTo>
                <a:lnTo>
                  <a:pt x="60" y="623"/>
                </a:lnTo>
                <a:lnTo>
                  <a:pt x="51" y="612"/>
                </a:lnTo>
                <a:lnTo>
                  <a:pt x="39" y="600"/>
                </a:lnTo>
                <a:lnTo>
                  <a:pt x="31" y="589"/>
                </a:lnTo>
                <a:lnTo>
                  <a:pt x="22" y="578"/>
                </a:lnTo>
                <a:lnTo>
                  <a:pt x="17" y="565"/>
                </a:lnTo>
                <a:lnTo>
                  <a:pt x="11" y="554"/>
                </a:lnTo>
                <a:lnTo>
                  <a:pt x="7" y="541"/>
                </a:lnTo>
                <a:lnTo>
                  <a:pt x="3" y="528"/>
                </a:lnTo>
                <a:lnTo>
                  <a:pt x="1" y="516"/>
                </a:lnTo>
                <a:lnTo>
                  <a:pt x="0" y="503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lnTo>
                  <a:pt x="1005" y="503"/>
                </a:lnTo>
                <a:close/>
              </a:path>
            </a:pathLst>
          </a:custGeom>
          <a:gradFill rotWithShape="0">
            <a:gsLst>
              <a:gs pos="0">
                <a:srgbClr val="285064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Freeform 13"/>
          <p:cNvSpPr/>
          <p:nvPr/>
        </p:nvSpPr>
        <p:spPr>
          <a:xfrm>
            <a:off x="779400" y="4309920"/>
            <a:ext cx="2386080" cy="62100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1005" h="503">
                <a:moveTo>
                  <a:pt x="1005" y="252"/>
                </a:moveTo>
                <a:lnTo>
                  <a:pt x="1005" y="252"/>
                </a:lnTo>
                <a:lnTo>
                  <a:pt x="1005" y="265"/>
                </a:lnTo>
                <a:lnTo>
                  <a:pt x="1002" y="277"/>
                </a:lnTo>
                <a:lnTo>
                  <a:pt x="999" y="290"/>
                </a:lnTo>
                <a:lnTo>
                  <a:pt x="995" y="301"/>
                </a:lnTo>
                <a:lnTo>
                  <a:pt x="989" y="314"/>
                </a:lnTo>
                <a:lnTo>
                  <a:pt x="982" y="327"/>
                </a:lnTo>
                <a:lnTo>
                  <a:pt x="975" y="338"/>
                </a:lnTo>
                <a:lnTo>
                  <a:pt x="965" y="349"/>
                </a:lnTo>
                <a:lnTo>
                  <a:pt x="955" y="361"/>
                </a:lnTo>
                <a:lnTo>
                  <a:pt x="944" y="372"/>
                </a:lnTo>
                <a:lnTo>
                  <a:pt x="933" y="382"/>
                </a:lnTo>
                <a:lnTo>
                  <a:pt x="919" y="392"/>
                </a:lnTo>
                <a:lnTo>
                  <a:pt x="891" y="411"/>
                </a:lnTo>
                <a:lnTo>
                  <a:pt x="858" y="430"/>
                </a:lnTo>
                <a:lnTo>
                  <a:pt x="822" y="445"/>
                </a:lnTo>
                <a:lnTo>
                  <a:pt x="783" y="459"/>
                </a:lnTo>
                <a:lnTo>
                  <a:pt x="743" y="472"/>
                </a:lnTo>
                <a:lnTo>
                  <a:pt x="699" y="483"/>
                </a:lnTo>
                <a:lnTo>
                  <a:pt x="652" y="492"/>
                </a:lnTo>
                <a:lnTo>
                  <a:pt x="604" y="497"/>
                </a:lnTo>
                <a:lnTo>
                  <a:pt x="554" y="502"/>
                </a:lnTo>
                <a:lnTo>
                  <a:pt x="503" y="503"/>
                </a:lnTo>
                <a:lnTo>
                  <a:pt x="451" y="502"/>
                </a:lnTo>
                <a:lnTo>
                  <a:pt x="402" y="497"/>
                </a:lnTo>
                <a:lnTo>
                  <a:pt x="354" y="492"/>
                </a:lnTo>
                <a:lnTo>
                  <a:pt x="307" y="483"/>
                </a:lnTo>
                <a:lnTo>
                  <a:pt x="263" y="472"/>
                </a:lnTo>
                <a:lnTo>
                  <a:pt x="223" y="459"/>
                </a:lnTo>
                <a:lnTo>
                  <a:pt x="183" y="445"/>
                </a:lnTo>
                <a:lnTo>
                  <a:pt x="148" y="430"/>
                </a:lnTo>
                <a:lnTo>
                  <a:pt x="115" y="411"/>
                </a:lnTo>
                <a:lnTo>
                  <a:pt x="86" y="392"/>
                </a:lnTo>
                <a:lnTo>
                  <a:pt x="73" y="382"/>
                </a:lnTo>
                <a:lnTo>
                  <a:pt x="60" y="372"/>
                </a:lnTo>
                <a:lnTo>
                  <a:pt x="51" y="361"/>
                </a:lnTo>
                <a:lnTo>
                  <a:pt x="39" y="349"/>
                </a:lnTo>
                <a:lnTo>
                  <a:pt x="31" y="338"/>
                </a:lnTo>
                <a:lnTo>
                  <a:pt x="22" y="327"/>
                </a:lnTo>
                <a:lnTo>
                  <a:pt x="17" y="314"/>
                </a:lnTo>
                <a:lnTo>
                  <a:pt x="11" y="301"/>
                </a:lnTo>
                <a:lnTo>
                  <a:pt x="7" y="290"/>
                </a:lnTo>
                <a:lnTo>
                  <a:pt x="3" y="277"/>
                </a:lnTo>
                <a:lnTo>
                  <a:pt x="1" y="265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892080" y="4797360"/>
            <a:ext cx="108000" cy="29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Freeform 15"/>
          <p:cNvSpPr/>
          <p:nvPr/>
        </p:nvSpPr>
        <p:spPr>
          <a:xfrm rot="10800000">
            <a:off x="766440" y="4676400"/>
            <a:ext cx="2413080" cy="24300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Arc 16"/>
          <p:cNvSpPr/>
          <p:nvPr/>
        </p:nvSpPr>
        <p:spPr>
          <a:xfrm>
            <a:off x="1973160" y="1413000"/>
            <a:ext cx="1187640" cy="11872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e0c280"/>
              </a:gs>
              <a:gs pos="100000">
                <a:srgbClr val="d1a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Arc 17"/>
          <p:cNvSpPr/>
          <p:nvPr/>
        </p:nvSpPr>
        <p:spPr>
          <a:xfrm>
            <a:off x="1973160" y="2552760"/>
            <a:ext cx="1187640" cy="65412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fill="none" w="21600" h="11907">
                <a:moveTo>
                  <a:pt x="21580" y="-1"/>
                </a:moveTo>
                <a:cubicBezTo>
                  <a:pt x="21593" y="307"/>
                  <a:pt x="21600" y="614"/>
                  <a:pt x="21600" y="922"/>
                </a:cubicBezTo>
                <a:cubicBezTo>
                  <a:pt x="21600" y="4786"/>
                  <a:pt x="20563" y="8579"/>
                  <a:pt x="18598" y="11907"/>
                </a:cubicBezTo>
              </a:path>
              <a:path stroke="0" w="21600" h="11907">
                <a:moveTo>
                  <a:pt x="21580" y="-1"/>
                </a:moveTo>
                <a:cubicBezTo>
                  <a:pt x="21593" y="307"/>
                  <a:pt x="21600" y="614"/>
                  <a:pt x="21600" y="922"/>
                </a:cubicBezTo>
                <a:cubicBezTo>
                  <a:pt x="21600" y="4786"/>
                  <a:pt x="20563" y="8579"/>
                  <a:pt x="18598" y="11907"/>
                </a:cubicBezTo>
                <a:lnTo>
                  <a:pt x="0" y="922"/>
                </a:lnTo>
                <a:lnTo>
                  <a:pt x="21580" y="-1"/>
                </a:lnTo>
                <a:close/>
              </a:path>
            </a:pathLst>
          </a:cu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Oval 18"/>
          <p:cNvSpPr/>
          <p:nvPr/>
        </p:nvSpPr>
        <p:spPr>
          <a:xfrm>
            <a:off x="784080" y="1413000"/>
            <a:ext cx="2376720" cy="23763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Line 19"/>
          <p:cNvSpPr/>
          <p:nvPr/>
        </p:nvSpPr>
        <p:spPr>
          <a:xfrm flipV="1">
            <a:off x="784080" y="2565360"/>
            <a:ext cx="0" cy="2052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Line 20"/>
          <p:cNvSpPr/>
          <p:nvPr/>
        </p:nvSpPr>
        <p:spPr>
          <a:xfrm flipV="1">
            <a:off x="3160800" y="2565360"/>
            <a:ext cx="0" cy="2052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Freeform 21"/>
          <p:cNvSpPr/>
          <p:nvPr/>
        </p:nvSpPr>
        <p:spPr>
          <a:xfrm>
            <a:off x="892080" y="1461960"/>
            <a:ext cx="2160720" cy="77976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WordArt 22"/>
          <p:cNvSpPr txBox="1"/>
          <p:nvPr/>
        </p:nvSpPr>
        <p:spPr>
          <a:xfrm>
            <a:off x="1216080" y="4941720"/>
            <a:ext cx="151128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esign Inspiration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4" name="WordArt 23"/>
          <p:cNvSpPr txBox="1"/>
          <p:nvPr/>
        </p:nvSpPr>
        <p:spPr>
          <a:xfrm>
            <a:off x="1287360" y="5302080"/>
            <a:ext cx="1368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larity &amp; Impact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5" name="WordArt 24"/>
          <p:cNvSpPr txBox="1"/>
          <p:nvPr/>
        </p:nvSpPr>
        <p:spPr>
          <a:xfrm>
            <a:off x="1287360" y="5661000"/>
            <a:ext cx="1368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emium Design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6" name="Freeform 25"/>
          <p:cNvSpPr/>
          <p:nvPr/>
        </p:nvSpPr>
        <p:spPr>
          <a:xfrm>
            <a:off x="2511360" y="1521000"/>
            <a:ext cx="5654880" cy="576000"/>
          </a:xfrm>
          <a:custGeom>
            <a:avLst/>
            <a:gdLst>
              <a:gd name="textAreaLeft" fmla="*/ 0 w 5654880"/>
              <a:gd name="textAreaRight" fmla="*/ 5654880 w 56548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3198" h="363">
                <a:moveTo>
                  <a:pt x="0" y="363"/>
                </a:moveTo>
                <a:lnTo>
                  <a:pt x="363" y="0"/>
                </a:lnTo>
                <a:lnTo>
                  <a:pt x="3198" y="0"/>
                </a:lnTo>
              </a:path>
            </a:pathLst>
          </a:cu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2873520" y="2817720"/>
            <a:ext cx="529272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Freeform 27"/>
          <p:cNvSpPr/>
          <p:nvPr/>
        </p:nvSpPr>
        <p:spPr>
          <a:xfrm>
            <a:off x="2195640" y="3292560"/>
            <a:ext cx="5976720" cy="61128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3356" h="385">
                <a:moveTo>
                  <a:pt x="0" y="0"/>
                </a:moveTo>
                <a:lnTo>
                  <a:pt x="385" y="385"/>
                </a:lnTo>
                <a:lnTo>
                  <a:pt x="3356" y="385"/>
                </a:lnTo>
              </a:path>
            </a:pathLst>
          </a:cu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Text Box 28"/>
          <p:cNvSpPr/>
          <p:nvPr/>
        </p:nvSpPr>
        <p:spPr>
          <a:xfrm>
            <a:off x="4932360" y="159372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Stylish templates can b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a valuable aid to creative professional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Text Box 29"/>
          <p:cNvSpPr/>
          <p:nvPr/>
        </p:nvSpPr>
        <p:spPr>
          <a:xfrm>
            <a:off x="4932360" y="239076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Enrich your powerpoint Presentations and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captivate your viewing audienc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4932360" y="347184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Each work is featured with simplici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but supreme beau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92" name="Group 30"/>
          <p:cNvGrpSpPr/>
          <p:nvPr/>
        </p:nvGrpSpPr>
        <p:grpSpPr>
          <a:xfrm>
            <a:off x="3652920" y="4076640"/>
            <a:ext cx="4519440" cy="1800360"/>
            <a:chOff x="3652920" y="4076640"/>
            <a:chExt cx="4519440" cy="1800360"/>
          </a:xfrm>
        </p:grpSpPr>
        <p:sp>
          <p:nvSpPr>
            <p:cNvPr id="493" name="AutoShape 32"/>
            <p:cNvSpPr/>
            <p:nvPr/>
          </p:nvSpPr>
          <p:spPr>
            <a:xfrm>
              <a:off x="3652920" y="4076640"/>
              <a:ext cx="4464000" cy="1800360"/>
            </a:xfrm>
            <a:prstGeom prst="roundRect">
              <a:avLst>
                <a:gd name="adj" fmla="val 4171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4" name="AutoShape 33"/>
            <p:cNvSpPr/>
            <p:nvPr/>
          </p:nvSpPr>
          <p:spPr>
            <a:xfrm>
              <a:off x="3772080" y="428472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5" name="AutoShape 34"/>
            <p:cNvSpPr/>
            <p:nvPr/>
          </p:nvSpPr>
          <p:spPr>
            <a:xfrm>
              <a:off x="3772080" y="501336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Text Box 35"/>
            <p:cNvSpPr/>
            <p:nvPr/>
          </p:nvSpPr>
          <p:spPr>
            <a:xfrm>
              <a:off x="3881520" y="5429160"/>
              <a:ext cx="429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33"/>
                  </a:solidFill>
                  <a:latin typeface="Arial"/>
                </a:rPr>
                <a:t>Catch The feel of Design in 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7" name="Rectangle 36"/>
            <p:cNvSpPr/>
            <p:nvPr/>
          </p:nvSpPr>
          <p:spPr>
            <a:xfrm>
              <a:off x="3871440" y="4668840"/>
              <a:ext cx="32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33"/>
                  </a:solidFill>
                  <a:latin typeface="Arial"/>
                </a:rPr>
                <a:t>Feel the touch of Design on the cutting edge.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8" name="Rectangle 37"/>
            <p:cNvSpPr/>
            <p:nvPr/>
          </p:nvSpPr>
          <p:spPr>
            <a:xfrm>
              <a:off x="4078800" y="429264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 Black"/>
                </a:rPr>
                <a:t>Creative Visual Aids!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9" name="Rectangle 38"/>
            <p:cNvSpPr/>
            <p:nvPr/>
          </p:nvSpPr>
          <p:spPr>
            <a:xfrm>
              <a:off x="4133160" y="5045040"/>
              <a:ext cx="31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 Black"/>
                </a:rPr>
                <a:t>Pictures speak 1,000 words!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2400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38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324160" y="138420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421000" y="1474920"/>
            <a:ext cx="195408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513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4657680" y="138420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753080" y="147492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3132000" y="4606920"/>
            <a:ext cx="2820960" cy="1154160"/>
          </a:xfrm>
          <a:prstGeom prst="ellipse">
            <a:avLst/>
          </a:prstGeom>
          <a:gradFill rotWithShape="0">
            <a:gsLst>
              <a:gs pos="0">
                <a:srgbClr val="000000">
                  <a:alpha val="83137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2038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2324160" y="545796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2421000" y="554832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AutoShape 15"/>
          <p:cNvSpPr/>
          <p:nvPr/>
        </p:nvSpPr>
        <p:spPr>
          <a:xfrm>
            <a:off x="4513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4657680" y="545796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AutoShape 17"/>
          <p:cNvSpPr/>
          <p:nvPr/>
        </p:nvSpPr>
        <p:spPr>
          <a:xfrm>
            <a:off x="4753080" y="554832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AutoShape 18"/>
          <p:cNvSpPr/>
          <p:nvPr/>
        </p:nvSpPr>
        <p:spPr>
          <a:xfrm>
            <a:off x="574560" y="3355920"/>
            <a:ext cx="21448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AutoShape 19"/>
          <p:cNvSpPr/>
          <p:nvPr/>
        </p:nvSpPr>
        <p:spPr>
          <a:xfrm>
            <a:off x="671400" y="3446640"/>
            <a:ext cx="1954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AutoShape 20"/>
          <p:cNvSpPr/>
          <p:nvPr/>
        </p:nvSpPr>
        <p:spPr>
          <a:xfrm>
            <a:off x="626436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8" name="AutoShape 21"/>
          <p:cNvSpPr/>
          <p:nvPr/>
        </p:nvSpPr>
        <p:spPr>
          <a:xfrm>
            <a:off x="6408720" y="335592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22"/>
          <p:cNvSpPr/>
          <p:nvPr/>
        </p:nvSpPr>
        <p:spPr>
          <a:xfrm>
            <a:off x="6504120" y="344664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AutoShape 23"/>
          <p:cNvSpPr/>
          <p:nvPr/>
        </p:nvSpPr>
        <p:spPr>
          <a:xfrm rot="10800000">
            <a:off x="2751120" y="330156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AutoShape 24"/>
          <p:cNvSpPr/>
          <p:nvPr/>
        </p:nvSpPr>
        <p:spPr>
          <a:xfrm>
            <a:off x="5638680" y="330192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WordArt 25"/>
          <p:cNvSpPr txBox="1"/>
          <p:nvPr/>
        </p:nvSpPr>
        <p:spPr>
          <a:xfrm>
            <a:off x="887400" y="3589200"/>
            <a:ext cx="158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3" name="WordArt 26"/>
          <p:cNvSpPr txBox="1"/>
          <p:nvPr/>
        </p:nvSpPr>
        <p:spPr>
          <a:xfrm>
            <a:off x="261468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4" name="WordArt 27"/>
          <p:cNvSpPr txBox="1"/>
          <p:nvPr/>
        </p:nvSpPr>
        <p:spPr>
          <a:xfrm>
            <a:off x="491976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5" name="WordArt 28"/>
          <p:cNvSpPr txBox="1"/>
          <p:nvPr/>
        </p:nvSpPr>
        <p:spPr>
          <a:xfrm>
            <a:off x="261468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WordArt 29"/>
          <p:cNvSpPr txBox="1"/>
          <p:nvPr/>
        </p:nvSpPr>
        <p:spPr>
          <a:xfrm>
            <a:off x="491976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7" name="WordArt 30"/>
          <p:cNvSpPr txBox="1"/>
          <p:nvPr/>
        </p:nvSpPr>
        <p:spPr>
          <a:xfrm>
            <a:off x="6647040" y="3589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8" name="Freeform 31"/>
          <p:cNvSpPr/>
          <p:nvPr/>
        </p:nvSpPr>
        <p:spPr>
          <a:xfrm rot="1800000">
            <a:off x="4716360" y="216540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Freeform 32"/>
          <p:cNvSpPr/>
          <p:nvPr/>
        </p:nvSpPr>
        <p:spPr>
          <a:xfrm rot="20700000">
            <a:off x="3348000" y="210816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Freeform 33"/>
          <p:cNvSpPr/>
          <p:nvPr/>
        </p:nvSpPr>
        <p:spPr>
          <a:xfrm rot="9000000">
            <a:off x="500292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Freeform 34"/>
          <p:cNvSpPr/>
          <p:nvPr/>
        </p:nvSpPr>
        <p:spPr>
          <a:xfrm rot="12600000">
            <a:off x="300276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Oval 35"/>
          <p:cNvSpPr/>
          <p:nvPr/>
        </p:nvSpPr>
        <p:spPr>
          <a:xfrm>
            <a:off x="3132000" y="2381400"/>
            <a:ext cx="2803680" cy="28177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33" name="Picture 36" descr="그림1"/>
          <p:cNvPicPr/>
          <p:nvPr/>
        </p:nvPicPr>
        <p:blipFill>
          <a:blip r:embed="rId1"/>
          <a:stretch/>
        </p:blipFill>
        <p:spPr>
          <a:xfrm>
            <a:off x="3122640" y="2371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534" name="Oval 37"/>
          <p:cNvSpPr/>
          <p:nvPr/>
        </p:nvSpPr>
        <p:spPr>
          <a:xfrm>
            <a:off x="4276800" y="2413080"/>
            <a:ext cx="490320" cy="490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3695760" y="3230640"/>
            <a:ext cx="1655280" cy="1090080"/>
            <a:chOff x="3695760" y="3230640"/>
            <a:chExt cx="1655280" cy="1090080"/>
          </a:xfrm>
        </p:grpSpPr>
        <p:sp>
          <p:nvSpPr>
            <p:cNvPr id="536" name="WordArt 39"/>
            <p:cNvSpPr txBox="1"/>
            <p:nvPr/>
          </p:nvSpPr>
          <p:spPr>
            <a:xfrm>
              <a:off x="3907080" y="3230640"/>
              <a:ext cx="1236960" cy="36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7" name="WordArt 40"/>
            <p:cNvSpPr txBox="1"/>
            <p:nvPr/>
          </p:nvSpPr>
          <p:spPr>
            <a:xfrm>
              <a:off x="3695760" y="3700800"/>
              <a:ext cx="1655280" cy="61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0" y="2367000"/>
            <a:ext cx="8532720" cy="1800360"/>
          </a:xfrm>
          <a:prstGeom prst="rightArrow">
            <a:avLst>
              <a:gd name="adj1" fmla="val 46843"/>
              <a:gd name="adj2" fmla="val 58278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74"/>
          <p:cNvSpPr txBox="1"/>
          <p:nvPr/>
        </p:nvSpPr>
        <p:spPr>
          <a:xfrm>
            <a:off x="264960" y="3213000"/>
            <a:ext cx="8636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41" name="WordArt 75"/>
          <p:cNvSpPr txBox="1"/>
          <p:nvPr/>
        </p:nvSpPr>
        <p:spPr>
          <a:xfrm>
            <a:off x="1596960" y="31748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WordArt 76"/>
          <p:cNvSpPr txBox="1"/>
          <p:nvPr/>
        </p:nvSpPr>
        <p:spPr>
          <a:xfrm>
            <a:off x="2749680" y="31748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3" name="WordArt 77"/>
          <p:cNvSpPr txBox="1"/>
          <p:nvPr/>
        </p:nvSpPr>
        <p:spPr>
          <a:xfrm>
            <a:off x="3902040" y="31748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4" name="WordArt 78"/>
          <p:cNvSpPr txBox="1"/>
          <p:nvPr/>
        </p:nvSpPr>
        <p:spPr>
          <a:xfrm>
            <a:off x="5052960" y="31748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5" name="WordArt 79"/>
          <p:cNvSpPr txBox="1"/>
          <p:nvPr/>
        </p:nvSpPr>
        <p:spPr>
          <a:xfrm>
            <a:off x="6205680" y="31748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6" name="Line 80"/>
          <p:cNvSpPr/>
          <p:nvPr/>
        </p:nvSpPr>
        <p:spPr>
          <a:xfrm flipV="1">
            <a:off x="1994040" y="1593720"/>
            <a:ext cx="0" cy="1368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Line 81"/>
          <p:cNvSpPr/>
          <p:nvPr/>
        </p:nvSpPr>
        <p:spPr>
          <a:xfrm flipV="1">
            <a:off x="4297320" y="1593720"/>
            <a:ext cx="0" cy="1368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Line 82"/>
          <p:cNvSpPr/>
          <p:nvPr/>
        </p:nvSpPr>
        <p:spPr>
          <a:xfrm flipV="1">
            <a:off x="6602400" y="1593720"/>
            <a:ext cx="0" cy="1368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Line 83"/>
          <p:cNvSpPr/>
          <p:nvPr/>
        </p:nvSpPr>
        <p:spPr>
          <a:xfrm flipV="1">
            <a:off x="5450040" y="3609720"/>
            <a:ext cx="0" cy="1260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4"/>
          <p:cNvSpPr/>
          <p:nvPr/>
        </p:nvSpPr>
        <p:spPr>
          <a:xfrm>
            <a:off x="517680" y="3862440"/>
            <a:ext cx="2376360" cy="2176560"/>
          </a:xfrm>
          <a:prstGeom prst="roundRect">
            <a:avLst>
              <a:gd name="adj" fmla="val 5528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Text Box 85"/>
          <p:cNvSpPr/>
          <p:nvPr/>
        </p:nvSpPr>
        <p:spPr>
          <a:xfrm>
            <a:off x="2028960" y="1557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Text Box 86"/>
          <p:cNvSpPr/>
          <p:nvPr/>
        </p:nvSpPr>
        <p:spPr>
          <a:xfrm>
            <a:off x="4334040" y="1557360"/>
            <a:ext cx="1944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Text Box 87"/>
          <p:cNvSpPr/>
          <p:nvPr/>
        </p:nvSpPr>
        <p:spPr>
          <a:xfrm>
            <a:off x="6637320" y="155736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e32"/>
                </a:solidFill>
                <a:latin typeface="Arial Black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Text Box 88"/>
          <p:cNvSpPr/>
          <p:nvPr/>
        </p:nvSpPr>
        <p:spPr>
          <a:xfrm>
            <a:off x="3181320" y="3789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Text Box 89"/>
          <p:cNvSpPr/>
          <p:nvPr/>
        </p:nvSpPr>
        <p:spPr>
          <a:xfrm>
            <a:off x="5484960" y="378936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WordArt 90"/>
          <p:cNvSpPr txBox="1"/>
          <p:nvPr/>
        </p:nvSpPr>
        <p:spPr>
          <a:xfrm>
            <a:off x="696960" y="40575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57" name="WordArt 91"/>
          <p:cNvSpPr txBox="1"/>
          <p:nvPr/>
        </p:nvSpPr>
        <p:spPr>
          <a:xfrm>
            <a:off x="696960" y="43527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58" name="WordArt 92"/>
          <p:cNvSpPr txBox="1"/>
          <p:nvPr/>
        </p:nvSpPr>
        <p:spPr>
          <a:xfrm>
            <a:off x="696960" y="46483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59" name="WordArt 93"/>
          <p:cNvSpPr txBox="1"/>
          <p:nvPr/>
        </p:nvSpPr>
        <p:spPr>
          <a:xfrm>
            <a:off x="696960" y="49435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60" name="WordArt 94"/>
          <p:cNvSpPr txBox="1"/>
          <p:nvPr/>
        </p:nvSpPr>
        <p:spPr>
          <a:xfrm>
            <a:off x="696960" y="5238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84e32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184e32"/>
              </a:solidFill>
              <a:latin typeface="Arial Black"/>
              <a:ea typeface="Arial Black"/>
            </a:endParaRPr>
          </a:p>
        </p:txBody>
      </p:sp>
      <p:sp>
        <p:nvSpPr>
          <p:cNvPr id="561" name="Text Box 95"/>
          <p:cNvSpPr/>
          <p:nvPr/>
        </p:nvSpPr>
        <p:spPr>
          <a:xfrm>
            <a:off x="1238400" y="3981600"/>
            <a:ext cx="1439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Visual Appeal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Ready to Us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Subtle Touch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Diversity of Cultur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Animation PowerPoi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62" name="Group 26"/>
          <p:cNvGrpSpPr/>
          <p:nvPr/>
        </p:nvGrpSpPr>
        <p:grpSpPr>
          <a:xfrm>
            <a:off x="912960" y="5484960"/>
            <a:ext cx="71280" cy="358560"/>
            <a:chOff x="912960" y="5484960"/>
            <a:chExt cx="71280" cy="358560"/>
          </a:xfrm>
        </p:grpSpPr>
        <p:sp>
          <p:nvSpPr>
            <p:cNvPr id="563" name="Oval 96"/>
            <p:cNvSpPr/>
            <p:nvPr/>
          </p:nvSpPr>
          <p:spPr>
            <a:xfrm>
              <a:off x="912960" y="548496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Oval 97"/>
            <p:cNvSpPr/>
            <p:nvPr/>
          </p:nvSpPr>
          <p:spPr>
            <a:xfrm>
              <a:off x="912960" y="562788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Oval 98"/>
            <p:cNvSpPr/>
            <p:nvPr/>
          </p:nvSpPr>
          <p:spPr>
            <a:xfrm>
              <a:off x="912960" y="577224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66" name="Line 99"/>
          <p:cNvSpPr/>
          <p:nvPr/>
        </p:nvSpPr>
        <p:spPr>
          <a:xfrm flipV="1">
            <a:off x="3144960" y="3609720"/>
            <a:ext cx="0" cy="1260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20:0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03:24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b21e000000000001024140</vt:lpwstr>
  </property>
</Properties>
</file>