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14E-5081-418A-A2A9-C71F9FCD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829-22CE-4B4F-9EF7-3B62E3D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775B-7BF4-4BDC-8E6A-E63C665F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134DB-88F4-479C-82AF-351B8E1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61DA8-8FB5-4637-B036-7E2E580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116F-262D-4E72-B5DA-5D2AC48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C500-1A44-4274-BA93-6C801C2E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7C6C2-EAE9-4050-9950-8B3034D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65FC-D6B8-4A59-948C-F4764D4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6BC65-6F05-42F1-A76C-29881903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86BB-2476-4B7F-96D5-B2991783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BA41E-1C77-4BE3-B141-ECBB27C0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EF7-3994-4EB3-B34B-460BB8CE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7D39C-23B8-4886-9310-E5096F4C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E6867-22F5-49A4-8583-4CCA4C2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267FB-29C5-48EB-B268-F551D40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2D49-D720-4CB4-85B8-2C97F7D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6483B-05AD-4A30-BC25-B10EBF61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1A459-51A2-4FE2-B944-5F9A45D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9E25-B80E-460C-A8F7-0F769DB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16C67-3B2A-4434-A84B-7EE9376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59F8B-7A10-4996-B6B3-C33A6DEF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F852B-6E88-4D94-8F35-CFE1814B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91A-50A8-40E1-995D-06F3C1F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C4BAE-29F0-431C-A567-4161EE5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DB949-41D8-413D-B7F4-31CE7682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37DE-B65F-40A5-B105-15F1F7CE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231D9-0FD3-4129-89F5-2CDE101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56F4-1859-443A-B7D0-EA0A3A3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FE7EB-AC68-4DBA-A518-CE26C167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089F-25F2-4697-83C1-1A6206F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AFAF-C60F-4834-9AC9-8B09A3A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F3FF-25B1-4542-A55C-780C4D4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2897-C67D-44A3-A685-D4A3EC1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C47-ECC8-4E84-8002-ABDC535C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E30E-8B5F-42F3-9397-6C3B3C9B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82F86-DCBF-48B6-AAEF-B55B493A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C3FD2-AC2D-461E-B0AF-1299EFB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25955-5E09-4320-A885-DE2FD4A3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33D41-68AE-4771-A875-2B05C02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B5A11-9D8B-4AB8-B1CE-EC508A2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B5218-DD5D-450B-A84C-E17A550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AFF4E-1F9F-4051-9A82-7759DE8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BE2E3-7378-48E7-9807-CCFF821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EE97-85D2-4855-B62C-9243F60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06FB-141C-4D91-B4AB-E3068B6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C4FAE-3CF3-4F69-A9F1-F919806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0D058-C42E-43A3-9144-72BC30C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415D2-DCFF-4CA0-93D8-DD67826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D79EC-6D0E-4CA1-B1F1-3BB3C916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7E23C-30FF-4387-A783-FCE0D010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293DA-F931-40B5-A765-66D2F44D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2F7EA-4774-4EC3-BB34-B559B929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2AEA4-E7E6-4B0F-AF15-28622B6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F23B7-1AF1-4786-A08B-98F0F05F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11A45-D941-460C-AA49-4CAF9E20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37FC-0B0A-4B01-A9C8-8933CD1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6FB6D-7B39-4068-A273-517D3B8E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D58F1-3BDD-4805-A453-54C246A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D2117-19CD-40B0-9E31-251CD22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E0799-6C3A-4627-A9BA-6AC802B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70909-D50E-47E9-97AF-0898CB41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40C31-4C77-450B-BCAF-80B60569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77153-9ED2-469B-A27D-DD8CF33B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D7AE-1BFE-4CF6-BCC6-3E35018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9A4-AA45-47A4-94B4-165DBBD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C97-D16C-47C4-8616-F9BE94F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32EA-73B7-4A37-987A-E516A1B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790-D7C3-4BE6-B36B-208B2BB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8B9-1EE2-445D-A969-776A7E0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3DF-2436-45B8-BFDF-E2E5C6C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725C-747C-431C-97D9-DC47764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5A7-3746-4429-8697-5A98220F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685-2B3A-4EA7-ADA3-A3CD62BB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CFFB-4007-4731-926B-672C5C40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9E9E-E8FC-49D9-80C3-5504451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0D74-D6CE-4B97-9680-CE72BEC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DEC6-2882-4A0C-AFFC-CD51938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511A-7CCA-43AE-9E37-40356AF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91D-940E-4E5D-A8DA-DB7D049C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5B79-5D72-4BA9-A676-C775BEB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E038-762E-4702-AE8D-DC2E30C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CE9A-73FF-4449-85BC-1FBB407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53ED-6A58-41E5-8D14-C0B0B2A3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6230-67ED-46C5-8D09-16E0C82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6E3F-A36D-43C9-A6D0-6D00C3C3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BCCC-F911-492B-A413-96E8A5EE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B100-8327-4CD7-B3CA-838DB168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8EE1-12EF-4F5F-99D2-B2F39D6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663A-3AD4-4B36-A9F3-3DEF1D7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9AA-24C0-46DF-A8F8-1FE732CE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93334-E83D-4DF3-B3A9-1B96124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76F4-C604-4B43-BC17-A303BA8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6A22-8F27-49EE-BD02-38027E1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B2DD-51EF-4F68-8BE6-FF17F92B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E2B3-D266-4019-89BF-B2D1E7D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BCB9-6894-4611-BE82-0AF28C9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1801-F176-4A95-B984-DC898E17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CD7D-9DE1-471B-B5C4-13FAE66F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9334-A972-4CAB-B4B0-D32AC503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0696-DB05-4C95-8307-16EA4079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CF2-BEBB-48CB-B7D0-FAC5708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C18D-E9EC-4773-9830-4A0D23C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BB83-798B-439E-AB78-5F5F89E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B666-472B-40D9-AD36-7454059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56D6-1D6E-4FAA-9E09-14AACB8D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B620-E672-4E44-B1BA-CFA84EF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BD15-E190-42DD-B3A8-BBC29590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82EC-4C10-4111-935E-16F0F3C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F38A2-4F5D-4DDF-8561-45D384F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3AE1-B55C-451A-A62A-6C65C83B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8E5B-0CA4-4449-BB5C-8997E745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7A7-5E84-4BF4-9EF3-DCD9F217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2532-3F4A-4D28-8CD0-1D36895F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5026-AE67-485E-9FEF-3099086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4DC1-12DF-47D2-8FFC-51BAF35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779F-2B04-4933-A936-DD37F80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907DF-A2A4-45F0-A70F-B9F0350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7D53-9E11-4358-BE3F-B02A43C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426E-E2F2-4015-8224-E72B9CD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F563C-18E5-4329-936B-76B440B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4F483-2FE3-466B-94F0-3FBA33D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AE5C-E13A-45C7-8966-B4DD300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9B0-80D8-4194-922B-8A241DD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3CBE-49C7-4A13-BA57-9902D66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BF1D-3B15-403D-9D85-31B72B57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65A14-27A1-499F-A210-E3218FC6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8503-91D0-48C8-AFBA-B411A409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19D4-14CB-40CA-9D13-1A96056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CC2E-0DE6-48D4-A816-16592130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C77BF-E70A-4937-887D-15DF97E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FD76-81A6-490D-B6E6-F9027E8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B292-5289-4A37-B071-BA319AF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54E8-4BCE-495A-9C61-74D29AB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852-3241-402D-99C4-31ED0ED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BDA2F-E24F-4416-B6DE-F6D8656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07C6-2535-4038-B596-C50FD585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86CD8-AF49-4CA1-B360-EA418354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A19B9-C1A4-4244-9C16-2BB87A8C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0C017-FECB-49BB-A134-FB0EF735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D4EA-A75F-4E14-81C6-407B704C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47DF5-3FF9-41EE-A133-5417B2C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9D59-972D-423D-B1DF-1B3A2DF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E278-B44D-49E2-87B2-B42E4F0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15277-460A-410D-8E59-4954B91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DBC-F0E0-4C37-8EEB-82DA4981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3C1A-EA6A-46D9-8F6D-8B8E0D3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C171-5E30-45C5-B0B1-2A4AA6C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5FF3-E0D9-4038-BCA5-DE3A415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3851-3865-48A1-ACAF-BC4555C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2B29B-31EF-44C4-B510-8B17C0CB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1E26-2941-440D-9A28-FFD52934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6A8A8-A088-43E0-8BCF-F81AD476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8D9FD-F4F7-496F-834B-499843D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F8EEF-F773-4A64-9828-46A68797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310CA-EB9C-41EF-8F8F-3DE06BD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30C-59B1-4874-8464-AACD50C31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45C9-EFEB-454D-BF95-76663D41BF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D942-963A-45E0-A912-CE11E21C3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710-8B96-4E96-A44D-85E056F839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B2F-7E77-4ED0-AF13-88DB8DE8A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8A0-7C59-4CFA-84D6-D6F2F2734F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EE0-6528-4D98-99A8-D86470C8BB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3C4-3C34-42F9-A7CF-AEB527B331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008-CF26-4571-9778-8F2860F39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D6AF-1935-4DB7-9FCF-DD98705EF9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8BC-3D1A-4B67-9BFC-B11EBC0C9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8F4-F841-45DF-8E88-C50E7E9B26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E5A-44B6-4C91-B18B-05B2FBA2F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D87-D8AE-4697-B61D-A007B78264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CBB-AAAD-4EDB-99A6-03E052513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65A-4ECF-4E09-81D4-322495193D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92E-AFE0-487A-9A14-C65A3F8118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04A-34CF-406D-A26C-4612B29C58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DA9-39DC-472E-BC2E-54FFD2DBD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F6CC-0FF9-4F77-93BF-D693019E4D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6A1-2B7C-4E9E-B563-96CBB1CEF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089-F5DD-435C-9C69-64DF16DD27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B4D-B7D9-42F1-B923-751106A7C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7F8-5D01-4A28-9AA9-5810D197EF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0647-6AE9-4D48-9563-7CC865CC5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2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7.gif"/><Relationship Id="rId50" Type="http://schemas.openxmlformats.org/officeDocument/2006/relationships/image" Target="../media/image8.png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星星的思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star3"/>
          <p:cNvPicPr/>
          <p:nvPr/>
        </p:nvPicPr>
        <p:blipFill>
          <a:blip r:embed="rId2"/>
          <a:stretch/>
        </p:blipFill>
        <p:spPr>
          <a:xfrm>
            <a:off x="67057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star3"/>
          <p:cNvPicPr/>
          <p:nvPr/>
        </p:nvPicPr>
        <p:blipFill>
          <a:blip r:embed="rId3"/>
          <a:stretch/>
        </p:blipFill>
        <p:spPr>
          <a:xfrm>
            <a:off x="27432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star3"/>
          <p:cNvPicPr/>
          <p:nvPr/>
        </p:nvPicPr>
        <p:blipFill>
          <a:blip r:embed="rId4"/>
          <a:stretch/>
        </p:blipFill>
        <p:spPr>
          <a:xfrm>
            <a:off x="4876920" y="533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tar3"/>
          <p:cNvPicPr/>
          <p:nvPr/>
        </p:nvPicPr>
        <p:blipFill>
          <a:blip r:embed="rId5"/>
          <a:stretch/>
        </p:blipFill>
        <p:spPr>
          <a:xfrm>
            <a:off x="3048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ar3"/>
          <p:cNvPicPr/>
          <p:nvPr/>
        </p:nvPicPr>
        <p:blipFill>
          <a:blip r:embed="rId6"/>
          <a:stretch/>
        </p:blipFill>
        <p:spPr>
          <a:xfrm>
            <a:off x="52578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star3"/>
          <p:cNvPicPr/>
          <p:nvPr/>
        </p:nvPicPr>
        <p:blipFill>
          <a:blip r:embed="rId7"/>
          <a:stretch/>
        </p:blipFill>
        <p:spPr>
          <a:xfrm>
            <a:off x="6172200" y="609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star3"/>
          <p:cNvPicPr/>
          <p:nvPr/>
        </p:nvPicPr>
        <p:blipFill>
          <a:blip r:embed="rId8"/>
          <a:stretch/>
        </p:blipFill>
        <p:spPr>
          <a:xfrm>
            <a:off x="41911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star3"/>
          <p:cNvPicPr/>
          <p:nvPr/>
        </p:nvPicPr>
        <p:blipFill>
          <a:blip r:embed="rId9"/>
          <a:stretch/>
        </p:blipFill>
        <p:spPr>
          <a:xfrm>
            <a:off x="68580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star3"/>
          <p:cNvPicPr/>
          <p:nvPr/>
        </p:nvPicPr>
        <p:blipFill>
          <a:blip r:embed="rId10"/>
          <a:stretch/>
        </p:blipFill>
        <p:spPr>
          <a:xfrm>
            <a:off x="64771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star3"/>
          <p:cNvPicPr/>
          <p:nvPr/>
        </p:nvPicPr>
        <p:blipFill>
          <a:blip r:embed="rId11"/>
          <a:stretch/>
        </p:blipFill>
        <p:spPr>
          <a:xfrm>
            <a:off x="6324480" y="1523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star3"/>
          <p:cNvPicPr/>
          <p:nvPr/>
        </p:nvPicPr>
        <p:blipFill>
          <a:blip r:embed="rId12"/>
          <a:stretch/>
        </p:blipFill>
        <p:spPr>
          <a:xfrm>
            <a:off x="61722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star3"/>
          <p:cNvPicPr/>
          <p:nvPr/>
        </p:nvPicPr>
        <p:blipFill>
          <a:blip r:embed="rId13"/>
          <a:stretch/>
        </p:blipFill>
        <p:spPr>
          <a:xfrm>
            <a:off x="5791320" y="1523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star3"/>
          <p:cNvPicPr/>
          <p:nvPr/>
        </p:nvPicPr>
        <p:blipFill>
          <a:blip r:embed="rId14"/>
          <a:stretch/>
        </p:blipFill>
        <p:spPr>
          <a:xfrm>
            <a:off x="70102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star3"/>
          <p:cNvPicPr/>
          <p:nvPr/>
        </p:nvPicPr>
        <p:blipFill>
          <a:blip r:embed="rId15"/>
          <a:stretch/>
        </p:blipFill>
        <p:spPr>
          <a:xfrm>
            <a:off x="563868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star3"/>
          <p:cNvPicPr/>
          <p:nvPr/>
        </p:nvPicPr>
        <p:blipFill>
          <a:blip r:embed="rId16"/>
          <a:stretch/>
        </p:blipFill>
        <p:spPr>
          <a:xfrm>
            <a:off x="50292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8" descr="star3"/>
          <p:cNvPicPr/>
          <p:nvPr/>
        </p:nvPicPr>
        <p:blipFill>
          <a:blip r:embed="rId17"/>
          <a:stretch/>
        </p:blipFill>
        <p:spPr>
          <a:xfrm>
            <a:off x="2590920" y="2362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9" descr="star3"/>
          <p:cNvPicPr/>
          <p:nvPr/>
        </p:nvPicPr>
        <p:blipFill>
          <a:blip r:embed="rId18"/>
          <a:stretch/>
        </p:blipFill>
        <p:spPr>
          <a:xfrm>
            <a:off x="3429000" y="2743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star3"/>
          <p:cNvPicPr/>
          <p:nvPr/>
        </p:nvPicPr>
        <p:blipFill>
          <a:blip r:embed="rId19"/>
          <a:stretch/>
        </p:blipFill>
        <p:spPr>
          <a:xfrm>
            <a:off x="4267080" y="2209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2" name="WordArt 21"/>
          <p:cNvSpPr txBox="1"/>
          <p:nvPr/>
        </p:nvSpPr>
        <p:spPr>
          <a:xfrm>
            <a:off x="971640" y="2492280"/>
            <a:ext cx="6705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宋体"/>
              </a:rPr>
              <a:t>七颗钻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457200" y="457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读一读，讲一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14480" y="1708200"/>
            <a:ext cx="8915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用自己喜欢的方式阅读全文，复述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尽量用简洁的语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五次变化的过程叙述清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219320" y="1616040"/>
            <a:ext cx="152388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生病的母亲找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1752480" y="25909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219320" y="419724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将水省给母亲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886200" y="4191120"/>
            <a:ext cx="152388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倒水给小狗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8954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6553080" y="4197240"/>
            <a:ext cx="18288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母亲让水给小姑娘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095880" y="1600200"/>
            <a:ext cx="228600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姑娘把水让给过路人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WordArt 9"/>
          <p:cNvSpPr txBox="1"/>
          <p:nvPr/>
        </p:nvSpPr>
        <p:spPr>
          <a:xfrm>
            <a:off x="609480" y="609480"/>
            <a:ext cx="3733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五次爱心行动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2520" y="1828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出了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37960" y="3611520"/>
            <a:ext cx="5493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-57960" y="365760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得端端正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木的变成银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54864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64008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银的变成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6"/>
          <p:cNvSpPr/>
          <p:nvPr/>
        </p:nvSpPr>
        <p:spPr>
          <a:xfrm>
            <a:off x="6934320" y="2743200"/>
            <a:ext cx="457200" cy="1219320"/>
          </a:xfrm>
          <a:prstGeom prst="upArrow">
            <a:avLst>
              <a:gd name="adj1" fmla="val 50000"/>
              <a:gd name="adj2" fmla="val 6667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7638480" y="2590920"/>
            <a:ext cx="91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成了星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繁星8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这个童话故事，你有什么疑问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于这些问题，你能解答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0" y="2438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姑娘的水罐为什么会发生这么多的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她的水罐为什么会越变越好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最后作者为什么让水罐变成星座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295280" y="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想一想，议一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5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2286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请根据文章内容将下列排比句补充完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52280" y="24382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珍爱身边的动物，尽我们的所能爱护它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爱心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爱心是毫不犹豫地向需要帮助的陌生人伸出援助之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>
            <a:off x="457200" y="38088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3" descr="daisy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03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star3"/>
          <p:cNvPicPr/>
          <p:nvPr/>
        </p:nvPicPr>
        <p:blipFill>
          <a:blip r:embed="rId2"/>
          <a:stretch/>
        </p:blipFill>
        <p:spPr>
          <a:xfrm>
            <a:off x="2895480" y="1219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star3"/>
          <p:cNvPicPr/>
          <p:nvPr/>
        </p:nvPicPr>
        <p:blipFill>
          <a:blip r:embed="rId3"/>
          <a:stretch/>
        </p:blipFill>
        <p:spPr>
          <a:xfrm>
            <a:off x="175248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star3"/>
          <p:cNvPicPr/>
          <p:nvPr/>
        </p:nvPicPr>
        <p:blipFill>
          <a:blip r:embed="rId4"/>
          <a:stretch/>
        </p:blipFill>
        <p:spPr>
          <a:xfrm>
            <a:off x="6553080" y="914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star3"/>
          <p:cNvPicPr/>
          <p:nvPr/>
        </p:nvPicPr>
        <p:blipFill>
          <a:blip r:embed="rId5"/>
          <a:stretch/>
        </p:blipFill>
        <p:spPr>
          <a:xfrm>
            <a:off x="4419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star3"/>
          <p:cNvPicPr/>
          <p:nvPr/>
        </p:nvPicPr>
        <p:blipFill>
          <a:blip r:embed="rId6"/>
          <a:stretch/>
        </p:blipFill>
        <p:spPr>
          <a:xfrm>
            <a:off x="388620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star3"/>
          <p:cNvPicPr/>
          <p:nvPr/>
        </p:nvPicPr>
        <p:blipFill>
          <a:blip r:embed="rId7"/>
          <a:stretch/>
        </p:blipFill>
        <p:spPr>
          <a:xfrm>
            <a:off x="914400" y="1295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star3"/>
          <p:cNvPicPr/>
          <p:nvPr/>
        </p:nvPicPr>
        <p:blipFill>
          <a:blip r:embed="rId8"/>
          <a:stretch/>
        </p:blipFill>
        <p:spPr>
          <a:xfrm>
            <a:off x="1066680" y="457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star3"/>
          <p:cNvPicPr/>
          <p:nvPr/>
        </p:nvPicPr>
        <p:blipFill>
          <a:blip r:embed="rId9"/>
          <a:stretch/>
        </p:blipFill>
        <p:spPr>
          <a:xfrm>
            <a:off x="2057400" y="304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tar3"/>
          <p:cNvPicPr/>
          <p:nvPr/>
        </p:nvPicPr>
        <p:blipFill>
          <a:blip r:embed="rId10"/>
          <a:stretch/>
        </p:blipFill>
        <p:spPr>
          <a:xfrm>
            <a:off x="28954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3" descr="star3"/>
          <p:cNvPicPr/>
          <p:nvPr/>
        </p:nvPicPr>
        <p:blipFill>
          <a:blip r:embed="rId11"/>
          <a:stretch/>
        </p:blipFill>
        <p:spPr>
          <a:xfrm>
            <a:off x="5257800" y="1295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star3"/>
          <p:cNvPicPr/>
          <p:nvPr/>
        </p:nvPicPr>
        <p:blipFill>
          <a:blip r:embed="rId12"/>
          <a:stretch/>
        </p:blipFill>
        <p:spPr>
          <a:xfrm>
            <a:off x="4267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star3"/>
          <p:cNvPicPr/>
          <p:nvPr/>
        </p:nvPicPr>
        <p:blipFill>
          <a:blip r:embed="rId13"/>
          <a:stretch/>
        </p:blipFill>
        <p:spPr>
          <a:xfrm>
            <a:off x="5334120" y="457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star3"/>
          <p:cNvPicPr/>
          <p:nvPr/>
        </p:nvPicPr>
        <p:blipFill>
          <a:blip r:embed="rId14"/>
          <a:stretch/>
        </p:blipFill>
        <p:spPr>
          <a:xfrm>
            <a:off x="66294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7" descr="star3"/>
          <p:cNvPicPr/>
          <p:nvPr/>
        </p:nvPicPr>
        <p:blipFill>
          <a:blip r:embed="rId15"/>
          <a:stretch/>
        </p:blipFill>
        <p:spPr>
          <a:xfrm>
            <a:off x="609588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star3"/>
          <p:cNvPicPr/>
          <p:nvPr/>
        </p:nvPicPr>
        <p:blipFill>
          <a:blip r:embed="rId16"/>
          <a:stretch/>
        </p:blipFill>
        <p:spPr>
          <a:xfrm>
            <a:off x="365760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9" descr="star3"/>
          <p:cNvPicPr/>
          <p:nvPr/>
        </p:nvPicPr>
        <p:blipFill>
          <a:blip r:embed="rId17"/>
          <a:stretch/>
        </p:blipFill>
        <p:spPr>
          <a:xfrm>
            <a:off x="21337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0" descr="star3"/>
          <p:cNvPicPr/>
          <p:nvPr/>
        </p:nvPicPr>
        <p:blipFill>
          <a:blip r:embed="rId18"/>
          <a:stretch/>
        </p:blipFill>
        <p:spPr>
          <a:xfrm>
            <a:off x="5486400" y="1828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1" descr="star3"/>
          <p:cNvPicPr/>
          <p:nvPr/>
        </p:nvPicPr>
        <p:blipFill>
          <a:blip r:embed="rId19"/>
          <a:stretch/>
        </p:blipFill>
        <p:spPr>
          <a:xfrm>
            <a:off x="7010280" y="1447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2" descr="star3"/>
          <p:cNvPicPr/>
          <p:nvPr/>
        </p:nvPicPr>
        <p:blipFill>
          <a:blip r:embed="rId20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3" descr="star3"/>
          <p:cNvPicPr/>
          <p:nvPr/>
        </p:nvPicPr>
        <p:blipFill>
          <a:blip r:embed="rId21"/>
          <a:stretch/>
        </p:blipFill>
        <p:spPr>
          <a:xfrm>
            <a:off x="30492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4" descr="star3"/>
          <p:cNvPicPr/>
          <p:nvPr/>
        </p:nvPicPr>
        <p:blipFill>
          <a:blip r:embed="rId22"/>
          <a:stretch/>
        </p:blipFill>
        <p:spPr>
          <a:xfrm>
            <a:off x="441972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5" descr="star3"/>
          <p:cNvPicPr/>
          <p:nvPr/>
        </p:nvPicPr>
        <p:blipFill>
          <a:blip r:embed="rId23"/>
          <a:stretch/>
        </p:blipFill>
        <p:spPr>
          <a:xfrm>
            <a:off x="548640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6" descr="star3"/>
          <p:cNvPicPr/>
          <p:nvPr/>
        </p:nvPicPr>
        <p:blipFill>
          <a:blip r:embed="rId24"/>
          <a:stretch/>
        </p:blipFill>
        <p:spPr>
          <a:xfrm>
            <a:off x="7238880" y="25146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7" descr="star3"/>
          <p:cNvPicPr/>
          <p:nvPr/>
        </p:nvPicPr>
        <p:blipFill>
          <a:blip r:embed="rId25"/>
          <a:stretch/>
        </p:blipFill>
        <p:spPr>
          <a:xfrm>
            <a:off x="3505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8" descr="star3"/>
          <p:cNvPicPr/>
          <p:nvPr/>
        </p:nvPicPr>
        <p:blipFill>
          <a:blip r:embed="rId26"/>
          <a:stretch/>
        </p:blipFill>
        <p:spPr>
          <a:xfrm>
            <a:off x="4800600" y="2057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9" descr="star3"/>
          <p:cNvPicPr/>
          <p:nvPr/>
        </p:nvPicPr>
        <p:blipFill>
          <a:blip r:embed="rId27"/>
          <a:stretch/>
        </p:blipFill>
        <p:spPr>
          <a:xfrm>
            <a:off x="2895480" y="2133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0" descr="star3"/>
          <p:cNvPicPr/>
          <p:nvPr/>
        </p:nvPicPr>
        <p:blipFill>
          <a:blip r:embed="rId28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1" descr="star3"/>
          <p:cNvPicPr/>
          <p:nvPr/>
        </p:nvPicPr>
        <p:blipFill>
          <a:blip r:embed="rId29"/>
          <a:stretch/>
        </p:blipFill>
        <p:spPr>
          <a:xfrm>
            <a:off x="3200400" y="457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2" descr="star3"/>
          <p:cNvPicPr/>
          <p:nvPr/>
        </p:nvPicPr>
        <p:blipFill>
          <a:blip r:embed="rId30"/>
          <a:stretch/>
        </p:blipFill>
        <p:spPr>
          <a:xfrm>
            <a:off x="22860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3" descr="star3"/>
          <p:cNvPicPr/>
          <p:nvPr/>
        </p:nvPicPr>
        <p:blipFill>
          <a:blip r:embed="rId31"/>
          <a:stretch/>
        </p:blipFill>
        <p:spPr>
          <a:xfrm>
            <a:off x="46483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4" descr="star3"/>
          <p:cNvPicPr/>
          <p:nvPr/>
        </p:nvPicPr>
        <p:blipFill>
          <a:blip r:embed="rId32"/>
          <a:stretch/>
        </p:blipFill>
        <p:spPr>
          <a:xfrm>
            <a:off x="6248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5" descr="star3"/>
          <p:cNvPicPr/>
          <p:nvPr/>
        </p:nvPicPr>
        <p:blipFill>
          <a:blip r:embed="rId33"/>
          <a:stretch/>
        </p:blipFill>
        <p:spPr>
          <a:xfrm>
            <a:off x="78487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6" descr="star3"/>
          <p:cNvPicPr/>
          <p:nvPr/>
        </p:nvPicPr>
        <p:blipFill>
          <a:blip r:embed="rId34"/>
          <a:stretch/>
        </p:blipFill>
        <p:spPr>
          <a:xfrm>
            <a:off x="9907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7" descr="star3"/>
          <p:cNvPicPr/>
          <p:nvPr/>
        </p:nvPicPr>
        <p:blipFill>
          <a:blip r:embed="rId35"/>
          <a:stretch/>
        </p:blipFill>
        <p:spPr>
          <a:xfrm>
            <a:off x="11430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8" descr="star3"/>
          <p:cNvPicPr/>
          <p:nvPr/>
        </p:nvPicPr>
        <p:blipFill>
          <a:blip r:embed="rId36"/>
          <a:stretch/>
        </p:blipFill>
        <p:spPr>
          <a:xfrm>
            <a:off x="266688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9" descr="star3"/>
          <p:cNvPicPr/>
          <p:nvPr/>
        </p:nvPicPr>
        <p:blipFill>
          <a:blip r:embed="rId37"/>
          <a:stretch/>
        </p:blipFill>
        <p:spPr>
          <a:xfrm>
            <a:off x="2819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0" descr="star3"/>
          <p:cNvPicPr/>
          <p:nvPr/>
        </p:nvPicPr>
        <p:blipFill>
          <a:blip r:embed="rId38"/>
          <a:stretch/>
        </p:blipFill>
        <p:spPr>
          <a:xfrm>
            <a:off x="29718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1" descr="star3"/>
          <p:cNvPicPr/>
          <p:nvPr/>
        </p:nvPicPr>
        <p:blipFill>
          <a:blip r:embed="rId39"/>
          <a:stretch/>
        </p:blipFill>
        <p:spPr>
          <a:xfrm>
            <a:off x="71629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2" descr="star3"/>
          <p:cNvPicPr/>
          <p:nvPr/>
        </p:nvPicPr>
        <p:blipFill>
          <a:blip r:embed="rId40"/>
          <a:stretch/>
        </p:blipFill>
        <p:spPr>
          <a:xfrm>
            <a:off x="39625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3" descr="star3"/>
          <p:cNvPicPr/>
          <p:nvPr/>
        </p:nvPicPr>
        <p:blipFill>
          <a:blip r:embed="rId41"/>
          <a:stretch/>
        </p:blipFill>
        <p:spPr>
          <a:xfrm>
            <a:off x="26668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4" descr="star3"/>
          <p:cNvPicPr/>
          <p:nvPr/>
        </p:nvPicPr>
        <p:blipFill>
          <a:blip r:embed="rId42"/>
          <a:stretch/>
        </p:blipFill>
        <p:spPr>
          <a:xfrm>
            <a:off x="1600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5" descr="star3"/>
          <p:cNvPicPr/>
          <p:nvPr/>
        </p:nvPicPr>
        <p:blipFill>
          <a:blip r:embed="rId43"/>
          <a:stretch/>
        </p:blipFill>
        <p:spPr>
          <a:xfrm>
            <a:off x="6553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6" descr="star3"/>
          <p:cNvPicPr/>
          <p:nvPr/>
        </p:nvPicPr>
        <p:blipFill>
          <a:blip r:embed="rId44"/>
          <a:stretch/>
        </p:blipFill>
        <p:spPr>
          <a:xfrm>
            <a:off x="6781680" y="53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7" descr="star3"/>
          <p:cNvPicPr/>
          <p:nvPr/>
        </p:nvPicPr>
        <p:blipFill>
          <a:blip r:embed="rId45"/>
          <a:stretch/>
        </p:blipFill>
        <p:spPr>
          <a:xfrm>
            <a:off x="8305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8" descr="star3"/>
          <p:cNvPicPr/>
          <p:nvPr/>
        </p:nvPicPr>
        <p:blipFill>
          <a:blip r:embed="rId46"/>
          <a:stretch/>
        </p:blipFill>
        <p:spPr>
          <a:xfrm>
            <a:off x="73915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9" descr="star3"/>
          <p:cNvPicPr/>
          <p:nvPr/>
        </p:nvPicPr>
        <p:blipFill>
          <a:blip r:embed="rId47"/>
          <a:stretch/>
        </p:blipFill>
        <p:spPr>
          <a:xfrm>
            <a:off x="82296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0" descr="star3"/>
          <p:cNvPicPr/>
          <p:nvPr/>
        </p:nvPicPr>
        <p:blipFill>
          <a:blip r:embed="rId48"/>
          <a:stretch/>
        </p:blipFill>
        <p:spPr>
          <a:xfrm>
            <a:off x="853452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4419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幼圆"/>
              </a:rPr>
              <a:t>爱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的</a:t>
            </a:r>
            <a:r>
              <a:rPr b="1" i="1" lang="zh-CN" sz="5400" spc="-1" strike="noStrike">
                <a:solidFill>
                  <a:srgbClr val="3399ff"/>
                </a:solidFill>
                <a:latin typeface="Times New Roman"/>
                <a:ea typeface="幼圆"/>
              </a:rPr>
              <a:t>奉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06080" y="1371240"/>
            <a:ext cx="5170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心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呼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这是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奉献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人间的春风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这是生命的源泉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心的沙漠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在没有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的荒原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死神也望而却步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幸福之花处处开遍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</a:t>
            </a: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只要人人都献出一点</a:t>
            </a:r>
            <a:r>
              <a:rPr b="1" i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爱</a:t>
            </a:r>
            <a:br>
              <a:rPr sz="2000"/>
            </a:b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幼圆"/>
              </a:rPr>
              <a:t>                     世界将变成美好的人间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             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53" descr="023"/>
          <p:cNvPicPr/>
          <p:nvPr/>
        </p:nvPicPr>
        <p:blipFill>
          <a:blip r:embed="rId49"/>
          <a:stretch/>
        </p:blipFill>
        <p:spPr>
          <a:xfrm>
            <a:off x="7451640" y="105264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632" name="埃的奉献.mp3" descr=""/>
          <p:cNvPicPr/>
          <p:nvPr/>
        </p:nvPicPr>
        <p:blipFill>
          <a:blip r:embed="rId50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船上看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457200" y="3049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95360" y="1447920"/>
            <a:ext cx="842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于七颗钻石里涌出的水，地球上的旱灾解除了，那么小姑娘和她的母亲后来怎样了呢？人们知道了这件事后又是怎样的态度呢？以后是否又发生了什么故事呢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带着这一连串的问题，请同学们发挥自己的想象，为这篇童话故事补写一段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6:40:1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46:1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