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8.gif" ContentType="image/gif"/>
  <Override PartName="/ppt/media/image9.gif" ContentType="image/gif"/>
  <Override PartName="/ppt/media/image10.jpeg" ContentType="image/jpeg"/>
  <Override PartName="/ppt/media/image11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903-3A28-47E1-8C19-098FEC9D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AE65-A08C-4DC8-BD4F-09DA646E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2E9-254F-4C66-9514-69887AA4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F2D-B963-4094-BF50-EF8144A0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02EB-8F0C-42C9-B2F8-4DB5E8FF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E2CA-BA4B-49CD-85E6-09E203BF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F58A-6360-42DE-B234-B2A4FBF8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7754-3354-4002-9012-33C7D29D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08F1-C5F7-4CE4-99F0-609D79AD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A671-E8BD-4D1E-97F2-7BE4C59D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7ED8-C6B9-44A5-A69F-A3A17017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F7ED-F159-4381-8D7F-21440FCA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22B9-8D99-4DDF-AF5E-FE7E1738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0E45-57E2-4693-BC70-BFA7D661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C718-792C-410E-AB7D-A0E43DD8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4145-D721-41F4-B7C5-1D384054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CFB1-CEE2-4CAE-9552-3D2C7B32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0ECB-5FB1-4CCE-BEB1-3FEF5665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1355E-6705-45DE-B574-C9642DDB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B7B43-EDFB-4B63-8D76-32C5927E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9B1CB-67A8-4AF8-A8EF-313E9B11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21BD-D5F3-43BF-B082-FBD8DF08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A98-7800-4499-A324-B03BCEF7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2C689-4164-4E82-877F-E653AF95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475C0-230A-41FD-8E51-30C96734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CF411-75AD-4425-889A-4D038526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9CE37-5804-43EC-9A76-EDC6A610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1A2C9-37B5-4080-87EE-BD4D7BB7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DF0F6-819A-4B6A-B4EA-B92280D6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CAE1E-E485-4A83-BD47-A382BD50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70FA2-3A0A-4E48-A8F9-2DB0534A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75064-AE11-4E84-942D-E613D1F3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156B7-2EB4-4996-BB82-B4FECDA2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10C-644B-4EEE-93D6-03644544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2EC02-0C38-46CF-9135-B692532C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314B2-67F8-4ADF-B3FC-0581A8A7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84449-C00A-4533-98F5-FE760103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F55EF-F626-4D7B-B3EF-0853C5E0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80261-9588-467E-90B9-2BACCD1F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740C6-C7FB-453E-A450-C97F535F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66C2-E9DC-4FE5-9AC8-807A6FDC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0A369-1E3B-4D74-8738-F4D8F2D1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CAE6B-8605-4D2D-AA5E-F5B6026C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1D6-CF6A-4677-BF5C-E807A4BF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B34-73F6-4975-A6A6-7807BBC3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FBB-2725-416E-BD7F-8E9A0E98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FFF-076B-49B2-B907-5C15FE8C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780-6AC8-4EF6-A919-C8744B49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20C4-010B-44FB-84AF-380272102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13D1-B6E6-456F-9947-3FD80D1D1BFD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AutoShape 1028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Line 1029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9826-8CD4-4BF3-BE26-B9B77E0917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050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26" name="AutoShape 2051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333399"/>
                </a:solidFill>
                <a:latin typeface="Verdana"/>
              </a:endParaRPr>
            </a:p>
          </p:txBody>
        </p:sp>
        <p:sp>
          <p:nvSpPr>
            <p:cNvPr id="127" name="AutoShape 2052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1000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99"/>
                </a:solidFill>
                <a:latin typeface="Verdana"/>
              </a:endParaRPr>
            </a:p>
          </p:txBody>
        </p:sp>
        <p:sp>
          <p:nvSpPr>
            <p:cNvPr id="128" name="Line 2053"/>
            <p:cNvSpPr/>
            <p:nvPr/>
          </p:nvSpPr>
          <p:spPr>
            <a:xfrm>
              <a:off x="0" y="121896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333399"/>
                </a:solidFill>
                <a:latin typeface="Verdana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0747-F700-4913-AAD7-A752A2B14A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286,6,&#24187;&#28783;&#29255; 6" TargetMode="External"/><Relationship Id="rId3" Type="http://schemas.openxmlformats.org/officeDocument/2006/relationships/image" Target="../media/image8.gif"/><Relationship Id="rId4" Type="http://schemas.openxmlformats.org/officeDocument/2006/relationships/hyperlink" Target="file:///tmp/home/.config/libreoffice/4/user/gallery/projctor.wav" TargetMode="Externa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288,7,&#24187;&#28783;&#29255; 7" TargetMode="External"/><Relationship Id="rId3" Type="http://schemas.openxmlformats.org/officeDocument/2006/relationships/image" Target="../media/image8.gif"/><Relationship Id="rId4" Type="http://schemas.openxmlformats.org/officeDocument/2006/relationships/hyperlink" Target="file:///tmp/home/.config/libreoffice/4/user/gallery/projctor.wav" TargetMode="External"/><Relationship Id="rId5" Type="http://schemas.openxmlformats.org/officeDocument/2006/relationships/image" Target="../media/image9.gif"/><Relationship Id="rId6" Type="http://schemas.openxmlformats.org/officeDocument/2006/relationships/hyperlink" Target="http://www.eeppt.com/moban/kejian/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291,7,&#24187;&#28783;&#29255; 7" TargetMode="External"/><Relationship Id="rId3" Type="http://schemas.openxmlformats.org/officeDocument/2006/relationships/image" Target="../media/image8.gif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&#38271;&#24449;&#27468;&#26354;.mp3" TargetMode="External"/><Relationship Id="rId3" Type="http://schemas.openxmlformats.org/officeDocument/2006/relationships/hyperlink" Target="&#38271;&#24449;&#27468;&#26354;.mp3" TargetMode="External"/><Relationship Id="rId4" Type="http://schemas.openxmlformats.org/officeDocument/2006/relationships/hyperlink" Target="&#38271;&#24449;&#27468;&#26354;.mp3" TargetMode="External"/><Relationship Id="rId5" Type="http://schemas.openxmlformats.org/officeDocument/2006/relationships/hyperlink" Target="&#38271;&#24449;&#27468;&#26354;.mp3" TargetMode="External"/><Relationship Id="rId6" Type="http://schemas.openxmlformats.org/officeDocument/2006/relationships/hyperlink" Target="&#38271;&#24449;&#27468;&#26354;.mp3" TargetMode="External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1" descr="毛泽东">
            <a:hlinkClick r:id="" action="ppaction://hlinkshowjump?jump=nextslide"/>
            <a:hlinkClick r:id="rId1"/>
          </p:cNvPr>
          <p:cNvPicPr/>
          <p:nvPr/>
        </p:nvPicPr>
        <p:blipFill>
          <a:blip r:embed="rId2">
            <a:lum bright="12000"/>
          </a:blip>
          <a:srcRect l="0" t="5571" r="0" b="0"/>
          <a:stretch/>
        </p:blipFill>
        <p:spPr>
          <a:xfrm>
            <a:off x="0" y="0"/>
            <a:ext cx="9540720" cy="7812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524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9a00"/>
                </a:solidFill>
                <a:latin typeface="隶书"/>
                <a:ea typeface="隶书"/>
              </a:rPr>
              <a:t>七 律  长 征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DigitalMaster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1676520" y="762120"/>
            <a:ext cx="447012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隶书"/>
              </a:rPr>
              <a:t>我读</a:t>
            </a:r>
            <a:r>
              <a:rPr b="1" lang="en-US" sz="5400" spc="-1" strike="noStrike">
                <a:solidFill>
                  <a:srgbClr val="008000"/>
                </a:solidFill>
                <a:latin typeface="Times New Roman"/>
                <a:ea typeface="隶书"/>
              </a:rPr>
              <a:t>《</a:t>
            </a: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隶书"/>
              </a:rPr>
              <a:t>长征</a:t>
            </a:r>
            <a:r>
              <a:rPr b="1" lang="en-US" sz="5400" spc="-1" strike="noStrike">
                <a:solidFill>
                  <a:srgbClr val="008000"/>
                </a:solidFill>
                <a:latin typeface="Times New Roman"/>
                <a:ea typeface="隶书"/>
              </a:rPr>
              <a:t>》</a:t>
            </a:r>
            <a:endParaRPr b="1" lang="en-US" sz="5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403280" y="2133720"/>
            <a:ext cx="65534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自由朗读，读准字音，</a:t>
            </a: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把握节奏，读出感情，</a:t>
            </a: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读出气势。</a:t>
            </a: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75" name="Picture 11" descr="E:\朱元玲\长征课件\2004822211608.gif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ffff"/>
                </a:solidFill>
                <a:latin typeface="Arial"/>
                <a:ea typeface="华文行楷"/>
              </a:rPr>
              <a:t>看 图 配 诗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8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996666"/>
                </a:solidFill>
                <a:uFillTx/>
                <a:latin typeface="Arial"/>
                <a:ea typeface="楷体_GB2312"/>
              </a:rPr>
              <a:t>根据你的理解，给下面的图片配上与课文内容相关的诗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方正舒体"/>
              </a:rPr>
              <a:t>赛一赛，看谁反应快！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夹金山"/>
          <p:cNvPicPr/>
          <p:nvPr/>
        </p:nvPicPr>
        <p:blipFill>
          <a:blip r:embed="rId1"/>
          <a:stretch/>
        </p:blipFill>
        <p:spPr>
          <a:xfrm>
            <a:off x="609480" y="762120"/>
            <a:ext cx="5181840" cy="43434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6229800" y="838080"/>
            <a:ext cx="1010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五岭逶迤腾细浪</a:t>
            </a: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664680" y="914400"/>
            <a:ext cx="1642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9893e"/>
                </a:solidFill>
                <a:latin typeface="Verdana"/>
              </a:rPr>
              <a:t>乌蒙磅礴走泥丸</a:t>
            </a: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35960" y="2286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600"/>
                </a:solidFill>
                <a:latin typeface="Verdana"/>
              </a:rPr>
              <a:t>？</a:t>
            </a:r>
            <a:endParaRPr b="1" lang="en-US" sz="80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82" name="Picture 10" descr="E:\朱元玲\长征课件\136.gif"/>
          <p:cNvPicPr/>
          <p:nvPr/>
        </p:nvPicPr>
        <p:blipFill>
          <a:blip r:embed="rId3"/>
          <a:stretch/>
        </p:blipFill>
        <p:spPr>
          <a:xfrm>
            <a:off x="0" y="0"/>
            <a:ext cx="536400" cy="536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E:\朱元玲\长征课件\20048215523489.gif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520" y="533520"/>
            <a:ext cx="5333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0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4191120" y="1828800"/>
            <a:ext cx="9158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85" name="Picture 6" descr="金沙江"/>
          <p:cNvPicPr/>
          <p:nvPr/>
        </p:nvPicPr>
        <p:blipFill>
          <a:blip r:embed="rId1"/>
          <a:stretch/>
        </p:blipFill>
        <p:spPr>
          <a:xfrm>
            <a:off x="762120" y="990720"/>
            <a:ext cx="4814640" cy="4419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5598000" y="1219320"/>
            <a:ext cx="1642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042e4"/>
                </a:solidFill>
                <a:latin typeface="Verdana"/>
              </a:rPr>
              <a:t>金沙水拍云崖暖</a:t>
            </a: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7525080" y="1219320"/>
            <a:ext cx="10108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万水千山只等闲</a:t>
            </a: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0" y="304920"/>
            <a:ext cx="120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600"/>
                </a:solidFill>
                <a:latin typeface="Verdana"/>
              </a:rPr>
              <a:t>？</a:t>
            </a:r>
            <a:endParaRPr b="1" lang="en-US" sz="80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89" name="Picture 12" descr="E:\朱元玲\长征课件\136.gif"/>
          <p:cNvPicPr/>
          <p:nvPr/>
        </p:nvPicPr>
        <p:blipFill>
          <a:blip r:embed="rId3"/>
          <a:stretch/>
        </p:blipFill>
        <p:spPr>
          <a:xfrm>
            <a:off x="0" y="0"/>
            <a:ext cx="536400" cy="536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E:\朱元玲\长征课件\20048215523489.gif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" y="762120"/>
            <a:ext cx="5029200" cy="4952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4360" y="5661000"/>
            <a:ext cx="7594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ppt</a:t>
            </a:r>
            <a:r>
              <a:rPr b="1" lang="zh-CN" sz="2000" spc="-1" strike="noStrike">
                <a:solidFill>
                  <a:srgbClr val="333399"/>
                </a:solidFill>
                <a:latin typeface="Verdana"/>
              </a:rPr>
              <a:t>课件下载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http://www.eeppt.com/moban/kejian/</a:t>
            </a:r>
            <a:endParaRPr b="1" lang="en-US" sz="20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卢定桥"/>
          <p:cNvPicPr/>
          <p:nvPr/>
        </p:nvPicPr>
        <p:blipFill>
          <a:blip r:embed="rId1"/>
          <a:stretch/>
        </p:blipFill>
        <p:spPr>
          <a:xfrm>
            <a:off x="3962520" y="1143000"/>
            <a:ext cx="4572000" cy="4267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2189520" y="838080"/>
            <a:ext cx="10108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更喜岷山千里雪</a:t>
            </a: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066680" y="838080"/>
            <a:ext cx="489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5280" y="914400"/>
            <a:ext cx="1642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cb41e"/>
                </a:solidFill>
                <a:latin typeface="Verdana"/>
              </a:rPr>
              <a:t>大渡桥横铁索寒</a:t>
            </a: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8496360" y="6424560"/>
            <a:ext cx="647640" cy="433440"/>
          </a:xfrm>
          <a:custGeom>
            <a:avLst/>
            <a:gdLst>
              <a:gd name="textAreaLeft" fmla="*/ 27000 w 647640"/>
              <a:gd name="textAreaRight" fmla="*/ 620640 w 647640"/>
              <a:gd name="textAreaTop" fmla="*/ 27000 h 433440"/>
              <a:gd name="textAreaBottom" fmla="*/ 406440 h 43344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916" y="1350"/>
                </a:lnTo>
                <a:lnTo>
                  <a:pt x="1350" y="135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916" y="20250"/>
                </a:lnTo>
                <a:lnTo>
                  <a:pt x="30916" y="135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0916" y="2025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266" h="21600">
                <a:moveTo>
                  <a:pt x="16133" y="3800"/>
                </a:moveTo>
                <a:lnTo>
                  <a:pt x="18723" y="6425"/>
                </a:lnTo>
                <a:lnTo>
                  <a:pt x="18723" y="4675"/>
                </a:lnTo>
                <a:lnTo>
                  <a:pt x="20508" y="4675"/>
                </a:lnTo>
                <a:lnTo>
                  <a:pt x="20508" y="8210"/>
                </a:lnTo>
                <a:lnTo>
                  <a:pt x="23133" y="10800"/>
                </a:lnTo>
                <a:lnTo>
                  <a:pt x="21470" y="10800"/>
                </a:lnTo>
                <a:lnTo>
                  <a:pt x="21470" y="18028"/>
                </a:lnTo>
                <a:lnTo>
                  <a:pt x="10795" y="18028"/>
                </a:lnTo>
                <a:lnTo>
                  <a:pt x="10795" y="10800"/>
                </a:lnTo>
                <a:lnTo>
                  <a:pt x="9133" y="10800"/>
                </a:lnTo>
                <a:close/>
              </a:path>
              <a:path fill="darkenLess" w="32266" h="21600">
                <a:moveTo>
                  <a:pt x="18723" y="6425"/>
                </a:moveTo>
                <a:lnTo>
                  <a:pt x="18723" y="4675"/>
                </a:lnTo>
                <a:lnTo>
                  <a:pt x="20508" y="4675"/>
                </a:lnTo>
                <a:lnTo>
                  <a:pt x="20508" y="8210"/>
                </a:lnTo>
                <a:close/>
              </a:path>
              <a:path fill="darkenLess" w="32266" h="21600">
                <a:moveTo>
                  <a:pt x="15205" y="14318"/>
                </a:moveTo>
                <a:lnTo>
                  <a:pt x="17060" y="14318"/>
                </a:lnTo>
                <a:lnTo>
                  <a:pt x="17060" y="18028"/>
                </a:lnTo>
                <a:lnTo>
                  <a:pt x="21470" y="18028"/>
                </a:lnTo>
                <a:lnTo>
                  <a:pt x="21470" y="10800"/>
                </a:lnTo>
                <a:lnTo>
                  <a:pt x="10795" y="10800"/>
                </a:lnTo>
                <a:lnTo>
                  <a:pt x="10795" y="18028"/>
                </a:lnTo>
                <a:lnTo>
                  <a:pt x="15205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429000" y="380880"/>
            <a:ext cx="121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600"/>
                </a:solidFill>
                <a:latin typeface="Verdana"/>
              </a:rPr>
              <a:t>？</a:t>
            </a:r>
            <a:endParaRPr b="1" lang="en-US" sz="80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98" name="Picture 8" descr="E:\朱元玲\长征课件\136.gif"/>
          <p:cNvPicPr/>
          <p:nvPr/>
        </p:nvPicPr>
        <p:blipFill>
          <a:blip r:embed="rId3"/>
          <a:stretch/>
        </p:blipFill>
        <p:spPr>
          <a:xfrm>
            <a:off x="152280" y="0"/>
            <a:ext cx="536760" cy="536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E:\朱元玲\长征课件\20048215523489.gif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86200" y="838080"/>
            <a:ext cx="4724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cc0000"/>
                </a:solidFill>
                <a:latin typeface="Verdana"/>
                <a:ea typeface="华文中宋"/>
              </a:rPr>
              <a:t>课后探究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362320"/>
            <a:ext cx="791244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欣赏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《</a:t>
            </a:r>
            <a:r>
              <a:rPr b="0" lang="zh-CN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七律 长征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》</a:t>
            </a:r>
            <a:r>
              <a:rPr b="0" lang="zh-CN" sz="26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歌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000"/>
                </a:solidFill>
                <a:latin typeface="Verdana"/>
              </a:rPr>
              <a:t>魏巍的</a:t>
            </a:r>
            <a:r>
              <a:rPr b="1" lang="en-US" sz="2600" spc="-1" strike="noStrike">
                <a:solidFill>
                  <a:srgbClr val="006000"/>
                </a:solidFill>
                <a:latin typeface="Verdana"/>
              </a:rPr>
              <a:t>《</a:t>
            </a:r>
            <a:r>
              <a:rPr b="1" lang="zh-CN" sz="2600" spc="-1" strike="noStrike">
                <a:solidFill>
                  <a:srgbClr val="006000"/>
                </a:solidFill>
                <a:latin typeface="Verdana"/>
              </a:rPr>
              <a:t>地球的红飘带</a:t>
            </a:r>
            <a:r>
              <a:rPr b="1" lang="en-US" sz="2600" spc="-1" strike="noStrike">
                <a:solidFill>
                  <a:srgbClr val="006000"/>
                </a:solidFill>
                <a:latin typeface="Verdana"/>
              </a:rPr>
              <a:t>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5200"/>
                </a:solidFill>
                <a:latin typeface="宋体"/>
              </a:rPr>
              <a:t>埃德加</a:t>
            </a:r>
            <a:r>
              <a:rPr b="1" lang="en-US" sz="2600" spc="-1" strike="noStrike">
                <a:solidFill>
                  <a:srgbClr val="005200"/>
                </a:solidFill>
                <a:latin typeface="宋体"/>
              </a:rPr>
              <a:t>·</a:t>
            </a:r>
            <a:r>
              <a:rPr b="1" lang="zh-CN" sz="2600" spc="-1" strike="noStrike">
                <a:solidFill>
                  <a:srgbClr val="006000"/>
                </a:solidFill>
                <a:latin typeface="Verdana"/>
              </a:rPr>
              <a:t>斯诺的</a:t>
            </a:r>
            <a:r>
              <a:rPr b="1" lang="en-US" sz="2600" spc="-1" strike="noStrike">
                <a:solidFill>
                  <a:srgbClr val="006000"/>
                </a:solidFill>
                <a:latin typeface="Verdana"/>
              </a:rPr>
              <a:t>《</a:t>
            </a:r>
            <a:r>
              <a:rPr b="1" lang="zh-CN" sz="2600" spc="-1" strike="noStrike">
                <a:solidFill>
                  <a:srgbClr val="006000"/>
                </a:solidFill>
                <a:latin typeface="Verdana"/>
              </a:rPr>
              <a:t>西行漫记</a:t>
            </a:r>
            <a:r>
              <a:rPr b="1" lang="en-US" sz="2600" spc="-1" strike="noStrike">
                <a:solidFill>
                  <a:srgbClr val="006000"/>
                </a:solidFill>
                <a:latin typeface="Verdana"/>
              </a:rPr>
              <a:t>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5" descr="E:\朱元玲\长征课件\2004822428164.gif"/>
          <p:cNvPicPr/>
          <p:nvPr/>
        </p:nvPicPr>
        <p:blipFill>
          <a:blip r:embed="rId7"/>
          <a:stretch/>
        </p:blipFill>
        <p:spPr>
          <a:xfrm>
            <a:off x="518148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02:19:37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4:35:08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