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D16-75C3-4FBC-B178-928BB09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ED7-BB30-4DD6-8D3A-3A613147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59E-4516-409A-AD7A-AD352BF0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48B-FA01-492B-901C-7DCECE98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F6DE-45A3-44FC-AFEC-A18803E0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3396-08B3-45A3-821E-C293B02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57F-2D8D-408A-B23F-65CE8969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341F-A4E1-4734-9B62-0AD97F3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0D2D-375D-42C1-B898-481B260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6AD-D52C-4644-9348-C9E09C7D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472-18B8-49D1-9BF3-1424B86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82D-53D4-4490-9A0A-DCBF5F2E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DD85-88F1-4E45-8EA5-971A5CA2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084-1734-42FC-AF57-E4B8B3E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F623-8778-4AB6-B40F-9E13AE84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5F41-1950-42C1-8CAD-51CAB894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6854-8F12-4EB7-8BBD-11D8B011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F43-D339-4B54-A7A5-DF2616FD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7FF-0C3F-490E-99E4-8838CA0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DB9-FB5E-41B0-BE14-734D2C79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CFB-A668-4712-A1E0-DD237E7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0C3-04DB-41B5-B5FA-AB946D4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F9A-A64B-4175-83E0-93FE64E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844-F265-42E5-A3B6-4B5A392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8B6-1B6C-4990-9CAB-9C3DB0A44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FB6-242A-4FBF-9BD0-5B0500E973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8DEE-D19A-41A6-897B-5FA2D0A3D2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km.exe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3059280" y="2349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3" name="Picture 4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aa"/>
          <p:cNvPicPr/>
          <p:nvPr/>
        </p:nvPicPr>
        <p:blipFill>
          <a:blip r:embed="rId3"/>
          <a:stretch/>
        </p:blipFill>
        <p:spPr>
          <a:xfrm>
            <a:off x="2043000" y="1928880"/>
            <a:ext cx="5043600" cy="3557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"/>
          <p:cNvSpPr/>
          <p:nvPr/>
        </p:nvSpPr>
        <p:spPr>
          <a:xfrm>
            <a:off x="3000240" y="57294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千米（公里）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7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523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47800" y="153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单位的换算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295280" y="28638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  <a:ea typeface="楷体_GB2312"/>
              </a:rPr>
              <a:t>想：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就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371600" y="22543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1" name="Picture 20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1"/>
          <p:cNvSpPr/>
          <p:nvPr/>
        </p:nvSpPr>
        <p:spPr>
          <a:xfrm>
            <a:off x="1295280" y="46926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 Black"/>
                <a:ea typeface="楷体_GB2312"/>
              </a:rPr>
              <a:t>想：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，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里面有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个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就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371600" y="41590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3283200" y="222408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3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3763440" y="4129200"/>
            <a:ext cx="69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1474560" y="1773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做一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143000" y="28177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    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＝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千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8" name="Picture 13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2521440" y="274320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8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479280" y="27432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521440" y="350532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2000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479280" y="35053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9" descr="ds知识拓展"/>
          <p:cNvPicPr/>
          <p:nvPr/>
        </p:nvPicPr>
        <p:blipFill>
          <a:blip r:embed="rId2"/>
          <a:stretch/>
        </p:blipFill>
        <p:spPr>
          <a:xfrm>
            <a:off x="914400" y="1047600"/>
            <a:ext cx="1622520" cy="400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0"/>
          <p:cNvSpPr/>
          <p:nvPr/>
        </p:nvSpPr>
        <p:spPr>
          <a:xfrm>
            <a:off x="3794040" y="1468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巧记进率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81"/>
          <p:cNvSpPr/>
          <p:nvPr/>
        </p:nvSpPr>
        <p:spPr>
          <a:xfrm>
            <a:off x="990720" y="1962000"/>
            <a:ext cx="73911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我们可以这样来记忆长度单位之间的进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率：举起左手，叉开５个手指，小拇指表示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毫米、无名指表示厘米、中指表示分米、食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表示米、大拇指表示千米，从食指到小拇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间的叉开的大小是一样的，表示每相邻的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两个长度单位之间的进率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大拇指与食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指间的距离较大，表示进率比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，是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4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38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