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683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68360" y="17733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企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模板下载免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243684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234936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80808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1T01:00:10Z</dcterms:modified>
  <cp:revision>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NXTAG2">
    <vt:lpwstr>0008008c02000000000001024140</vt:lpwstr>
  </property>
</Properties>
</file>