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gif" ContentType="image/gif"/>
  <Override PartName="/ppt/media/image10.jpeg" ContentType="image/jpeg"/>
  <Override PartName="/ppt/media/image5.jpeg" ContentType="image/jpeg"/>
  <Override PartName="/ppt/media/image26.jpeg" ContentType="image/jpeg"/>
  <Override PartName="/ppt/media/image2.gif" ContentType="image/gif"/>
  <Override PartName="/ppt/media/image29.jpeg" ContentType="image/jpeg"/>
  <Override PartName="/ppt/media/image16.jpeg" ContentType="image/jpeg"/>
  <Override PartName="/ppt/media/chimes.wav" ContentType="audio/x-wav"/>
  <Override PartName="/ppt/media/image22.jpeg" ContentType="image/jpeg"/>
  <Override PartName="/ppt/media/image1.jpeg" ContentType="image/jpeg"/>
  <Override PartName="/ppt/media/image7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gif" ContentType="image/gif"/>
  <Override PartName="/ppt/media/image3.png" ContentType="image/png"/>
  <Override PartName="/ppt/media/image23.gif" ContentType="image/gif"/>
  <Override PartName="/ppt/media/image12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19.png" ContentType="image/png"/>
  <Override PartName="/ppt/media/image20.png" ContentType="image/png"/>
  <Override PartName="/ppt/media/image2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56D-64E8-420C-9D4A-3244EBA3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339-0B80-41D3-8B93-94DDB15C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D48-4DB7-49E3-AB35-9242E86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99E-6C6A-4AE3-9CBF-3B8BCFA8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1F8D-C9C3-4307-91AA-360C3E22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0384-1AAF-491C-A36C-6D2AF09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8D91-AA62-4F6A-AB24-8E29D904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74C-FED1-4BEB-84FA-FECEE9A8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8253-2593-4E6B-B341-DC13A88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ED0B-E3FC-450B-BE43-F9BA8D4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DD7B-B967-4D8E-8FF3-DD59DBC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B2C-8751-4D34-A967-266A2591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5B3A-502F-4F24-9D3F-DF86C3C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03F6-DDBA-464C-A8C5-7338B978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E58F-3B69-4544-9D09-6A6A5D57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8C4-0BB2-4266-A483-F1C89D58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FA0B-C8F6-449D-8E3E-52675B57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121B-AAB2-47C4-8D0A-A3984554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E048-1634-4E2D-A238-DB505A0E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D009-C07E-449E-BD41-4BC8994E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ED52-3466-466E-A754-5412C834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75F2-8DBB-4721-A8EC-FDC6AE02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372-2E5B-4E7E-9A81-D90826CA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AFC1-4564-4FE2-A41F-ABEC5F94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3772-D83E-4562-8F0F-96A28E2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6731-401F-4D5B-8166-9BEC0BB7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2865-31E5-410E-A030-1A4C43B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3250-5597-4FCC-961D-9801B597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5AF7-43B2-4BEB-B346-D0FBDBAE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8689-A327-4F0A-8CA6-1004A5FA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AD0D-43B1-4687-8ADD-24605454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0F34-1EF2-49F5-A44F-C6BC870B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ECDA-7367-434D-B72B-F85E7B42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A5F-6F95-44D3-96EC-BF1BFEBE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5B32-7710-468B-80FB-45032781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7E44-F50C-44EF-937D-4097CD87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A0BE7-4B7F-4C80-AFAE-4EB93AC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029D-2A1F-497E-81AE-AD63471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D32D-99ED-46AE-AC1B-F0418A6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49E0-E41D-4B6F-A252-C51D448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4C1D-32EC-4495-8D8D-E698FA30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310A-D08D-4F12-9B10-F0A0B7E0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24BC-A320-4C9F-B410-0B10332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3CF0-769C-4B68-9E73-E191ABFA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99E-9B50-460D-8355-B420FCD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CDCB4-0C5C-4271-95A1-7FF3F8ED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4CA07-2594-4129-8655-0949CC04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80FDD-46AA-4176-B76D-615C617F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63FE9-4072-4D4D-872A-0CE93A14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806C-2C6C-49A2-8E72-FBBFF452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082A-FC20-49DE-BCA4-E54866D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BD5D-4DC0-4B5A-B9B6-6FE5CE1F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D7D4-8AC0-4395-BDDF-F3D7328E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EEE80-9085-41BA-A50E-F7E10867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0292-5683-465E-A352-1B93D4EA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FEA-8E7F-4CAA-A2A5-F032F52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B47B-C9CA-4474-8827-41692A69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74778-B231-429E-8035-50994C9A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954E-D735-4810-89D8-0CA8E1C0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4E5EE-3CA6-45D7-971F-1E1D312C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B2EB4-FA9F-41EB-BE04-076B4225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759CA-EFF8-4DE4-9CCB-FC7F9B3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CA59-58AA-48E8-8A68-6CB7E5DF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199DD-2BE7-48D4-BBBA-DBB8135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A90CD-F33F-40B5-8A34-A128AB83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74E4-363F-4C86-8E35-3F1E2F5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B53-FE92-4E87-8F21-78CC219E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84AF-5117-4BC2-A261-367D730F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E512-9C00-4FAE-ACEC-3F3BF959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E66B-AAEB-4263-A5BE-222E5895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5DF1E-CA0E-4345-B171-43C4065D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3611-F5EA-4704-951D-B284030D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D78C-120F-49FC-9429-13E890F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517A-DEFD-4A8E-B9C6-1985F02C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7ED0F-0AF7-4B78-8E45-70CF415D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A6D7-261E-440F-AD72-4B29676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6D5E-86C7-415E-99F0-96EBE41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7F6-A0ED-42EF-A99C-BDF328E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EAEF-0A91-417A-B207-5B1D1610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AD309-2DCE-44B3-A44E-4ECC69B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745D-0B09-4935-9371-56E7900D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A948-17B1-4862-829C-5E94010B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B090-67BE-4927-97C9-2E9C9258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D17-F503-44A5-A307-CB2B451C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830-A77A-46F6-AC3B-7FE3129F6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42EB-0D1A-4B10-9629-5F11812C95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08A1-E280-4556-90F4-8AA35ECD353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3A1-A413-416F-B60C-E77A15437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C965-F16C-411B-91F3-8F84BF5670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761-2CE7-4F54-80FE-49A6AE04A2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1873-0A30-4277-B756-77ED94CB29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19EB-4105-40B1-A415-BDE9D0E34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32,24,&#22312;&#25105;&#20204;&#21608;&#22260;&#65292;&#26377;&#30528;&#35768;&#35768;&#22810;&#22810;&#36825;&#26679;&#30340;&#20154;&#8230;&#8230;" TargetMode="Externa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2,7,&#24187;&#28783;&#29255; 7" TargetMode="External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87,18,&#24187;&#28783;&#29255; 18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29,23,&#24187;&#28783;&#29255; 23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u=2257225180,1102011845&amp;fm=0&amp;gp=0"/>
          <p:cNvPicPr/>
          <p:nvPr/>
        </p:nvPicPr>
        <p:blipFill>
          <a:blip r:embed="rId2"/>
          <a:stretch/>
        </p:blipFill>
        <p:spPr>
          <a:xfrm>
            <a:off x="1332000" y="0"/>
            <a:ext cx="6491160" cy="68486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1116000" y="1989000"/>
            <a:ext cx="676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，最宝贵的东西是生命。生命属于人只有一次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——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奥斯特洛夫斯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纯音乐 - 回家 精品萨克斯 纯音乐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720" y="587844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57160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684360" y="256536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每个人的生命都是有价值的。实现人生的意义，追求生命的价值，要脚踏实地，从现在做起，从一点一滴的小事做起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多为社会做贡献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多为别人带来快乐和幸福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24000" y="693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肯定自己的生命，实现人生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6360" y="1125360"/>
            <a:ext cx="910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如果没有这些人为我们的付出，我们的生活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324000" y="2602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2261160" y="477720"/>
            <a:ext cx="14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"/>
              </a:rPr>
              <a:t>说一说：</a:t>
            </a:r>
            <a:r>
              <a:rPr b="1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684360" y="2060640"/>
            <a:ext cx="722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每个人对国家、社会和他人都有价值。在肯定自己的价值、珍爱自己生命的同时，我们应该肯定他人的价值、尊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他人的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426040" y="69372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肯定他人价值，尊重他人生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-20520" y="1486080"/>
            <a:ext cx="920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比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次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意外事故中眼睛受了伤，视力不断下降，几个月后将完全失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妻子为了给他能见到光明的日子里留下点什么，决定把家具和墙壁粉刷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油漆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很认真。他虽是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断了半只胳膊的残疾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他很快乐，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一边干活一边吹着口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一个星期后他完成了粉刷工作，其间也知道了比尔的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尔对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油漆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：“你天天那么开心，也让我感到高兴。”算工钱时，油漆匠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少算了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美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尔不解：“你少算了工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油漆匠说：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我已经多拿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一个即将失明的人还这么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平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你让我知道了什么叫勇气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比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坚持要再给油漆匠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美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他说：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我知道了残疾人也可以自食其力，活得很快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556000" y="477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尔和油漆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324000" y="2602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36360" y="1270080"/>
            <a:ext cx="921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快乐的生活从悦纳生命开始。世界上没有十全十美的生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肯定、尊重、悦纳、珍爱自己生命的同时，也应同样善待他人的生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自己的生命受到威胁时不轻言放弃，不丧失生的希望；当他人的生命遭遇困境需要帮助时，尽自己的努力援助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770200" y="26028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悦纳自己，善待别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93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悦纳自己，善待他人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生命强者－半截人"/>
          <p:cNvPicPr/>
          <p:nvPr/>
        </p:nvPicPr>
        <p:blipFill>
          <a:blip r:embed="rId2"/>
          <a:stretch/>
        </p:blipFill>
        <p:spPr>
          <a:xfrm>
            <a:off x="250920" y="1268280"/>
            <a:ext cx="2050920" cy="2376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残疾运2"/>
          <p:cNvPicPr/>
          <p:nvPr/>
        </p:nvPicPr>
        <p:blipFill>
          <a:blip r:embed="rId3"/>
          <a:stretch/>
        </p:blipFill>
        <p:spPr>
          <a:xfrm>
            <a:off x="2627280" y="1268280"/>
            <a:ext cx="1625760" cy="2376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捐款者"/>
          <p:cNvPicPr/>
          <p:nvPr/>
        </p:nvPicPr>
        <p:blipFill>
          <a:blip r:embed="rId4"/>
          <a:stretch/>
        </p:blipFill>
        <p:spPr>
          <a:xfrm>
            <a:off x="4427640" y="1268280"/>
            <a:ext cx="1942920" cy="2303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残疾修车"/>
          <p:cNvPicPr/>
          <p:nvPr/>
        </p:nvPicPr>
        <p:blipFill>
          <a:blip r:embed="rId5"/>
          <a:stretch/>
        </p:blipFill>
        <p:spPr>
          <a:xfrm>
            <a:off x="6588000" y="1197000"/>
            <a:ext cx="2340000" cy="2519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千手"/>
          <p:cNvPicPr/>
          <p:nvPr/>
        </p:nvPicPr>
        <p:blipFill>
          <a:blip r:embed="rId6"/>
          <a:stretch/>
        </p:blipFill>
        <p:spPr>
          <a:xfrm>
            <a:off x="395280" y="407664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舞蹈1"/>
          <p:cNvPicPr/>
          <p:nvPr/>
        </p:nvPicPr>
        <p:blipFill>
          <a:blip r:embed="rId7"/>
          <a:stretch/>
        </p:blipFill>
        <p:spPr>
          <a:xfrm>
            <a:off x="2843280" y="414828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震中女孩"/>
          <p:cNvPicPr/>
          <p:nvPr/>
        </p:nvPicPr>
        <p:blipFill>
          <a:blip r:embed="rId8"/>
          <a:stretch/>
        </p:blipFill>
        <p:spPr>
          <a:xfrm>
            <a:off x="5867280" y="4076640"/>
            <a:ext cx="2522520" cy="244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"/>
          <p:cNvSpPr/>
          <p:nvPr/>
        </p:nvSpPr>
        <p:spPr>
          <a:xfrm>
            <a:off x="324000" y="364500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命强者－半截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556000" y="37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命的运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4067280" y="37162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残疾捐款者－令世人动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7093080" y="371628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残疾人用脚修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2008440" y="436572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残疾人舞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8102880" y="4437000"/>
            <a:ext cx="7902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废墟上的微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1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501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1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2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502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丛飞放歌廉江首届红橙旅游文化节"/>
          <p:cNvPicPr/>
          <p:nvPr/>
        </p:nvPicPr>
        <p:blipFill>
          <a:blip r:embed="rId2"/>
          <a:stretch/>
        </p:blipFill>
        <p:spPr>
          <a:xfrm>
            <a:off x="826920" y="0"/>
            <a:ext cx="7345440" cy="48927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1979640" y="508464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感动中国的“丛飞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900000" y="5877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让我们一起走进“丛飞”的故事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3492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88" name="WordArt 3"/>
          <p:cNvSpPr txBox="1"/>
          <p:nvPr/>
        </p:nvSpPr>
        <p:spPr>
          <a:xfrm>
            <a:off x="684360" y="0"/>
            <a:ext cx="158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感想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187280" y="1989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命的意义不在于长短，而在于它的内涵（它对社会作出的贡献）。丛飞的生命虽然短暂，却迸发出最灿烂的光彩。因为他心中有爱。生命的价值通过爱的奉献在不断地延伸着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2843280" y="1700280"/>
            <a:ext cx="5759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说说：还有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哪些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奉献他人或社会让自己的生命价值得到最大的体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916360" y="4653000"/>
            <a:ext cx="57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1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8864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900000" y="2638440"/>
            <a:ext cx="62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最想说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u=2257225180,1102011845&amp;fm=0&amp;gp=0"/>
          <p:cNvPicPr/>
          <p:nvPr/>
        </p:nvPicPr>
        <p:blipFill>
          <a:blip r:embed="rId2"/>
          <a:stretch/>
        </p:blipFill>
        <p:spPr>
          <a:xfrm>
            <a:off x="1332000" y="0"/>
            <a:ext cx="6491160" cy="68486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1116000" y="1989000"/>
            <a:ext cx="676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，最宝贵的东西是生命。生命属于人只有一次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——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奥斯特洛夫斯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260360" y="1701720"/>
            <a:ext cx="6405840" cy="990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的生命箴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u=4157128554,1532326257&amp;fm=0&amp;gp=0"/>
          <p:cNvPicPr/>
          <p:nvPr/>
        </p:nvPicPr>
        <p:blipFill>
          <a:blip r:embed="rId2"/>
          <a:stretch/>
        </p:blipFill>
        <p:spPr>
          <a:xfrm>
            <a:off x="36360" y="44280"/>
            <a:ext cx="9072720" cy="6626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4"/>
          <p:cNvSpPr/>
          <p:nvPr/>
        </p:nvSpPr>
        <p:spPr>
          <a:xfrm>
            <a:off x="1189080" y="693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生命箴言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1044720" y="1773360"/>
            <a:ext cx="64069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绝不只是绿叶簇拥红花的荣耀，更多的是在荆棘杂草中远征的苦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的内涵在于进取，生命的意义在于拼搏！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珍惜生命不在于苟且偷安、饱食终日而碌碌无为，这无异于慢性自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的人死了，他还活着；有的人活着，他已经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的意义在于对社会的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[]星空-理查德. 克莱德曼.mp3" descr="[]星空-理查德"/>
          <p:cNvPicPr/>
          <p:nvPr/>
        </p:nvPicPr>
        <p:blipFill>
          <a:blip r:embed="rId9"/>
          <a:stretch/>
        </p:blipFill>
        <p:spPr>
          <a:xfrm>
            <a:off x="6518160" y="639720"/>
            <a:ext cx="5749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3234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10121223221750"/>
          <p:cNvPicPr/>
          <p:nvPr/>
        </p:nvPicPr>
        <p:blipFill>
          <a:blip r:embed="rId2"/>
          <a:srcRect l="0" t="0" r="0" b="117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0" y="49320"/>
            <a:ext cx="914400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生命赞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是幼小还是老迈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是健康还是病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生命              对你都是一首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家住平原还是山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务工务农还是兵哥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生命              对你都是一首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小溪才有欢波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山野才有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天空才有气象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大地才有蓬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遭遇天塌或是地陷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遭遇冰雪或是洪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深陷危机或是病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深陷疲劳或是困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千万千万         不要放弃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请伸出一只奋争的手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用力指向苍天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将生命的旋律顽强弹拨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只要你相信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阳光总在风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生 命      对你就是最美的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怒放的生命.mp3" descr="怒放的生命"/>
          <p:cNvPicPr/>
          <p:nvPr/>
        </p:nvPicPr>
        <p:blipFill>
          <a:blip r:embed="rId3"/>
          <a:stretch/>
        </p:blipFill>
        <p:spPr>
          <a:xfrm>
            <a:off x="395280" y="566100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0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0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0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40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0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40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40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40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40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400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00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00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40000" fill="hold"/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00" fill="hold"/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40000" fill="hold"/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00" fill="hold"/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0000" fill="hold"/>
                                        <p:tgtEl>
                                          <p:spTgt spid="4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00" fill="hold"/>
                                        <p:tgtEl>
                                          <p:spTgt spid="4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40000" fill="hold"/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00" fill="hold"/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40000" fill="hold"/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0000" fill="hold"/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40000" fill="hold"/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00" fill="hold"/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0000" fill="hold"/>
                                        <p:tgtEl>
                                          <p:spTgt spid="4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00" fill="hold"/>
                                        <p:tgtEl>
                                          <p:spTgt spid="4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40000" fill="hold"/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00" fill="hold"/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40000" fill="hold"/>
                                        <p:tgtEl>
                                          <p:spTgt spid="4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00" fill="hold"/>
                                        <p:tgtEl>
                                          <p:spTgt spid="4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0000" fill="hold"/>
                                        <p:tgtEl>
                                          <p:spTgt spid="4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00" fill="hold"/>
                                        <p:tgtEl>
                                          <p:spTgt spid="4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0000" fill="hold"/>
                                        <p:tgtEl>
                                          <p:spTgt spid="4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00" fill="hold"/>
                                        <p:tgtEl>
                                          <p:spTgt spid="4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275486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13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xinsrc_08050102144864022685"/>
          <p:cNvPicPr/>
          <p:nvPr/>
        </p:nvPicPr>
        <p:blipFill>
          <a:blip r:embed="rId3"/>
          <a:stretch/>
        </p:blipFill>
        <p:spPr>
          <a:xfrm>
            <a:off x="3276720" y="2997360"/>
            <a:ext cx="2743200" cy="30477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3708360" y="1125360"/>
            <a:ext cx="3960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-34920" y="189000"/>
            <a:ext cx="9142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※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.O.S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是国际莫尔斯电码救难信号，并非任何单字的缩写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国际无线电报公约组织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正式将它确定为国际通用海难求救信号。这三个字母组合没有任何实际意义，只是因为它的电码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...---..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（三个圆点，三个破折号，然后再加三个圆点）在电报中是发报方最容易发出，接报方最容易辨识的电码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送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（一）通用远程表达方式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救方式一：发出声响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，三短三长三短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(. . . _ _ _ . . .)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莫尔斯电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救方式二：灯光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，如手电，三短三长三短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开关灯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其他方法：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火（生三堆火，使之围成三角形（国际通用的受困信号），或者排成直线，每堆火之间相距大约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码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23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米）。  烟  （白天可以用烟来吸引注意力。国际通用的受困信号是三柱烟。）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 M18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号枪     星状伞投信号弹    反光镜或闪光物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K-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型信号镜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S-1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号布板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手电筒或闪光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（晚上你可以使用手电筒或闪光灯向飞机发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O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号。使用频闪闪光灯时，小心不要让飞行员误认为是袭来的枪弹。频闪闪光灯一分钟闪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。有些频闪闪光灯有红外线外罩和镜头。 ）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衣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将衣服放在地上或者放在树顶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也是一种发信号的方法。选择那些和周围颜色对比明显的物品，将它们排成大大的几何图案，这样它们更容易吸引注意力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然材料：如，你可以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堆一些可以投射阴影的土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或者可以利用任何类型的灌木、树叶、岩石或者雪块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 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海水染色剂：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如果你处在水上求生的困境中，可以在白天使用海水染色剂来标识自己的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我们周围，有着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2"/>
              </a:rPr>
              <a:t>许许多多这样的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828720" y="1270080"/>
            <a:ext cx="2093760" cy="2149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4"/>
          <a:stretch/>
        </p:blipFill>
        <p:spPr>
          <a:xfrm>
            <a:off x="3708360" y="127008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5"/>
          <a:stretch/>
        </p:blipFill>
        <p:spPr>
          <a:xfrm>
            <a:off x="828720" y="4006800"/>
            <a:ext cx="2016000" cy="2305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6"/>
          <a:stretch/>
        </p:blipFill>
        <p:spPr>
          <a:xfrm>
            <a:off x="6734160" y="1270080"/>
            <a:ext cx="2160720" cy="2374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7"/>
          <a:stretch/>
        </p:blipFill>
        <p:spPr>
          <a:xfrm>
            <a:off x="6734160" y="4079880"/>
            <a:ext cx="2160720" cy="2232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"/>
          <p:cNvPicPr/>
          <p:nvPr/>
        </p:nvPicPr>
        <p:blipFill>
          <a:blip r:embed="rId8"/>
          <a:stretch/>
        </p:blipFill>
        <p:spPr>
          <a:xfrm>
            <a:off x="3708360" y="4006800"/>
            <a:ext cx="2232000" cy="2303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9"/>
          <p:cNvSpPr/>
          <p:nvPr/>
        </p:nvSpPr>
        <p:spPr>
          <a:xfrm>
            <a:off x="900000" y="3357720"/>
            <a:ext cx="19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面无私”的现代包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长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564000" y="357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爱千秋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谭千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6661080" y="37180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香港“义工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福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468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乡村最美女校长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852720" y="6381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神兵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何祥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7165800" y="6310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姐姐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刘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forum13_f_140_107969914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19320" y="457200"/>
            <a:ext cx="4354560" cy="558648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328" name="Text Box 3"/>
          <p:cNvSpPr/>
          <p:nvPr/>
        </p:nvSpPr>
        <p:spPr>
          <a:xfrm>
            <a:off x="5718960" y="457200"/>
            <a:ext cx="20091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让生命之花绽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天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夜绝地求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000" y="2133720"/>
            <a:ext cx="91458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两名矿工王仁兴和张继发井下突遇矿井塌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困井下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但身陷绝境的他们并没有因此放弃生的希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在井下互相打气还说：“我们有信心活着坚持下去，我们就一定能活着出去。没有吃没有喝的我们都不怕，怕的是我们自己没有信心。只要坚持就一定有希望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后，他们终于获救了，创造了生命的奇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思考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这则故事最感动你的地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2771640" cy="2075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图片4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19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76360" y="693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00"/>
                </a:solidFill>
                <a:latin typeface="Arial"/>
              </a:rPr>
              <a:t>永不放弃生的希望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4" name="Picture 3" descr="00"/>
          <p:cNvPicPr/>
          <p:nvPr/>
        </p:nvPicPr>
        <p:blipFill>
          <a:blip r:embed="rId2"/>
          <a:stretch/>
        </p:blipFill>
        <p:spPr>
          <a:xfrm>
            <a:off x="0" y="0"/>
            <a:ext cx="4653000" cy="11653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1260360" y="2638440"/>
            <a:ext cx="40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界因生命而精彩。珍爱生命的人，无论何时何地，无论遇到多大的挫折，都不会轻易放弃生的希望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36360" y="765000"/>
            <a:ext cx="9144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生命考场－求生小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请快速说出下列电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警电话             急救电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火警电话             交通事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5005440" y="1486080"/>
            <a:ext cx="4105080" cy="2670120"/>
          </a:xfrm>
          <a:prstGeom prst="cloudCallout">
            <a:avLst>
              <a:gd name="adj1" fmla="val 26578"/>
              <a:gd name="adj2" fmla="val 7373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报警常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64000" y="2205000"/>
            <a:ext cx="381816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确认对方的身份，以防打错电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说清事情发生的详细地址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说清需急救者目前的具体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403280" y="29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40328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708360" y="25653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708000" y="2925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169280" y="4726080"/>
            <a:ext cx="4288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在紧急情况下怎样呼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468360" y="5661000"/>
            <a:ext cx="69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声呼救、电话求救、发出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救信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知道突遇下列情况时该怎样自救或互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如果你单身在家，遇到陌生人来敲门，你的正确做法是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(          )</a:t>
            </a:r>
            <a:br>
              <a:rPr sz="3600"/>
            </a:b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A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不开门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打电话给父母</a:t>
            </a:r>
            <a:br>
              <a:rPr sz="3200"/>
            </a:b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有礼貌地请他进门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告诉他父母马上就回家</a:t>
            </a:r>
            <a:br>
              <a:rPr sz="3200"/>
            </a:b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电闪雷鸣之际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应采取怎样的措施免遭雷击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(          )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立即去掉身上带的钥匙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小刀等金属物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如在高山上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应快速跑向低洼的地方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避免高大的树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建筑物等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回家立刻换掉身上的湿衣服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068720" y="141300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11600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遇到溺水者你能做到的是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A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跳入水中救助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大声呼救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协助做人工呼吸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拨打求助电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如果你打开家门时，发现家中煤气轻微泄漏，你的正确做法是立即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开窗通风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开灯检查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点燃煤气灶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关闭煤气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楼房着大火了，你该怎么办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拿上贵重物品逃生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从高层阳台跳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披上浸湿的衣物、被褥等向安全出口方向冲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尽量使身体贴近地面，并用湿毛巾捂住口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940360" y="333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01344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6516720" y="4149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396720" y="119700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Arial"/>
              </a:rPr>
              <a:t>我能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母很辛苦，我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同桌学习不如我，我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的嗓子嘶哑，我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公共场合，看见有人起哄，我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灾区的小朋友遇到困难，我可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奥运来临，我可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403280" y="404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324000" y="2602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1:19:2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2:0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9211000000000001024120</vt:lpwstr>
  </property>
</Properties>
</file>