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11.jpeg" ContentType="image/jpeg"/>
  <Override PartName="/ppt/media/image9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8C7-1B6B-4CC5-B03D-DC881F7C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8BA-AE6E-4954-8FEA-E2C29473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780-1580-4F54-810C-7BD94BC5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248-08CF-49F6-B8A2-578426F3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6552-0D6F-43C0-B442-ED624E17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D752-17BC-4A53-84B6-80F803C3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14FA-2782-42D0-BDC5-44659ED5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AC29-C88A-448C-AE0D-4539C085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E262-612C-470D-96D5-540069E1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C79E-F2BF-4BEA-BB9E-1299DC35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6899-75FA-439C-8A88-9FFEDB5D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7E6-9C27-4A94-8E7C-E0EFB0E6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4A0A-75B2-4C24-9D82-9D9C6E39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3D4B-CEC8-4438-A5CD-F13DA023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0900-CAF3-43B0-A430-AE6873B9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2CA0-E3B3-4033-A004-6946556A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B916-DC24-4FF3-8622-18603B0B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41B-C3BA-4D88-8D2B-62763BB6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A72-252C-4E87-8071-4C0789F3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CAE-092D-4B65-97A6-5301090F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FC8-C795-4051-B8D7-80936438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227-00FA-49F7-9BA4-A8508C45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C46-48A7-4B44-BFFB-998B7878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78F-F9C1-478D-BC39-4117EB99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583F-FDFD-444A-92E1-210DC0022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68AD-88A3-42F9-88E9-B8F86F874B3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029D-4155-4F75-ADB2-24BA159592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D:\鲍红芳\图片\20049718442039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914400" y="160020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3"/>
          <p:cNvSpPr txBox="1"/>
          <p:nvPr/>
        </p:nvSpPr>
        <p:spPr>
          <a:xfrm>
            <a:off x="1523880" y="1371600"/>
            <a:ext cx="441972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成长的经历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514600" y="375444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  <a:ea typeface="华文中宋"/>
              </a:rPr>
              <a:t>执教：黄山市黄山学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  <a:ea typeface="华文中宋"/>
              </a:rPr>
              <a:t>                 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  <a:ea typeface="华文中宋"/>
              </a:rPr>
              <a:t>吴燕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08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1" descr="D:\鲍红芳\图片\200466124852643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2"/>
          <p:cNvSpPr/>
          <p:nvPr/>
        </p:nvSpPr>
        <p:spPr>
          <a:xfrm>
            <a:off x="1001880" y="2021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2286000" y="21337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 flipV="1">
            <a:off x="2895480" y="2207520"/>
            <a:ext cx="47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1676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429000" y="21337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4"/>
          <p:cNvSpPr/>
          <p:nvPr/>
        </p:nvSpPr>
        <p:spPr>
          <a:xfrm>
            <a:off x="426708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4800600" y="21337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1017720" y="2843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17524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9"/>
          <p:cNvSpPr/>
          <p:nvPr/>
        </p:nvSpPr>
        <p:spPr>
          <a:xfrm>
            <a:off x="2286000" y="28954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3429000" y="28954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1"/>
          <p:cNvSpPr/>
          <p:nvPr/>
        </p:nvSpPr>
        <p:spPr>
          <a:xfrm>
            <a:off x="4800600" y="28195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3429000" y="44956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3"/>
          <p:cNvSpPr/>
          <p:nvPr/>
        </p:nvSpPr>
        <p:spPr>
          <a:xfrm>
            <a:off x="2286000" y="44956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4"/>
          <p:cNvSpPr/>
          <p:nvPr/>
        </p:nvSpPr>
        <p:spPr>
          <a:xfrm>
            <a:off x="2286000" y="3733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5"/>
          <p:cNvSpPr/>
          <p:nvPr/>
        </p:nvSpPr>
        <p:spPr>
          <a:xfrm>
            <a:off x="4800600" y="3733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6"/>
          <p:cNvSpPr/>
          <p:nvPr/>
        </p:nvSpPr>
        <p:spPr>
          <a:xfrm>
            <a:off x="3429000" y="3733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7"/>
          <p:cNvSpPr/>
          <p:nvPr/>
        </p:nvSpPr>
        <p:spPr>
          <a:xfrm>
            <a:off x="4800600" y="44956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0"/>
          <p:cNvSpPr/>
          <p:nvPr/>
        </p:nvSpPr>
        <p:spPr>
          <a:xfrm>
            <a:off x="42670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1"/>
          <p:cNvSpPr/>
          <p:nvPr/>
        </p:nvSpPr>
        <p:spPr>
          <a:xfrm>
            <a:off x="1017720" y="3581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2"/>
          <p:cNvSpPr/>
          <p:nvPr/>
        </p:nvSpPr>
        <p:spPr>
          <a:xfrm>
            <a:off x="914400" y="4343400"/>
            <a:ext cx="6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3"/>
          <p:cNvSpPr/>
          <p:nvPr/>
        </p:nvSpPr>
        <p:spPr>
          <a:xfrm>
            <a:off x="2896920" y="3657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4"/>
          <p:cNvSpPr/>
          <p:nvPr/>
        </p:nvSpPr>
        <p:spPr>
          <a:xfrm>
            <a:off x="2896920" y="4419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7"/>
          <p:cNvSpPr/>
          <p:nvPr/>
        </p:nvSpPr>
        <p:spPr>
          <a:xfrm>
            <a:off x="1752480" y="4038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8"/>
          <p:cNvSpPr/>
          <p:nvPr/>
        </p:nvSpPr>
        <p:spPr>
          <a:xfrm>
            <a:off x="167652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9"/>
          <p:cNvSpPr/>
          <p:nvPr/>
        </p:nvSpPr>
        <p:spPr>
          <a:xfrm>
            <a:off x="42670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0"/>
          <p:cNvSpPr/>
          <p:nvPr/>
        </p:nvSpPr>
        <p:spPr>
          <a:xfrm>
            <a:off x="426708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52"/>
          <p:cNvSpPr txBox="1"/>
          <p:nvPr/>
        </p:nvSpPr>
        <p:spPr>
          <a:xfrm>
            <a:off x="1219320" y="762120"/>
            <a:ext cx="4647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加加减减变成谁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8" descr="D:\吴燕琦\课件图片\u=814724292,730997862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1676520" y="380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华文彩云"/>
              </a:rPr>
              <a:t>让我们荡起双桨</a:t>
            </a: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华文彩云"/>
              </a:rPr>
              <a:t>（让我们放声歌唱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822240" y="1697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685800" y="990720"/>
            <a:ext cx="3657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让我们荡起双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小船儿推开波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海面上倒映着美丽的白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四周环绕着绿树红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小船儿轻轻漂荡在水中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迎面吹来了凉爽的风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362320" y="42670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做 完 了 一 天 的 功 课，                                        我 们 来 尽 情 欢 乐，                                           我 问 你 亲 爱 的 伙 伴，                                      谁 给 我 们 安 排 下 幸 福 的生活？                   小 船 儿 轻 轻 飘 荡 在 水 中，                                    迎 面 吹 来 了 凉 爽 的 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952880" y="10666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红领巾迎着太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阳光洒在海面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水中鱼儿望着我们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悄悄地听我们愉快歌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小船儿轻轻飘荡在水中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迎面吹来了凉爽的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1.mp3" descr=""/>
          <p:cNvPicPr/>
          <p:nvPr/>
        </p:nvPicPr>
        <p:blipFill>
          <a:blip r:embed="rId2"/>
          <a:stretch/>
        </p:blipFill>
        <p:spPr>
          <a:xfrm>
            <a:off x="7621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" descr="D:\鲍红芳\图片\背景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7"/>
          <p:cNvSpPr txBox="1"/>
          <p:nvPr/>
        </p:nvSpPr>
        <p:spPr>
          <a:xfrm>
            <a:off x="1295280" y="685800"/>
            <a:ext cx="7086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请各位老师多多指导！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1141920" y="6192720"/>
            <a:ext cx="10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ff"/>
                </a:solidFill>
                <a:latin typeface="华文彩云"/>
                <a:ea typeface="华文彩云"/>
              </a:rPr>
              <a:t>二</a:t>
            </a:r>
            <a:r>
              <a:rPr b="0" lang="en-US" sz="2000" spc="-1" strike="noStrike">
                <a:solidFill>
                  <a:srgbClr val="cc99ff"/>
                </a:solidFill>
                <a:latin typeface="华文彩云"/>
                <a:ea typeface="华文彩云"/>
              </a:rPr>
              <a:t>00</a:t>
            </a:r>
            <a:r>
              <a:rPr b="0" lang="zh-CN" sz="2000" spc="-1" strike="noStrike">
                <a:solidFill>
                  <a:srgbClr val="cc99ff"/>
                </a:solidFill>
                <a:latin typeface="华文彩云"/>
                <a:ea typeface="华文彩云"/>
              </a:rPr>
              <a:t>四年十一月二十四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1.mp3" descr=""/>
          <p:cNvPicPr/>
          <p:nvPr/>
        </p:nvPicPr>
        <p:blipFill>
          <a:blip r:embed="rId2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0" descr="D:\吴燕琦\课件图片\S_0406030258197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D:\吴燕琦\课件图片\u=2409520144,3440357550&amp;gp=1.jpg"/>
          <p:cNvPicPr/>
          <p:nvPr/>
        </p:nvPicPr>
        <p:blipFill>
          <a:blip r:embed="rId2"/>
          <a:stretch/>
        </p:blipFill>
        <p:spPr>
          <a:xfrm>
            <a:off x="5257800" y="502920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D:\吴燕琦\课件图片\u=3360950176,2410728730&amp;gp=2.jpg"/>
          <p:cNvPicPr/>
          <p:nvPr/>
        </p:nvPicPr>
        <p:blipFill>
          <a:blip r:embed="rId3"/>
          <a:stretch/>
        </p:blipFill>
        <p:spPr>
          <a:xfrm>
            <a:off x="2362320" y="4952880"/>
            <a:ext cx="1234800" cy="1235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D:\吴燕琦\课件图片\u=341254757,788394937&amp;gp=2.jpg"/>
          <p:cNvPicPr/>
          <p:nvPr/>
        </p:nvPicPr>
        <p:blipFill>
          <a:blip r:embed="rId4"/>
          <a:stretch/>
        </p:blipFill>
        <p:spPr>
          <a:xfrm>
            <a:off x="1600200" y="2971800"/>
            <a:ext cx="1371600" cy="121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D:\吴燕琦\课件图片\u=348393578,686495495&amp;gp=0.jpg"/>
          <p:cNvPicPr/>
          <p:nvPr/>
        </p:nvPicPr>
        <p:blipFill>
          <a:blip r:embed="rId5"/>
          <a:stretch/>
        </p:blipFill>
        <p:spPr>
          <a:xfrm>
            <a:off x="6019920" y="2590920"/>
            <a:ext cx="1371600" cy="1063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D:\吴燕琦\课件图片\u=3801407069,2634851028&amp;gp=2.jpg"/>
          <p:cNvPicPr/>
          <p:nvPr/>
        </p:nvPicPr>
        <p:blipFill>
          <a:blip r:embed="rId6"/>
          <a:stretch/>
        </p:blipFill>
        <p:spPr>
          <a:xfrm>
            <a:off x="3809880" y="3276720"/>
            <a:ext cx="1524240" cy="1271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D:\吴燕琦\课件图片\u=713865596,855895708&amp;gp=1.jpg"/>
          <p:cNvPicPr/>
          <p:nvPr/>
        </p:nvPicPr>
        <p:blipFill>
          <a:blip r:embed="rId7"/>
          <a:stretch/>
        </p:blipFill>
        <p:spPr>
          <a:xfrm>
            <a:off x="3505320" y="2057400"/>
            <a:ext cx="1371600" cy="971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1"/>
          <p:cNvSpPr/>
          <p:nvPr/>
        </p:nvSpPr>
        <p:spPr>
          <a:xfrm>
            <a:off x="1066680" y="3808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ff"/>
                </a:solidFill>
                <a:latin typeface="华文中宋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ff66ff"/>
                </a:solidFill>
                <a:latin typeface="华文中宋"/>
                <a:ea typeface="华文中宋"/>
              </a:rPr>
              <a:t>你生活中遇到过哪些快乐的事情？你愿意说一说，和小伙伴们分享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:\吴燕琦\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533520" y="380880"/>
            <a:ext cx="6324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让我们荡起双桨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吴燕琦\2003510225552450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321920" y="325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北京北海公园白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40840" y="1066680"/>
            <a:ext cx="3515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北海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在北京故宫西北侧，是我国现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最完整的古代园林之一，是首都北京的游览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地，全国重点文物保护单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3" descr="D:\鲍红芳\图片\506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 rot="5400000">
            <a:off x="-1409400" y="2857320"/>
            <a:ext cx="556236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听范读，看插图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344400" y="2209680"/>
            <a:ext cx="335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水面上有哪些人？哪些景物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他们在干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四周有哪些美丽的景物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s5-1-sound.mp3" descr=""/>
          <p:cNvPicPr/>
          <p:nvPr/>
        </p:nvPicPr>
        <p:blipFill>
          <a:blip r:embed="rId2"/>
          <a:stretch/>
        </p:blipFill>
        <p:spPr>
          <a:xfrm>
            <a:off x="78487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:\鲍红芳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6" name="Rectangle 2"/>
          <p:cNvSpPr/>
          <p:nvPr/>
        </p:nvSpPr>
        <p:spPr>
          <a:xfrm>
            <a:off x="2209680" y="457200"/>
            <a:ext cx="59436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让我们荡起双桨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小船儿推开波浪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海面上倒映着美丽的白塔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四周环绕着绿树红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小船儿轻轻漂荡在水中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迎面吹来了凉爽的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3581280" y="1676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32004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457200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2" descr="D:\鲍红芳\图片\2004971841316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3"/>
          <p:cNvSpPr/>
          <p:nvPr/>
        </p:nvSpPr>
        <p:spPr>
          <a:xfrm>
            <a:off x="2362320" y="2209680"/>
            <a:ext cx="44193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我们荡舟遨游在北海公园的湖面上。小船儿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______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，湖水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_____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。只见          。啊，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_________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5257800" y="449568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5334120" y="228600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á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17"/>
          <p:cNvSpPr txBox="1"/>
          <p:nvPr/>
        </p:nvSpPr>
        <p:spPr>
          <a:xfrm>
            <a:off x="1219320" y="1219320"/>
            <a:ext cx="3047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畅所欲言</a:t>
            </a:r>
            <a:endParaRPr b="0" lang="en-US" sz="24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7" descr="D:\鲍红芳\图片\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"/>
          <p:cNvSpPr/>
          <p:nvPr/>
        </p:nvSpPr>
        <p:spPr>
          <a:xfrm>
            <a:off x="1143000" y="380880"/>
            <a:ext cx="487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红领巾迎着太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阳光洒在海面上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水中鱼儿望着我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悄悄地听我们愉快歌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小船儿轻轻飘荡在水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迎面吹来了凉爽的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743200" y="3581280"/>
            <a:ext cx="5213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做完了一天的功课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我们来尽情欢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我问你亲爱的伙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谁给我们安排下幸福的生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小船儿轻轻飘荡在水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迎面吹来了凉爽的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059840" y="160020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6" descr="D:\鲍红芳\bhf\图片\仙女.gif"/>
          <p:cNvPicPr/>
          <p:nvPr/>
        </p:nvPicPr>
        <p:blipFill>
          <a:blip r:embed="rId2"/>
          <a:stretch/>
        </p:blipFill>
        <p:spPr>
          <a:xfrm>
            <a:off x="5257800" y="152280"/>
            <a:ext cx="4572000" cy="3783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8"/>
          <p:cNvSpPr/>
          <p:nvPr/>
        </p:nvSpPr>
        <p:spPr>
          <a:xfrm>
            <a:off x="4780080" y="141300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拟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D:\吴燕琦\课件图片\u=3157943171,432165939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990720" y="9907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095880" y="380988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黑体"/>
              </a:rPr>
              <a:t>我问你亲爱的伙伴：谁给我们安排下幸福的生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04:17:4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2:05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