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DFD-3285-4543-9DE8-11457B1A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CCC1-CA74-41B2-9014-B7B008B7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360A-D0EA-457B-89EA-0BB603DA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D45-A885-4AD8-BDA6-6DC24A2C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2197-FEC7-40CF-8072-2A7D6442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95AE-01E8-489C-B9E4-E5C5C428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D701-8D83-44D0-BBF5-BDAD5FFE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4777-FEA9-4D72-A7C9-7489C4D6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7BD9-8F62-4793-A22E-8F76F127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04A8-DCA3-472E-BC76-F551B65B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BEC0-5C3D-4304-8647-1F3E25CC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EDB-9C17-426A-8033-09BE8BB9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441D-212D-4DF0-BA70-B6498065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1438-14E1-4DB7-BA68-3A61356A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9803-7A36-46B6-92E6-65C2AD3A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52B9-55CA-4254-8F88-D010E6A2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DE0E-A109-4F27-AE72-AE1FC7CB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4E3E-5315-4273-85E0-5A83ECDB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4C7E-5F8F-4BFD-938D-83F480EB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9773-4B79-4206-8B2E-E41E0CD2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0D6-000C-43B5-85B6-B296F26B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D10-1789-47EF-B1FA-5F7413F9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4020-F8D6-4412-9659-4FEE3F27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49B-D9FE-4D5E-8FAD-2D99CB0F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8BD3-0D98-4530-8A02-A8B383570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FE43-AA2B-41EB-B16C-9FF04A947E5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E5E5-6AE0-40A0-AADF-80EC30FFE4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baike.baidu.com/view/61891.htm" TargetMode="External"/><Relationship Id="rId2" Type="http://schemas.openxmlformats.org/officeDocument/2006/relationships/hyperlink" Target="http://baike.baidu.com/view/41419.htm" TargetMode="External"/><Relationship Id="rId3" Type="http://schemas.openxmlformats.org/officeDocument/2006/relationships/hyperlink" Target="http://baike.baidu.com/view/102974.htm" TargetMode="External"/><Relationship Id="rId4" Type="http://schemas.openxmlformats.org/officeDocument/2006/relationships/hyperlink" Target="http://baike.baidu.com/view/18934.htm" TargetMode="External"/><Relationship Id="rId5" Type="http://schemas.openxmlformats.org/officeDocument/2006/relationships/hyperlink" Target="http://baike.baidu.com/view/1705424.htm" TargetMode="Externa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ECAB-47EF-4CF1-9907-14223BC9AB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新宋体"/>
                <a:ea typeface="新宋体"/>
              </a:rPr>
              <a:t>9</a:t>
            </a:r>
            <a:r>
              <a:rPr b="1" lang="zh-CN" sz="5400" spc="-1" strike="noStrike">
                <a:solidFill>
                  <a:srgbClr val="ffffff"/>
                </a:solidFill>
                <a:latin typeface="新宋体"/>
                <a:ea typeface="新宋体"/>
              </a:rPr>
              <a:t>、日月潭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5" descr="SML04"/>
          <p:cNvPicPr/>
          <p:nvPr/>
        </p:nvPicPr>
        <p:blipFill>
          <a:blip r:embed="rId1"/>
          <a:stretch/>
        </p:blipFill>
        <p:spPr>
          <a:xfrm>
            <a:off x="1828800" y="1371600"/>
            <a:ext cx="5776920" cy="431964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2438280" y="6019920"/>
            <a:ext cx="6324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276720" y="5697360"/>
            <a:ext cx="4724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师范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级语文教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李枝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809880" y="64911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362320" y="16002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127160" y="86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447920" y="1219320"/>
            <a:ext cx="43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QQ截图未命名"/>
          <p:cNvPicPr/>
          <p:nvPr/>
        </p:nvPicPr>
        <p:blipFill>
          <a:blip r:embed="rId1"/>
          <a:stretch/>
        </p:blipFill>
        <p:spPr>
          <a:xfrm>
            <a:off x="990720" y="990720"/>
            <a:ext cx="7097760" cy="42764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3124080" y="6477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354"/>
          <p:cNvPicPr/>
          <p:nvPr/>
        </p:nvPicPr>
        <p:blipFill>
          <a:blip r:embed="rId1"/>
          <a:stretch/>
        </p:blipFill>
        <p:spPr>
          <a:xfrm>
            <a:off x="1143000" y="0"/>
            <a:ext cx="7097760" cy="435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6848"/>
          <p:cNvPicPr/>
          <p:nvPr/>
        </p:nvPicPr>
        <p:blipFill>
          <a:blip r:embed="rId2"/>
          <a:stretch/>
        </p:blipFill>
        <p:spPr>
          <a:xfrm>
            <a:off x="1143000" y="4114800"/>
            <a:ext cx="7086600" cy="21765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3657600" y="6491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59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生字练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514840" cy="392436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121" name="Text Box 4"/>
          <p:cNvSpPr/>
          <p:nvPr/>
        </p:nvSpPr>
        <p:spPr>
          <a:xfrm>
            <a:off x="3429000" y="6553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57200" y="5335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筑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432080" y="708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295280" y="53352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zh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124080" y="4572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886200" y="4572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mé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324480" y="5335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7315200" y="5335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x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457200" y="21337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295280" y="2057400"/>
            <a:ext cx="15242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ló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124080" y="21337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4038480" y="205740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jì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6324480" y="21337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7162920" y="2133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ǐn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457200" y="40384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295280" y="40384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ù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3124080" y="38862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4038480" y="38098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uá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6324480" y="396252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绕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7162920" y="39625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à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457200" y="56386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1219320" y="57150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à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3200400" y="6553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朗读感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514840" cy="3924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146" name="Text Box 4"/>
          <p:cNvSpPr/>
          <p:nvPr/>
        </p:nvSpPr>
        <p:spPr>
          <a:xfrm>
            <a:off x="3809880" y="6400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990720" y="91440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思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90720" y="17524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日月潭的名字是怎么得来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读读有关段落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990720" y="30481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ff"/>
                </a:solidFill>
                <a:latin typeface="Arial"/>
              </a:rPr>
              <a:t>小岛把湖水分成两半，北边像圆圆的太阳，叫日潭；南边像弯弯的月亮，叫月潭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733920" y="63244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219320" y="10666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第一自然段中“群山环绕，树木茂盛”和“名胜古迹”让我们知道了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43000" y="29718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99ccff"/>
                </a:solidFill>
                <a:latin typeface="Arial"/>
              </a:rPr>
              <a:t>群山环绕，树木茂盛”让我们仿佛看到了一幅依山傍水的自然美景， “名胜古迹”更让我们感受到了日月潭的悠久历史</a:t>
            </a:r>
            <a:r>
              <a:rPr b="0" lang="zh-CN" sz="3200" spc="-1" strike="noStrike">
                <a:solidFill>
                  <a:srgbClr val="99cc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733920" y="6324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066680" y="9907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全文从哪些方面来描写日月潭的？仔细阅读课文回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29528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位置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743200" y="2286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台中附近的高山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09680" y="4191120"/>
            <a:ext cx="459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295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形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743200" y="3124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北边像远远的太阳，南边像弯弯的月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129528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名称由来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3352680" y="4724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由形状得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1371600" y="5715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美丽景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733920" y="6491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38080" y="8380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你喜欢日月潭吗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什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课文中用哪些词句写出了它的美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隐隐约约  群山环绕  树木茂盛  名胜古迹蒙蒙细雨  风光秀丽  点点灯光  湖水碧绿  太阳高照  许许多多  展现  周围  轻纱  附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晨星  倒映  清晰  朦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685800" y="3962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小岛把湖水分成两半，北边像圆圆的太阳，叫日潭；南边像弯弯的月亮，叫月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要是下起蒙蒙细雨，日月潭好像披上轻纱，周围的景物一片朦胧，就像童话中的仙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581280" y="6477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课后总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514840" cy="3924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170" name="Text Box 4"/>
          <p:cNvSpPr/>
          <p:nvPr/>
        </p:nvSpPr>
        <p:spPr>
          <a:xfrm>
            <a:off x="4038480" y="6491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971800" y="3049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图片赏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590920" y="320040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1"/>
          <p:cNvPicPr/>
          <p:nvPr/>
        </p:nvPicPr>
        <p:blipFill>
          <a:blip r:embed="rId1"/>
          <a:stretch/>
        </p:blipFill>
        <p:spPr>
          <a:xfrm>
            <a:off x="1143000" y="1219320"/>
            <a:ext cx="6737400" cy="50529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91" name="Text Box 5"/>
          <p:cNvSpPr/>
          <p:nvPr/>
        </p:nvSpPr>
        <p:spPr>
          <a:xfrm>
            <a:off x="3809880" y="6553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066680" y="914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．会认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个生字，会写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个字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23623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．正确、流利、有感情地朗读课文，感受日月潭的秀丽风光。背诵自己喜欢的部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066680" y="48006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．有热爱宝岛台湾和盼望祖国统一的情感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962520" y="6491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课外拓展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514840" cy="3924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177" name="Text Box 4"/>
          <p:cNvSpPr/>
          <p:nvPr/>
        </p:nvSpPr>
        <p:spPr>
          <a:xfrm>
            <a:off x="3886200" y="6491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阿里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219320" y="1752480"/>
            <a:ext cx="655308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阿里山，</a:t>
            </a:r>
            <a:r>
              <a:rPr b="0" lang="zh-CN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中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地名，是</a:t>
            </a:r>
            <a:r>
              <a:rPr b="0" lang="zh-CN" sz="32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台湾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著名旅游风景区，阿里山位于台湾省</a:t>
            </a:r>
            <a:r>
              <a:rPr b="0" lang="zh-CN" sz="32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嘉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市东方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公里，地处海拔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公尺以上，坐标为北纬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分，东经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分，东面靠近台湾最高峰</a:t>
            </a:r>
            <a:r>
              <a:rPr b="0" lang="zh-CN" sz="32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玉山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由于山区气候温和，盛夏时依然清爽宜人，加上林木葱翠，是全台湾最理想的</a:t>
            </a:r>
            <a:r>
              <a:rPr b="0" lang="zh-CN" sz="3200" spc="-1" strike="noStrike" u="sng">
                <a:solidFill>
                  <a:srgbClr val="99ccff"/>
                </a:solidFill>
                <a:uFillTx/>
                <a:latin typeface="Arial"/>
                <a:hlinkClick r:id="rId5"/>
              </a:rPr>
              <a:t>避暑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胜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733920" y="6491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阿里山云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4" descr="2007516173426545"/>
          <p:cNvPicPr/>
          <p:nvPr/>
        </p:nvPicPr>
        <p:blipFill>
          <a:blip r:embed="rId1"/>
          <a:stretch/>
        </p:blipFill>
        <p:spPr>
          <a:xfrm>
            <a:off x="1066680" y="1295280"/>
            <a:ext cx="7162920" cy="515304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sp>
        <p:nvSpPr>
          <p:cNvPr id="183" name="Text Box 5"/>
          <p:cNvSpPr/>
          <p:nvPr/>
        </p:nvSpPr>
        <p:spPr>
          <a:xfrm>
            <a:off x="42670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阿里山日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15697_1247282864CADw"/>
          <p:cNvPicPr/>
          <p:nvPr/>
        </p:nvPicPr>
        <p:blipFill>
          <a:blip r:embed="rId1"/>
          <a:stretch/>
        </p:blipFill>
        <p:spPr>
          <a:xfrm>
            <a:off x="1752480" y="2286000"/>
            <a:ext cx="5905800" cy="393228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sp>
        <p:nvSpPr>
          <p:cNvPr id="186" name="Text Box 5"/>
          <p:cNvSpPr/>
          <p:nvPr/>
        </p:nvSpPr>
        <p:spPr>
          <a:xfrm>
            <a:off x="4114800" y="6553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阿里山黄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" descr="1215137242991_1215137242991_r"/>
          <p:cNvPicPr/>
          <p:nvPr/>
        </p:nvPicPr>
        <p:blipFill>
          <a:blip r:embed="rId1"/>
          <a:stretch/>
        </p:blipFill>
        <p:spPr>
          <a:xfrm>
            <a:off x="1600200" y="2057400"/>
            <a:ext cx="5967360" cy="392760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sp>
        <p:nvSpPr>
          <p:cNvPr id="189" name="Text Box 4"/>
          <p:cNvSpPr/>
          <p:nvPr/>
        </p:nvSpPr>
        <p:spPr>
          <a:xfrm>
            <a:off x="4267080" y="6491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课后作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515200" cy="3924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192" name="Text Box 4"/>
          <p:cNvSpPr/>
          <p:nvPr/>
        </p:nvSpPr>
        <p:spPr>
          <a:xfrm>
            <a:off x="411480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06668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每个生字抄五遍并组词，再用自己组的词造一个句子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066680" y="2666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有感情的朗读课文，背诵自己喜欢的段落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066680" y="43434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搜集有光描写台湾美丽景色的文章急图片，展示给同学看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962520" y="6491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514840" cy="3924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198" name="WordArt 4"/>
          <p:cNvSpPr txBox="1"/>
          <p:nvPr/>
        </p:nvSpPr>
        <p:spPr>
          <a:xfrm>
            <a:off x="1523880" y="457200"/>
            <a:ext cx="5639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感谢给为领导光临指导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9" name="WordArt 5"/>
          <p:cNvSpPr txBox="1"/>
          <p:nvPr/>
        </p:nvSpPr>
        <p:spPr>
          <a:xfrm>
            <a:off x="6324480" y="5829480"/>
            <a:ext cx="2057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3962520" y="6491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286000" y="15238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3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94" name="Text Box 4"/>
          <p:cNvSpPr/>
          <p:nvPr/>
        </p:nvSpPr>
        <p:spPr>
          <a:xfrm>
            <a:off x="3276720" y="6491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505320" y="182880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2"/>
          <p:cNvPicPr/>
          <p:nvPr/>
        </p:nvPicPr>
        <p:blipFill>
          <a:blip r:embed="rId1"/>
          <a:stretch/>
        </p:blipFill>
        <p:spPr>
          <a:xfrm>
            <a:off x="1219320" y="762120"/>
            <a:ext cx="6737400" cy="50529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97" name="Text Box 4"/>
          <p:cNvSpPr/>
          <p:nvPr/>
        </p:nvSpPr>
        <p:spPr>
          <a:xfrm>
            <a:off x="3429000" y="64911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666880" y="1828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4"/>
          <p:cNvPicPr/>
          <p:nvPr/>
        </p:nvPicPr>
        <p:blipFill>
          <a:blip r:embed="rId1"/>
          <a:stretch/>
        </p:blipFill>
        <p:spPr>
          <a:xfrm>
            <a:off x="1371600" y="990720"/>
            <a:ext cx="6734160" cy="50511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100" name="Text Box 4"/>
          <p:cNvSpPr/>
          <p:nvPr/>
        </p:nvSpPr>
        <p:spPr>
          <a:xfrm>
            <a:off x="3581280" y="6400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导语设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514840" cy="392436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103" name="Text Box 4"/>
          <p:cNvSpPr/>
          <p:nvPr/>
        </p:nvSpPr>
        <p:spPr>
          <a:xfrm>
            <a:off x="3429000" y="6491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380880" y="533520"/>
            <a:ext cx="8610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月潭是我国台湾省的代表性风景名胜，每当我们看到“日月潭”这三个字，心中总会荡起一圈圈涟漪，因为那里山清水秀，有我们日夜思念的台湾同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月潭令人神往，是因为它在祖国的宝岛台湾，是因为它“那里群山环绕，树木茂盛，周围有许多名胜古迹”，然而更吸引人的还是那被光华岛分成两半的日潭月潭的碧水。作者以清晨与中午两个特写镜头来展示日月潭的迷人风姿，令人陶醉其间，流连忘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048120" y="6400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57200" y="533520"/>
            <a:ext cx="7924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看吧，清晨，在薄雾的笼罩下，晨星、灯光“隐隐约约地倒映在湖水中”，湖光山色，浑然一体，好一幅天然浑成的画卷。再看中午，要是太阳高照，就是一幅明丽的山水画；“要是下起蒙蒙细雨”，那日月潭就成了“童话中的仙境”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809880" y="6491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同步阅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514840" cy="392436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110" name="Text Box 4"/>
          <p:cNvSpPr/>
          <p:nvPr/>
        </p:nvSpPr>
        <p:spPr>
          <a:xfrm>
            <a:off x="3809880" y="6477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0:23:23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7:49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