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camera.wav" ContentType="audio/x-wav"/>
  <Override PartName="/ppt/media/image21.jpeg" ContentType="image/jpeg"/>
  <Override PartName="/ppt/media/image5.jpeg" ContentType="image/jpeg"/>
  <Override PartName="/ppt/media/image23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5DE-71BD-4C83-A652-A695A692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13A-AF47-4648-B2D1-3915DFE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3C7-7349-4DE9-80E7-DCB87B2F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283-DF93-48CB-8AE8-2DDDA69D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2FFA-7E28-4185-B60B-E02A07A0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9F2E-5782-4388-844B-CD5EDC7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D7A-CC9F-4FAB-9F71-24461AC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2E5A-3CB1-4662-B8FD-7DE1B4C6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ADC-634B-496B-A508-49B5B2F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5F3B-66E4-4A70-A270-84F3DAB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38A-6C80-4E7C-9A93-DD96654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64E-CCB7-47FF-BC7B-42BABB9E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F4DD-A20A-46C2-B454-0B0F7F5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2A5B-1624-4A99-9E77-141F0C7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2E4-D9F9-4EB1-94B7-112876B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64FA-9CC0-4480-8854-98C3D054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24BF-60F5-4480-936D-CE511F88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37B-4FF1-43A5-BB89-9DB6E55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FDA-7FD8-4CEA-9C0C-3E525D7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F2F-B286-40E5-8AE3-6E32D88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2D6-48BA-4AA1-9283-D6CC14F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56A-6878-4276-B521-7482046B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486-8B74-4DD0-9902-B21D86A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FEA-C613-4BAB-99ED-FAAADDE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E1D1-2585-4EEE-84A0-245BC87E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787E-4FE8-4C41-B1FE-355DEC4262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01C0-7A86-48F9-B739-285A9B4A3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60948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义务教育课程标准实验教科书小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flipV="1">
            <a:off x="8675640" y="7001280"/>
            <a:ext cx="19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14840" y="5373720"/>
            <a:ext cx="542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隶书"/>
                <a:ea typeface="隶书"/>
              </a:rPr>
              <a:t>授课教师</a:t>
            </a:r>
            <a:r>
              <a:rPr b="0" lang="en-US" sz="4000" spc="-1" strike="noStrike">
                <a:solidFill>
                  <a:srgbClr val="66ff33"/>
                </a:solidFill>
                <a:latin typeface="隶书"/>
                <a:ea typeface="隶书"/>
              </a:rPr>
              <a:t>:</a:t>
            </a:r>
            <a:r>
              <a:rPr b="0" lang="zh-CN" sz="4000" spc="-1" strike="noStrike">
                <a:solidFill>
                  <a:srgbClr val="66ff33"/>
                </a:solidFill>
                <a:latin typeface="隶书"/>
                <a:ea typeface="隶书"/>
              </a:rPr>
              <a:t>王丽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58920" y="2205000"/>
            <a:ext cx="460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AG00370_"/>
          <p:cNvPicPr/>
          <p:nvPr/>
        </p:nvPicPr>
        <p:blipFill>
          <a:blip r:embed="rId1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987640" y="2492280"/>
            <a:ext cx="3600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1979640" y="2133720"/>
            <a:ext cx="5329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四个太阳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0000"/>
          <p:cNvPicPr/>
          <p:nvPr/>
        </p:nvPicPr>
        <p:blipFill>
          <a:blip r:embed="rId1"/>
          <a:stretch/>
        </p:blipFill>
        <p:spPr>
          <a:xfrm>
            <a:off x="61128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0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00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939680" y="233280"/>
            <a:ext cx="50576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果园里，果子熟了。金黄的落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忙着邀请小伙伴，请他们尝尝水果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香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344240" y="1523880"/>
            <a:ext cx="41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828800" y="1523880"/>
            <a:ext cx="5112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392000" y="1447920"/>
            <a:ext cx="41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大象333"/>
          <p:cNvPicPr/>
          <p:nvPr/>
        </p:nvPicPr>
        <p:blipFill>
          <a:blip r:embed="rId1"/>
          <a:stretch/>
        </p:blipFill>
        <p:spPr>
          <a:xfrm>
            <a:off x="533520" y="40384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鼠33"/>
          <p:cNvPicPr/>
          <p:nvPr/>
        </p:nvPicPr>
        <p:blipFill>
          <a:blip r:embed="rId2"/>
          <a:stretch/>
        </p:blipFill>
        <p:spPr>
          <a:xfrm>
            <a:off x="2590920" y="40384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鱼"/>
          <p:cNvPicPr/>
          <p:nvPr/>
        </p:nvPicPr>
        <p:blipFill>
          <a:blip r:embed="rId3"/>
          <a:stretch/>
        </p:blipFill>
        <p:spPr>
          <a:xfrm>
            <a:off x="4724280" y="4038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老虎333"/>
          <p:cNvPicPr/>
          <p:nvPr/>
        </p:nvPicPr>
        <p:blipFill>
          <a:blip r:embed="rId4"/>
          <a:stretch/>
        </p:blipFill>
        <p:spPr>
          <a:xfrm>
            <a:off x="6858000" y="40384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[1]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05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7708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27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1200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22"/>
          <p:cNvPicPr/>
          <p:nvPr/>
        </p:nvPicPr>
        <p:blipFill>
          <a:blip r:embed="rId5"/>
          <a:stretch/>
        </p:blipFill>
        <p:spPr>
          <a:xfrm>
            <a:off x="2268360" y="1989000"/>
            <a:ext cx="2776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31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2124000" y="2205000"/>
            <a:ext cx="583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e1"/>
          <p:cNvPicPr/>
          <p:nvPr/>
        </p:nvPicPr>
        <p:blipFill>
          <a:blip r:embed="rId2"/>
          <a:stretch/>
        </p:blipFill>
        <p:spPr>
          <a:xfrm>
            <a:off x="2050920" y="907920"/>
            <a:ext cx="4813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3"/>
          <p:cNvPicPr/>
          <p:nvPr/>
        </p:nvPicPr>
        <p:blipFill>
          <a:blip r:embed="rId1"/>
          <a:srcRect l="0" t="0" r="17" b="-37"/>
          <a:stretch/>
        </p:blipFill>
        <p:spPr>
          <a:xfrm>
            <a:off x="-76320" y="-457200"/>
            <a:ext cx="922032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541440" y="0"/>
            <a:ext cx="69343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我画了个绿绿的太阳，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挂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在夏天的天空。高山、田野、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街</a:t>
            </a: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道、校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到处一片清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203640" y="692280"/>
            <a:ext cx="1066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539640" y="299736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187280" y="128520"/>
            <a:ext cx="7201080" cy="67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1:46:4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5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