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DBB-EFFC-4D0F-B92B-1C9F3B56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7DC-184F-4B23-9B93-06E02978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9AEE-F368-40CB-AFB9-EA0829EC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45A-ECB7-4ADB-8DA1-5098F756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60A4-9B91-479C-8529-B7A08200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239A-3F73-4332-8181-330CE1A3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A413-BC63-48E0-B7B0-20692A04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6D09-68D8-4332-B743-8EC1189B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AFB8-2EC8-41DC-999A-9A7B324A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4296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6D6A-3C4F-4850-A363-B5C6283A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7A59-541E-49AB-B8F4-45B6E2E5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3F86-0458-4F44-9F9B-95BD2D0E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2042-C4A0-4071-A8E4-9E80E16A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4444-180A-4C8C-97A1-6CC5E840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5FA8-C89F-4D5C-8ADD-3B1C358E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F580-9501-41EA-A182-D03369F4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114A-7DCC-442C-9911-6FE322F5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D65A-3075-4C05-A0A1-B8DDD907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7D55-9DA2-4FB1-936B-F5ACC2DC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4174-17FE-4375-B9BF-E269353D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4296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DF7B-D469-4C8B-B0FA-605A55B1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FE58-D35B-4070-B7D2-14919EBA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D88-D210-434D-8F0B-8E9EEEB1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5A2-6BB0-4BFA-B3D7-2DC642D0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969F-37AD-4F7F-B86C-2A8A16F4EC45}" type="slidenum">
              <a:rPr b="0" lang="zh-CN" sz="1200" spc="-1" strike="noStrike">
                <a:solidFill>
                  <a:srgbClr val="898989"/>
                </a:solidFill>
                <a:latin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Documents and Settings\鱼不愚\桌面\未标题-1副本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94F9-437E-4DA9-91C1-EE414814019C}" type="slidenum">
              <a:rPr b="0" lang="zh-CN" sz="1200" spc="-1" strike="noStrike">
                <a:solidFill>
                  <a:srgbClr val="898989"/>
                </a:solidFill>
                <a:latin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moban/baogao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00" y="686880"/>
            <a:ext cx="853596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述职报告</a:t>
            </a:r>
            <a:r>
              <a:rPr b="0" lang="zh-CN" sz="40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PPT</a:t>
            </a:r>
            <a:r>
              <a:rPr b="0" lang="zh-CN" sz="40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6" name="副标题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655956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82520"/>
            <a:ext cx="8229600" cy="774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目  录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圆角矩形 4"/>
          <p:cNvSpPr/>
          <p:nvPr/>
        </p:nvSpPr>
        <p:spPr>
          <a:xfrm>
            <a:off x="1643040" y="2292480"/>
            <a:ext cx="492912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Documents and Settings\鱼不愚\桌面\3dicon1_zcool.com.cn [转换].png"/>
          <p:cNvPicPr/>
          <p:nvPr/>
        </p:nvPicPr>
        <p:blipFill>
          <a:blip r:embed="rId1"/>
          <a:srcRect l="38759" t="0" r="35730" b="62560"/>
          <a:stretch/>
        </p:blipFill>
        <p:spPr>
          <a:xfrm>
            <a:off x="1071720" y="1857240"/>
            <a:ext cx="1143000" cy="124488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1292400" y="24084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8"/>
          <p:cNvSpPr/>
          <p:nvPr/>
        </p:nvSpPr>
        <p:spPr>
          <a:xfrm>
            <a:off x="2357280" y="3521160"/>
            <a:ext cx="492948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Documents and Settings\鱼不愚\桌面\3dicon1_zcool.com.cn [转换].png"/>
          <p:cNvPicPr/>
          <p:nvPr/>
        </p:nvPicPr>
        <p:blipFill>
          <a:blip r:embed="rId2"/>
          <a:srcRect l="38759" t="0" r="35730" b="62560"/>
          <a:stretch/>
        </p:blipFill>
        <p:spPr>
          <a:xfrm>
            <a:off x="1785960" y="3071880"/>
            <a:ext cx="1143000" cy="1244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>
            <a:off x="2006640" y="363708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12"/>
          <p:cNvSpPr/>
          <p:nvPr/>
        </p:nvSpPr>
        <p:spPr>
          <a:xfrm>
            <a:off x="3051000" y="4792680"/>
            <a:ext cx="492948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Documents and Settings\鱼不愚\桌面\3dicon1_zcool.com.cn [转换].png"/>
          <p:cNvPicPr/>
          <p:nvPr/>
        </p:nvPicPr>
        <p:blipFill>
          <a:blip r:embed="rId3"/>
          <a:srcRect l="38759" t="0" r="35730" b="62560"/>
          <a:stretch/>
        </p:blipFill>
        <p:spPr>
          <a:xfrm>
            <a:off x="2479680" y="4357800"/>
            <a:ext cx="1143000" cy="1244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14"/>
          <p:cNvSpPr/>
          <p:nvPr/>
        </p:nvSpPr>
        <p:spPr>
          <a:xfrm>
            <a:off x="2700360" y="49086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58840" y="2301840"/>
            <a:ext cx="43293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特宋简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98" name="内容占位符 2"/>
          <p:cNvSpPr/>
          <p:nvPr/>
        </p:nvSpPr>
        <p:spPr>
          <a:xfrm>
            <a:off x="2857680" y="3516480"/>
            <a:ext cx="4329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内容占位符 2"/>
          <p:cNvSpPr/>
          <p:nvPr/>
        </p:nvSpPr>
        <p:spPr>
          <a:xfrm>
            <a:off x="3529080" y="4811760"/>
            <a:ext cx="4329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对角圆角矩形 5"/>
          <p:cNvSpPr/>
          <p:nvPr/>
        </p:nvSpPr>
        <p:spPr>
          <a:xfrm rot="21346800">
            <a:off x="1133640" y="1809360"/>
            <a:ext cx="6954840" cy="3879720"/>
          </a:xfrm>
          <a:custGeom>
            <a:avLst/>
            <a:gdLst>
              <a:gd name="textAreaLeft" fmla="*/ 144000 w 6954840"/>
              <a:gd name="textAreaRight" fmla="*/ 6810840 w 6954840"/>
              <a:gd name="textAreaTop" fmla="*/ 144000 h 3879720"/>
              <a:gd name="textAreaBottom" fmla="*/ 3735720 h 3879720"/>
            </a:gdLst>
            <a:ahLst/>
            <a:rect l="textAreaLeft" t="textAreaTop" r="textAreaRight" b="textAreaBottom"/>
            <a:pathLst>
              <a:path w="6954838" h="3879850">
                <a:moveTo>
                  <a:pt x="492043" y="0"/>
                </a:moveTo>
                <a:lnTo>
                  <a:pt x="6954838" y="0"/>
                </a:lnTo>
                <a:lnTo>
                  <a:pt x="6954838" y="3387807"/>
                </a:lnTo>
                <a:cubicBezTo>
                  <a:pt x="6954838" y="3659554"/>
                  <a:pt x="6734542" y="3879849"/>
                  <a:pt x="6462795" y="3879850"/>
                </a:cubicBezTo>
                <a:lnTo>
                  <a:pt x="0" y="3879850"/>
                </a:lnTo>
                <a:lnTo>
                  <a:pt x="0" y="492043"/>
                </a:lnTo>
                <a:cubicBezTo>
                  <a:pt x="0" y="220295"/>
                  <a:pt x="220295" y="0"/>
                  <a:pt x="492043" y="1"/>
                </a:cubicBezTo>
                <a:cubicBezTo>
                  <a:pt x="492043" y="1"/>
                  <a:pt x="492043" y="1"/>
                  <a:pt x="492043" y="1"/>
                </a:cubicBezTo>
                <a:lnTo>
                  <a:pt x="492043" y="0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13752000"/>
          </a:gradFill>
          <a:ln w="0">
            <a:noFill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强调类型图表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2" name="Picture 3" descr="C:\TDDOWNLOAD\pencil.png"/>
          <p:cNvPicPr/>
          <p:nvPr/>
        </p:nvPicPr>
        <p:blipFill>
          <a:blip r:embed="rId1"/>
          <a:stretch/>
        </p:blipFill>
        <p:spPr>
          <a:xfrm>
            <a:off x="887400" y="161784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 rot="21361200">
            <a:off x="1348920" y="2091960"/>
            <a:ext cx="645480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特宋简"/>
              </a:rPr>
              <a:t>强调文本内容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分析类型图表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4694400" y="2567160"/>
            <a:ext cx="3747960" cy="3528720"/>
            <a:chOff x="4694400" y="2567160"/>
            <a:chExt cx="3747960" cy="3528720"/>
          </a:xfrm>
        </p:grpSpPr>
        <p:pic>
          <p:nvPicPr>
            <p:cNvPr id="106" name="剪去同侧角的矩形 6" descr=""/>
            <p:cNvPicPr/>
            <p:nvPr/>
          </p:nvPicPr>
          <p:blipFill>
            <a:blip r:embed="rId1"/>
            <a:stretch/>
          </p:blipFill>
          <p:spPr>
            <a:xfrm>
              <a:off x="4694400" y="2567160"/>
              <a:ext cx="374796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5"/>
            <p:cNvSpPr/>
            <p:nvPr/>
          </p:nvSpPr>
          <p:spPr>
            <a:xfrm>
              <a:off x="4927680" y="2803320"/>
              <a:ext cx="3281400" cy="32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6"/>
          <p:cNvGrpSpPr/>
          <p:nvPr/>
        </p:nvGrpSpPr>
        <p:grpSpPr>
          <a:xfrm>
            <a:off x="701640" y="2567160"/>
            <a:ext cx="3747960" cy="3528720"/>
            <a:chOff x="701640" y="2567160"/>
            <a:chExt cx="3747960" cy="3528720"/>
          </a:xfrm>
        </p:grpSpPr>
        <p:pic>
          <p:nvPicPr>
            <p:cNvPr id="109" name="剪去同侧角的矩形 5" descr=""/>
            <p:cNvPicPr/>
            <p:nvPr/>
          </p:nvPicPr>
          <p:blipFill>
            <a:blip r:embed="rId2"/>
            <a:stretch/>
          </p:blipFill>
          <p:spPr>
            <a:xfrm>
              <a:off x="701640" y="2567160"/>
              <a:ext cx="374796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8"/>
            <p:cNvSpPr/>
            <p:nvPr/>
          </p:nvSpPr>
          <p:spPr>
            <a:xfrm>
              <a:off x="934920" y="2803320"/>
              <a:ext cx="3281400" cy="32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C:\TDDOWNLOAD\user_female.png"/>
          <p:cNvPicPr/>
          <p:nvPr/>
        </p:nvPicPr>
        <p:blipFill>
          <a:blip r:embed="rId3"/>
          <a:stretch/>
        </p:blipFill>
        <p:spPr>
          <a:xfrm>
            <a:off x="1944720" y="1566720"/>
            <a:ext cx="1262160" cy="2475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TDDOWNLOAD\user_male.png"/>
          <p:cNvPicPr/>
          <p:nvPr/>
        </p:nvPicPr>
        <p:blipFill>
          <a:blip r:embed="rId4"/>
          <a:stretch/>
        </p:blipFill>
        <p:spPr>
          <a:xfrm>
            <a:off x="5937120" y="1554120"/>
            <a:ext cx="1262160" cy="2475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1"/>
          <p:cNvGrpSpPr/>
          <p:nvPr/>
        </p:nvGrpSpPr>
        <p:grpSpPr>
          <a:xfrm>
            <a:off x="719280" y="2567160"/>
            <a:ext cx="3730320" cy="3509640"/>
            <a:chOff x="719280" y="2567160"/>
            <a:chExt cx="3730320" cy="3509640"/>
          </a:xfrm>
        </p:grpSpPr>
        <p:pic>
          <p:nvPicPr>
            <p:cNvPr id="114" name="内容占位符 2" descr=""/>
            <p:cNvPicPr/>
            <p:nvPr/>
          </p:nvPicPr>
          <p:blipFill>
            <a:blip r:embed="rId5"/>
            <a:stretch/>
          </p:blipFill>
          <p:spPr>
            <a:xfrm>
              <a:off x="719280" y="2567160"/>
              <a:ext cx="373032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/>
            <p:cNvSpPr/>
            <p:nvPr/>
          </p:nvSpPr>
          <p:spPr>
            <a:xfrm>
              <a:off x="801360" y="2643120"/>
              <a:ext cx="3571560" cy="33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经典特宋简"/>
                  <a:ea typeface="经典特宋简"/>
                </a:rPr>
                <a:t>文本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4681440" y="2567160"/>
            <a:ext cx="3730680" cy="3509640"/>
            <a:chOff x="4681440" y="2567160"/>
            <a:chExt cx="3730680" cy="3509640"/>
          </a:xfrm>
        </p:grpSpPr>
        <p:pic>
          <p:nvPicPr>
            <p:cNvPr id="117" name="内容占位符 2" descr=""/>
            <p:cNvPicPr/>
            <p:nvPr/>
          </p:nvPicPr>
          <p:blipFill>
            <a:blip r:embed="rId6"/>
            <a:stretch/>
          </p:blipFill>
          <p:spPr>
            <a:xfrm>
              <a:off x="4681440" y="2567160"/>
              <a:ext cx="373068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/>
            <p:cNvSpPr/>
            <p:nvPr/>
          </p:nvSpPr>
          <p:spPr>
            <a:xfrm>
              <a:off x="4763880" y="2643120"/>
              <a:ext cx="3571920" cy="33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经典特宋简"/>
                  <a:ea typeface="经典特宋简"/>
                </a:rPr>
                <a:t>文本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数据类型图表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20" name="内容占位符 3" descr=""/>
          <p:cNvPicPr/>
          <p:nvPr/>
        </p:nvPicPr>
        <p:blipFill>
          <a:blip r:embed="rId1"/>
          <a:stretch/>
        </p:blipFill>
        <p:spPr>
          <a:xfrm>
            <a:off x="1120680" y="1714680"/>
            <a:ext cx="6902640" cy="3982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2720" y="117360"/>
            <a:ext cx="78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述职报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baog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说明类型图表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23" name="Picture 5" descr="C:\Documents and Settings\鱼不愚\桌面\biz_icon_01.png"/>
          <p:cNvPicPr/>
          <p:nvPr/>
        </p:nvPicPr>
        <p:blipFill>
          <a:blip r:embed="rId1"/>
          <a:stretch/>
        </p:blipFill>
        <p:spPr>
          <a:xfrm>
            <a:off x="1112760" y="1825560"/>
            <a:ext cx="6918480" cy="425448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4"/>
          <p:cNvGrpSpPr/>
          <p:nvPr/>
        </p:nvGrpSpPr>
        <p:grpSpPr>
          <a:xfrm>
            <a:off x="1994040" y="2073240"/>
            <a:ext cx="5155920" cy="3016080"/>
            <a:chOff x="1994040" y="2073240"/>
            <a:chExt cx="5155920" cy="3016080"/>
          </a:xfrm>
        </p:grpSpPr>
        <p:pic>
          <p:nvPicPr>
            <p:cNvPr id="125" name="内容占位符 2" descr=""/>
            <p:cNvPicPr/>
            <p:nvPr/>
          </p:nvPicPr>
          <p:blipFill>
            <a:blip r:embed="rId2"/>
            <a:stretch/>
          </p:blipFill>
          <p:spPr>
            <a:xfrm>
              <a:off x="1994040" y="2073240"/>
              <a:ext cx="5155920" cy="30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6"/>
            <p:cNvSpPr/>
            <p:nvPr/>
          </p:nvSpPr>
          <p:spPr>
            <a:xfrm>
              <a:off x="2071440" y="2152440"/>
              <a:ext cx="5000400" cy="28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经典特宋简"/>
                  <a:ea typeface="经典特宋简"/>
                </a:rPr>
                <a:t>文本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493560" y="847800"/>
            <a:ext cx="6516720" cy="1230120"/>
            <a:chOff x="493560" y="847800"/>
            <a:chExt cx="6516720" cy="1230120"/>
          </a:xfrm>
        </p:grpSpPr>
        <p:pic>
          <p:nvPicPr>
            <p:cNvPr id="128" name="副标题 2" descr=""/>
            <p:cNvPicPr/>
            <p:nvPr/>
          </p:nvPicPr>
          <p:blipFill>
            <a:blip r:embed="rId1"/>
            <a:stretch/>
          </p:blipFill>
          <p:spPr>
            <a:xfrm>
              <a:off x="493560" y="847800"/>
              <a:ext cx="651672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4"/>
            <p:cNvSpPr/>
            <p:nvPr/>
          </p:nvSpPr>
          <p:spPr>
            <a:xfrm>
              <a:off x="571320" y="928440"/>
              <a:ext cx="6357960" cy="10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70c0"/>
                  </a:solidFill>
                  <a:latin typeface="汉仪粗宋简"/>
                  <a:ea typeface="汉仪粗宋简"/>
                </a:rPr>
                <a:t>THANK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经典特宋简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经典特宋简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经典特宋简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经典特宋简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经典特宋简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经典特宋简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经典特宋简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经典特宋简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98D4-CA51-491C-9079-764525D308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4:49:4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1T00:50:47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