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CCC-2546-4497-A1B7-7EEC6611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1CA-B990-4163-9B12-1253E969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4E5-7278-44CB-9214-75554B0C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89F-6AF4-42CA-A956-75E33FA6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90C7-59EB-42FE-9D4F-9BA31597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0BD-94C1-4D28-8347-5D1878D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783F-CB7C-4C4D-B0C8-336DE746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E536-44EB-4B68-A7BC-6C34341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D79A-7034-40CD-A29E-5F88206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4919-E339-4886-93C2-EFA550E0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291-1133-463A-8C8C-8BED9EA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AAD-C84B-48B6-B663-7F4CC0D5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E373-FDBF-4A1D-BDCC-4B3BC6F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D6B2-0837-40F9-917E-FA1906D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8812-19E0-4B19-97D8-702EF65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D4D6-09A1-44AE-98FF-C34001E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8A3-CC81-4ABA-86A9-21C47FF1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507-6DF2-4B23-B2A3-0C0A1CF5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B54-ED68-4C80-8105-8015B180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FE2-F621-4184-9C3B-10C6A85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BCE-D2D4-42BE-8137-56C747A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E66-51AE-4B10-B91A-25B0F37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A91-7655-448C-B0B1-C10FEC4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C48-01A6-416E-B30A-223919D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DAF4-4267-4A15-8A7C-D91434589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F76E-9460-4C25-A7DA-7AC439DFC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jpe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10" descr=""/>
          <p:cNvPicPr/>
          <p:nvPr/>
        </p:nvPicPr>
        <p:blipFill>
          <a:blip r:embed="rId2"/>
          <a:stretch/>
        </p:blipFill>
        <p:spPr>
          <a:xfrm>
            <a:off x="1085760" y="878040"/>
            <a:ext cx="6637320" cy="223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WordArt 2" descr=""/>
          <p:cNvPicPr/>
          <p:nvPr/>
        </p:nvPicPr>
        <p:blipFill>
          <a:blip r:embed="rId2"/>
          <a:stretch/>
        </p:blipFill>
        <p:spPr>
          <a:xfrm>
            <a:off x="1609560" y="4584600"/>
            <a:ext cx="1524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8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029"/>
          <p:cNvSpPr txBox="1"/>
          <p:nvPr/>
        </p:nvSpPr>
        <p:spPr>
          <a:xfrm>
            <a:off x="990720" y="10666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落叶</a:t>
            </a:r>
            <a:endParaRPr b="0" lang="en-US" sz="24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4267080" y="24004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花</a:t>
            </a:r>
            <a:endParaRPr b="0" lang="en-US" sz="24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WordArt 4" descr=""/>
          <p:cNvPicPr/>
          <p:nvPr/>
        </p:nvPicPr>
        <p:blipFill>
          <a:blip r:embed="rId2"/>
          <a:stretch/>
        </p:blipFill>
        <p:spPr>
          <a:xfrm>
            <a:off x="3114720" y="755640"/>
            <a:ext cx="32558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457200"/>
            <a:ext cx="52578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古桥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树林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知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山泉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姐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溪流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妹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白云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大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瀑布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大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悬崖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云雀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石头、落叶、小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蚂蚁小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 rot="5400000">
            <a:off x="168840" y="2723400"/>
            <a:ext cx="2247840" cy="15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山中访友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85800" y="533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品一品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所说的山中访友，不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吗，那我把题目改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”，你觉得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秋日的私语.mp3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914400" y="609480"/>
            <a:ext cx="1828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朗读比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60d"/>
                </a:solidFill>
                <a:latin typeface="Times New Roman"/>
              </a:rPr>
              <a:t>（分甲乙两组，每组选派一名选手，读完后请两组派代表进行点评）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-60948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点评参考（一分为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吐字清晰，语音准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语速适中，语气舒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轻重音处理以及停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课文感情韵味的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写一写 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采用的是说话方式向他的大自然朋友打招呼，我们也尝试一下用“你好”写一句话，向我们的大自然朋友打一下招呼，好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如松树、小草、白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384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收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520" y="2742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5f9d8"/>
                </a:solidFill>
                <a:latin typeface="Times New Roman"/>
              </a:rPr>
              <a:t>作者进山看景，像是走到了亲朋好友当中，他为什么把山林当成家，他想告诉我们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838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781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一个好天气，与好友结伴到郊外走走，去触摸大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你是某一景物，面对来往形形色色的游人，你对游人说说心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感情地朗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访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放声自由朗读，而后小组研讨</a:t>
            </a: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7429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扫清朗读时遇到的文字障碍 ， 小组中仍未能解决的请上来写到黑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找一找作者拜访了哪些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WINDOWS\Desktop\课件\李力&amp;虞旭\小桥流水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6" descr=""/>
          <p:cNvPicPr/>
          <p:nvPr/>
        </p:nvPicPr>
        <p:blipFill>
          <a:blip r:embed="rId17"/>
          <a:stretch/>
        </p:blipFill>
        <p:spPr>
          <a:xfrm>
            <a:off x="3114720" y="523800"/>
            <a:ext cx="3219480" cy="47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WINDOWS\Desktop\课件\邱力\natureqqi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2743200" cy="48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403200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5327640" y="4876920"/>
            <a:ext cx="2798640" cy="103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溪流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——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妹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C:\Documents and Settings\Administrator\桌面\leimeng\010501030321062c2c25_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1027" descr=""/>
          <p:cNvPicPr/>
          <p:nvPr/>
        </p:nvPicPr>
        <p:blipFill>
          <a:blip r:embed="rId2"/>
          <a:stretch/>
        </p:blipFill>
        <p:spPr>
          <a:xfrm>
            <a:off x="907920" y="5937120"/>
            <a:ext cx="207324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1905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380520"/>
            <a:ext cx="5562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320040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:\WINDOWS\Desktop\课件\李力&amp;虞旭\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457200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瀑布大哥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WordArt 3" descr=""/>
          <p:cNvPicPr/>
          <p:nvPr/>
        </p:nvPicPr>
        <p:blipFill>
          <a:blip r:embed="rId2"/>
          <a:stretch/>
        </p:blipFill>
        <p:spPr>
          <a:xfrm>
            <a:off x="2736720" y="304920"/>
            <a:ext cx="2756160" cy="1030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6093000"/>
            <a:ext cx="740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36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8:02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