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212A-2036-453D-ABF7-F4C50D89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444-F2EB-4AC9-B1E0-381AB8B6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F991-751E-4670-87E6-4FD0AF08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2715-9AD9-41F2-81CD-C33FBCDB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CB89-5CDB-4268-906C-84CF257F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1A90-EE0F-4472-861C-6C10E789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C3D3-98A7-4534-A1A2-14FCBE63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5DC0-1EA7-4BB0-A3EE-E74FCC62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18F2-3D72-467C-BDD9-18F9704E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BD7C-731E-48F7-9309-66740143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82C1-E34F-4D10-B91C-6074229E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7121-3A79-4B5D-8183-A4EDD8DB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FD83-C5E6-40CE-9B2A-A29363CD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F8A7-F47B-43FA-9828-531BAA61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FD5F-B6E4-4180-ACB4-266AD7CC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446D-882B-46D6-AC01-9DC8BA0C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C931-FB1D-48D2-9368-B0D6CABF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0B2-B983-4CF7-A483-C5667FF7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34E-371C-4B0C-878C-C5C9A87B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E0E4-5878-485A-BBAC-CFC88013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5B5D-F968-4671-96FE-07B3B75D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05CE-A10F-46FD-A1B2-1732D49A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B60-DF78-401E-B3E8-D39BFFF4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1B73-C4D9-43DD-9836-E687ADA2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69D3-5E3C-42F6-AA25-584E31A4E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86EB-2C7A-4E1A-BEFC-9D9D60CB17F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DF6C-0D20-44F6-9BDA-667AFD95E1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Zr1634.wav" TargetMode="External"/><Relationship Id="rId3" Type="http://schemas.microsoft.com/office/2007/relationships/media" Target="file:///tmp/home/.config/libreoffice/4/user/gallery/Zr1634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复件 (9) 美景"/>
          <p:cNvPicPr/>
          <p:nvPr/>
        </p:nvPicPr>
        <p:blipFill>
          <a:blip r:embed="rId1"/>
          <a:stretch/>
        </p:blipFill>
        <p:spPr>
          <a:xfrm>
            <a:off x="0" y="-270000"/>
            <a:ext cx="9144000" cy="739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895480" y="205740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645000" y="838080"/>
            <a:ext cx="173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27</a:t>
            </a: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、她是我的朋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997440" y="472428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坝塘中心小学：潘果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28" descr="10477098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905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FR8066"/>
          <p:cNvPicPr/>
          <p:nvPr/>
        </p:nvPicPr>
        <p:blipFill>
          <a:blip r:embed="rId1"/>
          <a:stretch/>
        </p:blipFill>
        <p:spPr>
          <a:xfrm>
            <a:off x="657360" y="595440"/>
            <a:ext cx="7829280" cy="5667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752480" y="14479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一阵沉默之后，一只小 手  颤  抖  地 举 起来。 忽 然 又放下去，然 后又举起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905120" y="4114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676520" y="396252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6600"/>
                </a:solidFill>
                <a:latin typeface="Times New Roman"/>
              </a:rPr>
              <a:t>阮恒举手时为什么“颤抖”？为什么把手“放下去”又“举起来”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33520" y="190512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过了一会儿，他突然啜泣了一下，全身颤抖并迅速用另一只手捂住脸，“疼吗，阮恒？”医生问道。阮恒摇摇头。但过了一会儿，  他又开始呜咽，  并 再一次试图用手掩盖他的痛苦。医生又问是不是针刺疼了他，他又摇了摇头。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 接着，  他那不时的啜泣变成持续不断的低声哭泣。他眼睛紧闭着，用牙咬着自己的小拳头，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竭力制止抽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FR505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Oval 40"/>
          <p:cNvSpPr/>
          <p:nvPr/>
        </p:nvSpPr>
        <p:spPr>
          <a:xfrm>
            <a:off x="5638680" y="2362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41"/>
          <p:cNvSpPr/>
          <p:nvPr/>
        </p:nvSpPr>
        <p:spPr>
          <a:xfrm>
            <a:off x="6019920" y="23623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42"/>
          <p:cNvSpPr/>
          <p:nvPr/>
        </p:nvSpPr>
        <p:spPr>
          <a:xfrm>
            <a:off x="8077320" y="24382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43"/>
          <p:cNvSpPr/>
          <p:nvPr/>
        </p:nvSpPr>
        <p:spPr>
          <a:xfrm>
            <a:off x="762120" y="2895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44"/>
          <p:cNvSpPr/>
          <p:nvPr/>
        </p:nvSpPr>
        <p:spPr>
          <a:xfrm>
            <a:off x="1219320" y="2895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45"/>
          <p:cNvSpPr/>
          <p:nvPr/>
        </p:nvSpPr>
        <p:spPr>
          <a:xfrm>
            <a:off x="160020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46"/>
          <p:cNvSpPr/>
          <p:nvPr/>
        </p:nvSpPr>
        <p:spPr>
          <a:xfrm>
            <a:off x="525780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47"/>
          <p:cNvSpPr/>
          <p:nvPr/>
        </p:nvSpPr>
        <p:spPr>
          <a:xfrm>
            <a:off x="50292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48"/>
          <p:cNvSpPr/>
          <p:nvPr/>
        </p:nvSpPr>
        <p:spPr>
          <a:xfrm>
            <a:off x="54864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49"/>
          <p:cNvSpPr/>
          <p:nvPr/>
        </p:nvSpPr>
        <p:spPr>
          <a:xfrm>
            <a:off x="5791320" y="3352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50"/>
          <p:cNvSpPr/>
          <p:nvPr/>
        </p:nvSpPr>
        <p:spPr>
          <a:xfrm>
            <a:off x="3809880" y="3886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51"/>
          <p:cNvSpPr/>
          <p:nvPr/>
        </p:nvSpPr>
        <p:spPr>
          <a:xfrm>
            <a:off x="4191120" y="3886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52"/>
          <p:cNvSpPr/>
          <p:nvPr/>
        </p:nvSpPr>
        <p:spPr>
          <a:xfrm>
            <a:off x="762120" y="43434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53"/>
          <p:cNvSpPr/>
          <p:nvPr/>
        </p:nvSpPr>
        <p:spPr>
          <a:xfrm>
            <a:off x="1143000" y="43434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54"/>
          <p:cNvSpPr/>
          <p:nvPr/>
        </p:nvSpPr>
        <p:spPr>
          <a:xfrm>
            <a:off x="2362320" y="4876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55"/>
          <p:cNvSpPr/>
          <p:nvPr/>
        </p:nvSpPr>
        <p:spPr>
          <a:xfrm>
            <a:off x="274320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56"/>
          <p:cNvSpPr/>
          <p:nvPr/>
        </p:nvSpPr>
        <p:spPr>
          <a:xfrm>
            <a:off x="762120" y="53341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57"/>
          <p:cNvSpPr/>
          <p:nvPr/>
        </p:nvSpPr>
        <p:spPr>
          <a:xfrm>
            <a:off x="1143000" y="5334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58"/>
          <p:cNvSpPr/>
          <p:nvPr/>
        </p:nvSpPr>
        <p:spPr>
          <a:xfrm>
            <a:off x="5257800" y="5334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9"/>
          <p:cNvSpPr/>
          <p:nvPr/>
        </p:nvSpPr>
        <p:spPr>
          <a:xfrm>
            <a:off x="5638680" y="5334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60"/>
          <p:cNvSpPr/>
          <p:nvPr/>
        </p:nvSpPr>
        <p:spPr>
          <a:xfrm>
            <a:off x="7696080" y="5410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61"/>
          <p:cNvSpPr/>
          <p:nvPr/>
        </p:nvSpPr>
        <p:spPr>
          <a:xfrm>
            <a:off x="8077320" y="5410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62"/>
          <p:cNvSpPr/>
          <p:nvPr/>
        </p:nvSpPr>
        <p:spPr>
          <a:xfrm>
            <a:off x="2438280" y="5867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63"/>
          <p:cNvSpPr/>
          <p:nvPr/>
        </p:nvSpPr>
        <p:spPr>
          <a:xfrm>
            <a:off x="6400800" y="5867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64"/>
          <p:cNvSpPr/>
          <p:nvPr/>
        </p:nvSpPr>
        <p:spPr>
          <a:xfrm>
            <a:off x="6781680" y="5867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孙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ku2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w_po01"/>
          <p:cNvPicPr/>
          <p:nvPr/>
        </p:nvPicPr>
        <p:blipFill>
          <a:blip r:embed="rId1"/>
          <a:stretch/>
        </p:blipFill>
        <p:spPr>
          <a:xfrm>
            <a:off x="0" y="0"/>
            <a:ext cx="10363320" cy="70866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819520" y="990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如果你感到太苦闷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819520" y="15238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就让朋友分担你的忧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819520" y="21337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起说说笑笑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819520" y="2666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温馨的感觉随时拥有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819520" y="32004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谁没哭过，谁没笑过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3505320" y="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朋  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819520" y="3733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只需想起朋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2819520" y="4343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和你一起将风雨抹走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2895480" y="4952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陪你高高低低到处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2819520" y="54864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真心的朋友愿意永远为你分忧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2819520" y="6095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有了朋友你会永远开开心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04bz.mp3" descr=""/>
          <p:cNvPicPr/>
          <p:nvPr/>
        </p:nvPicPr>
        <p:blipFill>
          <a:blip r:embed="rId2"/>
          <a:stretch/>
        </p:blipFill>
        <p:spPr>
          <a:xfrm>
            <a:off x="0" y="-76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爱的奉献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7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10:13:04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6:13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