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B90-8C3F-45FF-B78D-94B502C8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27-EF28-4D93-B26C-C674287E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DF2-81B8-4F37-8CD8-D36884CB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3D6-80E2-45D8-90D1-A9A2F6A8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850-4344-4196-B14C-44A34F4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05A0-79BF-4F8D-8524-61971B4B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1D7-9096-491E-BEE3-299F91E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73FE-9656-451C-BDA2-F53DF076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B20-EA84-4A4B-AEFA-165A3C0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6A59-A044-4EA7-BADF-725F9C04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6731-BC9B-4727-8958-9BC86AB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290-6D58-41F9-AE02-E27D0723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AAD5-19DA-41C0-8355-AA8026E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1669-113B-43CF-B3B3-318AD9D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952-FC7F-4D0B-9AEE-207626AC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BA9-5FB8-45ED-BBB6-37269F6D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D6C-A484-4FBB-B4F4-0D2C6091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247-E7EF-466D-BA0C-2E468E23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3F3-EEB6-4293-B47E-FD45EDF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EE0-A51C-430E-8D66-6E3A2EF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DE5-6408-47ED-AB48-8337F903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69A-12C5-4943-A046-47DF3E8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E9D-20E9-420E-B691-8AF7D44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A58-D3A0-451D-AF3B-4D33EAE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6D8-3887-4688-B432-6750614B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5A4-CA0A-4336-B062-C107B1069C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103-70CC-4BC8-8F2E-F60605111B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6121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黑体"/>
                <a:ea typeface="黑体"/>
              </a:rPr>
              <a:t>田园诗情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天堂般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绿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原上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白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绵羊悠然自得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黑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猪群呼噜着。成千上万的小鸡，成群结队的长毛山羊安闲的欣赏着这属于它们自己的王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812000" y="501336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了傍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才看到有人架着小船过来，做上小板凳，给严肃沉默的奶牛挤奶。金色的晚霞铺在西天，远处偶尔传来汽笛声，接着又是一片肃静。在这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都不叫喊吆喝，牛脖子上的铃铛也没有响声，挤奶的人更是默默无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78508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河之中，装满奶桶的船只舒缓平稳行驶着。满载着一罐罐牛奶的汽车火车，不停地开往城市。车船过后，一切又归于平静。最后一抹晚霞也渐渐消失了。狗不叫了，圈里的牛不在发出哞哞声，马也忘记了踢马房的挡板。沉睡的牲畜，无声的低地，漆黑的夜晚，只有远处的几坐灯塔闪烁着微弱的光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172360" y="537372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2"/>
          <p:cNvSpPr/>
          <p:nvPr/>
        </p:nvSpPr>
        <p:spPr>
          <a:xfrm>
            <a:off x="1631880" y="382680"/>
            <a:ext cx="623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260280"/>
            <a:ext cx="86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牛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547640" y="260280"/>
            <a:ext cx="7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骏马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700360" y="26028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羊猪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140360" y="260280"/>
            <a:ext cx="86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傍晚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435640" y="260280"/>
            <a:ext cx="86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732720" y="260280"/>
            <a:ext cx="86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244000" y="6165720"/>
            <a:ext cx="649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水之国，是因为－－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花之国，是因为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牧场之国，是因为－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正的荷兰应是－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之国，水之国，牧场之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目远眺，碧绿如丝绒般的草地上，是一头头黑白两色的奶牛。有的牛背上盖着防潮的毛毡，正在低头吃草；有的站立不动，仿佛正在思考什么。牛犊跑前跑后，活像顽皮的孩子；老牛仪态端庄，好似牛群的家长。绿意盎然的村野野乡间，是大片大片鲜艳的郁金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牛背上盖着防潮的毛毡，正在低头吃草；有的站立不动，仿佛正在思考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犊跑前跑后，活像顽皮的孩子；老牛仪态端庄，好似牛群的家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8028000" y="501336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碧绿色的低地镶嵌在一条条运河之间。成群的骏马，骠悍强壮，腿粗如桩，鬃毛随风飞扬。除了深深的野草遮掩着的运河，没有什么能够阻挡它们自由飞驰。辽阔无垠的原野似乎归它们所有，它们是这个自由王国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群的骏马，骠悍强壮，腿粗如桩，鬃毛随风飞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了深深的野草遮掩着的运河，没有什么能够阻挡它们自由飞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028000" y="486900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天堂般的绿色草原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色的绵羊悠然自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色的猪群呼噜着。成千上万的小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群结队的长毛山羊安闲的欣赏着这属于它们自己的王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1:21:1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