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C68E-AFA9-4D7A-AFA3-3882C4E5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963-6C68-4C76-88EF-1165366C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D324-F793-4B18-B0B1-DD6036B6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1E3-D921-4C86-8692-5299AFC31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AA0-BB2D-4E47-801D-9DF2D1AD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5A0-F53C-4672-AE13-A29BE1CB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254-D2FF-436F-B5D2-B388B2FF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568-F7B4-4EC2-A654-B5CB4A91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9B2E-DAFB-4BB5-95E0-F2E1BBFA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177-1A93-461B-81F4-C8CE254F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FBF-32FB-41D4-955A-EA5D469E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E04E-BB68-46BC-8FC5-5EF35E61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BDF6-F838-47D8-B513-8700B8C2C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howim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1908000" y="2205000"/>
            <a:ext cx="4969080" cy="160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隶书"/>
              </a:rPr>
              <a:t>万年牢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showimg3"/>
          <p:cNvPicPr/>
          <p:nvPr/>
        </p:nvPicPr>
        <p:blipFill>
          <a:blip r:embed="rId1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0" y="1844640"/>
            <a:ext cx="914400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走街串巷　天津　　损伤　晾晒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竹签　　　耽误　　甩出　赚钱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嫌弃　　　掺假　　削好　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PTW_015"/>
          <p:cNvPicPr/>
          <p:nvPr/>
        </p:nvPicPr>
        <p:blipFill>
          <a:blip r:embed="rId1"/>
          <a:stretch/>
        </p:blipFill>
        <p:spPr>
          <a:xfrm>
            <a:off x="0" y="0"/>
            <a:ext cx="1440000" cy="20160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7"/>
          <p:cNvSpPr/>
          <p:nvPr/>
        </p:nvSpPr>
        <p:spPr>
          <a:xfrm rot="442800">
            <a:off x="1547280" y="0"/>
            <a:ext cx="5473800" cy="1700280"/>
          </a:xfrm>
          <a:prstGeom prst="cloudCallout">
            <a:avLst>
              <a:gd name="adj1" fmla="val -52814"/>
              <a:gd name="adj2" fmla="val 44675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95640" y="0"/>
            <a:ext cx="489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嗨！同学们，你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正确地读出这些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71040" y="189000"/>
            <a:ext cx="575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我的糖葫芦蘸得均匀，越薄越见功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吃一口让人叫好，蘸出的糖葫芦不怕冷不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热不怕潮，这叫万年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569600" y="2637000"/>
            <a:ext cx="575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公平买卖走正道，顾客点头说声好，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头再来这是宝，做生意讲实在是万年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569600" y="4653000"/>
            <a:ext cx="575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父亲教导我做万年牢，就是要做个可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的人，实实在在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ic_141411"/>
          <p:cNvPicPr/>
          <p:nvPr/>
        </p:nvPicPr>
        <p:blipFill>
          <a:blip r:embed="rId1"/>
          <a:srcRect l="0" t="0" r="0" b="49"/>
          <a:stretch/>
        </p:blipFill>
        <p:spPr>
          <a:xfrm>
            <a:off x="0" y="0"/>
            <a:ext cx="9144000" cy="70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90792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    读下面的句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要求选择正确的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父亲的教导使我一生受益”这句中的“益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意思是（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加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更多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公平买卖走正道，顾客点头说声好，回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来这是宝，做生意讲实在是万年牢。”的理解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能让顾客回头来，这是法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句话说明了讲信誉对生意人的重要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979640" y="1916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547640" y="4292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0" y="18900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选择合适的关联词，将每组中的两句话连接成一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的节奏掌握得正好，一点也不耽误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亲很高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他的成绩不怎么好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乐于助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12720" y="2421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因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我的节奏掌握得正好，一点也不耽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所以父亲很高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539640" y="49417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虽然他的成绩不怎么好，    但是他乐于助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7FB-EBFA-4D2C-AFFC-EBCD7A3F9A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7:51:17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1T00:52:48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