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SONATA82.wav" ContentType="audio/x-wav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6344-40B0-4D37-932B-F2D7BA1B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CFF-4188-41E8-93B6-80343964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591-4BE4-4805-97FE-BDE854E2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0DF-72EE-41A3-9251-B4032810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A934-9E9D-4179-BD48-CAC816D3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10A8-F00F-4DB4-A5F9-91923E00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77A7-B851-4860-8FF3-FE58ED76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ABC0-D06B-4F42-9060-E8456B80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2E40-807D-452F-98D4-057A15B2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FFE9-3289-4718-B520-9F338B95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118A-B906-46E8-A994-6BC96AA1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1B2-2392-4119-A1FA-AABB6AD8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339B-104D-4AC0-B1DA-46967245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6314-F972-4073-BF89-DAD8CF2F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4E6B-686C-44D6-95CA-255BA71B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99BD-E191-4207-8FAB-D2F9C4C6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224E-572F-484D-B54D-C43872EC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9C5-3BE2-4B13-A182-C936AFED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64C-A3E2-45A6-AA86-93CFE9DD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ADC-09E4-40FB-B706-37A3055B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1B5-7C36-4709-BF29-CC83CFC6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C39-2C9B-4171-B466-B84564CD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112-A9EA-4B15-B22D-AE3918FA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B2B-F7CF-4308-8B3C-25E17AB0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99000"/>
            <a:ext cx="1430280" cy="6645240"/>
            <a:chOff x="-8280" y="99000"/>
            <a:chExt cx="1430280" cy="6645240"/>
          </a:xfrm>
        </p:grpSpPr>
        <p:sp>
          <p:nvSpPr>
            <p:cNvPr id="1" name="Arc 3"/>
            <p:cNvSpPr/>
            <p:nvPr/>
          </p:nvSpPr>
          <p:spPr>
            <a:xfrm rot="2700000">
              <a:off x="549720" y="248040"/>
              <a:ext cx="722160" cy="7236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 rot="2700000">
              <a:off x="540720" y="255600"/>
              <a:ext cx="695520" cy="69156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 rot="2700000">
              <a:off x="538200" y="297720"/>
              <a:ext cx="650880" cy="6357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rc 6"/>
            <p:cNvSpPr/>
            <p:nvPr/>
          </p:nvSpPr>
          <p:spPr>
            <a:xfrm rot="2700000">
              <a:off x="528840" y="325080"/>
              <a:ext cx="573120" cy="56736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Arc 7"/>
            <p:cNvSpPr/>
            <p:nvPr/>
          </p:nvSpPr>
          <p:spPr>
            <a:xfrm rot="2700000">
              <a:off x="464400" y="427320"/>
              <a:ext cx="341280" cy="34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Arc 8"/>
            <p:cNvSpPr/>
            <p:nvPr/>
          </p:nvSpPr>
          <p:spPr>
            <a:xfrm rot="2700000">
              <a:off x="549720" y="1487880"/>
              <a:ext cx="722160" cy="7236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 rot="2700000">
              <a:off x="541080" y="1497240"/>
              <a:ext cx="695160" cy="69156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 rot="2700000">
              <a:off x="538200" y="1539000"/>
              <a:ext cx="650880" cy="6357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Arc 11"/>
            <p:cNvSpPr/>
            <p:nvPr/>
          </p:nvSpPr>
          <p:spPr>
            <a:xfrm rot="2700000">
              <a:off x="528840" y="1566360"/>
              <a:ext cx="573120" cy="56736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 rot="2700000">
              <a:off x="464400" y="1673640"/>
              <a:ext cx="341280" cy="34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Arc 13"/>
            <p:cNvSpPr/>
            <p:nvPr/>
          </p:nvSpPr>
          <p:spPr>
            <a:xfrm rot="2700000">
              <a:off x="549720" y="2738880"/>
              <a:ext cx="722160" cy="7236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Arc 14"/>
            <p:cNvSpPr/>
            <p:nvPr/>
          </p:nvSpPr>
          <p:spPr>
            <a:xfrm rot="2700000">
              <a:off x="549720" y="3994560"/>
              <a:ext cx="722160" cy="7236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rot="2700000">
              <a:off x="541080" y="4003920"/>
              <a:ext cx="695160" cy="69156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Arc 16"/>
            <p:cNvSpPr/>
            <p:nvPr/>
          </p:nvSpPr>
          <p:spPr>
            <a:xfrm rot="2700000">
              <a:off x="538200" y="4045680"/>
              <a:ext cx="650880" cy="6357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Arc 17"/>
            <p:cNvSpPr/>
            <p:nvPr/>
          </p:nvSpPr>
          <p:spPr>
            <a:xfrm rot="2700000">
              <a:off x="528840" y="4073040"/>
              <a:ext cx="573120" cy="56736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Arc 18"/>
            <p:cNvSpPr/>
            <p:nvPr/>
          </p:nvSpPr>
          <p:spPr>
            <a:xfrm rot="2700000">
              <a:off x="464400" y="4175640"/>
              <a:ext cx="341280" cy="34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Arc 19"/>
            <p:cNvSpPr/>
            <p:nvPr/>
          </p:nvSpPr>
          <p:spPr>
            <a:xfrm rot="2700000">
              <a:off x="549720" y="5240880"/>
              <a:ext cx="722160" cy="7236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Arc 20"/>
            <p:cNvSpPr/>
            <p:nvPr/>
          </p:nvSpPr>
          <p:spPr>
            <a:xfrm rot="18900000">
              <a:off x="141120" y="877320"/>
              <a:ext cx="72324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Arc 21"/>
            <p:cNvSpPr/>
            <p:nvPr/>
          </p:nvSpPr>
          <p:spPr>
            <a:xfrm rot="18900000">
              <a:off x="155520" y="887040"/>
              <a:ext cx="702720" cy="7030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Arc 22"/>
            <p:cNvSpPr/>
            <p:nvPr/>
          </p:nvSpPr>
          <p:spPr>
            <a:xfrm rot="18900000">
              <a:off x="228600" y="914040"/>
              <a:ext cx="641880" cy="65700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Arc 23"/>
            <p:cNvSpPr/>
            <p:nvPr/>
          </p:nvSpPr>
          <p:spPr>
            <a:xfrm rot="18900000">
              <a:off x="313920" y="953640"/>
              <a:ext cx="570600" cy="5731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Arc 24"/>
            <p:cNvSpPr/>
            <p:nvPr/>
          </p:nvSpPr>
          <p:spPr>
            <a:xfrm rot="18900000">
              <a:off x="616320" y="1066320"/>
              <a:ext cx="343080" cy="34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Arc 25"/>
            <p:cNvSpPr/>
            <p:nvPr/>
          </p:nvSpPr>
          <p:spPr>
            <a:xfrm rot="18900000">
              <a:off x="150120" y="2118960"/>
              <a:ext cx="72360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Arc 26"/>
            <p:cNvSpPr/>
            <p:nvPr/>
          </p:nvSpPr>
          <p:spPr>
            <a:xfrm rot="18900000">
              <a:off x="164520" y="2128320"/>
              <a:ext cx="702720" cy="7034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Arc 27"/>
            <p:cNvSpPr/>
            <p:nvPr/>
          </p:nvSpPr>
          <p:spPr>
            <a:xfrm rot="18900000">
              <a:off x="237960" y="2155320"/>
              <a:ext cx="642240" cy="6573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Arc 28"/>
            <p:cNvSpPr/>
            <p:nvPr/>
          </p:nvSpPr>
          <p:spPr>
            <a:xfrm rot="18900000">
              <a:off x="318600" y="2194920"/>
              <a:ext cx="570600" cy="5731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Arc 29"/>
            <p:cNvSpPr/>
            <p:nvPr/>
          </p:nvSpPr>
          <p:spPr>
            <a:xfrm rot="18900000">
              <a:off x="616320" y="2307600"/>
              <a:ext cx="343080" cy="341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Arc 30"/>
            <p:cNvSpPr/>
            <p:nvPr/>
          </p:nvSpPr>
          <p:spPr>
            <a:xfrm rot="2700000">
              <a:off x="540720" y="2747880"/>
              <a:ext cx="695520" cy="69156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Arc 31"/>
            <p:cNvSpPr/>
            <p:nvPr/>
          </p:nvSpPr>
          <p:spPr>
            <a:xfrm rot="2700000">
              <a:off x="538200" y="2790000"/>
              <a:ext cx="650880" cy="6357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Arc 32"/>
            <p:cNvSpPr/>
            <p:nvPr/>
          </p:nvSpPr>
          <p:spPr>
            <a:xfrm rot="2700000">
              <a:off x="533520" y="2817360"/>
              <a:ext cx="573120" cy="56736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Arc 33"/>
            <p:cNvSpPr/>
            <p:nvPr/>
          </p:nvSpPr>
          <p:spPr>
            <a:xfrm rot="2700000">
              <a:off x="464400" y="2924640"/>
              <a:ext cx="341280" cy="34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Arc 34"/>
            <p:cNvSpPr/>
            <p:nvPr/>
          </p:nvSpPr>
          <p:spPr>
            <a:xfrm rot="18900000">
              <a:off x="155520" y="3369960"/>
              <a:ext cx="72324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Arc 35"/>
            <p:cNvSpPr/>
            <p:nvPr/>
          </p:nvSpPr>
          <p:spPr>
            <a:xfrm rot="18900000">
              <a:off x="179280" y="3379320"/>
              <a:ext cx="702720" cy="7030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Arc 36"/>
            <p:cNvSpPr/>
            <p:nvPr/>
          </p:nvSpPr>
          <p:spPr>
            <a:xfrm rot="18900000">
              <a:off x="242640" y="3406320"/>
              <a:ext cx="642240" cy="6573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Arc 37"/>
            <p:cNvSpPr/>
            <p:nvPr/>
          </p:nvSpPr>
          <p:spPr>
            <a:xfrm rot="18900000">
              <a:off x="323280" y="3445920"/>
              <a:ext cx="570600" cy="5731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Arc 38"/>
            <p:cNvSpPr/>
            <p:nvPr/>
          </p:nvSpPr>
          <p:spPr>
            <a:xfrm rot="18900000">
              <a:off x="621000" y="3558600"/>
              <a:ext cx="343080" cy="34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Arc 39"/>
            <p:cNvSpPr/>
            <p:nvPr/>
          </p:nvSpPr>
          <p:spPr>
            <a:xfrm rot="18900000">
              <a:off x="150120" y="4625640"/>
              <a:ext cx="72360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Arc 40"/>
            <p:cNvSpPr/>
            <p:nvPr/>
          </p:nvSpPr>
          <p:spPr>
            <a:xfrm rot="18900000">
              <a:off x="164520" y="4635000"/>
              <a:ext cx="702720" cy="7034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Arc 41"/>
            <p:cNvSpPr/>
            <p:nvPr/>
          </p:nvSpPr>
          <p:spPr>
            <a:xfrm rot="18900000">
              <a:off x="237960" y="4662000"/>
              <a:ext cx="642240" cy="6573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Arc 42"/>
            <p:cNvSpPr/>
            <p:nvPr/>
          </p:nvSpPr>
          <p:spPr>
            <a:xfrm rot="18900000">
              <a:off x="323280" y="4701600"/>
              <a:ext cx="570600" cy="5731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Arc 43"/>
            <p:cNvSpPr/>
            <p:nvPr/>
          </p:nvSpPr>
          <p:spPr>
            <a:xfrm rot="18900000">
              <a:off x="616320" y="4814280"/>
              <a:ext cx="343080" cy="34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Arc 44"/>
            <p:cNvSpPr/>
            <p:nvPr/>
          </p:nvSpPr>
          <p:spPr>
            <a:xfrm rot="2700000">
              <a:off x="540720" y="5249880"/>
              <a:ext cx="695520" cy="69156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Arc 45"/>
            <p:cNvSpPr/>
            <p:nvPr/>
          </p:nvSpPr>
          <p:spPr>
            <a:xfrm rot="2700000">
              <a:off x="538200" y="5292000"/>
              <a:ext cx="650880" cy="6357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Arc 46"/>
            <p:cNvSpPr/>
            <p:nvPr/>
          </p:nvSpPr>
          <p:spPr>
            <a:xfrm rot="2700000">
              <a:off x="528840" y="5319360"/>
              <a:ext cx="573120" cy="56736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Arc 47"/>
            <p:cNvSpPr/>
            <p:nvPr/>
          </p:nvSpPr>
          <p:spPr>
            <a:xfrm rot="2700000">
              <a:off x="464400" y="5426640"/>
              <a:ext cx="341280" cy="34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Arc 48"/>
            <p:cNvSpPr/>
            <p:nvPr/>
          </p:nvSpPr>
          <p:spPr>
            <a:xfrm rot="18900000">
              <a:off x="150480" y="5871600"/>
              <a:ext cx="72360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Arc 49"/>
            <p:cNvSpPr/>
            <p:nvPr/>
          </p:nvSpPr>
          <p:spPr>
            <a:xfrm rot="18900000">
              <a:off x="164880" y="5881320"/>
              <a:ext cx="702720" cy="7030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50"/>
            <p:cNvSpPr/>
            <p:nvPr/>
          </p:nvSpPr>
          <p:spPr>
            <a:xfrm rot="18900000">
              <a:off x="237600" y="5908320"/>
              <a:ext cx="642240" cy="65700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1"/>
            <p:cNvSpPr/>
            <p:nvPr/>
          </p:nvSpPr>
          <p:spPr>
            <a:xfrm rot="18900000">
              <a:off x="318600" y="5947920"/>
              <a:ext cx="570600" cy="5731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rc 52"/>
            <p:cNvSpPr/>
            <p:nvPr/>
          </p:nvSpPr>
          <p:spPr>
            <a:xfrm rot="18900000">
              <a:off x="616320" y="6060600"/>
              <a:ext cx="343080" cy="34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DC36-E65A-4638-B8F6-AC79483E6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C542-B58A-4DE9-99F8-220B71738F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EC06-3E5D-46C8-85F9-0097F5BF23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ONATA82.wav" TargetMode="External"/><Relationship Id="rId2" Type="http://schemas.microsoft.com/office/2007/relationships/media" Target="file:///tmp/home/.config/libreoffice/4/user/gallery/SONATA82.wav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SONATA82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D:\闫利平八册语文教案\语文第四单元\威尼斯的小艇\图片\画框图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\\四年级二班\闫利平八册语\语文第四单元\威尼斯的小艇\图片\威尼斯小船.jpg"/>
          <p:cNvPicPr/>
          <p:nvPr/>
        </p:nvPicPr>
        <p:blipFill>
          <a:blip r:embed="rId2"/>
          <a:stretch/>
        </p:blipFill>
        <p:spPr>
          <a:xfrm>
            <a:off x="1143000" y="990720"/>
            <a:ext cx="6858000" cy="4952880"/>
          </a:xfrm>
          <a:prstGeom prst="rect">
            <a:avLst/>
          </a:prstGeom>
          <a:ln w="0">
            <a:noFill/>
          </a:ln>
        </p:spPr>
      </p:pic>
      <p:sp>
        <p:nvSpPr>
          <p:cNvPr id="135" name="WordArt 3"/>
          <p:cNvSpPr txBox="1"/>
          <p:nvPr/>
        </p:nvSpPr>
        <p:spPr>
          <a:xfrm>
            <a:off x="0" y="4114800"/>
            <a:ext cx="79246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威尼斯的小艇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D:\闫利平八册语文教案\语文第四单元\威尼斯的小艇\图片\威尼斯.jpg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\\四年级二班\闫利平八册语\语文第四单元\威尼斯的小艇\图片\威尼斯小船.jpg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\\四年级二班\闫利平八册语\语文第四单元\威尼斯的小艇\图片\000317203.jpeg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219320" y="22096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船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410080" y="7621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桥梁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219320" y="37339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历史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0" descr="D:\闫利平八册语文教案\语文第四单元\威尼斯的小艇\图片\威尼斯3.jpg"/>
          <p:cNvPicPr/>
          <p:nvPr/>
        </p:nvPicPr>
        <p:blipFill>
          <a:blip r:embed="rId4"/>
          <a:stretch/>
        </p:blipFill>
        <p:spPr>
          <a:xfrm>
            <a:off x="4572000" y="350532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1"/>
          <p:cNvSpPr/>
          <p:nvPr/>
        </p:nvSpPr>
        <p:spPr>
          <a:xfrm>
            <a:off x="5715000" y="35812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cc"/>
                </a:solidFill>
                <a:latin typeface="Times New Roman"/>
                <a:ea typeface="隶书"/>
              </a:rPr>
              <a:t>名胜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威尼斯小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cc00"/>
                </a:solidFill>
                <a:latin typeface="Times New Roman"/>
              </a:rPr>
              <a:t>使用规范说明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闫利平八册语文教案\语文第四单元\威尼斯的小艇\图片\新威尼斯小船.jpg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304920" y="396252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黑体"/>
              </a:rPr>
              <a:t>        </a:t>
            </a:r>
            <a:r>
              <a:rPr b="0" lang="zh-CN" sz="5400" spc="-1" strike="noStrike">
                <a:solidFill>
                  <a:srgbClr val="cc0000"/>
                </a:solidFill>
                <a:latin typeface="Times New Roman"/>
                <a:ea typeface="黑体"/>
              </a:rPr>
              <a:t>威尼斯的小艇又窄又深；船头和船艄向上翘起；行动起来轻快，灵活。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D:\闫利平八册语文教案\语文第四单元\威尼斯的小艇\图片\画框图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D:\闫利平八册语文教案\语文第四单元\威尼斯的小艇\图片\船舱2.BMP"/>
          <p:cNvPicPr/>
          <p:nvPr/>
        </p:nvPicPr>
        <p:blipFill>
          <a:blip r:embed="rId2"/>
          <a:stretch/>
        </p:blipFill>
        <p:spPr>
          <a:xfrm>
            <a:off x="1295280" y="914400"/>
            <a:ext cx="6553440" cy="50292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l"/>
    <p:sndAc>
      <p:stSnd>
        <p:snd r:embed="rId3" name="SONATA82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D:\闫利平八册语文教案\语文第四单元\威尼斯的小艇\图片\画框图4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D:\闫利平八册语文教案\语文第四单元\威尼斯的小艇\图片\船舱3.BMP"/>
          <p:cNvPicPr/>
          <p:nvPr/>
        </p:nvPicPr>
        <p:blipFill>
          <a:blip r:embed="rId2"/>
          <a:stretch/>
        </p:blipFill>
        <p:spPr>
          <a:xfrm>
            <a:off x="1219320" y="914400"/>
            <a:ext cx="6629400" cy="495288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D:\闫利平八册语文教案\语文第四单元\威尼斯的小艇\图片\画框图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\\四年级二班\闫利平八册语\语文第四单元\威尼斯的小艇\图片\威尼斯小船1.jpg"/>
          <p:cNvPicPr/>
          <p:nvPr/>
        </p:nvPicPr>
        <p:blipFill>
          <a:blip r:embed="rId2"/>
          <a:stretch/>
        </p:blipFill>
        <p:spPr>
          <a:xfrm>
            <a:off x="1295280" y="990720"/>
            <a:ext cx="6553440" cy="4952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28" descr="D:\闫利平八册语文教案\语文第四单元\威尼斯的小艇\图片\画框图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27" descr="\\四年级二班\闫利平八册语\语文第四单元\威尼斯的小艇\图片\000317203.jpeg"/>
          <p:cNvPicPr/>
          <p:nvPr/>
        </p:nvPicPr>
        <p:blipFill>
          <a:blip r:embed="rId2"/>
          <a:stretch/>
        </p:blipFill>
        <p:spPr>
          <a:xfrm>
            <a:off x="1219320" y="820800"/>
            <a:ext cx="6705360" cy="5122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D:\闫利平八册语文教案\语文第四单元\威尼斯的小艇\图片\new_pa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"/>
          <p:cNvSpPr/>
          <p:nvPr/>
        </p:nvSpPr>
        <p:spPr>
          <a:xfrm>
            <a:off x="1600200" y="380880"/>
            <a:ext cx="6858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（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）默读第四段，想想每一自然段说了什么？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（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）这一段有几层意思？有主次之分吗？怎样概括段意？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（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）同桌讨论上面的问题。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WordArt 7"/>
          <p:cNvSpPr txBox="1"/>
          <p:nvPr/>
        </p:nvSpPr>
        <p:spPr>
          <a:xfrm rot="5400000">
            <a:off x="-1676160" y="2743200"/>
            <a:ext cx="518148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9933ff"/>
                  </a:solidFill>
                  <a:miter/>
                </a:ln>
                <a:solidFill>
                  <a:srgbClr val="ff3399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黑体"/>
              </a:rPr>
              <a:t>自学提纲</a:t>
            </a:r>
            <a:endParaRPr b="1" lang="en-US" sz="2400" spc="1" strike="noStrike">
              <a:ln w="38160">
                <a:solidFill>
                  <a:srgbClr val="9933ff"/>
                </a:solidFill>
                <a:miter/>
              </a:ln>
              <a:solidFill>
                <a:srgbClr val="ff3399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\\四年级二班\闫利平八册语\语文第四单元\威尼斯的小艇\图片\框图14.jpg"/>
          <p:cNvPicPr/>
          <p:nvPr/>
        </p:nvPicPr>
        <p:blipFill>
          <a:blip r:embed="rId1"/>
          <a:stretch/>
        </p:blipFill>
        <p:spPr>
          <a:xfrm>
            <a:off x="-914400" y="-533520"/>
            <a:ext cx="10591920" cy="79250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2"/>
          <p:cNvSpPr txBox="1"/>
          <p:nvPr/>
        </p:nvSpPr>
        <p:spPr>
          <a:xfrm>
            <a:off x="0" y="685800"/>
            <a:ext cx="8153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ff66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隶书"/>
              </a:rPr>
              <a:t>运用想象，用下面的句式说话。</a:t>
            </a:r>
            <a:endParaRPr b="0" i="1" lang="en-US" sz="2800" spc="-1" strike="noStrike">
              <a:ln w="9360">
                <a:solidFill>
                  <a:srgbClr val="9933ff"/>
                </a:solidFill>
                <a:miter/>
              </a:ln>
              <a:solidFill>
                <a:srgbClr val="ff66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-762120" y="2438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  <a:ea typeface="隶书"/>
              </a:rPr>
              <a:t>（）乘小艇（）。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:\闫利平八册语文教案\语文第四单元\威尼斯的小艇\图片\new_pa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"/>
          <p:cNvSpPr/>
          <p:nvPr/>
        </p:nvSpPr>
        <p:spPr>
          <a:xfrm>
            <a:off x="457200" y="3808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急驶的时候，他能够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拐弯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；在拥挤的时候，他能够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挤进挤出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我们看是极窄极险的地方，小艇能够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穿过去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而且速度非常快，两边的建筑物飞一般地往后倒退。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7:12:5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6:14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