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A0B-33E8-4771-B05B-F681D4B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C03-32B0-4C47-A2D3-0BF1F933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02E-F8FB-4139-8BAB-3A8672EE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852-95B2-45AC-980B-EE4F54B9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0C1-443E-4503-B870-D6732B76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2E1-E230-4E77-ACFB-5F52EA1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E2A-BD31-4A20-B718-AD9229F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5E6-89D6-4F13-BED3-C861331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7E2-0961-430C-8FDD-BC338F2B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699-D1C5-45D1-95C1-2BB1E0F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D38-86AC-4442-BE03-F5E05E8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EB5-D343-48F5-A5BF-EBC7F0B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231B-E2C2-48B2-9A80-037BD568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rojctor.wav" TargetMode="External"/><Relationship Id="rId2" Type="http://schemas.microsoft.com/office/2007/relationships/media" Target="file:///tmp/home/.config/libreoffice/4/user/gallery/projctor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60,6,&#24187;&#28783;&#29255; 6" TargetMode="External"/><Relationship Id="rId3" Type="http://schemas.openxmlformats.org/officeDocument/2006/relationships/hyperlink" Target="271,13,&#24187;&#28783;&#29255; 13" TargetMode="External"/><Relationship Id="rId4" Type="http://schemas.openxmlformats.org/officeDocument/2006/relationships/hyperlink" Target="269,10,&#24187;&#28783;&#29255; 10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28023;&#27915;&#20844;&#22253;.mpe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课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058760" y="920880"/>
            <a:ext cx="70264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香港，璀璨的明珠</a:t>
            </a:r>
            <a:endParaRPr b="1" lang="en-US" sz="60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2920" y="2412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9640" y="1844640"/>
            <a:ext cx="813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抄写新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任选下面的一句话作为中心句，学习课文写法从不同方面把它写具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六一儿童节，校园真热闹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②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的教室真整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回家把你知道的香港说给家长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填空1"/>
          <p:cNvPicPr/>
          <p:nvPr/>
        </p:nvPicPr>
        <p:blipFill>
          <a:blip r:embed="rId1"/>
          <a:stretch/>
        </p:blipFill>
        <p:spPr>
          <a:xfrm>
            <a:off x="762120" y="57168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335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　　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香港是我国通向世界的南大门，那里有迷人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沙滩、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著名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公园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和繁华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街市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5"/>
          <p:cNvSpPr/>
          <p:nvPr/>
        </p:nvSpPr>
        <p:spPr>
          <a:xfrm>
            <a:off x="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16002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第三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自然</a:t>
            </a: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9"/>
          <p:cNvSpPr/>
          <p:nvPr/>
        </p:nvSpPr>
        <p:spPr>
          <a:xfrm>
            <a:off x="32004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四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0" y="632448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二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在碧波荡漾的人工湖上，几只海豚和海狮正在表演节目。它们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顶球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钻圈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举重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嬉水跳跃，游客不时被逗得开怀大笑。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hai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34340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1676160"/>
            <a:ext cx="5867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开怀大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981080" y="41148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举世闻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4754520"/>
            <a:ext cx="84582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浪平沙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阳光和煦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浅水湾，是旅游、度假的好地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浅水湾中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0" descr="浅水湾中bj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28600" y="914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77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4920" y="40244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　　每逢节假日，人们结伴来到这里，漫步在金色的沙滩上，沐浴着轻柔的海风，倾听着浪涛拍岸的声响，真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舒服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极了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4"/>
          <p:cNvGrpSpPr/>
          <p:nvPr/>
        </p:nvGrpSpPr>
        <p:grpSpPr>
          <a:xfrm>
            <a:off x="609480" y="5257800"/>
            <a:ext cx="609480" cy="152280"/>
            <a:chOff x="609480" y="5257800"/>
            <a:chExt cx="609480" cy="152280"/>
          </a:xfrm>
        </p:grpSpPr>
        <p:sp>
          <p:nvSpPr>
            <p:cNvPr id="87" name="Oval 7"/>
            <p:cNvSpPr/>
            <p:nvPr/>
          </p:nvSpPr>
          <p:spPr>
            <a:xfrm>
              <a:off x="6094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0666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2133720" y="5867280"/>
            <a:ext cx="609480" cy="152280"/>
            <a:chOff x="2133720" y="5867280"/>
            <a:chExt cx="609480" cy="152280"/>
          </a:xfrm>
        </p:grpSpPr>
        <p:sp>
          <p:nvSpPr>
            <p:cNvPr id="90" name="Oval 12"/>
            <p:cNvSpPr/>
            <p:nvPr/>
          </p:nvSpPr>
          <p:spPr>
            <a:xfrm>
              <a:off x="21337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3"/>
            <p:cNvSpPr/>
            <p:nvPr/>
          </p:nvSpPr>
          <p:spPr>
            <a:xfrm>
              <a:off x="25909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5715000" y="5257800"/>
            <a:ext cx="609480" cy="152280"/>
            <a:chOff x="5715000" y="5257800"/>
            <a:chExt cx="609480" cy="152280"/>
          </a:xfrm>
        </p:grpSpPr>
        <p:sp>
          <p:nvSpPr>
            <p:cNvPr id="93" name="Oval 18"/>
            <p:cNvSpPr/>
            <p:nvPr/>
          </p:nvSpPr>
          <p:spPr>
            <a:xfrm>
              <a:off x="57150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9"/>
            <p:cNvSpPr/>
            <p:nvPr/>
          </p:nvSpPr>
          <p:spPr>
            <a:xfrm>
              <a:off x="61722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ic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3480 w 1079640"/>
              <a:gd name="textAreaRight" fmla="*/ 1046160 w 1079640"/>
              <a:gd name="textAreaTop" fmla="*/ 33480 h 539640"/>
              <a:gd name="textAreaBottom" fmla="*/ 50616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18083" y="10800"/>
                </a:moveTo>
                <a:lnTo>
                  <a:pt x="28644" y="3756"/>
                </a:lnTo>
                <a:lnTo>
                  <a:pt x="28644" y="17844"/>
                </a:lnTo>
                <a:close/>
              </a:path>
              <a:path fill="darken" w="43200" h="21600">
                <a:moveTo>
                  <a:pt x="14556" y="3756"/>
                </a:moveTo>
                <a:lnTo>
                  <a:pt x="16228" y="3756"/>
                </a:lnTo>
                <a:lnTo>
                  <a:pt x="16228" y="17844"/>
                </a:lnTo>
                <a:lnTo>
                  <a:pt x="14556" y="178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漫步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在林荫小道中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沐浴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倾听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　　　　　　　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真是舒服极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80880" y="486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摩天大厦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各种商品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的道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743200" y="4979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鳞次栉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4360" y="5715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琳琅满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390840" y="5715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宽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580000" y="5621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人流如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人流如潮"/>
          <p:cNvPicPr/>
          <p:nvPr/>
        </p:nvPicPr>
        <p:blipFill>
          <a:blip r:embed="rId1"/>
          <a:stretch/>
        </p:blipFill>
        <p:spPr>
          <a:xfrm>
            <a:off x="6410160" y="0"/>
            <a:ext cx="2733840" cy="350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琳琅满目"/>
          <p:cNvPicPr/>
          <p:nvPr/>
        </p:nvPicPr>
        <p:blipFill>
          <a:blip r:embed="rId2"/>
          <a:stretch/>
        </p:blipFill>
        <p:spPr>
          <a:xfrm>
            <a:off x="1752480" y="1523880"/>
            <a:ext cx="4724640" cy="326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k_l_1_33"/>
          <p:cNvPicPr/>
          <p:nvPr/>
        </p:nvPicPr>
        <p:blipFill>
          <a:blip r:embed="rId3"/>
          <a:stretch/>
        </p:blipFill>
        <p:spPr>
          <a:xfrm>
            <a:off x="228600" y="0"/>
            <a:ext cx="252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Oval 3">
            <a:hlinkClick r:id="rId2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441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港湾里闪耀的灯光，像五颜六色的焰火溅落人间。马路上一串串明亮的车灯，如同闪光的长河奔流不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方塔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0" y="3809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到节假日，我们的方塔街就热闹起来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　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184464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读准字音，理解新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用自己喜欢的方式读课文，想想课文是从哪几个方面介绍香港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971640" y="404640"/>
            <a:ext cx="4392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学习，整体感知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2276640"/>
            <a:ext cx="74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琳琅满目       应有尽有     物美价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粤菜    佳肴    一应俱全    大饱口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旅游胜地    海豚   闪耀     夜幕降临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颜六色    奔流不息        五洲四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霓红灯        璀璨无比        南海之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71640" y="476280"/>
            <a:ext cx="43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会读</a:t>
            </a:r>
            <a:endParaRPr b="0" lang="en-US" sz="24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探究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71640" y="227664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自己喜欢的方式读课文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——5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自然段，画出每段的中心句。读一读，想一想，围绕着中心句主要写了什么？再与你的同学交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6922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香港还是一个旅游胜地。小朋友最爱去的就是举世闻名的海洋公园。公园里的海豚和海狮表演最为出色。在清澈的池水里，它们一会儿钻圈，一会儿顶球。有时还趁你不注意会突然跃出水面，向你点头，有时还会喷你一身水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979640" y="1413000"/>
            <a:ext cx="590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2112840" y="3860640"/>
            <a:ext cx="5222880" cy="2548800"/>
            <a:chOff x="2112840" y="3860640"/>
            <a:chExt cx="5222880" cy="2548800"/>
          </a:xfrm>
        </p:grpSpPr>
        <p:sp>
          <p:nvSpPr>
            <p:cNvPr id="56" name="Rectangle 8"/>
            <p:cNvSpPr/>
            <p:nvPr/>
          </p:nvSpPr>
          <p:spPr>
            <a:xfrm>
              <a:off x="2112840" y="45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867280" y="386064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9320" y="52290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710040" y="53006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 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193920" y="5949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港湾里闪耀的灯光，像五颜六色的焰火，洒落人间。马路上一串串明亮的车灯，如同闪光的长河，奔流不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k_l_1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　　香港，真是我国南海之滨一颗</a:t>
            </a:r>
            <a:r>
              <a:rPr b="0" lang="zh-CN" sz="6000" spc="-1" strike="noStrike">
                <a:solidFill>
                  <a:srgbClr val="00ff00"/>
                </a:solidFill>
                <a:latin typeface="Times New Roman"/>
              </a:rPr>
              <a:t>璀璨无比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的“明</a:t>
            </a:r>
            <a:r>
              <a:rPr b="0" lang="zh-CN" sz="6000" spc="-1" strike="noStrike">
                <a:solidFill>
                  <a:srgbClr val="66ff33"/>
                </a:solidFill>
                <a:latin typeface="Times New Roman"/>
              </a:rPr>
              <a:t>珠</a:t>
            </a:r>
            <a:r>
              <a:rPr b="0" lang="en-US" sz="6000" spc="-1" strike="noStrike">
                <a:solidFill>
                  <a:srgbClr val="9966ff"/>
                </a:solidFill>
                <a:latin typeface="Times New Roman"/>
              </a:rPr>
              <a:t>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白云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32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1280" y="26028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6:24:5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8:0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