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943-44FD-484A-BF80-9764FF1E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0F2-E1C9-4550-9462-6667289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415-8190-49EE-81B2-5975EFC1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AF0-7F4D-4746-A003-E68B38FB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711-6BAB-44F3-9578-3F607ECD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2F7A-9A57-490A-9BBC-0CCC927A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BA3-6C27-4D45-B4BE-81A2762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E4B4-F02D-4298-988F-53898CB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174-7047-459D-A8F7-90ACF94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27432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A7DB-7B94-4E30-82DC-E4A0FB8D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0B1-DA83-4A36-B4C9-CA758CB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78B-9614-45D8-8D32-7A73E25A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F59D-119A-406A-9476-765FEE22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F8F2-6B94-406E-A1D7-A99B408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550-B84F-49D5-B23A-F1BADA5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8D19-9BBD-4EB6-BA5C-BABFF1E8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5544-E553-4722-A808-7C2ED8BD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D54-CFD0-4B02-93A0-84CA41D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C50-8775-4656-979A-2D098A5C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4DA-8034-4B06-9015-DB229B0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7432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85F-6CBC-48A4-8D18-79DBD3A5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E46-3B61-41C9-925E-B075DA2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004-A3B1-4391-91A1-A702B14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4DF-0F19-4721-ACBA-EA269A9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1BA5-7B1C-468F-A5BC-7CD6A17C84A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E15-54D5-42E8-8264-91A32ADE9CFE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471-EFCB-463E-86F7-00EAE47A88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C63-B885-46C0-88BC-7FDEA3FABED0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1480" y="2490840"/>
            <a:ext cx="46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销售培训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28760" y="357120"/>
            <a:ext cx="6470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71680" y="1857240"/>
            <a:ext cx="81435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55308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F5B-8E2B-4E32-B5DD-688ED8187566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47"/>
          <p:cNvGrpSpPr/>
          <p:nvPr/>
        </p:nvGrpSpPr>
        <p:grpSpPr>
          <a:xfrm>
            <a:off x="428760" y="357120"/>
            <a:ext cx="7775280" cy="5592240"/>
            <a:chOff x="428760" y="357120"/>
            <a:chExt cx="7775280" cy="5592240"/>
          </a:xfrm>
        </p:grpSpPr>
        <p:grpSp>
          <p:nvGrpSpPr>
            <p:cNvPr id="88" name="Group 3"/>
            <p:cNvGrpSpPr/>
            <p:nvPr/>
          </p:nvGrpSpPr>
          <p:grpSpPr>
            <a:xfrm>
              <a:off x="714240" y="2000160"/>
              <a:ext cx="7489800" cy="3949200"/>
              <a:chOff x="714240" y="2000160"/>
              <a:chExt cx="7489800" cy="3949200"/>
            </a:xfrm>
          </p:grpSpPr>
          <p:grpSp>
            <p:nvGrpSpPr>
              <p:cNvPr id="89" name="Group 4"/>
              <p:cNvGrpSpPr/>
              <p:nvPr/>
            </p:nvGrpSpPr>
            <p:grpSpPr>
              <a:xfrm>
                <a:off x="714240" y="3308040"/>
                <a:ext cx="4006800" cy="2502720"/>
                <a:chOff x="714240" y="3308040"/>
                <a:chExt cx="4006800" cy="2502720"/>
              </a:xfrm>
            </p:grpSpPr>
            <p:sp>
              <p:nvSpPr>
                <p:cNvPr id="90" name="Rectangle 5"/>
                <p:cNvSpPr/>
                <p:nvPr/>
              </p:nvSpPr>
              <p:spPr>
                <a:xfrm>
                  <a:off x="4186440" y="3810240"/>
                  <a:ext cx="534240" cy="200016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6"/>
                <p:cNvSpPr/>
                <p:nvPr/>
              </p:nvSpPr>
              <p:spPr>
                <a:xfrm>
                  <a:off x="3501000" y="4088520"/>
                  <a:ext cx="533160" cy="172188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7"/>
                <p:cNvSpPr/>
                <p:nvPr/>
              </p:nvSpPr>
              <p:spPr>
                <a:xfrm>
                  <a:off x="2813400" y="4413240"/>
                  <a:ext cx="534240" cy="1397520"/>
                </a:xfrm>
                <a:prstGeom prst="rect">
                  <a:avLst/>
                </a:prstGeom>
                <a:solidFill>
                  <a:srgbClr val="ff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8"/>
                <p:cNvSpPr/>
                <p:nvPr/>
              </p:nvSpPr>
              <p:spPr>
                <a:xfrm>
                  <a:off x="2126160" y="4689720"/>
                  <a:ext cx="536040" cy="1120680"/>
                </a:xfrm>
                <a:prstGeom prst="rect">
                  <a:avLst/>
                </a:pr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9"/>
                <p:cNvSpPr/>
                <p:nvPr/>
              </p:nvSpPr>
              <p:spPr>
                <a:xfrm>
                  <a:off x="1439640" y="4923000"/>
                  <a:ext cx="534240" cy="887760"/>
                </a:xfrm>
                <a:prstGeom prst="rect">
                  <a:avLst/>
                </a:prstGeom>
                <a:solidFill>
                  <a:srgbClr val="bc00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"/>
                <p:cNvSpPr/>
                <p:nvPr/>
              </p:nvSpPr>
              <p:spPr>
                <a:xfrm>
                  <a:off x="753120" y="5198040"/>
                  <a:ext cx="534240" cy="612360"/>
                </a:xfrm>
                <a:prstGeom prst="rect">
                  <a:avLst/>
                </a:prstGeom>
                <a:solidFill>
                  <a:srgbClr val="ff05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1"/>
                <p:cNvSpPr/>
                <p:nvPr/>
              </p:nvSpPr>
              <p:spPr>
                <a:xfrm>
                  <a:off x="714240" y="3308040"/>
                  <a:ext cx="4006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华文细黑"/>
                      <a:ea typeface="华文细黑"/>
                    </a:rPr>
                    <a:t>图表应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12"/>
                <p:cNvSpPr/>
                <p:nvPr/>
              </p:nvSpPr>
              <p:spPr>
                <a:xfrm>
                  <a:off x="753120" y="3642480"/>
                  <a:ext cx="396756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13"/>
                <p:cNvSpPr/>
                <p:nvPr/>
              </p:nvSpPr>
              <p:spPr>
                <a:xfrm>
                  <a:off x="3501000" y="5195160"/>
                  <a:ext cx="531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华文细黑"/>
                      <a:ea typeface="华文细黑"/>
                    </a:rPr>
                    <a:t>强调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4"/>
              <p:cNvGrpSpPr/>
              <p:nvPr/>
            </p:nvGrpSpPr>
            <p:grpSpPr>
              <a:xfrm>
                <a:off x="714240" y="2000160"/>
                <a:ext cx="7489800" cy="787320"/>
                <a:chOff x="714240" y="2000160"/>
                <a:chExt cx="7489800" cy="787320"/>
              </a:xfrm>
            </p:grpSpPr>
            <p:grpSp>
              <p:nvGrpSpPr>
                <p:cNvPr id="100" name="Group 15"/>
                <p:cNvGrpSpPr/>
                <p:nvPr/>
              </p:nvGrpSpPr>
              <p:grpSpPr>
                <a:xfrm>
                  <a:off x="714240" y="2000160"/>
                  <a:ext cx="7489800" cy="525600"/>
                  <a:chOff x="714240" y="2000160"/>
                  <a:chExt cx="7489800" cy="525600"/>
                </a:xfrm>
              </p:grpSpPr>
              <p:sp>
                <p:nvSpPr>
                  <p:cNvPr id="101" name="Rectangle 16"/>
                  <p:cNvSpPr/>
                  <p:nvPr/>
                </p:nvSpPr>
                <p:spPr>
                  <a:xfrm>
                    <a:off x="714240" y="2000160"/>
                    <a:ext cx="935640" cy="525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Rectangle 17"/>
                  <p:cNvSpPr/>
                  <p:nvPr/>
                </p:nvSpPr>
                <p:spPr>
                  <a:xfrm>
                    <a:off x="1649880" y="2000160"/>
                    <a:ext cx="935640" cy="525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Rectangle 18"/>
                  <p:cNvSpPr/>
                  <p:nvPr/>
                </p:nvSpPr>
                <p:spPr>
                  <a:xfrm>
                    <a:off x="2585520" y="2000160"/>
                    <a:ext cx="935640" cy="52560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Rectangle 19"/>
                  <p:cNvSpPr/>
                  <p:nvPr/>
                </p:nvSpPr>
                <p:spPr>
                  <a:xfrm>
                    <a:off x="3521520" y="2000160"/>
                    <a:ext cx="935640" cy="525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Rectangle 20"/>
                  <p:cNvSpPr/>
                  <p:nvPr/>
                </p:nvSpPr>
                <p:spPr>
                  <a:xfrm>
                    <a:off x="4460760" y="2000160"/>
                    <a:ext cx="935640" cy="525600"/>
                  </a:xfrm>
                  <a:prstGeom prst="rect">
                    <a:avLst/>
                  </a:prstGeom>
                  <a:solidFill>
                    <a:srgbClr val="ff0517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Rectangle 21"/>
                  <p:cNvSpPr/>
                  <p:nvPr/>
                </p:nvSpPr>
                <p:spPr>
                  <a:xfrm>
                    <a:off x="5396400" y="2000160"/>
                    <a:ext cx="935640" cy="525600"/>
                  </a:xfrm>
                  <a:prstGeom prst="rect">
                    <a:avLst/>
                  </a:prstGeom>
                  <a:solidFill>
                    <a:srgbClr val="bc000d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tangle 22"/>
                  <p:cNvSpPr/>
                  <p:nvPr/>
                </p:nvSpPr>
                <p:spPr>
                  <a:xfrm>
                    <a:off x="6332400" y="2000160"/>
                    <a:ext cx="935640" cy="525600"/>
                  </a:xfrm>
                  <a:prstGeom prst="rect">
                    <a:avLst/>
                  </a:prstGeom>
                  <a:solidFill>
                    <a:srgbClr val="3a0004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tangle 23"/>
                  <p:cNvSpPr/>
                  <p:nvPr/>
                </p:nvSpPr>
                <p:spPr>
                  <a:xfrm>
                    <a:off x="7268400" y="2000160"/>
                    <a:ext cx="935640" cy="525600"/>
                  </a:xfrm>
                  <a:prstGeom prst="rect">
                    <a:avLst/>
                  </a:prstGeom>
                  <a:solidFill>
                    <a:srgbClr val="ff3b3b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4"/>
                <p:cNvGrpSpPr/>
                <p:nvPr/>
              </p:nvGrpSpPr>
              <p:grpSpPr>
                <a:xfrm>
                  <a:off x="714240" y="2525760"/>
                  <a:ext cx="7489800" cy="261720"/>
                  <a:chOff x="714240" y="2525760"/>
                  <a:chExt cx="7489800" cy="261720"/>
                </a:xfrm>
              </p:grpSpPr>
              <p:sp>
                <p:nvSpPr>
                  <p:cNvPr id="110" name="Rectangle 25"/>
                  <p:cNvSpPr/>
                  <p:nvPr/>
                </p:nvSpPr>
                <p:spPr>
                  <a:xfrm>
                    <a:off x="71424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背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tangle 26"/>
                  <p:cNvSpPr/>
                  <p:nvPr/>
                </p:nvSpPr>
                <p:spPr>
                  <a:xfrm>
                    <a:off x="164988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文本和线条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ctangle 27"/>
                  <p:cNvSpPr/>
                  <p:nvPr/>
                </p:nvSpPr>
                <p:spPr>
                  <a:xfrm>
                    <a:off x="258552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阴影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Rectangle 28"/>
                  <p:cNvSpPr/>
                  <p:nvPr/>
                </p:nvSpPr>
                <p:spPr>
                  <a:xfrm>
                    <a:off x="352152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标题文本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Rectangle 29"/>
                  <p:cNvSpPr/>
                  <p:nvPr/>
                </p:nvSpPr>
                <p:spPr>
                  <a:xfrm>
                    <a:off x="446076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填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Rectangle 30"/>
                  <p:cNvSpPr/>
                  <p:nvPr/>
                </p:nvSpPr>
                <p:spPr>
                  <a:xfrm>
                    <a:off x="539640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强调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31"/>
                  <p:cNvSpPr/>
                  <p:nvPr/>
                </p:nvSpPr>
                <p:spPr>
                  <a:xfrm>
                    <a:off x="633240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超链接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32"/>
                  <p:cNvSpPr/>
                  <p:nvPr/>
                </p:nvSpPr>
                <p:spPr>
                  <a:xfrm>
                    <a:off x="7268400" y="2525760"/>
                    <a:ext cx="935640" cy="26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华文细黑"/>
                        <a:ea typeface="华文细黑"/>
                      </a:rPr>
                      <a:t>已访超链接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" name="Group 33"/>
              <p:cNvGrpSpPr/>
              <p:nvPr/>
            </p:nvGrpSpPr>
            <p:grpSpPr>
              <a:xfrm>
                <a:off x="5761440" y="3325320"/>
                <a:ext cx="2442240" cy="2624040"/>
                <a:chOff x="5761440" y="3325320"/>
                <a:chExt cx="2442240" cy="2624040"/>
              </a:xfrm>
            </p:grpSpPr>
            <p:grpSp>
              <p:nvGrpSpPr>
                <p:cNvPr id="119" name="Group 34"/>
                <p:cNvGrpSpPr/>
                <p:nvPr/>
              </p:nvGrpSpPr>
              <p:grpSpPr>
                <a:xfrm>
                  <a:off x="6031080" y="3789360"/>
                  <a:ext cx="1906200" cy="1900800"/>
                  <a:chOff x="6031080" y="3789360"/>
                  <a:chExt cx="1906200" cy="1900800"/>
                </a:xfrm>
              </p:grpSpPr>
              <p:sp>
                <p:nvSpPr>
                  <p:cNvPr id="120" name="未知"/>
                  <p:cNvSpPr/>
                  <p:nvPr/>
                </p:nvSpPr>
                <p:spPr>
                  <a:xfrm>
                    <a:off x="6031080" y="4064040"/>
                    <a:ext cx="953280" cy="678960"/>
                  </a:xfrm>
                  <a:custGeom>
                    <a:avLst/>
                    <a:gdLst>
                      <a:gd name="textAreaLeft" fmla="*/ 0 w 953280"/>
                      <a:gd name="textAreaRight" fmla="*/ 953640 w 953280"/>
                      <a:gd name="textAreaTop" fmla="*/ 0 h 678960"/>
                      <a:gd name="textAreaBottom" fmla="*/ 679320 h 678960"/>
                    </a:gdLst>
                    <a:ahLst/>
                    <a:rect l="textAreaLeft" t="textAreaTop" r="textAreaRight" b="textAreaBottom"/>
                    <a:pathLst>
                      <a:path w="174" h="124">
                        <a:moveTo>
                          <a:pt x="50" y="0"/>
                        </a:moveTo>
                        <a:cubicBezTo>
                          <a:pt x="18" y="33"/>
                          <a:pt x="0" y="77"/>
                          <a:pt x="0" y="123"/>
                        </a:cubicBezTo>
                        <a:lnTo>
                          <a:pt x="174" y="124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未知"/>
                  <p:cNvSpPr/>
                  <p:nvPr/>
                </p:nvSpPr>
                <p:spPr>
                  <a:xfrm>
                    <a:off x="6304680" y="3789360"/>
                    <a:ext cx="679320" cy="953640"/>
                  </a:xfrm>
                  <a:custGeom>
                    <a:avLst/>
                    <a:gdLst>
                      <a:gd name="textAreaLeft" fmla="*/ 0 w 679320"/>
                      <a:gd name="textAreaRight" fmla="*/ 679680 w 679320"/>
                      <a:gd name="textAreaTop" fmla="*/ 0 h 953640"/>
                      <a:gd name="textAreaBottom" fmla="*/ 954000 h 953640"/>
                    </a:gdLst>
                    <a:ahLst/>
                    <a:rect l="textAreaLeft" t="textAreaTop" r="textAreaRight" b="textAreaBottom"/>
                    <a:pathLst>
                      <a:path w="124" h="174">
                        <a:moveTo>
                          <a:pt x="123" y="0"/>
                        </a:moveTo>
                        <a:cubicBezTo>
                          <a:pt x="77" y="0"/>
                          <a:pt x="33" y="18"/>
                          <a:pt x="0" y="50"/>
                        </a:cubicBezTo>
                        <a:lnTo>
                          <a:pt x="124" y="174"/>
                        </a:lnTo>
                        <a:lnTo>
                          <a:pt x="12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未知"/>
                  <p:cNvSpPr/>
                  <p:nvPr/>
                </p:nvSpPr>
                <p:spPr>
                  <a:xfrm>
                    <a:off x="6031080" y="4735080"/>
                    <a:ext cx="953280" cy="680400"/>
                  </a:xfrm>
                  <a:custGeom>
                    <a:avLst/>
                    <a:gdLst>
                      <a:gd name="textAreaLeft" fmla="*/ 0 w 953280"/>
                      <a:gd name="textAreaRight" fmla="*/ 953640 w 953280"/>
                      <a:gd name="textAreaTop" fmla="*/ 0 h 680400"/>
                      <a:gd name="textAreaBottom" fmla="*/ 680760 h 680400"/>
                    </a:gdLst>
                    <a:ahLst/>
                    <a:rect l="textAreaLeft" t="textAreaTop" r="textAreaRight" b="textAreaBottom"/>
                    <a:pathLst>
                      <a:path w="771" h="551">
                        <a:moveTo>
                          <a:pt x="0" y="0"/>
                        </a:moveTo>
                        <a:cubicBezTo>
                          <a:pt x="0" y="204"/>
                          <a:pt x="80" y="405"/>
                          <a:pt x="222" y="551"/>
                        </a:cubicBezTo>
                        <a:lnTo>
                          <a:pt x="771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未知"/>
                  <p:cNvSpPr/>
                  <p:nvPr/>
                </p:nvSpPr>
                <p:spPr>
                  <a:xfrm>
                    <a:off x="6304680" y="4743000"/>
                    <a:ext cx="679320" cy="947160"/>
                  </a:xfrm>
                  <a:custGeom>
                    <a:avLst/>
                    <a:gdLst>
                      <a:gd name="textAreaLeft" fmla="*/ 0 w 679320"/>
                      <a:gd name="textAreaRight" fmla="*/ 679680 w 679320"/>
                      <a:gd name="textAreaTop" fmla="*/ 0 h 947160"/>
                      <a:gd name="textAreaBottom" fmla="*/ 947520 h 947160"/>
                    </a:gdLst>
                    <a:ahLst/>
                    <a:rect l="textAreaLeft" t="textAreaTop" r="textAreaRight" b="textAreaBottom"/>
                    <a:pathLst>
                      <a:path w="124" h="173">
                        <a:moveTo>
                          <a:pt x="0" y="123"/>
                        </a:moveTo>
                        <a:cubicBezTo>
                          <a:pt x="33" y="155"/>
                          <a:pt x="77" y="173"/>
                          <a:pt x="124" y="173"/>
                        </a:cubicBezTo>
                        <a:lnTo>
                          <a:pt x="124" y="0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未知"/>
                  <p:cNvSpPr/>
                  <p:nvPr/>
                </p:nvSpPr>
                <p:spPr>
                  <a:xfrm>
                    <a:off x="6984360" y="4743000"/>
                    <a:ext cx="673560" cy="947160"/>
                  </a:xfrm>
                  <a:custGeom>
                    <a:avLst/>
                    <a:gdLst>
                      <a:gd name="textAreaLeft" fmla="*/ 0 w 673560"/>
                      <a:gd name="textAreaRight" fmla="*/ 673920 w 673560"/>
                      <a:gd name="textAreaTop" fmla="*/ 0 h 947160"/>
                      <a:gd name="textAreaBottom" fmla="*/ 947520 h 947160"/>
                    </a:gdLst>
                    <a:ahLst/>
                    <a:rect l="textAreaLeft" t="textAreaTop" r="textAreaRight" b="textAreaBottom"/>
                    <a:pathLst>
                      <a:path w="123" h="173">
                        <a:moveTo>
                          <a:pt x="0" y="173"/>
                        </a:moveTo>
                        <a:cubicBezTo>
                          <a:pt x="46" y="173"/>
                          <a:pt x="90" y="155"/>
                          <a:pt x="123" y="123"/>
                        </a:cubicBezTo>
                        <a:lnTo>
                          <a:pt x="0" y="0"/>
                        </a:lnTo>
                        <a:lnTo>
                          <a:pt x="0" y="173"/>
                        </a:lnTo>
                        <a:close/>
                      </a:path>
                    </a:pathLst>
                  </a:custGeom>
                  <a:solidFill>
                    <a:srgbClr val="ff3b3b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未知"/>
                  <p:cNvSpPr/>
                  <p:nvPr/>
                </p:nvSpPr>
                <p:spPr>
                  <a:xfrm>
                    <a:off x="6984360" y="3789360"/>
                    <a:ext cx="673560" cy="953640"/>
                  </a:xfrm>
                  <a:custGeom>
                    <a:avLst/>
                    <a:gdLst>
                      <a:gd name="textAreaLeft" fmla="*/ 0 w 673560"/>
                      <a:gd name="textAreaRight" fmla="*/ 673920 w 673560"/>
                      <a:gd name="textAreaTop" fmla="*/ 0 h 953640"/>
                      <a:gd name="textAreaBottom" fmla="*/ 954000 h 953640"/>
                    </a:gdLst>
                    <a:ahLst/>
                    <a:rect l="textAreaLeft" t="textAreaTop" r="textAreaRight" b="textAreaBottom"/>
                    <a:pathLst>
                      <a:path w="123" h="174">
                        <a:moveTo>
                          <a:pt x="123" y="50"/>
                        </a:moveTo>
                        <a:cubicBezTo>
                          <a:pt x="90" y="18"/>
                          <a:pt x="46" y="0"/>
                          <a:pt x="0" y="0"/>
                        </a:cubicBezTo>
                        <a:lnTo>
                          <a:pt x="0" y="174"/>
                        </a:lnTo>
                        <a:lnTo>
                          <a:pt x="123" y="50"/>
                        </a:lnTo>
                        <a:close/>
                      </a:path>
                    </a:pathLst>
                  </a:custGeom>
                  <a:solidFill>
                    <a:srgbClr val="ff0517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未知"/>
                  <p:cNvSpPr/>
                  <p:nvPr/>
                </p:nvSpPr>
                <p:spPr>
                  <a:xfrm>
                    <a:off x="6984360" y="4064040"/>
                    <a:ext cx="952920" cy="678960"/>
                  </a:xfrm>
                  <a:custGeom>
                    <a:avLst/>
                    <a:gdLst>
                      <a:gd name="textAreaLeft" fmla="*/ 0 w 952920"/>
                      <a:gd name="textAreaRight" fmla="*/ 953280 w 952920"/>
                      <a:gd name="textAreaTop" fmla="*/ 0 h 678960"/>
                      <a:gd name="textAreaBottom" fmla="*/ 679320 h 678960"/>
                    </a:gdLst>
                    <a:ahLst/>
                    <a:rect l="textAreaLeft" t="textAreaTop" r="textAreaRight" b="textAreaBottom"/>
                    <a:pathLst>
                      <a:path w="174" h="124">
                        <a:moveTo>
                          <a:pt x="174" y="124"/>
                        </a:moveTo>
                        <a:cubicBezTo>
                          <a:pt x="174" y="77"/>
                          <a:pt x="155" y="33"/>
                          <a:pt x="123" y="0"/>
                        </a:cubicBezTo>
                        <a:lnTo>
                          <a:pt x="0" y="124"/>
                        </a:lnTo>
                        <a:lnTo>
                          <a:pt x="174" y="124"/>
                        </a:lnTo>
                        <a:close/>
                      </a:path>
                    </a:pathLst>
                  </a:custGeom>
                  <a:solidFill>
                    <a:srgbClr val="bc000d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未知"/>
                  <p:cNvSpPr/>
                  <p:nvPr/>
                </p:nvSpPr>
                <p:spPr>
                  <a:xfrm>
                    <a:off x="6984360" y="4743000"/>
                    <a:ext cx="952920" cy="672120"/>
                  </a:xfrm>
                  <a:custGeom>
                    <a:avLst/>
                    <a:gdLst>
                      <a:gd name="textAreaLeft" fmla="*/ 0 w 952920"/>
                      <a:gd name="textAreaRight" fmla="*/ 953280 w 952920"/>
                      <a:gd name="textAreaTop" fmla="*/ 0 h 672120"/>
                      <a:gd name="textAreaBottom" fmla="*/ 672480 h 672120"/>
                    </a:gdLst>
                    <a:ahLst/>
                    <a:rect l="textAreaLeft" t="textAreaTop" r="textAreaRight" b="textAreaBottom"/>
                    <a:pathLst>
                      <a:path w="174" h="123">
                        <a:moveTo>
                          <a:pt x="123" y="123"/>
                        </a:moveTo>
                        <a:cubicBezTo>
                          <a:pt x="155" y="90"/>
                          <a:pt x="174" y="46"/>
                          <a:pt x="174" y="0"/>
                        </a:cubicBezTo>
                        <a:lnTo>
                          <a:pt x="0" y="0"/>
                        </a:lnTo>
                        <a:lnTo>
                          <a:pt x="123" y="123"/>
                        </a:lnTo>
                        <a:close/>
                      </a:path>
                    </a:pathLst>
                  </a:custGeom>
                  <a:solidFill>
                    <a:srgbClr val="3a0004"/>
                  </a:solidFill>
                  <a:ln w="3240">
                    <a:solidFill>
                      <a:srgbClr val="c0c0c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Arc 43"/>
                <p:cNvSpPr/>
                <p:nvPr/>
              </p:nvSpPr>
              <p:spPr>
                <a:xfrm>
                  <a:off x="5761440" y="3729600"/>
                  <a:ext cx="2442240" cy="2219760"/>
                </a:xfrm>
                <a:custGeom>
                  <a:avLst/>
                  <a:gdLst>
                    <a:gd name="textAreaLeft" fmla="*/ 0 w 2442240"/>
                    <a:gd name="textAreaRight" fmla="*/ 2442600 w 2442240"/>
                    <a:gd name="textAreaTop" fmla="*/ 0 h 2219760"/>
                    <a:gd name="textAreaBottom" fmla="*/ 2220120 h 2219760"/>
                  </a:gdLst>
                  <a:ahLst/>
                  <a:rect l="textAreaLeft" t="textAreaTop" r="textAreaRight" b="textAreaBottom"/>
                  <a:pathLst>
                    <a:path fill="none" w="43200" h="39307">
                      <a:moveTo>
                        <a:pt x="33995" y="17"/>
                      </a:moveTo>
                      <a:cubicBezTo>
                        <a:pt x="39764" y="4060"/>
                        <a:pt x="43200" y="10662"/>
                        <a:pt x="43200" y="17707"/>
                      </a:cubicBezTo>
                      <a:cubicBezTo>
                        <a:pt x="43200" y="29636"/>
                        <a:pt x="33529" y="39307"/>
                        <a:pt x="21600" y="39307"/>
                      </a:cubicBezTo>
                      <a:cubicBezTo>
                        <a:pt x="9670" y="39307"/>
                        <a:pt x="0" y="29636"/>
                        <a:pt x="0" y="17707"/>
                      </a:cubicBezTo>
                      <a:cubicBezTo>
                        <a:pt x="-1" y="10651"/>
                        <a:pt x="3445" y="4040"/>
                        <a:pt x="9229" y="-1"/>
                      </a:cubicBezTo>
                    </a:path>
                    <a:path stroke="0" w="43200" h="39307">
                      <a:moveTo>
                        <a:pt x="33995" y="17"/>
                      </a:moveTo>
                      <a:cubicBezTo>
                        <a:pt x="39764" y="4060"/>
                        <a:pt x="43200" y="10662"/>
                        <a:pt x="43200" y="17707"/>
                      </a:cubicBezTo>
                      <a:cubicBezTo>
                        <a:pt x="43200" y="29636"/>
                        <a:pt x="33529" y="39307"/>
                        <a:pt x="21600" y="39307"/>
                      </a:cubicBezTo>
                      <a:cubicBezTo>
                        <a:pt x="9670" y="39307"/>
                        <a:pt x="0" y="29636"/>
                        <a:pt x="0" y="17707"/>
                      </a:cubicBezTo>
                      <a:cubicBezTo>
                        <a:pt x="-1" y="10651"/>
                        <a:pt x="3445" y="4040"/>
                        <a:pt x="9229" y="-1"/>
                      </a:cubicBezTo>
                      <a:lnTo>
                        <a:pt x="21600" y="17707"/>
                      </a:lnTo>
                      <a:lnTo>
                        <a:pt x="33995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44"/>
                <p:cNvSpPr/>
                <p:nvPr/>
              </p:nvSpPr>
              <p:spPr>
                <a:xfrm>
                  <a:off x="6567120" y="332532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华文细黑"/>
                      <a:ea typeface="华文细黑"/>
                    </a:rPr>
                    <a:t>标准配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Rectangle 2"/>
            <p:cNvSpPr/>
            <p:nvPr/>
          </p:nvSpPr>
          <p:spPr>
            <a:xfrm>
              <a:off x="428760" y="357120"/>
              <a:ext cx="64706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使用规范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灯片编号占位符 48"/>
          <p:cNvSpPr/>
          <p:nvPr/>
        </p:nvSpPr>
        <p:spPr>
          <a:xfrm>
            <a:off x="655308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8AE8-32C1-4566-AE90-F31FC4BB0D52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字体规范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33" name="组合 58"/>
          <p:cNvGrpSpPr/>
          <p:nvPr/>
        </p:nvGrpSpPr>
        <p:grpSpPr>
          <a:xfrm>
            <a:off x="571680" y="1357200"/>
            <a:ext cx="7715160" cy="4909320"/>
            <a:chOff x="571680" y="1357200"/>
            <a:chExt cx="7715160" cy="4909320"/>
          </a:xfrm>
        </p:grpSpPr>
        <p:sp>
          <p:nvSpPr>
            <p:cNvPr id="134" name="矩形 53"/>
            <p:cNvSpPr/>
            <p:nvPr/>
          </p:nvSpPr>
          <p:spPr>
            <a:xfrm>
              <a:off x="571680" y="1361880"/>
              <a:ext cx="7715160" cy="428400"/>
            </a:xfrm>
            <a:prstGeom prst="rect">
              <a:avLst/>
            </a:prstGeom>
            <a:gradFill rotWithShape="0">
              <a:gsLst>
                <a:gs pos="0">
                  <a:srgbClr val="820009"/>
                </a:gs>
                <a:gs pos="100000">
                  <a:srgbClr val="ff3e4b">
                    <a:alpha val="87058"/>
                  </a:srgbClr>
                </a:gs>
              </a:gsLst>
              <a:lin ang="5400000"/>
            </a:gradFill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54"/>
            <p:cNvSpPr/>
            <p:nvPr/>
          </p:nvSpPr>
          <p:spPr>
            <a:xfrm>
              <a:off x="571680" y="1933200"/>
              <a:ext cx="3929040" cy="4333320"/>
            </a:xfrm>
            <a:prstGeom prst="rect">
              <a:avLst/>
            </a:prstGeom>
            <a:noFill/>
            <a:ln w="12600">
              <a:solidFill>
                <a:srgbClr val="d1d1d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中文标准字体：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黑体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/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36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3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8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号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16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16</a:t>
              </a:r>
              <a:r>
                <a:rPr b="0" lang="zh-CN" sz="16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号字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14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14</a:t>
              </a:r>
              <a:r>
                <a:rPr b="0" lang="zh-CN" sz="14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号字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华文细黑</a:t>
              </a:r>
              <a:r>
                <a:rPr b="0" lang="en-US" sz="12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12</a:t>
              </a:r>
              <a:r>
                <a:rPr b="0" lang="zh-CN" sz="1200" spc="-1" strike="noStrike">
                  <a:solidFill>
                    <a:srgbClr val="ff0000"/>
                  </a:solidFill>
                  <a:latin typeface="华文细黑"/>
                  <a:ea typeface="华文细黑"/>
                </a:rPr>
                <a:t>号字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55"/>
            <p:cNvSpPr/>
            <p:nvPr/>
          </p:nvSpPr>
          <p:spPr>
            <a:xfrm>
              <a:off x="4572000" y="1933200"/>
              <a:ext cx="3714840" cy="4282920"/>
            </a:xfrm>
            <a:prstGeom prst="rect">
              <a:avLst/>
            </a:prstGeom>
            <a:noFill/>
            <a:ln w="12600">
              <a:solidFill>
                <a:srgbClr val="d1d1d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英文标准字体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rial 36 abcAB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32 abcA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28 abc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24 abc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20 abc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18 abcA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16abcAB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14 abcA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rial  12 abcA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56"/>
            <p:cNvSpPr/>
            <p:nvPr/>
          </p:nvSpPr>
          <p:spPr>
            <a:xfrm>
              <a:off x="593280" y="1357200"/>
              <a:ext cx="4500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演示文稿标注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灯片编号占位符 7"/>
          <p:cNvSpPr/>
          <p:nvPr/>
        </p:nvSpPr>
        <p:spPr>
          <a:xfrm>
            <a:off x="655308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B6D1-A0F2-4BCA-B8E1-7A8ECD0337B4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40" name="组合 46"/>
          <p:cNvGrpSpPr/>
          <p:nvPr/>
        </p:nvGrpSpPr>
        <p:grpSpPr>
          <a:xfrm>
            <a:off x="785880" y="2790720"/>
            <a:ext cx="7143840" cy="762120"/>
            <a:chOff x="785880" y="2790720"/>
            <a:chExt cx="7143840" cy="762120"/>
          </a:xfrm>
        </p:grpSpPr>
        <p:sp>
          <p:nvSpPr>
            <p:cNvPr id="141" name="矩形 39"/>
            <p:cNvSpPr/>
            <p:nvPr/>
          </p:nvSpPr>
          <p:spPr>
            <a:xfrm>
              <a:off x="785880" y="2790720"/>
              <a:ext cx="7143840" cy="76212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7"/>
            <p:cNvSpPr/>
            <p:nvPr/>
          </p:nvSpPr>
          <p:spPr>
            <a:xfrm>
              <a:off x="785880" y="2790720"/>
              <a:ext cx="844560" cy="76212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8d000a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5"/>
          <p:cNvGrpSpPr/>
          <p:nvPr/>
        </p:nvGrpSpPr>
        <p:grpSpPr>
          <a:xfrm>
            <a:off x="785880" y="1808280"/>
            <a:ext cx="7143840" cy="763560"/>
            <a:chOff x="785880" y="1808280"/>
            <a:chExt cx="7143840" cy="763560"/>
          </a:xfrm>
        </p:grpSpPr>
        <p:sp>
          <p:nvSpPr>
            <p:cNvPr id="144" name="矩形 36"/>
            <p:cNvSpPr/>
            <p:nvPr/>
          </p:nvSpPr>
          <p:spPr>
            <a:xfrm>
              <a:off x="785880" y="18082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8d000a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40"/>
            <p:cNvSpPr/>
            <p:nvPr/>
          </p:nvSpPr>
          <p:spPr>
            <a:xfrm>
              <a:off x="785880" y="18082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47"/>
          <p:cNvGrpSpPr/>
          <p:nvPr/>
        </p:nvGrpSpPr>
        <p:grpSpPr>
          <a:xfrm>
            <a:off x="785880" y="3786120"/>
            <a:ext cx="7143840" cy="763560"/>
            <a:chOff x="785880" y="3786120"/>
            <a:chExt cx="7143840" cy="763560"/>
          </a:xfrm>
        </p:grpSpPr>
        <p:sp>
          <p:nvSpPr>
            <p:cNvPr id="147" name="矩形 38"/>
            <p:cNvSpPr/>
            <p:nvPr/>
          </p:nvSpPr>
          <p:spPr>
            <a:xfrm>
              <a:off x="785880" y="378612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8d000a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1"/>
            <p:cNvSpPr/>
            <p:nvPr/>
          </p:nvSpPr>
          <p:spPr>
            <a:xfrm>
              <a:off x="785880" y="378612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8"/>
          <p:cNvGrpSpPr/>
          <p:nvPr/>
        </p:nvGrpSpPr>
        <p:grpSpPr>
          <a:xfrm>
            <a:off x="785880" y="4857840"/>
            <a:ext cx="7143840" cy="763560"/>
            <a:chOff x="785880" y="4857840"/>
            <a:chExt cx="7143840" cy="763560"/>
          </a:xfrm>
        </p:grpSpPr>
        <p:sp>
          <p:nvSpPr>
            <p:cNvPr id="150" name="矩形 42"/>
            <p:cNvSpPr/>
            <p:nvPr/>
          </p:nvSpPr>
          <p:spPr>
            <a:xfrm>
              <a:off x="785880" y="485784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3"/>
            <p:cNvSpPr/>
            <p:nvPr/>
          </p:nvSpPr>
          <p:spPr>
            <a:xfrm>
              <a:off x="785880" y="485784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ff3e4b"/>
                </a:gs>
                <a:gs pos="100000">
                  <a:srgbClr val="8d000a"/>
                </a:gs>
              </a:gsLst>
              <a:lin ang="135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50"/>
          <p:cNvSpPr/>
          <p:nvPr/>
        </p:nvSpPr>
        <p:spPr>
          <a:xfrm>
            <a:off x="2419200" y="195408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6"/>
          <p:cNvSpPr/>
          <p:nvPr/>
        </p:nvSpPr>
        <p:spPr>
          <a:xfrm>
            <a:off x="2438280" y="396540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7"/>
          <p:cNvSpPr/>
          <p:nvPr/>
        </p:nvSpPr>
        <p:spPr>
          <a:xfrm>
            <a:off x="2438280" y="50007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8"/>
          <p:cNvSpPr/>
          <p:nvPr/>
        </p:nvSpPr>
        <p:spPr>
          <a:xfrm>
            <a:off x="2419200" y="291780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8"/>
          <p:cNvSpPr/>
          <p:nvPr/>
        </p:nvSpPr>
        <p:spPr>
          <a:xfrm>
            <a:off x="655308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9A7-51D8-4C8F-8FE6-26F48410BE93}" type="slidenum"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857160" y="2928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2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8:51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