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.jpeg" ContentType="image/jpeg"/>
  <Override PartName="/ppt/media/image15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14.jpeg" ContentType="image/jpeg"/>
  <Override PartName="/ppt/media/image5.gif" ContentType="image/gif"/>
  <Override PartName="/ppt/media/image8.jpeg" ContentType="image/jpe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6918-E304-4A9A-8661-F9A2BB250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BE43-A6F9-413D-B54F-8E6023BD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21B7-5925-46BF-9B8B-E349DED90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4162-E8DB-41F8-B059-7451D3AB1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56EF-A1E8-4D56-837C-F003F214A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7FFC-A44C-418C-AF30-FFA3D30E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E241E-9770-4F38-B06A-B8ADB76C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64E8-8F93-4EA1-8CF3-656EF9D2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01A4-D679-452B-89F4-2117340B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FD93-F9E2-4F55-B9C9-63A32349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B2C2-9A96-47F0-B041-2A1D106A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3521-637D-44A6-883E-7BB93A4E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48F5-0EC2-43B3-9187-1BCB1483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1209-2EAC-4B06-A9E6-24910AC8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829D2-C90F-4CAD-8EDC-52DBF190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DCF1-0FA3-4EAA-A462-941B93B2D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7AF7-31FD-4964-A151-E96390FBA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5722-43C5-4CAE-A319-2E0E99A3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7DA7-FC9B-4D15-8B4D-507036F9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99F7-894C-4FD0-B7CF-6B46FB66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EF7E-16E0-4B48-9322-8E9A5A3C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4BE5-2667-461F-8EA5-F5C38552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22CA-CDDA-4EC3-A7C1-D577CAF7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ACD1-620D-4D51-B037-5FC6F516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94CA-A65F-4036-9E4C-AEECD867A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4BD2-6573-497D-993B-2D4C63B77A7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8A8D-62AA-432D-B69B-8FB36183A4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22170250&amp;tn=baiduimagedetail&amp;word=&#28784;&#38592;&amp;in=1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22170250&amp;tn=baiduimagedetail&amp;word=&#28784;&#38592;&amp;in=1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22170250&amp;tn=baiduimagedetail&amp;word=&#28784;&#38592;&amp;in=1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22170250&amp;tn=baiduimagedetail&amp;word=&#28784;&#38592;&amp;in=1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22170250&amp;tn=baiduimagedetail&amp;word=&#28784;&#38592;&amp;in=1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22170250&amp;tn=baiduimagedetail&amp;word=&#28784;&#38592;&amp;in=1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22170250&amp;tn=baiduimagedetail&amp;word=&#28784;&#38592;&amp;in=1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22170250&amp;tn=baiduimagedetail&amp;word=&#28784;&#38592;&amp;in=1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22170250&amp;tn=baiduimagedetail&amp;word=&#28784;&#38592;&amp;in=1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22170250&amp;tn=baiduimagedetail&amp;word=&#28784;&#38592;&amp;in=1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71,11,&#24187;&#28783;&#29255; 11" TargetMode="External"/><Relationship Id="rId3" Type="http://schemas.openxmlformats.org/officeDocument/2006/relationships/hyperlink" Target="268,12,&#24187;&#28783;&#29255; 12" TargetMode="External"/><Relationship Id="rId4" Type="http://schemas.openxmlformats.org/officeDocument/2006/relationships/hyperlink" Target="263,13,&#24187;&#28783;&#29255; 13" TargetMode="External"/><Relationship Id="rId5" Type="http://schemas.openxmlformats.org/officeDocument/2006/relationships/hyperlink" Target="265,14,&#24187;&#28783;&#29255; 14" TargetMode="External"/><Relationship Id="rId6" Type="http://schemas.openxmlformats.org/officeDocument/2006/relationships/hyperlink" Target="265,14,&#24187;&#28783;&#29255; 14" TargetMode="External"/><Relationship Id="rId7" Type="http://schemas.openxmlformats.org/officeDocument/2006/relationships/hyperlink" Target="269,15,&#24187;&#28783;&#29255; 15" TargetMode="External"/><Relationship Id="rId8" Type="http://schemas.openxmlformats.org/officeDocument/2006/relationships/hyperlink" Target="270,16,&#24187;&#28783;&#29255; 16" TargetMode="External"/><Relationship Id="rId9" Type="http://schemas.openxmlformats.org/officeDocument/2006/relationships/hyperlink" Target="270,16,&#24187;&#28783;&#29255; 16" TargetMode="External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8"/>
          <p:cNvSpPr txBox="1"/>
          <p:nvPr/>
        </p:nvSpPr>
        <p:spPr>
          <a:xfrm>
            <a:off x="3995640" y="2133720"/>
            <a:ext cx="439128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875"/>
              </a:avLst>
            </a:prstTxWarp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小摄影师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83" name="Picture 9" descr="2"/>
          <p:cNvPicPr/>
          <p:nvPr/>
        </p:nvPicPr>
        <p:blipFill>
          <a:blip r:embed="rId2"/>
          <a:stretch/>
        </p:blipFill>
        <p:spPr>
          <a:xfrm>
            <a:off x="0" y="981000"/>
            <a:ext cx="363528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u=3731290261,4260863387&amp;gp=0">
            <a:hlinkClick r:id="rId2"/>
          </p:cNvPr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-468360" y="0"/>
            <a:ext cx="2808360" cy="43210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1979640" y="404640"/>
            <a:ext cx="68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zh</a:t>
            </a:r>
            <a:r>
              <a:rPr b="1" lang="en-US" sz="9600" spc="-1" strike="noStrike">
                <a:solidFill>
                  <a:srgbClr val="3333ff"/>
                </a:solidFill>
                <a:latin typeface="Arial"/>
              </a:rPr>
              <a:t>ǔ</a:t>
            </a: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n   b</a:t>
            </a:r>
            <a:r>
              <a:rPr b="1" lang="en-US" sz="9600" spc="-1" strike="noStrike">
                <a:solidFill>
                  <a:srgbClr val="3333ff"/>
                </a:solidFill>
                <a:latin typeface="Arial"/>
              </a:rPr>
              <a:t>è</a:t>
            </a: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i</a:t>
            </a:r>
            <a:endParaRPr b="0" lang="en-US" sz="96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1619280" y="1773000"/>
            <a:ext cx="3527280" cy="3816720"/>
            <a:chOff x="1619280" y="1773000"/>
            <a:chExt cx="3527280" cy="3816720"/>
          </a:xfrm>
        </p:grpSpPr>
        <p:sp>
          <p:nvSpPr>
            <p:cNvPr id="127" name="Rectangle 5"/>
            <p:cNvSpPr/>
            <p:nvPr/>
          </p:nvSpPr>
          <p:spPr>
            <a:xfrm>
              <a:off x="1619280" y="1844640"/>
              <a:ext cx="3527280" cy="3745080"/>
            </a:xfrm>
            <a:prstGeom prst="rect">
              <a:avLst/>
            </a:prstGeom>
            <a:solidFill>
              <a:srgbClr val="f8f32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  <p:sp>
          <p:nvSpPr>
            <p:cNvPr id="128" name="Line 6"/>
            <p:cNvSpPr/>
            <p:nvPr/>
          </p:nvSpPr>
          <p:spPr>
            <a:xfrm flipV="1">
              <a:off x="3346560" y="1773000"/>
              <a:ext cx="0" cy="381636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</p:grpSp>
      <p:grpSp>
        <p:nvGrpSpPr>
          <p:cNvPr id="129" name="Group 7"/>
          <p:cNvGrpSpPr/>
          <p:nvPr/>
        </p:nvGrpSpPr>
        <p:grpSpPr>
          <a:xfrm>
            <a:off x="5364000" y="1773000"/>
            <a:ext cx="3527280" cy="3816720"/>
            <a:chOff x="5364000" y="1773000"/>
            <a:chExt cx="3527280" cy="3816720"/>
          </a:xfrm>
        </p:grpSpPr>
        <p:sp>
          <p:nvSpPr>
            <p:cNvPr id="130" name="Rectangle 8"/>
            <p:cNvSpPr/>
            <p:nvPr/>
          </p:nvSpPr>
          <p:spPr>
            <a:xfrm>
              <a:off x="5364000" y="1844640"/>
              <a:ext cx="3527280" cy="3745080"/>
            </a:xfrm>
            <a:prstGeom prst="rect">
              <a:avLst/>
            </a:prstGeom>
            <a:solidFill>
              <a:srgbClr val="f8f32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  <p:sp>
          <p:nvSpPr>
            <p:cNvPr id="131" name="Line 9"/>
            <p:cNvSpPr/>
            <p:nvPr/>
          </p:nvSpPr>
          <p:spPr>
            <a:xfrm>
              <a:off x="5364000" y="3716640"/>
              <a:ext cx="3527280" cy="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  <p:sp>
          <p:nvSpPr>
            <p:cNvPr id="132" name="Line 10"/>
            <p:cNvSpPr/>
            <p:nvPr/>
          </p:nvSpPr>
          <p:spPr>
            <a:xfrm flipV="1">
              <a:off x="7091280" y="1773000"/>
              <a:ext cx="0" cy="381636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</p:grpSp>
      <p:sp>
        <p:nvSpPr>
          <p:cNvPr id="133" name="Line 11"/>
          <p:cNvSpPr/>
          <p:nvPr/>
        </p:nvSpPr>
        <p:spPr>
          <a:xfrm>
            <a:off x="1619280" y="3645000"/>
            <a:ext cx="3527280" cy="0"/>
          </a:xfrm>
          <a:prstGeom prst="line">
            <a:avLst/>
          </a:prstGeom>
          <a:ln w="57240">
            <a:solidFill>
              <a:srgbClr val="f858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1835280" y="1628640"/>
            <a:ext cx="36003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000000"/>
                </a:solidFill>
                <a:latin typeface="Arial"/>
                <a:ea typeface="楷体_GB2312"/>
              </a:rPr>
              <a:t>准</a:t>
            </a:r>
            <a:endParaRPr b="0" lang="en-US" sz="229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5543640" y="1700280"/>
            <a:ext cx="36003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000000"/>
                </a:solidFill>
                <a:latin typeface="Arial"/>
                <a:ea typeface="楷体_GB2312"/>
              </a:rPr>
              <a:t>备</a:t>
            </a:r>
            <a:endParaRPr b="0" lang="en-US" sz="229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u=3731290261,4260863387&amp;gp=0">
            <a:hlinkClick r:id="rId2"/>
          </p:cNvPr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-468360" y="0"/>
            <a:ext cx="2808360" cy="43210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1979640" y="404640"/>
            <a:ext cx="68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ji</a:t>
            </a:r>
            <a:r>
              <a:rPr b="1" lang="en-US" sz="9600" spc="-1" strike="noStrike">
                <a:solidFill>
                  <a:srgbClr val="3333ff"/>
                </a:solidFill>
                <a:latin typeface="Arial"/>
              </a:rPr>
              <a:t>ā</a:t>
            </a: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o  ju</a:t>
            </a:r>
            <a:r>
              <a:rPr b="1" lang="en-US" sz="9600" spc="-1" strike="noStrike">
                <a:solidFill>
                  <a:srgbClr val="3333ff"/>
                </a:solidFill>
                <a:latin typeface="Arial"/>
              </a:rPr>
              <a:t>ǎ</a:t>
            </a: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n</a:t>
            </a:r>
            <a:endParaRPr b="0" lang="en-US" sz="96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1619280" y="1773000"/>
            <a:ext cx="3527280" cy="3816720"/>
            <a:chOff x="1619280" y="1773000"/>
            <a:chExt cx="3527280" cy="3816720"/>
          </a:xfrm>
        </p:grpSpPr>
        <p:sp>
          <p:nvSpPr>
            <p:cNvPr id="139" name="Rectangle 5"/>
            <p:cNvSpPr/>
            <p:nvPr/>
          </p:nvSpPr>
          <p:spPr>
            <a:xfrm>
              <a:off x="1619280" y="1844640"/>
              <a:ext cx="3527280" cy="3745080"/>
            </a:xfrm>
            <a:prstGeom prst="rect">
              <a:avLst/>
            </a:prstGeom>
            <a:solidFill>
              <a:srgbClr val="f8f32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  <p:sp>
          <p:nvSpPr>
            <p:cNvPr id="140" name="Line 6"/>
            <p:cNvSpPr/>
            <p:nvPr/>
          </p:nvSpPr>
          <p:spPr>
            <a:xfrm flipV="1">
              <a:off x="3346560" y="1773000"/>
              <a:ext cx="0" cy="381636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</p:grpSp>
      <p:grpSp>
        <p:nvGrpSpPr>
          <p:cNvPr id="141" name="Group 7"/>
          <p:cNvGrpSpPr/>
          <p:nvPr/>
        </p:nvGrpSpPr>
        <p:grpSpPr>
          <a:xfrm>
            <a:off x="5364000" y="1773000"/>
            <a:ext cx="3527280" cy="3816720"/>
            <a:chOff x="5364000" y="1773000"/>
            <a:chExt cx="3527280" cy="3816720"/>
          </a:xfrm>
        </p:grpSpPr>
        <p:sp>
          <p:nvSpPr>
            <p:cNvPr id="142" name="Rectangle 8"/>
            <p:cNvSpPr/>
            <p:nvPr/>
          </p:nvSpPr>
          <p:spPr>
            <a:xfrm>
              <a:off x="5364000" y="1844640"/>
              <a:ext cx="3527280" cy="3745080"/>
            </a:xfrm>
            <a:prstGeom prst="rect">
              <a:avLst/>
            </a:prstGeom>
            <a:solidFill>
              <a:srgbClr val="f8f32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>
              <a:off x="5364000" y="3716640"/>
              <a:ext cx="3527280" cy="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  <p:sp>
          <p:nvSpPr>
            <p:cNvPr id="144" name="Line 10"/>
            <p:cNvSpPr/>
            <p:nvPr/>
          </p:nvSpPr>
          <p:spPr>
            <a:xfrm flipV="1">
              <a:off x="7091280" y="1773000"/>
              <a:ext cx="0" cy="381636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</p:grpSp>
      <p:sp>
        <p:nvSpPr>
          <p:cNvPr id="145" name="Line 11"/>
          <p:cNvSpPr/>
          <p:nvPr/>
        </p:nvSpPr>
        <p:spPr>
          <a:xfrm>
            <a:off x="1619280" y="3645000"/>
            <a:ext cx="3527280" cy="0"/>
          </a:xfrm>
          <a:prstGeom prst="line">
            <a:avLst/>
          </a:prstGeom>
          <a:ln w="57240">
            <a:solidFill>
              <a:srgbClr val="f858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1763640" y="1647720"/>
            <a:ext cx="36003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000000"/>
                </a:solidFill>
                <a:latin typeface="Arial"/>
                <a:ea typeface="楷体_GB2312"/>
              </a:rPr>
              <a:t>胶</a:t>
            </a:r>
            <a:endParaRPr b="0" lang="en-US" sz="229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5651640" y="1700280"/>
            <a:ext cx="3492360" cy="10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000000"/>
                </a:solidFill>
                <a:latin typeface="Arial"/>
                <a:ea typeface="楷体_GB2312"/>
              </a:rPr>
              <a:t>卷     </a:t>
            </a:r>
            <a:endParaRPr b="0" lang="en-US" sz="229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u=3731290261,4260863387&amp;gp=0">
            <a:hlinkClick r:id="rId2"/>
          </p:cNvPr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-468360" y="0"/>
            <a:ext cx="2808360" cy="43210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1979640" y="404640"/>
            <a:ext cx="68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li</a:t>
            </a:r>
            <a:r>
              <a:rPr b="1" lang="en-US" sz="9600" spc="-1" strike="noStrike">
                <a:solidFill>
                  <a:srgbClr val="3333ff"/>
                </a:solidFill>
                <a:latin typeface="宋体"/>
              </a:rPr>
              <a:t>à</a:t>
            </a: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1" lang="en-US" sz="9600" spc="-1" strike="noStrike">
                <a:solidFill>
                  <a:srgbClr val="3333ff"/>
                </a:solidFill>
                <a:latin typeface="宋体"/>
              </a:rPr>
              <a:t>ɡ</a:t>
            </a:r>
            <a:endParaRPr b="0" lang="en-US" sz="96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50" name="Group 4"/>
          <p:cNvGrpSpPr/>
          <p:nvPr/>
        </p:nvGrpSpPr>
        <p:grpSpPr>
          <a:xfrm>
            <a:off x="1619280" y="1773000"/>
            <a:ext cx="3527280" cy="3816720"/>
            <a:chOff x="1619280" y="1773000"/>
            <a:chExt cx="3527280" cy="3816720"/>
          </a:xfrm>
        </p:grpSpPr>
        <p:sp>
          <p:nvSpPr>
            <p:cNvPr id="151" name="Rectangle 5"/>
            <p:cNvSpPr/>
            <p:nvPr/>
          </p:nvSpPr>
          <p:spPr>
            <a:xfrm>
              <a:off x="1619280" y="1844640"/>
              <a:ext cx="3527280" cy="3745080"/>
            </a:xfrm>
            <a:prstGeom prst="rect">
              <a:avLst/>
            </a:prstGeom>
            <a:solidFill>
              <a:srgbClr val="f8f32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  <p:sp>
          <p:nvSpPr>
            <p:cNvPr id="152" name="Line 6"/>
            <p:cNvSpPr/>
            <p:nvPr/>
          </p:nvSpPr>
          <p:spPr>
            <a:xfrm flipV="1">
              <a:off x="3346560" y="1773000"/>
              <a:ext cx="0" cy="381636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</p:grpSp>
      <p:grpSp>
        <p:nvGrpSpPr>
          <p:cNvPr id="153" name="Group 7"/>
          <p:cNvGrpSpPr/>
          <p:nvPr/>
        </p:nvGrpSpPr>
        <p:grpSpPr>
          <a:xfrm>
            <a:off x="5364000" y="1773000"/>
            <a:ext cx="3527280" cy="3816720"/>
            <a:chOff x="5364000" y="1773000"/>
            <a:chExt cx="3527280" cy="3816720"/>
          </a:xfrm>
        </p:grpSpPr>
        <p:sp>
          <p:nvSpPr>
            <p:cNvPr id="154" name="Rectangle 8"/>
            <p:cNvSpPr/>
            <p:nvPr/>
          </p:nvSpPr>
          <p:spPr>
            <a:xfrm>
              <a:off x="5364000" y="1844640"/>
              <a:ext cx="3527280" cy="3745080"/>
            </a:xfrm>
            <a:prstGeom prst="rect">
              <a:avLst/>
            </a:prstGeom>
            <a:solidFill>
              <a:srgbClr val="f8f32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  <p:sp>
          <p:nvSpPr>
            <p:cNvPr id="155" name="Line 9"/>
            <p:cNvSpPr/>
            <p:nvPr/>
          </p:nvSpPr>
          <p:spPr>
            <a:xfrm>
              <a:off x="5364000" y="3716640"/>
              <a:ext cx="3527280" cy="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  <p:sp>
          <p:nvSpPr>
            <p:cNvPr id="156" name="Line 10"/>
            <p:cNvSpPr/>
            <p:nvPr/>
          </p:nvSpPr>
          <p:spPr>
            <a:xfrm flipV="1">
              <a:off x="7091280" y="1773000"/>
              <a:ext cx="0" cy="381636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</p:grpSp>
      <p:sp>
        <p:nvSpPr>
          <p:cNvPr id="157" name="Line 11"/>
          <p:cNvSpPr/>
          <p:nvPr/>
        </p:nvSpPr>
        <p:spPr>
          <a:xfrm>
            <a:off x="1619280" y="3645000"/>
            <a:ext cx="3527280" cy="0"/>
          </a:xfrm>
          <a:prstGeom prst="line">
            <a:avLst/>
          </a:prstGeom>
          <a:ln w="57240">
            <a:solidFill>
              <a:srgbClr val="f858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1835280" y="1628640"/>
            <a:ext cx="36003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000000"/>
                </a:solidFill>
                <a:latin typeface="Arial"/>
                <a:ea typeface="楷体_GB2312"/>
              </a:rPr>
              <a:t>车</a:t>
            </a:r>
            <a:endParaRPr b="0" lang="en-US" sz="229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5543640" y="1700280"/>
            <a:ext cx="36003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000000"/>
                </a:solidFill>
                <a:latin typeface="Arial"/>
                <a:ea typeface="楷体_GB2312"/>
              </a:rPr>
              <a:t>辆</a:t>
            </a:r>
            <a:endParaRPr b="0" lang="en-US" sz="229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u=3731290261,4260863387&amp;gp=0">
            <a:hlinkClick r:id="rId2"/>
          </p:cNvPr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-468360" y="0"/>
            <a:ext cx="2808360" cy="43210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1979640" y="404640"/>
            <a:ext cx="68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m</a:t>
            </a:r>
            <a:r>
              <a:rPr b="1" lang="en-US" sz="9600" spc="-1" strike="noStrike">
                <a:solidFill>
                  <a:srgbClr val="3333ff"/>
                </a:solidFill>
                <a:latin typeface="宋体"/>
              </a:rPr>
              <a:t>ì</a:t>
            </a:r>
            <a:endParaRPr b="0" lang="en-US" sz="96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62" name="Group 4"/>
          <p:cNvGrpSpPr/>
          <p:nvPr/>
        </p:nvGrpSpPr>
        <p:grpSpPr>
          <a:xfrm>
            <a:off x="1619280" y="1773000"/>
            <a:ext cx="3527280" cy="3816720"/>
            <a:chOff x="1619280" y="1773000"/>
            <a:chExt cx="3527280" cy="3816720"/>
          </a:xfrm>
        </p:grpSpPr>
        <p:sp>
          <p:nvSpPr>
            <p:cNvPr id="163" name="Rectangle 5"/>
            <p:cNvSpPr/>
            <p:nvPr/>
          </p:nvSpPr>
          <p:spPr>
            <a:xfrm>
              <a:off x="1619280" y="1844640"/>
              <a:ext cx="3527280" cy="3745080"/>
            </a:xfrm>
            <a:prstGeom prst="rect">
              <a:avLst/>
            </a:prstGeom>
            <a:solidFill>
              <a:srgbClr val="f8f32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  <p:sp>
          <p:nvSpPr>
            <p:cNvPr id="164" name="Line 6"/>
            <p:cNvSpPr/>
            <p:nvPr/>
          </p:nvSpPr>
          <p:spPr>
            <a:xfrm flipV="1">
              <a:off x="3346560" y="1773000"/>
              <a:ext cx="0" cy="381636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</p:grpSp>
      <p:grpSp>
        <p:nvGrpSpPr>
          <p:cNvPr id="165" name="Group 7"/>
          <p:cNvGrpSpPr/>
          <p:nvPr/>
        </p:nvGrpSpPr>
        <p:grpSpPr>
          <a:xfrm>
            <a:off x="5364000" y="1773000"/>
            <a:ext cx="3527280" cy="3816720"/>
            <a:chOff x="5364000" y="1773000"/>
            <a:chExt cx="3527280" cy="3816720"/>
          </a:xfrm>
        </p:grpSpPr>
        <p:sp>
          <p:nvSpPr>
            <p:cNvPr id="166" name="Rectangle 8"/>
            <p:cNvSpPr/>
            <p:nvPr/>
          </p:nvSpPr>
          <p:spPr>
            <a:xfrm>
              <a:off x="5364000" y="1844640"/>
              <a:ext cx="3527280" cy="3745080"/>
            </a:xfrm>
            <a:prstGeom prst="rect">
              <a:avLst/>
            </a:prstGeom>
            <a:solidFill>
              <a:srgbClr val="f8f32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  <p:sp>
          <p:nvSpPr>
            <p:cNvPr id="167" name="Line 9"/>
            <p:cNvSpPr/>
            <p:nvPr/>
          </p:nvSpPr>
          <p:spPr>
            <a:xfrm>
              <a:off x="5364000" y="3716640"/>
              <a:ext cx="3527280" cy="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  <p:sp>
          <p:nvSpPr>
            <p:cNvPr id="168" name="Line 10"/>
            <p:cNvSpPr/>
            <p:nvPr/>
          </p:nvSpPr>
          <p:spPr>
            <a:xfrm flipV="1">
              <a:off x="7091280" y="1773000"/>
              <a:ext cx="0" cy="381636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</p:grpSp>
      <p:sp>
        <p:nvSpPr>
          <p:cNvPr id="169" name="Line 11"/>
          <p:cNvSpPr/>
          <p:nvPr/>
        </p:nvSpPr>
        <p:spPr>
          <a:xfrm>
            <a:off x="1619280" y="3645000"/>
            <a:ext cx="3527280" cy="0"/>
          </a:xfrm>
          <a:prstGeom prst="line">
            <a:avLst/>
          </a:prstGeom>
          <a:ln w="57240">
            <a:solidFill>
              <a:srgbClr val="f858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1835280" y="1628640"/>
            <a:ext cx="36003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000000"/>
                </a:solidFill>
                <a:latin typeface="Arial"/>
                <a:ea typeface="楷体_GB2312"/>
              </a:rPr>
              <a:t>秘</a:t>
            </a:r>
            <a:endParaRPr b="0" lang="en-US" sz="229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5543640" y="1700280"/>
            <a:ext cx="36003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000000"/>
                </a:solidFill>
                <a:latin typeface="Arial"/>
                <a:ea typeface="楷体_GB2312"/>
              </a:rPr>
              <a:t>书</a:t>
            </a:r>
            <a:endParaRPr b="0" lang="en-US" sz="229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u=3731290261,4260863387&amp;gp=0">
            <a:hlinkClick r:id="rId2"/>
          </p:cNvPr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-468360" y="0"/>
            <a:ext cx="2808360" cy="43210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3"/>
          <p:cNvSpPr/>
          <p:nvPr/>
        </p:nvSpPr>
        <p:spPr>
          <a:xfrm>
            <a:off x="1116000" y="404640"/>
            <a:ext cx="76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z</a:t>
            </a:r>
            <a:r>
              <a:rPr b="1" lang="en-US" sz="9600" spc="-1" strike="noStrike">
                <a:solidFill>
                  <a:srgbClr val="3333ff"/>
                </a:solidFill>
                <a:latin typeface="宋体"/>
              </a:rPr>
              <a:t>á</a:t>
            </a: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      sh</a:t>
            </a:r>
            <a:r>
              <a:rPr b="1" lang="en-US" sz="9600" spc="-1" strike="noStrike">
                <a:solidFill>
                  <a:srgbClr val="3333ff"/>
                </a:solidFill>
                <a:latin typeface="宋体"/>
              </a:rPr>
              <a:t>è</a:t>
            </a:r>
            <a:endParaRPr b="0" lang="en-US" sz="96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900000" y="1844280"/>
            <a:ext cx="3527280" cy="3816720"/>
            <a:chOff x="900000" y="1844280"/>
            <a:chExt cx="3527280" cy="3816720"/>
          </a:xfrm>
        </p:grpSpPr>
        <p:sp>
          <p:nvSpPr>
            <p:cNvPr id="175" name="Rectangle 5"/>
            <p:cNvSpPr/>
            <p:nvPr/>
          </p:nvSpPr>
          <p:spPr>
            <a:xfrm>
              <a:off x="900000" y="1915920"/>
              <a:ext cx="3527280" cy="3745080"/>
            </a:xfrm>
            <a:prstGeom prst="rect">
              <a:avLst/>
            </a:prstGeom>
            <a:solidFill>
              <a:srgbClr val="f8f32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  <p:sp>
          <p:nvSpPr>
            <p:cNvPr id="176" name="Line 6"/>
            <p:cNvSpPr/>
            <p:nvPr/>
          </p:nvSpPr>
          <p:spPr>
            <a:xfrm flipV="1">
              <a:off x="2627280" y="1844280"/>
              <a:ext cx="0" cy="381636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</p:grpSp>
      <p:grpSp>
        <p:nvGrpSpPr>
          <p:cNvPr id="177" name="Group 7"/>
          <p:cNvGrpSpPr/>
          <p:nvPr/>
        </p:nvGrpSpPr>
        <p:grpSpPr>
          <a:xfrm>
            <a:off x="5364000" y="1773000"/>
            <a:ext cx="3527280" cy="3816720"/>
            <a:chOff x="5364000" y="1773000"/>
            <a:chExt cx="3527280" cy="3816720"/>
          </a:xfrm>
        </p:grpSpPr>
        <p:sp>
          <p:nvSpPr>
            <p:cNvPr id="178" name="Rectangle 8"/>
            <p:cNvSpPr/>
            <p:nvPr/>
          </p:nvSpPr>
          <p:spPr>
            <a:xfrm>
              <a:off x="5364000" y="1844640"/>
              <a:ext cx="3527280" cy="3745080"/>
            </a:xfrm>
            <a:prstGeom prst="rect">
              <a:avLst/>
            </a:prstGeom>
            <a:solidFill>
              <a:srgbClr val="f8f32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  <p:sp>
          <p:nvSpPr>
            <p:cNvPr id="179" name="Line 9"/>
            <p:cNvSpPr/>
            <p:nvPr/>
          </p:nvSpPr>
          <p:spPr>
            <a:xfrm>
              <a:off x="5364000" y="3716640"/>
              <a:ext cx="3527280" cy="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  <p:sp>
          <p:nvSpPr>
            <p:cNvPr id="180" name="Line 10"/>
            <p:cNvSpPr/>
            <p:nvPr/>
          </p:nvSpPr>
          <p:spPr>
            <a:xfrm flipV="1">
              <a:off x="7091280" y="1773000"/>
              <a:ext cx="0" cy="381636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</p:grpSp>
      <p:sp>
        <p:nvSpPr>
          <p:cNvPr id="181" name="Line 11"/>
          <p:cNvSpPr/>
          <p:nvPr/>
        </p:nvSpPr>
        <p:spPr>
          <a:xfrm>
            <a:off x="900000" y="3645000"/>
            <a:ext cx="3527640" cy="0"/>
          </a:xfrm>
          <a:prstGeom prst="line">
            <a:avLst/>
          </a:prstGeom>
          <a:ln w="57240">
            <a:solidFill>
              <a:srgbClr val="f858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1042920" y="1916280"/>
            <a:ext cx="36003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000000"/>
                </a:solidFill>
                <a:latin typeface="Arial"/>
                <a:ea typeface="楷体_GB2312"/>
              </a:rPr>
              <a:t>杂</a:t>
            </a:r>
            <a:endParaRPr b="0" lang="en-US" sz="229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5543640" y="1700280"/>
            <a:ext cx="36003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000000"/>
                </a:solidFill>
                <a:latin typeface="Arial"/>
                <a:ea typeface="楷体_GB2312"/>
              </a:rPr>
              <a:t>社</a:t>
            </a:r>
            <a:endParaRPr b="0" lang="en-US" sz="229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4" name="Text Box 14"/>
          <p:cNvSpPr/>
          <p:nvPr/>
        </p:nvSpPr>
        <p:spPr>
          <a:xfrm>
            <a:off x="4470840" y="31417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ff"/>
                </a:solidFill>
                <a:latin typeface="Arial"/>
              </a:rPr>
              <a:t>志</a:t>
            </a:r>
            <a:endParaRPr b="0" lang="en-US" sz="72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u=3731290261,4260863387&amp;gp=0">
            <a:hlinkClick r:id="rId2"/>
          </p:cNvPr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-468360" y="0"/>
            <a:ext cx="2808360" cy="43210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3"/>
          <p:cNvSpPr/>
          <p:nvPr/>
        </p:nvSpPr>
        <p:spPr>
          <a:xfrm>
            <a:off x="1979640" y="404640"/>
            <a:ext cx="68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en-US" sz="9600" spc="-1" strike="noStrike">
                <a:solidFill>
                  <a:srgbClr val="3333ff"/>
                </a:solidFill>
                <a:latin typeface="Arial"/>
              </a:rPr>
              <a:t>è</a:t>
            </a:r>
            <a:endParaRPr b="0" lang="en-US" sz="96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87" name="Group 4"/>
          <p:cNvGrpSpPr/>
          <p:nvPr/>
        </p:nvGrpSpPr>
        <p:grpSpPr>
          <a:xfrm>
            <a:off x="1619280" y="1773000"/>
            <a:ext cx="3527280" cy="3816720"/>
            <a:chOff x="1619280" y="1773000"/>
            <a:chExt cx="3527280" cy="3816720"/>
          </a:xfrm>
        </p:grpSpPr>
        <p:sp>
          <p:nvSpPr>
            <p:cNvPr id="188" name="Rectangle 5"/>
            <p:cNvSpPr/>
            <p:nvPr/>
          </p:nvSpPr>
          <p:spPr>
            <a:xfrm>
              <a:off x="1619280" y="1844640"/>
              <a:ext cx="3527280" cy="3745080"/>
            </a:xfrm>
            <a:prstGeom prst="rect">
              <a:avLst/>
            </a:prstGeom>
            <a:solidFill>
              <a:srgbClr val="f8f32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  <p:sp>
          <p:nvSpPr>
            <p:cNvPr id="189" name="Line 6"/>
            <p:cNvSpPr/>
            <p:nvPr/>
          </p:nvSpPr>
          <p:spPr>
            <a:xfrm flipV="1">
              <a:off x="3346560" y="1773000"/>
              <a:ext cx="0" cy="381636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</p:grpSp>
      <p:grpSp>
        <p:nvGrpSpPr>
          <p:cNvPr id="190" name="Group 7"/>
          <p:cNvGrpSpPr/>
          <p:nvPr/>
        </p:nvGrpSpPr>
        <p:grpSpPr>
          <a:xfrm>
            <a:off x="5364000" y="1773000"/>
            <a:ext cx="3527280" cy="3816720"/>
            <a:chOff x="5364000" y="1773000"/>
            <a:chExt cx="3527280" cy="3816720"/>
          </a:xfrm>
        </p:grpSpPr>
        <p:sp>
          <p:nvSpPr>
            <p:cNvPr id="191" name="Rectangle 8"/>
            <p:cNvSpPr/>
            <p:nvPr/>
          </p:nvSpPr>
          <p:spPr>
            <a:xfrm>
              <a:off x="5364000" y="1844640"/>
              <a:ext cx="3527280" cy="3745080"/>
            </a:xfrm>
            <a:prstGeom prst="rect">
              <a:avLst/>
            </a:prstGeom>
            <a:solidFill>
              <a:srgbClr val="f8f32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  <p:sp>
          <p:nvSpPr>
            <p:cNvPr id="192" name="Line 9"/>
            <p:cNvSpPr/>
            <p:nvPr/>
          </p:nvSpPr>
          <p:spPr>
            <a:xfrm>
              <a:off x="5364000" y="3716640"/>
              <a:ext cx="3527280" cy="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  <p:sp>
          <p:nvSpPr>
            <p:cNvPr id="193" name="Line 10"/>
            <p:cNvSpPr/>
            <p:nvPr/>
          </p:nvSpPr>
          <p:spPr>
            <a:xfrm flipV="1">
              <a:off x="7091280" y="1773000"/>
              <a:ext cx="0" cy="381636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</p:grpSp>
      <p:sp>
        <p:nvSpPr>
          <p:cNvPr id="194" name="Line 11"/>
          <p:cNvSpPr/>
          <p:nvPr/>
        </p:nvSpPr>
        <p:spPr>
          <a:xfrm>
            <a:off x="1619280" y="3645000"/>
            <a:ext cx="3527280" cy="0"/>
          </a:xfrm>
          <a:prstGeom prst="line">
            <a:avLst/>
          </a:prstGeom>
          <a:ln w="57240">
            <a:solidFill>
              <a:srgbClr val="f858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1763640" y="1628640"/>
            <a:ext cx="36003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000000"/>
                </a:solidFill>
                <a:latin typeface="Arial"/>
                <a:ea typeface="楷体_GB2312"/>
              </a:rPr>
              <a:t>侧</a:t>
            </a:r>
            <a:endParaRPr b="0" lang="en-US" sz="229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5543640" y="1700280"/>
            <a:ext cx="36003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000000"/>
                </a:solidFill>
                <a:latin typeface="Arial"/>
                <a:ea typeface="楷体_GB2312"/>
              </a:rPr>
              <a:t>面</a:t>
            </a:r>
            <a:endParaRPr b="0" lang="en-US" sz="229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u=3731290261,4260863387&amp;gp=0">
            <a:hlinkClick r:id="rId2"/>
          </p:cNvPr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-468360" y="0"/>
            <a:ext cx="2808360" cy="43210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"/>
          <p:cNvSpPr/>
          <p:nvPr/>
        </p:nvSpPr>
        <p:spPr>
          <a:xfrm>
            <a:off x="1979640" y="404640"/>
            <a:ext cx="68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en-US" sz="9600" spc="-1" strike="noStrike">
                <a:solidFill>
                  <a:srgbClr val="3333ff"/>
                </a:solidFill>
                <a:latin typeface="宋体"/>
              </a:rPr>
              <a:t>ǎ</a:t>
            </a: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i   n</a:t>
            </a:r>
            <a:r>
              <a:rPr b="1" lang="en-US" sz="9600" spc="-1" strike="noStrike">
                <a:solidFill>
                  <a:srgbClr val="3333ff"/>
                </a:solidFill>
                <a:latin typeface="宋体"/>
              </a:rPr>
              <a:t>ò</a:t>
            </a: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ng</a:t>
            </a:r>
            <a:endParaRPr b="0" lang="en-US" sz="96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99" name="Group 4"/>
          <p:cNvGrpSpPr/>
          <p:nvPr/>
        </p:nvGrpSpPr>
        <p:grpSpPr>
          <a:xfrm>
            <a:off x="1619280" y="1773000"/>
            <a:ext cx="3527280" cy="3816720"/>
            <a:chOff x="1619280" y="1773000"/>
            <a:chExt cx="3527280" cy="3816720"/>
          </a:xfrm>
        </p:grpSpPr>
        <p:sp>
          <p:nvSpPr>
            <p:cNvPr id="200" name="Rectangle 5"/>
            <p:cNvSpPr/>
            <p:nvPr/>
          </p:nvSpPr>
          <p:spPr>
            <a:xfrm>
              <a:off x="1619280" y="1844640"/>
              <a:ext cx="3527280" cy="3745080"/>
            </a:xfrm>
            <a:prstGeom prst="rect">
              <a:avLst/>
            </a:prstGeom>
            <a:solidFill>
              <a:srgbClr val="f8f32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  <p:sp>
          <p:nvSpPr>
            <p:cNvPr id="201" name="Line 6"/>
            <p:cNvSpPr/>
            <p:nvPr/>
          </p:nvSpPr>
          <p:spPr>
            <a:xfrm flipV="1">
              <a:off x="3346560" y="1773000"/>
              <a:ext cx="0" cy="381636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</p:grpSp>
      <p:grpSp>
        <p:nvGrpSpPr>
          <p:cNvPr id="202" name="Group 7"/>
          <p:cNvGrpSpPr/>
          <p:nvPr/>
        </p:nvGrpSpPr>
        <p:grpSpPr>
          <a:xfrm>
            <a:off x="5364000" y="1773000"/>
            <a:ext cx="3527280" cy="3816720"/>
            <a:chOff x="5364000" y="1773000"/>
            <a:chExt cx="3527280" cy="3816720"/>
          </a:xfrm>
        </p:grpSpPr>
        <p:sp>
          <p:nvSpPr>
            <p:cNvPr id="203" name="Rectangle 8"/>
            <p:cNvSpPr/>
            <p:nvPr/>
          </p:nvSpPr>
          <p:spPr>
            <a:xfrm>
              <a:off x="5364000" y="1844640"/>
              <a:ext cx="3527280" cy="3745080"/>
            </a:xfrm>
            <a:prstGeom prst="rect">
              <a:avLst/>
            </a:prstGeom>
            <a:solidFill>
              <a:srgbClr val="f8f32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  <p:sp>
          <p:nvSpPr>
            <p:cNvPr id="204" name="Line 9"/>
            <p:cNvSpPr/>
            <p:nvPr/>
          </p:nvSpPr>
          <p:spPr>
            <a:xfrm>
              <a:off x="5364000" y="3716640"/>
              <a:ext cx="3527280" cy="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  <p:sp>
          <p:nvSpPr>
            <p:cNvPr id="205" name="Line 10"/>
            <p:cNvSpPr/>
            <p:nvPr/>
          </p:nvSpPr>
          <p:spPr>
            <a:xfrm flipV="1">
              <a:off x="7091280" y="1773000"/>
              <a:ext cx="0" cy="381636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</p:grpSp>
      <p:sp>
        <p:nvSpPr>
          <p:cNvPr id="206" name="Line 11"/>
          <p:cNvSpPr/>
          <p:nvPr/>
        </p:nvSpPr>
        <p:spPr>
          <a:xfrm>
            <a:off x="1619280" y="3645000"/>
            <a:ext cx="3527280" cy="0"/>
          </a:xfrm>
          <a:prstGeom prst="line">
            <a:avLst/>
          </a:prstGeom>
          <a:ln w="57240">
            <a:solidFill>
              <a:srgbClr val="f858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1835280" y="1628640"/>
            <a:ext cx="36003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000000"/>
                </a:solidFill>
                <a:latin typeface="Arial"/>
                <a:ea typeface="楷体_GB2312"/>
              </a:rPr>
              <a:t>摆</a:t>
            </a:r>
            <a:endParaRPr b="0" lang="en-US" sz="229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5543640" y="1700280"/>
            <a:ext cx="36003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000000"/>
                </a:solidFill>
                <a:latin typeface="Arial"/>
                <a:ea typeface="楷体_GB2312"/>
              </a:rPr>
              <a:t>弄</a:t>
            </a:r>
            <a:endParaRPr b="0" lang="en-US" sz="229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026" descr="u=3731290261,4260863387&amp;gp=0">
            <a:hlinkClick r:id="rId2"/>
          </p:cNvPr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-468360" y="0"/>
            <a:ext cx="2808360" cy="43210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1027"/>
          <p:cNvSpPr/>
          <p:nvPr/>
        </p:nvSpPr>
        <p:spPr>
          <a:xfrm>
            <a:off x="1979640" y="404640"/>
            <a:ext cx="68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t</a:t>
            </a:r>
            <a:r>
              <a:rPr b="1" lang="en-US" sz="9600" spc="-1" strike="noStrike">
                <a:solidFill>
                  <a:srgbClr val="3333ff"/>
                </a:solidFill>
                <a:latin typeface="Arial"/>
              </a:rPr>
              <a:t>ū</a:t>
            </a:r>
            <a:endParaRPr b="0" lang="en-US" sz="96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211" name="Group 1028"/>
          <p:cNvGrpSpPr/>
          <p:nvPr/>
        </p:nvGrpSpPr>
        <p:grpSpPr>
          <a:xfrm>
            <a:off x="1619280" y="1773000"/>
            <a:ext cx="3527280" cy="3816720"/>
            <a:chOff x="1619280" y="1773000"/>
            <a:chExt cx="3527280" cy="3816720"/>
          </a:xfrm>
        </p:grpSpPr>
        <p:sp>
          <p:nvSpPr>
            <p:cNvPr id="212" name="Rectangle 1029"/>
            <p:cNvSpPr/>
            <p:nvPr/>
          </p:nvSpPr>
          <p:spPr>
            <a:xfrm>
              <a:off x="1619280" y="1844640"/>
              <a:ext cx="3527280" cy="3745080"/>
            </a:xfrm>
            <a:prstGeom prst="rect">
              <a:avLst/>
            </a:prstGeom>
            <a:solidFill>
              <a:srgbClr val="f8f32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  <p:sp>
          <p:nvSpPr>
            <p:cNvPr id="213" name="Line 1030"/>
            <p:cNvSpPr/>
            <p:nvPr/>
          </p:nvSpPr>
          <p:spPr>
            <a:xfrm flipV="1">
              <a:off x="3346560" y="1773000"/>
              <a:ext cx="0" cy="381636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</p:grpSp>
      <p:grpSp>
        <p:nvGrpSpPr>
          <p:cNvPr id="214" name="Group 1031"/>
          <p:cNvGrpSpPr/>
          <p:nvPr/>
        </p:nvGrpSpPr>
        <p:grpSpPr>
          <a:xfrm>
            <a:off x="5364000" y="1773000"/>
            <a:ext cx="3527280" cy="3816720"/>
            <a:chOff x="5364000" y="1773000"/>
            <a:chExt cx="3527280" cy="3816720"/>
          </a:xfrm>
        </p:grpSpPr>
        <p:sp>
          <p:nvSpPr>
            <p:cNvPr id="215" name="Rectangle 1032"/>
            <p:cNvSpPr/>
            <p:nvPr/>
          </p:nvSpPr>
          <p:spPr>
            <a:xfrm>
              <a:off x="5364000" y="1844640"/>
              <a:ext cx="3527280" cy="3745080"/>
            </a:xfrm>
            <a:prstGeom prst="rect">
              <a:avLst/>
            </a:prstGeom>
            <a:solidFill>
              <a:srgbClr val="f8f32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  <p:sp>
          <p:nvSpPr>
            <p:cNvPr id="216" name="Line 1033"/>
            <p:cNvSpPr/>
            <p:nvPr/>
          </p:nvSpPr>
          <p:spPr>
            <a:xfrm>
              <a:off x="5364000" y="3716640"/>
              <a:ext cx="3527280" cy="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  <p:sp>
          <p:nvSpPr>
            <p:cNvPr id="217" name="Line 1034"/>
            <p:cNvSpPr/>
            <p:nvPr/>
          </p:nvSpPr>
          <p:spPr>
            <a:xfrm flipV="1">
              <a:off x="7091280" y="1773000"/>
              <a:ext cx="0" cy="381636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</p:grpSp>
      <p:sp>
        <p:nvSpPr>
          <p:cNvPr id="218" name="Line 1035"/>
          <p:cNvSpPr/>
          <p:nvPr/>
        </p:nvSpPr>
        <p:spPr>
          <a:xfrm>
            <a:off x="1619280" y="3645000"/>
            <a:ext cx="3527280" cy="0"/>
          </a:xfrm>
          <a:prstGeom prst="line">
            <a:avLst/>
          </a:prstGeom>
          <a:ln w="57240">
            <a:solidFill>
              <a:srgbClr val="f858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19" name="Text Box 1036"/>
          <p:cNvSpPr/>
          <p:nvPr/>
        </p:nvSpPr>
        <p:spPr>
          <a:xfrm>
            <a:off x="1763640" y="1628640"/>
            <a:ext cx="36003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000000"/>
                </a:solidFill>
                <a:latin typeface="Arial"/>
                <a:ea typeface="楷体_GB2312"/>
              </a:rPr>
              <a:t>突</a:t>
            </a:r>
            <a:endParaRPr b="0" lang="en-US" sz="229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20" name="Text Box 1037"/>
          <p:cNvSpPr/>
          <p:nvPr/>
        </p:nvSpPr>
        <p:spPr>
          <a:xfrm>
            <a:off x="5543640" y="1700280"/>
            <a:ext cx="36003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000000"/>
                </a:solidFill>
                <a:latin typeface="Arial"/>
                <a:ea typeface="楷体_GB2312"/>
              </a:rPr>
              <a:t>然</a:t>
            </a:r>
            <a:endParaRPr b="0" lang="en-US" sz="229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026" descr="u=3731290261,4260863387&amp;gp=0">
            <a:hlinkClick r:id="rId2"/>
          </p:cNvPr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-468360" y="0"/>
            <a:ext cx="2808360" cy="43210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027"/>
          <p:cNvSpPr/>
          <p:nvPr/>
        </p:nvSpPr>
        <p:spPr>
          <a:xfrm>
            <a:off x="1979640" y="404640"/>
            <a:ext cx="68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9600" spc="-1" strike="noStrike">
                <a:solidFill>
                  <a:srgbClr val="3333ff"/>
                </a:solidFill>
                <a:latin typeface="宋体"/>
              </a:rPr>
              <a:t>àn</a:t>
            </a:r>
            <a:endParaRPr b="0" lang="en-US" sz="96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223" name="Group 1028"/>
          <p:cNvGrpSpPr/>
          <p:nvPr/>
        </p:nvGrpSpPr>
        <p:grpSpPr>
          <a:xfrm>
            <a:off x="1619280" y="1773000"/>
            <a:ext cx="3527280" cy="3816720"/>
            <a:chOff x="1619280" y="1773000"/>
            <a:chExt cx="3527280" cy="3816720"/>
          </a:xfrm>
        </p:grpSpPr>
        <p:sp>
          <p:nvSpPr>
            <p:cNvPr id="224" name="Rectangle 1029"/>
            <p:cNvSpPr/>
            <p:nvPr/>
          </p:nvSpPr>
          <p:spPr>
            <a:xfrm>
              <a:off x="1619280" y="1844640"/>
              <a:ext cx="3527280" cy="3745080"/>
            </a:xfrm>
            <a:prstGeom prst="rect">
              <a:avLst/>
            </a:prstGeom>
            <a:solidFill>
              <a:srgbClr val="f8f32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  <p:sp>
          <p:nvSpPr>
            <p:cNvPr id="225" name="Line 1030"/>
            <p:cNvSpPr/>
            <p:nvPr/>
          </p:nvSpPr>
          <p:spPr>
            <a:xfrm flipV="1">
              <a:off x="3346560" y="1773000"/>
              <a:ext cx="0" cy="381636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</p:grpSp>
      <p:grpSp>
        <p:nvGrpSpPr>
          <p:cNvPr id="226" name="Group 1031"/>
          <p:cNvGrpSpPr/>
          <p:nvPr/>
        </p:nvGrpSpPr>
        <p:grpSpPr>
          <a:xfrm>
            <a:off x="5364000" y="1773000"/>
            <a:ext cx="3527280" cy="3816720"/>
            <a:chOff x="5364000" y="1773000"/>
            <a:chExt cx="3527280" cy="3816720"/>
          </a:xfrm>
        </p:grpSpPr>
        <p:sp>
          <p:nvSpPr>
            <p:cNvPr id="227" name="Rectangle 1032"/>
            <p:cNvSpPr/>
            <p:nvPr/>
          </p:nvSpPr>
          <p:spPr>
            <a:xfrm>
              <a:off x="5364000" y="1844640"/>
              <a:ext cx="3527280" cy="3745080"/>
            </a:xfrm>
            <a:prstGeom prst="rect">
              <a:avLst/>
            </a:prstGeom>
            <a:solidFill>
              <a:srgbClr val="f8f32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  <p:sp>
          <p:nvSpPr>
            <p:cNvPr id="228" name="Line 1033"/>
            <p:cNvSpPr/>
            <p:nvPr/>
          </p:nvSpPr>
          <p:spPr>
            <a:xfrm>
              <a:off x="5364000" y="3716640"/>
              <a:ext cx="3527280" cy="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  <p:sp>
          <p:nvSpPr>
            <p:cNvPr id="229" name="Line 1034"/>
            <p:cNvSpPr/>
            <p:nvPr/>
          </p:nvSpPr>
          <p:spPr>
            <a:xfrm flipV="1">
              <a:off x="7091280" y="1773000"/>
              <a:ext cx="0" cy="381636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</p:grpSp>
      <p:sp>
        <p:nvSpPr>
          <p:cNvPr id="230" name="Line 1035"/>
          <p:cNvSpPr/>
          <p:nvPr/>
        </p:nvSpPr>
        <p:spPr>
          <a:xfrm>
            <a:off x="1619280" y="3645000"/>
            <a:ext cx="3527280" cy="0"/>
          </a:xfrm>
          <a:prstGeom prst="line">
            <a:avLst/>
          </a:prstGeom>
          <a:ln w="57240">
            <a:solidFill>
              <a:srgbClr val="f858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31" name="Text Box 1036"/>
          <p:cNvSpPr/>
          <p:nvPr/>
        </p:nvSpPr>
        <p:spPr>
          <a:xfrm>
            <a:off x="1763640" y="1628640"/>
            <a:ext cx="36003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000000"/>
                </a:solidFill>
                <a:latin typeface="Arial"/>
                <a:ea typeface="楷体_GB2312"/>
              </a:rPr>
              <a:t>按</a:t>
            </a:r>
            <a:endParaRPr b="0" lang="en-US" sz="229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32" name="Text Box 1037"/>
          <p:cNvSpPr/>
          <p:nvPr/>
        </p:nvSpPr>
        <p:spPr>
          <a:xfrm>
            <a:off x="5543640" y="1700280"/>
            <a:ext cx="36003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000000"/>
                </a:solidFill>
                <a:latin typeface="Arial"/>
                <a:ea typeface="楷体_GB2312"/>
              </a:rPr>
              <a:t>照</a:t>
            </a:r>
            <a:endParaRPr b="0" lang="en-US" sz="229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1026" descr="u=3731290261,4260863387&amp;gp=0">
            <a:hlinkClick r:id="rId2"/>
          </p:cNvPr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-468360" y="0"/>
            <a:ext cx="2808360" cy="432108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1027"/>
          <p:cNvSpPr/>
          <p:nvPr/>
        </p:nvSpPr>
        <p:spPr>
          <a:xfrm>
            <a:off x="1979640" y="404640"/>
            <a:ext cx="68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9600" spc="-1" strike="noStrike">
                <a:solidFill>
                  <a:srgbClr val="3333ff"/>
                </a:solidFill>
                <a:latin typeface="宋体"/>
              </a:rPr>
              <a:t>j</a:t>
            </a:r>
            <a:r>
              <a:rPr b="1" lang="en-US" sz="9600" spc="-1" strike="noStrike">
                <a:solidFill>
                  <a:srgbClr val="3333ff"/>
                </a:solidFill>
                <a:latin typeface="Arial"/>
              </a:rPr>
              <a:t>ī</a:t>
            </a:r>
            <a:endParaRPr b="0" lang="en-US" sz="96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235" name="Group 1028"/>
          <p:cNvGrpSpPr/>
          <p:nvPr/>
        </p:nvGrpSpPr>
        <p:grpSpPr>
          <a:xfrm>
            <a:off x="1619280" y="1773000"/>
            <a:ext cx="3527280" cy="3816720"/>
            <a:chOff x="1619280" y="1773000"/>
            <a:chExt cx="3527280" cy="3816720"/>
          </a:xfrm>
        </p:grpSpPr>
        <p:sp>
          <p:nvSpPr>
            <p:cNvPr id="236" name="Rectangle 1029"/>
            <p:cNvSpPr/>
            <p:nvPr/>
          </p:nvSpPr>
          <p:spPr>
            <a:xfrm>
              <a:off x="1619280" y="1844640"/>
              <a:ext cx="3527280" cy="3745080"/>
            </a:xfrm>
            <a:prstGeom prst="rect">
              <a:avLst/>
            </a:prstGeom>
            <a:solidFill>
              <a:srgbClr val="f8f32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  <p:sp>
          <p:nvSpPr>
            <p:cNvPr id="237" name="Line 1030"/>
            <p:cNvSpPr/>
            <p:nvPr/>
          </p:nvSpPr>
          <p:spPr>
            <a:xfrm flipV="1">
              <a:off x="3346560" y="1773000"/>
              <a:ext cx="0" cy="381636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</p:grpSp>
      <p:grpSp>
        <p:nvGrpSpPr>
          <p:cNvPr id="238" name="Group 1031"/>
          <p:cNvGrpSpPr/>
          <p:nvPr/>
        </p:nvGrpSpPr>
        <p:grpSpPr>
          <a:xfrm>
            <a:off x="5364000" y="1773000"/>
            <a:ext cx="3527280" cy="3816720"/>
            <a:chOff x="5364000" y="1773000"/>
            <a:chExt cx="3527280" cy="3816720"/>
          </a:xfrm>
        </p:grpSpPr>
        <p:sp>
          <p:nvSpPr>
            <p:cNvPr id="239" name="Rectangle 1032"/>
            <p:cNvSpPr/>
            <p:nvPr/>
          </p:nvSpPr>
          <p:spPr>
            <a:xfrm>
              <a:off x="5364000" y="1844640"/>
              <a:ext cx="3527280" cy="3745080"/>
            </a:xfrm>
            <a:prstGeom prst="rect">
              <a:avLst/>
            </a:prstGeom>
            <a:solidFill>
              <a:srgbClr val="f8f32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  <p:sp>
          <p:nvSpPr>
            <p:cNvPr id="240" name="Line 1033"/>
            <p:cNvSpPr/>
            <p:nvPr/>
          </p:nvSpPr>
          <p:spPr>
            <a:xfrm>
              <a:off x="5364000" y="3716640"/>
              <a:ext cx="3527280" cy="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  <p:sp>
          <p:nvSpPr>
            <p:cNvPr id="241" name="Line 1034"/>
            <p:cNvSpPr/>
            <p:nvPr/>
          </p:nvSpPr>
          <p:spPr>
            <a:xfrm flipV="1">
              <a:off x="7091280" y="1773000"/>
              <a:ext cx="0" cy="381636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</p:grpSp>
      <p:sp>
        <p:nvSpPr>
          <p:cNvPr id="242" name="Line 1035"/>
          <p:cNvSpPr/>
          <p:nvPr/>
        </p:nvSpPr>
        <p:spPr>
          <a:xfrm>
            <a:off x="1619280" y="3645000"/>
            <a:ext cx="3527280" cy="0"/>
          </a:xfrm>
          <a:prstGeom prst="line">
            <a:avLst/>
          </a:prstGeom>
          <a:ln w="57240">
            <a:solidFill>
              <a:srgbClr val="f858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3" name="Text Box 1036"/>
          <p:cNvSpPr/>
          <p:nvPr/>
        </p:nvSpPr>
        <p:spPr>
          <a:xfrm>
            <a:off x="1763640" y="1628640"/>
            <a:ext cx="36003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000000"/>
                </a:solidFill>
                <a:latin typeface="Arial"/>
                <a:ea typeface="楷体_GB2312"/>
              </a:rPr>
              <a:t>基</a:t>
            </a:r>
            <a:endParaRPr b="0" lang="en-US" sz="229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4" name="Text Box 1037"/>
          <p:cNvSpPr/>
          <p:nvPr/>
        </p:nvSpPr>
        <p:spPr>
          <a:xfrm>
            <a:off x="5543640" y="1700280"/>
            <a:ext cx="36003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000000"/>
                </a:solidFill>
                <a:latin typeface="Arial"/>
                <a:ea typeface="楷体_GB2312"/>
              </a:rPr>
              <a:t>本</a:t>
            </a:r>
            <a:endParaRPr b="0" lang="en-US" sz="229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484000" y="1600200"/>
            <a:ext cx="62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理想，能给天下不幸者以快乐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聪明在于学习，智慧在于积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书籍是人类进步的阶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切伟大的事业，或者是说一切大事，都是由小事组成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人不是因为美丽而可爱，而是因为可爱而美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6711480" y="580536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高尔基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530520" y="836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名人名言</a:t>
            </a:r>
            <a:endParaRPr b="0" lang="en-US" sz="32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842920" y="1900080"/>
            <a:ext cx="6202440" cy="49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基础   基本   按照   按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摆弄   准备   侧面   胶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车辆   秘书   秘密   杂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复杂    社会   社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3303360" y="1676520"/>
            <a:ext cx="241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Arial"/>
                <a:ea typeface="楷体_GB2312"/>
              </a:rPr>
              <a:t>突　然</a:t>
            </a:r>
            <a:endParaRPr b="0" lang="en-US" sz="80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324000" y="141300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一个阳光明媚的早晨，高尔基正在读书，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突然，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一个小纸团从窗外飞到了桌子上。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228600" y="114300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5400" spc="-1" strike="noStrike">
                <a:solidFill>
                  <a:srgbClr val="ff9900"/>
                </a:solidFill>
                <a:latin typeface="Arial"/>
                <a:ea typeface="楷体_GB2312"/>
              </a:rPr>
              <a:t>一个阳光明媚的早晨，高尔基正在读书，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突然，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一个小纸团从窗外飞到了桌子上。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380880" y="31240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突然，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小男孩往地上一坐，哭了起来。</a:t>
            </a:r>
            <a:endParaRPr b="0" lang="en-US" sz="4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304920" y="4800600"/>
            <a:ext cx="82105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Arial"/>
              </a:rPr>
              <a:t>　　</a:t>
            </a:r>
            <a:r>
              <a:rPr b="1" lang="zh-CN" sz="4800" spc="-1" strike="noStrike">
                <a:solidFill>
                  <a:srgbClr val="ff9900"/>
                </a:solidFill>
                <a:latin typeface="Arial"/>
                <a:ea typeface="楷体_GB2312"/>
              </a:rPr>
              <a:t>小男孩哭着说：“我把</a:t>
            </a:r>
            <a:endParaRPr b="0" lang="en-US" sz="4800" spc="-1" strike="noStrike">
              <a:solidFill>
                <a:srgbClr val="3333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Arial"/>
                <a:ea typeface="楷体_GB2312"/>
              </a:rPr>
              <a:t>胶卷忘在家里了。”</a:t>
            </a:r>
            <a:endParaRPr b="0" lang="en-US" sz="4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0" y="9144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Arial"/>
              </a:rPr>
              <a:t>　　</a:t>
            </a:r>
            <a:r>
              <a:rPr b="1" lang="zh-CN" sz="4800" spc="-1" strike="noStrike">
                <a:solidFill>
                  <a:srgbClr val="ff9900"/>
                </a:solidFill>
                <a:latin typeface="Arial"/>
                <a:ea typeface="楷体_GB2312"/>
              </a:rPr>
              <a:t>小男孩摆弄了很久很久，说：</a:t>
            </a:r>
            <a:r>
              <a:rPr b="1" lang="en-US" sz="4800" spc="-1" strike="noStrike">
                <a:solidFill>
                  <a:srgbClr val="ff9900"/>
                </a:solidFill>
                <a:latin typeface="宋体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ff9900"/>
                </a:solidFill>
                <a:latin typeface="Arial"/>
                <a:ea typeface="楷体_GB2312"/>
              </a:rPr>
              <a:t>一切准备停当。</a:t>
            </a:r>
            <a:r>
              <a:rPr b="1" lang="en-US" sz="4800" spc="-1" strike="noStrike">
                <a:solidFill>
                  <a:srgbClr val="ff9900"/>
                </a:solidFill>
                <a:latin typeface="宋体"/>
                <a:ea typeface="楷体_GB2312"/>
              </a:rPr>
              <a:t>”</a:t>
            </a:r>
            <a:r>
              <a:rPr b="1" lang="zh-CN" sz="4800" spc="-1" strike="noStrike">
                <a:solidFill>
                  <a:srgbClr val="ff9900"/>
                </a:solidFill>
                <a:latin typeface="Arial"/>
                <a:ea typeface="楷体_GB2312"/>
              </a:rPr>
              <a:t>高尔基侧过脸，对着他微笑。</a:t>
            </a:r>
            <a:endParaRPr b="0" lang="en-US" sz="48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136440" y="1219320"/>
            <a:ext cx="9007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1" lang="zh-CN" sz="4800" spc="-1" strike="noStrike">
                <a:solidFill>
                  <a:srgbClr val="ff9900"/>
                </a:solidFill>
                <a:latin typeface="宋体"/>
                <a:ea typeface="楷体_GB2312"/>
              </a:rPr>
              <a:t>小男孩摆弄了很久很久，说：“</a:t>
            </a:r>
            <a:r>
              <a:rPr b="1" lang="zh-CN" sz="4800" spc="-1" strike="noStrike">
                <a:solidFill>
                  <a:srgbClr val="ff3300"/>
                </a:solidFill>
                <a:latin typeface="宋体"/>
                <a:ea typeface="楷体_GB2312"/>
              </a:rPr>
              <a:t>一切准备</a:t>
            </a:r>
            <a:r>
              <a:rPr b="1" lang="zh-CN" sz="4800" spc="-1" strike="noStrike">
                <a:solidFill>
                  <a:srgbClr val="ff9900"/>
                </a:solidFill>
                <a:latin typeface="宋体"/>
                <a:ea typeface="楷体_GB2312"/>
              </a:rPr>
              <a:t>停当。”高尔基侧过脸，对着他微笑。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突然，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小男孩往地上一坐，哭了起来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533520" y="99072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亲爱的高尔基同志：</a:t>
            </a:r>
            <a:endParaRPr b="0" lang="en-US" sz="4800" spc="-1" strike="noStrike">
              <a:solidFill>
                <a:srgbClr val="3333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　　我是一名少先队员。我想给您照一张相，贴在我的墙报上。请您让他们放我进去。我照完相，立刻就走。</a:t>
            </a:r>
            <a:endParaRPr b="0" lang="en-US" sz="48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533520" y="99072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亲爱的高尔基同志：</a:t>
            </a:r>
            <a:endParaRPr b="0" lang="en-US" sz="4800" spc="-1" strike="noStrike">
              <a:solidFill>
                <a:srgbClr val="3333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　　我是一名少先队员。我想给您照一张相，贴在我的墙报上。请您让他们放我进去。我照完相，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立刻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就走。</a:t>
            </a:r>
            <a:endParaRPr b="0" lang="en-US" sz="48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3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685800" y="129528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的。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男孩站起来，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鞠了个躬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让我进去吧！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212760" y="1143000"/>
            <a:ext cx="870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过了一会儿，小男孩站在高尔基面前了。他仔细打量着高尔基，咧开嘴笑了，然后用手指了指沙发，说：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请您坐在这儿看报纸。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48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8"/>
          <p:cNvSpPr/>
          <p:nvPr/>
        </p:nvSpPr>
        <p:spPr>
          <a:xfrm>
            <a:off x="1692360" y="4437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3333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3333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3333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3333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3333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3333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3333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3333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4500720" y="1773360"/>
            <a:ext cx="23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140360" y="1197000"/>
            <a:ext cx="445608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高尔基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：（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1868—1936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）前苏</a:t>
            </a:r>
            <a:endParaRPr b="0" lang="en-US" sz="2400" spc="-1" strike="noStrike">
              <a:solidFill>
                <a:srgbClr val="3333ff"/>
              </a:solidFill>
              <a:latin typeface="Arial"/>
            </a:endParaRPr>
          </a:p>
          <a:p>
            <a:pPr marL="301680" indent="-30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联伟大的无产阶级文学家，苏</a:t>
            </a:r>
            <a:endParaRPr b="0" lang="en-US" sz="2400" spc="-1" strike="noStrike">
              <a:solidFill>
                <a:srgbClr val="3333ff"/>
              </a:solidFill>
              <a:latin typeface="Arial"/>
            </a:endParaRPr>
          </a:p>
          <a:p>
            <a:pPr marL="301680" indent="-30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联文学的创始人。他的主要作</a:t>
            </a:r>
            <a:endParaRPr b="0" lang="en-US" sz="2400" spc="-1" strike="noStrike">
              <a:solidFill>
                <a:srgbClr val="3333ff"/>
              </a:solidFill>
              <a:latin typeface="Arial"/>
            </a:endParaRPr>
          </a:p>
          <a:p>
            <a:pPr marL="301680" indent="-30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品有散文诗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海燕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，小说</a:t>
            </a:r>
            <a:endParaRPr b="0" lang="en-US" sz="2400" spc="-1" strike="noStrike">
              <a:solidFill>
                <a:srgbClr val="3333ff"/>
              </a:solidFill>
              <a:latin typeface="Arial"/>
            </a:endParaRPr>
          </a:p>
          <a:p>
            <a:pPr marL="301680" indent="-30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母亲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自传体三部曲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童</a:t>
            </a:r>
            <a:endParaRPr b="0" lang="en-US" sz="2400" spc="-1" strike="noStrike">
              <a:solidFill>
                <a:srgbClr val="3333ff"/>
              </a:solidFill>
              <a:latin typeface="Arial"/>
            </a:endParaRPr>
          </a:p>
          <a:p>
            <a:pPr marL="301680" indent="-30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年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在人间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我的大</a:t>
            </a:r>
            <a:endParaRPr b="0" lang="en-US" sz="2400" spc="-1" strike="noStrike">
              <a:solidFill>
                <a:srgbClr val="3333ff"/>
              </a:solidFill>
              <a:latin typeface="Arial"/>
            </a:endParaRPr>
          </a:p>
          <a:p>
            <a:pPr marL="301680" indent="-30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学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，以及一系列剧本。列宁</a:t>
            </a:r>
            <a:endParaRPr b="0" lang="en-US" sz="2400" spc="-1" strike="noStrike">
              <a:solidFill>
                <a:srgbClr val="3333ff"/>
              </a:solidFill>
              <a:latin typeface="Arial"/>
            </a:endParaRPr>
          </a:p>
          <a:p>
            <a:pPr marL="301680" indent="-30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称他是“无产阶级艺术的最杰出代表”。</a:t>
            </a:r>
            <a:endParaRPr b="0" lang="en-US" sz="2400" spc="-1" strike="noStrike">
              <a:solidFill>
                <a:srgbClr val="3333ff"/>
              </a:solidFill>
              <a:latin typeface="Arial"/>
            </a:endParaRPr>
          </a:p>
          <a:p>
            <a:pPr marL="301680" indent="-30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ff"/>
              </a:solidFill>
              <a:latin typeface="Arial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pic>
        <p:nvPicPr>
          <p:cNvPr id="90" name="Object 6" descr=""/>
          <p:cNvPicPr/>
          <p:nvPr/>
        </p:nvPicPr>
        <p:blipFill>
          <a:blip r:embed="rId10"/>
          <a:stretch/>
        </p:blipFill>
        <p:spPr>
          <a:xfrm>
            <a:off x="-120600" y="2492280"/>
            <a:ext cx="4248000" cy="44276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8"/>
          <p:cNvSpPr/>
          <p:nvPr/>
        </p:nvSpPr>
        <p:spPr>
          <a:xfrm>
            <a:off x="6948360" y="63086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点击绿色字链接</a:t>
            </a:r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212760" y="1143000"/>
            <a:ext cx="8702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过了一会儿，小男孩站在高尔基面前了。他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仔细打量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着高尔基，咧开嘴笑了，然后用手指了指沙发，说：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请您坐在这儿看报纸。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48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212760" y="1143000"/>
            <a:ext cx="8702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过了一会儿，小男孩站在高尔基面前了。他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仔细打量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着高尔基，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咧开嘴笑了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，然后用手指了指沙发，说：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请您坐在这儿看报纸。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48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2508840" y="1828800"/>
            <a:ext cx="436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小男孩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摆弄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了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很久很久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136440" y="1219320"/>
            <a:ext cx="9007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1" lang="zh-CN" sz="4800" spc="-1" strike="noStrike">
                <a:solidFill>
                  <a:srgbClr val="ff9900"/>
                </a:solidFill>
                <a:latin typeface="宋体"/>
                <a:ea typeface="楷体_GB2312"/>
              </a:rPr>
              <a:t>小男孩摆弄了很久很久，说：“一切准备停当。”高尔基侧过脸，对着他微笑。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突然，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小男孩往地上一坐，哭了起来。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0" y="3276720"/>
            <a:ext cx="961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Arial"/>
              </a:rPr>
              <a:t>　　</a:t>
            </a:r>
            <a:r>
              <a:rPr b="1" lang="zh-CN" sz="4800" spc="-1" strike="noStrike">
                <a:solidFill>
                  <a:srgbClr val="ff9900"/>
                </a:solidFill>
                <a:latin typeface="Arial"/>
                <a:ea typeface="楷体_GB2312"/>
              </a:rPr>
              <a:t>高尔基侧过脸，对着他微笑。</a:t>
            </a:r>
            <a:endParaRPr b="0" lang="en-US" sz="4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533520" y="1219320"/>
            <a:ext cx="763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高尔基拿了张报纸，按小男孩的吩咐坐下。</a:t>
            </a:r>
            <a:endParaRPr b="0" lang="en-US" sz="48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304920" y="1447920"/>
            <a:ext cx="853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高尔基走到窗口，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大声喊道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：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孩子，回来！我给你胶卷，我这儿有很多胶卷。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48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609480" y="838080"/>
            <a:ext cx="8229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作业小超市（二选一）：</a:t>
            </a:r>
            <a:endParaRPr b="0" lang="en-US" sz="3200" spc="-1" strike="noStrike">
              <a:solidFill>
                <a:srgbClr val="3333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１、小男孩哭着离开高尔基的办公室，他还会再来吗？再次见面时他们会说些什么？做些什么呢？请你展开想象，接着往下编写这个故事。</a:t>
            </a:r>
            <a:endParaRPr b="0" lang="en-US" sz="3200" spc="-1" strike="noStrike">
              <a:solidFill>
                <a:srgbClr val="3333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２、课外阅读有关高尔基的其他故事或高尔基的作品。</a:t>
            </a:r>
            <a:endParaRPr b="0" lang="en-US" sz="32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059280" y="2708280"/>
            <a:ext cx="584352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一个阳光明媚的早晨，高尔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正读书，突然，一个小纸团从窗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飞到了桌子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4"/>
          <p:cNvSpPr/>
          <p:nvPr/>
        </p:nvSpPr>
        <p:spPr>
          <a:xfrm>
            <a:off x="4716360" y="3645000"/>
            <a:ext cx="14472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68" name="Oval 5"/>
          <p:cNvSpPr/>
          <p:nvPr/>
        </p:nvSpPr>
        <p:spPr>
          <a:xfrm>
            <a:off x="5003640" y="3645000"/>
            <a:ext cx="14472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3635280" y="465300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说说，突然发生了什么事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3995640" y="5157720"/>
            <a:ext cx="424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　　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读课文，思考：小男孩为什么来？用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——”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画出有关句子。 </a:t>
            </a:r>
            <a:endParaRPr b="0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3419640" y="1916280"/>
            <a:ext cx="467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亲爱的高尔基同志：</a:t>
            </a:r>
            <a:endParaRPr b="0" lang="en-US" sz="2400" spc="-1" strike="noStrike">
              <a:solidFill>
                <a:srgbClr val="3333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　　我是一名少先队员。我想给您照张相，贴在我们的墙报上。请您让他们放我进去。我照完相，立刻就走。</a:t>
            </a:r>
            <a:endParaRPr b="0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3564000" y="4653000"/>
            <a:ext cx="43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你觉得这名少先队员怎么样？</a:t>
            </a:r>
            <a:endParaRPr b="0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3851280" y="458136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他真会想办法！</a:t>
            </a:r>
            <a:endParaRPr b="0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3492360" y="1052640"/>
            <a:ext cx="37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读句子，思考：</a:t>
            </a:r>
            <a:endParaRPr b="0" lang="en-US" sz="20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24360" y="1052280"/>
            <a:ext cx="468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高尔基是怎样听从小男孩吩咐的？用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----”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画出有关句子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" descr="图片1"/>
          <p:cNvPicPr/>
          <p:nvPr/>
        </p:nvPicPr>
        <p:blipFill>
          <a:blip r:embed="rId2"/>
          <a:stretch/>
        </p:blipFill>
        <p:spPr>
          <a:xfrm>
            <a:off x="0" y="907920"/>
            <a:ext cx="3708360" cy="59500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5"/>
          <p:cNvSpPr/>
          <p:nvPr/>
        </p:nvSpPr>
        <p:spPr>
          <a:xfrm>
            <a:off x="3851280" y="2276640"/>
            <a:ext cx="5040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过了一会，小男孩站在高尔基面前了。他仔细打量着高尔基，咧开嘴笑了，然后用手指了指沙发，说：“请您坐这儿看报纸。”</a:t>
            </a:r>
            <a:endParaRPr b="0" lang="en-US" sz="2400" spc="-1" strike="noStrike">
              <a:solidFill>
                <a:srgbClr val="3333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高尔基拿了张报纸，按小男孩的吩咐坐下。小男孩摆弄了很久很久，说：“一切准备停当。”高尔基侧过脸，对着他微笑。</a:t>
            </a:r>
            <a:endParaRPr b="0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4140360" y="5734080"/>
            <a:ext cx="46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读了课文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你认为高尔基是怎么样的人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5"/>
          <p:cNvSpPr/>
          <p:nvPr/>
        </p:nvSpPr>
        <p:spPr>
          <a:xfrm>
            <a:off x="3708360" y="1125360"/>
            <a:ext cx="47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突然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又发生了什么事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高尔基是怎样说的？请找出句子读读。</a:t>
            </a:r>
            <a:endParaRPr b="0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3492360" y="1989000"/>
            <a:ext cx="48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     “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你怎么了？”高尔基不知出了什么事？</a:t>
            </a:r>
            <a:endParaRPr b="0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3564000" y="292428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高尔基走到窗口，大声喊道：“孩子，回来！我给你胶卷，我这儿有很多胶卷。”</a:t>
            </a:r>
            <a:endParaRPr b="0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3780000" y="4149720"/>
            <a:ext cx="42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讨论：你认为高尔基对小男孩如何？从哪儿看出？说明什么？</a:t>
            </a:r>
            <a:endParaRPr b="0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2556000" y="4869000"/>
            <a:ext cx="604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高尔基多么想留住小男孩，帮助孩子拍成这张照片，实现他美好的愿望。 </a:t>
            </a:r>
            <a:endParaRPr b="0" lang="en-US" sz="32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7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35280" y="227628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听听课文朗读，看看课文讲了一件什么事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小摄影师.mp3" descr=""/>
          <p:cNvPicPr/>
          <p:nvPr/>
        </p:nvPicPr>
        <p:blipFill>
          <a:blip r:embed="rId2"/>
          <a:stretch/>
        </p:blipFill>
        <p:spPr>
          <a:xfrm>
            <a:off x="6443640" y="4437000"/>
            <a:ext cx="137628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1026"/>
          <p:cNvSpPr/>
          <p:nvPr/>
        </p:nvSpPr>
        <p:spPr>
          <a:xfrm>
            <a:off x="609480" y="5335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尔基拿了张报纸，按小男孩的吩咐坐下。</a:t>
            </a: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5" name="Text Box 1027"/>
          <p:cNvSpPr/>
          <p:nvPr/>
        </p:nvSpPr>
        <p:spPr>
          <a:xfrm>
            <a:off x="609480" y="217476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这句话说明高尔基非常尊重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小摄影师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，并尽量使他满意。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吩咐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这个词本来的意思是口头指派或命令，一般是在上级让下级干什么或长辈让晚辈干什么的时候才使用它。这充分表露了高尔基作为长者对下一代的关爱。 </a:t>
            </a: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1026"/>
          <p:cNvSpPr/>
          <p:nvPr/>
        </p:nvSpPr>
        <p:spPr>
          <a:xfrm>
            <a:off x="1042920" y="364500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转告他，我很忙。不过，来的如果是个小男孩，就一定让他进来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026"/>
          <p:cNvSpPr/>
          <p:nvPr/>
        </p:nvSpPr>
        <p:spPr>
          <a:xfrm>
            <a:off x="609480" y="99072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这是高尔基对秘书说的话。当秘书讲明来人是杂志社记者时，高尔基立刻婉言谢绝了，说自己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很忙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。说明高尔基对于宣传自己一点也不感兴趣，但对关心到下一代成长的事，却非常重视，所以表示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来的如果是个小男孩，就一定让他进来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。这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一定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说明高尔基一直惦记着小男孩，急切地希望小男孩的愿望能赶快实现。 </a:t>
            </a: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pic>
        <p:nvPicPr>
          <p:cNvPr id="288" name="Picture 1027" descr="0043"/>
          <p:cNvPicPr/>
          <p:nvPr/>
        </p:nvPicPr>
        <p:blipFill>
          <a:blip r:embed="rId2"/>
          <a:stretch/>
        </p:blipFill>
        <p:spPr>
          <a:xfrm>
            <a:off x="7620120" y="5638680"/>
            <a:ext cx="1104840" cy="828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5"/>
          <p:cNvSpPr/>
          <p:nvPr/>
        </p:nvSpPr>
        <p:spPr>
          <a:xfrm>
            <a:off x="4140360" y="105264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高尔基希望孩子来吗？从哪儿看出？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3995640" y="2133720"/>
            <a:ext cx="41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小男孩会回来吗</a:t>
            </a:r>
            <a:br>
              <a:rPr sz="3600"/>
            </a:b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3851280" y="3141720"/>
            <a:ext cx="410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联系全文，找出自己的看法的依据，并发挥想象，续写故事。 </a:t>
            </a:r>
            <a:endParaRPr b="0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92" name="WordArt 8"/>
          <p:cNvSpPr txBox="1"/>
          <p:nvPr/>
        </p:nvSpPr>
        <p:spPr>
          <a:xfrm>
            <a:off x="7308720" y="1628640"/>
            <a:ext cx="792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华文新魏"/>
              </a:rPr>
              <a:t>？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93" name="Picture 9" descr="小男孩"/>
          <p:cNvPicPr/>
          <p:nvPr/>
        </p:nvPicPr>
        <p:blipFill>
          <a:blip r:embed="rId2"/>
          <a:stretch/>
        </p:blipFill>
        <p:spPr>
          <a:xfrm>
            <a:off x="0" y="981000"/>
            <a:ext cx="341964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92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0" dur="192" fill="hold"/>
                                        <p:tgtEl>
                                          <p:spTgt spid="2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2" dur="192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4" dur="192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续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摄影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692360" y="1267920"/>
            <a:ext cx="7005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第二天早上，天气格外晴朗。高尔基还想念着昨天的小摄影师呢！你看他想得多入神啊！突然，门卫告诉高尔基：“外面来了一名记者。”“是小男孩吗？”高尔基问。门卫回答说：“是的。”高尔基说：“快，快让他进来！”小男孩说：“这次我记着带胶卷了，我吸取了教训，以后也不会那么马虎了。”高尔基听到小男孩所说的话高兴极了！小男孩首先举起了相机，仔细打量着高尔基咧开嘴笑了。然后用手指了指办公桌说：“请您坐在这儿工作。”高尔基按照小男孩的吩咐坐下。最后小男孩调整好相机，又摆弄了好久，说：“一切准备停当。”小男孩又换了几个角度，照了几张相，他终于心满意足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续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摄影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18920" y="1599840"/>
            <a:ext cx="727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第二天，小男孩来到列宁格勒，秘书马上请小男孩到高尔基的办公室。小男孩敲门进来。高尔基说：“快请进，我这儿有胶卷。”小男孩说：“你的胶卷不适合我的相机。”说着，小男孩已经吩咐高尔基坐在沙发上看报纸。忽然，小男孩又哭了起来。“你怎么呢？”高尔基关切地问。“我又忘了带胶卷了。”高尔基拿了一筒胶卷给小男孩。小男孩说：“没办法，只好用着吧！”小男孩吩咐高尔基坐在凳子上打电脑。高尔基按小男孩的吩咐去做。小男孩说：“我这次一定要多照些。”小男孩照了很久，觉得口渴了。高尔基叫秘书拿来一杯果汁。小男孩喝完向高尔基告别走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续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摄影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834920" y="1267920"/>
            <a:ext cx="70578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男孩哭着回到了家，妈妈看见了说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怎么了，孩子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小男孩哭着说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把胶卷忘带了，所以没拍成照片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妈妈笑着说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今天没有拍成明天可以去拍呀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　     到了第二天，小男孩又来到列宁格勒。门口的秘书看到了，赶紧去告诉高尔基，高尔基听了高兴地说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快带小男孩到我这里来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男孩到了高尔基的面前对他说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亲爱的高尔基同志，对不起！昨天我把胶卷忘在家里了，不过，这次请放心。我已经把东西都带来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  开始拍照了，高尔基做了各种各样的姿势，耐心地配合小男孩。高尔基和小男孩在拍照的时候非常开心，因为高尔基帮助小男孩实现了愿望，小男孩也因为给高尔基拍了照片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男孩要回家了，恭恭敬敬地对高尔基说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谢谢您！再见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海燕"/>
          <p:cNvPicPr/>
          <p:nvPr/>
        </p:nvPicPr>
        <p:blipFill>
          <a:blip r:embed="rId2">
            <a:lum contrast="-42000"/>
          </a:blip>
          <a:stretch/>
        </p:blipFill>
        <p:spPr>
          <a:xfrm>
            <a:off x="0" y="620640"/>
            <a:ext cx="9144000" cy="646596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3"/>
          <p:cNvSpPr/>
          <p:nvPr/>
        </p:nvSpPr>
        <p:spPr>
          <a:xfrm>
            <a:off x="468360" y="170028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在苍茫的大海上，风聚集着乌云。在乌云和大海之间，海燕像黑色的闪电高傲地飞翔。</a:t>
            </a:r>
            <a:br>
              <a:rPr sz="1800"/>
            </a:b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      一会儿翅膀碰着海浪，一会儿箭一般地直冲云霄，它叫喊着，──在这鸟儿勇敢的叫喊声里，乌云听到了欢乐。</a:t>
            </a:r>
            <a:br>
              <a:rPr sz="1800"/>
            </a:b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      在这叫喊声里，充满着对暴风雨的渴望！在这叫喊声里，乌云感到了愤怒的力量、热情的火焰和胜利的信心。</a:t>
            </a:r>
            <a:br>
              <a:rPr sz="1800"/>
            </a:b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      海鸥在暴风雨到来之前呻吟着，──呻吟着，在大海上面飞窜，想把自己对暴风雨的恐惧，掩藏到大海深处。</a:t>
            </a:r>
            <a:br>
              <a:rPr sz="1800"/>
            </a:b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      海鸭也呻吟着，──这些海鸭呀，享受不了生活的战斗的欢乐；轰隆隆的雷声就把它们吓坏了。</a:t>
            </a:r>
            <a:br>
              <a:rPr sz="1800"/>
            </a:b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     愚蠢的企鹅，畏缩地把肥胖的身体躲藏在峭崖底下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只有那高傲的海燕，勇敢地、自由自在地，在翻起白沫的大海上面飞翔。</a:t>
            </a:r>
            <a:br>
              <a:rPr sz="1800"/>
            </a:b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     乌云越来越暗，越来越低，向海面压下来；波浪一边歌唱，一边冲向空中去迎接那雷声。</a:t>
            </a:r>
            <a:br>
              <a:rPr sz="1800"/>
            </a:b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      雷声轰响，波浪在愤怒的飞沫中呼啸着，跟狂风争鸣。看吧，狂风紧紧抱着一堆巨浪，恶狠狠地扔到峭崖上，把这大块的翡翠摔成尘雾和水沫。</a:t>
            </a:r>
            <a:br>
              <a:rPr sz="1800"/>
            </a:b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     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pic>
        <p:nvPicPr>
          <p:cNvPr id="302" name="WordArt 4" descr=""/>
          <p:cNvPicPr/>
          <p:nvPr/>
        </p:nvPicPr>
        <p:blipFill>
          <a:blip r:embed="rId3"/>
          <a:stretch/>
        </p:blipFill>
        <p:spPr>
          <a:xfrm>
            <a:off x="324000" y="695160"/>
            <a:ext cx="1974600" cy="105444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5"/>
          <p:cNvSpPr/>
          <p:nvPr/>
        </p:nvSpPr>
        <p:spPr>
          <a:xfrm>
            <a:off x="4356000" y="83664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隶书"/>
              </a:rPr>
              <a:t>欣赏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隶书"/>
              </a:rPr>
              <a:t>——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隶书"/>
              </a:rPr>
              <a:t>海燕</a:t>
            </a:r>
            <a:endParaRPr b="0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755640" y="1989000"/>
            <a:ext cx="806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海燕叫喊着，飞翔着，像黑色的闪电，箭一般地穿过乌云。翅膀刮起波浪的飞沫。</a:t>
            </a:r>
            <a:br>
              <a:rPr sz="1800"/>
            </a:b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     看吧，它飞舞着像个精灵──高傲的、黑色的暴风雨的精灵，──它一边大笑，它一边高叫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它笑那些乌云，它为欢乐而高叫！</a:t>
            </a:r>
            <a:br>
              <a:rPr sz="1800"/>
            </a:b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      这个敏感的精灵，从雷声的震怒里早就听出困乏，它深信乌云遮不住太阳，──是的，遮不住的！风在狂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雷在轰响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……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一堆堆的乌云像青色的火焰，在无底的大海上燃烧。大海抓住金箭似的闪电，把它熄灭在自己的深渊里。闪电的影子，像一条条的火舌，在大海里蜿蜒浮动，一晃就消失了。</a:t>
            </a:r>
            <a:br>
              <a:rPr sz="1800"/>
            </a:b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      ──暴风雨！暴风雨就要来啦！</a:t>
            </a:r>
            <a:br>
              <a:rPr sz="1800"/>
            </a:b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      这是勇敢的海燕，在闪电之间，在怒吼的大海上高傲地飞翔。这是胜利的预言家在叫喊：</a:t>
            </a:r>
            <a:br>
              <a:rPr sz="1800"/>
            </a:b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      ──让暴风雨来得更猛烈些吧！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……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pic>
        <p:nvPicPr>
          <p:cNvPr id="305" name="海燕.mp3" descr=""/>
          <p:cNvPicPr/>
          <p:nvPr/>
        </p:nvPicPr>
        <p:blipFill>
          <a:blip r:embed="rId4"/>
          <a:stretch/>
        </p:blipFill>
        <p:spPr>
          <a:xfrm>
            <a:off x="8136000" y="585000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1" dur="1" fill="hold"/>
                                        <p:tgtEl>
                                          <p:spTgt spid="3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0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9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4" descr="高尔基2"/>
          <p:cNvPicPr/>
          <p:nvPr/>
        </p:nvPicPr>
        <p:blipFill>
          <a:blip r:embed="rId2"/>
          <a:stretch/>
        </p:blipFill>
        <p:spPr>
          <a:xfrm>
            <a:off x="0" y="981000"/>
            <a:ext cx="3924360" cy="587700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5"/>
          <p:cNvSpPr/>
          <p:nvPr/>
        </p:nvSpPr>
        <p:spPr>
          <a:xfrm>
            <a:off x="4284720" y="32846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华文行楷"/>
              </a:rPr>
              <a:t>书籍是人类进步的阶梯！</a:t>
            </a: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8" name="WordArt 6"/>
          <p:cNvSpPr txBox="1"/>
          <p:nvPr/>
        </p:nvSpPr>
        <p:spPr>
          <a:xfrm>
            <a:off x="6516720" y="57340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链接返回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4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5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6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海燕"/>
          <p:cNvPicPr/>
          <p:nvPr/>
        </p:nvPicPr>
        <p:blipFill>
          <a:blip r:embed="rId2"/>
          <a:stretch/>
        </p:blipFill>
        <p:spPr>
          <a:xfrm>
            <a:off x="0" y="1052640"/>
            <a:ext cx="3948120" cy="580536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3"/>
          <p:cNvSpPr/>
          <p:nvPr/>
        </p:nvSpPr>
        <p:spPr>
          <a:xfrm>
            <a:off x="4067280" y="1197000"/>
            <a:ext cx="482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海燕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写于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1901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年，是高尔基早期创作活动中的一篇著名散文诗。当时革命斗争蓬勃兴起，高尔基目睹了沙皇政府的暴行，极为愤慨，写成了短篇小说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春天的旋律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，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海燕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就是这篇小说的尾声部分。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海燕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就是一只鸟儿在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春天的旋律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的结尾部分所唱的歌。这种思想倾向的小说在当时是无法发表的。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信使报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拒绝发表，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生活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杂志拒绝发表。但小说的结尾部分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海燕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却被单独发表在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1901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年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月号的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生活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杂志上。据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生活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杂志的主编回忆说：“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海燕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在审查官审查时没有看出它有什么革命性的东西。”事实上，作品一经发表，沙皇当局很快就发现了“漏审的疏忽”所造成的严重后果，下令查封了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生活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杂志。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海燕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一经发表，便在俄国大地上产生巨大反响，它被革命者用胶印和手抄等方式广为传播，一时间成为最受欢迎、最富有宣传性和号召力的诗传单。 </a:t>
            </a:r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4500720" y="62064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华文新魏"/>
              </a:rPr>
              <a:t>海燕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华文新魏"/>
              </a:rPr>
              <a:t>》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华文新魏"/>
              </a:rPr>
              <a:t>简介</a:t>
            </a:r>
            <a:endParaRPr b="0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2" name="WordArt 5"/>
          <p:cNvSpPr txBox="1"/>
          <p:nvPr/>
        </p:nvSpPr>
        <p:spPr>
          <a:xfrm>
            <a:off x="6948360" y="616572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链接返回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6" dur="8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7" dur="8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8" dur="8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026"/>
          <p:cNvSpPr/>
          <p:nvPr/>
        </p:nvSpPr>
        <p:spPr>
          <a:xfrm>
            <a:off x="914400" y="1828800"/>
            <a:ext cx="731520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摄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影      方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格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明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媚</a:t>
            </a:r>
            <a:endParaRPr b="0" lang="en-US" sz="4800" spc="-1" strike="noStrike">
              <a:solidFill>
                <a:srgbClr val="3333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桌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子      同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志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粘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贴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4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5" name="Text Box 1027"/>
          <p:cNvSpPr/>
          <p:nvPr/>
        </p:nvSpPr>
        <p:spPr>
          <a:xfrm>
            <a:off x="1371600" y="121932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zypyyb"/>
                <a:ea typeface="zypyyb"/>
              </a:rPr>
              <a:t>sh</a:t>
            </a: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zypyyb"/>
              </a:rPr>
              <a:t>è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6" name="Text Box 1028"/>
          <p:cNvSpPr/>
          <p:nvPr/>
        </p:nvSpPr>
        <p:spPr>
          <a:xfrm>
            <a:off x="4495680" y="1219320"/>
            <a:ext cx="22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zypyyb"/>
                <a:ea typeface="zypyyb"/>
              </a:rPr>
              <a:t>g</a:t>
            </a: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zypyyb"/>
              </a:rPr>
              <a:t>é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Text Box 1029"/>
          <p:cNvSpPr/>
          <p:nvPr/>
        </p:nvSpPr>
        <p:spPr>
          <a:xfrm>
            <a:off x="6781680" y="121932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zypyyb"/>
                <a:ea typeface="zypyyb"/>
              </a:rPr>
              <a:t>m</a:t>
            </a: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zypyyb"/>
              </a:rPr>
              <a:t>è</a:t>
            </a:r>
            <a:r>
              <a:rPr b="1" lang="en-US" sz="4400" spc="-1" strike="noStrike">
                <a:solidFill>
                  <a:srgbClr val="ff3399"/>
                </a:solidFill>
                <a:latin typeface="zypyyb"/>
                <a:ea typeface="zypyyb"/>
              </a:rPr>
              <a:t>i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8" name="Text Box 1030"/>
          <p:cNvSpPr/>
          <p:nvPr/>
        </p:nvSpPr>
        <p:spPr>
          <a:xfrm>
            <a:off x="1219320" y="335268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zypyyb"/>
                <a:ea typeface="zypyyb"/>
              </a:rPr>
              <a:t>zhuō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9" name="Text Box 1031"/>
          <p:cNvSpPr/>
          <p:nvPr/>
        </p:nvSpPr>
        <p:spPr>
          <a:xfrm>
            <a:off x="4419720" y="335268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zypyyb"/>
                <a:ea typeface="zypyyb"/>
              </a:rPr>
              <a:t>zh</a:t>
            </a: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zypyyb"/>
              </a:rPr>
              <a:t>ì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0" name="Text Box 1032"/>
          <p:cNvSpPr/>
          <p:nvPr/>
        </p:nvSpPr>
        <p:spPr>
          <a:xfrm>
            <a:off x="6705720" y="335268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zypyyb"/>
                <a:ea typeface="zypyyb"/>
              </a:rPr>
              <a:t>tiē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Object 4" descr=""/>
          <p:cNvPicPr/>
          <p:nvPr/>
        </p:nvPicPr>
        <p:blipFill>
          <a:blip r:embed="rId2"/>
          <a:stretch/>
        </p:blipFill>
        <p:spPr>
          <a:xfrm>
            <a:off x="-181080" y="1052640"/>
            <a:ext cx="4070520" cy="597852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6"/>
          <p:cNvSpPr/>
          <p:nvPr/>
        </p:nvSpPr>
        <p:spPr>
          <a:xfrm>
            <a:off x="4067280" y="1341360"/>
            <a:ext cx="482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       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长篇小说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母亲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是高尔基最重要的代表作，也是俄国社会主义文学最早出现的优秀成果。</a:t>
            </a:r>
            <a:endParaRPr b="0" lang="en-US" sz="2000" spc="-1" strike="noStrike">
              <a:solidFill>
                <a:srgbClr val="3333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      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19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世纪末俄国以列宁为首的布尔什维克党领导的工农革命，改变了人类的发展进程。高尔基的长篇小说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母亲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在文学史上最早表现了这种革命，这在世界文学史上具有划时代的历史意义。</a:t>
            </a:r>
            <a:endParaRPr b="0" lang="en-US" sz="2000" spc="-1" strike="noStrike">
              <a:solidFill>
                <a:srgbClr val="3333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    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母亲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一出版，立刻受到俄国与全世界革命人民的欢迎。反动当局惊恐万状，下令逮捕高尔基。伏罗希洛夫对高尔基说：“好几代的俄罗斯无产者受到了您的文学作品的教育。”小说很快译成德、法、英、意、西班牙、丹麦、瑞典、保加利亚等文，对世界发生了重大影响。对中国革命与中国文学的影响尤深。</a:t>
            </a:r>
            <a:endParaRPr b="0" lang="en-US" sz="2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5219640" y="620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华文新魏"/>
              </a:rPr>
              <a:t>母亲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华文新魏"/>
              </a:rPr>
              <a:t>》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华文新魏"/>
              </a:rPr>
              <a:t>简介</a:t>
            </a:r>
            <a:endParaRPr b="0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6" name="WordArt 8"/>
          <p:cNvSpPr txBox="1"/>
          <p:nvPr/>
        </p:nvSpPr>
        <p:spPr>
          <a:xfrm>
            <a:off x="6877080" y="623736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链接返回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16" descr="童年"/>
          <p:cNvPicPr/>
          <p:nvPr/>
        </p:nvPicPr>
        <p:blipFill>
          <a:blip r:embed="rId2"/>
          <a:stretch/>
        </p:blipFill>
        <p:spPr>
          <a:xfrm>
            <a:off x="0" y="981000"/>
            <a:ext cx="4140360" cy="587700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17"/>
          <p:cNvSpPr/>
          <p:nvPr/>
        </p:nvSpPr>
        <p:spPr>
          <a:xfrm>
            <a:off x="4427640" y="1700280"/>
            <a:ext cx="43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童年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与其续篇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在人间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我的大学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共同构成了高尔基自传体小说三部曲，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童年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是首篇。在这部小说中，描写的是作者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岁以前的童年时代的生活。记叙了主人公成长、生活的历程，描写了那令人窒息的、充满可怕景象的狭小天地。阿廖沙四岁时，父亲就死了，于是跟着外祖父、外祖母过着贫寒、艰苦的生活。外祖父有着矛盾复杂的性格，他的内心有善良的一面，但贪婪金钱腐蚀了他的灵魂。在这冷冰冰的世界里，只有外祖母庇护、关心着他，给予他无限的温情和钟爱，并对他进行了有益的教导。 </a:t>
            </a:r>
            <a:endParaRPr b="0" lang="en-US" sz="2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9" name="Text Box 18"/>
          <p:cNvSpPr/>
          <p:nvPr/>
        </p:nvSpPr>
        <p:spPr>
          <a:xfrm>
            <a:off x="5148360" y="90792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华文新魏"/>
              </a:rPr>
              <a:t>童年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华文新魏"/>
              </a:rPr>
              <a:t>》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华文新魏"/>
              </a:rPr>
              <a:t>简介</a:t>
            </a:r>
            <a:endParaRPr b="0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20" name="WordArt 19"/>
          <p:cNvSpPr txBox="1"/>
          <p:nvPr/>
        </p:nvSpPr>
        <p:spPr>
          <a:xfrm>
            <a:off x="6948360" y="623736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链接返回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Object 2" descr=""/>
          <p:cNvPicPr/>
          <p:nvPr/>
        </p:nvPicPr>
        <p:blipFill>
          <a:blip r:embed="rId2"/>
          <a:stretch/>
        </p:blipFill>
        <p:spPr>
          <a:xfrm>
            <a:off x="-181080" y="1006560"/>
            <a:ext cx="4506840" cy="60228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3"/>
          <p:cNvSpPr/>
          <p:nvPr/>
        </p:nvSpPr>
        <p:spPr>
          <a:xfrm>
            <a:off x="4427640" y="1268280"/>
            <a:ext cx="43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在人间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是高尔基自传体小说三部曲中的第二部。小说描述的是主人公阿廖沙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1871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年到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1884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年的生活。这段时期为了生活，他与外祖母摘野果出卖糊口，当过绘图师的学徒，在一艘船上当过洗碗工，当过圣像作坊徒工。在人生的道路上，他历尽坎坷，与社会底层形形色色的人们打交道，他有机会阅读大量书籍。生活阅历和大量的阅读扩展了阿廖沙的视野，他决心“要做一个坚强的人，不要为环境所屈服”。他怀着这样的坚定信念，离开家乡奔赴喀山。</a:t>
            </a:r>
            <a:endParaRPr b="0" lang="en-US" sz="1800" spc="-1" strike="noStrike">
              <a:solidFill>
                <a:srgbClr val="3333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    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在小说，作家不只是再现了形形色色的小市民和他们的生活习俗、道德观念和精神境界，而且塑造了一系列体现劳动人民智慧才能的人物形象，广泛深刻地再现了广大下层劳动者的悲惨生活和他们的思想情结，描绘了俄国社会一个时代的历史画卷。</a:t>
            </a:r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4932360" y="54936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华文新魏"/>
              </a:rPr>
              <a:t>在人间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华文新魏"/>
              </a:rPr>
              <a:t>》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华文新魏"/>
              </a:rPr>
              <a:t>简介</a:t>
            </a:r>
            <a:endParaRPr b="0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24" name="WordArt 6"/>
          <p:cNvSpPr txBox="1"/>
          <p:nvPr/>
        </p:nvSpPr>
        <p:spPr>
          <a:xfrm>
            <a:off x="7020000" y="616572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链接返回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21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4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7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4" descr="我的大学"/>
          <p:cNvPicPr/>
          <p:nvPr/>
        </p:nvPicPr>
        <p:blipFill>
          <a:blip r:embed="rId2"/>
          <a:stretch/>
        </p:blipFill>
        <p:spPr>
          <a:xfrm>
            <a:off x="0" y="981000"/>
            <a:ext cx="3995640" cy="604836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5"/>
          <p:cNvSpPr/>
          <p:nvPr/>
        </p:nvSpPr>
        <p:spPr>
          <a:xfrm>
            <a:off x="4284720" y="2060640"/>
            <a:ext cx="43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我的大学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是高尔基自传体小说三部曲中的第三部。</a:t>
            </a:r>
            <a:endParaRPr b="0" lang="en-US" sz="2000" spc="-1" strike="noStrike">
              <a:solidFill>
                <a:srgbClr val="3333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       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小说叙述了饱尝人间辛酸的阿廖沙，抱着进大学读书的理想来到喀山，过了不久就参加了秘密的革命活动。贫苦的生活使他在伏尔加河流浪，和搬运工人、小偷、乞丐生活在一起。后来，他在面包店找到工作，向工人们传播革命理想，参加了大学生的秘密组织，鼓励工人罢工。俄国的腐朽和个人的困境使他自杀未遂而受伤。伤愈后，他带着新生的力量，离开喀山，重新走上流浪的道路。</a:t>
            </a:r>
            <a:endParaRPr b="0" lang="en-US" sz="2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4643280" y="981000"/>
            <a:ext cx="36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华文新魏"/>
              </a:rPr>
              <a:t>我的大学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华文新魏"/>
              </a:rPr>
              <a:t>》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华文新魏"/>
              </a:rPr>
              <a:t>简介</a:t>
            </a:r>
            <a:endParaRPr b="0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28" name="WordArt 7"/>
          <p:cNvSpPr txBox="1"/>
          <p:nvPr/>
        </p:nvSpPr>
        <p:spPr>
          <a:xfrm>
            <a:off x="6877080" y="623736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链接返回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0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3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990720" y="76320"/>
            <a:ext cx="7162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隶书"/>
              </a:rPr>
              <a:t>海   燕</a:t>
            </a:r>
            <a:endParaRPr b="0" lang="en-US" sz="6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609480" y="1173240"/>
            <a:ext cx="79250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在苍茫的大海上，风聚集着乌云。在乌云和大海之间，海燕像黑色的闪电高傲地飞翔。</a:t>
            </a:r>
            <a:endParaRPr b="0" lang="en-US" sz="3200" spc="-1" strike="noStrike">
              <a:solidFill>
                <a:srgbClr val="3333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……</a:t>
            </a:r>
            <a:endParaRPr b="0" lang="en-US" sz="3200" spc="-1" strike="noStrike">
              <a:solidFill>
                <a:srgbClr val="3333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——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暴风雨！暴风雨就要来啦！</a:t>
            </a:r>
            <a:endParaRPr b="0" lang="en-US" sz="3200" spc="-1" strike="noStrike">
              <a:solidFill>
                <a:srgbClr val="3333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这是勇敢的海燕，在闪电之间，在怒吼的大海上高傲地飞翔。这是胜利的预言家在叫喊</a:t>
            </a:r>
            <a:endParaRPr b="0" lang="en-US" sz="3200" spc="-1" strike="noStrike">
              <a:solidFill>
                <a:srgbClr val="3333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让暴风雨来得更猛烈些吧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……</a:t>
            </a:r>
            <a:endParaRPr b="0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pic>
        <p:nvPicPr>
          <p:cNvPr id="331" name="Picture 4" descr="图片"/>
          <p:cNvPicPr/>
          <p:nvPr/>
        </p:nvPicPr>
        <p:blipFill>
          <a:blip r:embed="rId2"/>
          <a:stretch/>
        </p:blipFill>
        <p:spPr>
          <a:xfrm>
            <a:off x="7885080" y="189000"/>
            <a:ext cx="836640" cy="833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33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3333ff"/>
                </a:solidFill>
                <a:latin typeface="Arial"/>
              </a:endParaRPr>
            </a:p>
          </p:txBody>
        </p:sp>
        <p:pic>
          <p:nvPicPr>
            <p:cNvPr id="33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3333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026"/>
          <p:cNvSpPr/>
          <p:nvPr/>
        </p:nvSpPr>
        <p:spPr>
          <a:xfrm>
            <a:off x="914400" y="1828800"/>
            <a:ext cx="731520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鞠    躬      按</a:t>
            </a:r>
            <a:r>
              <a:rPr b="1" lang="en-US" sz="48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照</a:t>
            </a:r>
            <a:endParaRPr b="0" lang="en-US" sz="4800" spc="-1" strike="noStrike">
              <a:solidFill>
                <a:srgbClr val="3333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侧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面   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胶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卷      一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辆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4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2" name="Text Box 1027"/>
          <p:cNvSpPr/>
          <p:nvPr/>
        </p:nvSpPr>
        <p:spPr>
          <a:xfrm>
            <a:off x="2362320" y="121932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zypyyb"/>
                <a:ea typeface="zypyyb"/>
              </a:rPr>
              <a:t>jū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3" name="Text Box 1028"/>
          <p:cNvSpPr/>
          <p:nvPr/>
        </p:nvSpPr>
        <p:spPr>
          <a:xfrm>
            <a:off x="3276720" y="121932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zypyyb"/>
                <a:ea typeface="zypyyb"/>
              </a:rPr>
              <a:t>gōng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4" name="Text Box 1029"/>
          <p:cNvSpPr/>
          <p:nvPr/>
        </p:nvSpPr>
        <p:spPr>
          <a:xfrm>
            <a:off x="5105520" y="121932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zypyyb"/>
              </a:rPr>
              <a:t>à</a:t>
            </a:r>
            <a:r>
              <a:rPr b="1" lang="en-US" sz="4400" spc="-1" strike="noStrike">
                <a:solidFill>
                  <a:srgbClr val="ff3399"/>
                </a:solidFill>
                <a:latin typeface="zypyyb"/>
                <a:ea typeface="zypyyb"/>
              </a:rPr>
              <a:t>n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5" name="Text Box 1030"/>
          <p:cNvSpPr/>
          <p:nvPr/>
        </p:nvSpPr>
        <p:spPr>
          <a:xfrm>
            <a:off x="1523880" y="335268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zypyyb"/>
                <a:ea typeface="zypyyb"/>
              </a:rPr>
              <a:t>c</a:t>
            </a: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zypyyb"/>
              </a:rPr>
              <a:t>è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6" name="Text Box 1031"/>
          <p:cNvSpPr/>
          <p:nvPr/>
        </p:nvSpPr>
        <p:spPr>
          <a:xfrm>
            <a:off x="3429000" y="335268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zypyyb"/>
                <a:ea typeface="zypyyb"/>
              </a:rPr>
              <a:t>jiāo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7" name="Text Box 1032"/>
          <p:cNvSpPr/>
          <p:nvPr/>
        </p:nvSpPr>
        <p:spPr>
          <a:xfrm>
            <a:off x="6400800" y="335268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zypyyb"/>
                <a:ea typeface="zypyyb"/>
              </a:rPr>
              <a:t>li</a:t>
            </a: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zypyyb"/>
              </a:rPr>
              <a:t>à</a:t>
            </a:r>
            <a:r>
              <a:rPr b="1" lang="en-US" sz="4400" spc="-1" strike="noStrike">
                <a:solidFill>
                  <a:srgbClr val="ff3399"/>
                </a:solidFill>
                <a:latin typeface="zypyyb"/>
                <a:ea typeface="zypyyb"/>
              </a:rPr>
              <a:t>ng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026"/>
          <p:cNvSpPr/>
          <p:nvPr/>
        </p:nvSpPr>
        <p:spPr>
          <a:xfrm>
            <a:off x="914400" y="298620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秘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书    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杂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志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社</a:t>
            </a:r>
            <a:endParaRPr b="0" lang="en-US" sz="4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9" name="Text Box 1027"/>
          <p:cNvSpPr/>
          <p:nvPr/>
        </p:nvSpPr>
        <p:spPr>
          <a:xfrm>
            <a:off x="1981080" y="2286000"/>
            <a:ext cx="22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zypyyb"/>
                <a:ea typeface="zypyyb"/>
              </a:rPr>
              <a:t>m</a:t>
            </a: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zypyyb"/>
              </a:rPr>
              <a:t>ì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0" name="Text Box 1028"/>
          <p:cNvSpPr/>
          <p:nvPr/>
        </p:nvSpPr>
        <p:spPr>
          <a:xfrm>
            <a:off x="4495680" y="2286000"/>
            <a:ext cx="22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zypyyb"/>
                <a:ea typeface="zypyyb"/>
              </a:rPr>
              <a:t>z</a:t>
            </a: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zypyyb"/>
              </a:rPr>
              <a:t>á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1" name="Text Box 1029"/>
          <p:cNvSpPr/>
          <p:nvPr/>
        </p:nvSpPr>
        <p:spPr>
          <a:xfrm>
            <a:off x="6172200" y="228600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zypyyb"/>
                <a:ea typeface="zypyyb"/>
              </a:rPr>
              <a:t>sh</a:t>
            </a: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zypyyb"/>
              </a:rPr>
              <a:t>è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pic>
        <p:nvPicPr>
          <p:cNvPr id="112" name="Picture 1030" descr="0043"/>
          <p:cNvPicPr/>
          <p:nvPr/>
        </p:nvPicPr>
        <p:blipFill>
          <a:blip r:embed="rId2"/>
          <a:stretch/>
        </p:blipFill>
        <p:spPr>
          <a:xfrm>
            <a:off x="7620120" y="5638680"/>
            <a:ext cx="1104840" cy="828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626920" y="2420640"/>
            <a:ext cx="548316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摄    基     媚       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躬    胶     秘       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4067280" y="141300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我会认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556000" y="1700280"/>
            <a:ext cx="532764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Arial"/>
              </a:rPr>
              <a:t>shè     </a:t>
            </a: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摄影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摄        摄取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            </a:t>
            </a: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摄政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            </a:t>
            </a: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摄位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2627280" y="2060640"/>
            <a:ext cx="5472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Arial"/>
              </a:rPr>
              <a:t>jī    </a:t>
            </a: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基本    基地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基    基础    基金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        </a:t>
            </a: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基数    墙基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2484360" y="2060640"/>
            <a:ext cx="5796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Arial"/>
              </a:rPr>
              <a:t>mèi    </a:t>
            </a: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妩媚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媚      春光明媚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3708360" y="2637000"/>
            <a:ext cx="356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Arial"/>
              </a:rPr>
              <a:t>jū  gōng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鞠   躬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2050920" y="2133720"/>
            <a:ext cx="669636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Arial"/>
              </a:rPr>
              <a:t>jiāo    </a:t>
            </a: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胶卷     橡胶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胶       胶泥     胶皮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           </a:t>
            </a: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胶鞋    万能胶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3635280" y="1773360"/>
            <a:ext cx="39610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Arial"/>
              </a:rPr>
              <a:t>        </a:t>
            </a: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秘书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Arial"/>
              </a:rPr>
              <a:t>mì   </a:t>
            </a: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秘密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秘     秘方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         </a:t>
            </a: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秘诀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-3565440" y="2492280"/>
            <a:ext cx="55450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社会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Arial"/>
              </a:rPr>
              <a:t>sè    </a:t>
            </a: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社交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社    结社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        </a:t>
            </a: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社火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2268360" y="1341360"/>
            <a:ext cx="583272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Arial"/>
              </a:rPr>
              <a:t>            </a:t>
            </a: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社会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Arial"/>
              </a:rPr>
              <a:t>shè        </a:t>
            </a: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社火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社         结社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            </a:t>
            </a: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社交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835280" y="227628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说说课文讲了一件什么事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46:34Z</dcterms:modified>
  <cp:revision>4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