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C09-91D6-4BDD-ADD4-23E9860B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418-E45C-40E0-A24F-9BD4A2F1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02F-2F4B-45DB-BDE7-798A5447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793-D7B9-45CB-9EB1-EA1F029B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6668-D354-4B51-B370-8E405A22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211F-A867-48FA-B287-CCFE14F2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3B19-FFC8-4031-8E87-EB3AEA9E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0116-3656-45EF-9705-A1B85E36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E031-E200-48BC-92C0-8333C6B7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033F-8B0A-4316-BCCF-2729DD9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E6DF-5981-4AA6-91BE-11B8CF59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5CA-0F2F-431A-8120-999AE459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82C3-E8FB-4EC4-878B-753C9C72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57B-D0B2-46AD-88B5-2389479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A738-9C24-4AF1-8AEB-3CCC7FC4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E296-BBFE-4BF4-9657-BE8A75D0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29E7-9656-4015-8441-0E685225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9CFF-CF17-4670-8480-0C5ADD36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83971-9517-4290-9657-43E66240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D1B7-9BDC-4B03-BACD-7001CDA1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9DF6-2A0E-4824-8073-67CE9421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9D23-4B47-49D1-BB0B-CD11DA7E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25E-C747-40E6-A3DD-ABB7F18C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3744-91F4-4C14-8977-B7B5E08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8A01-18EB-45E0-91D6-40848427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610C-6780-46F3-A213-A477CB4D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DFA0-11FE-40CD-A891-FC2A361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6AB2-AB97-4A05-A761-7623040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71A7-D4CD-44B1-9424-1EF8FACA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8FB1-7AE1-4FFE-938D-DFE84608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06AC-ADB7-44E6-A4AF-99233C31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79F9-0BCC-4198-B8D6-F66A895F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6108-3033-478C-96AA-B158076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CAE-0FD7-4919-9188-AC7E499F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112B-5C5C-4778-B6F1-14757691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CBF7-14DF-41ED-BBC3-8EADF869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B6975-9573-4CF4-B960-8EAC689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532F-0220-4364-97E2-9C930FB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A7B9-5DDE-47DF-BB4D-97A3786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BE35-ABC6-468F-878D-4E1F6D7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D365-4685-4545-A27A-590AF9CF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AA1C-2BEE-41F6-901B-80A2F17C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589B-BCFD-425D-B3A9-9E2CF5AD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53B-3057-4E83-8EE8-A3815D00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A1A-DFB8-44EA-BED9-3228228A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BEB-307F-4F52-B797-6717136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689-C99F-4BF1-B8F1-983BD46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7FE-7B4F-4168-B8CF-A14FAE0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8F44-C3D1-4001-9ED6-F5AC80F6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128-1403-4A63-97D8-6EFE7A5E5B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F520-36F9-4350-A38D-3B0A4F6D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5694-C2AA-498E-AE61-B7D1E2E7677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hammer.wav" TargetMode="External"/><Relationship Id="rId4" Type="http://schemas.microsoft.com/office/2007/relationships/media" Target="file:///tmp/home/.config/libreoffice/4/user/gallery/hammer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yingxion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87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想做一个怎样的孩子？今后，遇到坏人坏事，你准备怎么办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yingxiong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411280" y="5805360"/>
            <a:ext cx="5997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e08"/>
                </a:solidFill>
                <a:latin typeface="Times New Roman"/>
              </a:rPr>
              <a:t>一、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雨来的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yingxiong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0" y="1773360"/>
            <a:ext cx="876924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雨来上夜校受到爱国主义教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yingxiong17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yingxiong18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yingxiong19"/>
          <p:cNvPicPr/>
          <p:nvPr/>
        </p:nvPicPr>
        <p:blipFill>
          <a:blip r:embed="rId4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yingxiong20"/>
          <p:cNvPicPr/>
          <p:nvPr/>
        </p:nvPicPr>
        <p:blipFill>
          <a:blip r:embed="rId5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1671480" y="3146400"/>
            <a:ext cx="62136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0e08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三、雨来掩护交通员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yingxiongyulai1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yingxiongyulai2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yingxiio28"/>
          <p:cNvPicPr/>
          <p:nvPr/>
        </p:nvPicPr>
        <p:blipFill>
          <a:blip r:embed="rId4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yingxiio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9"/>
          <p:cNvSpPr/>
          <p:nvPr/>
        </p:nvSpPr>
        <p:spPr>
          <a:xfrm>
            <a:off x="1619280" y="299736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887480" y="2997360"/>
            <a:ext cx="57801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、雨来和鬼子进行不屈的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yingxiongyulai3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yingxiongyulai4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384200" y="1916280"/>
            <a:ext cx="68598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五、芦花村的人误以为雨来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yingxiongyulai7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yingxiongyulai8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yingxiong9"/>
          <p:cNvPicPr/>
          <p:nvPr/>
        </p:nvPicPr>
        <p:blipFill>
          <a:blip r:embed="rId4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yingxiongyulai11"/>
          <p:cNvPicPr/>
          <p:nvPr/>
        </p:nvPicPr>
        <p:blipFill>
          <a:blip r:embed="rId5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132000" y="5734080"/>
            <a:ext cx="6716880" cy="581400"/>
          </a:xfrm>
          <a:prstGeom prst="rect">
            <a:avLst/>
          </a:prstGeom>
          <a:solidFill>
            <a:srgbClr val="cceb0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六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ff"/>
                </a:solidFill>
                <a:latin typeface="Times New Roman"/>
              </a:rPr>
              <a:t>读课题思考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29714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本课的主要人物是雨来，为什么称他是小英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机智勇敢、不畏强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e430"/>
                </a:solidFill>
                <a:latin typeface="Arial"/>
              </a:rPr>
              <a:t>小标题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上夜校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掩护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与鬼子作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河沿上的枪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3:27:2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9:5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