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612313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66D-0B45-47F6-B848-D14CC3F6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C8D-1621-447D-BA01-FC33C76D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A97-4644-4462-8D33-8288154C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5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5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3F7-5219-4150-B97E-7E3895DB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205C-438C-41B6-9589-2516D207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35D8-AD57-4435-A806-E7AD3418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DC18-48B9-4CF0-965F-05D15225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AAF2-E789-4F09-B7D7-A258E582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3D19-C1C9-42A2-8807-47BB5B1A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0600" y="266760"/>
            <a:ext cx="865044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280C-E886-4040-828E-AB7C48EA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A5BF-D5D3-4714-A36B-6182DFE6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CA9-C3AC-47BE-9DDE-637AB7BD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B050-4F0A-4543-B1F1-7CB446D9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31BA-90B3-4431-9C43-5351B824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B090-77B6-44B6-8F71-01E41CF4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0077-EE9D-47C7-BE52-D21CB2BF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5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5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A04B-EAFA-4E72-A264-A1CFF02E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54D-C31A-4B2D-BF35-590F6EED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41C-081D-4C0A-BFCF-6EA0BEBD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987-999A-474B-A8C7-A9F0445B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0600" y="266760"/>
            <a:ext cx="865044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0A2-D38D-4DA9-B032-D06084F0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16C-DAE4-4E72-B231-10D180FC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69C-FCE8-4510-87C1-1AA036E9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5BA-1D75-40C0-8E86-E4681214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0600" y="6065640"/>
            <a:ext cx="2241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4280" y="6065640"/>
            <a:ext cx="304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9320" y="6065640"/>
            <a:ext cx="2241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DFF1-58EA-4908-A6B8-628BFCF66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09520" indent="-220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54120" indent="-2206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2206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2206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2206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80600" y="6065640"/>
            <a:ext cx="2243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1318-0149-442F-BD58-B4B19C814F64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4280" y="6065640"/>
            <a:ext cx="304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87880" y="6065640"/>
            <a:ext cx="2243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3F1-7933-407C-8B0B-AF799F18D3D6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157640" y="31478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3006720" y="2158920"/>
            <a:ext cx="665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78360" y="235080"/>
            <a:ext cx="652680" cy="56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  <a:ea typeface="迷你简汉真广标"/>
              </a:rPr>
              <a:t>新春贺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1640" y="977400"/>
            <a:ext cx="5761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183960"/>
            <a:ext cx="86295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480" y="1233000"/>
            <a:ext cx="9385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59720" y="324000"/>
            <a:ext cx="1461960" cy="339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7CDA-917F-459C-BD07-7E13FE8604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8:11:5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51:22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