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7A26-66CF-4CAD-B6F7-9937BE542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790C-D50C-42DD-9E78-A5B4A0D38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0F9B-0480-402F-893A-95EC6E1A4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8010-3423-4A1A-A3F2-8CA52877A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97C1E-789C-441A-AE03-0B15071B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4FB3B-63AD-4B59-8B6A-CFF28A4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38C4-3B35-44BA-A58D-88D8C4CE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1F4E7-3369-4710-8CE4-2B59466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B924-E92D-4A9B-93AD-C3FA00D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9C325-A3AB-49BD-8BF1-84077B2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5189-FC71-4672-8695-2B634F2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F410-EE2E-4022-BBAC-C13032A72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F87D-B698-4A09-A4C1-45B18E3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E5605-5BDD-45A2-9AD3-EF2EDE8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D490-BA07-4D7F-BB0C-329F45B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1768A-4B37-4D96-9C5E-F53527A2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D1AAB-4047-42B9-AD26-DD250BDD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9791-4A21-4C39-BD45-C216A7023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69DD-E303-4BC7-8C64-FFD9B7B1F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FA39-8D46-4761-A0C9-40345C26A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C017-C1A5-4C26-A5B8-FCD6E0B82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824A-82AF-4E79-B3EB-C02ED4BD0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C5A6-C0A9-44BC-ACA8-AB7C0AD28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A07B-48DE-4663-B742-BF35055AB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a_1"/>
          <p:cNvPicPr/>
          <p:nvPr/>
        </p:nvPicPr>
        <p:blipFill>
          <a:blip r:embed="rId2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8381880" y="360"/>
            <a:ext cx="761760" cy="685080"/>
            <a:chOff x="8381880" y="360"/>
            <a:chExt cx="761760" cy="685080"/>
          </a:xfrm>
        </p:grpSpPr>
        <p:sp>
          <p:nvSpPr>
            <p:cNvPr id="4" name="Rectangle 14"/>
            <p:cNvSpPr/>
            <p:nvPr/>
          </p:nvSpPr>
          <p:spPr>
            <a:xfrm rot="5400000">
              <a:off x="8921520" y="463320"/>
              <a:ext cx="20952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5"/>
            <p:cNvSpPr/>
            <p:nvPr/>
          </p:nvSpPr>
          <p:spPr>
            <a:xfrm rot="5400000">
              <a:off x="8658720" y="46332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"/>
            <p:cNvSpPr/>
            <p:nvPr/>
          </p:nvSpPr>
          <p:spPr>
            <a:xfrm rot="5400000">
              <a:off x="8394120" y="463320"/>
              <a:ext cx="20952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7"/>
            <p:cNvSpPr/>
            <p:nvPr/>
          </p:nvSpPr>
          <p:spPr>
            <a:xfrm rot="5400000">
              <a:off x="8658720" y="227160"/>
              <a:ext cx="209520" cy="23472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8"/>
            <p:cNvSpPr/>
            <p:nvPr/>
          </p:nvSpPr>
          <p:spPr>
            <a:xfrm rot="5400000">
              <a:off x="8921520" y="22716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9"/>
            <p:cNvSpPr/>
            <p:nvPr/>
          </p:nvSpPr>
          <p:spPr>
            <a:xfrm rot="5400000">
              <a:off x="8921520" y="-12240"/>
              <a:ext cx="20916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7"/>
          <p:cNvSpPr/>
          <p:nvPr/>
        </p:nvSpPr>
        <p:spPr>
          <a:xfrm>
            <a:off x="-11160" y="0"/>
            <a:ext cx="328680" cy="6885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c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C:\Documents and Settings\Administrator\桌面\未标题-1.png"/>
          <p:cNvPicPr/>
          <p:nvPr/>
        </p:nvPicPr>
        <p:blipFill>
          <a:blip r:embed="rId3"/>
          <a:stretch/>
        </p:blipFill>
        <p:spPr>
          <a:xfrm>
            <a:off x="7543800" y="6404040"/>
            <a:ext cx="392040" cy="377640"/>
          </a:xfrm>
          <a:prstGeom prst="rect">
            <a:avLst/>
          </a:prstGeom>
          <a:ln w="0">
            <a:noFill/>
          </a:ln>
        </p:spPr>
      </p:pic>
      <p:sp>
        <p:nvSpPr>
          <p:cNvPr id="16" name="TextBox 26"/>
          <p:cNvSpPr/>
          <p:nvPr/>
        </p:nvSpPr>
        <p:spPr>
          <a:xfrm>
            <a:off x="79966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12" descr="a_1"/>
          <p:cNvPicPr/>
          <p:nvPr/>
        </p:nvPicPr>
        <p:blipFill>
          <a:blip r:embed="rId5"/>
          <a:srcRect l="2176" t="0" r="0" b="0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19" name="Rectangle 22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4"/>
          <p:cNvSpPr/>
          <p:nvPr/>
        </p:nvSpPr>
        <p:spPr>
          <a:xfrm>
            <a:off x="8153280" y="4967280"/>
            <a:ext cx="970200" cy="90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5"/>
          <p:cNvSpPr/>
          <p:nvPr/>
        </p:nvSpPr>
        <p:spPr>
          <a:xfrm>
            <a:off x="8153280" y="3976560"/>
            <a:ext cx="970200" cy="9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6"/>
          <p:cNvSpPr/>
          <p:nvPr/>
        </p:nvSpPr>
        <p:spPr>
          <a:xfrm>
            <a:off x="6019920" y="5929200"/>
            <a:ext cx="1066680" cy="90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"/>
          <p:cNvSpPr/>
          <p:nvPr/>
        </p:nvSpPr>
        <p:spPr>
          <a:xfrm>
            <a:off x="7134120" y="5943600"/>
            <a:ext cx="970200" cy="900000"/>
          </a:xfrm>
          <a:prstGeom prst="rect">
            <a:avLst/>
          </a:prstGeom>
          <a:blipFill rotWithShape="0">
            <a:blip r:embed="rId9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8"/>
          <p:cNvSpPr/>
          <p:nvPr/>
        </p:nvSpPr>
        <p:spPr>
          <a:xfrm>
            <a:off x="7107120" y="4967280"/>
            <a:ext cx="970200" cy="900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9"/>
          <p:cNvSpPr/>
          <p:nvPr/>
        </p:nvSpPr>
        <p:spPr>
          <a:xfrm>
            <a:off x="8153280" y="5943600"/>
            <a:ext cx="970200" cy="900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2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2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29"/>
          <p:cNvSpPr/>
          <p:nvPr/>
        </p:nvSpPr>
        <p:spPr>
          <a:xfrm>
            <a:off x="0" y="0"/>
            <a:ext cx="9142560" cy="14479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3"/>
          <p:cNvSpPr/>
          <p:nvPr/>
        </p:nvSpPr>
        <p:spPr>
          <a:xfrm>
            <a:off x="0" y="1447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34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" name="Picture 35" descr="C:\Documents and Settings\Administrator\桌面\未标题-1.png"/>
          <p:cNvPicPr/>
          <p:nvPr/>
        </p:nvPicPr>
        <p:blipFill>
          <a:blip r:embed="rId12"/>
          <a:stretch/>
        </p:blipFill>
        <p:spPr>
          <a:xfrm>
            <a:off x="2276640" y="974880"/>
            <a:ext cx="1457280" cy="1407960"/>
          </a:xfrm>
          <a:prstGeom prst="rect">
            <a:avLst/>
          </a:prstGeom>
          <a:ln w="0">
            <a:noFill/>
          </a:ln>
        </p:spPr>
      </p:pic>
      <p:sp>
        <p:nvSpPr>
          <p:cNvPr id="32" name="TextBox 42"/>
          <p:cNvSpPr/>
          <p:nvPr/>
        </p:nvSpPr>
        <p:spPr>
          <a:xfrm>
            <a:off x="4284000" y="1143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7554-69E4-4C69-9C74-C759901B05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a_1"/>
          <p:cNvPicPr/>
          <p:nvPr/>
        </p:nvPicPr>
        <p:blipFill>
          <a:blip r:embed="rId2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8381880" y="360"/>
            <a:ext cx="761760" cy="685080"/>
            <a:chOff x="8381880" y="360"/>
            <a:chExt cx="761760" cy="685080"/>
          </a:xfrm>
        </p:grpSpPr>
        <p:sp>
          <p:nvSpPr>
            <p:cNvPr id="76" name="Rectangle 14"/>
            <p:cNvSpPr/>
            <p:nvPr/>
          </p:nvSpPr>
          <p:spPr>
            <a:xfrm rot="5400000">
              <a:off x="8921520" y="463320"/>
              <a:ext cx="20952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 rot="5400000">
              <a:off x="8658720" y="46332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 rot="5400000">
              <a:off x="8394120" y="463320"/>
              <a:ext cx="20952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 rot="5400000">
              <a:off x="8658720" y="227160"/>
              <a:ext cx="209520" cy="23472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 rot="5400000">
              <a:off x="8921520" y="22716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 rot="5400000">
              <a:off x="8921520" y="-12240"/>
              <a:ext cx="20916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-11160" y="0"/>
            <a:ext cx="328680" cy="6885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c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5" descr="C:\Documents and Settings\Administrator\桌面\未标题-1.png"/>
          <p:cNvPicPr/>
          <p:nvPr/>
        </p:nvPicPr>
        <p:blipFill>
          <a:blip r:embed="rId3"/>
          <a:stretch/>
        </p:blipFill>
        <p:spPr>
          <a:xfrm>
            <a:off x="7543800" y="6404040"/>
            <a:ext cx="392040" cy="377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6"/>
          <p:cNvSpPr/>
          <p:nvPr/>
        </p:nvSpPr>
        <p:spPr>
          <a:xfrm>
            <a:off x="79966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6BE-08E5-484A-8C89-2C2C51C54CF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189080" y="27860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20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XX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年度硕士研究生论文答辩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71360" y="1499760"/>
            <a:ext cx="7429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96600" y="142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3841200" y="2786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谢谢您的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35:3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1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