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png" ContentType="image/png"/>
  <Override PartName="/ppt/media/image4.jpeg" ContentType="image/jpeg"/>
  <Override PartName="/ppt/media/image25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45D-46F6-4884-9177-F5DF4751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188-5519-40AE-9C03-EBE68720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ECC-5BA9-401B-AA10-AADC6480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669-C852-4A74-A040-4CDC6F1C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5E4E-8840-4E69-A732-FB942995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E453-EE44-40A5-982A-BBE0B99D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AE46-28F6-4270-9314-05937588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AB6C-B1E0-4192-880D-2C139142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75FA-C683-4704-8580-F747C6D2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BE5F-9AEC-4197-BE61-82943E4C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784F-27E1-4824-A74B-8E60D547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CAED-E8F1-4176-8DD9-7C4DF646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02B4-EAAA-41C8-AB71-D96871DA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83BB-8767-4337-92BE-6AFD4408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065F-3CA4-4175-95B7-A9D8BFDF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4425-1269-427A-A7C0-A497445C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01AF-32B9-41AC-9ADF-F92A21F8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822-5435-4398-B1EC-4A62D26A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8465-F0FF-4C02-954B-E6371BAE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B2C-462A-4B62-A29C-998CA54B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F083-89B0-43AC-AE19-812C92C8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E9CA-4031-400C-A764-F32B562F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F557-617B-49A9-9ADD-A7F7008A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826-04ED-453F-B3FC-BC3DD512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4895-5135-4EF2-AA8D-6B4E9F14D3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BA47-0F04-46A0-A600-49B543218E9B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D75D-E817-4271-A08E-099724452961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261,9,&#24187;&#28783;&#29255; 9" TargetMode="External"/><Relationship Id="rId2" Type="http://schemas.openxmlformats.org/officeDocument/2006/relationships/hyperlink" Target="262,10,&#24187;&#28783;&#29255; 10" TargetMode="External"/><Relationship Id="rId3" Type="http://schemas.openxmlformats.org/officeDocument/2006/relationships/hyperlink" Target="305,16,&#24187;&#28783;&#29255; 16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2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reentx.com/viennar/duyidu/shitls.htm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218.12.197.61/czres/EduResource/ResourcePlay.php?ResourceID=1000100017941&amp;NodeID=4479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.baidu.com/i?ct=503316480&amp;z=1&amp;tn=baiduimagedetail&amp;word=%BA%A3%B6%D9&amp;in=5&amp;cl=2&amp;cm=1&amp;sc=0&amp;lm=-1&amp;pn=4&amp;rn=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.baidu.com/i?ct=503316480&amp;z=1&amp;tn=baiduimagedetail&amp;word=&#298;%D4%FA%CC%D8&amp;in=10&amp;cl=2&amp;cm=1&amp;sc=0&amp;lm=-1&amp;pn=9&amp;rn=1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.baidu.com/i?ct=503316480&amp;z=1&amp;tn=baiduimagedetail&amp;word=%CA&#27822;%CC%D8&amp;in=1&amp;cl=2&amp;cm=1&amp;sc=0&amp;lm=-1&amp;pn=0&amp;rn=1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多瑙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838080" y="52570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420280" y="14479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华文行楷"/>
              </a:rPr>
              <a:t>音乐之都维也纳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贝多芬《月光奏鸣曲》"/>
          <p:cNvPicPr/>
          <p:nvPr/>
        </p:nvPicPr>
        <p:blipFill>
          <a:blip r:embed="rId1"/>
          <a:stretch/>
        </p:blipFill>
        <p:spPr>
          <a:xfrm>
            <a:off x="228600" y="304920"/>
            <a:ext cx="2819520" cy="2114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174680" y="2650320"/>
            <a:ext cx="163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贝多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月光奏鸣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舒伯特《小夜曲》手迹"/>
          <p:cNvPicPr/>
          <p:nvPr/>
        </p:nvPicPr>
        <p:blipFill>
          <a:blip r:embed="rId2"/>
          <a:stretch/>
        </p:blipFill>
        <p:spPr>
          <a:xfrm>
            <a:off x="3200400" y="304920"/>
            <a:ext cx="2819520" cy="2114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0"/>
          <p:cNvSpPr/>
          <p:nvPr/>
        </p:nvSpPr>
        <p:spPr>
          <a:xfrm>
            <a:off x="6838920" y="2589840"/>
            <a:ext cx="17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施特劳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蓝色多瑙河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102200" y="2650320"/>
            <a:ext cx="13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舒伯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小夜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7" descr="施特劳斯《蓝色多瑙河》手迹"/>
          <p:cNvPicPr/>
          <p:nvPr/>
        </p:nvPicPr>
        <p:blipFill>
          <a:blip r:embed="rId3"/>
          <a:stretch/>
        </p:blipFill>
        <p:spPr>
          <a:xfrm>
            <a:off x="6172200" y="266760"/>
            <a:ext cx="2895480" cy="21715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9"/>
          <p:cNvSpPr/>
          <p:nvPr/>
        </p:nvSpPr>
        <p:spPr>
          <a:xfrm>
            <a:off x="1341360" y="6003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贝多芬的钢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0" descr="贝多芬的钢琴"/>
          <p:cNvPicPr/>
          <p:nvPr/>
        </p:nvPicPr>
        <p:blipFill>
          <a:blip r:embed="rId4"/>
          <a:stretch/>
        </p:blipFill>
        <p:spPr>
          <a:xfrm>
            <a:off x="304920" y="3581280"/>
            <a:ext cx="2895480" cy="2260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1" descr="神 童 莫 扎 特"/>
          <p:cNvPicPr/>
          <p:nvPr/>
        </p:nvPicPr>
        <p:blipFill>
          <a:blip r:embed="rId5"/>
          <a:stretch/>
        </p:blipFill>
        <p:spPr>
          <a:xfrm>
            <a:off x="3429000" y="3581280"/>
            <a:ext cx="2666880" cy="22352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2"/>
          <p:cNvSpPr/>
          <p:nvPr/>
        </p:nvSpPr>
        <p:spPr>
          <a:xfrm>
            <a:off x="4188600" y="601992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神 童 莫 扎 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5" descr="舒 伯 特 作 曲 的 地 方"/>
          <p:cNvPicPr/>
          <p:nvPr/>
        </p:nvPicPr>
        <p:blipFill>
          <a:blip r:embed="rId6"/>
          <a:stretch/>
        </p:blipFill>
        <p:spPr>
          <a:xfrm>
            <a:off x="6248520" y="358128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7"/>
          <p:cNvSpPr/>
          <p:nvPr/>
        </p:nvSpPr>
        <p:spPr>
          <a:xfrm>
            <a:off x="7030800" y="6003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舒伯特作曲的地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7.wma" descr=""/>
          <p:cNvPicPr/>
          <p:nvPr/>
        </p:nvPicPr>
        <p:blipFill>
          <a:blip r:embed="rId7"/>
          <a:stretch/>
        </p:blipFill>
        <p:spPr>
          <a:xfrm>
            <a:off x="2286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7239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609480" y="1549440"/>
            <a:ext cx="86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维也纳是欧洲古典音乐的摇篮。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1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世纪以来，世界上许多著名的音乐家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如海顿、莫扎特、贝多芬、舒伯特、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特劳斯等，都在这里度过大部分音乐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涯，谱写了许多优美的乐章。维也纳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博物馆里，至今还陈列着他们的乐谱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手迹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2.wma" descr=""/>
          <p:cNvPicPr/>
          <p:nvPr/>
        </p:nvPicPr>
        <p:blipFill>
          <a:blip r:embed="rId1"/>
          <a:stretch/>
        </p:blipFill>
        <p:spPr>
          <a:xfrm>
            <a:off x="83059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4266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685800" y="12193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维也纳是一座用音乐装饰起来的城市。在这儿，到处可以看到大音乐家们的铜像或大理石像。为了纪念乐坛大师，维也纳的许多街道、公园、礼堂、剧院、会议大厅等，也多用音乐家的名字命名。就连王宫花园的草坪上，也用鲜花组成了一个巨大的音乐符号作为装饰。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8.wma" descr=""/>
          <p:cNvPicPr/>
          <p:nvPr/>
        </p:nvPicPr>
        <p:blipFill>
          <a:blip r:embed="rId1"/>
          <a:stretch/>
        </p:blipFill>
        <p:spPr>
          <a:xfrm>
            <a:off x="81532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4632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685800" y="1219320"/>
            <a:ext cx="8381880" cy="19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维也纳是一座用音乐装饰起来的城市。在这儿，到处可以看到大音乐家们的</a:t>
            </a:r>
            <a:r>
              <a:rPr b="0" lang="zh-CN" sz="3600" spc="-1" strike="noStrike" u="sng">
                <a:solidFill>
                  <a:srgbClr val="800000"/>
                </a:solidFill>
                <a:uFillTx/>
                <a:latin typeface="Arial"/>
                <a:ea typeface="楷体_GB2312"/>
                <a:hlinkClick r:id="rId1"/>
              </a:rPr>
              <a:t>铜像或大理石像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。为了纪念乐坛大师，维也纳的许多街道、公园、礼堂、剧院、会议大厅等，也多</a:t>
            </a:r>
            <a:r>
              <a:rPr b="0" lang="zh-CN" sz="3600" spc="-1" strike="noStrike" u="sng">
                <a:solidFill>
                  <a:srgbClr val="800000"/>
                </a:solidFill>
                <a:uFillTx/>
                <a:latin typeface="Arial"/>
                <a:ea typeface="楷体_GB2312"/>
                <a:hlinkClick r:id="rId2"/>
              </a:rPr>
              <a:t>用音乐家的名字命名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。就连王宫花园的草坪上，也用鲜花组成了一个</a:t>
            </a:r>
            <a:r>
              <a:rPr b="0" lang="zh-CN" sz="3600" spc="-1" strike="noStrike" u="sng">
                <a:solidFill>
                  <a:srgbClr val="800000"/>
                </a:solidFill>
                <a:uFillTx/>
                <a:latin typeface="Arial"/>
                <a:ea typeface="楷体_GB2312"/>
                <a:hlinkClick r:id="rId3"/>
              </a:rPr>
              <a:t>巨大的音乐符号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作为装饰。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7238880" y="5867280"/>
            <a:ext cx="762120" cy="381240"/>
          </a:xfrm>
          <a:custGeom>
            <a:avLst/>
            <a:gdLst>
              <a:gd name="textAreaLeft" fmla="*/ 23760 w 762120"/>
              <a:gd name="textAreaRight" fmla="*/ 738360 w 762120"/>
              <a:gd name="textAreaTop" fmla="*/ 23760 h 381240"/>
              <a:gd name="textAreaBottom" fmla="*/ 35748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809" y="1350"/>
                </a:lnTo>
                <a:lnTo>
                  <a:pt x="1350" y="135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809" y="20250"/>
                </a:lnTo>
                <a:lnTo>
                  <a:pt x="41809" y="135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09" y="2025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159" h="21600">
                <a:moveTo>
                  <a:pt x="25097" y="10800"/>
                </a:moveTo>
                <a:lnTo>
                  <a:pt x="14536" y="17844"/>
                </a:lnTo>
                <a:lnTo>
                  <a:pt x="14536" y="3756"/>
                </a:lnTo>
                <a:close/>
              </a:path>
              <a:path fill="darken" w="43159" h="21600">
                <a:moveTo>
                  <a:pt x="26952" y="3756"/>
                </a:moveTo>
                <a:lnTo>
                  <a:pt x="26952" y="17844"/>
                </a:lnTo>
                <a:lnTo>
                  <a:pt x="28623" y="17844"/>
                </a:lnTo>
                <a:lnTo>
                  <a:pt x="28623" y="37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dft2"/>
          <p:cNvPicPr/>
          <p:nvPr/>
        </p:nvPicPr>
        <p:blipFill>
          <a:blip r:embed="rId1"/>
          <a:stretch/>
        </p:blipFill>
        <p:spPr>
          <a:xfrm>
            <a:off x="4952880" y="3916440"/>
            <a:ext cx="3429000" cy="2560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53"/>
          <p:cNvPicPr/>
          <p:nvPr/>
        </p:nvPicPr>
        <p:blipFill>
          <a:blip r:embed="rId2"/>
          <a:stretch/>
        </p:blipFill>
        <p:spPr>
          <a:xfrm>
            <a:off x="609480" y="3962520"/>
            <a:ext cx="4038840" cy="2558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00"/>
          <p:cNvPicPr/>
          <p:nvPr/>
        </p:nvPicPr>
        <p:blipFill>
          <a:blip r:embed="rId3"/>
          <a:stretch/>
        </p:blipFill>
        <p:spPr>
          <a:xfrm>
            <a:off x="228600" y="304920"/>
            <a:ext cx="2706840" cy="342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smsgm"/>
          <p:cNvPicPr/>
          <p:nvPr/>
        </p:nvPicPr>
        <p:blipFill>
          <a:blip r:embed="rId4"/>
          <a:stretch/>
        </p:blipFill>
        <p:spPr>
          <a:xfrm>
            <a:off x="3114720" y="304920"/>
            <a:ext cx="2600280" cy="342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f6"/>
          <p:cNvPicPr/>
          <p:nvPr/>
        </p:nvPicPr>
        <p:blipFill>
          <a:blip r:embed="rId5"/>
          <a:stretch/>
        </p:blipFill>
        <p:spPr>
          <a:xfrm>
            <a:off x="5932440" y="304920"/>
            <a:ext cx="263700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20"/>
          <p:cNvSpPr/>
          <p:nvPr/>
        </p:nvSpPr>
        <p:spPr>
          <a:xfrm>
            <a:off x="8388360" y="6497640"/>
            <a:ext cx="457200" cy="345960"/>
          </a:xfrm>
          <a:custGeom>
            <a:avLst/>
            <a:gdLst>
              <a:gd name="textAreaLeft" fmla="*/ 21600 w 457200"/>
              <a:gd name="textAreaRight" fmla="*/ 435600 w 457200"/>
              <a:gd name="textAreaTop" fmla="*/ 21600 h 345960"/>
              <a:gd name="textAreaBottom" fmla="*/ 324360 h 345960"/>
            </a:gdLst>
            <a:ahLst/>
            <a:rect l="textAreaLeft" t="textAreaTop" r="textAreaRight" b="textAreaBottom"/>
            <a:pathLst>
              <a:path w="28538" h="21600">
                <a:moveTo>
                  <a:pt x="0" y="0"/>
                </a:moveTo>
                <a:lnTo>
                  <a:pt x="28538" y="0"/>
                </a:lnTo>
                <a:lnTo>
                  <a:pt x="28538" y="21600"/>
                </a:lnTo>
                <a:lnTo>
                  <a:pt x="0" y="21600"/>
                </a:lnTo>
                <a:close/>
              </a:path>
              <a:path fill="lightenLess" w="28538" h="21600">
                <a:moveTo>
                  <a:pt x="0" y="0"/>
                </a:moveTo>
                <a:lnTo>
                  <a:pt x="28538" y="0"/>
                </a:lnTo>
                <a:lnTo>
                  <a:pt x="27188" y="1350"/>
                </a:lnTo>
                <a:lnTo>
                  <a:pt x="1350" y="1350"/>
                </a:lnTo>
                <a:close/>
              </a:path>
              <a:path fill="darken" w="28538" h="21600">
                <a:moveTo>
                  <a:pt x="28538" y="0"/>
                </a:moveTo>
                <a:lnTo>
                  <a:pt x="28538" y="21600"/>
                </a:lnTo>
                <a:lnTo>
                  <a:pt x="27188" y="20250"/>
                </a:lnTo>
                <a:lnTo>
                  <a:pt x="27188" y="1350"/>
                </a:lnTo>
                <a:close/>
              </a:path>
              <a:path fill="darkenLess" w="28538" h="21600">
                <a:moveTo>
                  <a:pt x="2853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188" y="20250"/>
                </a:lnTo>
                <a:close/>
              </a:path>
              <a:path fill="lighten" w="2853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538" h="21600">
                <a:moveTo>
                  <a:pt x="7225" y="10800"/>
                </a:moveTo>
                <a:lnTo>
                  <a:pt x="21313" y="3756"/>
                </a:lnTo>
                <a:lnTo>
                  <a:pt x="21313" y="17844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66"/>
          <p:cNvPicPr/>
          <p:nvPr/>
        </p:nvPicPr>
        <p:blipFill>
          <a:blip r:embed="rId1"/>
          <a:stretch/>
        </p:blipFill>
        <p:spPr>
          <a:xfrm>
            <a:off x="5257800" y="3505320"/>
            <a:ext cx="3238560" cy="21589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6589800" y="60649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舒伯特花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13"/>
          <p:cNvPicPr/>
          <p:nvPr/>
        </p:nvPicPr>
        <p:blipFill>
          <a:blip r:embed="rId2"/>
          <a:stretch/>
        </p:blipFill>
        <p:spPr>
          <a:xfrm>
            <a:off x="5257800" y="380880"/>
            <a:ext cx="3238560" cy="21592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2"/>
          <p:cNvSpPr/>
          <p:nvPr/>
        </p:nvSpPr>
        <p:spPr>
          <a:xfrm>
            <a:off x="6592320" y="27882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贝多芬广场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4" descr="15"/>
          <p:cNvPicPr/>
          <p:nvPr/>
        </p:nvPicPr>
        <p:blipFill>
          <a:blip r:embed="rId3"/>
          <a:stretch/>
        </p:blipFill>
        <p:spPr>
          <a:xfrm>
            <a:off x="685800" y="380880"/>
            <a:ext cx="3727440" cy="5715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5"/>
          <p:cNvSpPr/>
          <p:nvPr/>
        </p:nvSpPr>
        <p:spPr>
          <a:xfrm>
            <a:off x="2544120" y="611100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海顿街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6"/>
          <p:cNvSpPr/>
          <p:nvPr/>
        </p:nvSpPr>
        <p:spPr>
          <a:xfrm>
            <a:off x="8388360" y="6497640"/>
            <a:ext cx="457200" cy="345960"/>
          </a:xfrm>
          <a:custGeom>
            <a:avLst/>
            <a:gdLst>
              <a:gd name="textAreaLeft" fmla="*/ 21600 w 457200"/>
              <a:gd name="textAreaRight" fmla="*/ 435600 w 457200"/>
              <a:gd name="textAreaTop" fmla="*/ 21600 h 345960"/>
              <a:gd name="textAreaBottom" fmla="*/ 324360 h 345960"/>
            </a:gdLst>
            <a:ahLst/>
            <a:rect l="textAreaLeft" t="textAreaTop" r="textAreaRight" b="textAreaBottom"/>
            <a:pathLst>
              <a:path w="28538" h="21600">
                <a:moveTo>
                  <a:pt x="0" y="0"/>
                </a:moveTo>
                <a:lnTo>
                  <a:pt x="28538" y="0"/>
                </a:lnTo>
                <a:lnTo>
                  <a:pt x="28538" y="21600"/>
                </a:lnTo>
                <a:lnTo>
                  <a:pt x="0" y="21600"/>
                </a:lnTo>
                <a:close/>
              </a:path>
              <a:path fill="lightenLess" w="28538" h="21600">
                <a:moveTo>
                  <a:pt x="0" y="0"/>
                </a:moveTo>
                <a:lnTo>
                  <a:pt x="28538" y="0"/>
                </a:lnTo>
                <a:lnTo>
                  <a:pt x="27188" y="1350"/>
                </a:lnTo>
                <a:lnTo>
                  <a:pt x="1350" y="1350"/>
                </a:lnTo>
                <a:close/>
              </a:path>
              <a:path fill="darken" w="28538" h="21600">
                <a:moveTo>
                  <a:pt x="28538" y="0"/>
                </a:moveTo>
                <a:lnTo>
                  <a:pt x="28538" y="21600"/>
                </a:lnTo>
                <a:lnTo>
                  <a:pt x="27188" y="20250"/>
                </a:lnTo>
                <a:lnTo>
                  <a:pt x="27188" y="1350"/>
                </a:lnTo>
                <a:close/>
              </a:path>
              <a:path fill="darkenLess" w="28538" h="21600">
                <a:moveTo>
                  <a:pt x="2853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188" y="20250"/>
                </a:lnTo>
                <a:close/>
              </a:path>
              <a:path fill="lighten" w="2853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538" h="21600">
                <a:moveTo>
                  <a:pt x="7225" y="10800"/>
                </a:moveTo>
                <a:lnTo>
                  <a:pt x="21313" y="3756"/>
                </a:lnTo>
                <a:lnTo>
                  <a:pt x="21313" y="17844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维也纳市景2"/>
          <p:cNvPicPr/>
          <p:nvPr/>
        </p:nvPicPr>
        <p:blipFill>
          <a:blip r:embed="rId1"/>
          <a:stretch/>
        </p:blipFill>
        <p:spPr>
          <a:xfrm>
            <a:off x="0" y="-247680"/>
            <a:ext cx="9144000" cy="74232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4876920" y="339804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8388360" y="6497640"/>
            <a:ext cx="457200" cy="345960"/>
          </a:xfrm>
          <a:custGeom>
            <a:avLst/>
            <a:gdLst>
              <a:gd name="textAreaLeft" fmla="*/ 21600 w 457200"/>
              <a:gd name="textAreaRight" fmla="*/ 435600 w 457200"/>
              <a:gd name="textAreaTop" fmla="*/ 21600 h 345960"/>
              <a:gd name="textAreaBottom" fmla="*/ 324360 h 345960"/>
            </a:gdLst>
            <a:ahLst/>
            <a:rect l="textAreaLeft" t="textAreaTop" r="textAreaRight" b="textAreaBottom"/>
            <a:pathLst>
              <a:path w="28538" h="21600">
                <a:moveTo>
                  <a:pt x="0" y="0"/>
                </a:moveTo>
                <a:lnTo>
                  <a:pt x="28538" y="0"/>
                </a:lnTo>
                <a:lnTo>
                  <a:pt x="28538" y="21600"/>
                </a:lnTo>
                <a:lnTo>
                  <a:pt x="0" y="21600"/>
                </a:lnTo>
                <a:close/>
              </a:path>
              <a:path fill="lightenLess" w="28538" h="21600">
                <a:moveTo>
                  <a:pt x="0" y="0"/>
                </a:moveTo>
                <a:lnTo>
                  <a:pt x="28538" y="0"/>
                </a:lnTo>
                <a:lnTo>
                  <a:pt x="27188" y="1350"/>
                </a:lnTo>
                <a:lnTo>
                  <a:pt x="1350" y="1350"/>
                </a:lnTo>
                <a:close/>
              </a:path>
              <a:path fill="darken" w="28538" h="21600">
                <a:moveTo>
                  <a:pt x="28538" y="0"/>
                </a:moveTo>
                <a:lnTo>
                  <a:pt x="28538" y="21600"/>
                </a:lnTo>
                <a:lnTo>
                  <a:pt x="27188" y="20250"/>
                </a:lnTo>
                <a:lnTo>
                  <a:pt x="27188" y="1350"/>
                </a:lnTo>
                <a:close/>
              </a:path>
              <a:path fill="darkenLess" w="28538" h="21600">
                <a:moveTo>
                  <a:pt x="2853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188" y="20250"/>
                </a:lnTo>
                <a:close/>
              </a:path>
              <a:path fill="lighten" w="2853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538" h="21600">
                <a:moveTo>
                  <a:pt x="7225" y="10800"/>
                </a:moveTo>
                <a:lnTo>
                  <a:pt x="21313" y="3756"/>
                </a:lnTo>
                <a:lnTo>
                  <a:pt x="21313" y="17844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85800" y="12193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维也纳是一座用音乐装饰起来的城市。在这儿，到处可以看到大音乐家们的铜像或大理石像。为了纪念乐坛大师，维也纳的许多街道、公园、礼堂、剧院、会议大厅等，也多用音乐家的名字命名。就连王宫花园的草坪上，也用鲜花组成了一个巨大的音乐符号作为装饰。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4.mp3" descr=""/>
          <p:cNvPicPr/>
          <p:nvPr/>
        </p:nvPicPr>
        <p:blipFill>
          <a:blip r:embed="rId1"/>
          <a:stretch/>
        </p:blipFill>
        <p:spPr>
          <a:xfrm>
            <a:off x="80010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4699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609480" y="26190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维也纳几乎一天也离不开音乐。人们在漫步时，随时可以听到那优雅轻快的华尔兹圆舞曲。夏天的夜晚，公园里还举行露天音乐演奏会，悠扬的乐声掺和着花草的芬芳，在晚风中飘溢、回荡。维也纳的许多家庭有着室内演奏的传统，尤其在合家欢乐的时候 ，总要演奏一番，优美的旋律传遍街头巷尾。更有趣的是，在举行集会、庆典甚至政府会议时，会前会后也要奏一曲古典音乐，这几乎成了惯例。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3.wma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97679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6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772400"/>
          </a:xfrm>
          <a:prstGeom prst="rect">
            <a:avLst/>
          </a:prstGeom>
          <a:ln w="0">
            <a:noFill/>
          </a:ln>
        </p:spPr>
      </p:pic>
      <p:pic>
        <p:nvPicPr>
          <p:cNvPr id="159" name="3.wma" descr=""/>
          <p:cNvPicPr/>
          <p:nvPr/>
        </p:nvPicPr>
        <p:blipFill>
          <a:blip r:embed="rId2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97679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0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lt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4115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3385440" y="58672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露天音乐演奏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8388360" y="6497640"/>
            <a:ext cx="457200" cy="345960"/>
          </a:xfrm>
          <a:custGeom>
            <a:avLst/>
            <a:gdLst>
              <a:gd name="textAreaLeft" fmla="*/ 21600 w 457200"/>
              <a:gd name="textAreaRight" fmla="*/ 435600 w 457200"/>
              <a:gd name="textAreaTop" fmla="*/ 21600 h 345960"/>
              <a:gd name="textAreaBottom" fmla="*/ 324360 h 345960"/>
            </a:gdLst>
            <a:ahLst/>
            <a:rect l="textAreaLeft" t="textAreaTop" r="textAreaRight" b="textAreaBottom"/>
            <a:pathLst>
              <a:path w="28538" h="21600">
                <a:moveTo>
                  <a:pt x="0" y="0"/>
                </a:moveTo>
                <a:lnTo>
                  <a:pt x="28538" y="0"/>
                </a:lnTo>
                <a:lnTo>
                  <a:pt x="28538" y="21600"/>
                </a:lnTo>
                <a:lnTo>
                  <a:pt x="0" y="21600"/>
                </a:lnTo>
                <a:close/>
              </a:path>
              <a:path fill="lightenLess" w="28538" h="21600">
                <a:moveTo>
                  <a:pt x="0" y="0"/>
                </a:moveTo>
                <a:lnTo>
                  <a:pt x="28538" y="0"/>
                </a:lnTo>
                <a:lnTo>
                  <a:pt x="27188" y="1350"/>
                </a:lnTo>
                <a:lnTo>
                  <a:pt x="1350" y="1350"/>
                </a:lnTo>
                <a:close/>
              </a:path>
              <a:path fill="darken" w="28538" h="21600">
                <a:moveTo>
                  <a:pt x="28538" y="0"/>
                </a:moveTo>
                <a:lnTo>
                  <a:pt x="28538" y="21600"/>
                </a:lnTo>
                <a:lnTo>
                  <a:pt x="27188" y="20250"/>
                </a:lnTo>
                <a:lnTo>
                  <a:pt x="27188" y="1350"/>
                </a:lnTo>
                <a:close/>
              </a:path>
              <a:path fill="darkenLess" w="28538" h="21600">
                <a:moveTo>
                  <a:pt x="2853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188" y="20250"/>
                </a:lnTo>
                <a:close/>
              </a:path>
              <a:path fill="lighten" w="2853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538" h="21600">
                <a:moveTo>
                  <a:pt x="7225" y="10800"/>
                </a:moveTo>
                <a:lnTo>
                  <a:pt x="21313" y="3756"/>
                </a:lnTo>
                <a:lnTo>
                  <a:pt x="21313" y="17844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ydct22"/>
          <p:cNvPicPr/>
          <p:nvPr/>
        </p:nvPicPr>
        <p:blipFill>
          <a:blip r:embed="rId1"/>
          <a:stretch/>
        </p:blipFill>
        <p:spPr>
          <a:xfrm>
            <a:off x="609480" y="700200"/>
            <a:ext cx="7925040" cy="4557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2950560" y="55468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家 庭 室 内 演 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8388360" y="6497640"/>
            <a:ext cx="457200" cy="345960"/>
          </a:xfrm>
          <a:custGeom>
            <a:avLst/>
            <a:gdLst>
              <a:gd name="textAreaLeft" fmla="*/ 21600 w 457200"/>
              <a:gd name="textAreaRight" fmla="*/ 435600 w 457200"/>
              <a:gd name="textAreaTop" fmla="*/ 21600 h 345960"/>
              <a:gd name="textAreaBottom" fmla="*/ 324360 h 345960"/>
            </a:gdLst>
            <a:ahLst/>
            <a:rect l="textAreaLeft" t="textAreaTop" r="textAreaRight" b="textAreaBottom"/>
            <a:pathLst>
              <a:path w="28538" h="21600">
                <a:moveTo>
                  <a:pt x="0" y="0"/>
                </a:moveTo>
                <a:lnTo>
                  <a:pt x="28538" y="0"/>
                </a:lnTo>
                <a:lnTo>
                  <a:pt x="28538" y="21600"/>
                </a:lnTo>
                <a:lnTo>
                  <a:pt x="0" y="21600"/>
                </a:lnTo>
                <a:close/>
              </a:path>
              <a:path fill="lightenLess" w="28538" h="21600">
                <a:moveTo>
                  <a:pt x="0" y="0"/>
                </a:moveTo>
                <a:lnTo>
                  <a:pt x="28538" y="0"/>
                </a:lnTo>
                <a:lnTo>
                  <a:pt x="27188" y="1350"/>
                </a:lnTo>
                <a:lnTo>
                  <a:pt x="1350" y="1350"/>
                </a:lnTo>
                <a:close/>
              </a:path>
              <a:path fill="darken" w="28538" h="21600">
                <a:moveTo>
                  <a:pt x="28538" y="0"/>
                </a:moveTo>
                <a:lnTo>
                  <a:pt x="28538" y="21600"/>
                </a:lnTo>
                <a:lnTo>
                  <a:pt x="27188" y="20250"/>
                </a:lnTo>
                <a:lnTo>
                  <a:pt x="27188" y="1350"/>
                </a:lnTo>
                <a:close/>
              </a:path>
              <a:path fill="darkenLess" w="28538" h="21600">
                <a:moveTo>
                  <a:pt x="2853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188" y="20250"/>
                </a:lnTo>
                <a:close/>
              </a:path>
              <a:path fill="lighten" w="2853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538" h="21600">
                <a:moveTo>
                  <a:pt x="7225" y="10800"/>
                </a:moveTo>
                <a:lnTo>
                  <a:pt x="21313" y="3756"/>
                </a:lnTo>
                <a:lnTo>
                  <a:pt x="21313" y="17844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20070710113245577"/>
          <p:cNvPicPr/>
          <p:nvPr/>
        </p:nvPicPr>
        <p:blipFill>
          <a:blip r:embed="rId1"/>
          <a:stretch/>
        </p:blipFill>
        <p:spPr>
          <a:xfrm>
            <a:off x="380880" y="309600"/>
            <a:ext cx="8305920" cy="6181560"/>
          </a:xfrm>
          <a:prstGeom prst="rect">
            <a:avLst/>
          </a:prstGeom>
          <a:ln w="0">
            <a:noFill/>
          </a:ln>
        </p:spPr>
      </p:pic>
      <p:pic>
        <p:nvPicPr>
          <p:cNvPr id="169" name="5.wma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21586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图片1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2895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6"/>
          <p:cNvPicPr/>
          <p:nvPr/>
        </p:nvPicPr>
        <p:blipFill>
          <a:blip r:embed="rId2"/>
          <a:stretch/>
        </p:blipFill>
        <p:spPr>
          <a:xfrm>
            <a:off x="228600" y="609480"/>
            <a:ext cx="4114800" cy="2916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图片22"/>
          <p:cNvPicPr/>
          <p:nvPr/>
        </p:nvPicPr>
        <p:blipFill>
          <a:blip r:embed="rId3"/>
          <a:stretch/>
        </p:blipFill>
        <p:spPr>
          <a:xfrm>
            <a:off x="228600" y="3732120"/>
            <a:ext cx="4137120" cy="2745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20070710113245577"/>
          <p:cNvPicPr/>
          <p:nvPr/>
        </p:nvPicPr>
        <p:blipFill>
          <a:blip r:embed="rId4"/>
          <a:stretch/>
        </p:blipFill>
        <p:spPr>
          <a:xfrm>
            <a:off x="4648320" y="373392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74" name="6.mp3" descr=""/>
          <p:cNvPicPr/>
          <p:nvPr/>
        </p:nvPicPr>
        <p:blipFill>
          <a:blip r:embed="rId5"/>
          <a:stretch/>
        </p:blipFill>
        <p:spPr>
          <a:xfrm>
            <a:off x="441972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41297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457200" y="24382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当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时候，人们会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609480" y="26190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维也纳几乎一天也离不开音乐。人们在漫步时，随时可以听到那优雅轻快的华尔兹圆舞曲。夏天的夜晚，公园里还举行露天音乐演奏会，悠扬的乐声掺和着花草的芬芳，在晚风中飘溢、回荡。维也纳的许多家庭有着室内演奏的传统，尤其在合家欢乐的时候 ，总要演奏一番，优美的旋律传遍街头巷尾。更有趣的是，在举行集会、庆典甚至政府会议时，会前会后也要奏一曲古典音乐，这几乎成了惯例。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3.wma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97679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1828800" y="2133720"/>
            <a:ext cx="5867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57200" y="205740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练习背诵课文的二、三、四自然段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进一步了解音乐家的生平和作品，选择欣赏几首世界名曲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990720" y="114300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作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9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维也纳市景2"/>
          <p:cNvPicPr/>
          <p:nvPr/>
        </p:nvPicPr>
        <p:blipFill>
          <a:blip r:embed="rId1"/>
          <a:stretch/>
        </p:blipFill>
        <p:spPr>
          <a:xfrm>
            <a:off x="0" y="0"/>
            <a:ext cx="9144000" cy="76960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4876920" y="339804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之家：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09480" y="1549440"/>
            <a:ext cx="86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维也纳是欧洲古典音乐的摇篮。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1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世纪以来，世界上许多著名的音乐家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如海顿、莫扎特、贝多芬、舒伯特、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特劳斯等，都在这里度过大部分音乐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涯，谱写了许多优美的乐章。维也纳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博物馆里，至今还陈列着他们的乐谱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手迹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609480" y="15494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shitls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3048120"/>
            <a:ext cx="1582920" cy="2057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100010001794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33680" y="3124080"/>
            <a:ext cx="1719000" cy="1962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u=225598319,3967079682&amp;gp=3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76520" y="457200"/>
            <a:ext cx="1730160" cy="2057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u=1523654921,3869069396&amp;gp=-3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457200"/>
            <a:ext cx="1446480" cy="1981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u=809136926,514009636&amp;gp=4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114800" y="3048120"/>
            <a:ext cx="1647720" cy="2057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358128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海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4572000" y="533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莫扎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1447920" y="54100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贝多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3962520" y="54100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舒伯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6324480" y="54100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施特劳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摇篮"/>
          <p:cNvPicPr/>
          <p:nvPr/>
        </p:nvPicPr>
        <p:blipFill>
          <a:blip r:embed="rId1"/>
          <a:stretch/>
        </p:blipFill>
        <p:spPr>
          <a:xfrm>
            <a:off x="762120" y="228600"/>
            <a:ext cx="3352680" cy="2682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4191120" y="527040"/>
            <a:ext cx="5257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从地图上看，奥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利的地形就像一把小提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古典乐派的三位代表人——海顿、莫扎特、贝多芬"/>
          <p:cNvPicPr/>
          <p:nvPr/>
        </p:nvPicPr>
        <p:blipFill>
          <a:blip r:embed="rId2"/>
          <a:stretch/>
        </p:blipFill>
        <p:spPr>
          <a:xfrm>
            <a:off x="4724280" y="274320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9"/>
          <p:cNvSpPr/>
          <p:nvPr/>
        </p:nvSpPr>
        <p:spPr>
          <a:xfrm>
            <a:off x="228600" y="4509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十八世纪，海顿、莫扎特、贝多芬等著名音乐家在维也纳生活和创作，这里浓浓的音乐氛围给了他们创作的灵感和激情。维也纳成了欧洲古典音乐的发源地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53:01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3:02Z</dcterms:modified>
  <cp:revision>8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