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07F-9B60-4793-B6EA-E51E5712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F5E-A122-4C82-8AA0-573EF3C3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96A-B6F9-4714-A1EB-50932B20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305-AB93-490C-A373-2D0836CC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FFE1-A9CF-4772-957D-D9FB698F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AB06-729D-4FB4-86A4-14D540EC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6A70-D664-4E03-80A4-1B3052FE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ED29-6465-429E-8FD7-96F4FFB8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99C0-603B-4F9E-9C03-B92BA7B7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3441-2206-4270-B9FF-D224E7E9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815F-68BC-4BC3-92D7-95218355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680-080C-41B7-8B60-07E955E1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8CE2-11F3-4DB5-97AC-C752D4CE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5485-768C-47BC-BC92-BA85324A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44FE-17EE-4D85-A07E-2A682521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8CB9-92A1-4842-B526-D5D843AC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3F91-E086-41E2-8ED5-0E0D12A7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EB6-3AFC-4AF3-9FED-BCFB1AA4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C1F-65F1-440C-AE70-5833E291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503-3673-4240-A286-4EE3606C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D83-4BE0-49BD-8B5B-04B90882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B7C-E3EE-4700-BE6D-9A938066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F71-DFED-4E1E-AF28-E12F6471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E4E-7751-4242-90FE-00F47225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B822-55CD-4EBD-BC5C-0C15C8ACC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D3D4-BF7D-4AED-8D53-B7F3A8BC924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6306-60EF-438F-86C8-48AB6D7301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file:///tmp/home/.config/libreoffice/4/user/gallery/NOTIFY.WAV" TargetMode="External"/><Relationship Id="rId4" Type="http://schemas.microsoft.com/office/2007/relationships/media" Target="file:///tmp/home/.config/libreoffice/4/user/gallery/NOTIFY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es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4627800" y="259092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627800" y="259092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4132800" y="266688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老是一个人呆呆地站在金鱼缸边，静静地看着金鱼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水里游动，而且从来不说一句话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1371600" y="3124080"/>
            <a:ext cx="45720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2895480" y="3124080"/>
            <a:ext cx="45720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>
            <a:off x="5943600" y="3124080"/>
            <a:ext cx="45720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3048120" y="3809880"/>
            <a:ext cx="45720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1392840" y="13240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有感情的朗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3679560" y="1981080"/>
            <a:ext cx="16131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8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读</a:t>
            </a:r>
            <a:endParaRPr b="0" lang="en-US" sz="1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327320" y="703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轻读课文思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523880" y="1828800"/>
            <a:ext cx="67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哪些句子具体描写了青年画鱼画得很好，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[      ]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标出并读一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533520" y="16765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990720" y="60948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有时工笔细描，把金鱼的每个部位一丝不苟地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出来，像姑娘绣花那样细致；有时又挥笔速写，很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地画出金鱼的动态，仿佛金鱼在纸上流动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33520" y="30481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496600" y="3394080"/>
            <a:ext cx="27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什么叫“工笔细描”？请读有关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33520" y="46483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588760" y="5049720"/>
            <a:ext cx="27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什么叫“挥笔速写”？请读有关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3733920" y="1066680"/>
            <a:ext cx="411480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1143000" y="1752480"/>
            <a:ext cx="350532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1143000" y="2514600"/>
            <a:ext cx="243828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7543800" y="1828800"/>
            <a:ext cx="45720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990720" y="60948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有时工笔细描，把金鱼的每个部位一丝不苟地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出来，像姑娘绣花那样细致；有时又挥笔速写，很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地画出金鱼的动态，仿佛金鱼在纸上流动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92840" y="31240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选择正确的解释并说明选择的理由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765960" y="396252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、说明青年看鱼看得很专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864960" y="45720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、说明青年看鱼、画鱼很勤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1981080" y="5181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、说明青年画鱼很细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630240" y="571500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、说明青年画鱼画得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315800" y="2620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讨论交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14400" y="289548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有时工笔细描，把金鱼的每个部位一丝不苟地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出来，像姑娘绣花那样细致；有时又挥笔速写，很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地画出金鱼的动态，仿佛金鱼在纸上流动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611520" y="1295280"/>
            <a:ext cx="185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华文新魏"/>
              </a:rPr>
              <a:t>朗        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5"/>
          <p:cNvSpPr/>
          <p:nvPr/>
        </p:nvSpPr>
        <p:spPr>
          <a:xfrm flipV="1">
            <a:off x="3276720" y="2133360"/>
            <a:ext cx="0" cy="1447560"/>
          </a:xfrm>
          <a:prstGeom prst="line">
            <a:avLst/>
          </a:prstGeom>
          <a:ln w="15840">
            <a:solidFill>
              <a:srgbClr val="00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426204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4262040" y="29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6930720" y="2743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7" descr="fesh"/>
          <p:cNvPicPr/>
          <p:nvPr/>
        </p:nvPicPr>
        <p:blipFill>
          <a:blip r:embed="rId1"/>
          <a:stretch/>
        </p:blipFill>
        <p:spPr>
          <a:xfrm>
            <a:off x="123840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fesh"/>
          <p:cNvPicPr/>
          <p:nvPr/>
        </p:nvPicPr>
        <p:blipFill>
          <a:blip r:embed="rId2"/>
          <a:stretch/>
        </p:blipFill>
        <p:spPr>
          <a:xfrm>
            <a:off x="1371600" y="1600200"/>
            <a:ext cx="1047600" cy="7444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9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0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1143000" y="28195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围观的人越来越多，大家赞叹着，议论着，唯一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有任何反应的是他自己。他好像和游鱼已经融为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体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356840" y="1324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朗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8"/>
          <p:cNvGrpSpPr/>
          <p:nvPr/>
        </p:nvGrpSpPr>
        <p:grpSpPr>
          <a:xfrm>
            <a:off x="2209680" y="3886200"/>
            <a:ext cx="1471680" cy="2057400"/>
            <a:chOff x="2209680" y="3886200"/>
            <a:chExt cx="1471680" cy="2057400"/>
          </a:xfrm>
        </p:grpSpPr>
        <p:pic>
          <p:nvPicPr>
            <p:cNvPr id="195" name="Object 15" descr=""/>
            <p:cNvPicPr/>
            <p:nvPr/>
          </p:nvPicPr>
          <p:blipFill>
            <a:blip r:embed="rId1"/>
            <a:stretch/>
          </p:blipFill>
          <p:spPr>
            <a:xfrm>
              <a:off x="2209680" y="4419720"/>
              <a:ext cx="147168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2678760" y="388620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0099"/>
                  </a:solidFill>
                  <a:latin typeface="Times New Roman"/>
                </a:rPr>
                <a:t>？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Text Box 17"/>
          <p:cNvSpPr/>
          <p:nvPr/>
        </p:nvSpPr>
        <p:spPr>
          <a:xfrm>
            <a:off x="4191120" y="4495680"/>
            <a:ext cx="40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99"/>
                </a:solidFill>
                <a:latin typeface="Times New Roman"/>
              </a:rPr>
              <a:t>青年是个怎样的人？你从哪些句子可以看出来？请找出直接描写的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Object 19" descr=""/>
          <p:cNvPicPr/>
          <p:nvPr/>
        </p:nvPicPr>
        <p:blipFill>
          <a:blip r:embed="rId2"/>
          <a:stretch/>
        </p:blipFill>
        <p:spPr>
          <a:xfrm>
            <a:off x="2286000" y="1371600"/>
            <a:ext cx="1330200" cy="137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800600" y="1523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3276720" y="2133360"/>
            <a:ext cx="0" cy="1447560"/>
          </a:xfrm>
          <a:prstGeom prst="line">
            <a:avLst/>
          </a:prstGeom>
          <a:ln w="15840">
            <a:solidFill>
              <a:srgbClr val="00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426204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4262040" y="29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693072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761652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22" descr="fesh"/>
          <p:cNvPicPr/>
          <p:nvPr/>
        </p:nvPicPr>
        <p:blipFill>
          <a:blip r:embed="rId1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fesh"/>
          <p:cNvPicPr/>
          <p:nvPr/>
        </p:nvPicPr>
        <p:blipFill>
          <a:blip r:embed="rId2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4" descr="fesh"/>
          <p:cNvPicPr/>
          <p:nvPr/>
        </p:nvPicPr>
        <p:blipFill>
          <a:blip r:embed="rId3"/>
          <a:stretch/>
        </p:blipFill>
        <p:spPr>
          <a:xfrm>
            <a:off x="1295280" y="1600200"/>
            <a:ext cx="1047960" cy="744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25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26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685800" y="3124080"/>
            <a:ext cx="74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鱼游到了心里”和“鱼游到了纸上”有什么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97040" y="9795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Times New Roman"/>
                <a:ea typeface="方正舒体"/>
              </a:rPr>
              <a:t>让我想一想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905120" y="2438280"/>
            <a:ext cx="5746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这篇课文主要讲作者在（          ）观鱼时，发现了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位（                 ）的青年，他（              ）看得非常专心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（             ）画得活灵活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87692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玉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7629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举止特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22576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看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415880" y="464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画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191120" y="23302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449360" y="1187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填空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191120" y="23302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cc0099"/>
                </a:solidFill>
                <a:latin typeface="Times New Roman"/>
                <a:ea typeface="华文彩云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 flipV="1">
            <a:off x="3276720" y="2133360"/>
            <a:ext cx="0" cy="1447560"/>
          </a:xfrm>
          <a:prstGeom prst="line">
            <a:avLst/>
          </a:prstGeom>
          <a:ln w="15840">
            <a:solidFill>
              <a:srgbClr val="00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26204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262040" y="29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93072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761652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5" descr="fesh"/>
          <p:cNvPicPr/>
          <p:nvPr/>
        </p:nvPicPr>
        <p:blipFill>
          <a:blip r:embed="rId1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fesh"/>
          <p:cNvPicPr/>
          <p:nvPr/>
        </p:nvPicPr>
        <p:blipFill>
          <a:blip r:embed="rId2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7" descr="fesh"/>
          <p:cNvPicPr/>
          <p:nvPr/>
        </p:nvPicPr>
        <p:blipFill>
          <a:blip r:embed="rId3"/>
          <a:stretch/>
        </p:blipFill>
        <p:spPr>
          <a:xfrm>
            <a:off x="1295280" y="1600200"/>
            <a:ext cx="1047960" cy="744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8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6722640" y="3726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Times New Roman"/>
              </a:rPr>
              <a:t>勤动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6"/>
          <p:cNvSpPr/>
          <p:nvPr/>
        </p:nvSpPr>
        <p:spPr>
          <a:xfrm>
            <a:off x="3096720" y="17524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华文新魏"/>
              </a:rPr>
              <a:t>把带点的词语写具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367720" y="289548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围观的人越来越多，大家赞叹着，议论着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4876920" y="3276720"/>
            <a:ext cx="76176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9"/>
          <p:cNvSpPr/>
          <p:nvPr/>
        </p:nvSpPr>
        <p:spPr>
          <a:xfrm>
            <a:off x="6019920" y="3276720"/>
            <a:ext cx="838080" cy="0"/>
          </a:xfrm>
          <a:prstGeom prst="line">
            <a:avLst/>
          </a:prstGeom>
          <a:ln cap="rnd" w="28440">
            <a:solidFill>
              <a:srgbClr val="99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152568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Times New Roman"/>
                <a:ea typeface="方正舒体"/>
              </a:rPr>
              <a:t>该练习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>
            <a:hlinkClick r:id="" action="ppaction://hlinkshowjump?jump=firstslide"/>
          </p:cNvPr>
          <p:cNvSpPr/>
          <p:nvPr/>
        </p:nvSpPr>
        <p:spPr>
          <a:xfrm>
            <a:off x="3835800" y="1219320"/>
            <a:ext cx="19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00000"/>
                </a:solidFill>
                <a:latin typeface="Times New Roman"/>
                <a:ea typeface="华文行楷"/>
              </a:rPr>
              <a:t>谢 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2667960" y="3124080"/>
            <a:ext cx="434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66"/>
                </a:solidFill>
                <a:latin typeface="Times New Roman"/>
              </a:rPr>
              <a:t>The E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830760" y="4815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  <a:ea typeface="华文行楷"/>
              </a:rPr>
              <a:t>主讲：太和联校廖羽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500"/>
                            </p:stCondLst>
                            <p:childTnLst>
                              <p:par>
                                <p:cTn id="4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4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1127160" y="213372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、课文中哪个句子最能说明青年画鱼画得好。用“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~~~”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线在 文中标出来。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57200" y="9907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轻声朗读课文，边读边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219320" y="3429000"/>
            <a:ext cx="74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、哪个句子最能说明青年看鱼很专心。用“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——”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线在文中标出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04920" y="19051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04920" y="32767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8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1"/>
          <p:cNvSpPr/>
          <p:nvPr/>
        </p:nvSpPr>
        <p:spPr>
          <a:xfrm flipV="1">
            <a:off x="3276720" y="2133360"/>
            <a:ext cx="0" cy="1447560"/>
          </a:xfrm>
          <a:prstGeom prst="line">
            <a:avLst/>
          </a:prstGeom>
          <a:ln w="15840">
            <a:solidFill>
              <a:srgbClr val="00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2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7" descr="fesh"/>
          <p:cNvPicPr/>
          <p:nvPr/>
        </p:nvPicPr>
        <p:blipFill>
          <a:blip r:embed="rId1"/>
          <a:stretch/>
        </p:blipFill>
        <p:spPr>
          <a:xfrm>
            <a:off x="1219320" y="161784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8" descr="fesh"/>
          <p:cNvPicPr/>
          <p:nvPr/>
        </p:nvPicPr>
        <p:blipFill>
          <a:blip r:embed="rId2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0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41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316880" y="7984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默读课文思考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371600" y="20574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课文哪些句子描写出了青年爱鱼达到了忘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的境界，用（     ）标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80880" y="194940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4209120" y="1143000"/>
            <a:ext cx="89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老是一个人呆呆地站在金鱼缸边，静静地看着金鱼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水里游动，而且从来不说一句话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5320" y="232092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696040" y="2549520"/>
            <a:ext cx="43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“他”指谁？长得怎样，请找出有关句子读一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371600" y="304812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</a:rPr>
              <a:t>（他高高的身材，长得很秀气，一对大眼睛明亮得就像玉泉的水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2373840" y="4191120"/>
            <a:ext cx="33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“老是”是什么意思？说明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625320" y="376884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66"/>
                </a:solidFill>
                <a:latin typeface="Times New Roman"/>
                <a:ea typeface="华文彩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2"/>
          <p:cNvSpPr/>
          <p:nvPr/>
        </p:nvSpPr>
        <p:spPr>
          <a:xfrm>
            <a:off x="4642920" y="2286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0"/>
          <p:cNvSpPr/>
          <p:nvPr/>
        </p:nvSpPr>
        <p:spPr>
          <a:xfrm flipV="1">
            <a:off x="3276720" y="2133360"/>
            <a:ext cx="0" cy="1447560"/>
          </a:xfrm>
          <a:prstGeom prst="line">
            <a:avLst/>
          </a:prstGeom>
          <a:ln w="15840">
            <a:solidFill>
              <a:srgbClr val="00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2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5" descr="fesh"/>
          <p:cNvPicPr/>
          <p:nvPr/>
        </p:nvPicPr>
        <p:blipFill>
          <a:blip r:embed="rId1"/>
          <a:stretch/>
        </p:blipFill>
        <p:spPr>
          <a:xfrm>
            <a:off x="1219320" y="1617840"/>
            <a:ext cx="1047600" cy="74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fesh"/>
          <p:cNvPicPr/>
          <p:nvPr/>
        </p:nvPicPr>
        <p:blipFill>
          <a:blip r:embed="rId2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7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8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4129560" y="76212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他老是一个人呆呆地站在金鱼缸边，静静地看着金鱼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水里游动，而且从来不说一句话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2040" y="24685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选择正确的解释并说明你选择的理由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078000" y="316548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说明青年画鱼画得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935080" y="403848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说明青年看鱼很专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941560" y="480060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说明青年画鱼很细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706560" y="548640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、说明青年爱鱼达到了忘我的境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1265040" y="1905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Times New Roman"/>
                <a:ea typeface="华文新魏"/>
              </a:rPr>
              <a:t>讨论交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9"/>
          <p:cNvSpPr/>
          <p:nvPr/>
        </p:nvSpPr>
        <p:spPr>
          <a:xfrm>
            <a:off x="2744640" y="167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纸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741760" y="3733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游到了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 flipV="1">
            <a:off x="3276720" y="2133360"/>
            <a:ext cx="0" cy="1447560"/>
          </a:xfrm>
          <a:prstGeom prst="line">
            <a:avLst/>
          </a:prstGeom>
          <a:ln w="15840">
            <a:solidFill>
              <a:srgbClr val="00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512600" y="1676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画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450936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（看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4262040" y="23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勤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4262040" y="29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6773400" y="1638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1"/>
          <p:cNvSpPr/>
          <p:nvPr/>
        </p:nvSpPr>
        <p:spPr>
          <a:xfrm>
            <a:off x="6168600" y="2681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幼圆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2" descr="fesh"/>
          <p:cNvPicPr/>
          <p:nvPr/>
        </p:nvPicPr>
        <p:blipFill>
          <a:blip r:embed="rId1"/>
          <a:stretch/>
        </p:blipFill>
        <p:spPr>
          <a:xfrm>
            <a:off x="1295280" y="1600200"/>
            <a:ext cx="1047960" cy="744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3" descr="fesh"/>
          <p:cNvPicPr/>
          <p:nvPr/>
        </p:nvPicPr>
        <p:blipFill>
          <a:blip r:embed="rId2"/>
          <a:stretch/>
        </p:blipFill>
        <p:spPr>
          <a:xfrm>
            <a:off x="1219320" y="3581280"/>
            <a:ext cx="1047600" cy="744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4"/>
          <p:cNvSpPr/>
          <p:nvPr/>
        </p:nvSpPr>
        <p:spPr>
          <a:xfrm>
            <a:off x="1029600" y="2127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七、鱼游到了纸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1:37:0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3:05Z</dcterms:modified>
  <cp:revision>8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