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projctor.wav" ContentType="audio/x-wav"/>
  <Override PartName="/ppt/media/image9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4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6EF-AA94-447F-B32F-0573EE88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26E-72A9-4ACC-9B00-30D15884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F96-616F-4B32-964A-0B1809E1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238-9B16-4969-9B71-2A2AEECE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5E8-2731-485D-8DD1-8EA8551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379-2C2C-4F64-AF92-426A9BF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E17-AD59-41AD-8F62-93C4178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DD1-2F35-42EC-9938-07476CA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537-6E04-40EC-908E-8818B57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9AB-B452-4715-B37E-1ABB3E1F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9CF-3548-477B-9CED-5CFC0B5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4EB-BA6A-48BD-BB0D-5F73460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7C5C-57F3-44D1-A49E-E3F6E692326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hyperlink" Target="http://mms.sohu.com/wap/ani/1221/1/011.html" TargetMode="External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hyperlink" Target="http://www.sc.xinhua.org/content/2004-03/30/content_1874573.htm" TargetMode="External"/><Relationship Id="rId9" Type="http://schemas.openxmlformats.org/officeDocument/2006/relationships/image" Target="../media/image15.gif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1143000" y="533520"/>
            <a:ext cx="6477120" cy="4705200"/>
          </a:xfrm>
          <a:custGeom>
            <a:avLst/>
            <a:gdLst>
              <a:gd name="textAreaLeft" fmla="*/ 892440 w 6477120"/>
              <a:gd name="textAreaRight" fmla="*/ 5123880 w 6477120"/>
              <a:gd name="textAreaTop" fmla="*/ 710280 h 4705200"/>
              <a:gd name="textAreaBottom" fmla="*/ 3776760 h 4705200"/>
            </a:gdLst>
            <a:ahLst/>
            <a:rect l="textAreaLeft" t="textAreaTop" r="textAreaRight" b="textAreaBottom"/>
            <a:pathLst>
              <a:path w="21597" h="21597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0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1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300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7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7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0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0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50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2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7" h="21597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10"/>
                  <a:pt x="2285" y="13107"/>
                  <a:pt x="2341" y="13101"/>
                </a:cubicBezTo>
              </a:path>
              <a:path fill="none" w="21597" h="21597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7" h="21597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7" h="21597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7" h="21597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7" h="21597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7" h="21597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7" h="21597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7" h="21597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7" h="21597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7" h="21597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819520" y="19051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Integrated skills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440" y="414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Homework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Make your favourite festival poster and write a short passage about it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0" name="Picture 3" descr="mid-autumn_wallcoo"/>
          <p:cNvPicPr/>
          <p:nvPr/>
        </p:nvPicPr>
        <p:blipFill>
          <a:blip r:embed="rId2"/>
          <a:stretch/>
        </p:blipFill>
        <p:spPr>
          <a:xfrm>
            <a:off x="395280" y="2060640"/>
            <a:ext cx="241128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41964"/>
          <p:cNvPicPr/>
          <p:nvPr/>
        </p:nvPicPr>
        <p:blipFill>
          <a:blip r:embed="rId3"/>
          <a:stretch/>
        </p:blipFill>
        <p:spPr>
          <a:xfrm>
            <a:off x="3348000" y="2060640"/>
            <a:ext cx="2521080" cy="25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hristmas_wallpaper_09"/>
          <p:cNvPicPr/>
          <p:nvPr/>
        </p:nvPicPr>
        <p:blipFill>
          <a:blip r:embed="rId4"/>
          <a:stretch/>
        </p:blipFill>
        <p:spPr>
          <a:xfrm>
            <a:off x="6300720" y="2060640"/>
            <a:ext cx="251928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11600" y="501336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Mid-Autumn Da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79600" y="5013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ildren’s Da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303240" y="499752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ristmas Da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057400" y="302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Traditional festivals(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传统节日）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" name="Picture 3" descr="拜年"/>
          <p:cNvPicPr/>
          <p:nvPr/>
        </p:nvPicPr>
        <p:blipFill>
          <a:blip r:embed="rId2"/>
          <a:stretch/>
        </p:blipFill>
        <p:spPr>
          <a:xfrm>
            <a:off x="4419720" y="3124080"/>
            <a:ext cx="411480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4343400" y="60958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hinese New Yea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" name="Picture 5" descr="run_dra"/>
          <p:cNvPicPr/>
          <p:nvPr/>
        </p:nvPicPr>
        <p:blipFill>
          <a:blip r:embed="rId3"/>
          <a:stretch/>
        </p:blipFill>
        <p:spPr>
          <a:xfrm>
            <a:off x="380880" y="457200"/>
            <a:ext cx="39625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343400" y="1219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ion danc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" name="Picture 7" descr="图像-16-5"/>
          <p:cNvPicPr/>
          <p:nvPr/>
        </p:nvPicPr>
        <p:blipFill>
          <a:blip r:embed="rId4"/>
          <a:stretch/>
        </p:blipFill>
        <p:spPr>
          <a:xfrm>
            <a:off x="457200" y="3429000"/>
            <a:ext cx="312408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6095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et off firework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876920" y="243828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Bookman Old Style"/>
              </a:rPr>
              <a:t>Hallowe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2286000" y="-152280"/>
            <a:ext cx="304812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9092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the Wes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5" descr="wansheng3"/>
          <p:cNvPicPr/>
          <p:nvPr/>
        </p:nvPicPr>
        <p:blipFill>
          <a:blip r:embed="rId2"/>
          <a:stretch/>
        </p:blipFill>
        <p:spPr>
          <a:xfrm>
            <a:off x="152280" y="2057400"/>
            <a:ext cx="3886200" cy="3314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52880" y="35053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rick or tre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876920" y="29718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dress  u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952880" y="40384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ear special costumes with masks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6207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rry Christma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58" name="Picture 3" descr="1vue63"/>
          <p:cNvPicPr/>
          <p:nvPr/>
        </p:nvPicPr>
        <p:blipFill>
          <a:blip r:embed="rId2"/>
          <a:stretch/>
        </p:blipFill>
        <p:spPr>
          <a:xfrm>
            <a:off x="4932360" y="260280"/>
            <a:ext cx="367200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hristmas_wallpaper_02"/>
          <p:cNvPicPr/>
          <p:nvPr/>
        </p:nvPicPr>
        <p:blipFill>
          <a:blip r:embed="rId3"/>
          <a:stretch/>
        </p:blipFill>
        <p:spPr>
          <a:xfrm>
            <a:off x="5207040" y="3716280"/>
            <a:ext cx="3181320" cy="273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hristmas_wallpaper_09"/>
          <p:cNvPicPr/>
          <p:nvPr/>
        </p:nvPicPr>
        <p:blipFill>
          <a:blip r:embed="rId4"/>
          <a:stretch/>
        </p:blipFill>
        <p:spPr>
          <a:xfrm>
            <a:off x="468360" y="1125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79280" y="4508640"/>
            <a:ext cx="52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get a lot of pres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Father Christmas will come and give children lots of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resent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621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arm up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14400" y="1752480"/>
            <a:ext cx="739152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: What’s your favourite day in a year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: My favourite day is --- ---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: Why do you like i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: Because I can --- ---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4920" y="213336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: Which is your f______ day in the yea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: My b______  is my favorite da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: When’s your birthda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: it’s o____ 3rd O_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: Why do you like your birthday so much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: I always have a p_____ and I get lots of p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: Who g_____ you the present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: My parent, aunts, uncles, cousins and friend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09480" y="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  <a:ea typeface="隶书"/>
              </a:rPr>
              <a:t>Listen and fill in the blanks, then make a similar dialogue with your partner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43080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vourit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238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rthda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572840" y="3087720"/>
            <a:ext cx="32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                      ctober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888360" y="4191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rt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12360" y="4572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ent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738800" y="5145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v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projctor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Monotype Corsiva"/>
              </a:rPr>
              <a:t>Look at the poster,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Monotype Corsiva"/>
              </a:rPr>
              <a:t>   complete the table below.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447920"/>
          <a:ext cx="9144000" cy="4632120"/>
        </p:xfrm>
        <a:graphic>
          <a:graphicData uri="http://schemas.openxmlformats.org/drawingml/2006/table">
            <a:tbl>
              <a:tblPr/>
              <a:tblGrid>
                <a:gridCol w="3182760"/>
                <a:gridCol w="2532240"/>
                <a:gridCol w="342900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ctivity 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 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lace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Chinese food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on</a:t>
                      </a: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dance 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usic and dance 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reworks </a:t>
                      </a:r>
                      <a:endParaRPr b="0" lang="en-US" sz="3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29"/>
          <p:cNvSpPr/>
          <p:nvPr/>
        </p:nvSpPr>
        <p:spPr>
          <a:xfrm>
            <a:off x="3027240" y="251460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aramond"/>
              </a:rPr>
              <a:t>2p.m.-5p.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5387400" y="2514600"/>
            <a:ext cx="406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Wang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s Restaura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557880" y="327672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aramond"/>
              </a:rPr>
              <a:t>1 p.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6129360" y="3352680"/>
            <a:ext cx="23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eel</a:t>
            </a: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 Stree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3365280" y="4114800"/>
            <a:ext cx="22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aramond"/>
              </a:rPr>
              <a:t>9p.m. 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Midnigh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5362920" y="4114800"/>
            <a:ext cx="407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Chines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mmunity Cen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3645360" y="53341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aramond"/>
              </a:rPr>
              <a:t>8p.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6207120" y="533412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Mott</a:t>
            </a: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 stree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991080" y="-360"/>
            <a:ext cx="57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January 13th</a:t>
            </a:r>
            <a:br>
              <a:rPr sz="3200"/>
            </a:b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Dear Millie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ong He Xin Xi! I am on holiday in_______I want to see the _______________party her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re are lots of interesting things here. I am going to watch the _________. It is my first time to see it and  I am very excited. After that, I am going to eat _______________________. At night, there  will be ________in Chinatow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hat do you do for  Chinese New Year in Beijing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ots of lov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end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631200" y="11430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York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60480" y="16002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inese New Yea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192200" y="25430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on danc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885480" y="335268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ditional Chinese foo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725720" y="38098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ework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圣诞老人"/>
          <p:cNvPicPr/>
          <p:nvPr/>
        </p:nvPicPr>
        <p:blipFill>
          <a:blip r:embed="rId2"/>
          <a:stretch/>
        </p:blipFill>
        <p:spPr>
          <a:xfrm>
            <a:off x="5943600" y="1295280"/>
            <a:ext cx="2971800" cy="242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图像-09-5"/>
          <p:cNvPicPr/>
          <p:nvPr/>
        </p:nvPicPr>
        <p:blipFill>
          <a:blip r:embed="rId3"/>
          <a:stretch/>
        </p:blipFill>
        <p:spPr>
          <a:xfrm>
            <a:off x="0" y="1219320"/>
            <a:ext cx="3276720" cy="2673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Arial Narrow"/>
                <a:ea typeface="GungsuhChe"/>
              </a:rPr>
              <a:t>Talk  about your favourite festival !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81280" y="1371600"/>
            <a:ext cx="21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hich?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hen?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hy?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6" descr="jieri1_389"/>
          <p:cNvPicPr/>
          <p:nvPr/>
        </p:nvPicPr>
        <p:blipFill>
          <a:blip r:embed="rId4"/>
          <a:stretch/>
        </p:blipFill>
        <p:spPr>
          <a:xfrm>
            <a:off x="0" y="4038480"/>
            <a:ext cx="2895480" cy="23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49880" y="4038480"/>
            <a:ext cx="2994120" cy="235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花边5"/>
          <p:cNvPicPr/>
          <p:nvPr/>
        </p:nvPicPr>
        <p:blipFill>
          <a:blip r:embed="rId7"/>
          <a:stretch/>
        </p:blipFill>
        <p:spPr>
          <a:xfrm>
            <a:off x="0" y="685800"/>
            <a:ext cx="9067680" cy="38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xinsrc_3c39bde85d4c4073b4d5ff4234c38e2a_0001_0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24080" y="4114800"/>
            <a:ext cx="2841840" cy="2238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3048120" y="411480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Fool’s Day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/>
    <p:sndAc>
      <p:stSnd>
        <p:snd r:embed="rId10" name="projctor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1:2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4:0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