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6.gif" ContentType="image/gif"/>
  <Override PartName="/ppt/media/image20.jpeg" ContentType="image/jpe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34.jpeg" ContentType="image/jpeg"/>
  <Override PartName="/ppt/media/image7.jpeg" ContentType="image/jpeg"/>
  <Override PartName="/ppt/media/image38.jpeg" ContentType="image/jpeg"/>
  <Override PartName="/ppt/media/image31.gif" ContentType="image/gif"/>
  <Override PartName="/ppt/media/image9.jpeg" ContentType="image/jpeg"/>
  <Override PartName="/ppt/media/image10.gif" ContentType="image/gif"/>
  <Override PartName="/ppt/media/image13.png" ContentType="image/png"/>
  <Override PartName="/ppt/media/image11.gif" ContentType="image/gif"/>
  <Override PartName="/ppt/media/image30.gif" ContentType="image/gif"/>
  <Override PartName="/ppt/media/image16.wmf" ContentType="image/x-wmf"/>
  <Override PartName="/ppt/media/image28.gif" ContentType="image/gif"/>
  <Override PartName="/ppt/media/image33.gif" ContentType="image/gif"/>
  <Override PartName="/ppt/media/image36.png" ContentType="image/png"/>
  <Override PartName="/ppt/media/image32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6.jpeg" ContentType="image/jpeg"/>
  <Override PartName="/ppt/media/image12.jpeg" ContentType="image/jpeg"/>
  <Override PartName="/ppt/media/image4.png" ContentType="image/png"/>
  <Override PartName="/ppt/media/image24.gif" ContentType="image/gif"/>
  <Override PartName="/ppt/media/image37.jpeg" ContentType="image/jpe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F95-E015-4CEE-A763-87508553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2F7-7953-493A-9707-E123DFBE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23A-06D4-418A-AC08-F8A28FAB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9CF-5AC1-4816-B1EB-EF619452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4E6-DC0D-43A1-B3C4-B93A08F4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41F0-4DD7-4B42-9934-0293FDD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D1F9-E604-4137-8035-50277C77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7CD-A93C-4554-A954-4C6C04D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FD7-8192-422C-B1EB-029691C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8F71-7604-4FE5-A862-79C59F30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FF2D-6683-4B0B-9EFF-4F4DE1F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C00-D5D1-42DB-956D-CCB4468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0EFF-A329-49AE-BA31-26AFF6C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4FE-5B4C-43A7-AB96-0180982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EEC9-B29D-489C-BFE3-3EEF6983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957-8D63-4B50-A6FA-5D1F8FF4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4E9-3A94-4795-B68D-0A116B00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21A-EF04-44C0-9EF0-166174A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240-E951-4170-ABC3-C247B5C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376-2998-48F2-85DF-48FE544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25F-F3E1-48A4-A213-BBB6B29F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2D6-CB49-447F-A502-94D3CBBC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D15-80BB-4AB5-8700-354BB63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633-2CA5-4C58-86AB-3268D89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CA1-C778-4E55-8C16-2BAB4B6C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524-1C47-4C4D-880C-D6956C11C1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7F63-E851-49EA-80BA-9B2C0A063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&#22833;&#26023;&#30097;&#37051;.DAT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9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1828800" y="1066680"/>
            <a:ext cx="53341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寓言四则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27360" y="583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00400" y="6094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寓    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28954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赫耳墨斯和雕像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143000" y="44197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蚊子和狮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05"/>
          <p:cNvPicPr/>
          <p:nvPr/>
        </p:nvPicPr>
        <p:blipFill>
          <a:blip r:embed="rId1"/>
          <a:stretch/>
        </p:blipFill>
        <p:spPr>
          <a:xfrm>
            <a:off x="380880" y="380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ird14.gif (1018 bytes)"/>
          <p:cNvPicPr/>
          <p:nvPr/>
        </p:nvPicPr>
        <p:blipFill>
          <a:blip r:embed="rId2"/>
          <a:stretch/>
        </p:blipFill>
        <p:spPr>
          <a:xfrm>
            <a:off x="685800" y="53352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神使赫尔墨斯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248520" y="34290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8-18-0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28600" y="21337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他为什么挑了宙斯和赫拉的雕像来问价，请说出他此刻的心理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6440" y="173160"/>
            <a:ext cx="87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赫耳墨斯为什么来到凡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838080"/>
            <a:ext cx="862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因为想赫耳墨斯知道他在人间受到多大的尊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52280" y="3505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28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26"/>
          <p:cNvSpPr/>
          <p:nvPr/>
        </p:nvSpPr>
        <p:spPr>
          <a:xfrm>
            <a:off x="228600" y="259092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一个简单的“笑”，传神地写出了赫耳墨斯微妙的内心世界：嘲笑宙斯雕像价格低，讥笑赫拉不如宙斯，暗想商人会把自己的身价抬得很高，这正是他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虚荣心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的具体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27"/>
          <p:cNvSpPr/>
          <p:nvPr/>
        </p:nvSpPr>
        <p:spPr>
          <a:xfrm>
            <a:off x="228600" y="380880"/>
            <a:ext cx="855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墨斯三次问话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神态、语气一样吗？为什么要“笑着问道”，这“笑”有什么含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3049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赫耳墨斯和雕像者 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438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笑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600200" y="52578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爱慕虚荣而不被重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4191120" y="3276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847800" y="1447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情节发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舒体"/>
              </a:rPr>
              <a:t>这样改动情节后寓意有没有变化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方正舒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舒体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方正舒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1600200"/>
            <a:ext cx="83822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  <a:ea typeface="楷体_GB2312"/>
              </a:rPr>
              <a:t>赫耳墨斯和雕像者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赫耳墨斯想知道他在人间受到多大尊重，就化作凡人，来到一个雕像者的店里。他看见宙斯的雕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像，问道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值多少钱</a:t>
            </a:r>
            <a:r>
              <a:rPr b="1" lang="en-US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雕像者说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一个银元。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耳墨斯又笑着问道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拉的雕像值多少钱</a:t>
            </a:r>
            <a:r>
              <a:rPr b="1" lang="en-US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雕像者说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还要贵一点。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耳墨斯听后，默不作声，悄然离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明确：</a:t>
            </a:r>
            <a:r>
              <a:rPr b="1" lang="zh-CN" sz="2800" spc="-1" strike="noStrike">
                <a:solidFill>
                  <a:srgbClr val="008080"/>
                </a:solidFill>
                <a:latin typeface="宋体"/>
                <a:ea typeface="华文隶书"/>
              </a:rPr>
              <a:t>原文刻画了一个盲目自高自大者的形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BD14981_"/>
          <p:cNvPicPr/>
          <p:nvPr/>
        </p:nvPicPr>
        <p:blipFill>
          <a:blip r:embed="rId2"/>
          <a:stretch/>
        </p:blipFill>
        <p:spPr>
          <a:xfrm>
            <a:off x="8305920" y="6114960"/>
            <a:ext cx="53316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29-18-0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二、分析情节、概括寓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05"/>
          <p:cNvPicPr/>
          <p:nvPr/>
        </p:nvPicPr>
        <p:blipFill>
          <a:blip r:embed="rId1"/>
          <a:stretch/>
        </p:blipFill>
        <p:spPr>
          <a:xfrm>
            <a:off x="6172200" y="4071960"/>
            <a:ext cx="297180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bird14.gif (1018 bytes)"/>
          <p:cNvPicPr/>
          <p:nvPr/>
        </p:nvPicPr>
        <p:blipFill>
          <a:blip r:embed="rId2"/>
          <a:stretch/>
        </p:blipFill>
        <p:spPr>
          <a:xfrm>
            <a:off x="6858000" y="510552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5"/>
          <p:cNvPicPr/>
          <p:nvPr/>
        </p:nvPicPr>
        <p:blipFill>
          <a:blip r:embed="rId3"/>
          <a:stretch/>
        </p:blipFill>
        <p:spPr>
          <a:xfrm>
            <a:off x="1676520" y="23623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38080" y="604800"/>
            <a:ext cx="624852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学习指导二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蚊子和狮子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蚊子为什么能打败狮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蚊子为什么会败给蜘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点明寓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934320" y="1371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智者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086600" y="32004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者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9920" y="5029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兵必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0200" y="457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蚊子和狮子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22096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：冲、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2004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229640" y="167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扬长避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419720" y="2590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6019920" y="22860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狮子：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42680" y="3733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：吹、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229640" y="3352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骄傲自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4495680" y="43434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019920" y="3886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蜘蛛：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209680" y="525780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骄兵必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4191120" y="259092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4267080" y="4267080"/>
            <a:ext cx="1524240" cy="15264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28" descr="z268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26"/>
          <p:cNvSpPr/>
          <p:nvPr/>
        </p:nvSpPr>
        <p:spPr>
          <a:xfrm>
            <a:off x="228600" y="457200"/>
            <a:ext cx="846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寓言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是文学作品的一种体裁，是带有讽喻或讽刺的故事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篇幅大都简短，主人公可以是人，可以是拟人化的生物或非生物，主题多是借此喻彼，借远喻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借古喻今，借小喻大，使深奥的道理从简单的故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体现出来，具有鲜明的哲理性和讽刺性。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写法上常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运用夸张和拟人等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    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寓言早在我国春秋战国时代就已经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诸子百家著作中都有不少寓言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流传下来。外国寓言作品，著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有古代希腊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伊索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990099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法国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拉封丹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俄国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克雷洛夫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2993760" y="228600"/>
            <a:ext cx="27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和狮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52480" y="1143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蚊子径直朝狮子飞过去，趁狮子没有准备，张嘴就咬，而且专咬狮子鼻子周围没毛的地方。狮子气得用爪子把自己的脸都抓破了，也没抓到蚊子。蚊子战胜了狮子，就吹着喇叭，唱着凯歌飞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59436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这样改动情节后寓意有没有变化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4920" y="380880"/>
            <a:ext cx="83055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拓展思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续编寓言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赫耳墨斯听到自己的雕像作为添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后，他的心情如何？他说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蚊子战胜狮子，吹着喇叭、吹着凯歌飞走，却被蜘蛛网粘住了，以后还会发生什么故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096920" y="3056040"/>
            <a:ext cx="6950160" cy="747720"/>
            <a:chOff x="1096920" y="3056040"/>
            <a:chExt cx="6950160" cy="747720"/>
          </a:xfrm>
        </p:grpSpPr>
        <p:sp>
          <p:nvSpPr>
            <p:cNvPr id="168" name="Rectangle 3"/>
            <p:cNvSpPr/>
            <p:nvPr/>
          </p:nvSpPr>
          <p:spPr>
            <a:xfrm>
              <a:off x="1096920" y="305604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096920" y="3056040"/>
              <a:ext cx="695016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1096920" y="2917800"/>
            <a:ext cx="6950160" cy="1022400"/>
            <a:chOff x="1096920" y="2917800"/>
            <a:chExt cx="6950160" cy="1022400"/>
          </a:xfrm>
        </p:grpSpPr>
        <p:sp>
          <p:nvSpPr>
            <p:cNvPr id="171" name="Rectangle 7"/>
            <p:cNvSpPr/>
            <p:nvPr/>
          </p:nvSpPr>
          <p:spPr>
            <a:xfrm>
              <a:off x="1096920" y="291780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096920" y="2917800"/>
              <a:ext cx="695016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11" descr="Mu9j6cl8.gif (5006 字节)"/>
          <p:cNvPicPr/>
          <p:nvPr/>
        </p:nvPicPr>
        <p:blipFill>
          <a:blip r:embed="rId1"/>
          <a:stretch/>
        </p:blipFill>
        <p:spPr>
          <a:xfrm>
            <a:off x="7124760" y="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book3"/>
          <p:cNvPicPr/>
          <p:nvPr/>
        </p:nvPicPr>
        <p:blipFill>
          <a:blip r:embed="rId2"/>
          <a:stretch/>
        </p:blipFill>
        <p:spPr>
          <a:xfrm>
            <a:off x="7086600" y="5657760"/>
            <a:ext cx="205740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01-01-004-03.gif (13904 字节)"/>
          <p:cNvPicPr/>
          <p:nvPr/>
        </p:nvPicPr>
        <p:blipFill>
          <a:blip r:embed="rId3"/>
          <a:stretch/>
        </p:blipFill>
        <p:spPr>
          <a:xfrm>
            <a:off x="0" y="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M_042"/>
          <p:cNvPicPr/>
          <p:nvPr/>
        </p:nvPicPr>
        <p:blipFill>
          <a:blip r:embed="rId1"/>
          <a:stretch/>
        </p:blipFill>
        <p:spPr>
          <a:xfrm>
            <a:off x="304920" y="2286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A2_099"/>
          <p:cNvPicPr/>
          <p:nvPr/>
        </p:nvPicPr>
        <p:blipFill>
          <a:blip r:embed="rId2"/>
          <a:stretch/>
        </p:blipFill>
        <p:spPr>
          <a:xfrm>
            <a:off x="0" y="3187800"/>
            <a:ext cx="3733920" cy="367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A1_287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4382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657600" y="20574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0" y="4952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191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任何时候都要谦虚谨慎，只有保持清醒的头脑，才能永远立于不败之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62120" y="68580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伊索寓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72880" y="15112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蚊子撞到蜘蛛网上，一动也不能动。它有战胜狮子的经历，而今要死在蜘蛛的手里，真是难过极了，懊悔极了。它懊悔自己战胜狮子以后太得意忘形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时，蜘蛛一步步向蚊子爬了过来，张开大嘴，蚊子闭上眼睛等待着那可怕的时候。就在这时，从那棵高大的松树上掉下一滴松脂，不偏不倚正好落在蜘蛛身上，顷刻，蜘蛛就被松脂包住了，再也动弹不得。由于松脂的重量，蜘蛛网被拉破了，蚊子也因此得救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06956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异向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62120" y="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自编寓言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018.gif (16684 字节)"/>
          <p:cNvPicPr/>
          <p:nvPr/>
        </p:nvPicPr>
        <p:blipFill>
          <a:blip r:embed="rId1"/>
          <a:stretch/>
        </p:blipFill>
        <p:spPr>
          <a:xfrm>
            <a:off x="533520" y="4211640"/>
            <a:ext cx="2646360" cy="264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1"/>
          <p:cNvPicPr/>
          <p:nvPr/>
        </p:nvPicPr>
        <p:blipFill>
          <a:blip r:embed="rId2"/>
          <a:stretch/>
        </p:blipFill>
        <p:spPr>
          <a:xfrm>
            <a:off x="335268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99072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嘴和眼睛的对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57200" y="1219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提示：情节要合理具体，情节与寓意要一致，寓意能揭示一种生活道理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14480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树和斧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gj4"/>
          <p:cNvPicPr/>
          <p:nvPr/>
        </p:nvPicPr>
        <p:blipFill>
          <a:blip r:embed="rId1"/>
          <a:stretch/>
        </p:blipFill>
        <p:spPr>
          <a:xfrm>
            <a:off x="4724280" y="2819520"/>
            <a:ext cx="3886200" cy="2657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tree"/>
          <p:cNvPicPr/>
          <p:nvPr/>
        </p:nvPicPr>
        <p:blipFill>
          <a:blip r:embed="rId2"/>
          <a:stretch/>
        </p:blipFill>
        <p:spPr>
          <a:xfrm>
            <a:off x="838080" y="1219320"/>
            <a:ext cx="4391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01-09-011-10.gif (4488 字节)"/>
          <p:cNvPicPr/>
          <p:nvPr/>
        </p:nvPicPr>
        <p:blipFill>
          <a:blip r:embed="rId1"/>
          <a:stretch/>
        </p:blipFill>
        <p:spPr>
          <a:xfrm>
            <a:off x="6172200" y="380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85800" y="609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笔和颜料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34290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蜜蜂与花朵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144800" y="762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猫和老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08"/>
          <p:cNvPicPr/>
          <p:nvPr/>
        </p:nvPicPr>
        <p:blipFill>
          <a:blip r:embed="rId1"/>
          <a:stretch/>
        </p:blipFill>
        <p:spPr>
          <a:xfrm>
            <a:off x="5791320" y="685800"/>
            <a:ext cx="290340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at056.gif (19003 字节)"/>
          <p:cNvPicPr/>
          <p:nvPr/>
        </p:nvPicPr>
        <p:blipFill>
          <a:blip r:embed="rId2"/>
          <a:stretch/>
        </p:blipFill>
        <p:spPr>
          <a:xfrm>
            <a:off x="0" y="304812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0948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1096920" y="2664000"/>
            <a:ext cx="6950160" cy="1509480"/>
            <a:chOff x="1096920" y="2664000"/>
            <a:chExt cx="6950160" cy="1509480"/>
          </a:xfrm>
        </p:grpSpPr>
        <p:sp>
          <p:nvSpPr>
            <p:cNvPr id="203" name="Rectangle 3"/>
            <p:cNvSpPr/>
            <p:nvPr/>
          </p:nvSpPr>
          <p:spPr>
            <a:xfrm>
              <a:off x="1096920" y="2664000"/>
              <a:ext cx="6950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1096920" y="2664000"/>
              <a:ext cx="695016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Picture 5" descr="01-14-002-03"/>
          <p:cNvPicPr/>
          <p:nvPr/>
        </p:nvPicPr>
        <p:blipFill>
          <a:blip r:embed="rId1"/>
          <a:stretch/>
        </p:blipFill>
        <p:spPr>
          <a:xfrm>
            <a:off x="6172200" y="1371600"/>
            <a:ext cx="1336680" cy="1486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0"/>
          <p:cNvGrpSpPr/>
          <p:nvPr/>
        </p:nvGrpSpPr>
        <p:grpSpPr>
          <a:xfrm>
            <a:off x="1096920" y="2778120"/>
            <a:ext cx="6950160" cy="1295280"/>
            <a:chOff x="1096920" y="2778120"/>
            <a:chExt cx="6950160" cy="1295280"/>
          </a:xfrm>
        </p:grpSpPr>
        <p:sp>
          <p:nvSpPr>
            <p:cNvPr id="207" name="Rectangle 7"/>
            <p:cNvSpPr/>
            <p:nvPr/>
          </p:nvSpPr>
          <p:spPr>
            <a:xfrm>
              <a:off x="1096920" y="277812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096920" y="2778120"/>
              <a:ext cx="69501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9" descr="01-14-003-16"/>
          <p:cNvPicPr/>
          <p:nvPr/>
        </p:nvPicPr>
        <p:blipFill>
          <a:blip r:embed="rId2"/>
          <a:stretch/>
        </p:blipFill>
        <p:spPr>
          <a:xfrm>
            <a:off x="914400" y="3962520"/>
            <a:ext cx="2057400" cy="201744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1096920" y="2955960"/>
            <a:ext cx="6950160" cy="946080"/>
            <a:chOff x="1096920" y="2955960"/>
            <a:chExt cx="6950160" cy="946080"/>
          </a:xfrm>
        </p:grpSpPr>
        <p:sp>
          <p:nvSpPr>
            <p:cNvPr id="211" name="Rectangle 11"/>
            <p:cNvSpPr/>
            <p:nvPr/>
          </p:nvSpPr>
          <p:spPr>
            <a:xfrm>
              <a:off x="1096920" y="295596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>
              <a:off x="1096920" y="2955960"/>
              <a:ext cx="69501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Picture 13" descr="01-14-004-28"/>
          <p:cNvPicPr/>
          <p:nvPr/>
        </p:nvPicPr>
        <p:blipFill>
          <a:blip r:embed="rId3"/>
          <a:stretch/>
        </p:blipFill>
        <p:spPr>
          <a:xfrm>
            <a:off x="5943600" y="3886200"/>
            <a:ext cx="1828800" cy="17845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8"/>
          <p:cNvGrpSpPr/>
          <p:nvPr/>
        </p:nvGrpSpPr>
        <p:grpSpPr>
          <a:xfrm>
            <a:off x="1096920" y="3108240"/>
            <a:ext cx="6950160" cy="641520"/>
            <a:chOff x="1096920" y="3108240"/>
            <a:chExt cx="6950160" cy="641520"/>
          </a:xfrm>
        </p:grpSpPr>
        <p:sp>
          <p:nvSpPr>
            <p:cNvPr id="215" name="Rectangle 15"/>
            <p:cNvSpPr/>
            <p:nvPr/>
          </p:nvSpPr>
          <p:spPr>
            <a:xfrm>
              <a:off x="1096920" y="310824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1096920" y="3108240"/>
              <a:ext cx="695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Picture 17" descr="01-14-005-02"/>
          <p:cNvPicPr/>
          <p:nvPr/>
        </p:nvPicPr>
        <p:blipFill>
          <a:blip r:embed="rId4"/>
          <a:stretch/>
        </p:blipFill>
        <p:spPr>
          <a:xfrm>
            <a:off x="1066680" y="9144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9"/>
          <p:cNvSpPr/>
          <p:nvPr/>
        </p:nvSpPr>
        <p:spPr>
          <a:xfrm>
            <a:off x="2743200" y="3048120"/>
            <a:ext cx="37339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囱和浓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11844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韩非（约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80—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33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），战国末期韩国人，著名思想家。他出身贵族，屡次上书韩王进谏，改革政治，实行富国强兵的政策，都未被采纳。后来，他得到秦始皇的赏识，在秦国任客卿。不久便被他的同学李斯等人谗言所陷，下狱后被迫自杀，死时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47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岁。他著有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韩非子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一书，共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卷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5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篇。笔锋犀利，说理透辟，常用寓言故事阐明事理，富有说服力。其中许多寓言故事流传于世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智子疑邻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就是其中的一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76720" y="3049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介绍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 rot="5400000">
            <a:off x="-1200240" y="2800080"/>
            <a:ext cx="4495680" cy="7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寓言的特点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8400" y="914400"/>
            <a:ext cx="1277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寓”是“寄托”的意思。寓言，通常是把深刻的道理寓于简单的故事之中，借此喻彼，借小喻大，借古喻今，惯于运用拟人的手法，语言简洁锋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9144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隶书"/>
              </a:rPr>
              <a:t>一、劝喻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76520" y="27432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隶书"/>
              </a:rPr>
              <a:t>二、讽谏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19810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宋国有个富人，因天下大雨，墙坍塌下来。他的儿子说：“如果不（赶紧）修筑它，一定会有盗贼进来。”隔壁的老人也这么说。（可是富人不听他们的话）这天晚上果然丢失了大量的财物，这家人很赞赏儿子聪明，却怀疑偷盗是隔壁那个老人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3048120" y="228600"/>
            <a:ext cx="26668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译文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5800" y="914400"/>
            <a:ext cx="1652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智子疑邻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284040"/>
            <a:ext cx="80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智子疑邻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中开头写故事发生的背景，起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" y="1752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故事发生的地点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被盗的原因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天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导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墙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墙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又为盗窃者提供了自由进出的条件。由此引出身份不同的两个人对这件事的相同看法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筑，必将有盗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是故事的要害处，因为故事的主旨不在于说明人的先见，而在于说明持相同看法的人却因身份不同（即与主人的亲疏关系不同）遭到不同对待。因此，待到预见成为事实，那富人便夸说自己的儿子聪明，而怀疑偷盗是邻父干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066680" y="1523880"/>
            <a:ext cx="70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则寓言要说明一个什么道理？对正确的意见应采取怎样的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533520" y="342900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听意见只应听正确的，而不要看这意见是什么人提出，对人不能持偏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16360" y="833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5塞翁失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7"/>
          <p:cNvSpPr txBox="1"/>
          <p:nvPr/>
        </p:nvSpPr>
        <p:spPr>
          <a:xfrm>
            <a:off x="5334120" y="3429000"/>
            <a:ext cx="342900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塞翁失马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7124040" y="5638680"/>
            <a:ext cx="15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淮南子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838080" y="1236600"/>
            <a:ext cx="72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塞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马无故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入胡。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皆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何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福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数月，其马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胡骏马而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皆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何遽不能为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89520" y="179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481640" y="1793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擅长、精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5181480" y="457200"/>
            <a:ext cx="2743200" cy="762120"/>
          </a:xfrm>
          <a:prstGeom prst="wedgeEllipseCallout">
            <a:avLst>
              <a:gd name="adj1" fmla="val -43226"/>
              <a:gd name="adj2" fmla="val 6395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5930640" y="6174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216200" y="17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逃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816640" y="2760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3387960" y="27860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安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692316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怎么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518200" y="3643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疑问语气词，吗、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403240" y="3613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带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162600" y="465624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代词，指塞翁，译成“他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1745640" y="172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靠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838080" y="99072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富良马，其子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骑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折其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皆吊之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何遽不为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年，胡人大入塞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丁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引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战。近塞之人，死者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十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独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父子相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092120" y="1471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750360" y="347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壮年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416240" y="4387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拉开弓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216840" y="451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十分之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577520" y="560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511720" y="5586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4637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摔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187000" y="34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700160" y="5586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保全（性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17240" y="5576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花朵1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457200" y="6094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塞翁失马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靠近长城一带的人们中，有一个精通术数的人。（一天）他家的马不知什么缘故逃到胡人那边去了，人们都来安慰他，他却说：“这难道不是福气吗？”过了几个月，他的那匹马（竟然）带领一群胡人的骏马回来了。人们都去祝贺他，他却说：“这难道不是祸害吗？”家里有的是好马，他儿子喜欢骑着玩，（有一天）从马上摔下来，摔断了大腿。人们都来安慰他，他却说：“这难道不是福气吗？”过了一年，胡人大举进攻，进了长城，壮年男子都拿起武器作战。靠近长城一带的人，绝大多数都战死沙场。他儿子就因为腿瘸的缘故（没有被征去打仗），父子得以保全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587680" y="5126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翁失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我们一个什么哲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17144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要说明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祸兮福所倚，福兮祸所伏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老子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58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章）这两句话的，阐述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祸与福的对立统一关系：事情的好坏可以转化，要辨证地看待事物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成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塞翁失马，焉知非福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就来自这个故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247920" y="304812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翁失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你认为好事一定可以变坏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3733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好事变坏事或坏事变好事，都是要在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定的条件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下。如，家庭突遭打击，变故，陷入困境，这是祸，但如果能从容、镇静，在困境中拼搏、奋起，那么，这又不失为一种宝贵的精神财富。当然，在困境中一蹶不振，丧失信心，甚至失去生活勇气，那么，这祸就只能是祸了。所以，要注意把握好转化的点、条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96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04920" y="1447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宋体"/>
                <a:ea typeface="方正舒体"/>
              </a:rPr>
              <a:t>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伊索，公元前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6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世纪的希腊寓言家。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他原是萨摩斯岛雅德蒙家的奴隶，后来被德尔斐人杀害。他死后德尔斐流行瘟疫，德尔斐人出钱赔偿他的生命，这笔钱被老雅德蒙的同名孙子领去。传说雅德蒙给他自由以后，他经常出入吕底亚国王克洛伊索斯的宫廷。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13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世纪发现的一部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伊索传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的抄本中，他被描绘得丑陋不堪，从这部传记产生了很多有关他的流行故事。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49568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元前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世纪末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伊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这个名字已为希腊人所熟知，希腊寓言开始都归在他的名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838080" y="38088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伊索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96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228600" y="2133720"/>
            <a:ext cx="862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伊索寓言</a:t>
            </a: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大多是动物的故事，以动物寓人。伊索寓言形式短小精悍，比喻恰当，形象生动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WordArt 3" descr=""/>
          <p:cNvPicPr/>
          <p:nvPr/>
        </p:nvPicPr>
        <p:blipFill>
          <a:blip r:embed="rId2"/>
          <a:stretch/>
        </p:blipFill>
        <p:spPr>
          <a:xfrm>
            <a:off x="146160" y="603360"/>
            <a:ext cx="443232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9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6" descr="宙斯"/>
          <p:cNvPicPr/>
          <p:nvPr/>
        </p:nvPicPr>
        <p:blipFill>
          <a:blip r:embed="rId2"/>
          <a:stretch/>
        </p:blipFill>
        <p:spPr>
          <a:xfrm>
            <a:off x="0" y="0"/>
            <a:ext cx="2473200" cy="5334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7"/>
          <p:cNvSpPr/>
          <p:nvPr/>
        </p:nvSpPr>
        <p:spPr>
          <a:xfrm>
            <a:off x="304920" y="533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宙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2514600" y="1522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宙斯是希腊神话中众神之王。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希腊神话说他居住在奥林匹斯山，以雷电为武器，维持着天地间的秩序，公牛和鹰是他的标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他的兄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波士顿和哈德斯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分别掌管海洋和地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宙斯还和许多女神生下了不少儿女，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火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赫费斯托、正义和艺术的保护者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太阳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波罗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月神和狩猎之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尔迪美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旅行和商业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赫尔墨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美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芙洛神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战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雷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智慧之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雅典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pic-pandola"/>
          <p:cNvPicPr/>
          <p:nvPr/>
        </p:nvPicPr>
        <p:blipFill>
          <a:blip r:embed="rId2"/>
          <a:stretch/>
        </p:blipFill>
        <p:spPr>
          <a:xfrm>
            <a:off x="0" y="0"/>
            <a:ext cx="3421080" cy="556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080" y="5562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赫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05320" y="457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赫拉是希腊神话中的天后，主神宙斯的妻子。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罗马神话中称为朱诺，掌管婚姻和生育，是妇女的保护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神使赫尔墨斯"/>
          <p:cNvPicPr/>
          <p:nvPr/>
        </p:nvPicPr>
        <p:blipFill>
          <a:blip r:embed="rId2"/>
          <a:stretch/>
        </p:blipFill>
        <p:spPr>
          <a:xfrm>
            <a:off x="0" y="0"/>
            <a:ext cx="308628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04920" y="495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赫耳墨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52680" y="228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赫尔墨斯，一译海尔梅斯，是希腊神话中众神的使者，亡灵的接引神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罗马神话中称为墨丘利，掌管商业、交通、牧畜、竞技、演说以及欺诈、盗窃。他行走如飞，多才多艺，传说首创字母、数字、天文学、体育运动，发明古代的竖琴，并把种植橄榄树的技术传给人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9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6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0"/>
            <a:ext cx="2949480" cy="525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27"/>
          <p:cNvSpPr/>
          <p:nvPr/>
        </p:nvSpPr>
        <p:spPr>
          <a:xfrm>
            <a:off x="533520" y="5257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雅典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2286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隶书"/>
              </a:rPr>
              <a:t>智慧女神雅典娜的诞生是最为奇特的：传说她是从宙斯的头脑里长出来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5:59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