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9E2-7161-425B-87B8-0974194D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9AE-3F79-4D1C-836E-9D0263C4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622-7A49-4BC1-BB9F-E447BFB6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3FA-483F-474A-A182-21FBE8BE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55BA-9C9E-455B-BD23-B3AB2486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ED5-C1AD-4F62-9FCF-5A24A63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D2AC-A417-4BCE-AD76-74532618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903-7CF7-4573-8D92-08EA46F2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419C-6BE7-451A-A459-0225E839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4BAA-586E-49CA-B8FD-D98780C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F68-3815-4BB9-9BDC-AE2A981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361-0D8A-4E56-91C2-FC20E61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187E-3EAC-46A2-A198-E430A9D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BFC-1487-4F21-AA19-BE2DA0A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63B2-40C6-4467-B5B2-24614CC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C34-2095-461B-BE98-CAB3153F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462-E525-4BC4-A702-84A41243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2A5-5FC9-4B8E-8BA7-AA8514B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26B-55E3-4EAB-BB35-CDCFA38A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720-7BD7-400C-8181-68537FBD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18B-9D68-495F-BBA6-D3AE070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9CD-4A27-4365-B1B1-ABD6298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6A5-4E3B-45E2-8FF5-9BFA4DD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D90-AA8B-497C-B235-8A74424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973-EEE6-4378-B902-2F8C96D9E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1C01-E2BF-4195-A355-B091CCE2F1A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B59-8437-4747-9F96-6E5D0042F68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yzzl_zhou.wav" TargetMode="External"/><Relationship Id="rId4" Type="http://schemas.openxmlformats.org/officeDocument/2006/relationships/hyperlink" Target="yzzl_bin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990720" y="14176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自读课文，想一想在瑞士春天的燕子发生了什么样的事情？借助拼音认读生字，互相交流识字方法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8" name="Picture 5" descr="燕子专列"/>
          <p:cNvPicPr/>
          <p:nvPr/>
        </p:nvPicPr>
        <p:blipFill>
          <a:blip r:embed="rId3"/>
          <a:srcRect l="0" t="2185" r="0" b="3999"/>
          <a:stretch/>
        </p:blipFill>
        <p:spPr>
          <a:xfrm>
            <a:off x="2921040" y="3048120"/>
            <a:ext cx="287028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6172200" y="380988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燕子专列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581280" y="1523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认 认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3880" y="270684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欧　洲　　瑞　士　　启　发　　特　殊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骤　然　　跋　涉　　濒　临　　覆　盖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　　　　　车　厢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346040" y="2286000"/>
            <a:ext cx="7188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ōu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3"/>
              </a:rPr>
              <a:t>zhōu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   ruì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qǐ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sh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zhòu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  <a:ea typeface="宋体"/>
              </a:rPr>
              <a:t>á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shè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4"/>
              </a:rPr>
              <a:t>bīn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fù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　　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xiān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g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581280" y="1523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写 写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76520" y="2209680"/>
            <a:ext cx="60958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州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洲　　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殊　　聚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骤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政　　栽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载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676520" y="4049640"/>
            <a:ext cx="60958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瑞 士　　救 命　　舒 适　　启 发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跋 涉　　疲 倦　　踏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219320" y="13716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正确、流利、有感情地朗读课文，想一想：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19320" y="19209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燕子冬去春来，能长途飞行，为什么还要用列车专送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19320" y="297180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课文中“能够做出这个决定真了不起”，“这个决定”是什么？为什么说“做出这个决定真了不起”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瑞士的居民在这件事中是怎样做的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●课文主要传达了一种怎样的感情，你是从哪些句子体会到的？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小学语文(记叙文）04"/>
          <p:cNvPicPr/>
          <p:nvPr/>
        </p:nvPicPr>
        <p:blipFill>
          <a:blip r:embed="rId2"/>
          <a:stretch/>
        </p:blipFill>
        <p:spPr>
          <a:xfrm>
            <a:off x="1143000" y="917640"/>
            <a:ext cx="207972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581280" y="1371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悟 悟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219320" y="19098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）听到消息后，居民们纷纷走出家门，冒着料峭的春寒，顶着满天飞舞的大雪，踏着冻得坚硬的山路，四处寻找冻僵的燕子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219320" y="355140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）一天下来，她一个人就救护了十几只燕子。她的脸冻得通红，手冻得僵硬，但她一点也不在乎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19320" y="51516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读读这两个句子，说说你从中体会到什么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914400" y="190512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你想对贝蒂说几句话吗？把你想说的写下来吧！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14400" y="358452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搜集相关的人类保护鸟类的资料，举办一个以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保护鸟类，爱护鸟类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为主题的活动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保护鸟类"/>
          <p:cNvPicPr/>
          <p:nvPr/>
        </p:nvPicPr>
        <p:blipFill>
          <a:blip r:embed="rId3"/>
          <a:stretch/>
        </p:blipFill>
        <p:spPr>
          <a:xfrm>
            <a:off x="1600200" y="1712880"/>
            <a:ext cx="6000840" cy="369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4175280" y="56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保护鸟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鸟类01"/>
          <p:cNvPicPr/>
          <p:nvPr/>
        </p:nvPicPr>
        <p:blipFill>
          <a:blip r:embed="rId3"/>
          <a:stretch/>
        </p:blipFill>
        <p:spPr>
          <a:xfrm>
            <a:off x="2438280" y="1641600"/>
            <a:ext cx="4591080" cy="4236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鸟类02"/>
          <p:cNvPicPr/>
          <p:nvPr/>
        </p:nvPicPr>
        <p:blipFill>
          <a:blip r:embed="rId3"/>
          <a:stretch/>
        </p:blipFill>
        <p:spPr>
          <a:xfrm>
            <a:off x="1523880" y="1719360"/>
            <a:ext cx="6172200" cy="40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鸟类03"/>
          <p:cNvPicPr/>
          <p:nvPr/>
        </p:nvPicPr>
        <p:blipFill>
          <a:blip r:embed="rId3"/>
          <a:stretch/>
        </p:blipFill>
        <p:spPr>
          <a:xfrm>
            <a:off x="1905120" y="1569960"/>
            <a:ext cx="5410080" cy="4373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欧洲"/>
          <p:cNvPicPr/>
          <p:nvPr/>
        </p:nvPicPr>
        <p:blipFill>
          <a:blip r:embed="rId3"/>
          <a:srcRect l="0" t="8370" r="0" b="0"/>
          <a:stretch/>
        </p:blipFill>
        <p:spPr>
          <a:xfrm>
            <a:off x="2362320" y="1523880"/>
            <a:ext cx="4351320" cy="4986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欧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洲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943600" y="1219320"/>
            <a:ext cx="2514600" cy="1295280"/>
          </a:xfrm>
          <a:prstGeom prst="cloudCallout">
            <a:avLst>
              <a:gd name="adj1" fmla="val -43180"/>
              <a:gd name="adj2" fmla="val 73527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你知道瑞士吗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鸟类04"/>
          <p:cNvPicPr/>
          <p:nvPr/>
        </p:nvPicPr>
        <p:blipFill>
          <a:blip r:embed="rId3"/>
          <a:stretch/>
        </p:blipFill>
        <p:spPr>
          <a:xfrm>
            <a:off x="2133720" y="1752480"/>
            <a:ext cx="5321160" cy="3980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瑞士"/>
          <p:cNvPicPr/>
          <p:nvPr/>
        </p:nvPicPr>
        <p:blipFill>
          <a:blip r:embed="rId3"/>
          <a:stretch/>
        </p:blipFill>
        <p:spPr>
          <a:xfrm>
            <a:off x="1371600" y="1523880"/>
            <a:ext cx="6400800" cy="4540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038480" y="6019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90720" y="1568520"/>
            <a:ext cx="7407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　　瑞士位于欧洲中部，与法国、德国、奥地利、意大利和列支敦斯登接壤。瑞士成立于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291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年，由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26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个州组成，是一个民主的联邦立宪制国家，首都设在伯尔尼。瑞士联邦各州都拥有较大的自主权。瑞士国土面积不大，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41,284.6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平方公里，南北最大跨度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22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公里，东西之间最大的距离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348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公里。 瑞士总人口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7,096,50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，其中外来人员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,348,00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（占全国人口总人数的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9%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）。瑞士的官方语言有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种：德语、法语、意大利语和罗曼语。 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瑞士军刀"/>
          <p:cNvPicPr/>
          <p:nvPr/>
        </p:nvPicPr>
        <p:blipFill>
          <a:blip r:embed="rId3"/>
          <a:srcRect l="4241" t="1932" r="2741" b="1533"/>
          <a:stretch/>
        </p:blipFill>
        <p:spPr>
          <a:xfrm>
            <a:off x="2514600" y="1600200"/>
            <a:ext cx="3352680" cy="4781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6400800" y="30481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士军刀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27"/>
          <p:cNvSpPr/>
          <p:nvPr/>
        </p:nvSpPr>
        <p:spPr>
          <a:xfrm>
            <a:off x="3886200" y="571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士手表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6" name="Picture 1028" descr="瑞士手表"/>
          <p:cNvPicPr/>
          <p:nvPr/>
        </p:nvPicPr>
        <p:blipFill>
          <a:blip r:embed="rId3"/>
          <a:stretch/>
        </p:blipFill>
        <p:spPr>
          <a:xfrm>
            <a:off x="1752480" y="1673280"/>
            <a:ext cx="5600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瑞士01"/>
          <p:cNvPicPr/>
          <p:nvPr/>
        </p:nvPicPr>
        <p:blipFill>
          <a:blip r:embed="rId3"/>
          <a:srcRect l="2752" t="5699" r="5191" b="8981"/>
          <a:stretch/>
        </p:blipFill>
        <p:spPr>
          <a:xfrm>
            <a:off x="2057400" y="1828800"/>
            <a:ext cx="510552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62520" y="556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962520" y="556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2" name="Picture 5" descr="瑞士02"/>
          <p:cNvPicPr/>
          <p:nvPr/>
        </p:nvPicPr>
        <p:blipFill>
          <a:blip r:embed="rId3"/>
          <a:srcRect l="2954" t="2160" r="4239" b="6776"/>
          <a:stretch/>
        </p:blipFill>
        <p:spPr>
          <a:xfrm>
            <a:off x="2133720" y="18288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03848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5" name="Picture 4" descr="瑞士03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0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