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510-F07C-4AB5-8E79-C79F276A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182-3B32-4FD3-BF2C-D1F273BA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F70-BF96-4444-A4AA-2E7C977A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C41-5563-4A8F-88F7-DA07A9A3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B26-21D5-4BB7-8E4C-F052C36B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02A-31A9-4C33-A0B4-EE89AA9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70D-5B27-4D61-B4FC-BB51EA6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89C-4B2E-4E8A-8F5B-F070D50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C4B-60FA-43C5-ABEB-CF6578E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3D5-4CFE-4E90-8A74-4B7230FB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0E3-558E-4664-B8A0-B2455F6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D08-DC37-4082-9410-D360F0EE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784-9502-4F06-9A35-A2429AB4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副本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竹"/>
          <p:cNvPicPr/>
          <p:nvPr/>
        </p:nvPicPr>
        <p:blipFill>
          <a:blip r:embed="rId2"/>
          <a:stretch/>
        </p:blipFill>
        <p:spPr>
          <a:xfrm>
            <a:off x="0" y="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"/>
          <p:cNvGrpSpPr/>
          <p:nvPr/>
        </p:nvGrpSpPr>
        <p:grpSpPr>
          <a:xfrm>
            <a:off x="5651640" y="4653000"/>
            <a:ext cx="3492360" cy="2205000"/>
            <a:chOff x="5651640" y="4653000"/>
            <a:chExt cx="3492360" cy="2205000"/>
          </a:xfrm>
        </p:grpSpPr>
        <p:sp>
          <p:nvSpPr>
            <p:cNvPr id="47" name="矩形 6"/>
            <p:cNvSpPr/>
            <p:nvPr/>
          </p:nvSpPr>
          <p:spPr>
            <a:xfrm>
              <a:off x="7740720" y="616608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3" descr="建筑"/>
            <p:cNvPicPr/>
            <p:nvPr/>
          </p:nvPicPr>
          <p:blipFill>
            <a:blip r:embed="rId17"/>
            <a:srcRect l="61808" t="67851" r="0" b="0"/>
            <a:stretch/>
          </p:blipFill>
          <p:spPr>
            <a:xfrm>
              <a:off x="5651640" y="4653000"/>
              <a:ext cx="3492360" cy="22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yu"/>
          <p:cNvPicPr/>
          <p:nvPr/>
        </p:nvPicPr>
        <p:blipFill>
          <a:blip r:embed="rId18"/>
          <a:srcRect l="51581" t="32154" r="0" b="0"/>
          <a:stretch/>
        </p:blipFill>
        <p:spPr>
          <a:xfrm>
            <a:off x="2340000" y="333360"/>
            <a:ext cx="3673440" cy="38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551"/>
          <p:cNvPicPr/>
          <p:nvPr/>
        </p:nvPicPr>
        <p:blipFill>
          <a:blip r:embed="rId19"/>
          <a:stretch/>
        </p:blipFill>
        <p:spPr>
          <a:xfrm>
            <a:off x="0" y="439272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15:3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6:36Z</dcterms:modified>
  <cp:revision>2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