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</p:sldIdLst>
  <p:sldSz cx="5759450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36720" y="685440"/>
            <a:ext cx="49845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97ED3EA0-7A3B-4570-8AD0-191DFAB93B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36720" y="685800"/>
            <a:ext cx="498456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53CDA10B-F876-46C0-B568-03804A464C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A6B-AEAA-4BDE-BC40-A602B6AF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7ED-652F-4BB9-B4D3-A17D5EB4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871B2-7AC3-4AAA-9E5A-5247D7F2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05934-56D6-41AE-BD3B-3EA1A666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ECCF1-4C01-4850-9DD8-9D6CF785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AD3D6-E76B-480D-A631-89369FCC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41C19-556C-483F-843D-8644BC2A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B8FC4-D66B-4E09-BD42-40D7C56F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8F658-5993-49C2-ACF3-A1DBDAF9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89E55-6706-49C2-AD64-5B3DDBA4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91DDB-B671-494D-B171-0A116D18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B7479-A54B-4405-BE6B-BD0CDC02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B63-F144-4FE9-9D13-B9C0BA5D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EEA9E-B317-47F0-B414-FB36AFEA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A573F-FBF5-4802-AE34-58AB7DDF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3BC22-92DA-4599-9515-B14C9ECA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B4048-F010-40DC-BCE9-7C2BFC22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C8F3B-5F97-4451-BFAB-95855C3E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CE1E3-D737-47C9-9405-52BF20C4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21CF7-22C6-4BBD-891C-27E40138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DB34B-2AB9-4051-AAA5-862D073A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7C526-3179-480E-8260-60982D06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208A3-657A-4AC0-8DE2-ED0F1995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449-E078-4BEC-B72E-634B70E8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854F7-01FF-4FFF-8669-C38132E9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FC2A5-4E73-4E76-906F-408FF104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DE582-0050-47A1-931B-0A45093D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4269A-7D49-49F8-A074-8E4E62A6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A6CD3-6ACE-4433-AF54-95CF33D2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4D782-1CAB-4CF4-87FB-522D12DB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7EB1F-91A4-4AFF-8FF4-2BD6D7CF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48F30-3F67-4751-8A50-BF6B8B0D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96BAC-5A20-4890-8482-D3A94A62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1B52E-5802-44F2-B482-92F19511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97A3-2134-4E94-A627-A0516791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19647-A55B-4816-B55C-14577735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CA45B-E128-4271-A3AC-6B3B28E5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9199D-FDCE-46D2-8DF6-C00535B5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D0FD0-BAFB-4A0E-85CB-35CA105E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A5A2A-974E-45DE-BE43-AADC18EB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6D158-8D17-4B2B-BB68-505CB5EA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FAD92-D1EB-4CBB-9CD5-D9BC0B31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57054-595A-423E-911A-F29B7582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651B2-092B-4745-952D-FBBD87EC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1ADC1-BE2F-418E-96D4-79677B7D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CD16-D04A-4E4F-8B94-F1AEDE1A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F24D2-D362-4E51-808C-FC63A4AB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237D1-379E-4F66-B6A2-37B754F4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3619A-D214-4AD4-BB09-7282B71B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E2D8D-00FD-468B-B6D7-AA30453B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5714F-26C2-4005-BB66-5EE733EE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62D38-57D5-4B42-AAA5-BDB40D28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F8CF9-8B2C-4AF3-843F-114DE753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2FFB2-DE91-4644-8CA4-D6223071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AE8A1-F965-42A3-9A26-F80EDFDF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894FF-E8A7-4389-9570-B2BF3746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7D1D-8675-4FE0-A64E-FFD3410B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2CDE1-C7F9-47B7-B5E0-861E6D63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19E1A-C21A-4489-A2E2-581F50B0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00B3DB-20D2-4B75-A43D-DAC1D13A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8EAB3-7709-4EAD-B5EA-92FE9D5E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B6073-EAE7-426B-8014-8B620A6B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61C0C-E8E2-4171-A507-6411716F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36EF1-ADFC-4274-931B-DBE08998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FEB9-8BAF-4FCC-BEA5-3A193868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0CDD-6C8C-45B9-8635-54500406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8E0B-D9AF-44C6-B04C-D4E8BD34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0655-36DD-4841-AC79-55CA04D3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C63-D072-4B84-9B5C-ADEE0EF6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3A23-5326-4FDD-96FA-01C8725B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D384-C65D-49E3-8037-9DBF72BE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0CA4-2A9B-4C4D-B149-C30C7E46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B8C6-C138-40C1-AD5B-6FDF2C05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8951-551D-4C80-A6AC-0A71CC6B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B27E-DF65-4454-B071-B208587A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66497-5C2A-47FF-BBD8-CC639AF4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FC79D-4FF2-4F76-BC3D-8B60DC42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768FC-13B1-40C0-869D-D0E0843F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C0CB0-1557-4A13-AFF6-2267C990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F56-3298-4AC4-B320-6573B6BF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EDB97-11C1-4B91-AB52-C9179D50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EC84C-8283-4FCE-B0BE-1F6B16CB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85B59-C833-4D85-8F47-AF093D5F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41084-F385-4898-B6C7-81E384DD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C166D-A12C-4914-B013-9BC361EF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A7274-E3FE-4A7F-AE4E-A6C1482A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E15AE-ED3D-46C1-8469-27915DC5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0EA83-4ED9-494A-9613-2F7B0F1B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A236A-9C57-46F4-8B95-0BF94CDC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C270C-F23A-431E-A691-AA962B9B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04A-2C2B-4A63-91A8-EE3389FD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9A381-4B18-4B75-8B7E-314F3B69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43590-AB08-497C-8454-5D9DC50B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9EA78-830A-42C3-AFCB-8EDF6851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0E25E-CEE5-45D6-B1F7-4499C7C8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B5147-22F8-41A7-AD06-87622A6D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FE5F9-93B6-4751-B092-EDB50AB0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61427-D954-4CAC-BF21-65719112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81887-1C57-48FF-9139-96A9334C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0F916-3535-4FA0-9BED-F38193AA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05D88-FC99-4505-9292-F8A114F6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D26-E282-481D-B616-EFED5781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D7583-744F-43EE-BD96-BD4F3B8C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4A2DE-71A5-4769-B304-AF40CC96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2805D-DCBB-4A51-BE27-AD03D63A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D3DA6-6E90-4DEC-849D-E9DA68F3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5B8B5-884F-4BC0-81E8-C76AB318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48035-D27A-4825-AE9E-91D07AE8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4FCA1-38EB-4F3A-AB87-3C7B00CB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2A575-FFEB-43D3-8A1E-2ADAFD15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0A7B8-8B93-4814-B7C4-C2916EA9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0DB50-618F-4E48-8993-161286CC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64C7-9E0D-4F32-B2F8-A49E03C2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5AEA8-B082-444A-9DF5-5DA98D11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F0503-3B66-4EA3-A956-F7D53BC2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49789-FAD6-45ED-A03D-9B4B9281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4D23B-8323-4DF9-8EEA-D09789C9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E0A7B-BBF7-45A1-8994-FC7FBCE3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FD333-C7F4-4615-AEAD-05705519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9B5D0-7468-4788-9B43-8A1B93BE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AB654-BD42-49F3-94CC-C7220CF0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50C45-4134-43F0-81AE-CBDF0ADB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35600-8BC5-4ED4-AFCE-50B95D2D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073-0F60-4F5B-8AD0-B1EACE6B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D0527-4E1E-4D47-8118-08F8585E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6615D-E42A-4F35-AF11-C31119C6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78253-129D-4726-A860-5ABE8313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4B671-E25A-498D-BB2B-9A99FD69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B3243-7EBA-464C-9768-FB7E7E28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06BA8-E6FE-47B2-9C9F-6648448B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32DF4-1049-478E-B41A-4B95C83F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59A88-93AF-4911-B7D6-31D4E331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92007-5FB6-4AC0-8943-067383FA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56E78-3D73-4A8B-A7D5-BC7710E4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EC3-788A-44B3-8129-EAAD3B6A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A2618-80BB-4BF0-8276-1EE5868D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60BD2-891D-4407-934D-9E0A8B22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2A53E-75A9-4967-942F-D2972886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0769A-5EEC-47E9-AD90-3062A664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2FFFB-5E67-4670-BC61-20987D06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8DAB7-E5D2-4FEB-84BB-B6825109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0F3A0-F00E-431D-B6CA-CCC44D88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0D97B-8C65-4F4E-B56A-4D9F2D84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BBF7B-E1E9-4C4E-BF70-6F20FCBF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7A55E-643F-4D3A-B4D3-3C710F96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7CCD-51EE-4292-9BAE-14676164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3F434-17E3-421B-96E0-7BAEFB60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2938A-5986-41BF-80A0-54111C8B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3896B-8DBE-4554-B5B6-B2227853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90308-29A3-4A9E-B8A2-4B1F6A08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FBE1F-789E-40B5-8432-6ED874EB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89EE1-445C-4EF7-A7BE-2D15D0AE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3E85F-8055-4C1E-A412-D651BC5C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E325E-E483-4CA9-8826-87037366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9E221-0AC3-46A8-AF1F-E6F5C8DA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91224-20F0-4663-9BFC-9E757BCD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1728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93720" indent="-138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138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3669840"/>
            <a:ext cx="182412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D219B848-27A7-4D6E-8453-1A93279625B7}" type="slidenum">
              <a:rPr b="0" lang="zh-CN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3A4CE42B-CA9D-43C7-BDEE-63198171AAB3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B7FEC011-B5BD-4A06-9289-7F3AEE297006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FC3575E0-1EA0-4125-B4DF-65B13A8D9E91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0DFA97AD-B002-4077-83B1-2A661896C8F9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D17A6A8B-B3CD-424A-B376-AC380A32CC35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477BCF59-F4EB-44A1-A912-D120166A1505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E1562EFA-3D76-40AC-A6C7-AF044B236AC2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C9147D85-F995-40C3-95DE-C506DC90F1AF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</a:pPr>
            <a:fld id="{ED8EC5A6-4DA9-47F8-8682-D4D0D6688BC8}" type="datetime">
              <a:rPr b="0" lang="zh-CN" sz="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</a:pPr>
            <a:fld id="{96BBD8FF-469C-48B0-95F9-86B837DF45D9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8A5965D0-AE2D-4D9C-92F2-8F4EB95152AE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D77B2BDE-734F-489B-9013-D861851CE99B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02D94A13-63ED-4DEF-860E-05C759BCC97D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8D842060-3F11-4C6F-A901-B6051CD51665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866B8D0A-0F07-40C9-B8A0-FEE4843B8ABF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96333097-1145-4123-B474-54E8113C4D79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EABCE8F9-65F2-408F-AA54-969FD7EB88D6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2272138C-D9AB-4E44-833F-9E9311259B61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3543C05A-839E-46E3-860D-C53E44C08713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5EDC5C70-0815-4CAD-B212-6E37C1A6BC5A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9AFAC04C-7B37-4FAB-8DD3-8B4CF501C631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24617768-C456-40BD-A71E-39BDCC15A4C0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52F04205-8618-4AEB-B046-4A1CD479B42B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C1F6B5A3-BB73-432F-9B4B-1BD3CD452F01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19"/>
          <p:cNvSpPr/>
          <p:nvPr/>
        </p:nvSpPr>
        <p:spPr>
          <a:xfrm>
            <a:off x="181080" y="356724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2" descr="D:\wang\昵图下截\1282790395433_zcool.com.cn\82122768.jpg"/>
          <p:cNvPicPr/>
          <p:nvPr/>
        </p:nvPicPr>
        <p:blipFill>
          <a:blip r:embed="rId16"/>
          <a:srcRect l="3601" t="0" r="0" b="0"/>
          <a:stretch/>
        </p:blipFill>
        <p:spPr>
          <a:xfrm>
            <a:off x="0" y="-25560"/>
            <a:ext cx="5778360" cy="398628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3" descr=""/>
          <p:cNvPicPr/>
          <p:nvPr/>
        </p:nvPicPr>
        <p:blipFill>
          <a:blip r:embed="rId17"/>
          <a:stretch/>
        </p:blipFill>
        <p:spPr>
          <a:xfrm>
            <a:off x="3106800" y="1405080"/>
            <a:ext cx="1463760" cy="245268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4" descr=""/>
          <p:cNvPicPr/>
          <p:nvPr/>
        </p:nvPicPr>
        <p:blipFill>
          <a:blip r:embed="rId18"/>
          <a:stretch/>
        </p:blipFill>
        <p:spPr>
          <a:xfrm rot="1107000">
            <a:off x="1224000" y="181080"/>
            <a:ext cx="506520" cy="35856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5" descr=""/>
          <p:cNvPicPr/>
          <p:nvPr/>
        </p:nvPicPr>
        <p:blipFill>
          <a:blip r:embed="rId19"/>
          <a:stretch/>
        </p:blipFill>
        <p:spPr>
          <a:xfrm>
            <a:off x="4176720" y="2844720"/>
            <a:ext cx="754200" cy="86364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6" descr=""/>
          <p:cNvPicPr/>
          <p:nvPr/>
        </p:nvPicPr>
        <p:blipFill>
          <a:blip r:embed="rId20"/>
          <a:stretch/>
        </p:blipFill>
        <p:spPr>
          <a:xfrm>
            <a:off x="0" y="2406600"/>
            <a:ext cx="1698480" cy="155736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8" descr=""/>
          <p:cNvPicPr/>
          <p:nvPr/>
        </p:nvPicPr>
        <p:blipFill>
          <a:blip r:embed="rId21"/>
          <a:stretch/>
        </p:blipFill>
        <p:spPr>
          <a:xfrm rot="2697000">
            <a:off x="1824120" y="186840"/>
            <a:ext cx="336600" cy="23976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9" descr=""/>
          <p:cNvPicPr/>
          <p:nvPr/>
        </p:nvPicPr>
        <p:blipFill>
          <a:blip r:embed="rId22"/>
          <a:stretch/>
        </p:blipFill>
        <p:spPr>
          <a:xfrm rot="399600">
            <a:off x="2344680" y="195120"/>
            <a:ext cx="222480" cy="158760"/>
          </a:xfrm>
          <a:prstGeom prst="rect">
            <a:avLst/>
          </a:prstGeom>
          <a:ln w="0">
            <a:noFill/>
          </a:ln>
        </p:spPr>
      </p:pic>
      <p:pic>
        <p:nvPicPr>
          <p:cNvPr id="548" name="TextBox 7" descr=""/>
          <p:cNvPicPr/>
          <p:nvPr/>
        </p:nvPicPr>
        <p:blipFill>
          <a:blip r:embed="rId23"/>
          <a:stretch/>
        </p:blipFill>
        <p:spPr>
          <a:xfrm>
            <a:off x="504720" y="901800"/>
            <a:ext cx="2766960" cy="1844640"/>
          </a:xfrm>
          <a:prstGeom prst="rect">
            <a:avLst/>
          </a:prstGeom>
          <a:ln w="0">
            <a:noFill/>
          </a:ln>
        </p:spPr>
      </p:pic>
      <p:sp>
        <p:nvSpPr>
          <p:cNvPr id="549" name="直接连接符 11"/>
          <p:cNvSpPr/>
          <p:nvPr/>
        </p:nvSpPr>
        <p:spPr>
          <a:xfrm>
            <a:off x="2808360" y="1044720"/>
            <a:ext cx="0" cy="863280"/>
          </a:xfrm>
          <a:prstGeom prst="line">
            <a:avLst/>
          </a:prstGeom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11"/>
          <p:cNvGrpSpPr/>
          <p:nvPr/>
        </p:nvGrpSpPr>
        <p:grpSpPr>
          <a:xfrm>
            <a:off x="1512720" y="1044720"/>
            <a:ext cx="943200" cy="1511280"/>
            <a:chOff x="1512720" y="1044720"/>
            <a:chExt cx="943200" cy="1511280"/>
          </a:xfrm>
        </p:grpSpPr>
        <p:sp>
          <p:nvSpPr>
            <p:cNvPr id="551" name="直接连接符 13"/>
            <p:cNvSpPr/>
            <p:nvPr/>
          </p:nvSpPr>
          <p:spPr>
            <a:xfrm>
              <a:off x="245592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直接连接符 14"/>
            <p:cNvSpPr/>
            <p:nvPr/>
          </p:nvSpPr>
          <p:spPr>
            <a:xfrm>
              <a:off x="213804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直接连接符 15"/>
            <p:cNvSpPr/>
            <p:nvPr/>
          </p:nvSpPr>
          <p:spPr>
            <a:xfrm>
              <a:off x="181404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直接连接符 16"/>
            <p:cNvSpPr/>
            <p:nvPr/>
          </p:nvSpPr>
          <p:spPr>
            <a:xfrm>
              <a:off x="151272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5" name="直接连接符 17"/>
          <p:cNvSpPr/>
          <p:nvPr/>
        </p:nvSpPr>
        <p:spPr>
          <a:xfrm>
            <a:off x="1152360" y="1044720"/>
            <a:ext cx="0" cy="863280"/>
          </a:xfrm>
          <a:prstGeom prst="line">
            <a:avLst/>
          </a:prstGeom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239760" y="0"/>
            <a:ext cx="4889520" cy="3960720"/>
            <a:chOff x="239760" y="0"/>
            <a:chExt cx="4889520" cy="3960720"/>
          </a:xfrm>
        </p:grpSpPr>
        <p:sp>
          <p:nvSpPr>
            <p:cNvPr id="557" name="矩形 4"/>
            <p:cNvSpPr/>
            <p:nvPr/>
          </p:nvSpPr>
          <p:spPr>
            <a:xfrm>
              <a:off x="602640" y="0"/>
              <a:ext cx="3962520" cy="4442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39760" y="990000"/>
              <a:ext cx="4889520" cy="297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Box 7"/>
            <p:cNvSpPr/>
            <p:nvPr/>
          </p:nvSpPr>
          <p:spPr>
            <a:xfrm rot="20926800">
              <a:off x="1346760" y="2040480"/>
              <a:ext cx="26953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37"/>
                </a:spcBef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18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3:37:39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3-16T09:04:14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  <property fmtid="{D5CDD505-2E9C-101B-9397-08002B2CF9AE}" pid="3" name="VIP等级">
    <vt:lpwstr>3</vt:lpwstr>
  </property>
  <property fmtid="{D5CDD505-2E9C-101B-9397-08002B2CF9AE}" pid="4" name="价格">
    <vt:lpwstr>10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PPT 格式 背景 节日 节庆 喜庆 庆祝 祝贺 祝福 祝愿 中秋 八月十五 月饼 V3</vt:lpwstr>
  </property>
  <property fmtid="{D5CDD505-2E9C-101B-9397-08002B2CF9AE}" pid="8" name="操作代码">
    <vt:lpwstr>2</vt:lpwstr>
  </property>
  <property fmtid="{D5CDD505-2E9C-101B-9397-08002B2CF9AE}" pid="9" name="是否可购买">
    <vt:lpwstr>2</vt:lpwstr>
  </property>
  <property fmtid="{D5CDD505-2E9C-101B-9397-08002B2CF9AE}" pid="10" name="显示VIP等级">
    <vt:lpwstr>3</vt:lpwstr>
  </property>
  <property fmtid="{D5CDD505-2E9C-101B-9397-08002B2CF9AE}" pid="11" name="标题">
    <vt:lpwstr>中秋节庆模板</vt:lpwstr>
  </property>
  <property fmtid="{D5CDD505-2E9C-101B-9397-08002B2CF9AE}" pid="12" name="模板ID">
    <vt:lpwstr>A30220121126B35</vt:lpwstr>
  </property>
  <property fmtid="{D5CDD505-2E9C-101B-9397-08002B2CF9AE}" pid="13" name="模板缩略图">
    <vt:lpwstr>A30220121126B35.png</vt:lpwstr>
  </property>
  <property fmtid="{D5CDD505-2E9C-101B-9397-08002B2CF9AE}" pid="14" name="相关案例">
    <vt:lpwstr>854</vt:lpwstr>
  </property>
  <property fmtid="{D5CDD505-2E9C-101B-9397-08002B2CF9AE}" pid="15" name="缩略图标题">
    <vt:lpwstr>中秋节庆模板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21126B3501</vt:lpwstr>
  </property>
  <property fmtid="{D5CDD505-2E9C-101B-9397-08002B2CF9AE}" pid="18" name="附件缩略图">
    <vt:lpwstr>A30220121126B3501.png</vt:lpwstr>
  </property>
  <property fmtid="{D5CDD505-2E9C-101B-9397-08002B2CF9AE}" pid="19" name="附件路径">
    <vt:lpwstr>A30220121126B3501.dotx</vt:lpwstr>
  </property>
</Properties>
</file>