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055-ED74-42F2-9D4C-A1929C95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043-87E5-4574-A11E-30A21C0C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AC1-B14D-4DDB-9E7A-D77C8C2E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9B8-38A8-46DF-AA20-3F996EFB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C7F-03AB-4375-8D00-1A72D098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24B-F576-4659-AC75-F1D05AF9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CBE-F63D-4163-81C7-2D1390BC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6FA-6687-4547-967D-1C82CD2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730-7624-4FEB-8BBC-97F9F7D8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B47-A8F1-406F-9F1A-1CF25CB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3DC-6FB8-4626-B2F1-62B583B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AF0-FFCC-48E7-8B26-08E700C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059D-21A2-43B9-B193-2B78C75E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1692360" y="971640"/>
            <a:ext cx="9396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5" name="矩形 14"/>
            <p:cNvSpPr/>
            <p:nvPr/>
          </p:nvSpPr>
          <p:spPr>
            <a:xfrm>
              <a:off x="5076720" y="716040"/>
              <a:ext cx="6476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8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57" name="矩形 4" descr=""/>
          <p:cNvPicPr/>
          <p:nvPr/>
        </p:nvPicPr>
        <p:blipFill>
          <a:blip r:embed="rId3"/>
          <a:stretch/>
        </p:blipFill>
        <p:spPr>
          <a:xfrm>
            <a:off x="2914560" y="2371680"/>
            <a:ext cx="40467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7:32Z</dcterms:modified>
  <cp:revision>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