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C35C4-F814-4283-81BD-40179BE1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04203-23DC-4D8F-86C5-975F1AD8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66D1C-C077-48C0-9210-C5919291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F0B70-02B1-4381-96EB-1582E85B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FD54F-A051-4693-9413-FAD1CA6B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70F83-7D55-4935-8C37-D8F4DCD4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4F1FB-41BA-4BE0-B68C-2E3FC5FF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C7215-32E6-46F3-B27C-F6472AF1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A0103-3A9D-4165-8D74-17A1AEF4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36790-8B96-4CC2-971A-23243A2C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650EE-1B62-41FB-9EC4-4CBC65F9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55D4E-08F9-4937-92C6-15770E49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CBC65-C51F-4E80-8DFE-4AD57E26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EE844-889E-4561-844B-C2576A2C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8C681-E941-403E-8901-5A528CC0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22903-8A3E-400E-892B-4262E8CC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C69EF-6A20-41BF-A186-B3475286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A23DA-0809-4EEF-AE19-CC0C1172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9F233-7FBD-4D3A-8A8D-D5A8FC26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7C861-139A-4BAF-8594-F1DFFAA4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744C1-5849-4848-A60D-8CEC13A9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616-B9CA-43B2-A41B-03D2A8BF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84A-C941-4E47-9C46-7391EAD2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7C5-3580-4194-887E-2F05785D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144-3F00-413D-B2AD-13F2DC7D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7F3-A757-401F-AE4E-41BD2931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91E-EE99-432A-95FF-157DD933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D13-426A-4974-AB2C-EF0F7DD1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960-D47A-4011-9298-582BFF8D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10C-4320-41EF-AEA9-07209DB6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404-F13D-45E3-838D-722778D5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3ED-BA93-44D7-8AB4-6A6F0ED0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F85-0039-4574-9E93-7E4F95DE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8992C-4626-4DFF-A182-5542B10E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C5117-736F-44E5-ABBF-FD6D532A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E2C21-D826-4DFD-8EE5-771B9B53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8819B-EA04-4B53-9FE6-04D6ECF0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A4D40-BAE3-4571-AA6C-F007C0D2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0F20D-EF98-414A-9363-C47FBA8A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D985C-5F4B-40D3-A761-21F71624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CD646-A01D-47F2-8969-ABD986CE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685E7-3D1F-4FB5-B8E4-178ED1B2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831A5-F2AC-4A16-A733-1B6DB862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06FD3-1CE4-4B89-852A-B1650BDE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B218F-8CB5-4B03-A18F-F7DE6A81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9395A-5696-4A57-9F69-89CEB993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0B9CC-A177-46C4-BD19-7EB59F73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BEA6D-0F9F-4CBF-84E0-904518FB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82FC-F104-4781-B630-FCA69B90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5B1A7-F807-4615-B68C-4D0CF3DE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6F8B8-8FD8-4611-8C6D-2512C25E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CD406-5A61-4131-9984-C23972AF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B4DD6-BE63-472D-8227-3666ABE1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AA7A5-DFE3-4805-AAAA-DCA7FD35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52968-049E-4748-B326-DD0495D1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FF0B-AC0C-4E0E-BC27-D74FD162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BD982-319C-422D-B58F-558F90EB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A257E-9B9E-4AA8-93B9-0AFC6690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F7A4-1339-451E-B8D1-26DA17B2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2B90E-14B1-4A69-9A2D-435749F6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434D7-3F6F-42AE-BAFE-B239D918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6E0F2-22DB-4E00-95B3-7B8578C6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079BE-FB54-4F0C-AA4F-BBD7E706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DB350-F190-4769-9E50-0ECF488E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87F2B-898C-4540-81FB-B94A54F0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99B84-82E3-40AB-BD2C-8A2C375A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64590-093C-447F-9E88-C6B1D3FB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76948-C5EA-48E4-B533-6752D921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18FF7-B271-4CD7-9A5C-7F87619A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03805-15BF-4DAE-A470-A1120968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96077-7DB5-4F73-9BF1-AB6DEECA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3287B-16D5-470A-A2BE-302F4515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D3296-854A-4FE2-BF86-46BB95FC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6DDDF-529D-4A29-8753-07B8A2B5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A85FF-E685-4DE0-82E6-328130BF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A1256-F3A4-41C1-9131-6911D685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EE89D-3FA1-4563-8451-57E3A83A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26731-31B8-4E24-A4DC-2E5916E5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AEBD9-CD5F-4C9F-8F2F-4D980FB8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B0943-DDAC-484F-997F-8810FA93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C2961-4D01-4CAD-89C5-849FEB88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722AD-69C7-4F37-96C0-0EA6623B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1D1F5-8869-45FD-9FBC-C68A21F8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88138-6816-4C8B-ADA7-2EA2F164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9CAE3-26FA-4D30-9D6E-652B7646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02FE3-1319-40AD-8632-493998C1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CDEA4-6D18-4897-8D81-035522F1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D5959-7A37-4FD4-BE62-2549D082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BCB81-AF38-4858-85C9-15BA690F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B472A-F439-4FBB-99A8-90914B90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DB8DD-E393-46DB-9E40-7AE5712C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5F4DD-1697-4D05-8634-EB03C992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2D6CC-7272-4DA9-B5C4-449EFA0E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41C49-0266-4E5F-B394-7D4D3E4E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F3FAF-6EF3-4718-9B2E-1A374A00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FC555-2AAF-43D5-8343-92E823B5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4cc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1984cc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C536-1719-4531-85D1-CB735151BD8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279C-BBF8-4DD4-86A1-B667000266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EB9C-24D8-41F6-AEA7-84C6BE09D58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"/>
          <p:cNvSpPr/>
          <p:nvPr/>
        </p:nvSpPr>
        <p:spPr>
          <a:xfrm flipV="1">
            <a:off x="469800" y="1479240"/>
            <a:ext cx="8229600" cy="20520"/>
          </a:xfrm>
          <a:prstGeom prst="line">
            <a:avLst/>
          </a:prstGeom>
          <a:ln cap="rnd" w="3492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5"/>
          </p:nvPr>
        </p:nvSpPr>
        <p:spPr>
          <a:xfrm>
            <a:off x="64274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AC14-F5F1-4B6F-8D84-454D4F26E0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414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8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9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687C-A069-4391-9908-5EC42C7869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1"/>
          </p:nvPr>
        </p:nvSpPr>
        <p:spPr>
          <a:xfrm>
            <a:off x="594324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3657240" y="6386040"/>
            <a:ext cx="2133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B600-B17F-49B1-B7E5-25099B3E426E}" type="slidenum">
              <a:rPr b="1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8153280" y="2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G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2D45-6E49-4935-B653-39FC10D04A92}" type="slidenum">
              <a:rPr b="0" lang="zh-CN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5AD7-B267-4E5E-8AFC-C7788DC40F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DFFC-43AF-45AD-BA82-49E8884139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5977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个人简历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6720" y="909360"/>
            <a:ext cx="41529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姓    名：胡亚梅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性    别：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出生年月：</a:t>
            </a:r>
            <a:r>
              <a:rPr b="0" lang="en-US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1992.2.13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政治面貌：党员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学    历：大学专课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专    业：计算机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毕业学校：徐州工业职业技术             学院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联系电话：</a:t>
            </a:r>
            <a:r>
              <a:rPr b="0" lang="en-US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1509434345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电子邮箱：</a:t>
            </a:r>
            <a:r>
              <a:rPr b="0" lang="en-US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792585643@qq.com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家庭地址：东台市东台填垛团村八组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4" descr="DSCN0825"/>
          <p:cNvPicPr/>
          <p:nvPr/>
        </p:nvPicPr>
        <p:blipFill>
          <a:blip r:embed="rId2"/>
          <a:stretch/>
        </p:blipFill>
        <p:spPr>
          <a:xfrm>
            <a:off x="3997440" y="155736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DSCN0829"/>
          <p:cNvPicPr/>
          <p:nvPr/>
        </p:nvPicPr>
        <p:blipFill>
          <a:blip r:embed="rId3"/>
          <a:stretch/>
        </p:blipFill>
        <p:spPr>
          <a:xfrm>
            <a:off x="6492960" y="3068640"/>
            <a:ext cx="2111400" cy="1585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DSCN0833"/>
          <p:cNvPicPr/>
          <p:nvPr/>
        </p:nvPicPr>
        <p:blipFill>
          <a:blip r:embed="rId4"/>
          <a:stretch/>
        </p:blipFill>
        <p:spPr>
          <a:xfrm>
            <a:off x="5580000" y="5229360"/>
            <a:ext cx="1873440" cy="1404720"/>
          </a:xfrm>
          <a:prstGeom prst="rect">
            <a:avLst/>
          </a:prstGeom>
          <a:ln w="0">
            <a:noFill/>
          </a:ln>
        </p:spPr>
      </p:pic>
      <p:sp>
        <p:nvSpPr>
          <p:cNvPr id="415" name="矩形 9"/>
          <p:cNvSpPr/>
          <p:nvPr/>
        </p:nvSpPr>
        <p:spPr>
          <a:xfrm>
            <a:off x="7439040" y="302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6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1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6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4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993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4cc"/>
                </a:solidFill>
                <a:latin typeface="微软雅黑"/>
              </a:rPr>
              <a:t>       </a:t>
            </a:r>
            <a:r>
              <a:rPr b="0" lang="zh-CN" sz="3200" spc="-1" strike="noStrike">
                <a:solidFill>
                  <a:srgbClr val="1984cc"/>
                </a:solidFill>
                <a:latin typeface="微软雅黑"/>
              </a:rPr>
              <a:t>专业介绍</a:t>
            </a:r>
            <a:endParaRPr b="0" lang="en-US" sz="3200" spc="-1" strike="noStrike">
              <a:solidFill>
                <a:srgbClr val="1984cc"/>
              </a:solidFill>
              <a:latin typeface="微软雅黑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7008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虚拟仿真技术，或称为模拟技术，就是用一个系统模仿另一个真实系统的技术。从狭义上讲，是指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20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世纪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40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年代伴随着计算机技术的发展而逐步形成的一类试验研究的新技术；从广义上来说，仿真则是在人类认识自然界客观规律的历程中一直被有效地使用着。由于计算机技术的发展，仿真技术逐步自成体系，成为继数学推理、科学实验之后人类认识自然界客观规律的第三类基本方法，而且正在发展成为人类认识、改造和创造客观世界的一项通用性、战略性技术。</a:t>
            </a:r>
            <a:endParaRPr b="0" lang="en-US" sz="1800" spc="-1" strike="noStrike">
              <a:solidFill>
                <a:srgbClr val="4d4d4d"/>
              </a:solidFill>
              <a:latin typeface="微软雅黑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8800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虚拟现实技术，简称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VR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，是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20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世纪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80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年代新崛起的一种综合集成技术，涉及计算机图形学、人机交互技术、传感技术、人工智能等。它由计算机硬件、软件以及各种传感器构成的三维信息的人工环境——虚拟环境，可以逼真地模拟现实世界（甚至是不存在的）的事物和环境，人投入到这种环境中，立即有“亲临其境”的感觉，并可亲自操作，自然地与虚拟环境进行交互。虚拟仿真技术具有以下四个基本特性：沉浸性、交互性、虚幻性、逼真性。</a:t>
            </a:r>
            <a:endParaRPr b="0" lang="en-US" sz="18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p:transition advTm="5000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" dur="3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2" dur="3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2" dur="3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2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2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3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2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2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</a:rPr>
              <a:t>主修课程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6360" y="1701720"/>
            <a:ext cx="7786800" cy="48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计算机辅助工程制图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AD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）、计算机网络及应、高等数学、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ASP.NE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开发应用 、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语言程序设计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Excel VB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程序设计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lash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动画设计与制作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程序设计 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统计分析系统 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Visual Basic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程序设计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信息系统设计基础 、互联网概论  、计算机基础与应用 、计算机网络  、计算机网络实践、平面图像处理、手机编程与手机游戏设计 、数据库编程技术、数字图像处理与特效、计算机应用基础、多煤体技术、计算机应用基础、网页设计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 spd="slow" advTm="5000">
    <p:wipe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0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5" dur="3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3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3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3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3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5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5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64" dur="5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c414f"/>
                </a:solidFill>
                <a:latin typeface="Arial"/>
              </a:rPr>
              <a:t>自我介绍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本人性格热情开朗，待人友好，为人诚实谦虚。工作勤奋，认真负责，能吃苦耐劳，尽职尽责，有耐心。具有亲和力，平易近人，善于与人沟通。活泼开朗、乐观向上、兴趣广泛、适应力强、勤奋好学、脚踏实地、认真负责、坚毅不拔、吃苦耐劳、勇于迎接新挑战 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学习刻苦认真，成绩优秀，品学兼优，此外，还积极参加课外文体活动，以增加自己的阅历，提高自己的能力。在工作中体会办事方式，锻炼口才和人际交往能力。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大学生涯，使我具备良好的心理素质，让我在竞争中拥有更大的优势，让我在人生事业中走得更高更远。获得了“优秀大学生”和“优秀毕业生”的称号。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3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3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40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05" dur="2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10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15" dur="2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3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3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3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42" dur="5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47" dur="5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52" dur="5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能力与特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8070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专业能力：掌握了工业工程的基本知识，如网页制作、动画制作等等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计算机能力：熟</a:t>
            </a:r>
            <a:r>
              <a:rPr b="0" lang="en-US" sz="2400" spc="-1" strike="noStrike">
                <a:solidFill>
                  <a:srgbClr val="335338"/>
                </a:solidFill>
                <a:latin typeface="Verdana"/>
                <a:ea typeface="宋体"/>
              </a:rPr>
              <a:t>Office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等应用办公软件、计算机网络及多媒体知识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语言能力：有良好的沟通技能，交际能力较强、英语</a:t>
            </a:r>
            <a:r>
              <a:rPr b="0" lang="en-US" sz="2400" spc="-1" strike="noStrike">
                <a:solidFill>
                  <a:srgbClr val="335338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级 ，听说读写能力较强、粤话、普通话标准、流利，且具备较好的理解能力、书面与口头交流能力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27160" y="1347840"/>
            <a:ext cx="38070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5338"/>
                </a:solidFill>
                <a:latin typeface="Verdana"/>
                <a:ea typeface="宋体"/>
              </a:rPr>
              <a:t>	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综合能力：  ◇责任心强，有独立工作能力强，吃苦耐劳，有团队精神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具有良好的策划、组织、协调、管理能力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做事细心和有条理，尤其胜任财务、秘书、资料整理等方面工作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数学运算能力较好，思考、逻辑能力较强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日期占位符 3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Verdana"/>
              </a:rPr>
              <a:t>www.1ppt.com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经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96720" y="155736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2002.9-2005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垛团小学           小学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2005.9-2008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明德外国语学      初中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2008.9-2011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第二职业高中     高中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2011.9-2014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徐州工业职业技术学院  专科      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4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2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2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3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2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2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3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2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2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3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2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2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3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2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2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1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1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1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1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1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10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10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0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10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10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0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技能证书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9080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英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级                            ◆ 计算机一级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计算机冈位证书               ◆ 计算机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4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9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64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3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2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2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3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2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2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荣誉证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340000" y="1412640"/>
            <a:ext cx="65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9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垛团小学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秀学生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9-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评为明德外国语学校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秀学员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度在明德外国语学样被称为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秀干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度在明德外国语学校称为优秀团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在徐州工业职业技术学院中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“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讲比赛中得第二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6720" y="299700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                    </a:t>
            </a:r>
            <a:r>
              <a:rPr b="0" lang="zh-CN" sz="7200" spc="-1" strike="noStrike">
                <a:solidFill>
                  <a:srgbClr val="003300"/>
                </a:solidFill>
                <a:latin typeface="Verdana"/>
              </a:rPr>
              <a:t>谢谢观看！</a:t>
            </a:r>
            <a:endParaRPr b="0" lang="en-US" sz="7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23:22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1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