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CBAF-CFEF-4DC0-9A5D-C0B90D28D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5F82-952C-4243-A41D-B19481138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3A31-3D73-4109-B5AB-136631191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B720-9F22-4561-AC91-17CFBE8D9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9840-A641-48BF-90AA-98763DD7D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0093-02B1-4332-8E3D-3D5B2DAE5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8AE9-63D5-4099-899B-AEDC70F0D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867E-3074-4EF5-A1F9-93EFFFF6E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6872-12B2-4BEC-9787-33507589E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BB66-52D3-474E-B9CE-9FB0DA820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F4C8-1915-4E88-A7E1-973AB264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6312-EB37-42D6-BEFA-CDDB43DC8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8FB46-AB61-4A46-B570-7BED4FA00AB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4B312-1ABF-44FF-AC5D-5736693040F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1CD0-3AF5-4213-ABE0-951E1E546B1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9T03:34:00Z</dcterms:created>
  <dc:creator>www.eeppt.com</dc:creator>
  <dc:description>ppt模板下载网站 http://www.eeppt.com</dc:description>
  <dc:language>en-US</dc:language>
  <cp:lastModifiedBy/>
  <dcterms:modified xsi:type="dcterms:W3CDTF">2015-05-22T15:24:45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