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lick.wav" ContentType="audio/x-wav"/>
  <Override PartName="/ppt/media/image7.png" ContentType="image/png"/>
  <Override PartName="/ppt/media/image1.jpeg" ContentType="image/jpeg"/>
  <Override PartName="/ppt/media/image12.png" ContentType="image/png"/>
  <Override PartName="/ppt/media/image11.gif" ContentType="image/gif"/>
  <Override PartName="/ppt/media/image5.png" ContentType="image/png"/>
  <Override PartName="/ppt/media/image10.png" ContentType="image/png"/>
  <Override PartName="/ppt/media/image13.gif" ContentType="image/gif"/>
  <Override PartName="/ppt/media/chimes.wav" ContentType="audio/x-wav"/>
  <Override PartName="/ppt/media/suction.wav" ContentType="audio/x-wav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9F3-89CF-4B37-B877-FAF5C852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4A1-3C05-4084-9E4D-39FC853C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C2D-7B8C-41A7-9706-ECE29788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D4D-14AC-417C-8DD8-0AEEDCDF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761-DD3E-4223-8479-40D50CB9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2D7-6F71-48FA-AD23-BB3FB7C0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4E1-360A-4FEF-B190-E8127BFF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73F-BEF5-4D7C-BF5C-CEF93589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C63-111C-4C4A-AC3A-C60A75CB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5D8-4BC0-4D6C-BE62-3802AA72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801-C6E6-4C67-9D5C-624A9576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E94-B520-4260-9FD1-27E24DA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8BC8-3B7E-4840-B8DB-1C7EDE1DC1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audio" Target="../media/click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2"/>
          <a:stretch/>
        </p:blipFill>
        <p:spPr>
          <a:xfrm>
            <a:off x="1981080" y="1042920"/>
            <a:ext cx="5224680" cy="1414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763640" y="3301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义务教育课程标准实验教科书二年级上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06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3 × 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95280" y="2492280"/>
            <a:ext cx="8229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5 × 5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6560" y="2492280"/>
            <a:ext cx="8229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5 × 2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2492280"/>
            <a:ext cx="8229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5 × 3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66560" y="2637000"/>
            <a:ext cx="8229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1 × 5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95280" y="270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5 × 4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24000" y="270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4 × 5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769120" y="522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问你答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08360" y="119664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下课啦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if004"/>
          <p:cNvPicPr/>
          <p:nvPr/>
        </p:nvPicPr>
        <p:blipFill>
          <a:blip r:embed="rId2"/>
          <a:stretch/>
        </p:blipFill>
        <p:spPr>
          <a:xfrm>
            <a:off x="-177840" y="2060640"/>
            <a:ext cx="3933720" cy="4208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每跳一下是一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Line 3"/>
          <p:cNvGrpSpPr/>
          <p:nvPr/>
        </p:nvGrpSpPr>
        <p:grpSpPr>
          <a:xfrm>
            <a:off x="811080" y="3664080"/>
            <a:ext cx="7693200" cy="102960"/>
            <a:chOff x="811080" y="3664080"/>
            <a:chExt cx="7693200" cy="102960"/>
          </a:xfrm>
        </p:grpSpPr>
        <p:pic>
          <p:nvPicPr>
            <p:cNvPr id="45" name="Line 3" descr=""/>
            <p:cNvPicPr/>
            <p:nvPr/>
          </p:nvPicPr>
          <p:blipFill>
            <a:blip r:embed="rId2"/>
            <a:stretch/>
          </p:blipFill>
          <p:spPr>
            <a:xfrm>
              <a:off x="811080" y="3664080"/>
              <a:ext cx="7693200" cy="10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826560" y="3717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4"/>
          <p:cNvSpPr/>
          <p:nvPr/>
        </p:nvSpPr>
        <p:spPr>
          <a:xfrm>
            <a:off x="104580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007112911478393"/>
          <p:cNvPicPr/>
          <p:nvPr/>
        </p:nvPicPr>
        <p:blipFill>
          <a:blip r:embed="rId3"/>
          <a:stretch/>
        </p:blipFill>
        <p:spPr>
          <a:xfrm>
            <a:off x="324000" y="2394000"/>
            <a:ext cx="100800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76472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48580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957480" y="48322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25680" y="37180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125680" y="37180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140360" y="371808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17320" y="37180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709320" y="37180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573680" y="37180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276720" y="3933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4284720" y="39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14980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0360" y="393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3416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759852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5869800" y="425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4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769 -0.036711 L 0.105005 0.056231 L 0.147418 -0.036711 L 0.192657 0.056231 L 0.237896 -0.036711 L 0.280306 0.056231 L 0.325546 -0.036711 L 0.367957 0.056231 L 0.413196 -0.036711 L 0.458434 0.056231 L 0.500845 -0.036711 L 0.546085 0.056231 L 0.588496 -0.036711 L 0.633735 0.056231 L 0.678975 -0.036711 L 0.721386 0.056231 L 0.766624 -0.036711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7110181928859"/>
          <p:cNvPicPr/>
          <p:nvPr/>
        </p:nvPicPr>
        <p:blipFill>
          <a:blip r:embed="rId2"/>
          <a:stretch/>
        </p:blipFill>
        <p:spPr>
          <a:xfrm>
            <a:off x="971640" y="227664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2007110181928859"/>
          <p:cNvPicPr/>
          <p:nvPr/>
        </p:nvPicPr>
        <p:blipFill>
          <a:blip r:embed="rId3"/>
          <a:stretch/>
        </p:blipFill>
        <p:spPr>
          <a:xfrm>
            <a:off x="3635280" y="2205000"/>
            <a:ext cx="865440" cy="793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2007110181928859"/>
          <p:cNvPicPr/>
          <p:nvPr/>
        </p:nvPicPr>
        <p:blipFill>
          <a:blip r:embed="rId4"/>
          <a:stretch/>
        </p:blipFill>
        <p:spPr>
          <a:xfrm>
            <a:off x="971640" y="692280"/>
            <a:ext cx="792000" cy="71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2007110181928859"/>
          <p:cNvPicPr/>
          <p:nvPr/>
        </p:nvPicPr>
        <p:blipFill>
          <a:blip r:embed="rId5"/>
          <a:stretch/>
        </p:blipFill>
        <p:spPr>
          <a:xfrm>
            <a:off x="1908000" y="69228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007110181928859"/>
          <p:cNvPicPr/>
          <p:nvPr/>
        </p:nvPicPr>
        <p:blipFill>
          <a:blip r:embed="rId6"/>
          <a:stretch/>
        </p:blipFill>
        <p:spPr>
          <a:xfrm>
            <a:off x="971640" y="1486080"/>
            <a:ext cx="792000" cy="71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2007110181928859"/>
          <p:cNvPicPr/>
          <p:nvPr/>
        </p:nvPicPr>
        <p:blipFill>
          <a:blip r:embed="rId7"/>
          <a:stretch/>
        </p:blipFill>
        <p:spPr>
          <a:xfrm>
            <a:off x="1908000" y="148608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2007110181928859"/>
          <p:cNvPicPr/>
          <p:nvPr/>
        </p:nvPicPr>
        <p:blipFill>
          <a:blip r:embed="rId8"/>
          <a:stretch/>
        </p:blipFill>
        <p:spPr>
          <a:xfrm>
            <a:off x="3635280" y="692280"/>
            <a:ext cx="793800" cy="717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2007110181928859"/>
          <p:cNvPicPr/>
          <p:nvPr/>
        </p:nvPicPr>
        <p:blipFill>
          <a:blip r:embed="rId9"/>
          <a:stretch/>
        </p:blipFill>
        <p:spPr>
          <a:xfrm>
            <a:off x="4500720" y="620640"/>
            <a:ext cx="792000" cy="71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2007110181928859"/>
          <p:cNvPicPr/>
          <p:nvPr/>
        </p:nvPicPr>
        <p:blipFill>
          <a:blip r:embed="rId10"/>
          <a:stretch/>
        </p:blipFill>
        <p:spPr>
          <a:xfrm>
            <a:off x="3635280" y="1413000"/>
            <a:ext cx="793800" cy="71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2007110181928859"/>
          <p:cNvPicPr/>
          <p:nvPr/>
        </p:nvPicPr>
        <p:blipFill>
          <a:blip r:embed="rId11"/>
          <a:stretch/>
        </p:blipFill>
        <p:spPr>
          <a:xfrm>
            <a:off x="4572000" y="1341360"/>
            <a:ext cx="792000" cy="71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2007110181928859"/>
          <p:cNvPicPr/>
          <p:nvPr/>
        </p:nvPicPr>
        <p:blipFill>
          <a:blip r:embed="rId12"/>
          <a:stretch/>
        </p:blipFill>
        <p:spPr>
          <a:xfrm>
            <a:off x="6227640" y="62064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2007110181928859"/>
          <p:cNvPicPr/>
          <p:nvPr/>
        </p:nvPicPr>
        <p:blipFill>
          <a:blip r:embed="rId13"/>
          <a:stretch/>
        </p:blipFill>
        <p:spPr>
          <a:xfrm>
            <a:off x="7164360" y="62064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2007110181928859"/>
          <p:cNvPicPr/>
          <p:nvPr/>
        </p:nvPicPr>
        <p:blipFill>
          <a:blip r:embed="rId14"/>
          <a:stretch/>
        </p:blipFill>
        <p:spPr>
          <a:xfrm>
            <a:off x="637236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2007110181928859"/>
          <p:cNvPicPr/>
          <p:nvPr/>
        </p:nvPicPr>
        <p:blipFill>
          <a:blip r:embed="rId15"/>
          <a:stretch/>
        </p:blipFill>
        <p:spPr>
          <a:xfrm>
            <a:off x="7236000" y="1270080"/>
            <a:ext cx="793440" cy="7174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7"/>
          <p:cNvSpPr/>
          <p:nvPr/>
        </p:nvSpPr>
        <p:spPr>
          <a:xfrm rot="5400000">
            <a:off x="4066920" y="765000"/>
            <a:ext cx="360360" cy="4824360"/>
          </a:xfrm>
          <a:custGeom>
            <a:avLst/>
            <a:gdLst>
              <a:gd name="textAreaLeft" fmla="*/ 0 w 360360"/>
              <a:gd name="textAreaRight" fmla="*/ 129960 w 36036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63"/>
                </a:lnTo>
                <a:cubicBezTo>
                  <a:pt x="10800" y="10163"/>
                  <a:pt x="16200" y="11063"/>
                  <a:pt x="21600" y="11063"/>
                </a:cubicBezTo>
                <a:cubicBezTo>
                  <a:pt x="16200" y="11063"/>
                  <a:pt x="10800" y="11963"/>
                  <a:pt x="10800" y="1286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3203640" y="3357720"/>
            <a:ext cx="2314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2124000" y="4149720"/>
            <a:ext cx="3959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法算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0" descr="2007110181928859"/>
          <p:cNvPicPr/>
          <p:nvPr/>
        </p:nvPicPr>
        <p:blipFill>
          <a:blip r:embed="rId16"/>
          <a:stretch/>
        </p:blipFill>
        <p:spPr>
          <a:xfrm>
            <a:off x="6227640" y="1341360"/>
            <a:ext cx="892440" cy="703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1"/>
          <p:cNvSpPr/>
          <p:nvPr/>
        </p:nvSpPr>
        <p:spPr>
          <a:xfrm>
            <a:off x="3421080" y="33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4645800" y="33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4141440" y="414972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5+5+5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5724360" y="4149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2480400" y="5013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法算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4285440" y="487044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3 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5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5796000" y="4941720"/>
            <a:ext cx="6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3575880" y="5589720"/>
            <a:ext cx="28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口决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: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三五十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5869080" y="4076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5869080" y="47973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  <p:sndAc>
      <p:stSnd>
        <p:snd r:embed="rId17" name="click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WordArt 3" descr=""/>
          <p:cNvPicPr/>
          <p:nvPr/>
        </p:nvPicPr>
        <p:blipFill>
          <a:blip r:embed="rId2"/>
          <a:stretch/>
        </p:blipFill>
        <p:spPr>
          <a:xfrm>
            <a:off x="1932120" y="1974960"/>
            <a:ext cx="4743360" cy="2852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7"/>
          <p:cNvSpPr/>
          <p:nvPr/>
        </p:nvSpPr>
        <p:spPr>
          <a:xfrm>
            <a:off x="6875640" y="9810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gif019"/>
          <p:cNvPicPr/>
          <p:nvPr/>
        </p:nvPicPr>
        <p:blipFill>
          <a:blip r:embed="rId2"/>
          <a:stretch/>
        </p:blipFill>
        <p:spPr>
          <a:xfrm>
            <a:off x="6588000" y="693720"/>
            <a:ext cx="166068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35280" y="2565360"/>
            <a:ext cx="555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一 五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268240" y="2637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得五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if019"/>
          <p:cNvPicPr/>
          <p:nvPr/>
        </p:nvPicPr>
        <p:blipFill>
          <a:blip r:embed="rId2"/>
          <a:stretch/>
        </p:blipFill>
        <p:spPr>
          <a:xfrm>
            <a:off x="6588000" y="693720"/>
            <a:ext cx="1660680" cy="1297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835280" y="2565360"/>
            <a:ext cx="555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四 五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268240" y="2637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二十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gif019"/>
          <p:cNvPicPr/>
          <p:nvPr/>
        </p:nvPicPr>
        <p:blipFill>
          <a:blip r:embed="rId2"/>
          <a:stretch/>
        </p:blipFill>
        <p:spPr>
          <a:xfrm>
            <a:off x="6588000" y="693720"/>
            <a:ext cx="1660680" cy="12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02920" y="2565360"/>
            <a:ext cx="626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五 五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038200" y="26370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二十五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6310440"/>
            <a:ext cx="6470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gif019"/>
          <p:cNvPicPr/>
          <p:nvPr/>
        </p:nvPicPr>
        <p:blipFill>
          <a:blip r:embed="rId2"/>
          <a:stretch/>
        </p:blipFill>
        <p:spPr>
          <a:xfrm>
            <a:off x="6588000" y="693720"/>
            <a:ext cx="1660680" cy="1297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835280" y="2565360"/>
            <a:ext cx="555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二 五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69400" y="2637000"/>
            <a:ext cx="11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一十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gif019"/>
          <p:cNvPicPr/>
          <p:nvPr/>
        </p:nvPicPr>
        <p:blipFill>
          <a:blip r:embed="rId2"/>
          <a:stretch/>
        </p:blipFill>
        <p:spPr>
          <a:xfrm>
            <a:off x="6588000" y="693720"/>
            <a:ext cx="1660680" cy="1297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02920" y="2565360"/>
            <a:ext cx="626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三 五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052240" y="2637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十五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50920" y="-814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23:26:36Z</dcterms:created>
  <dc:creator>www.eeppt.com; An</dc:creator>
  <dc:description>ppt模板下载网站 http://www.eeppt.com</dc:description>
  <dc:language>en-US</dc:language>
  <cp:lastModifiedBy/>
  <dcterms:modified xsi:type="dcterms:W3CDTF">2015-05-27T12:32:4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