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F8F-7C95-493B-82E2-4E551697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503-75F4-473E-A6B1-8D229D8B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B06-EE4F-4E70-AEC4-C17C4689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E7C-DA78-4140-9E4A-103824BE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0A76-E95A-4752-974C-E0AFDE9A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7A07-1561-4C74-9377-F6BC33F5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8BC5-9629-47BC-BFF7-88CD759B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F514-22BD-4886-91D6-5C22E98D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B6C9-3786-4F92-88EB-8F6B0818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1280-7EAB-4FDF-8654-408AAEE3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9C35-FCC7-4CEC-B7DC-A4F46F02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0AE-D0FC-4415-BB30-C5D30DBE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646D-BCCC-4DAD-9D50-CDA43EE3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67D0-840E-42B3-B640-01EA2FCD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4ACF-F6E0-481A-AF09-2C9C99BC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5DA7-338F-46E7-87C3-A0828F45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1832-1151-4B53-AB49-E58D01AF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7A1-681D-41C2-9697-65FFF65D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A4E-2D1A-472E-9D34-ED5A1058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7D5-34CA-48D8-A52F-275491E9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112-C882-4988-B661-6DF2E981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FE2-108E-4B09-BFAE-3ACEAF7B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449-8A3F-4664-A94D-C49E0E3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29B-7183-41A4-BFD5-E8EE095D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5FDD-D7ED-47F2-877C-01A5FCC026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13B1-8313-4BAB-AC2A-E0963F7AE4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55CB-599E-42E9-B333-542DC5A07B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9FC7-20C5-4C02-9610-CA4CFCBE37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0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31000" y="2014560"/>
            <a:ext cx="2170080" cy="1630440"/>
          </a:xfrm>
          <a:prstGeom prst="rect">
            <a:avLst/>
          </a:prstGeom>
          <a:ln w="12600">
            <a:solidFill>
              <a:srgbClr val="f2f2f2"/>
            </a:solidFill>
            <a:beve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3240" y="2014560"/>
            <a:ext cx="1262160" cy="1630440"/>
          </a:xfrm>
          <a:prstGeom prst="rect">
            <a:avLst/>
          </a:prstGeom>
          <a:ln w="12600">
            <a:solidFill>
              <a:srgbClr val="f2f2f2"/>
            </a:solidFill>
            <a:beve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1332000" y="2014560"/>
            <a:ext cx="2282760" cy="1630440"/>
          </a:xfrm>
          <a:prstGeom prst="rect">
            <a:avLst/>
          </a:prstGeom>
          <a:ln w="12600">
            <a:solidFill>
              <a:srgbClr val="f2f2f2"/>
            </a:solidFill>
            <a:beve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518080" y="2014560"/>
            <a:ext cx="2125800" cy="1630440"/>
          </a:xfrm>
          <a:prstGeom prst="rect">
            <a:avLst/>
          </a:prstGeom>
          <a:ln w="12600">
            <a:solidFill>
              <a:srgbClr val="f2f2f2"/>
            </a:solidFill>
            <a:bevel/>
          </a:ln>
        </p:spPr>
      </p:pic>
      <p:sp>
        <p:nvSpPr>
          <p:cNvPr id="86" name="TextBox 5"/>
          <p:cNvSpPr/>
          <p:nvPr/>
        </p:nvSpPr>
        <p:spPr>
          <a:xfrm>
            <a:off x="-250920" y="3935520"/>
            <a:ext cx="7199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方正综艺简体"/>
                <a:ea typeface="方正综艺简体"/>
              </a:rPr>
              <a:t>我的未来我做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-----</a:t>
            </a: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我的职业生涯规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140360" y="513072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姓名：</a:t>
            </a:r>
            <a:r>
              <a:rPr b="1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：国际经济与贸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系：</a:t>
            </a:r>
            <a:r>
              <a:rPr b="1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XXXXX</a:t>
            </a: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年级：</a:t>
            </a:r>
            <a:r>
              <a:rPr b="1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2010</a:t>
            </a: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学校：西安交通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5"/>
          <a:stretch/>
        </p:blipFill>
        <p:spPr>
          <a:xfrm>
            <a:off x="3687840" y="1189080"/>
            <a:ext cx="1744560" cy="2442960"/>
          </a:xfrm>
          <a:prstGeom prst="rect">
            <a:avLst/>
          </a:prstGeom>
          <a:ln w="28440">
            <a:solidFill>
              <a:srgbClr val="ffc000"/>
            </a:solidFill>
            <a:beve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28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"/>
                            </p:stCondLst>
                            <p:childTnLst>
                              <p:par>
                                <p:cTn id="26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44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1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1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324"/>
                            </p:stCondLst>
                            <p:childTnLst>
                              <p:par>
                                <p:cTn id="3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3476880" y="2781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认知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0"/>
          <p:cNvSpPr/>
          <p:nvPr/>
        </p:nvSpPr>
        <p:spPr>
          <a:xfrm>
            <a:off x="3174480" y="328464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扬长避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1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89" name="矩形 14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3"/>
          <p:cNvGrpSpPr/>
          <p:nvPr/>
        </p:nvGrpSpPr>
        <p:grpSpPr>
          <a:xfrm>
            <a:off x="3533400" y="4177080"/>
            <a:ext cx="961920" cy="1157040"/>
            <a:chOff x="3533400" y="4177080"/>
            <a:chExt cx="961920" cy="1157040"/>
          </a:xfrm>
        </p:grpSpPr>
        <p:sp>
          <p:nvSpPr>
            <p:cNvPr id="191" name="椭圆 3"/>
            <p:cNvSpPr/>
            <p:nvPr/>
          </p:nvSpPr>
          <p:spPr>
            <a:xfrm rot="20017200">
              <a:off x="3704760" y="4326480"/>
              <a:ext cx="618840" cy="91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4"/>
            <p:cNvSpPr/>
            <p:nvPr/>
          </p:nvSpPr>
          <p:spPr>
            <a:xfrm rot="20017200">
              <a:off x="3736440" y="4242960"/>
              <a:ext cx="114480" cy="11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5"/>
            <p:cNvSpPr/>
            <p:nvPr/>
          </p:nvSpPr>
          <p:spPr>
            <a:xfrm rot="20017200">
              <a:off x="3830400" y="4201560"/>
              <a:ext cx="14544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6"/>
            <p:cNvSpPr/>
            <p:nvPr/>
          </p:nvSpPr>
          <p:spPr>
            <a:xfrm rot="20017200">
              <a:off x="3943440" y="4205520"/>
              <a:ext cx="14544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7"/>
            <p:cNvSpPr/>
            <p:nvPr/>
          </p:nvSpPr>
          <p:spPr>
            <a:xfrm rot="20017200">
              <a:off x="4043160" y="4253760"/>
              <a:ext cx="159120" cy="1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8"/>
            <p:cNvSpPr/>
            <p:nvPr/>
          </p:nvSpPr>
          <p:spPr>
            <a:xfrm rot="20017200">
              <a:off x="4138560" y="4303080"/>
              <a:ext cx="201960" cy="18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24"/>
          <p:cNvGrpSpPr/>
          <p:nvPr/>
        </p:nvGrpSpPr>
        <p:grpSpPr>
          <a:xfrm>
            <a:off x="4250880" y="5261760"/>
            <a:ext cx="1005480" cy="1155960"/>
            <a:chOff x="4250880" y="5261760"/>
            <a:chExt cx="1005480" cy="1155960"/>
          </a:xfrm>
        </p:grpSpPr>
        <p:sp>
          <p:nvSpPr>
            <p:cNvPr id="198" name="椭圆 3"/>
            <p:cNvSpPr/>
            <p:nvPr/>
          </p:nvSpPr>
          <p:spPr>
            <a:xfrm flipH="1" rot="1887600">
              <a:off x="4444200" y="5406840"/>
              <a:ext cx="617760" cy="91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26"/>
            <p:cNvSpPr/>
            <p:nvPr/>
          </p:nvSpPr>
          <p:spPr>
            <a:xfrm flipH="1" rot="1887600">
              <a:off x="4959000" y="5345280"/>
              <a:ext cx="113760" cy="11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27"/>
            <p:cNvSpPr/>
            <p:nvPr/>
          </p:nvSpPr>
          <p:spPr>
            <a:xfrm flipH="1" rot="1887600">
              <a:off x="4837320" y="5294880"/>
              <a:ext cx="14508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28"/>
            <p:cNvSpPr/>
            <p:nvPr/>
          </p:nvSpPr>
          <p:spPr>
            <a:xfrm flipH="1" rot="1887600">
              <a:off x="4724280" y="5289120"/>
              <a:ext cx="14508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29"/>
            <p:cNvSpPr/>
            <p:nvPr/>
          </p:nvSpPr>
          <p:spPr>
            <a:xfrm flipH="1" rot="1887600">
              <a:off x="4606200" y="5327280"/>
              <a:ext cx="158760" cy="166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30"/>
            <p:cNvSpPr/>
            <p:nvPr/>
          </p:nvSpPr>
          <p:spPr>
            <a:xfrm flipH="1" rot="1887600">
              <a:off x="4463280" y="5365800"/>
              <a:ext cx="201600" cy="18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1"/>
          <p:cNvGrpSpPr/>
          <p:nvPr/>
        </p:nvGrpSpPr>
        <p:grpSpPr>
          <a:xfrm>
            <a:off x="4463640" y="3102840"/>
            <a:ext cx="1005840" cy="1157400"/>
            <a:chOff x="4463640" y="3102840"/>
            <a:chExt cx="1005840" cy="1157400"/>
          </a:xfrm>
        </p:grpSpPr>
        <p:sp>
          <p:nvSpPr>
            <p:cNvPr id="205" name="椭圆 3"/>
            <p:cNvSpPr/>
            <p:nvPr/>
          </p:nvSpPr>
          <p:spPr>
            <a:xfrm flipH="1" rot="1887600">
              <a:off x="4657320" y="3248640"/>
              <a:ext cx="617760" cy="91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33"/>
            <p:cNvSpPr/>
            <p:nvPr/>
          </p:nvSpPr>
          <p:spPr>
            <a:xfrm flipH="1" rot="1887600">
              <a:off x="5171760" y="3186360"/>
              <a:ext cx="113760" cy="11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34"/>
            <p:cNvSpPr/>
            <p:nvPr/>
          </p:nvSpPr>
          <p:spPr>
            <a:xfrm flipH="1" rot="1887600">
              <a:off x="5050080" y="3135960"/>
              <a:ext cx="14508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35"/>
            <p:cNvSpPr/>
            <p:nvPr/>
          </p:nvSpPr>
          <p:spPr>
            <a:xfrm flipH="1" rot="1887600">
              <a:off x="4937400" y="3130200"/>
              <a:ext cx="14508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36"/>
            <p:cNvSpPr/>
            <p:nvPr/>
          </p:nvSpPr>
          <p:spPr>
            <a:xfrm flipH="1" rot="1887600">
              <a:off x="4818960" y="3168000"/>
              <a:ext cx="158760" cy="1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37"/>
            <p:cNvSpPr/>
            <p:nvPr/>
          </p:nvSpPr>
          <p:spPr>
            <a:xfrm flipH="1" rot="1887600">
              <a:off x="4676040" y="3207240"/>
              <a:ext cx="201600" cy="18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5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38"/>
          <p:cNvGrpSpPr/>
          <p:nvPr/>
        </p:nvGrpSpPr>
        <p:grpSpPr>
          <a:xfrm>
            <a:off x="3696840" y="2019600"/>
            <a:ext cx="961200" cy="1156680"/>
            <a:chOff x="3696840" y="2019600"/>
            <a:chExt cx="961200" cy="1156680"/>
          </a:xfrm>
        </p:grpSpPr>
        <p:sp>
          <p:nvSpPr>
            <p:cNvPr id="212" name="椭圆 3"/>
            <p:cNvSpPr/>
            <p:nvPr/>
          </p:nvSpPr>
          <p:spPr>
            <a:xfrm rot="20017200">
              <a:off x="3868560" y="2168640"/>
              <a:ext cx="617760" cy="918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40"/>
            <p:cNvSpPr/>
            <p:nvPr/>
          </p:nvSpPr>
          <p:spPr>
            <a:xfrm rot="20017200">
              <a:off x="3899520" y="2085120"/>
              <a:ext cx="114120" cy="11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41"/>
            <p:cNvSpPr/>
            <p:nvPr/>
          </p:nvSpPr>
          <p:spPr>
            <a:xfrm rot="20017200">
              <a:off x="3993480" y="2044080"/>
              <a:ext cx="14508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42"/>
            <p:cNvSpPr/>
            <p:nvPr/>
          </p:nvSpPr>
          <p:spPr>
            <a:xfrm rot="20017200">
              <a:off x="4106160" y="2048040"/>
              <a:ext cx="14508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43"/>
            <p:cNvSpPr/>
            <p:nvPr/>
          </p:nvSpPr>
          <p:spPr>
            <a:xfrm rot="20017200">
              <a:off x="4205520" y="2096280"/>
              <a:ext cx="158760" cy="1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44"/>
            <p:cNvSpPr/>
            <p:nvPr/>
          </p:nvSpPr>
          <p:spPr>
            <a:xfrm rot="20017200">
              <a:off x="4300920" y="2145600"/>
              <a:ext cx="201600" cy="18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22000"/>
            </a:gra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矩形 45"/>
          <p:cNvSpPr/>
          <p:nvPr/>
        </p:nvSpPr>
        <p:spPr>
          <a:xfrm>
            <a:off x="0" y="130500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8"/>
          <p:cNvSpPr/>
          <p:nvPr/>
        </p:nvSpPr>
        <p:spPr>
          <a:xfrm flipH="1">
            <a:off x="4521240" y="2641680"/>
            <a:ext cx="25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业分析  地域分析  职业分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"/>
          <p:cNvSpPr/>
          <p:nvPr/>
        </p:nvSpPr>
        <p:spPr>
          <a:xfrm flipH="1">
            <a:off x="4642560" y="21542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环境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1"/>
          <p:cNvSpPr/>
          <p:nvPr/>
        </p:nvSpPr>
        <p:spPr>
          <a:xfrm flipH="1">
            <a:off x="2610720" y="309096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环境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1"/>
          <p:cNvSpPr/>
          <p:nvPr/>
        </p:nvSpPr>
        <p:spPr>
          <a:xfrm flipH="1">
            <a:off x="5292000" y="41702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环境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 flipH="1">
            <a:off x="2394720" y="53942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庭环境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63"/>
          <p:cNvSpPr/>
          <p:nvPr/>
        </p:nvSpPr>
        <p:spPr>
          <a:xfrm flipH="1">
            <a:off x="4122720" y="2546280"/>
            <a:ext cx="2394000" cy="0"/>
          </a:xfrm>
          <a:prstGeom prst="line">
            <a:avLst/>
          </a:prstGeom>
          <a:ln w="12600">
            <a:solidFill>
              <a:srgbClr val="005ddf"/>
            </a:solidFill>
            <a:prstDash val="sysDot"/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64"/>
          <p:cNvSpPr/>
          <p:nvPr/>
        </p:nvSpPr>
        <p:spPr>
          <a:xfrm flipH="1">
            <a:off x="2637000" y="3573360"/>
            <a:ext cx="2373120" cy="0"/>
          </a:xfrm>
          <a:prstGeom prst="line">
            <a:avLst/>
          </a:prstGeom>
          <a:ln w="12600">
            <a:solidFill>
              <a:srgbClr val="be1247"/>
            </a:solidFill>
            <a:prstDash val="sysDot"/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65"/>
          <p:cNvSpPr/>
          <p:nvPr/>
        </p:nvSpPr>
        <p:spPr>
          <a:xfrm flipH="1">
            <a:off x="3970080" y="4653000"/>
            <a:ext cx="2778120" cy="1440"/>
          </a:xfrm>
          <a:prstGeom prst="line">
            <a:avLst/>
          </a:prstGeom>
          <a:ln w="12600">
            <a:solidFill>
              <a:srgbClr val="ff9801"/>
            </a:solidFill>
            <a:prstDash val="sysDot"/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66"/>
          <p:cNvSpPr/>
          <p:nvPr/>
        </p:nvSpPr>
        <p:spPr>
          <a:xfrm flipH="1">
            <a:off x="2395440" y="5805360"/>
            <a:ext cx="2408400" cy="0"/>
          </a:xfrm>
          <a:prstGeom prst="line">
            <a:avLst/>
          </a:prstGeom>
          <a:ln w="12600">
            <a:solidFill>
              <a:srgbClr val="119707"/>
            </a:solidFill>
            <a:prstDash val="sysDot"/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118"/>
          <p:cNvSpPr/>
          <p:nvPr/>
        </p:nvSpPr>
        <p:spPr>
          <a:xfrm>
            <a:off x="2060640" y="5435640"/>
            <a:ext cx="135000" cy="600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800000"/>
          </a:gra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119"/>
          <p:cNvSpPr/>
          <p:nvPr/>
        </p:nvSpPr>
        <p:spPr>
          <a:xfrm>
            <a:off x="6948360" y="4189320"/>
            <a:ext cx="36036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120"/>
          <p:cNvSpPr/>
          <p:nvPr/>
        </p:nvSpPr>
        <p:spPr>
          <a:xfrm>
            <a:off x="2131920" y="3063960"/>
            <a:ext cx="351000" cy="723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400000"/>
          </a:gra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121"/>
          <p:cNvSpPr/>
          <p:nvPr/>
        </p:nvSpPr>
        <p:spPr>
          <a:xfrm>
            <a:off x="6661080" y="2022480"/>
            <a:ext cx="480960" cy="673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rcRect l="26835" t="21046" r="22209" b="34808"/>
          <a:stretch/>
        </p:blipFill>
        <p:spPr>
          <a:xfrm>
            <a:off x="146160" y="-27000"/>
            <a:ext cx="1746000" cy="1717560"/>
          </a:xfrm>
          <a:prstGeom prst="rect">
            <a:avLst/>
          </a:prstGeom>
          <a:ln w="0">
            <a:noFill/>
          </a:ln>
        </p:spPr>
      </p:pic>
      <p:sp>
        <p:nvSpPr>
          <p:cNvPr id="233" name="矩形 69"/>
          <p:cNvSpPr/>
          <p:nvPr/>
        </p:nvSpPr>
        <p:spPr>
          <a:xfrm>
            <a:off x="717480" y="69516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职业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74"/>
          <p:cNvSpPr/>
          <p:nvPr/>
        </p:nvSpPr>
        <p:spPr>
          <a:xfrm>
            <a:off x="0" y="674676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5"/>
          <p:cNvSpPr/>
          <p:nvPr/>
        </p:nvSpPr>
        <p:spPr>
          <a:xfrm>
            <a:off x="-22320" y="6597720"/>
            <a:ext cx="9166320" cy="1062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1"/>
          <p:cNvSpPr/>
          <p:nvPr/>
        </p:nvSpPr>
        <p:spPr>
          <a:xfrm>
            <a:off x="0" y="130500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rcRect l="30443" t="19890" r="29898" b="35769"/>
          <a:stretch/>
        </p:blipFill>
        <p:spPr>
          <a:xfrm>
            <a:off x="-34920" y="-171360"/>
            <a:ext cx="1546200" cy="1968480"/>
          </a:xfrm>
          <a:prstGeom prst="rect">
            <a:avLst/>
          </a:prstGeom>
          <a:ln w="0">
            <a:noFill/>
          </a:ln>
        </p:spPr>
      </p:pic>
      <p:sp>
        <p:nvSpPr>
          <p:cNvPr id="238" name="矩形 5"/>
          <p:cNvSpPr/>
          <p:nvPr/>
        </p:nvSpPr>
        <p:spPr>
          <a:xfrm>
            <a:off x="719280" y="69228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职业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23960" y="3019320"/>
          <a:ext cx="7808760" cy="2637000"/>
        </p:xfrm>
        <a:graphic>
          <a:graphicData uri="http://schemas.openxmlformats.org/drawingml/2006/table">
            <a:tbl>
              <a:tblPr/>
              <a:tblGrid>
                <a:gridCol w="1893960"/>
                <a:gridCol w="2977920"/>
                <a:gridCol w="2936880"/>
              </a:tblGrid>
              <a:tr h="371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内部环境因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优势因素（Ｓ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弱势因素（Ｗ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1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扎实的专业知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优秀的人际交往能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踏实稳重独立的性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工作有条理和计划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知识面不够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有独断专行倾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创新意识欠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缺乏灵活反应能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部环境因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机会因素（Ｏ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威胁因素（Ｔ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4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专业人才缺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发展前景广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国家政策鼓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该行业进入者增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行业监管缺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与政策关系紧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矩形 13"/>
          <p:cNvSpPr/>
          <p:nvPr/>
        </p:nvSpPr>
        <p:spPr>
          <a:xfrm>
            <a:off x="6024240" y="228924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204a"/>
                </a:solidFill>
                <a:latin typeface="方正综艺简体"/>
                <a:ea typeface="方正综艺简体"/>
              </a:rPr>
              <a:t>SWOT</a:t>
            </a:r>
            <a:r>
              <a:rPr b="1" lang="zh-CN" sz="4000" spc="-1" strike="noStrike">
                <a:solidFill>
                  <a:srgbClr val="5a204a"/>
                </a:solidFill>
                <a:latin typeface="方正综艺简体"/>
                <a:ea typeface="方正综艺简体"/>
              </a:rPr>
              <a:t>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11"/>
          <p:cNvSpPr/>
          <p:nvPr/>
        </p:nvSpPr>
        <p:spPr>
          <a:xfrm>
            <a:off x="0" y="130500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rcRect l="30443" t="19890" r="29898" b="35769"/>
          <a:stretch/>
        </p:blipFill>
        <p:spPr>
          <a:xfrm>
            <a:off x="-34920" y="-171360"/>
            <a:ext cx="1546200" cy="1968480"/>
          </a:xfrm>
          <a:prstGeom prst="rect">
            <a:avLst/>
          </a:prstGeom>
          <a:ln w="0">
            <a:noFill/>
          </a:ln>
        </p:spPr>
      </p:pic>
      <p:sp>
        <p:nvSpPr>
          <p:cNvPr id="245" name="矩形 5"/>
          <p:cNvSpPr/>
          <p:nvPr/>
        </p:nvSpPr>
        <p:spPr>
          <a:xfrm>
            <a:off x="719280" y="69228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职业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3"/>
          <p:cNvSpPr/>
          <p:nvPr/>
        </p:nvSpPr>
        <p:spPr>
          <a:xfrm>
            <a:off x="5995080" y="2216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a204a"/>
                </a:solidFill>
                <a:latin typeface="方正综艺简体"/>
                <a:ea typeface="方正综艺简体"/>
              </a:rPr>
              <a:t>我的职业规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9640" y="2924280"/>
          <a:ext cx="8064360" cy="2749320"/>
        </p:xfrm>
        <a:graphic>
          <a:graphicData uri="http://schemas.openxmlformats.org/drawingml/2006/table">
            <a:tbl>
              <a:tblPr/>
              <a:tblGrid>
                <a:gridCol w="1511280"/>
                <a:gridCol w="6553080"/>
              </a:tblGrid>
              <a:tr h="48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职业目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金融分析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368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职业发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策略与路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职业生涯初期进入四大会计师事务所之一进行职业前期锻炼，期间考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P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注册会计师）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F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特许金融分析师）等相关证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工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~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后去香港或美国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M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利用工作及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MB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期间的经历，进入中国大陆的大型国企或央企工作，如中国国际金融有限公司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IC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工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后前往华尔街打拼，开始在大型投行或证券公司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11"/>
          <p:cNvSpPr/>
          <p:nvPr/>
        </p:nvSpPr>
        <p:spPr>
          <a:xfrm>
            <a:off x="0" y="130500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7"/>
          <p:cNvSpPr/>
          <p:nvPr/>
        </p:nvSpPr>
        <p:spPr>
          <a:xfrm>
            <a:off x="0" y="645156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8"/>
          <p:cNvSpPr/>
          <p:nvPr/>
        </p:nvSpPr>
        <p:spPr>
          <a:xfrm>
            <a:off x="-22320" y="6302520"/>
            <a:ext cx="9166320" cy="1062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rcRect l="30366" t="23864" r="31383" b="36758"/>
          <a:stretch/>
        </p:blipFill>
        <p:spPr>
          <a:xfrm>
            <a:off x="-96840" y="-31680"/>
            <a:ext cx="1665360" cy="1949400"/>
          </a:xfrm>
          <a:prstGeom prst="rect">
            <a:avLst/>
          </a:prstGeom>
          <a:ln w="0">
            <a:noFill/>
          </a:ln>
        </p:spPr>
      </p:pic>
      <p:sp>
        <p:nvSpPr>
          <p:cNvPr id="254" name="矩形 5"/>
          <p:cNvSpPr/>
          <p:nvPr/>
        </p:nvSpPr>
        <p:spPr>
          <a:xfrm>
            <a:off x="719280" y="69228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计划实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50920" y="2089080"/>
          <a:ext cx="8497440" cy="4076640"/>
        </p:xfrm>
        <a:graphic>
          <a:graphicData uri="http://schemas.openxmlformats.org/drawingml/2006/table">
            <a:tbl>
              <a:tblPr/>
              <a:tblGrid>
                <a:gridCol w="2095560"/>
                <a:gridCol w="6401880"/>
              </a:tblGrid>
              <a:tr h="24444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短期计划（本科学习阶段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间跨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—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本期目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顺利毕业，进入清华经管读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细分目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平时认真学习专业知识，大二通过英语四六级，大三通过计算机二级考试及其他英语资格考试，积极准备保研，大四积极寻找实习机会，并保证在毕业时顺利完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CCA1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门全球统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策略和措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参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多参加学校各类活动，争取一直拥有毕马威华振会计师事务所精英计划学员资格，尽可能发表论文，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GMAT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ELTS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雅思）考试中获得高分，并尽可能多的考取与专业相关的资格证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中期计划（本科毕业后五年内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间跨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—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本期目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生毕业，进入四大会计师事务所之一工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细分目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学校里跟随导师及师兄师姐完成科研工作，同时积极寻求名企实习锻炼机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策略和措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参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研究生期间尽可能多的发表论文，考取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PA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注册会计师）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FA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特许金融分析师）等含金量高的证书。通过在企业的实习积累经验，毕业后能留在北京工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 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长期计划（本科毕业后十年内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间跨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1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—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2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本期目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为一名高级金融分析师，进入华尔街工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细分目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知识结构上不断完善，以大型国企（央企）为跳板，最终进入华尔街核心金融地带工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880"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策略和措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参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工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~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后去香港或美国读深造，利用工作及深造期间的经历与经验，进入中国大陆的大型国企或央企工作，如中国国际金融有限公司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IC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等。工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~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后前往华尔街打拼，开始在大型投行或证券公司工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6" name="矩形 14"/>
          <p:cNvSpPr/>
          <p:nvPr/>
        </p:nvSpPr>
        <p:spPr>
          <a:xfrm>
            <a:off x="4005000" y="1695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a204a"/>
                </a:solidFill>
                <a:latin typeface="方正综艺简体"/>
                <a:ea typeface="方正综艺简体"/>
              </a:rPr>
              <a:t>计划实施一览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5"/>
          <p:cNvSpPr/>
          <p:nvPr/>
        </p:nvSpPr>
        <p:spPr>
          <a:xfrm>
            <a:off x="1577880" y="2492280"/>
            <a:ext cx="7566120" cy="3913200"/>
          </a:xfrm>
          <a:prstGeom prst="pie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6550200" y="25092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alham"/>
                <a:ea typeface="Verdana"/>
              </a:rPr>
              <a:t>Age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rcRect l="30821" t="21677" r="28950" b="36947"/>
          <a:stretch/>
        </p:blipFill>
        <p:spPr>
          <a:xfrm>
            <a:off x="173160" y="1085760"/>
            <a:ext cx="1881000" cy="2198880"/>
          </a:xfrm>
          <a:prstGeom prst="rect">
            <a:avLst/>
          </a:prstGeom>
          <a:ln w="0">
            <a:noFill/>
          </a:ln>
        </p:spPr>
      </p:pic>
      <p:sp>
        <p:nvSpPr>
          <p:cNvPr id="260" name="矩形 10"/>
          <p:cNvSpPr/>
          <p:nvPr/>
        </p:nvSpPr>
        <p:spPr>
          <a:xfrm>
            <a:off x="861840" y="1973160"/>
            <a:ext cx="25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结束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"/>
          <p:cNvSpPr/>
          <p:nvPr/>
        </p:nvSpPr>
        <p:spPr>
          <a:xfrm>
            <a:off x="2556000" y="4051440"/>
            <a:ext cx="624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未来因规划而不同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我的未来我做主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"/>
          <p:cNvSpPr/>
          <p:nvPr/>
        </p:nvSpPr>
        <p:spPr>
          <a:xfrm>
            <a:off x="682560" y="3652920"/>
            <a:ext cx="1009800" cy="208116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8"/>
          <p:cNvSpPr/>
          <p:nvPr/>
        </p:nvSpPr>
        <p:spPr>
          <a:xfrm>
            <a:off x="1908000" y="3220920"/>
            <a:ext cx="1008360" cy="2513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70"/>
                            </p:stCondLst>
                            <p:childTnLst>
                              <p:par>
                                <p:cTn id="4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remove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remove" presetClass="emph" presetID="27" repeatCount="4000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464" dur="250" autoRev="1" fill="remov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5" dur="250" autoRev="1" fill="remov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6" dur="250" autoRev="1" fill="remov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7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2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3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1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1">
                                          <p:stCondLst>
                                            <p:cond delay="207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3" fill="hold">
                                          <p:stCondLst>
                                            <p:cond delay="81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21" fill="hold">
                                          <p:stCondLst>
                                            <p:cond delay="8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3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21" fill="hold">
                                          <p:stCondLst>
                                            <p:cond delay="167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3" fill="hold">
                                          <p:stCondLst>
                                            <p:cond delay="20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21" fill="hold">
                                          <p:stCondLst>
                                            <p:cond delay="2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3" fill="hold">
                                          <p:stCondLst>
                                            <p:cond delay="22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21" fill="hold">
                                          <p:stCondLst>
                                            <p:cond delay="22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五角星 1"/>
          <p:cNvSpPr/>
          <p:nvPr/>
        </p:nvSpPr>
        <p:spPr>
          <a:xfrm rot="20877600">
            <a:off x="-936360" y="-4485960"/>
            <a:ext cx="10672920" cy="14228640"/>
          </a:xfrm>
          <a:prstGeom prst="star5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2916360" y="29988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THANK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2340000" y="37908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敬请各位评委提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DC4-968A-4430-B9C0-4A28E1A0DF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dur="indefinite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7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2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3">
                                          <p:stCondLst>
                                            <p:cond delay="83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1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1">
                                          <p:stCondLst>
                                            <p:cond delay="207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3" fill="hold">
                                          <p:stCondLst>
                                            <p:cond delay="81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21" fill="hold">
                                          <p:stCondLst>
                                            <p:cond delay="8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3" fill="hold">
                                          <p:stCondLst>
                                            <p:cond delay="1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21" fill="hold">
                                          <p:stCondLst>
                                            <p:cond delay="167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3" fill="hold">
                                          <p:stCondLst>
                                            <p:cond delay="20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21" fill="hold">
                                          <p:stCondLst>
                                            <p:cond delay="2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3" fill="hold">
                                          <p:stCondLst>
                                            <p:cond delay="22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21" fill="hold">
                                          <p:stCondLst>
                                            <p:cond delay="22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410"/>
                            </p:stCondLst>
                            <p:childTnLst>
                              <p:par>
                                <p:cTn id="5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0" y="1819440"/>
            <a:ext cx="7013520" cy="5038560"/>
            <a:chOff x="0" y="1819440"/>
            <a:chExt cx="7013520" cy="5038560"/>
          </a:xfrm>
        </p:grpSpPr>
        <p:pic>
          <p:nvPicPr>
            <p:cNvPr id="90" name="图片 3" descr=""/>
            <p:cNvPicPr/>
            <p:nvPr/>
          </p:nvPicPr>
          <p:blipFill>
            <a:blip r:embed="rId1"/>
            <a:srcRect l="23252" t="0" r="0" b="1933"/>
            <a:stretch/>
          </p:blipFill>
          <p:spPr>
            <a:xfrm>
              <a:off x="0" y="1819440"/>
              <a:ext cx="7013520" cy="50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7"/>
            <p:cNvSpPr/>
            <p:nvPr/>
          </p:nvSpPr>
          <p:spPr>
            <a:xfrm>
              <a:off x="146160" y="3096720"/>
              <a:ext cx="2592360" cy="841320"/>
            </a:xfrm>
            <a:prstGeom prst="rect">
              <a:avLst/>
            </a:prstGeom>
            <a:solidFill>
              <a:srgbClr val="f79646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职业生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4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3693960" y="2205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在职业发展道路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重要的不是你现在所处的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而是迈出下一步的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3693960" y="3782880"/>
            <a:ext cx="4572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生涯规划简而言之就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知己  知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择优选择职业目标和路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并用高效行动去达成职业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18"/>
          <p:cNvGrpSpPr/>
          <p:nvPr/>
        </p:nvGrpSpPr>
        <p:grpSpPr>
          <a:xfrm>
            <a:off x="3648240" y="3516480"/>
            <a:ext cx="4663800" cy="107640"/>
            <a:chOff x="3648240" y="3516480"/>
            <a:chExt cx="4663800" cy="107640"/>
          </a:xfrm>
        </p:grpSpPr>
        <p:sp>
          <p:nvSpPr>
            <p:cNvPr id="96" name="矩形 10"/>
            <p:cNvSpPr/>
            <p:nvPr/>
          </p:nvSpPr>
          <p:spPr>
            <a:xfrm>
              <a:off x="364824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1"/>
            <p:cNvSpPr/>
            <p:nvPr/>
          </p:nvSpPr>
          <p:spPr>
            <a:xfrm>
              <a:off x="423540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12"/>
            <p:cNvSpPr/>
            <p:nvPr/>
          </p:nvSpPr>
          <p:spPr>
            <a:xfrm>
              <a:off x="482292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3"/>
            <p:cNvSpPr/>
            <p:nvPr/>
          </p:nvSpPr>
          <p:spPr>
            <a:xfrm>
              <a:off x="541044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4"/>
            <p:cNvSpPr/>
            <p:nvPr/>
          </p:nvSpPr>
          <p:spPr>
            <a:xfrm>
              <a:off x="599760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5"/>
            <p:cNvSpPr/>
            <p:nvPr/>
          </p:nvSpPr>
          <p:spPr>
            <a:xfrm>
              <a:off x="658512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6"/>
            <p:cNvSpPr/>
            <p:nvPr/>
          </p:nvSpPr>
          <p:spPr>
            <a:xfrm>
              <a:off x="717264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7"/>
            <p:cNvSpPr/>
            <p:nvPr/>
          </p:nvSpPr>
          <p:spPr>
            <a:xfrm>
              <a:off x="7759800" y="3516480"/>
              <a:ext cx="552240" cy="10764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2"/>
          <p:cNvGrpSpPr/>
          <p:nvPr/>
        </p:nvGrpSpPr>
        <p:grpSpPr>
          <a:xfrm>
            <a:off x="0" y="0"/>
            <a:ext cx="9144000" cy="1965240"/>
            <a:chOff x="0" y="0"/>
            <a:chExt cx="9144000" cy="1965240"/>
          </a:xfrm>
        </p:grpSpPr>
        <p:sp>
          <p:nvSpPr>
            <p:cNvPr id="105" name="矩形 19"/>
            <p:cNvSpPr/>
            <p:nvPr/>
          </p:nvSpPr>
          <p:spPr>
            <a:xfrm>
              <a:off x="0" y="0"/>
              <a:ext cx="9144000" cy="181908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20"/>
            <p:cNvSpPr/>
            <p:nvPr/>
          </p:nvSpPr>
          <p:spPr>
            <a:xfrm>
              <a:off x="0" y="1858680"/>
              <a:ext cx="9144000" cy="10656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33072" t="22981" r="33856" b="44232"/>
          <a:stretch/>
        </p:blipFill>
        <p:spPr>
          <a:xfrm>
            <a:off x="466560" y="1701720"/>
            <a:ext cx="3313440" cy="4464000"/>
          </a:xfrm>
          <a:prstGeom prst="rect">
            <a:avLst/>
          </a:prstGeom>
          <a:ln w="0">
            <a:noFill/>
          </a:ln>
        </p:spPr>
      </p:pic>
      <p:sp>
        <p:nvSpPr>
          <p:cNvPr id="108" name="矩形 5"/>
          <p:cNvSpPr/>
          <p:nvPr/>
        </p:nvSpPr>
        <p:spPr>
          <a:xfrm>
            <a:off x="1547640" y="244476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2340000" y="357336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个人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兴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3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4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个人特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6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胜任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75"/>
                            </p:stCondLst>
                            <p:childTnLst>
                              <p:par>
                                <p:cTn id="8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3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14" name="矩形 5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611280" y="115092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个人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3456000" y="37940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大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国际经济与贸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AC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西安交通大学优秀学生标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校甲级社团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XXX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主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毕马威精英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0"/>
          <p:cNvSpPr/>
          <p:nvPr/>
        </p:nvSpPr>
        <p:spPr>
          <a:xfrm>
            <a:off x="2808360" y="1557360"/>
            <a:ext cx="242640" cy="410364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3114720" y="3794040"/>
            <a:ext cx="241200" cy="1866960"/>
          </a:xfrm>
          <a:prstGeom prst="rect">
            <a:avLst/>
          </a:prstGeom>
          <a:solidFill>
            <a:srgbClr val="e3b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lenovo\AppData\Local\Temp\ksohtml\wps_clip_image-6831.png"/>
          <p:cNvPicPr/>
          <p:nvPr/>
        </p:nvPicPr>
        <p:blipFill>
          <a:blip r:embed="rId1"/>
          <a:stretch/>
        </p:blipFill>
        <p:spPr>
          <a:xfrm>
            <a:off x="544680" y="1785960"/>
            <a:ext cx="3090600" cy="3639960"/>
          </a:xfrm>
          <a:prstGeom prst="rect">
            <a:avLst/>
          </a:prstGeom>
          <a:ln w="0">
            <a:noFill/>
          </a:ln>
        </p:spPr>
      </p:pic>
      <p:sp>
        <p:nvSpPr>
          <p:cNvPr id="124" name="矩形 11"/>
          <p:cNvSpPr/>
          <p:nvPr/>
        </p:nvSpPr>
        <p:spPr>
          <a:xfrm>
            <a:off x="1293480" y="5445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霍兰德职业兴趣测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4067280" y="1628640"/>
            <a:ext cx="4751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平均分数</a:t>
            </a:r>
            <a:r>
              <a:rPr b="1" lang="en-US" sz="2800" spc="-1" strike="noStrike">
                <a:solidFill>
                  <a:srgbClr val="e3b325"/>
                </a:solidFill>
                <a:latin typeface="微软雅黑"/>
                <a:ea typeface="微软雅黑"/>
              </a:rPr>
              <a:t>7.167</a:t>
            </a: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分  分数极差为</a:t>
            </a:r>
            <a:r>
              <a:rPr b="1" lang="en-US" sz="2800" spc="-1" strike="noStrike">
                <a:solidFill>
                  <a:srgbClr val="e3b325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对应于</a:t>
            </a:r>
            <a:r>
              <a:rPr b="1" lang="zh-CN" sz="2400" spc="-1" strike="noStrike">
                <a:solidFill>
                  <a:srgbClr val="e3b325"/>
                </a:solidFill>
                <a:latin typeface="微软雅黑"/>
                <a:ea typeface="微软雅黑"/>
              </a:rPr>
              <a:t>艺术型</a:t>
            </a: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和</a:t>
            </a:r>
            <a:r>
              <a:rPr b="1" lang="zh-CN" sz="2400" spc="-1" strike="noStrike">
                <a:solidFill>
                  <a:srgbClr val="e3b325"/>
                </a:solidFill>
                <a:latin typeface="微软雅黑"/>
                <a:ea typeface="微软雅黑"/>
              </a:rPr>
              <a:t>社会型</a:t>
            </a: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之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4067280" y="2932200"/>
            <a:ext cx="4998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4001c"/>
                </a:solidFill>
                <a:latin typeface="微软雅黑"/>
                <a:ea typeface="微软雅黑"/>
              </a:rPr>
              <a:t>结合我的实际情况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4001c"/>
                </a:solidFill>
                <a:latin typeface="微软雅黑"/>
                <a:ea typeface="微软雅黑"/>
              </a:rPr>
              <a:t>我爱好艺术，对生活有着自己独特的一套见解，总是能从生活中找到自己所感兴趣的东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4001c"/>
                </a:solidFill>
                <a:latin typeface="微软雅黑"/>
                <a:ea typeface="微软雅黑"/>
              </a:rPr>
              <a:t>我喜欢与人交流，能很容易跟周围的人打成一片，够迅速的融入一个新的集体，并且在其中发挥自己的作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4001c"/>
                </a:solidFill>
                <a:latin typeface="微软雅黑"/>
                <a:ea typeface="微软雅黑"/>
              </a:rPr>
              <a:t>喜欢钻研一些自己专业的东西，比如每届政府在经济政策方面的变化、产业结构与进出口商品关系、股票及期货市场走势等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4001c"/>
                </a:solidFill>
                <a:latin typeface="微软雅黑"/>
                <a:ea typeface="微软雅黑"/>
              </a:rPr>
              <a:t>对生活的敏感、对知识的渴望，使我有足够的理由认为，我能够成为一个合格的高水平金融工作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5"/>
          <p:cNvGrpSpPr/>
          <p:nvPr/>
        </p:nvGrpSpPr>
        <p:grpSpPr>
          <a:xfrm>
            <a:off x="4122720" y="2492280"/>
            <a:ext cx="4665600" cy="108000"/>
            <a:chOff x="4122720" y="2492280"/>
            <a:chExt cx="4665600" cy="108000"/>
          </a:xfrm>
        </p:grpSpPr>
        <p:sp>
          <p:nvSpPr>
            <p:cNvPr id="128" name="矩形 16"/>
            <p:cNvSpPr/>
            <p:nvPr/>
          </p:nvSpPr>
          <p:spPr>
            <a:xfrm>
              <a:off x="412272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7"/>
            <p:cNvSpPr/>
            <p:nvPr/>
          </p:nvSpPr>
          <p:spPr>
            <a:xfrm>
              <a:off x="471024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8"/>
            <p:cNvSpPr/>
            <p:nvPr/>
          </p:nvSpPr>
          <p:spPr>
            <a:xfrm>
              <a:off x="529776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9"/>
            <p:cNvSpPr/>
            <p:nvPr/>
          </p:nvSpPr>
          <p:spPr>
            <a:xfrm>
              <a:off x="588528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20"/>
            <p:cNvSpPr/>
            <p:nvPr/>
          </p:nvSpPr>
          <p:spPr>
            <a:xfrm>
              <a:off x="647316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21"/>
            <p:cNvSpPr/>
            <p:nvPr/>
          </p:nvSpPr>
          <p:spPr>
            <a:xfrm>
              <a:off x="706068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22"/>
            <p:cNvSpPr/>
            <p:nvPr/>
          </p:nvSpPr>
          <p:spPr>
            <a:xfrm>
              <a:off x="764820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3"/>
            <p:cNvSpPr/>
            <p:nvPr/>
          </p:nvSpPr>
          <p:spPr>
            <a:xfrm>
              <a:off x="8236080" y="2492280"/>
              <a:ext cx="552240" cy="10800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矩形 30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38" name="矩形 32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3"/>
          <p:cNvSpPr/>
          <p:nvPr/>
        </p:nvSpPr>
        <p:spPr>
          <a:xfrm>
            <a:off x="611280" y="115092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兴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5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1"/>
          <p:cNvSpPr/>
          <p:nvPr/>
        </p:nvSpPr>
        <p:spPr>
          <a:xfrm>
            <a:off x="1636560" y="2060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能力测评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538360"/>
          <a:ext cx="2900520" cy="2879640"/>
        </p:xfrm>
        <a:graphic>
          <a:graphicData uri="http://schemas.openxmlformats.org/drawingml/2006/table">
            <a:tbl>
              <a:tblPr/>
              <a:tblGrid>
                <a:gridCol w="1675440"/>
                <a:gridCol w="1225080"/>
              </a:tblGrid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力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得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基本智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言语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理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推理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人文素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信息分析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4" name="组合 1"/>
          <p:cNvGrpSpPr/>
          <p:nvPr/>
        </p:nvGrpSpPr>
        <p:grpSpPr>
          <a:xfrm>
            <a:off x="4211640" y="3417840"/>
            <a:ext cx="4249800" cy="2090880"/>
            <a:chOff x="4211640" y="3417840"/>
            <a:chExt cx="4249800" cy="2090880"/>
          </a:xfrm>
        </p:grpSpPr>
        <p:sp>
          <p:nvSpPr>
            <p:cNvPr id="145" name="矩形 25"/>
            <p:cNvSpPr/>
            <p:nvPr/>
          </p:nvSpPr>
          <p:spPr>
            <a:xfrm>
              <a:off x="4211640" y="3608640"/>
              <a:ext cx="4249800" cy="169308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4"/>
            <p:cNvSpPr/>
            <p:nvPr/>
          </p:nvSpPr>
          <p:spPr>
            <a:xfrm>
              <a:off x="4283640" y="3789000"/>
              <a:ext cx="40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的具体情况是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维活跃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总有新奇的点子，喜欢从新的视角看问题，见解较独特，做事认真。我善于与人沟通，人际关系很好，这对我成为一名优秀的金融人才很有帮助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27"/>
            <p:cNvSpPr/>
            <p:nvPr/>
          </p:nvSpPr>
          <p:spPr>
            <a:xfrm>
              <a:off x="4211640" y="3417840"/>
              <a:ext cx="4249800" cy="13608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28"/>
            <p:cNvSpPr/>
            <p:nvPr/>
          </p:nvSpPr>
          <p:spPr>
            <a:xfrm>
              <a:off x="4211640" y="5372640"/>
              <a:ext cx="4249800" cy="136080"/>
            </a:xfrm>
            <a:prstGeom prst="rect">
              <a:avLst/>
            </a:prstGeom>
            <a:solidFill>
              <a:srgbClr val="5a2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矩形 31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51" name="矩形 33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4"/>
          <p:cNvSpPr/>
          <p:nvPr/>
        </p:nvSpPr>
        <p:spPr>
          <a:xfrm>
            <a:off x="611280" y="115092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3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"/>
                            </p:stCondLst>
                            <p:childTnLst>
                              <p:par>
                                <p:cTn id="17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3760920" y="37004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）工作有条不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）强势并且直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）事情做对最重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）直述心中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）讨厌谈及私事和心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）倾向自己解决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0"/>
          <p:cNvSpPr/>
          <p:nvPr/>
        </p:nvSpPr>
        <p:spPr>
          <a:xfrm>
            <a:off x="2808360" y="1557360"/>
            <a:ext cx="242640" cy="410364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3203640" y="3794040"/>
            <a:ext cx="241200" cy="1866960"/>
          </a:xfrm>
          <a:prstGeom prst="rect">
            <a:avLst/>
          </a:prstGeom>
          <a:solidFill>
            <a:srgbClr val="e3b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3132000" y="307008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人才素质测评报告结果显示我具有支配服从型特征，具体情况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3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61" name="矩形 25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6"/>
          <p:cNvSpPr/>
          <p:nvPr/>
        </p:nvSpPr>
        <p:spPr>
          <a:xfrm>
            <a:off x="611280" y="115092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4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特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1"/>
          <p:cNvSpPr/>
          <p:nvPr/>
        </p:nvSpPr>
        <p:spPr>
          <a:xfrm>
            <a:off x="1642320" y="1989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001c"/>
                </a:solidFill>
                <a:latin typeface="微软雅黑"/>
                <a:ea typeface="微软雅黑"/>
              </a:rPr>
              <a:t>人才素质测评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4067280" y="440532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家庭取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我实现取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支配取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71640" y="2421000"/>
          <a:ext cx="2736720" cy="3200400"/>
        </p:xfrm>
        <a:graphic>
          <a:graphicData uri="http://schemas.openxmlformats.org/drawingml/2006/table">
            <a:tbl>
              <a:tblPr/>
              <a:tblGrid>
                <a:gridCol w="1619280"/>
                <a:gridCol w="1117440"/>
              </a:tblGrid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价值类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得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经营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经济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志愿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自尊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支配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庭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才能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自由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自我实现取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矩形 2"/>
          <p:cNvSpPr/>
          <p:nvPr/>
        </p:nvSpPr>
        <p:spPr>
          <a:xfrm>
            <a:off x="4979880" y="384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其中得分最高的三项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4"/>
          <p:cNvSpPr/>
          <p:nvPr/>
        </p:nvSpPr>
        <p:spPr>
          <a:xfrm>
            <a:off x="4211640" y="4365720"/>
            <a:ext cx="3995640" cy="0"/>
          </a:xfrm>
          <a:prstGeom prst="line">
            <a:avLst/>
          </a:prstGeom>
          <a:ln w="28440">
            <a:solidFill>
              <a:srgbClr val="66006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8"/>
          <p:cNvSpPr/>
          <p:nvPr/>
        </p:nvSpPr>
        <p:spPr>
          <a:xfrm>
            <a:off x="4211640" y="5661000"/>
            <a:ext cx="3995640" cy="0"/>
          </a:xfrm>
          <a:prstGeom prst="line">
            <a:avLst/>
          </a:prstGeom>
          <a:ln w="28440">
            <a:solidFill>
              <a:srgbClr val="66006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3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73" name="矩形 29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0"/>
          <p:cNvSpPr/>
          <p:nvPr/>
        </p:nvSpPr>
        <p:spPr>
          <a:xfrm>
            <a:off x="611280" y="115092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职业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2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" dur="25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"/>
                            </p:stCondLst>
                            <p:childTnLst>
                              <p:par>
                                <p:cTn id="2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7"/>
          <p:cNvSpPr/>
          <p:nvPr/>
        </p:nvSpPr>
        <p:spPr>
          <a:xfrm>
            <a:off x="0" y="5991120"/>
            <a:ext cx="9144000" cy="86688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8"/>
          <p:cNvSpPr/>
          <p:nvPr/>
        </p:nvSpPr>
        <p:spPr>
          <a:xfrm>
            <a:off x="-22320" y="5842080"/>
            <a:ext cx="9144000" cy="108000"/>
          </a:xfrm>
          <a:prstGeom prst="rect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3068640"/>
          <a:ext cx="8089560" cy="2448000"/>
        </p:xfrm>
        <a:graphic>
          <a:graphicData uri="http://schemas.openxmlformats.org/drawingml/2006/table">
            <a:tbl>
              <a:tblPr/>
              <a:tblGrid>
                <a:gridCol w="4019760"/>
                <a:gridCol w="4069800"/>
              </a:tblGrid>
              <a:tr h="48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我的优势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c000"/>
                          </a:solidFill>
                          <a:latin typeface="微软雅黑"/>
                          <a:ea typeface="微软雅黑"/>
                        </a:rPr>
                        <a:t>我的劣势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59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精力旺盛，追求成就与效率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注意细节与精准度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工作讲究条理与计划性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强势作风完成艰巨任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只谈实际的事务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不信任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会把实情藏在心中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注重追求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矩形 15"/>
          <p:cNvSpPr/>
          <p:nvPr/>
        </p:nvSpPr>
        <p:spPr>
          <a:xfrm>
            <a:off x="0" y="1015920"/>
            <a:ext cx="9144000" cy="10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rcRect l="33071" t="22984" r="33858" b="44232"/>
          <a:stretch/>
        </p:blipFill>
        <p:spPr>
          <a:xfrm>
            <a:off x="-219240" y="-171360"/>
            <a:ext cx="1406520" cy="1896840"/>
          </a:xfrm>
          <a:prstGeom prst="rect">
            <a:avLst/>
          </a:prstGeom>
          <a:ln w="0">
            <a:noFill/>
          </a:ln>
        </p:spPr>
      </p:pic>
      <p:sp>
        <p:nvSpPr>
          <p:cNvPr id="180" name="矩形 17"/>
          <p:cNvSpPr/>
          <p:nvPr/>
        </p:nvSpPr>
        <p:spPr>
          <a:xfrm>
            <a:off x="214200" y="406440"/>
            <a:ext cx="25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b325"/>
                </a:solidFill>
                <a:latin typeface="微软雅黑"/>
                <a:ea typeface="微软雅黑"/>
              </a:rPr>
              <a:t>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9"/>
          <p:cNvSpPr/>
          <p:nvPr/>
        </p:nvSpPr>
        <p:spPr>
          <a:xfrm>
            <a:off x="611280" y="115092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6.</a:t>
            </a:r>
            <a:r>
              <a:rPr b="1" lang="zh-CN" sz="2000" spc="-1" strike="noStrike">
                <a:solidFill>
                  <a:srgbClr val="14001c"/>
                </a:solidFill>
                <a:latin typeface="微软雅黑"/>
                <a:ea typeface="微软雅黑"/>
              </a:rPr>
              <a:t>胜任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720" y="6237360"/>
            <a:ext cx="6553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28:00Z</dcterms:created>
  <dc:creator>www.eeppt.com</dc:creator>
  <dc:description>ppt模板下载网站 http://www.eeppt.com</dc:description>
  <dc:language>en-US</dc:language>
  <cp:lastModifiedBy/>
  <dcterms:modified xsi:type="dcterms:W3CDTF">2015-05-22T15:48:42Z</dcterms:modified>
  <cp:revision>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