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78AC-C445-4096-8716-7ACBE243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BA8C-6E09-41B9-B8BE-92361FCB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5D0A-94CE-46D0-9DED-A2352190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9077-F185-45F3-A4FB-88DD9D45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D25-D144-43E0-914D-ACD1C66E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87F-2710-4225-8068-A2803184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8D71-429B-40F9-B3A5-840910E9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490E-2F74-4011-BB3C-84BBA165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20FE-450F-4AD7-8157-414413CC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BB69-BEA2-4D23-87BB-04C9A9E3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0005-6EF7-4A3B-9350-741712E2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5E1-8B82-40DA-AEBB-8C1C232D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CDA3-BC9A-477C-A069-2C4FD0F24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baike.baidu.com/view/123038.htm" TargetMode="External"/><Relationship Id="rId4" Type="http://schemas.openxmlformats.org/officeDocument/2006/relationships/hyperlink" Target="http://baike.baidu.com/view/33977.htm" TargetMode="External"/><Relationship Id="rId5" Type="http://schemas.openxmlformats.org/officeDocument/2006/relationships/hyperlink" Target="http://baike.baidu.com/view/2516.htm" TargetMode="External"/><Relationship Id="rId6" Type="http://schemas.openxmlformats.org/officeDocument/2006/relationships/hyperlink" Target="http://baike.baidu.com/view/805104.htm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baike.baidu.com/view/895.htm" TargetMode="External"/><Relationship Id="rId4" Type="http://schemas.openxmlformats.org/officeDocument/2006/relationships/hyperlink" Target="http://image.baidu.com/i?ct=503316480&amp;z=0&amp;tn=baiduimagedetail&amp;word=%CF%F2%C8&#1407;%FB&#674;%BF%AA&amp;in=24752&amp;cl=2&amp;lm=-1&amp;pn=17&amp;rn=1&amp;di=6622279938&amp;ln=2000&amp;fr=&amp;fmq=&amp;ic=&amp;s=&amp;se=&amp;sme=0&amp;tab=&amp;width=&amp;height=&amp;face=&amp;is=&amp;istype=2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baike.baidu.com/view/58539.htm" TargetMode="External"/><Relationship Id="rId7" Type="http://schemas.openxmlformats.org/officeDocument/2006/relationships/hyperlink" Target="http://image.baidu.com/i?ct=503316480&amp;z=&amp;tn=baiduimagedetail&amp;word=&#687;%F5%FA%C0%BC&amp;in=24161&amp;cl=2&amp;lm=-1&amp;pn=1&amp;rn=1&amp;di=13315498485&amp;ln=2000&amp;fr=&amp;fmq=&amp;ic=0&amp;s=0&amp;se=1&amp;sme=0&amp;tab=&amp;width=&amp;height=&amp;face=0&amp;is=&amp;istype=2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www.eeppt.com/moban/jieri/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http://pic7.nipic.com/20100524/3426142_215804068908_2.jpg"/>
          <p:cNvPicPr/>
          <p:nvPr/>
        </p:nvPicPr>
        <p:blipFill>
          <a:blip r:embed="rId1"/>
          <a:srcRect l="-53" t="0" r="0" b="3805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img2.ooopic.cn/uploadfilepic/weili/2010-01-10/OOOPIC2_sina102_20100110d71a0855bd012eb6.jpg"/>
          <p:cNvPicPr/>
          <p:nvPr/>
        </p:nvPicPr>
        <p:blipFill>
          <a:blip r:embed="rId1"/>
          <a:stretch/>
        </p:blipFill>
        <p:spPr>
          <a:xfrm>
            <a:off x="-30240" y="-79200"/>
            <a:ext cx="9229680" cy="6937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F:\PPT图片\图片1.jpg"/>
          <p:cNvPicPr/>
          <p:nvPr/>
        </p:nvPicPr>
        <p:blipFill>
          <a:blip r:embed="rId2"/>
          <a:stretch/>
        </p:blipFill>
        <p:spPr>
          <a:xfrm>
            <a:off x="8083440" y="5943600"/>
            <a:ext cx="1041480" cy="91440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1371600" y="30240"/>
            <a:ext cx="66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父亲节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0" y="685800"/>
            <a:ext cx="912636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世界上第一个父亲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1910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年诞生在美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是由住在美国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华盛顿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斯波坎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Spokane)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的布鲁斯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多德夫人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Mrs. Dodd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onora Louise Smart Dodd)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倡导的。多德夫人的母亲在生育第六个孩子时，因难产而死；多德夫人的父亲威廉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斯马特先生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Mr. William Smart)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曾参加过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/>
              </a:rPr>
              <a:t>南北战争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，他在妻子过世后，独自一人在华盛顿州东部的一个乡下农场，承担起抚养、教育六个孩子的重任。多德夫人排行老二，是家里唯一的女孩，女性的细心特质，让她更能体会父亲的辛劳：斯马特先生白天辛劳地工作，晚上回家还要照料家务与每一个孩子的生活。经过几十年的辛苦，儿女们终于长大成人。当子女们盼望能让斯马特先生好好安享晚年之际，斯马特先生却因多年的过度劳累于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0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年辞世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0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年斯马特先生辞世之年，当多德夫人参加完教会的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/>
              </a:rPr>
              <a:t>母亲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感恩礼拜后，她特别想念父亲；多德夫人心中明白，她的父亲在养育儿女过程中所付出的爱和艰辛，并不亚于任何一个母亲。多德夫人将她的感受告诉给教会的瑞马士牧师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(Rev. Rasmus)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，希望能有一个特别的日子，纪念全天下伟大的父亲。她的这一想法得到了牧师的赞许，同时得到了各教会组织的支持；多德夫人随即写信向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/>
              </a:rPr>
              <a:t>市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与州政府表达了自己的想法，并建议以她父亲的生日——每年的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日作为父亲节。斯波坎市市长与华盛顿州州长公开表示赞成，州政府采纳这一建议的同时，把节期改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月的第三个星期日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10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日，多德夫人所在的华盛顿州斯波坎市，举行了全世界的第一次父亲节庆祝活动。在差不多的时间里，美国各地其它城镇的人们也开始庆祝“父亲节”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img2.ooopic.cn/uploadfilepic/weili/2010-01-10/OOOPIC2_sina102_20100110d71a0855bd012eb6.jpg"/>
          <p:cNvPicPr/>
          <p:nvPr/>
        </p:nvPicPr>
        <p:blipFill>
          <a:blip r:embed="rId1"/>
          <a:stretch/>
        </p:blipFill>
        <p:spPr>
          <a:xfrm>
            <a:off x="0" y="-79200"/>
            <a:ext cx="9229680" cy="6937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F:\PPT图片\图片1.jpg"/>
          <p:cNvPicPr/>
          <p:nvPr/>
        </p:nvPicPr>
        <p:blipFill>
          <a:blip r:embed="rId2"/>
          <a:stretch/>
        </p:blipFill>
        <p:spPr>
          <a:xfrm>
            <a:off x="8083440" y="5943600"/>
            <a:ext cx="1041480" cy="91440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2743200" y="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父亲节花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0" y="798480"/>
            <a:ext cx="708660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向日葵配剑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　　——父爱如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花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：比海洋更宽阔的是天空，比天空更宽阔的是您的心胸，您额上的皱纹记载着坎坷，您的一生就是一首瑰丽的诗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灿烂时光——各色太阳花，绿叶适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　　花语：青春是一颗星星眨着真诚的眼睛，青春是一个微笑，传递着流动的快乐，青春是一首歌，唱出了满怀的激情，青春是一首诗，写满了生活的喜怒哀乐。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t1.baidu.com/it/u=1881937537,3139198926&amp;fm=2&amp;gp=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89760" y="1360440"/>
            <a:ext cx="2154240" cy="1611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0" y="3773520"/>
            <a:ext cx="751536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父亲节之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　　——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石斛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。由于石斛兰具有秉性刚强、祥和可亲的气质，有许多国家把它作为每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日的“父亲节之花。”在国外，石斛兰的花语为“欢迎你，亲爱的。”父亲节送石斛兰，这是父亲之花，表示坚毅、勇敢；石斛的花语是：欢迎、祝福、纯洁、吉祥、幸福。黄色的石斛兰是在父亲节或父亲的生日时赠送父亲的花，寓意父亲的刚毅、亲切而威严，表达对父亲的敬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t1.baidu.com/it/u=1800892017,1659295980&amp;fm=0&amp;gp=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67480" y="3733920"/>
            <a:ext cx="1641600" cy="2209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320" y="3352680"/>
            <a:ext cx="592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g2.ooopic.cn/uploadfilepic/weili/2010-01-10/OOOPIC2_sina102_20100110d71a0855bd012eb6.jpg"/>
          <p:cNvPicPr/>
          <p:nvPr/>
        </p:nvPicPr>
        <p:blipFill>
          <a:blip r:embed="rId1"/>
          <a:stretch/>
        </p:blipFill>
        <p:spPr>
          <a:xfrm>
            <a:off x="0" y="-6480"/>
            <a:ext cx="9229680" cy="693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F:\PPT图片\图片1.jpg"/>
          <p:cNvPicPr/>
          <p:nvPr/>
        </p:nvPicPr>
        <p:blipFill>
          <a:blip r:embed="rId2"/>
          <a:stretch/>
        </p:blipFill>
        <p:spPr>
          <a:xfrm>
            <a:off x="8083440" y="5943600"/>
            <a:ext cx="1041480" cy="91440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2030400" y="712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父亲节非销话题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礼物选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52280" y="1219320"/>
            <a:ext cx="8763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”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男孩父亲节就要到了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给爸爸选什么礼物了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没想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我给你个建议吧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选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LT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牛皮腰带怎么样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父亲渐渐老去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但是不论何时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他在儿女心理总是那么伟大。这时候选购一条结实耐用的双面牛皮皮带送给她，让父亲感受到儿女的爱，感受到自身仍然有无穷大的力量和活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祝愿他永远年轻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”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美女看你一脸纠结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是不是在为父亲节选礼物发愁啊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记得小时候，每个新学期，父亲都给我们买个新书包，这是新学期让我们最开心的事情。到如今，我们长大了，但是爸爸的包包还是那一个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建议你挑选一款我们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LT 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的包包送给爸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我想您父亲不是不换包包而是不记得换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因为他心里只有女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父亲节送个包包给爸爸让他知道到，我们心里有着他。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”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欢迎光临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帅哥一个人逛街啊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想给父亲选礼物吗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您送父亲旅游啊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真时尚现在最流行送旅游了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能留下美好的回忆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去哪啊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三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那正好我推荐几款服装您看下吧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今年椰树风格非常流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正好适合您父亲旅游时穿着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而且我们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LT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的服装不仅设计精良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面料也是相当舒适的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凉爽轻易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吸汗透气是我们夏季服装的最大特点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非常适合您父亲旅游时穿着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来这边请我给您详细介绍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http://www.xinimg.com/uploads/allimg/100409/1_100409082030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838080" y="1430280"/>
            <a:ext cx="746784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长春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SLT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全体员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预祝天下所有父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父亲节快乐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3:41Z</dcterms:created>
  <dc:creator>www.eeppt.com; An</dc:creator>
  <dc:description>ppt模板下载网站 http://www.eeppt.com</dc:description>
  <dc:language>en-US</dc:language>
  <cp:lastModifiedBy/>
  <dcterms:modified xsi:type="dcterms:W3CDTF">2015-05-27T15:11:23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